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493-9D2F-40AE-ACB8-39F985FB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887-B509-45AF-B937-8BEF5FDD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945-6A1B-4906-99A8-718F4F90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54E7-ACBB-4BB4-92DB-49A6BBDA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3DB3-C0BE-4F53-A2A7-5CF10948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23FE-2857-4A57-8106-47B7C58A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64CF-C809-47FF-8BED-E9D62D68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C280-38BF-45BA-AE85-A7957F78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BF55-E44A-481F-B9FD-827363A7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94E1-35A1-41D2-A774-CE7AAC35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2285-37A7-4E69-AA7D-FC3EE7CD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178C-36AD-4C22-9210-F44574C1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547B-A279-475D-B8FD-9F10221C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3F8D-1194-428C-86E9-92969E93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57AC-6BD7-4CF1-A060-8837C14D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66D5-AA92-430F-B001-007D484B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8A93-54D2-4AA4-8B29-159FAB86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CF0A8-2CBF-4F70-AD08-FEE2A949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447D2-BE04-44B3-9355-E22C32C5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6A607-43E0-4AEA-B9D3-2B620371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71716-68D1-4A7A-868C-DC6B1EE4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757C7-8824-4D7A-8FFF-59FDA58E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9B71-5898-498B-B68B-71C642B4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489BC-B316-4CE2-AD78-9C60E42D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420F7-6B50-4F55-9FC4-504972E4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D5498-6DEB-460C-A6CC-73205B36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FF403-D514-4B66-8690-8BBEBD58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7854D-D562-41F2-828F-11F507F3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6E19D-5B53-43F2-919B-2992AD04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40165-2A1B-4CD8-973C-E417FD24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8E3-61A1-43A8-B38C-E5B7BA0E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E89D-B79D-443F-926E-DEE77064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96DB-8A5C-4C73-ACDD-093BB286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918-3C98-4570-9149-8338BF5B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F24-C6D3-48B0-AA7E-28F942CB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387D-9166-4BCF-A101-5F243444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4A2F-AF80-4276-9864-FAD4CB465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7766-E05C-4BC8-A085-C194062346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6A6E-54F9-48B3-9077-95DE7EE3BCE2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ction.vogate.com/click/click.php?ads_id=433&amp;site_id=6235007045036176&amp;click=1&amp;url=http%3A//rover.ebay.com/rover/1/4080-41052-15934-0/1%3Faid%3D65978%3Btext%3B104%26mpre%3Dhttp%253A//search.ebay.com.cn/search/search.dll%253Fsofocus%253Dbs%2526sbrftog%253D1%2526from%253DR10%2526satitle%253D%2525E5%2525BD%2525A2%2525E8%2525B1%2525A1%2526sacat%253D-1%252526catref%25253DC6%2526floc%253D1%2526sargn%253D-1%252526saslc%25253D0&amp;v=0&amp;k=%u5F62%u8C61&amp;s=http%3A//www.njnews.cn/w/ca846692.htm&amp;rn=491645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1136520" y="1700280"/>
            <a:ext cx="6985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206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未来道路我选择</a:t>
            </a:r>
            <a:r>
              <a:rPr b="1" lang="en-US" sz="4000" spc="-1" strike="noStrike">
                <a:ln w="0">
                  <a:noFill/>
                </a:ln>
                <a:solidFill>
                  <a:srgbClr val="00206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00206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下载</a:t>
            </a:r>
            <a:endParaRPr b="1" lang="en-US" sz="4000" spc="-1" strike="noStrike">
              <a:ln w="0">
                <a:noFill/>
              </a:ln>
              <a:solidFill>
                <a:srgbClr val="00206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2897640" y="6922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中宋"/>
                <a:ea typeface="华文中宋"/>
              </a:rPr>
              <a:t>第十课　选择希望人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5" name="图片 3" descr=""/>
          <p:cNvPicPr/>
          <p:nvPr/>
        </p:nvPicPr>
        <p:blipFill>
          <a:blip r:embed="rId1"/>
          <a:stretch/>
        </p:blipFill>
        <p:spPr>
          <a:xfrm>
            <a:off x="1359000" y="3021120"/>
            <a:ext cx="6538680" cy="319716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611280" y="549360"/>
            <a:ext cx="7777080" cy="5184720"/>
          </a:xfrm>
          <a:prstGeom prst="horizontalScrol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WordArt 3"/>
          <p:cNvSpPr txBox="1"/>
          <p:nvPr/>
        </p:nvSpPr>
        <p:spPr>
          <a:xfrm>
            <a:off x="1547640" y="1700280"/>
            <a:ext cx="64818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25560">
                  <a:solidFill>
                    <a:srgbClr val="ffff00"/>
                  </a:solidFill>
                  <a:round/>
                </a:ln>
                <a:solidFill>
                  <a:srgbClr val="ffff00"/>
                </a:solidFill>
                <a:latin typeface="隶书"/>
              </a:rPr>
              <a:t>我选择，我承担。</a:t>
            </a:r>
            <a:endParaRPr b="1" lang="en-US" sz="8000" spc="1" strike="noStrike">
              <a:ln w="25560">
                <a:solidFill>
                  <a:srgbClr val="ffff00"/>
                </a:solidFill>
                <a:round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</p:spTree>
  </p:cSld>
  <p:transition spd="med">
    <p:strips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0232431"/>
          <p:cNvPicPr/>
          <p:nvPr/>
        </p:nvPicPr>
        <p:blipFill>
          <a:blip r:embed="rId1"/>
          <a:stretch/>
        </p:blipFill>
        <p:spPr>
          <a:xfrm>
            <a:off x="250920" y="1268280"/>
            <a:ext cx="2881080" cy="22132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3"/>
          <p:cNvSpPr/>
          <p:nvPr/>
        </p:nvSpPr>
        <p:spPr>
          <a:xfrm>
            <a:off x="4572000" y="260280"/>
            <a:ext cx="4392720" cy="2521080"/>
          </a:xfrm>
          <a:prstGeom prst="cloudCallout">
            <a:avLst>
              <a:gd name="adj1" fmla="val -81587"/>
              <a:gd name="adj2" fmla="val 28023"/>
            </a:avLst>
          </a:prstGeom>
          <a:solidFill>
            <a:srgbClr val="00cc99"/>
          </a:solidFill>
          <a:ln w="101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学会自己选择有什么意义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7740720" y="620640"/>
            <a:ext cx="8636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6560" y="3879720"/>
            <a:ext cx="59508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7020000" y="476280"/>
            <a:ext cx="1584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136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50920" y="3860640"/>
            <a:ext cx="8640720" cy="52056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学会自己作出选择，我们才能做到自己的主人，才能在作出合理的选择时，享受到成功的快乐，或者在作出错误的选择时，从中吸取教训，提高选择能力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250920" y="5373720"/>
            <a:ext cx="8642160" cy="94716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通过不断的自主选择并从中总结成败的经验和教训，我们的选择会更为明智，人生会更加积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533520" y="914400"/>
            <a:ext cx="80708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小卫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某中学九年级学生。他的父亲是一家外企的首席执行官，家境优越。父母希望他考重点高中、上大学、出国留学，日后在社会上有较高的起点。小卫不仅成绩优异，而且还极具音乐天赋，多次获得国家和省级钢琴大赛一等奖。是考艺术学样还是重点高中，这让小卫犹豫不决。他经过认真分析思考，并广泛了解许多艺术家的成才道路，发现必须全面发展自己，今后才能有更大的成就。他决定为即将来临的中考而努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文本框 8199"/>
          <p:cNvSpPr/>
          <p:nvPr/>
        </p:nvSpPr>
        <p:spPr>
          <a:xfrm>
            <a:off x="2190600" y="579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50920" y="691920"/>
            <a:ext cx="8594640" cy="517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许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中学时成绩很好，曾被老师作为升入重点高中苗子来培养。可是父亲下岗了，母亲因脑瘫一直在家养病。面对沉重的家庭负担，小许放弃升学，初中毕业后在一家软件公司当临工，挣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70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元作家用。在 工作中对开发软件产生了兴趣，他向搞软件设计的同事借编程方面的书籍，每天坚持学习和实践，有不懂的地主就请教同事。勤奋刻苦的日子坚持了两年多，他从一个临工转为一个高级程序开发员，工资翻了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80880" y="57340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、简要评析他们的行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78920" y="1412640"/>
            <a:ext cx="85410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小卫在选择艺术学校还是重点高中时犹豫不决，但他通过对一些名人成功之路的了解，然后选择了重点高中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卫的做法体现了选择人生道路时，要学会多方面收集信息，辨别、筛选信息，弄清自己的真实需要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CD01-3F20-4864-85B6-828CEAB6B79A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250920" y="980640"/>
            <a:ext cx="85406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小许因家庭经经济困难而放弃了升学、选择了就业，而在就业路上又根据自身的需要选择了一条适合自己发展的道路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许的做法体现了人生选择之前，要考虑目标的重要性及实现的可能性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395280" y="3860640"/>
            <a:ext cx="84438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所以，我们在未来的人生道路上，要作出最佳选择必须做到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---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------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JSK16-3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835280" y="2060640"/>
            <a:ext cx="669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随着年龄逐渐增长我们的需求不断扩大，自主能力不断增强，面临的选择越来越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222800" y="482760"/>
            <a:ext cx="9716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隶书"/>
                <a:ea typeface="隶书"/>
              </a:rPr>
              <a:t>1</a:t>
            </a:r>
            <a:r>
              <a:rPr b="1" lang="zh-CN" sz="4800" spc="-1" strike="noStrike">
                <a:solidFill>
                  <a:srgbClr val="ff9933"/>
                </a:solidFill>
                <a:latin typeface="隶书"/>
                <a:ea typeface="隶书"/>
              </a:rPr>
              <a:t>、生活充满选择（为什么？）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763640" y="4076640"/>
            <a:ext cx="676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随着社会的发展，与前人相比我们选择的机会更多，选择面更大，多种多样的选择对我们的选择能力提出了更高要求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596360" y="1268280"/>
            <a:ext cx="1368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13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541800" y="40428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她是</a:t>
            </a:r>
            <a:r>
              <a:rPr b="1" lang="en-US" sz="2400" spc="-1" strike="noStrike">
                <a:solidFill>
                  <a:srgbClr val="007572"/>
                </a:solidFill>
                <a:latin typeface="黑体"/>
                <a:ea typeface="黑体"/>
              </a:rPr>
              <a:t>2003</a:t>
            </a:r>
            <a:r>
              <a:rPr b="1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年全国第六届残运会两块金牌得主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2349360"/>
            <a:ext cx="8253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她还是南京外国语学校</a:t>
            </a:r>
            <a:r>
              <a:rPr b="1" lang="en-US" sz="2400" spc="-1" strike="noStrike">
                <a:solidFill>
                  <a:srgbClr val="007572"/>
                </a:solidFill>
                <a:latin typeface="黑体"/>
                <a:ea typeface="黑体"/>
              </a:rPr>
              <a:t>42</a:t>
            </a:r>
            <a:r>
              <a:rPr b="1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年来首位破格录取的学生，成绩优异，并获得了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中加班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成立以来的第一个全额奖学金；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757880" y="3356640"/>
            <a:ext cx="35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她考取过长笛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级、小号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级，竹笛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级；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826920" y="16275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她曾作为种子选手参加过雅典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残奥会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4251600" y="4221000"/>
            <a:ext cx="851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572"/>
                </a:solidFill>
                <a:latin typeface="Arial"/>
                <a:ea typeface="黑体"/>
              </a:rPr>
              <a:t>她刚被一家美国著名的电脑品牌相中作为中国地区的</a:t>
            </a:r>
            <a:r>
              <a:rPr b="0" lang="zh-CN" sz="2400" spc="-1" strike="noStrike" u="sng">
                <a:solidFill>
                  <a:srgbClr val="cc0066"/>
                </a:solidFill>
                <a:uFillTx/>
                <a:latin typeface="Arial"/>
                <a:ea typeface="黑体"/>
                <a:hlinkClick r:id="rId1"/>
              </a:rPr>
              <a:t>形象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572"/>
                </a:solidFill>
                <a:latin typeface="Arial"/>
                <a:ea typeface="黑体"/>
              </a:rPr>
              <a:t>大使之一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WordArt 12"/>
          <p:cNvSpPr txBox="1"/>
          <p:nvPr/>
        </p:nvSpPr>
        <p:spPr>
          <a:xfrm>
            <a:off x="6012000" y="5300640"/>
            <a:ext cx="1368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隶书"/>
              </a:rPr>
              <a:t>吴晶</a:t>
            </a:r>
            <a:endParaRPr b="0" lang="en-US" sz="4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黑体"/>
                <a:ea typeface="黑体"/>
              </a:rPr>
              <a:t>      </a:t>
            </a:r>
            <a:r>
              <a:rPr b="1" lang="en-US" sz="2000" spc="-1" strike="noStrike">
                <a:solidFill>
                  <a:srgbClr val="0033cc"/>
                </a:solidFill>
                <a:latin typeface="黑体"/>
                <a:ea typeface="黑体"/>
              </a:rPr>
              <a:t>15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个月和两岁时，她的左右眼睛先后因患视网膜母细胞瘤而失明。从此，吴晶的生活就陷入了一片黑暗中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24000" y="15645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在吴晶被剥夺了光明的同时，却又获得了其他的东西：才华、毅力和强烈的上进心。</a:t>
            </a:r>
            <a:r>
              <a:rPr b="1" lang="en-US" sz="2000" spc="-1" strike="noStrike">
                <a:solidFill>
                  <a:srgbClr val="0033cc"/>
                </a:solidFill>
                <a:latin typeface="黑体"/>
                <a:ea typeface="黑体"/>
              </a:rPr>
              <a:t>14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岁时</a:t>
            </a:r>
            <a:r>
              <a:rPr b="1" lang="en-US" sz="20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她被教练选中</a:t>
            </a:r>
            <a:r>
              <a:rPr b="1" lang="en-US" sz="20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来南京训练短跑</a:t>
            </a:r>
            <a:r>
              <a:rPr b="1" lang="en-US" sz="2000" spc="-1" strike="noStrike">
                <a:solidFill>
                  <a:srgbClr val="0033cc"/>
                </a:solidFill>
                <a:latin typeface="黑体"/>
                <a:ea typeface="黑体"/>
              </a:rPr>
              <a:t>.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39640" y="227556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33cc"/>
                </a:solidFill>
                <a:latin typeface="黑体"/>
                <a:ea typeface="黑体"/>
              </a:rPr>
              <a:t>2003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年，吴晶终于获得了她人生的第一枚金牌</a:t>
            </a:r>
            <a:r>
              <a:rPr b="1" lang="en-US" sz="2000" spc="-1" strike="noStrike">
                <a:solidFill>
                  <a:srgbClr val="0033cc"/>
                </a:solidFill>
                <a:latin typeface="黑体"/>
                <a:ea typeface="黑体"/>
              </a:rPr>
              <a:t>.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95280" y="301176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在南京盲校，吴晶学的专业是推拿，但她努力学习英语，吴晶认为，英语至少能让她未来的道路更加宽广 。为吴晶打开命运之门的钥匙就是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英语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。她 每天跟着广播学英语</a:t>
            </a:r>
            <a:r>
              <a:rPr b="1" lang="en-US" sz="20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居然练出了纯正的北美发音。她的刻苦执着深深打动了</a:t>
            </a:r>
            <a:r>
              <a:rPr b="1" lang="en-US" sz="2000" spc="-1" strike="noStrike">
                <a:solidFill>
                  <a:srgbClr val="0033cc"/>
                </a:solidFill>
                <a:latin typeface="黑体"/>
                <a:ea typeface="黑体"/>
              </a:rPr>
              <a:t>Gregory Batt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先生</a:t>
            </a:r>
            <a:r>
              <a:rPr b="1" lang="en-US" sz="2000" spc="-1" strike="noStrike">
                <a:solidFill>
                  <a:srgbClr val="0033cc"/>
                </a:solidFill>
                <a:latin typeface="黑体"/>
                <a:ea typeface="黑体"/>
              </a:rPr>
              <a:t>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68360" y="42375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去年</a:t>
            </a:r>
            <a:r>
              <a:rPr b="1" lang="en-US" sz="20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月，一纸南外录取通知书寄到了南京盲人学校的吴晶的手中，为了勉励这个勤奋的学生，南外同时还免除了她</a:t>
            </a:r>
            <a:r>
              <a:rPr b="1" lang="en-US" sz="20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年约</a:t>
            </a:r>
            <a:r>
              <a:rPr b="1" lang="en-US" sz="2000" spc="-1" strike="noStrike">
                <a:solidFill>
                  <a:srgbClr val="0033cc"/>
                </a:solidFill>
                <a:latin typeface="黑体"/>
                <a:ea typeface="黑体"/>
              </a:rPr>
              <a:t>17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万余元的学杂费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539640" y="61142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黑体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她的愿望是做一名教育专家，她梦想有朝一日能去哈佛读书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468360" y="4941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吴晶很少说自己的痛苦和付出，她说：我只是选择了另外一种生活和学习的方式。面对命运的坎坷，不同的人有不同的态度，但是只要走下去，路总会有的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6"/>
          <p:cNvSpPr/>
          <p:nvPr/>
        </p:nvSpPr>
        <p:spPr>
          <a:xfrm>
            <a:off x="1325520" y="1989000"/>
            <a:ext cx="7333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6" name="Picture 2" descr="Kuang218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7101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1403280" y="2492280"/>
            <a:ext cx="59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268360" y="2060640"/>
            <a:ext cx="44276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中宋"/>
              </a:rPr>
              <a:t>漫漫人生路，有无数的选择，但关键的只有几步，不同的选择，可能会决定我们不同的人生道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692360" y="1268280"/>
            <a:ext cx="5391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  <a:ea typeface="隶书"/>
              </a:rPr>
              <a:t>2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隶书"/>
              </a:rPr>
              <a:t>、慎重选择人生道路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50920" y="9075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我今年中考，考的很不好，</a:t>
            </a: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323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分，现在快开学了，可我不知道我该怎么办，现在在我面前有这么几条路： </a:t>
            </a: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父母希望我当兵，当两年兵回来后父母绝对可以给我找到工作，但我不想过早踏入社会； </a:t>
            </a:r>
            <a:br>
              <a:rPr sz="3200"/>
            </a:br>
            <a:r>
              <a:rPr b="1" lang="en-US" sz="3200" spc="-1" strike="noStrike">
                <a:solidFill>
                  <a:srgbClr val="6600ff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6600ff"/>
                </a:solidFill>
                <a:latin typeface="隶书"/>
                <a:ea typeface="隶书"/>
              </a:rPr>
              <a:t>我对电脑有点兴趣，我想通过自学考试学计算机专业，但是我听说很难通过，出来后要自己找工作，而且不知道自学考试的学历社会承不承认 ；</a:t>
            </a:r>
            <a:br>
              <a:rPr sz="3200"/>
            </a:br>
            <a:r>
              <a:rPr b="1" lang="en-US" sz="3200" spc="-1" strike="noStrike">
                <a:solidFill>
                  <a:srgbClr val="009900"/>
                </a:solidFill>
                <a:latin typeface="隶书"/>
                <a:ea typeface="隶书"/>
              </a:rPr>
              <a:t>3.</a:t>
            </a:r>
            <a:r>
              <a:rPr b="1" lang="zh-CN" sz="3200" spc="-1" strike="noStrike">
                <a:solidFill>
                  <a:srgbClr val="009900"/>
                </a:solidFill>
                <a:latin typeface="隶书"/>
                <a:ea typeface="隶书"/>
              </a:rPr>
              <a:t>复读，但又害怕太苦，听说明年的考生也很多，竞争肯定还是很激烈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WordArt 5"/>
          <p:cNvSpPr txBox="1"/>
          <p:nvPr/>
        </p:nvSpPr>
        <p:spPr>
          <a:xfrm>
            <a:off x="3276720" y="189000"/>
            <a:ext cx="23763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的困惑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24000" y="1699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你认为哪些因素可能会影响到他的选择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900000" y="333360"/>
            <a:ext cx="295272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各抒己见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0" y="3716280"/>
            <a:ext cx="464328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影响选择的因素有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4427640" y="2637000"/>
            <a:ext cx="360360" cy="2881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74880 h 2881080"/>
              <a:gd name="textAreaBottom" fmla="*/ 2806200 h 28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4932360" y="2637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兴趣、能力、学业水平（个人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4932360" y="4797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父母、师长、社会的要求（外在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2340000" y="630864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4489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61" name="Text Box 3"/>
          <p:cNvSpPr/>
          <p:nvPr/>
        </p:nvSpPr>
        <p:spPr>
          <a:xfrm>
            <a:off x="3780000" y="1844640"/>
            <a:ext cx="46083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隶书"/>
              </a:rPr>
              <a:t>在作出自己的重要选择之前，我们要弄清自己的真实需要，多方面收集信息，学会辨别、筛选信息；还要考虑目标的重要性以及实现目标的可能性。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隶书"/>
              </a:rPr>
              <a:t>P134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2484360" y="404640"/>
            <a:ext cx="612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7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怎样进行合理选择？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 spd="slow">
    <p:randomBa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0" y="259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小娜在填报中考志愿时，不顾父母老师的反对填报了重点高中，她认为自己很聪明，虽然平时成绩平平，主要是因为考试不认真、不仔细造成的，只要中考仔细认真一定会超常发挥，考进重点高中不成问题。可成绩出来，她的成绩却与重点分数线相差甚远。面对这次不合理的选择，小娜她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……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4" name="Picture 4" descr="RM_0560"/>
          <p:cNvPicPr/>
          <p:nvPr/>
        </p:nvPicPr>
        <p:blipFill>
          <a:blip r:embed="rId1"/>
          <a:stretch/>
        </p:blipFill>
        <p:spPr>
          <a:xfrm>
            <a:off x="6516720" y="4076640"/>
            <a:ext cx="2286000" cy="244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0" y="4005360"/>
            <a:ext cx="6516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（１）小娜为什么会作出这样不合理的选择 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24000" y="5084280"/>
            <a:ext cx="60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）小娜应该如何面对这次错误的选择，才会更有利于今后的人生？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7T03:22:3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36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