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camera.wav" ContentType="audio/x-wav"/>
  <Override PartName="/ppt/media/image56.png" ContentType="image/png"/>
  <Override PartName="/ppt/media/image40.jpeg" ContentType="image/jpeg"/>
  <Override PartName="/ppt/media/image58.jpeg" ContentType="image/jpeg"/>
  <Override PartName="/ppt/media/image53.png" ContentType="image/png"/>
  <Override PartName="/ppt/media/image50.png" ContentType="image/png"/>
  <Override PartName="/ppt/media/image49.jpeg" ContentType="image/jpeg"/>
  <Override PartName="/ppt/media/image48.png" ContentType="image/png"/>
  <Override PartName="/ppt/media/image46.png" ContentType="image/png"/>
  <Override PartName="/ppt/media/image45.png" ContentType="image/png"/>
  <Override PartName="/ppt/media/image2.jpeg" ContentType="image/jpeg"/>
  <Override PartName="/ppt/media/image20.png" ContentType="image/png"/>
  <Override PartName="/ppt/media/image57.png" ContentType="image/png"/>
  <Override PartName="/ppt/media/image64.gif" ContentType="image/gif"/>
  <Override PartName="/ppt/media/image19.jpeg" ContentType="image/jpeg"/>
  <Override PartName="/ppt/media/image10.jpeg" ContentType="image/jpeg"/>
  <Override PartName="/ppt/media/image21.gif" ContentType="image/gif"/>
  <Override PartName="/ppt/media/image14.png" ContentType="image/png"/>
  <Override PartName="/ppt/media/image3.jpeg" ContentType="image/jpeg"/>
  <Override PartName="/ppt/media/image60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43.png" ContentType="image/png"/>
  <Override PartName="/ppt/media/image55.jpeg" ContentType="image/jpeg"/>
  <Override PartName="/ppt/media/image33.jpeg" ContentType="image/jpeg"/>
  <Override PartName="/ppt/media/image27.png" ContentType="image/png"/>
  <Override PartName="/ppt/media/image32.jpeg" ContentType="image/jpeg"/>
  <Override PartName="/ppt/media/image70.jpeg" ContentType="image/jpeg"/>
  <Override PartName="/ppt/media/image17.png" ContentType="image/png"/>
  <Override PartName="/ppt/media/image5.png" ContentType="image/png"/>
  <Override PartName="/ppt/media/type.wav" ContentType="audio/x-wav"/>
  <Override PartName="/ppt/media/chimes.wav" ContentType="audio/x-wav"/>
  <Override PartName="/ppt/media/image25.jpeg" ContentType="image/jpeg"/>
  <Override PartName="/ppt/media/image69.png" ContentType="image/png"/>
  <Override PartName="/ppt/media/image67.jpeg" ContentType="image/jpeg"/>
  <Override PartName="/ppt/media/image65.gif" ContentType="image/gif"/>
  <Override PartName="/ppt/media/image68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61.jpeg" ContentType="image/jpeg"/>
  <Override PartName="/ppt/media/image4.jpeg" ContentType="image/jpeg"/>
  <Override PartName="/ppt/media/image51.png" ContentType="image/png"/>
  <Override PartName="/ppt/media/image36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16.gif" ContentType="image/gif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28.jpeg" ContentType="image/jpeg"/>
  <Override PartName="/ppt/media/image11.jpeg" ContentType="image/jpeg"/>
  <Override PartName="/ppt/media/image54.jpeg" ContentType="image/jpeg"/>
  <Override PartName="/ppt/media/image9.png" ContentType="image/png"/>
  <Override PartName="/ppt/media/image39.png" ContentType="image/png"/>
  <Override PartName="/ppt/media/image29.jpeg" ContentType="image/jpeg"/>
  <Override PartName="/ppt/media/image13.png" ContentType="image/png"/>
  <Override PartName="/ppt/media/image52.jpeg" ContentType="image/jpeg"/>
  <Override PartName="/ppt/media/image30.jpeg" ContentType="image/jpeg"/>
  <Override PartName="/ppt/media/image31.gif" ContentType="image/gif"/>
  <Override PartName="/ppt/media/image34.png" ContentType="image/png"/>
  <Override PartName="/ppt/media/image38.jpeg" ContentType="image/jpeg"/>
  <Override PartName="/ppt/media/image44.png" ContentType="image/png"/>
  <Override PartName="/ppt/media/image66.png" ContentType="image/png"/>
  <Override PartName="/ppt/media/image41.jpeg" ContentType="image/jpe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F9ED-223A-4951-9526-9AA12BE7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DA89-7540-48D1-985F-BD5B9126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B0598-0359-487C-B2F6-103E232B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9C99C-F0D0-493E-9B14-244DC1DF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FCB83-5B3D-4512-A747-DA204B33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1BE76-8189-41A9-A2E6-0C909474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2B7F7-EBEF-4A28-A1A3-D11EE8B5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ECF8E-31E9-4818-9F62-0C7543DE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BF915-2EBA-43F7-A9CD-89EE8C41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20CCA-466C-43EF-BEC6-90316691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745EA-DAA5-4E5B-B42B-81BCD5A9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65412-1D1A-4ECF-BFEE-48E6F313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D99-F466-484A-8BD6-548F548A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E51E7-6D36-4DF9-B2ED-A5B6C7A5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48E31-7F7A-44C7-B68A-AE59B3E2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78C03-6C7E-423B-A924-E5C3A8DB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9EBE4-433B-4A59-9C0A-D48B0EEC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719F0-EEEB-4B7A-9C42-4315B83D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126D1-C1AE-4F5D-8FDA-5B0EED08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A2281-FA5B-4D7C-BD31-8F2F0850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BC2C8-488F-4B99-BA70-620BF3D4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0BCC4-A516-4A74-8EB9-A6AFA3C6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DBD9E-D6AE-4AFF-B39D-40899485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E79-6D03-45C2-A0D9-EDB7F5E4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CF0DE-C93A-436F-A3CA-428CDBD5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9EE38-293B-4033-82D6-06CED724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2C621-41D7-43B2-9E30-BCB4A0DC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08121-1AA6-42C7-95A6-4564668D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52D92-1518-4626-B296-06A0D301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DBA86-2E58-4228-BA27-CA4459A3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1A074-4DE3-4F5E-9167-27AA8E69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DD0A6-D52E-412F-A9E7-2CBF8D81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B4906-B9C9-494B-B8DF-A066D3A4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72018-7827-42B8-BD21-5538A5A9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3589-D806-490D-BA41-86CFD412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57AED-CC78-49BE-A5A4-CED16321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3E080-0F9F-4D20-9957-023C90BA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783F4-D5DB-4284-9708-38CD7EF8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1A11A-19F9-470E-8D75-68889631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ACD11-7A8A-4354-AD41-5B3D464D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ADC85-865C-443C-97BF-5E79D6FD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17455-960E-4D66-9211-8C732356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12A90-5C7E-4BDE-9F40-C28A4BE1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48292-7592-492A-8F9B-EE07F91A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FA3C7-54CC-4B00-AC82-9EC6B431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4166-A7F7-42AE-BCA4-289CE5E7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670C3-10D9-4EBC-B4B0-8657E31A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E6D90-1206-4751-B38B-8740CC73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2BE2B-F926-4BAC-AB75-6529225B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EA964-434E-47DD-8D81-C3EAE0DA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731F0-BC84-47B8-BB6B-7A904927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8BD26-E4D9-4B22-904A-C48427A1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42481-50F0-4530-B0F3-7B390995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421C9-6459-4629-B211-B2443D62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C21E1-D9F5-45C7-A68C-5A783AAE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7FDF2-A348-44FC-86F8-E99447B3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5BF2-9E77-4095-BF99-533B6B1F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A1FE2F-EE2C-444E-97EC-E43B38C4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AF093-BB20-4425-86EF-E7E80A7E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4E334-A0F5-49E6-8CA0-827208D8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5EB71-3003-4FA5-BA12-D12A38DC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D0E225-7EDF-44AC-B2AA-88BD42D7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BDCA6-0DD9-4FAF-A05A-D04211DA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D8D1F-4EE2-4ECB-834D-A5FBAF12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CF6A-5A0A-478B-BC92-F6ADFE1D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8B91-63E1-4D8F-9065-D91DDD55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C2A1-6BF7-4236-B8FF-BB7620F3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5D06-F0B0-4B8B-A98C-D2CD03A9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65EF-FDAC-43D8-BDFA-AC747629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8992-95F6-4A3C-958D-870EE960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E62F-1CF5-4FB8-A32A-CCB0862B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9016-99DE-4B70-A8C2-1FD49DBB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D901-1F0C-4C89-A944-B469EF61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CFB0-2C26-4AB3-A704-B9983FF7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32729-1081-4A68-8CDF-4D5E1D21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379BB-C284-4502-A334-CDF80320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9469A-B0C2-44DE-823E-FC4E3E6B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DABD6-0A76-4468-8200-4FEB77DE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E688A-9541-4A83-B5E3-9E1A70EB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E48-450D-4B4E-AD6F-FE458476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46402-F3CC-4610-8AF0-9A0C2F25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67457-D287-485E-A6D1-73D393CF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27148-62B9-4723-BF8E-9014E6E0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FC63B-3211-4B99-B047-EF5D6A69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5A8E0-4F60-4BE4-B739-7C16A996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2BC2D-B58F-4205-9331-956D6836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65137-BFEB-4DBC-811E-BB15C670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69E12-EBF2-4E02-9482-6F1F8D94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BB53E-3538-4350-A4C4-44372DB8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AA94C-5586-484F-A74D-647FCC37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1BE-844A-4E59-8EB6-D8555550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61A93-2F73-488D-B51B-03960256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8CAE0-28A6-497E-9C6F-67AD3C25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679C8-48D9-4ADF-AEC3-B7DBF179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91BF1-3B74-4769-80CC-32687C23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CC98D-57DD-4CB1-9158-7EE5E78D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52779-E717-43CE-AFEE-E3186FC2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C6098-4B99-4F82-A8C8-6F4E2A5F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443CE-DD46-47E9-A59F-42BCB00D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60FD3-1C11-4271-A18D-7AEF1C35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5C28E-73DA-43A2-BE2E-AB7B886A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A0C7-7C49-4E8B-BC43-B4609418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C8092-9780-4524-8E0E-E6A62DF1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F2173-1CDC-4999-88EC-6D7C2E41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0D8D0-B1CD-45A4-97E6-71F09851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E750E-6E2A-4D64-958E-89980EE4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31B8A-82D8-4C2F-A5A6-330F9949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9D8F8-60C0-4906-AFFA-283FAD87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9CCD4-5CF9-4ED3-8979-774C9F04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FAFBA-614E-4E5F-81CF-B652918F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0FC01-854A-4AC9-BF4F-526A7F5C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C20D1-D989-4C07-9EF6-F65BCA33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57F4-CFB6-40FC-92CB-46535851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2CC72-0541-4B85-BA04-44FB5AB0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C7A84-14E9-4262-A3FB-5A12CEE4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37B9D-D6E9-4132-A362-DCBA19EC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8FB03-BB87-4E20-9F4F-84068983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4993D-66A0-40DE-831B-24D563CB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3DB2B-DF46-42FA-8C0E-09BC9EE5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5B03F-1037-42A9-A75A-2FA85611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19206-D402-4C07-9D44-9BA3671F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4BBBC-64C6-46C0-8C67-49F2935F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96873-2B7B-4BF7-8626-8A3F533C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0C8-53C2-4937-8017-8CCC27F5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BEEC4-782E-483D-ADB0-5F824418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3FEA0-87D2-4CBF-93D7-97D5F2F3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5DB9C-B4AB-4977-9424-22AA0D51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6D661-85E0-406A-A043-811600CE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CAF66-57CC-4A45-8566-6B346BFD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F9693-BE42-4F63-8625-5142805F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30447-D1A0-4219-8E1E-FA8C6BEB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C61E3-264F-496F-857F-AEE95B10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2ACEE-F16A-4E55-8DB8-0B6A870A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EEA05-8DEE-46DE-9901-04B8FB92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2F0-B53B-4B73-AE29-E40E5650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7B23F-A355-4856-A1A8-EB89829E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E8FFE-BF81-4961-BCFA-38B3608A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DB19C-E4EB-4E24-A8CA-90DB00BB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F22ED-B7BC-4B13-87AC-C70AC3FE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1C88C-A2EC-4DAC-864D-85087419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B3594-CAEC-4094-8A5D-0A62167D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F1E75-0DFA-48AF-ADA6-7A45C4A5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3F59C-ACC9-4BDC-B332-AD7A4D89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6B350-9221-4116-88DF-DAE7D360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6D66E-91CB-44CE-89DC-8DA6C8AF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A1B-4F6E-451A-9984-4979B47C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CDA2D-7112-460E-93D5-6FED3334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F1770-741E-4023-84BB-659A89EE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2457A-F3D4-4962-9ABA-BEFA7651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019BF-A3D8-4648-85B2-CB0D98EF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ABFFD-B1F8-4924-B997-AA0A51A6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940AE-6ED4-49CE-9DEA-2A57A04F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12D72-446D-4667-8390-B31BF8E2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C8D43-972E-4928-9A70-AD1E6454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D2432-C94E-4E7E-9258-168D36BA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89C55-F626-4520-BE4A-5E810DD1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1f12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07DF-5BE6-4E3E-9449-3E9A1052D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1f12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CFB6-514B-41AC-8F5D-099D87DA1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1f12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7232-6ADA-418C-902C-B6587F462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1f12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9A7C-FC25-41E1-9E98-03E0C6A21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1f12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1097-1270-4FF7-8431-478A06546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91C6-8B64-4F72-A332-09A062924C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1f12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84D9-F9EA-4704-8C69-D9ECF2841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1f12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5359-ACE2-4E4A-B842-8552A53A1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1f12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4EC5-2DF5-4F41-A229-2AFD0937E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1f12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2696-9ED3-41A7-BA07-990C4D034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1f12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9215-8A5B-461B-9A91-69729E1F6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1f12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FF0D-9959-403A-BBF3-999AEF9FA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1f12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7C40-7BBC-4185-B39B-3542ECF44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hyperlink" Target="http://list.mp3.baidu.com/topso/mp3topsong.html?id=1" TargetMode="External"/><Relationship Id="rId6" Type="http://schemas.openxmlformats.org/officeDocument/2006/relationships/hyperlink" Target="http://list.mp3.baidu.com/topso/mp3topsong.html?id=1" TargetMode="External"/><Relationship Id="rId7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gif"/><Relationship Id="rId3" Type="http://schemas.openxmlformats.org/officeDocument/2006/relationships/image" Target="../media/image65.gif"/><Relationship Id="rId4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mw.cn/01gmrb/2000-03/28/GB/default.htm" TargetMode="External"/><Relationship Id="rId2" Type="http://schemas.openxmlformats.org/officeDocument/2006/relationships/hyperlink" Target="http://www.gmw.cn/01gmrb/2000-03/28/GB/default.htm" TargetMode="External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gif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0.jpeg"/><Relationship Id="rId4" Type="http://schemas.openxmlformats.org/officeDocument/2006/relationships/image" Target="../media/image31.gif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宋体"/>
                <a:ea typeface="宋体"/>
              </a:rPr>
              <a:t>网络上的人际交往</a:t>
            </a:r>
            <a:r>
              <a:rPr b="0" lang="en-US" sz="4000" spc="-1" strike="noStrike">
                <a:solidFill>
                  <a:srgbClr val="0066ff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66ff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head1"/>
          <p:cNvPicPr/>
          <p:nvPr/>
        </p:nvPicPr>
        <p:blipFill>
          <a:blip r:embed="rId1"/>
          <a:stretch/>
        </p:blipFill>
        <p:spPr>
          <a:xfrm>
            <a:off x="0" y="0"/>
            <a:ext cx="9144000" cy="20667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" descr="1_17"/>
          <p:cNvPicPr/>
          <p:nvPr/>
        </p:nvPicPr>
        <p:blipFill>
          <a:blip r:embed="rId2"/>
          <a:stretch/>
        </p:blipFill>
        <p:spPr>
          <a:xfrm>
            <a:off x="380880" y="4356000"/>
            <a:ext cx="2627280" cy="17258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" descr="top-left"/>
          <p:cNvPicPr/>
          <p:nvPr/>
        </p:nvPicPr>
        <p:blipFill>
          <a:blip r:embed="rId3"/>
          <a:stretch/>
        </p:blipFill>
        <p:spPr>
          <a:xfrm>
            <a:off x="3527280" y="4511520"/>
            <a:ext cx="2340000" cy="14209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7" descr="1120511333_vfaO_T"/>
          <p:cNvPicPr/>
          <p:nvPr/>
        </p:nvPicPr>
        <p:blipFill>
          <a:blip r:embed="rId4"/>
          <a:stretch/>
        </p:blipFill>
        <p:spPr>
          <a:xfrm>
            <a:off x="6348240" y="4511520"/>
            <a:ext cx="2337120" cy="1570320"/>
          </a:xfrm>
          <a:prstGeom prst="rect">
            <a:avLst/>
          </a:prstGeom>
          <a:ln w="0">
            <a:noFill/>
          </a:ln>
        </p:spPr>
      </p:pic>
      <p:sp>
        <p:nvSpPr>
          <p:cNvPr id="538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52" descr="logo"/>
          <p:cNvPicPr/>
          <p:nvPr/>
        </p:nvPicPr>
        <p:blipFill>
          <a:blip r:embed="rId1"/>
          <a:stretch/>
        </p:blipFill>
        <p:spPr>
          <a:xfrm>
            <a:off x="609480" y="1295280"/>
            <a:ext cx="1600200" cy="5144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3" descr="061024-172016_1024a3baPPLivec3bfd6dccce5d3fdc8fccac2d6b1b2a5"/>
          <p:cNvPicPr/>
          <p:nvPr/>
        </p:nvPicPr>
        <p:blipFill>
          <a:blip r:embed="rId2"/>
          <a:stretch/>
        </p:blipFill>
        <p:spPr>
          <a:xfrm>
            <a:off x="990720" y="1905120"/>
            <a:ext cx="5943600" cy="761760"/>
          </a:xfrm>
          <a:prstGeom prst="rect">
            <a:avLst/>
          </a:prstGeom>
          <a:ln w="0">
            <a:noFill/>
          </a:ln>
        </p:spPr>
      </p:pic>
      <p:pic>
        <p:nvPicPr>
          <p:cNvPr id="590" name="WordArt 60" descr=""/>
          <p:cNvPicPr/>
          <p:nvPr/>
        </p:nvPicPr>
        <p:blipFill>
          <a:blip r:embed="rId3"/>
          <a:stretch/>
        </p:blipFill>
        <p:spPr>
          <a:xfrm>
            <a:off x="1523880" y="152280"/>
            <a:ext cx="6197760" cy="14734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1" descr="545172651"/>
          <p:cNvPicPr/>
          <p:nvPr/>
        </p:nvPicPr>
        <p:blipFill>
          <a:blip r:embed="rId4"/>
          <a:stretch/>
        </p:blipFill>
        <p:spPr>
          <a:xfrm>
            <a:off x="1219320" y="6000840"/>
            <a:ext cx="6019560" cy="85716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2"/>
          <p:cNvSpPr/>
          <p:nvPr/>
        </p:nvSpPr>
        <p:spPr>
          <a:xfrm>
            <a:off x="1492200" y="2622600"/>
            <a:ext cx="573372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榜单家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排行榜   中文金曲榜　新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100</a:t>
            </a:r>
            <a:br>
              <a:rPr sz="1800"/>
            </a:b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歌曲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OP5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歌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200 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歌手列表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歌曲列表    影视金曲    经典老歌 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轻音乐      曲艺集锦    相声小品荟萃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民乐    少儿歌曲    流金岁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!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音乐掌门人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热门专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精华专辑　人气专辑   热门分类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音乐专题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超级女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! 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韩流行风  动漫歌曲   欧美金曲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手机娱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手机音乐　铃声排行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铃声　彩图动画　手机游戏　亲情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4" descr="20051013_tu8"/>
          <p:cNvPicPr/>
          <p:nvPr/>
        </p:nvPicPr>
        <p:blipFill>
          <a:blip r:embed="rId1"/>
          <a:stretch/>
        </p:blipFill>
        <p:spPr>
          <a:xfrm>
            <a:off x="3429000" y="1290600"/>
            <a:ext cx="5638680" cy="5262480"/>
          </a:xfrm>
          <a:prstGeom prst="rect">
            <a:avLst/>
          </a:prstGeom>
          <a:ln w="0">
            <a:noFill/>
          </a:ln>
        </p:spPr>
      </p:pic>
      <p:sp>
        <p:nvSpPr>
          <p:cNvPr id="594" name="WordArt 6"/>
          <p:cNvSpPr txBox="1"/>
          <p:nvPr/>
        </p:nvSpPr>
        <p:spPr>
          <a:xfrm>
            <a:off x="304920" y="228600"/>
            <a:ext cx="33526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网上购物</a:t>
            </a:r>
            <a:endParaRPr b="1" lang="en-US" sz="66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95" name="Picture 7" descr="{693318DF-081B-4E48-ADD1-B17E44B2D878}"/>
          <p:cNvPicPr/>
          <p:nvPr/>
        </p:nvPicPr>
        <p:blipFill>
          <a:blip r:embed="rId4"/>
          <a:stretch/>
        </p:blipFill>
        <p:spPr>
          <a:xfrm>
            <a:off x="380880" y="1905120"/>
            <a:ext cx="2590920" cy="46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WordArt 5"/>
          <p:cNvSpPr txBox="1"/>
          <p:nvPr/>
        </p:nvSpPr>
        <p:spPr>
          <a:xfrm>
            <a:off x="304920" y="152280"/>
            <a:ext cx="33526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电子杂志</a:t>
            </a:r>
            <a:endParaRPr b="1" lang="en-US" sz="6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97" name="Picture 6" descr="061027_edu_pcpo01"/>
          <p:cNvPicPr/>
          <p:nvPr/>
        </p:nvPicPr>
        <p:blipFill>
          <a:blip r:embed="rId3"/>
          <a:stretch/>
        </p:blipFill>
        <p:spPr>
          <a:xfrm>
            <a:off x="228600" y="1295280"/>
            <a:ext cx="3276720" cy="49532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7" descr="mulua"/>
          <p:cNvPicPr/>
          <p:nvPr/>
        </p:nvPicPr>
        <p:blipFill>
          <a:blip r:embed="rId4"/>
          <a:stretch/>
        </p:blipFill>
        <p:spPr>
          <a:xfrm>
            <a:off x="3733920" y="304920"/>
            <a:ext cx="5410080" cy="65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609480" y="4648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在抗击“非典”的战役中，网络起到了哪些作用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457200" y="51055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公开报道、社会监督的作用，成了信息公开的先导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228600" y="20574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2003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年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非典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来临，由于发病地区和有些部门出于自身利益考虑，封锁消息，结果延误了治疗、控制的最佳时机，但网络论坛却在公开信息之前</a:t>
            </a: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个月就披露了有关</a:t>
            </a: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SARS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病毒的信息，让大家知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WordArt 5"/>
          <p:cNvSpPr txBox="1"/>
          <p:nvPr/>
        </p:nvSpPr>
        <p:spPr>
          <a:xfrm>
            <a:off x="457200" y="1143000"/>
            <a:ext cx="30862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回首往事</a:t>
            </a:r>
            <a:endParaRPr b="1" lang="en-US" sz="6000" spc="1" strike="noStrike">
              <a:ln w="9360">
                <a:solidFill>
                  <a:srgbClr val="008000"/>
                </a:solidFill>
                <a:round/>
              </a:ln>
              <a:solidFill>
                <a:srgbClr val="00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03" name="AutoShape 6"/>
          <p:cNvSpPr/>
          <p:nvPr/>
        </p:nvSpPr>
        <p:spPr>
          <a:xfrm>
            <a:off x="3733920" y="1371600"/>
            <a:ext cx="2286000" cy="4572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黑体"/>
                <a:ea typeface="黑体"/>
              </a:rPr>
              <a:t>20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6095880" y="1143000"/>
            <a:ext cx="22100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非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4343400" y="457200"/>
            <a:ext cx="4392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幼圆"/>
              </a:rPr>
              <a:t>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幼圆"/>
              </a:rPr>
              <a:t>小桓同学学习好，动手能力强，但性格怯懦，不善言辞，不敢在生人面前发表自己的意见。他很苦恼，总想改变这一点，爷爷鼓励他利用网络技术为班级建一个主页，在不需面对面的虚拟社区里锻炼自己的人际沟通能力和管理能力。由于技术好，设计的页面精美漂亮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讨论的话题贴近同学生活，他很快成为同学们喜爱的斑主（版主）。网上交往的成功带动了网下的交流。渐渐地，小桓课堂发言的声音响亮了，课间常和同学聚在一起交流。他由衷地感到，是网络给人际交往提供了新的平台，帮他克服了现实交往中的弱点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612720" y="836640"/>
            <a:ext cx="3527640" cy="396072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4"/>
          <p:cNvSpPr/>
          <p:nvPr/>
        </p:nvSpPr>
        <p:spPr>
          <a:xfrm>
            <a:off x="684360" y="494172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桓与同学探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55400" y="1981080"/>
            <a:ext cx="83055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小桓利用网络克服了现实交往中的什么弱点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771640" y="907560"/>
            <a:ext cx="338472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探究题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533520" y="3645000"/>
            <a:ext cx="7848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35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在现实交往中，我们还有哪些问题可以借助网络的帮助得以解决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3743640" cy="25923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"/>
          <p:cNvPicPr/>
          <p:nvPr/>
        </p:nvPicPr>
        <p:blipFill>
          <a:blip r:embed="rId2"/>
          <a:srcRect l="2084" t="0" r="0" b="-167"/>
          <a:stretch/>
        </p:blipFill>
        <p:spPr>
          <a:xfrm>
            <a:off x="4500720" y="3284640"/>
            <a:ext cx="3714480" cy="280836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4"/>
          <p:cNvSpPr/>
          <p:nvPr/>
        </p:nvSpPr>
        <p:spPr>
          <a:xfrm>
            <a:off x="4859280" y="981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　　在抗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非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的特殊时期，某校利用网络为学生办理退队手续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1116000" y="45054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查询资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3130560" y="4653000"/>
            <a:ext cx="865080" cy="360360"/>
          </a:xfrm>
          <a:prstGeom prst="rightArrow">
            <a:avLst>
              <a:gd name="adj1" fmla="val 50000"/>
              <a:gd name="adj2" fmla="val 599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7"/>
          <p:cNvSpPr/>
          <p:nvPr/>
        </p:nvSpPr>
        <p:spPr>
          <a:xfrm>
            <a:off x="5003640" y="1195560"/>
            <a:ext cx="648000" cy="288720"/>
          </a:xfrm>
          <a:prstGeom prst="leftArrow">
            <a:avLst>
              <a:gd name="adj1" fmla="val 50000"/>
              <a:gd name="adj2" fmla="val 560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643280" y="981000"/>
            <a:ext cx="3384720" cy="24480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"/>
          <p:cNvPicPr/>
          <p:nvPr/>
        </p:nvPicPr>
        <p:blipFill>
          <a:blip r:embed="rId2"/>
          <a:srcRect l="0" t="0" r="-1480" b="0"/>
          <a:stretch/>
        </p:blipFill>
        <p:spPr>
          <a:xfrm>
            <a:off x="900000" y="2852640"/>
            <a:ext cx="3856320" cy="25812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4"/>
          <p:cNvSpPr/>
          <p:nvPr/>
        </p:nvSpPr>
        <p:spPr>
          <a:xfrm>
            <a:off x="5580000" y="41450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网上旅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1476360" y="1557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网上献爱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6"/>
          <p:cNvSpPr/>
          <p:nvPr/>
        </p:nvSpPr>
        <p:spPr>
          <a:xfrm>
            <a:off x="3851280" y="1700280"/>
            <a:ext cx="649440" cy="360360"/>
          </a:xfrm>
          <a:prstGeom prst="rightArrow">
            <a:avLst>
              <a:gd name="adj1" fmla="val 50000"/>
              <a:gd name="adj2" fmla="val 4503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7"/>
          <p:cNvSpPr/>
          <p:nvPr/>
        </p:nvSpPr>
        <p:spPr>
          <a:xfrm>
            <a:off x="4859280" y="4292640"/>
            <a:ext cx="649440" cy="360360"/>
          </a:xfrm>
          <a:prstGeom prst="leftArrow">
            <a:avLst>
              <a:gd name="adj1" fmla="val 50000"/>
              <a:gd name="adj2" fmla="val 4503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228600" y="15228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cc00"/>
                </a:solidFill>
                <a:latin typeface="Arial"/>
                <a:ea typeface="华文行楷"/>
              </a:rPr>
              <a:t>交通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2590920" y="5335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7f7"/>
                </a:solidFill>
                <a:latin typeface="Arial"/>
                <a:ea typeface="华文新魏"/>
              </a:rPr>
              <a:t>网上订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5029200" y="5335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7f7"/>
                </a:solidFill>
                <a:latin typeface="Arial"/>
                <a:ea typeface="华文新魏"/>
              </a:rPr>
              <a:t>查阅交通信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5" descr="{61158E68-7BE8-4EC6-8F1A-FA49CA5F6A6A}"/>
          <p:cNvPicPr/>
          <p:nvPr/>
        </p:nvPicPr>
        <p:blipFill>
          <a:blip r:embed="rId1"/>
          <a:stretch/>
        </p:blipFill>
        <p:spPr>
          <a:xfrm>
            <a:off x="0" y="4114800"/>
            <a:ext cx="9144000" cy="27432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" descr="{AAE63A12-4CF4-4C2C-A7E8-2617A76042F0}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124080"/>
          </a:xfrm>
          <a:prstGeom prst="rect">
            <a:avLst/>
          </a:prstGeom>
          <a:ln w="0">
            <a:noFill/>
          </a:ln>
        </p:spPr>
      </p:pic>
      <p:sp>
        <p:nvSpPr>
          <p:cNvPr id="628" name="文本框 8197"/>
          <p:cNvSpPr/>
          <p:nvPr/>
        </p:nvSpPr>
        <p:spPr>
          <a:xfrm>
            <a:off x="2209680" y="198360"/>
            <a:ext cx="58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d9797c6a9eff0e396aca088a2a76b1fc"/>
          <p:cNvPicPr/>
          <p:nvPr/>
        </p:nvPicPr>
        <p:blipFill>
          <a:blip r:embed="rId1"/>
          <a:stretch/>
        </p:blipFill>
        <p:spPr>
          <a:xfrm>
            <a:off x="0" y="1828800"/>
            <a:ext cx="4343400" cy="50292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buy_ico_2"/>
          <p:cNvPicPr/>
          <p:nvPr/>
        </p:nvPicPr>
        <p:blipFill>
          <a:blip r:embed="rId2"/>
          <a:stretch/>
        </p:blipFill>
        <p:spPr>
          <a:xfrm>
            <a:off x="3048120" y="1752480"/>
            <a:ext cx="1676160" cy="281952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4"/>
          <p:cNvSpPr/>
          <p:nvPr/>
        </p:nvSpPr>
        <p:spPr>
          <a:xfrm>
            <a:off x="304920" y="304920"/>
            <a:ext cx="26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cc00"/>
                </a:solidFill>
                <a:latin typeface="Arial"/>
                <a:ea typeface="华文行楷"/>
              </a:rPr>
              <a:t>金融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2666880" y="5335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  <a:ea typeface="华文新魏"/>
              </a:rPr>
              <a:t>——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华文新魏"/>
              </a:rPr>
              <a:t>网上银行、网上炒股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6" descr="{CC2A30F0-19BF-441C-A1EE-B0302753FF9F}"/>
          <p:cNvPicPr/>
          <p:nvPr/>
        </p:nvPicPr>
        <p:blipFill>
          <a:blip r:embed="rId3"/>
          <a:stretch/>
        </p:blipFill>
        <p:spPr>
          <a:xfrm>
            <a:off x="4672080" y="1447920"/>
            <a:ext cx="447192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0" y="1322280"/>
            <a:ext cx="91440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小梅的故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Verdana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66ff"/>
                </a:solidFill>
                <a:latin typeface="Verdana"/>
                <a:ea typeface="黑体"/>
              </a:rPr>
              <a:t>小梅突然得了一种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0066ff"/>
                </a:solidFill>
                <a:latin typeface="Verdana"/>
                <a:ea typeface="黑体"/>
              </a:rPr>
              <a:t>怪病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0066ff"/>
                </a:solidFill>
                <a:latin typeface="Verdana"/>
                <a:ea typeface="黑体"/>
              </a:rPr>
              <a:t>，住院后，医生难于确诊、试用了很多疗法都不见效。她的同学非常着急，他们通过互联网向世界各地发出求救信，在信中详细描述了小梅的症状及发病前后的情形。很快，同学们收到来自世界各地医生的回复。三分之二的意见认为，这种怪病可能是因为某种金属中毒所致。小梅的同学迅速将这一消息转她所在的医院。小梅得救了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1257480" y="35575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小梅得救与互联网有什么关系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1200960" y="5029200"/>
            <a:ext cx="26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互联网还可以给我们带来什么好处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228600" y="4038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如果没有互联网，小梅的病症很难做出准确诊断，很可能延误治疗时间，从而失去生命。有了互联网，小梅得到了世界各地医生的帮助，这是过去想都不敢想的事情。这是在互联网时代发生的佳话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228600" y="56386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提高工作效率、改善生活质量，享受到网络便利。查找资料，与和他人的沟通更加便捷，商业服务，如网上购物、传达个人信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  <a:ea typeface="黑体"/>
              </a:rPr>
              <a:t>       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  <a:ea typeface="黑体"/>
              </a:rPr>
              <a:t>开阔眼界、放松心情、学习新知、结交新友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yuyin"/>
          <p:cNvPicPr/>
          <p:nvPr/>
        </p:nvPicPr>
        <p:blipFill>
          <a:blip r:embed="rId1"/>
          <a:stretch/>
        </p:blipFill>
        <p:spPr>
          <a:xfrm>
            <a:off x="5257800" y="2133720"/>
            <a:ext cx="3886200" cy="472428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3"/>
          <p:cNvSpPr/>
          <p:nvPr/>
        </p:nvSpPr>
        <p:spPr>
          <a:xfrm>
            <a:off x="1447920" y="11430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237f7"/>
                </a:solidFill>
                <a:latin typeface="Arial"/>
                <a:ea typeface="华文新魏"/>
              </a:rPr>
              <a:t>——</a:t>
            </a:r>
            <a:r>
              <a:rPr b="0" lang="zh-CN" sz="4000" spc="-1" strike="noStrike">
                <a:solidFill>
                  <a:srgbClr val="5237f7"/>
                </a:solidFill>
                <a:latin typeface="Arial"/>
                <a:ea typeface="华文新魏"/>
              </a:rPr>
              <a:t>网上远程教育、多媒体教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457200" y="152280"/>
            <a:ext cx="220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cc00"/>
                </a:solidFill>
                <a:latin typeface="Arial"/>
                <a:ea typeface="华文行楷"/>
              </a:rPr>
              <a:t>教育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5" descr="{A4944163-1FE4-4878-9B06-2B8134F9BFE0}"/>
          <p:cNvPicPr/>
          <p:nvPr/>
        </p:nvPicPr>
        <p:blipFill>
          <a:blip r:embed="rId2"/>
          <a:stretch/>
        </p:blipFill>
        <p:spPr>
          <a:xfrm>
            <a:off x="0" y="2043000"/>
            <a:ext cx="5181480" cy="48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left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18288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69822_0"/>
          <p:cNvPicPr/>
          <p:nvPr/>
        </p:nvPicPr>
        <p:blipFill>
          <a:blip r:embed="rId2"/>
          <a:stretch/>
        </p:blipFill>
        <p:spPr>
          <a:xfrm>
            <a:off x="0" y="0"/>
            <a:ext cx="2857680" cy="167652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4"/>
          <p:cNvSpPr/>
          <p:nvPr/>
        </p:nvSpPr>
        <p:spPr>
          <a:xfrm>
            <a:off x="3581280" y="373392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7f7"/>
                </a:solidFill>
                <a:latin typeface="Arial"/>
                <a:ea typeface="华文新魏"/>
              </a:rPr>
              <a:t>网上招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3505320" y="2286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7f7"/>
                </a:solidFill>
                <a:latin typeface="Arial"/>
                <a:ea typeface="华文新魏"/>
              </a:rPr>
              <a:t>网上销售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0" y="2209680"/>
            <a:ext cx="365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cc00"/>
                </a:solidFill>
                <a:latin typeface="Arial"/>
                <a:ea typeface="华文行楷"/>
              </a:rPr>
              <a:t>企业商家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6019920" y="304812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237f7"/>
                </a:solidFill>
                <a:latin typeface="Arial"/>
                <a:ea typeface="华文新魏"/>
              </a:rPr>
              <a:t>网上推广（比如在网上做广告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6019920" y="1676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237f7"/>
                </a:solidFill>
                <a:latin typeface="Arial"/>
                <a:ea typeface="华文新魏"/>
              </a:rPr>
              <a:t>网上拍卖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3581280" y="8380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7f7"/>
                </a:solidFill>
                <a:latin typeface="Arial"/>
                <a:ea typeface="华文新魏"/>
              </a:rPr>
              <a:t>网上订货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10"/>
          <p:cNvSpPr/>
          <p:nvPr/>
        </p:nvSpPr>
        <p:spPr>
          <a:xfrm>
            <a:off x="3352680" y="1143000"/>
            <a:ext cx="304920" cy="2971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11"/>
          <p:cNvSpPr/>
          <p:nvPr/>
        </p:nvSpPr>
        <p:spPr>
          <a:xfrm>
            <a:off x="5867280" y="1981080"/>
            <a:ext cx="76320" cy="1524240"/>
          </a:xfrm>
          <a:custGeom>
            <a:avLst/>
            <a:gdLst>
              <a:gd name="textAreaLeft" fmla="*/ 48960 w 76320"/>
              <a:gd name="textAreaRight" fmla="*/ 76320 w 763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12" descr="{1981BD3B-0A46-4E0D-BFA2-20284EA6F53A}"/>
          <p:cNvPicPr/>
          <p:nvPr/>
        </p:nvPicPr>
        <p:blipFill>
          <a:blip r:embed="rId3"/>
          <a:stretch/>
        </p:blipFill>
        <p:spPr>
          <a:xfrm>
            <a:off x="0" y="4419720"/>
            <a:ext cx="6629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380880" y="213372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cc00"/>
                </a:solidFill>
                <a:latin typeface="Arial"/>
                <a:ea typeface="华文行楷"/>
              </a:rPr>
              <a:t>法院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"/>
          <p:cNvSpPr/>
          <p:nvPr/>
        </p:nvSpPr>
        <p:spPr>
          <a:xfrm>
            <a:off x="2895480" y="9907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7f7"/>
                </a:solidFill>
                <a:latin typeface="Arial"/>
                <a:ea typeface="华文新魏"/>
              </a:rPr>
              <a:t>网上投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4"/>
          <p:cNvSpPr/>
          <p:nvPr/>
        </p:nvSpPr>
        <p:spPr>
          <a:xfrm>
            <a:off x="2819520" y="42670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7f7"/>
                </a:solidFill>
                <a:latin typeface="Arial"/>
                <a:ea typeface="华文新魏"/>
              </a:rPr>
              <a:t>网上审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2895480" y="259092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7f7"/>
                </a:solidFill>
                <a:latin typeface="Arial"/>
                <a:ea typeface="华文新魏"/>
              </a:rPr>
              <a:t>网上监督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6"/>
          <p:cNvSpPr/>
          <p:nvPr/>
        </p:nvSpPr>
        <p:spPr>
          <a:xfrm>
            <a:off x="2514600" y="1295280"/>
            <a:ext cx="228600" cy="3353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7" descr="toushu2"/>
          <p:cNvPicPr/>
          <p:nvPr/>
        </p:nvPicPr>
        <p:blipFill>
          <a:blip r:embed="rId1"/>
          <a:stretch/>
        </p:blipFill>
        <p:spPr>
          <a:xfrm>
            <a:off x="0" y="0"/>
            <a:ext cx="1542960" cy="15238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8" descr="Img245144351"/>
          <p:cNvPicPr/>
          <p:nvPr/>
        </p:nvPicPr>
        <p:blipFill>
          <a:blip r:embed="rId2"/>
          <a:stretch/>
        </p:blipFill>
        <p:spPr>
          <a:xfrm>
            <a:off x="5791320" y="37339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9" descr="Img245144354"/>
          <p:cNvPicPr/>
          <p:nvPr/>
        </p:nvPicPr>
        <p:blipFill>
          <a:blip r:embed="rId3"/>
          <a:stretch/>
        </p:blipFill>
        <p:spPr>
          <a:xfrm>
            <a:off x="5715000" y="4572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0" descr="pr_12"/>
          <p:cNvPicPr/>
          <p:nvPr/>
        </p:nvPicPr>
        <p:blipFill>
          <a:blip r:embed="rId4"/>
          <a:stretch/>
        </p:blipFill>
        <p:spPr>
          <a:xfrm>
            <a:off x="0" y="43434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380880" y="2286000"/>
            <a:ext cx="266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cc00"/>
                </a:solidFill>
                <a:latin typeface="Arial"/>
                <a:ea typeface="华文行楷"/>
              </a:rPr>
              <a:t>政府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3048120" y="11430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7f7"/>
                </a:solidFill>
                <a:latin typeface="Arial"/>
                <a:ea typeface="华文新魏"/>
              </a:rPr>
              <a:t>政务公开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2819520" y="373392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7f7"/>
                </a:solidFill>
                <a:latin typeface="Arial"/>
                <a:ea typeface="华文新魏"/>
              </a:rPr>
              <a:t>通过网络了解社会、民众的基本情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2514600" y="1447920"/>
            <a:ext cx="152280" cy="2819160"/>
          </a:xfrm>
          <a:custGeom>
            <a:avLst/>
            <a:gdLst>
              <a:gd name="textAreaLeft" fmla="*/ 97200 w 152280"/>
              <a:gd name="textAreaRight" fmla="*/ 152640 w 1522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6" descr="Img244555916"/>
          <p:cNvPicPr/>
          <p:nvPr/>
        </p:nvPicPr>
        <p:blipFill>
          <a:blip r:embed="rId1"/>
          <a:stretch/>
        </p:blipFill>
        <p:spPr>
          <a:xfrm>
            <a:off x="0" y="4000680"/>
            <a:ext cx="2286000" cy="28573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{E800180C-D207-4849-A428-C44791D74634}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67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4"/>
          <p:cNvSpPr/>
          <p:nvPr/>
        </p:nvSpPr>
        <p:spPr>
          <a:xfrm>
            <a:off x="228600" y="1522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7e2b"/>
                </a:solidFill>
                <a:latin typeface="Arial"/>
                <a:ea typeface="幼圆"/>
              </a:rPr>
              <a:t>网络交往的好处</a:t>
            </a:r>
            <a:r>
              <a:rPr b="1" lang="en-US" sz="3600" spc="-1" strike="noStrike">
                <a:solidFill>
                  <a:srgbClr val="ed7e2b"/>
                </a:solidFill>
                <a:latin typeface="Arial"/>
                <a:ea typeface="幼圆"/>
              </a:rPr>
              <a:t>——</a:t>
            </a:r>
            <a:r>
              <a:rPr b="1" lang="zh-CN" sz="3600" spc="-1" strike="noStrike">
                <a:solidFill>
                  <a:srgbClr val="ed7e2b"/>
                </a:solidFill>
                <a:latin typeface="Arial"/>
                <a:ea typeface="幼圆"/>
              </a:rPr>
              <a:t>利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3613320" y="29653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6"/>
          <p:cNvSpPr/>
          <p:nvPr/>
        </p:nvSpPr>
        <p:spPr>
          <a:xfrm>
            <a:off x="304920" y="1066680"/>
            <a:ext cx="883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丰富了我们的生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网络交往超越了空间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网络交往扩大了我们交往的领域、对象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网络为我们了解时事、学习知识、与人沟通，休闲娱乐等提供了便捷条件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开阔眼界、放松心情、学习新知、结交新友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8"/>
          <p:cNvSpPr/>
          <p:nvPr/>
        </p:nvSpPr>
        <p:spPr>
          <a:xfrm>
            <a:off x="762120" y="4952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幼圆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正面优势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快捷、方便、更好地被人们利用，实现人生价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9"/>
          <p:cNvSpPr/>
          <p:nvPr/>
        </p:nvSpPr>
        <p:spPr>
          <a:xfrm>
            <a:off x="304920" y="518148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"/>
          <p:cNvPicPr/>
          <p:nvPr/>
        </p:nvPicPr>
        <p:blipFill>
          <a:blip r:embed="rId1"/>
          <a:stretch/>
        </p:blipFill>
        <p:spPr>
          <a:xfrm>
            <a:off x="0" y="4038480"/>
            <a:ext cx="2362320" cy="1905120"/>
          </a:xfrm>
          <a:prstGeom prst="rect">
            <a:avLst/>
          </a:prstGeom>
          <a:ln w="0">
            <a:noFill/>
          </a:ln>
        </p:spPr>
      </p:pic>
      <p:sp>
        <p:nvSpPr>
          <p:cNvPr id="670" name="Text Box 3"/>
          <p:cNvSpPr/>
          <p:nvPr/>
        </p:nvSpPr>
        <p:spPr>
          <a:xfrm>
            <a:off x="2438280" y="0"/>
            <a:ext cx="6705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黑体"/>
              </a:rPr>
              <a:t>小波非常聪明，对一切新鲜事物充满好奇，是班级网络游戏的高段位选手，但他无心学习，每天背着书包上学，满脑子装的都是游戏。他不屑与周围同学发展友谊，觉得他们太幼稚，却在网上结交了很多对游戏感兴趣的朋友。有一天，玩完游戏，一同上网的网友向他发出邀请，一起弄钱以经常上网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波答应了，几天后，小波和他的朋友因合伙抢劫被抓到派出所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5"/>
          <p:cNvSpPr/>
          <p:nvPr/>
        </p:nvSpPr>
        <p:spPr>
          <a:xfrm>
            <a:off x="0" y="2514600"/>
            <a:ext cx="2133720" cy="1066680"/>
          </a:xfrm>
          <a:prstGeom prst="wedgeEllipseCallout">
            <a:avLst>
              <a:gd name="adj1" fmla="val 37277"/>
              <a:gd name="adj2" fmla="val 9419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380880" y="2590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今晚七点，咱们弄钱去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7" descr="WW_052"/>
          <p:cNvPicPr/>
          <p:nvPr/>
        </p:nvPicPr>
        <p:blipFill>
          <a:blip r:embed="rId2"/>
          <a:stretch/>
        </p:blipFill>
        <p:spPr>
          <a:xfrm>
            <a:off x="611280" y="549360"/>
            <a:ext cx="819000" cy="6541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8" descr="20048215956319"/>
          <p:cNvPicPr/>
          <p:nvPr/>
        </p:nvPicPr>
        <p:blipFill>
          <a:blip r:embed="rId3"/>
          <a:stretch/>
        </p:blipFill>
        <p:spPr>
          <a:xfrm>
            <a:off x="7631280" y="5300640"/>
            <a:ext cx="151272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1143000" y="91404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江西省南昌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的高中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余斌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网吧玩游戏时，因兴奋过度而猝死。类似悲剧的发生，在社会各界引起了强烈反响。面对网吧的诱惑，还有许多涉世未深的学生身陷其中，不能自拔。家长们因此共同呼吁“规范网吧经营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6" name=""/>
          <p:cNvGraphicFramePr/>
          <p:nvPr/>
        </p:nvGraphicFramePr>
        <p:xfrm>
          <a:off x="1674720" y="857160"/>
          <a:ext cx="5356080" cy="1357200"/>
        </p:xfrm>
        <a:graphic>
          <a:graphicData uri="http://schemas.openxmlformats.org/drawingml/2006/table">
            <a:tbl>
              <a:tblPr/>
              <a:tblGrid>
                <a:gridCol w="2678040"/>
                <a:gridCol w="2678040"/>
              </a:tblGrid>
              <a:tr h="51840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  </a:t>
                      </a: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7" name="Rectangle 20"/>
          <p:cNvSpPr/>
          <p:nvPr/>
        </p:nvSpPr>
        <p:spPr>
          <a:xfrm>
            <a:off x="1674720" y="2214720"/>
            <a:ext cx="535788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1"/>
          <p:cNvSpPr/>
          <p:nvPr/>
        </p:nvSpPr>
        <p:spPr>
          <a:xfrm>
            <a:off x="1674720" y="85716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2"/>
          <p:cNvSpPr/>
          <p:nvPr/>
        </p:nvSpPr>
        <p:spPr>
          <a:xfrm>
            <a:off x="3493440" y="330480"/>
            <a:ext cx="172008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000"/>
                </a:solidFill>
                <a:latin typeface="Arial"/>
              </a:rPr>
              <a:t>只为区区几元钱 残忍杀害三少年</a:t>
            </a:r>
            <a:br>
              <a:rPr sz="11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12e57"/>
                </a:solidFill>
                <a:latin typeface="Arial"/>
              </a:rPr>
              <a:t>金祥武一审被判死刑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1674720" y="2230560"/>
          <a:ext cx="5794200" cy="3770280"/>
        </p:xfrm>
        <a:graphic>
          <a:graphicData uri="http://schemas.openxmlformats.org/drawingml/2006/table">
            <a:tbl>
              <a:tblPr/>
              <a:tblGrid>
                <a:gridCol w="5794200"/>
              </a:tblGrid>
              <a:tr h="377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1684440" y="2239920"/>
          <a:ext cx="6164280" cy="3780000"/>
        </p:xfrm>
        <a:graphic>
          <a:graphicData uri="http://schemas.openxmlformats.org/drawingml/2006/table">
            <a:tbl>
              <a:tblPr/>
              <a:tblGrid>
                <a:gridCol w="6164280"/>
              </a:tblGrid>
              <a:tr h="3780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8080c0"/>
                          </a:solidFill>
                          <a:latin typeface="Arial"/>
                        </a:rPr>
                        <a:t>记者 王恒涛 梁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新华社郑州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电 备受社会关注的洛阳三少年命丧游戏厅一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案今天开庭审理，杀害三少年的游戏厅老板被当地法院一审判处死刑。</a:t>
                      </a:r>
                      <a:br>
                        <a:rPr sz="1400"/>
                      </a:b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，洛阳市轴承厂第一小学六年级的段可可、薛亚山、杜若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飞三人一起到游戏厅打游戏。玩了两个多小时，三人发现超支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．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，趁老板金祥武不注意溜了出去。金祥武发现后，以请打游戏为名，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让几个打游戏的小学生将段可可三人骗回游戏厅。在赶走其他打游戏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小孩后，金祥武残忍地杀害了这三名小学生。金祥武害怕事情败露，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与其兄金祥玉一起将尸体转移到洛阳市宜阳县附近的一个山沟，并焚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尸灭迹。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案发后，洛阳市公安局调集精兵强将集中精力办案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将案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犯捉拿归案，很快侦察终结，依法移送起诉。洛阳市检察院从快审察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提出起诉。今日洛阳市中级人民法院开庭审理此案，金祥武以故意杀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罪被一审判处死刑，剥夺政治权利终身；金祥玉以包庇罪被从重判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处有期徒刑十年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2" name="Picture 5" descr="LOGO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0240" y="1298520"/>
            <a:ext cx="93348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北京一网吧今晨发生火灾造成24死13人受伤(图)"/>
          <p:cNvPicPr/>
          <p:nvPr/>
        </p:nvPicPr>
        <p:blipFill>
          <a:blip r:embed="rId1"/>
          <a:stretch/>
        </p:blipFill>
        <p:spPr>
          <a:xfrm>
            <a:off x="550800" y="0"/>
            <a:ext cx="3868920" cy="609588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 txBox="1"/>
          <p:nvPr/>
        </p:nvSpPr>
        <p:spPr>
          <a:xfrm>
            <a:off x="4495680" y="-360"/>
            <a:ext cx="4648320" cy="64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凌晨，北京“蓝极速”网吧的一场大火吞噬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年轻的生命，且其中绝大多数是北京科技大学学生，而纵火犯刘某、宋某、张某均是未成年人。中学生余斌长时间上网，猝死网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此，网络的危害性被人们称为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电子海洛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2.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35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305560" cy="16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游戏的虚拟世界里，人们可以获取成功，体会现实世界中没有的刺激，可以逃避现实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对学习缺乏兴趣，对现实状况不满， 而有无心改变的同学容易沉迷网络游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网络游戏能满足人们的什么心理？什么样的同学容易沉迷网络游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7"/>
          <p:cNvSpPr/>
          <p:nvPr/>
        </p:nvSpPr>
        <p:spPr>
          <a:xfrm>
            <a:off x="2681280" y="304812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小波该如何处理玩网络游戏与学习的关系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8"/>
          <p:cNvSpPr/>
          <p:nvPr/>
        </p:nvSpPr>
        <p:spPr>
          <a:xfrm>
            <a:off x="3989520" y="355608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习放在第一位，休息时，适当地玩网络游戏，绝不能影响学习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9"/>
          <p:cNvSpPr/>
          <p:nvPr/>
        </p:nvSpPr>
        <p:spPr>
          <a:xfrm>
            <a:off x="3562920" y="411480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网友的邀请可能给我们带来危害，我们应怎样理智地面对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0"/>
          <p:cNvSpPr/>
          <p:nvPr/>
        </p:nvSpPr>
        <p:spPr>
          <a:xfrm>
            <a:off x="3866760" y="46213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们应当坚持原则：不道德的、违法的行为绝对不能够参与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1"/>
          <p:cNvSpPr/>
          <p:nvPr/>
        </p:nvSpPr>
        <p:spPr>
          <a:xfrm>
            <a:off x="609480" y="51958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过分迷恋网络，还会给我们的生活带来哪些负面影响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2"/>
          <p:cNvSpPr/>
          <p:nvPr/>
        </p:nvSpPr>
        <p:spPr>
          <a:xfrm>
            <a:off x="2054880" y="5638680"/>
            <a:ext cx="5118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过分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沉迷网络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造成精神颓废，荒废学业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影响身体健康；造成经济负担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丧失公德、甚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走上违法犯罪的道路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2736720" cy="20160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3"/>
          <p:cNvSpPr/>
          <p:nvPr/>
        </p:nvSpPr>
        <p:spPr>
          <a:xfrm>
            <a:off x="2209680" y="6858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关于网络交往的调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3352680" y="2209680"/>
            <a:ext cx="5791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、你心目中的网友是什么样子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你知道他们的国籍、地区、年龄、性别、职业等真实情况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3387600" y="4038480"/>
            <a:ext cx="5756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、谈谈你与网友交往的有趣故事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304920" y="152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9966"/>
                </a:solidFill>
                <a:latin typeface="Arial"/>
                <a:ea typeface="华文彩云"/>
              </a:rPr>
              <a:t>你的上网经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3352680" y="1676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、你有网友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0"/>
          <p:cNvSpPr/>
          <p:nvPr/>
        </p:nvSpPr>
        <p:spPr>
          <a:xfrm>
            <a:off x="3352680" y="487692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、除了交网友，你上网还做哪些事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网络是一把双刃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3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561080" cy="51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2041560" y="108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380880" y="9144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客观原因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网络交往对象的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虚拟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间接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隐蔽性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网络环境的复杂带来危险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网络环境难以管理与规范，存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脏乱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现象是出现负面影响的主要原因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0" y="373392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主观原因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网人自身的素质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（心理不健康，道德不高尚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是产生负面影响的原因之一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上网人缺少自我保护意识也是原因之一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380880" y="2286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网络产生不良影响的原因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8197"/>
          <p:cNvSpPr/>
          <p:nvPr/>
        </p:nvSpPr>
        <p:spPr>
          <a:xfrm>
            <a:off x="1074600" y="3398760"/>
            <a:ext cx="58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46" descr="26"/>
          <p:cNvPicPr/>
          <p:nvPr/>
        </p:nvPicPr>
        <p:blipFill>
          <a:blip r:embed="rId1"/>
          <a:stretch/>
        </p:blipFill>
        <p:spPr>
          <a:xfrm>
            <a:off x="4800600" y="762120"/>
            <a:ext cx="4343400" cy="5562360"/>
          </a:xfrm>
          <a:prstGeom prst="rect">
            <a:avLst/>
          </a:prstGeom>
          <a:ln w="0">
            <a:noFill/>
          </a:ln>
        </p:spPr>
      </p:pic>
      <p:sp>
        <p:nvSpPr>
          <p:cNvPr id="701" name="Text Box 4"/>
          <p:cNvSpPr/>
          <p:nvPr/>
        </p:nvSpPr>
        <p:spPr>
          <a:xfrm>
            <a:off x="380880" y="31240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以健康的心态把网络作为生活的补充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1"/>
          <p:cNvSpPr/>
          <p:nvPr/>
        </p:nvSpPr>
        <p:spPr>
          <a:xfrm>
            <a:off x="2819520" y="33526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3"/>
          <p:cNvSpPr/>
          <p:nvPr/>
        </p:nvSpPr>
        <p:spPr>
          <a:xfrm>
            <a:off x="380880" y="38098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要学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信息节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44"/>
          <p:cNvSpPr/>
          <p:nvPr/>
        </p:nvSpPr>
        <p:spPr>
          <a:xfrm>
            <a:off x="380880" y="44956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利用网络解决现实问题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5"/>
          <p:cNvSpPr/>
          <p:nvPr/>
        </p:nvSpPr>
        <p:spPr>
          <a:xfrm>
            <a:off x="304920" y="502920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i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利用网络为人服务，实现个人价值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47"/>
          <p:cNvSpPr/>
          <p:nvPr/>
        </p:nvSpPr>
        <p:spPr>
          <a:xfrm>
            <a:off x="228600" y="0"/>
            <a:ext cx="4648320" cy="1600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华文新魏"/>
              </a:rPr>
              <a:t>出谋划策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8"/>
          <p:cNvSpPr/>
          <p:nvPr/>
        </p:nvSpPr>
        <p:spPr>
          <a:xfrm>
            <a:off x="228600" y="184464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237f7"/>
                </a:solidFill>
                <a:latin typeface="Arial"/>
              </a:rPr>
              <a:t>我们如何利用网络的优势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49"/>
          <p:cNvSpPr/>
          <p:nvPr/>
        </p:nvSpPr>
        <p:spPr>
          <a:xfrm>
            <a:off x="2268360" y="559908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、做网络的主人，不做网络的俘虏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762120" y="1981080"/>
            <a:ext cx="7705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网络是先进的，网络改变了我们生活的速度、节奏、方式，网络使我们过上了古人无法想象的生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网络是危险的，网络上随时有陷阱，到处有诱惑，一不小心，我们就会被网络吞噬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们青少年要自觉规范自己的网络行为，充分利用好网络这一先进工具，让网络成为我们 生活学习的另一方空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2666880" y="304920"/>
            <a:ext cx="338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课堂小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69C2-22CA-424F-B867-0847585305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4"/>
          <p:cNvSpPr/>
          <p:nvPr/>
        </p:nvSpPr>
        <p:spPr>
          <a:xfrm>
            <a:off x="0" y="1143000"/>
            <a:ext cx="68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网络上的人际交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5"/>
          <p:cNvSpPr/>
          <p:nvPr/>
        </p:nvSpPr>
        <p:spPr>
          <a:xfrm>
            <a:off x="609480" y="1676520"/>
            <a:ext cx="228600" cy="3047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7"/>
          <p:cNvSpPr/>
          <p:nvPr/>
        </p:nvSpPr>
        <p:spPr>
          <a:xfrm>
            <a:off x="2286000" y="22860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2"/>
          <p:cNvSpPr/>
          <p:nvPr/>
        </p:nvSpPr>
        <p:spPr>
          <a:xfrm>
            <a:off x="838080" y="1219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网络是一把双刃   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13"/>
          <p:cNvSpPr/>
          <p:nvPr/>
        </p:nvSpPr>
        <p:spPr>
          <a:xfrm>
            <a:off x="1828800" y="106668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4"/>
          <p:cNvSpPr/>
          <p:nvPr/>
        </p:nvSpPr>
        <p:spPr>
          <a:xfrm>
            <a:off x="1905120" y="762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7"/>
          <p:cNvSpPr/>
          <p:nvPr/>
        </p:nvSpPr>
        <p:spPr>
          <a:xfrm>
            <a:off x="6095880" y="31240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8"/>
          <p:cNvSpPr/>
          <p:nvPr/>
        </p:nvSpPr>
        <p:spPr>
          <a:xfrm>
            <a:off x="19810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19"/>
          <p:cNvSpPr/>
          <p:nvPr/>
        </p:nvSpPr>
        <p:spPr>
          <a:xfrm>
            <a:off x="2438280" y="19810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0"/>
          <p:cNvSpPr/>
          <p:nvPr/>
        </p:nvSpPr>
        <p:spPr>
          <a:xfrm>
            <a:off x="2666880" y="190512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造成精神颓废，荒废学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影响身体健康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造成经济负担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丧失公德、甚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走上违法犯罪的道路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21"/>
          <p:cNvSpPr/>
          <p:nvPr/>
        </p:nvSpPr>
        <p:spPr>
          <a:xfrm>
            <a:off x="762120" y="42670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做网络的主人，不做网络的俘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22"/>
          <p:cNvSpPr/>
          <p:nvPr/>
        </p:nvSpPr>
        <p:spPr>
          <a:xfrm>
            <a:off x="3809880" y="4648320"/>
            <a:ext cx="152640" cy="1981080"/>
          </a:xfrm>
          <a:custGeom>
            <a:avLst/>
            <a:gdLst>
              <a:gd name="textAreaLeft" fmla="*/ 97560 w 152640"/>
              <a:gd name="textAreaRight" fmla="*/ 153000 w 15264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23"/>
          <p:cNvSpPr/>
          <p:nvPr/>
        </p:nvSpPr>
        <p:spPr>
          <a:xfrm>
            <a:off x="4827600" y="43434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以健康的心态把网络作为生活的补充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4"/>
          <p:cNvSpPr/>
          <p:nvPr/>
        </p:nvSpPr>
        <p:spPr>
          <a:xfrm>
            <a:off x="4460760" y="487692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要学会“信息节食”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5"/>
          <p:cNvSpPr/>
          <p:nvPr/>
        </p:nvSpPr>
        <p:spPr>
          <a:xfrm>
            <a:off x="4038480" y="533412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利用网络解决现实问题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26"/>
          <p:cNvSpPr/>
          <p:nvPr/>
        </p:nvSpPr>
        <p:spPr>
          <a:xfrm>
            <a:off x="4853160" y="59436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利用网络为人服务，实现个人价值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29"/>
          <p:cNvSpPr/>
          <p:nvPr/>
        </p:nvSpPr>
        <p:spPr>
          <a:xfrm>
            <a:off x="2971800" y="3809880"/>
            <a:ext cx="228600" cy="2133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30"/>
          <p:cNvSpPr/>
          <p:nvPr/>
        </p:nvSpPr>
        <p:spPr>
          <a:xfrm>
            <a:off x="3276720" y="35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原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31"/>
          <p:cNvSpPr/>
          <p:nvPr/>
        </p:nvSpPr>
        <p:spPr>
          <a:xfrm>
            <a:off x="3200400" y="5486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要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32"/>
          <p:cNvSpPr/>
          <p:nvPr/>
        </p:nvSpPr>
        <p:spPr>
          <a:xfrm>
            <a:off x="3962520" y="649116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做网络的主人，不做网络的俘虏。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33"/>
          <p:cNvSpPr/>
          <p:nvPr/>
        </p:nvSpPr>
        <p:spPr>
          <a:xfrm>
            <a:off x="3886200" y="3429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4"/>
          <p:cNvSpPr/>
          <p:nvPr/>
        </p:nvSpPr>
        <p:spPr>
          <a:xfrm>
            <a:off x="3962520" y="3276720"/>
            <a:ext cx="1752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客观原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主观原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②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36"/>
          <p:cNvSpPr/>
          <p:nvPr/>
        </p:nvSpPr>
        <p:spPr>
          <a:xfrm>
            <a:off x="2438280" y="0"/>
            <a:ext cx="556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网络丰富了我们的生活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网络交往超越了空间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网络交往扩大了我们交往的领域、对象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网络为我们了解时事、学习知识、与人沟通，休闲娱乐等提供了便捷条件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开阔眼界、放松心情、学习新知、结交新友等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WordArt 2"/>
          <p:cNvSpPr txBox="1"/>
          <p:nvPr/>
        </p:nvSpPr>
        <p:spPr>
          <a:xfrm>
            <a:off x="914400" y="1447920"/>
            <a:ext cx="33526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阅读新闻</a:t>
            </a:r>
            <a:endParaRPr b="1" lang="en-US" sz="6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52" name="Picture 3" descr="news_logo"/>
          <p:cNvPicPr/>
          <p:nvPr/>
        </p:nvPicPr>
        <p:blipFill>
          <a:blip r:embed="rId3"/>
          <a:stretch/>
        </p:blipFill>
        <p:spPr>
          <a:xfrm>
            <a:off x="685800" y="3048120"/>
            <a:ext cx="3660840" cy="7268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sina_news626"/>
          <p:cNvPicPr/>
          <p:nvPr/>
        </p:nvPicPr>
        <p:blipFill>
          <a:blip r:embed="rId4"/>
          <a:stretch/>
        </p:blipFill>
        <p:spPr>
          <a:xfrm>
            <a:off x="5638680" y="1676520"/>
            <a:ext cx="2756160" cy="7398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zaobao_com"/>
          <p:cNvPicPr/>
          <p:nvPr/>
        </p:nvPicPr>
        <p:blipFill>
          <a:blip r:embed="rId5"/>
          <a:stretch/>
        </p:blipFill>
        <p:spPr>
          <a:xfrm>
            <a:off x="4800600" y="2971800"/>
            <a:ext cx="3619440" cy="7462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神六2"/>
          <p:cNvPicPr/>
          <p:nvPr/>
        </p:nvPicPr>
        <p:blipFill>
          <a:blip r:embed="rId6"/>
          <a:stretch/>
        </p:blipFill>
        <p:spPr>
          <a:xfrm>
            <a:off x="4648320" y="4114800"/>
            <a:ext cx="3806640" cy="21463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7" descr="神六"/>
          <p:cNvPicPr/>
          <p:nvPr/>
        </p:nvPicPr>
        <p:blipFill>
          <a:blip r:embed="rId7"/>
          <a:stretch/>
        </p:blipFill>
        <p:spPr>
          <a:xfrm>
            <a:off x="746280" y="4114800"/>
            <a:ext cx="3063600" cy="21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dur="indefinite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WordArt 2"/>
          <p:cNvSpPr txBox="1"/>
          <p:nvPr/>
        </p:nvSpPr>
        <p:spPr>
          <a:xfrm>
            <a:off x="457200" y="152280"/>
            <a:ext cx="33526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查询信息</a:t>
            </a:r>
            <a:endParaRPr b="1" lang="en-US" sz="6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58" name="Picture 3" descr="baidu"/>
          <p:cNvPicPr/>
          <p:nvPr/>
        </p:nvPicPr>
        <p:blipFill>
          <a:blip r:embed="rId3"/>
          <a:stretch/>
        </p:blipFill>
        <p:spPr>
          <a:xfrm>
            <a:off x="4800600" y="4648320"/>
            <a:ext cx="4121280" cy="14000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logo"/>
          <p:cNvPicPr/>
          <p:nvPr/>
        </p:nvPicPr>
        <p:blipFill>
          <a:blip r:embed="rId4"/>
          <a:stretch/>
        </p:blipFill>
        <p:spPr>
          <a:xfrm>
            <a:off x="533520" y="4648320"/>
            <a:ext cx="3571920" cy="13716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" descr="neteaselogo"/>
          <p:cNvPicPr/>
          <p:nvPr/>
        </p:nvPicPr>
        <p:blipFill>
          <a:blip r:embed="rId5"/>
          <a:stretch/>
        </p:blipFill>
        <p:spPr>
          <a:xfrm>
            <a:off x="4800600" y="2816280"/>
            <a:ext cx="3762360" cy="12222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" descr="sina_logo2"/>
          <p:cNvPicPr/>
          <p:nvPr/>
        </p:nvPicPr>
        <p:blipFill>
          <a:blip r:embed="rId6"/>
          <a:stretch/>
        </p:blipFill>
        <p:spPr>
          <a:xfrm>
            <a:off x="511200" y="2803680"/>
            <a:ext cx="3679920" cy="13111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雅虎"/>
          <p:cNvPicPr/>
          <p:nvPr/>
        </p:nvPicPr>
        <p:blipFill>
          <a:blip r:embed="rId7"/>
          <a:stretch/>
        </p:blipFill>
        <p:spPr>
          <a:xfrm>
            <a:off x="457200" y="1200240"/>
            <a:ext cx="8344080" cy="108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dur="indefinite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1"/>
                            </p:stCondLst>
                            <p:childTnLst>
                              <p:par>
                                <p:cTn id="91" dur="indefinite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WordArt 2"/>
          <p:cNvSpPr txBox="1"/>
          <p:nvPr/>
        </p:nvSpPr>
        <p:spPr>
          <a:xfrm>
            <a:off x="533520" y="304920"/>
            <a:ext cx="40384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收发</a:t>
            </a:r>
            <a:r>
              <a:rPr b="1" lang="en-US" sz="66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E-Mail</a:t>
            </a:r>
            <a:endParaRPr b="1" lang="en-US" sz="66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64" name="Picture 3" descr="email"/>
          <p:cNvPicPr/>
          <p:nvPr/>
        </p:nvPicPr>
        <p:blipFill>
          <a:blip r:embed="rId4"/>
          <a:stretch/>
        </p:blipFill>
        <p:spPr>
          <a:xfrm>
            <a:off x="3505320" y="1219320"/>
            <a:ext cx="5333760" cy="51559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Email2"/>
          <p:cNvPicPr/>
          <p:nvPr/>
        </p:nvPicPr>
        <p:blipFill>
          <a:blip r:embed="rId5"/>
          <a:stretch/>
        </p:blipFill>
        <p:spPr>
          <a:xfrm>
            <a:off x="83808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email-man"/>
          <p:cNvPicPr/>
          <p:nvPr/>
        </p:nvPicPr>
        <p:blipFill>
          <a:blip r:embed="rId6"/>
          <a:stretch/>
        </p:blipFill>
        <p:spPr>
          <a:xfrm>
            <a:off x="685800" y="1676520"/>
            <a:ext cx="2435400" cy="24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动画QQ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68" name="WordArt 3"/>
          <p:cNvSpPr txBox="1"/>
          <p:nvPr/>
        </p:nvSpPr>
        <p:spPr>
          <a:xfrm>
            <a:off x="533520" y="76320"/>
            <a:ext cx="58672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网上聊天与讨论</a:t>
            </a:r>
            <a:endParaRPr b="1" lang="en-US" sz="66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569" name="Group 4"/>
          <p:cNvGrpSpPr/>
          <p:nvPr/>
        </p:nvGrpSpPr>
        <p:grpSpPr>
          <a:xfrm>
            <a:off x="6629400" y="0"/>
            <a:ext cx="2514600" cy="6858000"/>
            <a:chOff x="6629400" y="0"/>
            <a:chExt cx="2514600" cy="6858000"/>
          </a:xfrm>
        </p:grpSpPr>
        <p:pic>
          <p:nvPicPr>
            <p:cNvPr id="570" name="Picture 5" descr="QQ界面"/>
            <p:cNvPicPr/>
            <p:nvPr/>
          </p:nvPicPr>
          <p:blipFill>
            <a:blip r:embed="rId4"/>
            <a:stretch/>
          </p:blipFill>
          <p:spPr>
            <a:xfrm>
              <a:off x="6629400" y="0"/>
              <a:ext cx="25146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6" descr="动画QQ"/>
            <p:cNvPicPr/>
            <p:nvPr/>
          </p:nvPicPr>
          <p:blipFill>
            <a:blip r:embed="rId5"/>
            <a:stretch/>
          </p:blipFill>
          <p:spPr>
            <a:xfrm>
              <a:off x="7162920" y="4343400"/>
              <a:ext cx="1600200" cy="160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2" name="Picture 7" descr="msn3"/>
          <p:cNvPicPr/>
          <p:nvPr/>
        </p:nvPicPr>
        <p:blipFill>
          <a:blip r:embed="rId6"/>
          <a:stretch/>
        </p:blipFill>
        <p:spPr>
          <a:xfrm>
            <a:off x="3657600" y="3703680"/>
            <a:ext cx="2536920" cy="31543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聊天工具 新浪UC"/>
          <p:cNvPicPr/>
          <p:nvPr/>
        </p:nvPicPr>
        <p:blipFill>
          <a:blip r:embed="rId7"/>
          <a:stretch/>
        </p:blipFill>
        <p:spPr>
          <a:xfrm>
            <a:off x="609480" y="1143000"/>
            <a:ext cx="2257560" cy="5448240"/>
          </a:xfrm>
          <a:prstGeom prst="rect">
            <a:avLst/>
          </a:prstGeom>
          <a:ln w="0">
            <a:noFill/>
          </a:ln>
        </p:spPr>
      </p:pic>
      <p:grpSp>
        <p:nvGrpSpPr>
          <p:cNvPr id="574" name="Group 10"/>
          <p:cNvGrpSpPr/>
          <p:nvPr/>
        </p:nvGrpSpPr>
        <p:grpSpPr>
          <a:xfrm>
            <a:off x="2971800" y="914400"/>
            <a:ext cx="3505320" cy="2743200"/>
            <a:chOff x="2971800" y="914400"/>
            <a:chExt cx="3505320" cy="2743200"/>
          </a:xfrm>
        </p:grpSpPr>
        <p:pic>
          <p:nvPicPr>
            <p:cNvPr id="575" name="Picture 11" descr="2vvff"/>
            <p:cNvPicPr/>
            <p:nvPr/>
          </p:nvPicPr>
          <p:blipFill>
            <a:blip r:embed="rId8"/>
            <a:stretch/>
          </p:blipFill>
          <p:spPr>
            <a:xfrm>
              <a:off x="2971800" y="914400"/>
              <a:ext cx="350532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6" name="Group 12"/>
            <p:cNvGrpSpPr/>
            <p:nvPr/>
          </p:nvGrpSpPr>
          <p:grpSpPr>
            <a:xfrm>
              <a:off x="3059280" y="1418760"/>
              <a:ext cx="2599560" cy="704520"/>
              <a:chOff x="3059280" y="1418760"/>
              <a:chExt cx="2599560" cy="704520"/>
            </a:xfrm>
          </p:grpSpPr>
          <p:sp>
            <p:nvSpPr>
              <p:cNvPr id="577" name="Text Box 13"/>
              <p:cNvSpPr/>
              <p:nvPr/>
            </p:nvSpPr>
            <p:spPr>
              <a:xfrm>
                <a:off x="3059280" y="1450080"/>
                <a:ext cx="2599560" cy="673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WW. DGYLT.COM       </a:t>
                </a:r>
                <a:r>
                  <a:rPr b="1" lang="zh-CN" sz="1800" spc="-1" strike="noStrike">
                    <a:solidFill>
                      <a:srgbClr val="008000"/>
                    </a:solidFill>
                    <a:latin typeface="Arial"/>
                  </a:rPr>
                  <a:t>大观园论坛          </a:t>
                </a:r>
                <a:r>
                  <a:rPr b="1" lang="zh-CN" sz="2000" spc="-1" strike="noStrike">
                    <a:solidFill>
                      <a:srgbClr val="333399"/>
                    </a:solidFill>
                    <a:latin typeface="Arial"/>
                    <a:ea typeface="方正舒体"/>
                  </a:rPr>
                  <a:t>欢迎点击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8" name="Picture 14" descr="Xbutton34"/>
              <p:cNvPicPr/>
              <p:nvPr/>
            </p:nvPicPr>
            <p:blipFill>
              <a:blip r:embed="rId9"/>
              <a:stretch/>
            </p:blipFill>
            <p:spPr>
              <a:xfrm>
                <a:off x="5308200" y="1418760"/>
                <a:ext cx="174960" cy="18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4"/>
          <p:cNvSpPr/>
          <p:nvPr/>
        </p:nvSpPr>
        <p:spPr>
          <a:xfrm>
            <a:off x="3505320" y="3808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7f7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5237f7"/>
                </a:solidFill>
                <a:latin typeface="Arial"/>
              </a:rPr>
              <a:t>博客、个人主页空间、</a:t>
            </a:r>
            <a:r>
              <a:rPr b="1" lang="en-US" sz="2800" spc="-1" strike="noStrike">
                <a:solidFill>
                  <a:srgbClr val="5237f7"/>
                </a:solidFill>
                <a:latin typeface="Arial"/>
              </a:rPr>
              <a:t>QQ</a:t>
            </a:r>
            <a:r>
              <a:rPr b="1" lang="zh-CN" sz="2800" spc="-1" strike="noStrike">
                <a:solidFill>
                  <a:srgbClr val="5237f7"/>
                </a:solidFill>
                <a:latin typeface="Arial"/>
              </a:rPr>
              <a:t>空间</a:t>
            </a:r>
            <a:r>
              <a:rPr b="1" lang="en-US" sz="2800" spc="-1" strike="noStrike">
                <a:solidFill>
                  <a:srgbClr val="5237f7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{05130276-5015-40A7-9228-3813E93CD99D}0"/>
          <p:cNvPicPr/>
          <p:nvPr/>
        </p:nvPicPr>
        <p:blipFill>
          <a:blip r:embed="rId1"/>
          <a:stretch/>
        </p:blipFill>
        <p:spPr>
          <a:xfrm>
            <a:off x="4876920" y="2133720"/>
            <a:ext cx="4267080" cy="4724280"/>
          </a:xfrm>
          <a:prstGeom prst="rect">
            <a:avLst/>
          </a:prstGeom>
          <a:ln w="0">
            <a:noFill/>
          </a:ln>
        </p:spPr>
      </p:pic>
      <p:sp>
        <p:nvSpPr>
          <p:cNvPr id="581" name="WordArt 6"/>
          <p:cNvSpPr txBox="1"/>
          <p:nvPr/>
        </p:nvSpPr>
        <p:spPr>
          <a:xfrm>
            <a:off x="152280" y="228600"/>
            <a:ext cx="33530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展示自我</a:t>
            </a:r>
            <a:endParaRPr b="1" lang="en-US" sz="66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82" name="Picture 7" descr="{16557C57-628F-47A3-B441-31DD003615FC}0"/>
          <p:cNvPicPr/>
          <p:nvPr/>
        </p:nvPicPr>
        <p:blipFill>
          <a:blip r:embed="rId4"/>
          <a:stretch/>
        </p:blipFill>
        <p:spPr>
          <a:xfrm>
            <a:off x="0" y="1371600"/>
            <a:ext cx="480060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WordArt 2"/>
          <p:cNvSpPr txBox="1"/>
          <p:nvPr/>
        </p:nvSpPr>
        <p:spPr>
          <a:xfrm>
            <a:off x="457200" y="380880"/>
            <a:ext cx="33526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网上游戏</a:t>
            </a:r>
            <a:endParaRPr b="1" lang="en-US" sz="6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84" name="Picture 3" descr="200481717552716971"/>
          <p:cNvPicPr/>
          <p:nvPr/>
        </p:nvPicPr>
        <p:blipFill>
          <a:blip r:embed="rId3"/>
          <a:stretch/>
        </p:blipFill>
        <p:spPr>
          <a:xfrm>
            <a:off x="4952880" y="373392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" descr="游戏"/>
          <p:cNvPicPr/>
          <p:nvPr/>
        </p:nvPicPr>
        <p:blipFill>
          <a:blip r:embed="rId4"/>
          <a:stretch/>
        </p:blipFill>
        <p:spPr>
          <a:xfrm>
            <a:off x="1752480" y="1447920"/>
            <a:ext cx="892440" cy="11206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游戏2"/>
          <p:cNvPicPr/>
          <p:nvPr/>
        </p:nvPicPr>
        <p:blipFill>
          <a:blip r:embed="rId5"/>
          <a:stretch/>
        </p:blipFill>
        <p:spPr>
          <a:xfrm>
            <a:off x="380880" y="2975040"/>
            <a:ext cx="4114800" cy="35780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游戏3"/>
          <p:cNvPicPr/>
          <p:nvPr/>
        </p:nvPicPr>
        <p:blipFill>
          <a:blip r:embed="rId6"/>
          <a:stretch/>
        </p:blipFill>
        <p:spPr>
          <a:xfrm>
            <a:off x="4800600" y="3049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dur="indefinite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30T02:57:45Z</dcterms:created>
  <dc:creator>第一PPT模板网-WWW.1PPT.COM</dc:creator>
  <dc:description>第一PPT模板网-WWW.1PPT.COM
</dc:description>
  <cp:keywords>第一PPT模板网-WWW.1PPT.COM</cp:keywords>
  <dc:language>en-US</dc:language>
  <cp:lastModifiedBy>pc</cp:lastModifiedBy>
  <dcterms:modified xsi:type="dcterms:W3CDTF">2016-06-30T08:59:51Z</dcterms:modified>
  <cp:revision>13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