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png" ContentType="image/png"/>
  <Override PartName="/ppt/media/image19.png" ContentType="image/png"/>
  <Override PartName="/ppt/media/image15.gif" ContentType="image/gif"/>
  <Override PartName="/ppt/media/image1.png" ContentType="image/png"/>
  <Override PartName="/ppt/media/image18.jpeg" ContentType="image/jpeg"/>
  <Override PartName="/ppt/media/image17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5.gif" ContentType="image/gif"/>
  <Override PartName="/ppt/media/image16.wmf" ContentType="image/x-wm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A6C-4371-4BFF-9A4D-ACF15089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35C-FD46-41B2-9D7F-D3341075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BEF-A94E-4CA8-BB09-6F11F8E8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825-3A23-4B58-B579-D14D4F54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1470-957B-4CD3-AF85-CD0CCB09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BCDE-8A05-4251-834A-9AD72406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0AC2-16C0-40C6-9921-EE9D2344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6A88-04C7-4F10-BAD5-5C0E827A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D457-3C99-4670-A512-F3E21D97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0404-1460-4CD2-AC7C-31D0722F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59E5-6E29-4446-A339-E9601DF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386-B9AD-46B3-9714-358FFB58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D27B-B6DE-47DA-852C-5A0283A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B14-41AD-43AF-AC25-F526D490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AFAD-9F2E-4A38-82C9-A2C94CF3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CB48-7FE6-4B27-99B3-C47BE430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E2A7-8A4F-4A56-8A2A-93EA58C8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B2CB-D7FD-4015-B6C6-BED02B31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485E-DE4F-4EA6-9380-32A042C8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0A94-00CE-4189-98FE-647148B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D1794-FC47-45A1-9280-06FCCA6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26D4-65D7-450A-ADB8-F51720EB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205-6356-440B-B13D-17D31093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5EC9-64BC-4CBE-98A8-C93924BA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22BE0-F539-44AE-8281-2E6CEA0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321A-5AAB-4C69-A9FB-472861C4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8071-BAB2-4EBA-A854-EF175AB7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4479-52B7-4A1E-A88B-F8FF984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FA25-96EB-474E-88C0-89E751D4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20E8-303F-4F12-889A-9784128B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FDB-DDC9-4F16-A9E4-2B9F7A32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F027-51BB-46BA-93E7-CC8A340D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9C4-D75F-430B-A9B2-0048CF9C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F81-3CC4-4A17-AAF1-BD8C221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F94-9E16-4958-ACA1-075D594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E98-6FE8-47EF-84FE-845418B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A783-55F6-45F9-9011-EDD8D092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31E9-F16C-4762-AC09-47358DF81C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92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840042"/>
                </a:gs>
                <a:gs pos="50000">
                  <a:srgbClr val="9c004e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840042"/>
                </a:gs>
                <a:gs pos="50000">
                  <a:srgbClr val="ff0066"/>
                </a:gs>
                <a:gs pos="100000">
                  <a:srgbClr val="8400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840042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50000">
                  <a:srgbClr val="74003a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4003a"/>
                </a:gs>
                <a:gs pos="50000">
                  <a:srgbClr val="ff0066"/>
                </a:gs>
                <a:gs pos="100000">
                  <a:srgbClr val="7400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1CD-93D5-4AA4-9898-BE616DABE7D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73,20,&#24187;&#28783;&#29255; 20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R00646_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539640" y="549360"/>
            <a:ext cx="776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8e51"/>
                </a:solidFill>
                <a:latin typeface="宋体"/>
                <a:ea typeface="宋体"/>
              </a:rPr>
              <a:t>五柳先生传语文课件</a:t>
            </a:r>
            <a:r>
              <a:rPr b="0" lang="en-US" sz="4000" spc="-1" strike="noStrike">
                <a:solidFill>
                  <a:srgbClr val="a38e51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a38e51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659640" y="2060640"/>
            <a:ext cx="172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ac59ff"/>
                </a:solidFill>
                <a:latin typeface="华文行楷"/>
                <a:ea typeface="华文行楷"/>
              </a:rPr>
              <a:t>陶渊明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BK00003_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"/>
          <p:cNvSpPr/>
          <p:nvPr/>
        </p:nvSpPr>
        <p:spPr>
          <a:xfrm>
            <a:off x="2133720" y="1219320"/>
            <a:ext cx="7315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翻译要求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重点字词</a:t>
            </a:r>
            <a:r>
              <a:rPr b="1" lang="en-US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准确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归纳一词多义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词类活用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一些简单句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D00178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1219320" y="685800"/>
            <a:ext cx="66657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嗜：喜欢，特别爱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辄：就，总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吝：吝惜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褐：兽毛或粗麻制成的短衣，古时贫贱人所服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箪：用苇、竹编制的用来存放事物的器具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汲汲：形容心情急切，努力追求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汲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取水于井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俦：朋友、伴侣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觞：酒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028000" y="8366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66"/>
                </a:solidFill>
                <a:latin typeface="Comic Sans MS"/>
              </a:rPr>
              <a:t>Ne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140360" y="13874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Times New Roman"/>
              </a:rPr>
              <a:t>浅尝辄止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75040" y="273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解释词句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990720"/>
            <a:ext cx="7468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１、详：详细的知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也不清楚他的姓名和表字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066680" y="2438280"/>
            <a:ext cx="6923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２、因：因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因而用它作为自己的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066680" y="3809880"/>
            <a:ext cx="719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３、辄：就，总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他一来就要把酒全部喝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066680" y="5181480"/>
            <a:ext cx="765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４、萧：冷冷清清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简陋的居室里冷冷清清的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990720" y="83808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５、晏如：安然自若的样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饭篮子和瓢里经常是空的，可是他安之若素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14400" y="289548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６、戚戚：忧愁的样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翻译：不为贫贱而忧虑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990720" y="44197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７、汲汲：心情急切的样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  <a:ea typeface="华文新魏"/>
              </a:rPr>
              <a:t>　　不热衷于发财做官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BD05094_"/>
          <p:cNvPicPr/>
          <p:nvPr/>
        </p:nvPicPr>
        <p:blipFill>
          <a:blip r:embed="rId1"/>
          <a:stretch/>
        </p:blipFill>
        <p:spPr>
          <a:xfrm>
            <a:off x="0" y="0"/>
            <a:ext cx="92502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"/>
          <p:cNvSpPr/>
          <p:nvPr/>
        </p:nvSpPr>
        <p:spPr>
          <a:xfrm>
            <a:off x="609480" y="685800"/>
            <a:ext cx="7562880" cy="58140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概括第一、二段的内容，体会朗读语调的轻微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4648320"/>
            <a:ext cx="7238880" cy="58140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文章中写了五柳先生几方面？从文中找出表现五柳先生着几方面的句子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916280"/>
            <a:ext cx="7169400" cy="1572120"/>
          </a:xfrm>
          <a:prstGeom prst="rect">
            <a:avLst/>
          </a:prstGeom>
          <a:solidFill>
            <a:srgbClr val="ffff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第一段：写五柳先生的生活（包括性格、志趣等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描写、陈述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舒缓陈述的语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14400" y="3276720"/>
            <a:ext cx="7186680" cy="1015920"/>
          </a:xfrm>
          <a:prstGeom prst="rect">
            <a:avLst/>
          </a:prstGeom>
          <a:solidFill>
            <a:srgbClr val="ffff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第二段：赞语（对五柳先生精神风貌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评论</a:t>
            </a:r>
            <a:r>
              <a:rPr b="1" lang="en-US" sz="24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赞叹抒情的语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380880" y="3276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五柳先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04" name="AutoShape 4"/>
          <p:cNvCxnSpPr>
            <a:stCxn id="205" idx="1"/>
          </p:cNvCxnSpPr>
          <p:nvPr/>
        </p:nvCxnSpPr>
        <p:spPr>
          <a:xfrm>
            <a:off x="1809360" y="3619080"/>
            <a:ext cx="1600920" cy="1296360"/>
          </a:xfrm>
          <a:prstGeom prst="straightConnector1">
            <a:avLst/>
          </a:prstGeom>
          <a:ln w="0">
            <a:noFill/>
          </a:ln>
        </p:spPr>
      </p:cxnSp>
      <p:sp>
        <p:nvSpPr>
          <p:cNvPr id="205" name="AutoShape 5"/>
          <p:cNvSpPr/>
          <p:nvPr/>
        </p:nvSpPr>
        <p:spPr>
          <a:xfrm>
            <a:off x="1828800" y="685800"/>
            <a:ext cx="380880" cy="5867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52640 h 5867280"/>
              <a:gd name="textAreaBottom" fmla="*/ 5714640 h 58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362320" y="60948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性格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554280" y="609480"/>
            <a:ext cx="31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闲静少言 ，不慕荣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2860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生活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505320" y="2133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环堵萧然， 晏如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286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志趣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203640" y="37339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080 h 2819160"/>
              <a:gd name="textAreaBottom" fmla="*/ 27460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3564000" y="35053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读书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64832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好读书，不求甚解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3624120" y="4876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饮酒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6483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性嗜酒，期在必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3687840" y="609588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写文章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常著文章自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19"/>
          <p:cNvSpPr/>
          <p:nvPr/>
        </p:nvSpPr>
        <p:spPr>
          <a:xfrm flipH="1">
            <a:off x="7086600" y="609480"/>
            <a:ext cx="990720" cy="5867640"/>
          </a:xfrm>
          <a:custGeom>
            <a:avLst/>
            <a:gdLst>
              <a:gd name="textAreaLeft" fmla="*/ 633240 w 990720"/>
              <a:gd name="textAreaRight" fmla="*/ 991440 w 990720"/>
              <a:gd name="textAreaTop" fmla="*/ 152640 h 5867640"/>
              <a:gd name="textAreaBottom" fmla="*/ 5715000 h 58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7851240" y="990720"/>
            <a:ext cx="91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c004e"/>
                </a:solidFill>
                <a:latin typeface="Times New Roman"/>
              </a:rPr>
              <a:t>不慕名利，率真自然，安贫乐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62320" y="2590920"/>
            <a:ext cx="4495680" cy="360"/>
            <a:chOff x="2362320" y="2590920"/>
            <a:chExt cx="4495680" cy="360"/>
          </a:xfrm>
        </p:grpSpPr>
        <p:sp>
          <p:nvSpPr>
            <p:cNvPr id="221" name="Line 23"/>
            <p:cNvSpPr/>
            <p:nvPr/>
          </p:nvSpPr>
          <p:spPr>
            <a:xfrm>
              <a:off x="2362320" y="2590920"/>
              <a:ext cx="4495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362320" y="2590920"/>
              <a:ext cx="4495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BK0000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452520"/>
            <a:ext cx="8305560" cy="6024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1690560" y="1125360"/>
            <a:ext cx="576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</a:rPr>
              <a:t>讨论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c004e"/>
                </a:solidFill>
                <a:latin typeface="Times New Roman"/>
              </a:rPr>
              <a:t>１、何为“赞”？赞语中的那一句话和“传”中的语句照应？对作者的这种性格，该怎样看待？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c004e"/>
                </a:solidFill>
                <a:latin typeface="Times New Roman"/>
              </a:rPr>
              <a:t>２、本文的写作上有什么特点</a:t>
            </a:r>
            <a:r>
              <a:rPr b="0" lang="en-US" sz="3600" spc="-1" strike="noStrike">
                <a:solidFill>
                  <a:srgbClr val="9c004e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9c004e"/>
                </a:solidFill>
                <a:latin typeface="Times New Roman"/>
              </a:rPr>
              <a:t>作用如何</a:t>
            </a:r>
            <a:r>
              <a:rPr b="0" lang="en-US" sz="3600" spc="-1" strike="noStrike">
                <a:solidFill>
                  <a:srgbClr val="9c004e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文本框 8194"/>
          <p:cNvSpPr/>
          <p:nvPr/>
        </p:nvSpPr>
        <p:spPr>
          <a:xfrm>
            <a:off x="234000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295280" y="152388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知何许人也</a:t>
            </a:r>
            <a:r>
              <a:rPr b="1" i="1" lang="en-US" sz="2800" spc="-1" strike="noStrike">
                <a:solidFill>
                  <a:srgbClr val="9c004e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亦不详其姓氏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慕荣利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戚戚于贫贱，不汲汲于富贵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求甚解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家贫不能常得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不蔽风日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曾不吝情去留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066680" y="1752480"/>
            <a:ext cx="228600" cy="4114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400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43828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不</a:t>
            </a:r>
            <a:r>
              <a:rPr b="1" i="1" lang="zh-CN" sz="28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r>
              <a:rPr b="1" i="1" lang="zh-CN" sz="2800" spc="-1" strike="noStrike">
                <a:solidFill>
                  <a:srgbClr val="9c004e"/>
                </a:solidFill>
                <a:latin typeface="幼圆"/>
                <a:ea typeface="幼圆"/>
              </a:rPr>
              <a:t>字为一篇</a:t>
            </a:r>
            <a:r>
              <a:rPr b="1" i="1" lang="zh-CN" sz="2800" spc="-1" strike="noStrike">
                <a:solidFill>
                  <a:srgbClr val="ff3300"/>
                </a:solidFill>
                <a:latin typeface="幼圆"/>
                <a:ea typeface="幼圆"/>
              </a:rPr>
              <a:t>眼目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543800" y="1447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淡泊宁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191120" y="2362320"/>
            <a:ext cx="3276360" cy="360"/>
            <a:chOff x="4191120" y="2362320"/>
            <a:chExt cx="3276360" cy="360"/>
          </a:xfrm>
        </p:grpSpPr>
        <p:sp>
          <p:nvSpPr>
            <p:cNvPr id="231" name="Line 8"/>
            <p:cNvSpPr/>
            <p:nvPr/>
          </p:nvSpPr>
          <p:spPr>
            <a:xfrm>
              <a:off x="4191120" y="2362320"/>
              <a:ext cx="3276360" cy="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4191120" y="2362320"/>
              <a:ext cx="32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477120" y="2666520"/>
            <a:ext cx="1371600" cy="381240"/>
            <a:chOff x="6477120" y="2666520"/>
            <a:chExt cx="1371600" cy="381240"/>
          </a:xfrm>
        </p:grpSpPr>
        <p:sp>
          <p:nvSpPr>
            <p:cNvPr id="234" name="Line 9"/>
            <p:cNvSpPr/>
            <p:nvPr/>
          </p:nvSpPr>
          <p:spPr>
            <a:xfrm flipV="1">
              <a:off x="6477120" y="2666520"/>
              <a:ext cx="1371600" cy="38124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10800000">
              <a:off x="6477120" y="2666520"/>
              <a:ext cx="13716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6" name="Text Box 10"/>
          <p:cNvSpPr/>
          <p:nvPr/>
        </p:nvSpPr>
        <p:spPr>
          <a:xfrm>
            <a:off x="7543800" y="2133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恬淡自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1148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胸襟开阔、率真自然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419720" y="4419720"/>
            <a:ext cx="533160" cy="304560"/>
            <a:chOff x="4419720" y="4419720"/>
            <a:chExt cx="533160" cy="304560"/>
          </a:xfrm>
        </p:grpSpPr>
        <p:sp>
          <p:nvSpPr>
            <p:cNvPr id="239" name="Line 12"/>
            <p:cNvSpPr/>
            <p:nvPr/>
          </p:nvSpPr>
          <p:spPr>
            <a:xfrm>
              <a:off x="4419720" y="4419720"/>
              <a:ext cx="533160" cy="30456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4419720" y="4419720"/>
              <a:ext cx="5331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09880" y="4800240"/>
            <a:ext cx="990720" cy="304920"/>
            <a:chOff x="3809880" y="4800240"/>
            <a:chExt cx="990720" cy="304920"/>
          </a:xfrm>
        </p:grpSpPr>
        <p:sp>
          <p:nvSpPr>
            <p:cNvPr id="242" name="Line 14"/>
            <p:cNvSpPr/>
            <p:nvPr/>
          </p:nvSpPr>
          <p:spPr>
            <a:xfrm flipV="1">
              <a:off x="3809880" y="4800240"/>
              <a:ext cx="990720" cy="304920"/>
            </a:xfrm>
            <a:prstGeom prst="line">
              <a:avLst/>
            </a:prstGeom>
            <a:ln w="28440">
              <a:solidFill>
                <a:srgbClr val="84004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 rot="10800000">
              <a:off x="3809880" y="480024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4" name="Text Box 15"/>
          <p:cNvSpPr/>
          <p:nvPr/>
        </p:nvSpPr>
        <p:spPr>
          <a:xfrm>
            <a:off x="518148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开朗乐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4952880" y="54100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耿直率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457200" y="3429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40042"/>
                </a:solidFill>
                <a:latin typeface="Times New Roman"/>
              </a:rPr>
              <a:t>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Picture 23" descr="AG00327_"/>
          <p:cNvPicPr/>
          <p:nvPr/>
        </p:nvPicPr>
        <p:blipFill>
          <a:blip r:embed="rId1"/>
          <a:stretch/>
        </p:blipFill>
        <p:spPr>
          <a:xfrm>
            <a:off x="7924680" y="6291360"/>
            <a:ext cx="755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j0229389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619280" y="1768320"/>
            <a:ext cx="59878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总结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不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（否定句）的作用：　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　　作者言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“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不</a:t>
            </a:r>
            <a:r>
              <a:rPr b="1" i="1" lang="zh-CN" sz="3200" spc="-1" strike="noStrike">
                <a:solidFill>
                  <a:srgbClr val="9c004e"/>
                </a:solidFill>
                <a:latin typeface="Arial"/>
                <a:ea typeface="幼圆"/>
              </a:rPr>
              <a:t>”</a:t>
            </a:r>
            <a:r>
              <a:rPr b="1" i="1" lang="zh-CN" sz="3200" spc="-1" strike="noStrike">
                <a:solidFill>
                  <a:srgbClr val="9c004e"/>
                </a:solidFill>
                <a:latin typeface="幼圆"/>
                <a:ea typeface="幼圆"/>
              </a:rPr>
              <a:t>，正突出了自己与世俗的格格不入，突出了他对高洁志趣和人格的坚持，不仅让读者对他的与众不同击节叹赏，也使文章笔墨精粹而笔调诙谐，读来生动活泼，引人入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95280" y="3398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c004e"/>
                </a:solidFill>
                <a:latin typeface="幼圆"/>
                <a:ea typeface="幼圆"/>
              </a:rPr>
              <a:t>本文在写作上的最大特点是多用否定句</a:t>
            </a:r>
            <a:r>
              <a:rPr b="1" i="1" lang="en-US" sz="3600" spc="-1" strike="noStrike">
                <a:solidFill>
                  <a:srgbClr val="9c004e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228600" y="609480"/>
            <a:ext cx="861048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采菊东篱下，悠然见南山。</a:t>
            </a:r>
            <a:endParaRPr b="1" lang="en-US" sz="44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2514600"/>
            <a:ext cx="4647960" cy="3764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华文中宋"/>
              </a:rPr>
              <a:t>                 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饮酒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结庐在人境，而无车马喧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问君何能尔，心远地自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采菊东篱下，悠然见南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山气日夕佳，飞鸟相与还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  <a:ea typeface="华文中宋"/>
              </a:rPr>
              <a:t>此中有真意，欲辨已忘言</a:t>
            </a:r>
            <a:r>
              <a:rPr b="1" lang="zh-CN" sz="2800" spc="-1" strike="noStrike">
                <a:solidFill>
                  <a:srgbClr val="74003a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Object 4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2895480" cy="3962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6550200" y="5950080"/>
            <a:ext cx="25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陶渊明（晋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"/>
                            </p:stCondLst>
                            <p:childTnLst>
                              <p:par>
                                <p:cTn id="43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800"/>
                            </p:stCondLst>
                            <p:childTnLst>
                              <p:par>
                                <p:cTn id="43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j02293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7157880" y="1989000"/>
            <a:ext cx="1521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归园田居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62800" y="1905120"/>
            <a:ext cx="7404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种豆南山下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草盛豆苗稀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晨兴理荒秽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带月荷锄归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道狭草木长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夕露沾我衣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衣沾不足惜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但使愿无违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8,0,116)"/>
                                      </p:to>
                                    </p:se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8,0,116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8" descr="FD00346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"/>
          <p:cNvSpPr/>
          <p:nvPr/>
        </p:nvSpPr>
        <p:spPr>
          <a:xfrm>
            <a:off x="533520" y="68580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补充练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１、解释字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２、用原文来概括五柳先生的六种人生态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　　对读书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　　　对作客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　　对家境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　　　对著文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　　对得失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　　　对贫富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、背诵课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599840" y="2971440"/>
            <a:ext cx="5258160" cy="152280"/>
            <a:chOff x="1599840" y="2971440"/>
            <a:chExt cx="5258160" cy="152280"/>
          </a:xfrm>
        </p:grpSpPr>
        <p:sp>
          <p:nvSpPr>
            <p:cNvPr id="258" name="Line 4"/>
            <p:cNvSpPr/>
            <p:nvPr/>
          </p:nvSpPr>
          <p:spPr>
            <a:xfrm flipV="1">
              <a:off x="1600200" y="2971440"/>
              <a:ext cx="525780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 rot="10800000">
              <a:off x="1599840" y="2971440"/>
              <a:ext cx="52578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0" name="Rectangle 5"/>
          <p:cNvSpPr/>
          <p:nvPr/>
        </p:nvSpPr>
        <p:spPr>
          <a:xfrm>
            <a:off x="1066680" y="2971800"/>
            <a:ext cx="6782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990720" y="10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１、亦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详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其姓字（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1447920"/>
            <a:ext cx="5257800" cy="360"/>
            <a:chOff x="3886200" y="1447920"/>
            <a:chExt cx="5257800" cy="360"/>
          </a:xfrm>
        </p:grpSpPr>
        <p:sp>
          <p:nvSpPr>
            <p:cNvPr id="263" name="Line 5"/>
            <p:cNvSpPr/>
            <p:nvPr/>
          </p:nvSpPr>
          <p:spPr>
            <a:xfrm>
              <a:off x="3886200" y="144792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3886200" y="144792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5" name="Text Box 6"/>
          <p:cNvSpPr/>
          <p:nvPr/>
        </p:nvSpPr>
        <p:spPr>
          <a:xfrm>
            <a:off x="1066680" y="18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２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因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以为号焉   （　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066680" y="25146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３、不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甚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解        （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066680" y="3124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４、造饮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辄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尽        （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066680" y="3809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５、环堵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萧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然        （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066680" y="4495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６、箪瓢屡空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晏如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也（　　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1066680" y="5181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７、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戚戚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于贫贱 （   ）　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066680" y="5867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８、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汲汲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于富贵    （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886200" y="1905120"/>
            <a:ext cx="5257800" cy="360"/>
            <a:chOff x="3886200" y="1905120"/>
            <a:chExt cx="5257800" cy="360"/>
          </a:xfrm>
        </p:grpSpPr>
        <p:sp>
          <p:nvSpPr>
            <p:cNvPr id="273" name="Line 13"/>
            <p:cNvSpPr/>
            <p:nvPr/>
          </p:nvSpPr>
          <p:spPr>
            <a:xfrm>
              <a:off x="3886200" y="190512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886200" y="190512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886200" y="2286000"/>
            <a:ext cx="5257800" cy="360"/>
            <a:chOff x="3886200" y="2286000"/>
            <a:chExt cx="5257800" cy="360"/>
          </a:xfrm>
        </p:grpSpPr>
        <p:sp>
          <p:nvSpPr>
            <p:cNvPr id="276" name="Line 14"/>
            <p:cNvSpPr/>
            <p:nvPr/>
          </p:nvSpPr>
          <p:spPr>
            <a:xfrm>
              <a:off x="3886200" y="22860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886200" y="228600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886200" y="2743200"/>
            <a:ext cx="5257800" cy="360"/>
            <a:chOff x="3886200" y="2743200"/>
            <a:chExt cx="5257800" cy="360"/>
          </a:xfrm>
        </p:grpSpPr>
        <p:sp>
          <p:nvSpPr>
            <p:cNvPr id="279" name="Line 15"/>
            <p:cNvSpPr/>
            <p:nvPr/>
          </p:nvSpPr>
          <p:spPr>
            <a:xfrm>
              <a:off x="3886200" y="27432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886200" y="274320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962520" y="3124080"/>
            <a:ext cx="5257800" cy="360"/>
            <a:chOff x="3962520" y="3124080"/>
            <a:chExt cx="5257800" cy="360"/>
          </a:xfrm>
        </p:grpSpPr>
        <p:sp>
          <p:nvSpPr>
            <p:cNvPr id="282" name="Line 16"/>
            <p:cNvSpPr/>
            <p:nvPr/>
          </p:nvSpPr>
          <p:spPr>
            <a:xfrm>
              <a:off x="3962520" y="312408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962520" y="312408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24280" y="3657600"/>
            <a:ext cx="4724640" cy="360"/>
            <a:chOff x="4724280" y="3657600"/>
            <a:chExt cx="4724640" cy="360"/>
          </a:xfrm>
        </p:grpSpPr>
        <p:sp>
          <p:nvSpPr>
            <p:cNvPr id="285" name="Line 17"/>
            <p:cNvSpPr/>
            <p:nvPr/>
          </p:nvSpPr>
          <p:spPr>
            <a:xfrm>
              <a:off x="4724280" y="3657600"/>
              <a:ext cx="4724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4724280" y="3657600"/>
              <a:ext cx="472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962520" y="4038480"/>
            <a:ext cx="5257800" cy="360"/>
            <a:chOff x="3962520" y="4038480"/>
            <a:chExt cx="5257800" cy="360"/>
          </a:xfrm>
        </p:grpSpPr>
        <p:sp>
          <p:nvSpPr>
            <p:cNvPr id="288" name="Line 18"/>
            <p:cNvSpPr/>
            <p:nvPr/>
          </p:nvSpPr>
          <p:spPr>
            <a:xfrm>
              <a:off x="3962520" y="403848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962520" y="403848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191120" y="4572000"/>
            <a:ext cx="5257800" cy="360"/>
            <a:chOff x="4191120" y="4572000"/>
            <a:chExt cx="5257800" cy="360"/>
          </a:xfrm>
        </p:grpSpPr>
        <p:sp>
          <p:nvSpPr>
            <p:cNvPr id="291" name="Line 19"/>
            <p:cNvSpPr/>
            <p:nvPr/>
          </p:nvSpPr>
          <p:spPr>
            <a:xfrm>
              <a:off x="4191120" y="4572000"/>
              <a:ext cx="525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191120" y="457200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3" name="Text Box 22"/>
          <p:cNvSpPr/>
          <p:nvPr/>
        </p:nvSpPr>
        <p:spPr>
          <a:xfrm>
            <a:off x="1219320" y="380880"/>
            <a:ext cx="63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解释下列蓝色的字并翻译这个句子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144000" y="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附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762120" y="1371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　　自传，传记文的一种，是叙述作者自己生平经历的文章。一般来说，自传要介绍自己的字的姓名、籍贯、年龄、性格爱好及思想发展等等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6" name="Picture 6" descr="j0095722"/>
          <p:cNvPicPr/>
          <p:nvPr/>
        </p:nvPicPr>
        <p:blipFill>
          <a:blip r:embed="rId1"/>
          <a:stretch/>
        </p:blipFill>
        <p:spPr>
          <a:xfrm>
            <a:off x="5334120" y="4343400"/>
            <a:ext cx="792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BD05851_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"/>
          <p:cNvSpPr/>
          <p:nvPr/>
        </p:nvSpPr>
        <p:spPr>
          <a:xfrm>
            <a:off x="838080" y="9144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e"/>
                </a:solidFill>
                <a:latin typeface="Times New Roman"/>
              </a:rPr>
              <a:t>                                              </a:t>
            </a: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译文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五柳先生不知道是什么地方的人，也不清楚他的姓名和表字。因为住宅傍边有五棵柳树，就用它做了自己的号。他安安静静的，很少说话，不羡慕荣华利禄。喜欢读书，不过分在字句上下功夫，每当对书中意旨有所领会的时候。就高兴连饭都忘了吃。他有嗜酒的天性，家里穷，经常没有酒喝。亲戚朋友知道他有这种嗜好，有时摆了酒叫他来喝。他一来就要把酒何光，希望一定喝醉。喝醉了就回家去，并不装模作样，说走就走。简陋的居室里冷冷清清，遮不住风和阳光。粗布短衣上面打了很多补丁，饭篮子和瓢里经常是空的，可是他安之若素，经常写文章来消遣时光，从文中也稍微透露出自己的志趣。他从不把得失放在心上，这样过完了自己的一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004e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8229600" y="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40042"/>
                </a:solidFill>
                <a:latin typeface="Times New Roman"/>
              </a:rPr>
              <a:t>附</a:t>
            </a:r>
            <a:r>
              <a:rPr b="0" lang="en-US" sz="2400" spc="-1" strike="noStrike">
                <a:solidFill>
                  <a:srgbClr val="84004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BD05851_"/>
          <p:cNvPicPr/>
          <p:nvPr/>
        </p:nvPicPr>
        <p:blipFill>
          <a:blip r:embed="rId1"/>
          <a:stretch/>
        </p:blipFill>
        <p:spPr>
          <a:xfrm>
            <a:off x="1143000" y="76212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"/>
          <p:cNvSpPr/>
          <p:nvPr/>
        </p:nvSpPr>
        <p:spPr>
          <a:xfrm>
            <a:off x="2209680" y="1752480"/>
            <a:ext cx="5181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e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9c004e"/>
                </a:solidFill>
                <a:latin typeface="Times New Roman"/>
              </a:rPr>
              <a:t>赞曰：黔娄的妻子曾经说过：“不为贫贱而忧心忡忡，不热衷于发财做官。”从这句话看，他应该是五柳先生这类人吧？一边喝酒一边吟诗，为自己抱定的志向而感到无比快乐。他大概是无怀氏时候的百姓，或者是葛天氏治下的百姓吧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83059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40042"/>
                </a:solidFill>
                <a:latin typeface="Times New Roman"/>
              </a:rPr>
              <a:t>附</a:t>
            </a:r>
            <a:r>
              <a:rPr b="0" lang="en-US" sz="2400" spc="-1" strike="noStrike">
                <a:solidFill>
                  <a:srgbClr val="84004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9990-6705-4380-A66C-B467AFB71DDB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3"/>
          <p:cNvSpPr txBox="1"/>
          <p:nvPr/>
        </p:nvSpPr>
        <p:spPr>
          <a:xfrm>
            <a:off x="1371600" y="1905120"/>
            <a:ext cx="6172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五柳先生传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8" name="WordArt 8"/>
          <p:cNvSpPr txBox="1"/>
          <p:nvPr/>
        </p:nvSpPr>
        <p:spPr>
          <a:xfrm>
            <a:off x="6172200" y="5867280"/>
            <a:ext cx="25146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制作：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LL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4"/>
          <p:cNvSpPr/>
          <p:nvPr/>
        </p:nvSpPr>
        <p:spPr>
          <a:xfrm>
            <a:off x="7020000" y="191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Object 2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251160" cy="4962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4329720" y="457200"/>
            <a:ext cx="667800" cy="5943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840042"/>
                </a:solidFill>
                <a:latin typeface="Times New Roman"/>
                <a:ea typeface="楷体_GB2312"/>
              </a:rPr>
              <a:t>陶渊明，东晋著名诗人。东晋末年，社会黑暗，风气污浊，很多人不择手段追名逐利，社会上充满着虚伪与欺诈。陶渊明做过几任小官，因对官场不满，辞去官职，归隐田园，过着俭朴的生活。其诗多歌颂优美的自然景色和淳朴的农村生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7853040" y="1371600"/>
            <a:ext cx="911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学习目标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024240" y="838080"/>
            <a:ext cx="9115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熟练背诵全文。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037160" y="765000"/>
            <a:ext cx="16426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4003a"/>
                </a:solidFill>
                <a:latin typeface="Times New Roman"/>
                <a:ea typeface="华文行楷"/>
              </a:rPr>
              <a:t>体会本文写人的方法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597200" y="758880"/>
            <a:ext cx="911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c004e"/>
                </a:solidFill>
                <a:latin typeface="Times New Roman"/>
                <a:ea typeface="华文行楷"/>
              </a:rPr>
              <a:t>积累一些文言词语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174840" y="619200"/>
            <a:ext cx="91152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写作特点（句式）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文本框 8194"/>
          <p:cNvSpPr/>
          <p:nvPr/>
        </p:nvSpPr>
        <p:spPr>
          <a:xfrm>
            <a:off x="3419640" y="5950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c004e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1219320" y="533520"/>
            <a:ext cx="6476760" cy="23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文朗读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8" name="Picture 5" descr="AG00142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8720" y="5562720"/>
            <a:ext cx="761760" cy="952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143000" y="3200400"/>
            <a:ext cx="746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要求（检查预习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004e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、读准字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004e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、注意节奏、感情（一、二段感情的异同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c004e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c004e"/>
                </a:solidFill>
                <a:latin typeface="Times New Roman"/>
              </a:rPr>
              <a:t>、初步了解文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0,-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0,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78,0,-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0920" y="1268280"/>
            <a:ext cx="867564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c004e"/>
                </a:solidFill>
                <a:latin typeface="Times New Roman"/>
                <a:ea typeface="隶书"/>
              </a:rPr>
              <a:t>先生不知何许人也，亦不详其姓字，宅边有五柳树，因以为号焉。闲静少言，不慕荣利。好读书，不求甚解；每有会意，便欣然忘食。性嗜酒，家贫不能常得。亲旧知其如此，或置酒而招之；造饮辄尽，期在必醉。既醉而退，曾不吝情去留。环堵萧然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916360" y="333360"/>
            <a:ext cx="3124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c004e"/>
                </a:solidFill>
                <a:latin typeface="Times New Roman"/>
                <a:ea typeface="华文行楷"/>
              </a:rPr>
              <a:t>五柳先生</a:t>
            </a:r>
            <a:r>
              <a:rPr b="0" lang="zh-CN" sz="4400" spc="-1" strike="noStrike" u="sng">
                <a:solidFill>
                  <a:srgbClr val="9c004e"/>
                </a:solidFill>
                <a:uFillTx/>
                <a:latin typeface="Times New Roman"/>
                <a:ea typeface="华文行楷"/>
                <a:hlinkClick r:id="rId2"/>
              </a:rPr>
              <a:t>传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867280" y="4572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9c004e"/>
                </a:solidFill>
                <a:latin typeface="Times New Roman"/>
              </a:rPr>
              <a:t>zhuàn</a:t>
            </a:r>
            <a:r>
              <a:rPr b="1" lang="zh-CN" sz="3200" spc="-1" strike="noStrike">
                <a:solidFill>
                  <a:srgbClr val="9c004e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61800" y="765000"/>
            <a:ext cx="8458200" cy="143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74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不蔽风日；短褐穿结，箪瓢屡空，晏如也。常著文章自娱，颇示己志。忘怀得失，以此自终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赞曰：黔娄之妻有言：</a:t>
            </a:r>
            <a:r>
              <a:rPr b="1" lang="zh-CN" sz="4400" spc="-1" strike="noStrike">
                <a:solidFill>
                  <a:srgbClr val="9c004e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不戚戚于贫贱，不汲汲于富贵。</a:t>
            </a:r>
            <a:r>
              <a:rPr b="1" lang="zh-CN" sz="4400" spc="-1" strike="noStrike">
                <a:solidFill>
                  <a:srgbClr val="9c004e"/>
                </a:solidFill>
                <a:latin typeface="Times New Roman"/>
                <a:ea typeface="隶书"/>
              </a:rPr>
              <a:t>”</a:t>
            </a:r>
            <a:r>
              <a:rPr b="1" lang="zh-CN" sz="4400" spc="-1" strike="noStrike">
                <a:solidFill>
                  <a:srgbClr val="9c004e"/>
                </a:solidFill>
                <a:latin typeface="隶书"/>
                <a:ea typeface="隶书"/>
              </a:rPr>
              <a:t>其言，兹若人之俦乎？衔觞赋诗，以乐其志。无怀氏之民欤？葛天氏之民欤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J0078945"/>
          <p:cNvPicPr/>
          <p:nvPr/>
        </p:nvPicPr>
        <p:blipFill>
          <a:blip r:embed="rId1"/>
          <a:stretch/>
        </p:blipFill>
        <p:spPr>
          <a:xfrm>
            <a:off x="1981080" y="609480"/>
            <a:ext cx="7162920" cy="624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AG00169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6093000"/>
            <a:ext cx="1403280" cy="765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7164360" y="6491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Comic Sans MS"/>
              </a:rPr>
              <a:t>Ne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 rot="10200">
            <a:off x="0" y="1334880"/>
            <a:ext cx="502776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嗜    辄    吝   褐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箪 　汲　俦     觞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瓢　屡　 娄　 欤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57600" y="27828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572b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685800" y="1487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Shì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752480" y="1487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zh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2666880" y="1487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lì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657600" y="1411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h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09480" y="31640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dà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905120" y="324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j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2590920" y="3240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Arial"/>
              </a:rPr>
              <a:t>chó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09480" y="4840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piá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1752480" y="484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l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2743200" y="4840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ló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3886200" y="47642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40042"/>
                </a:solidFill>
                <a:latin typeface="Times New Roman"/>
              </a:rPr>
              <a:t>y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295280" y="457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音比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SN00932_[1].mid" descr=""/>
          <p:cNvPicPr/>
          <p:nvPr/>
        </p:nvPicPr>
        <p:blipFill>
          <a:blip r:embed="rId3"/>
          <a:stretch/>
        </p:blipFill>
        <p:spPr>
          <a:xfrm>
            <a:off x="8172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7443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026"/>
          <p:cNvSpPr/>
          <p:nvPr/>
        </p:nvSpPr>
        <p:spPr>
          <a:xfrm>
            <a:off x="611280" y="620640"/>
            <a:ext cx="79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004e"/>
                </a:solidFill>
                <a:latin typeface="Times New Roman"/>
                <a:ea typeface="隶书"/>
              </a:rPr>
              <a:t>翻译、学习时注意下列几个问题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27"/>
          <p:cNvSpPr/>
          <p:nvPr/>
        </p:nvSpPr>
        <p:spPr>
          <a:xfrm>
            <a:off x="826920" y="1676520"/>
            <a:ext cx="7156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003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74003a"/>
                </a:solidFill>
                <a:latin typeface="Times New Roman"/>
              </a:rPr>
              <a:t>、概括第一、二段的内容，体会朗读感情轻微变化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003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74003a"/>
                </a:solidFill>
                <a:latin typeface="Times New Roman"/>
              </a:rPr>
              <a:t>、文章中写了五柳先生几方面？从文中找出表现五柳先生着几方面的句子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7T08:11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12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