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media/image24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BE9-FA41-4089-95A7-BA0B28A4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BBA-7964-4B7C-8AAC-F12D817B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6E4-104E-4ED6-99B2-207CA23D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BDB-C9C7-4DFF-BCD5-AC63A63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C55-5B07-49AF-AB1E-79C78D2F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50CE-3DDA-46E3-9EB2-F19C640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B801-FA09-4EE9-A40A-195FCA2D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F39-A60A-40D3-9367-A08F35E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3E02-E4B4-40C7-8C00-84B460C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211-4C70-408F-912C-8A995055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6C21-8DAD-49C1-BC95-52C59553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452-D83C-425E-B4A4-77DD6D2C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51B6-25A4-42B2-ADC1-87BBF58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4F35-74FF-4FEA-8A3A-9E7A82F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0BF-958E-490F-9E22-BF68B7D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A13-D492-4234-AB23-B8FBE1D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473-5AA9-492A-8C84-F43D850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284-0CC1-4FBA-9011-0FC80FCE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14D-74A9-44AE-9557-CFFB3A6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0CD-2307-42CB-A65B-4237DD9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93A-9D79-4B11-B50A-6A69A45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CF5-DB36-4555-96CF-8322808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1EE-DD3D-4ACE-963A-95C0963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899-A76D-4A5E-9DBE-5032569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3ECD-71BD-4A05-A815-F7CE569A1B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D72B-BDEE-4E21-A637-BEFF62A73A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353880" y="2060640"/>
            <a:ext cx="843624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们的班队干部选举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73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</a:rPr>
              <a:t>人教新课标 五年级品德与社会上册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9"/>
          <p:cNvSpPr/>
          <p:nvPr/>
        </p:nvSpPr>
        <p:spPr>
          <a:xfrm>
            <a:off x="2369160" y="190512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选谁当干部，自然有我们的标准，那么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一般选什么样的人当干部呢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6" name="Picture 24" descr="23-1"/>
          <p:cNvPicPr/>
          <p:nvPr/>
        </p:nvPicPr>
        <p:blipFill>
          <a:blip r:embed="rId2"/>
          <a:stretch/>
        </p:blipFill>
        <p:spPr>
          <a:xfrm>
            <a:off x="2819520" y="3429000"/>
            <a:ext cx="26240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5"/>
          <p:cNvSpPr/>
          <p:nvPr/>
        </p:nvSpPr>
        <p:spPr>
          <a:xfrm>
            <a:off x="4952880" y="2819520"/>
            <a:ext cx="3075120" cy="1447560"/>
          </a:xfrm>
          <a:prstGeom prst="cloudCallout">
            <a:avLst>
              <a:gd name="adj1" fmla="val -50981"/>
              <a:gd name="adj2" fmla="val 6875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　　我选学习成绩好的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369160" y="190512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选谁当干部，自然有我们的标准，那么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一般选什么样的人当干部呢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523880" y="2743200"/>
            <a:ext cx="3962520" cy="2819520"/>
          </a:xfrm>
          <a:prstGeom prst="cloudCallout">
            <a:avLst>
              <a:gd name="adj1" fmla="val 66666"/>
              <a:gd name="adj2" fmla="val 16833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　　我认为干部不一定要学习成绩好，而是要有能力用途干部工作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1" name="Picture 6" descr="23-2"/>
          <p:cNvPicPr/>
          <p:nvPr/>
        </p:nvPicPr>
        <p:blipFill>
          <a:blip r:embed="rId3"/>
          <a:stretch/>
        </p:blipFill>
        <p:spPr>
          <a:xfrm>
            <a:off x="5105520" y="3048120"/>
            <a:ext cx="32493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369160" y="190512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选谁当干部，自然有我们的标准，那么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一般选什么样的人当干部呢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724280" y="2819520"/>
            <a:ext cx="3200400" cy="2057400"/>
          </a:xfrm>
          <a:prstGeom prst="cloudCallout">
            <a:avLst>
              <a:gd name="adj1" fmla="val -58236"/>
              <a:gd name="adj2" fmla="val 48921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我选关心同学，热心集体事情的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5" name="Picture 6" descr="23-3"/>
          <p:cNvPicPr/>
          <p:nvPr/>
        </p:nvPicPr>
        <p:blipFill>
          <a:blip r:embed="rId3"/>
          <a:stretch/>
        </p:blipFill>
        <p:spPr>
          <a:xfrm>
            <a:off x="2057400" y="2895480"/>
            <a:ext cx="2432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2369160" y="190512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选谁当干部，自然有我们的标准，那么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一般选什么样的人当干部呢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676520" y="2895480"/>
            <a:ext cx="2819160" cy="1981440"/>
          </a:xfrm>
          <a:prstGeom prst="cloudCallout">
            <a:avLst>
              <a:gd name="adj1" fmla="val 61995"/>
              <a:gd name="adj2" fmla="val 4903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我选不自私，不摆干部架子的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9" name="Picture 6" descr="23-4"/>
          <p:cNvPicPr/>
          <p:nvPr/>
        </p:nvPicPr>
        <p:blipFill>
          <a:blip r:embed="rId3"/>
          <a:stretch/>
        </p:blipFill>
        <p:spPr>
          <a:xfrm>
            <a:off x="4572000" y="3352680"/>
            <a:ext cx="27655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909800" y="2852640"/>
            <a:ext cx="46670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看他们讨论得多热烈。大家选干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部的标准不完全一样。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们也谈谈自己选干部的标准，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并谈谈你的理由。 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547640" y="1989000"/>
            <a:ext cx="44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68360" y="177336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</a:rPr>
              <a:t>思考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】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</a:rPr>
              <a:t>我心目中的班队干部</a:t>
            </a:r>
            <a:endParaRPr b="1" lang="en-US" sz="40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思考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 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】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假如我当班干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24000" y="3068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假如你要竞选班队干部，你会发表怎样的竞选宣言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233440" y="2360520"/>
            <a:ext cx="466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在干部选举中，我们每个同学都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有选举权和被选举权。我们怎样行使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好自己的权利？ 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4-1"/>
          <p:cNvPicPr/>
          <p:nvPr/>
        </p:nvPicPr>
        <p:blipFill>
          <a:blip r:embed="rId2"/>
          <a:stretch/>
        </p:blipFill>
        <p:spPr>
          <a:xfrm>
            <a:off x="1752480" y="2743200"/>
            <a:ext cx="3886200" cy="36972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4038480" y="1600200"/>
            <a:ext cx="3200400" cy="1523880"/>
          </a:xfrm>
          <a:prstGeom prst="cloudCallout">
            <a:avLst>
              <a:gd name="adj1" fmla="val -35268"/>
              <a:gd name="adj2" fmla="val 67291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刘佳跟我最好，我选她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911240" y="420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24-2"/>
          <p:cNvPicPr/>
          <p:nvPr/>
        </p:nvPicPr>
        <p:blipFill>
          <a:blip r:embed="rId2"/>
          <a:stretch/>
        </p:blipFill>
        <p:spPr>
          <a:xfrm>
            <a:off x="1828800" y="3348000"/>
            <a:ext cx="5562720" cy="31291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3657600" y="1752480"/>
            <a:ext cx="3867120" cy="1524240"/>
          </a:xfrm>
          <a:prstGeom prst="cloudCallout">
            <a:avLst>
              <a:gd name="adj1" fmla="val -13750"/>
              <a:gd name="adj2" fmla="val 84791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投我一票吧，我也投你一票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4-3"/>
          <p:cNvPicPr/>
          <p:nvPr/>
        </p:nvPicPr>
        <p:blipFill>
          <a:blip r:embed="rId2"/>
          <a:stretch/>
        </p:blipFill>
        <p:spPr>
          <a:xfrm>
            <a:off x="3886200" y="3276720"/>
            <a:ext cx="3581280" cy="3260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81080" y="2209680"/>
            <a:ext cx="3048120" cy="1524240"/>
          </a:xfrm>
          <a:prstGeom prst="cloudCallout">
            <a:avLst>
              <a:gd name="adj1" fmla="val 43384"/>
              <a:gd name="adj2" fmla="val 69898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　我投自己一票，可以吗？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"/>
          <p:cNvSpPr/>
          <p:nvPr/>
        </p:nvSpPr>
        <p:spPr>
          <a:xfrm>
            <a:off x="3045240" y="2708280"/>
            <a:ext cx="2954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入队以后，我们参加过多次干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部的选举。我们的少先队干部是怎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样选举出来的呢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1763640" y="1773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</a:rPr>
              <a:t>思考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1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</a:rPr>
              <a:t>】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</a:rPr>
              <a:t>怎样选干部</a:t>
            </a:r>
            <a:endParaRPr b="1" lang="en-US" sz="40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490840" y="2133720"/>
            <a:ext cx="442296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这几个同学是不是正确行使了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自己的权利？你们在选举干部时是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怎样做的？你们对干部选举有什么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意见和建议？大家一起来说一说。 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30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38"/>
          <p:cNvSpPr/>
          <p:nvPr/>
        </p:nvSpPr>
        <p:spPr>
          <a:xfrm>
            <a:off x="2111760" y="2362320"/>
            <a:ext cx="47041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新华街小学五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）进行班干部选举改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革试验，人人轮流做干部，一月一换，以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便每个同学都能参与班级管理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3200400" y="1752480"/>
            <a:ext cx="5486400" cy="2819520"/>
          </a:xfrm>
          <a:prstGeom prst="cloudCallout">
            <a:avLst>
              <a:gd name="adj1" fmla="val -43837"/>
              <a:gd name="adj2" fmla="val 51069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　　干部应该由表现好的同学担任。如果一个表现不如我的同学当了干部，他管我，我就不服气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44" name="Picture 5" descr="25-1"/>
          <p:cNvPicPr/>
          <p:nvPr/>
        </p:nvPicPr>
        <p:blipFill>
          <a:blip r:embed="rId3"/>
          <a:stretch/>
        </p:blipFill>
        <p:spPr>
          <a:xfrm>
            <a:off x="1295280" y="2971800"/>
            <a:ext cx="2274840" cy="34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25-2"/>
          <p:cNvPicPr/>
          <p:nvPr/>
        </p:nvPicPr>
        <p:blipFill>
          <a:blip r:embed="rId2"/>
          <a:stretch/>
        </p:blipFill>
        <p:spPr>
          <a:xfrm>
            <a:off x="5562720" y="2514600"/>
            <a:ext cx="2419200" cy="36021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914400" y="1981080"/>
            <a:ext cx="4572000" cy="3276720"/>
          </a:xfrm>
          <a:prstGeom prst="cloudCallout">
            <a:avLst>
              <a:gd name="adj1" fmla="val 68648"/>
              <a:gd name="adj2" fmla="val -15842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　　人人当干部，大家都可以得到锻炼。再说，有些淘气的同学，当了干部后有很大进步。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25-3"/>
          <p:cNvPicPr/>
          <p:nvPr/>
        </p:nvPicPr>
        <p:blipFill>
          <a:blip r:embed="rId2"/>
          <a:stretch/>
        </p:blipFill>
        <p:spPr>
          <a:xfrm>
            <a:off x="2590920" y="1752480"/>
            <a:ext cx="35337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5-4"/>
          <p:cNvPicPr/>
          <p:nvPr/>
        </p:nvPicPr>
        <p:blipFill>
          <a:blip r:embed="rId2"/>
          <a:stretch/>
        </p:blipFill>
        <p:spPr>
          <a:xfrm>
            <a:off x="2590920" y="1752480"/>
            <a:ext cx="355104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580480" y="2305080"/>
            <a:ext cx="393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你赞同这种干部选举的做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法吗？请发表一下自己的意见，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并说说理由。 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6"/>
          <p:cNvSpPr/>
          <p:nvPr/>
        </p:nvSpPr>
        <p:spPr>
          <a:xfrm>
            <a:off x="2642760" y="2625840"/>
            <a:ext cx="35946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通过民主选举，一些同学当上了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干部。但是，当干部是为了什么呢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下面是几个干部的想法，你赞同谁的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想法，为什么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106000" y="20048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当干部是为了什么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:\work\大全集\品德与社会\五年级上(二)\!!!我们的班队干部选举\26-1.jpg"/>
          <p:cNvPicPr/>
          <p:nvPr/>
        </p:nvPicPr>
        <p:blipFill>
          <a:blip r:embed="rId2"/>
          <a:stretch/>
        </p:blipFill>
        <p:spPr>
          <a:xfrm>
            <a:off x="685800" y="2001960"/>
            <a:ext cx="769608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D:\work\大全集\品德与社会\五年级上(二)\!!!我们的班队干部选举\26-2.jpg"/>
          <p:cNvPicPr/>
          <p:nvPr/>
        </p:nvPicPr>
        <p:blipFill>
          <a:blip r:embed="rId2"/>
          <a:stretch/>
        </p:blipFill>
        <p:spPr>
          <a:xfrm>
            <a:off x="1523880" y="1676520"/>
            <a:ext cx="6172200" cy="48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22-1"/>
          <p:cNvPicPr/>
          <p:nvPr/>
        </p:nvPicPr>
        <p:blipFill>
          <a:blip r:embed="rId2"/>
          <a:stretch/>
        </p:blipFill>
        <p:spPr>
          <a:xfrm>
            <a:off x="1752480" y="1752480"/>
            <a:ext cx="586764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41" descr="D:\work\大全集\品德与社会\五年级上(二)\!!!我们的班队干部选举\26-3.jpg"/>
          <p:cNvPicPr/>
          <p:nvPr/>
        </p:nvPicPr>
        <p:blipFill>
          <a:blip r:embed="rId2"/>
          <a:stretch/>
        </p:blipFill>
        <p:spPr>
          <a:xfrm>
            <a:off x="2697120" y="1219320"/>
            <a:ext cx="3741840" cy="54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work\大全集\品德与社会\五年级上(二)\!!!我们的班队干部选举\26-4.jpg"/>
          <p:cNvPicPr/>
          <p:nvPr/>
        </p:nvPicPr>
        <p:blipFill>
          <a:blip r:embed="rId2"/>
          <a:stretch/>
        </p:blipFill>
        <p:spPr>
          <a:xfrm>
            <a:off x="609480" y="2228760"/>
            <a:ext cx="808200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6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9"/>
          <p:cNvSpPr/>
          <p:nvPr/>
        </p:nvSpPr>
        <p:spPr>
          <a:xfrm>
            <a:off x="1790640" y="2651040"/>
            <a:ext cx="5600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当上干部，就要肩负一些组织管理职责。那么，应该怎样看待和履行干部的职责呢？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work\大全集\品德与社会\五年级上(二)\!!!我们的班队干部选举\27-1.png"/>
          <p:cNvPicPr/>
          <p:nvPr/>
        </p:nvPicPr>
        <p:blipFill>
          <a:blip r:embed="rId2"/>
          <a:stretch/>
        </p:blipFill>
        <p:spPr>
          <a:xfrm>
            <a:off x="1523880" y="2666880"/>
            <a:ext cx="4233960" cy="39625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/>
          <p:cNvSpPr/>
          <p:nvPr/>
        </p:nvSpPr>
        <p:spPr>
          <a:xfrm>
            <a:off x="3886200" y="1676520"/>
            <a:ext cx="4114800" cy="802080"/>
          </a:xfrm>
          <a:prstGeom prst="cloudCallout">
            <a:avLst>
              <a:gd name="adj1" fmla="val -32726"/>
              <a:gd name="adj2" fmla="val 26475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我忘记写了。咱俩是好朋友，你就通融通融吧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219320" y="1984320"/>
            <a:ext cx="1676160" cy="802080"/>
          </a:xfrm>
          <a:prstGeom prst="cloudCallout">
            <a:avLst>
              <a:gd name="adj1" fmla="val 23175"/>
              <a:gd name="adj2" fmla="val 9624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D:\work\大全集\品德与社会\五年级上(二)\!!!我们的班队干部选举\27-2.png"/>
          <p:cNvPicPr/>
          <p:nvPr/>
        </p:nvPicPr>
        <p:blipFill>
          <a:blip r:embed="rId2"/>
          <a:stretch/>
        </p:blipFill>
        <p:spPr>
          <a:xfrm>
            <a:off x="1523880" y="1905120"/>
            <a:ext cx="4256280" cy="46479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4800600" y="4038480"/>
            <a:ext cx="3657600" cy="1460160"/>
          </a:xfrm>
          <a:prstGeom prst="cloudCallout">
            <a:avLst>
              <a:gd name="adj1" fmla="val -73953"/>
              <a:gd name="adj2" fmla="val 6597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怎么那么凶，不就是个中队长吗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74" name="文本框 8199"/>
          <p:cNvSpPr/>
          <p:nvPr/>
        </p:nvSpPr>
        <p:spPr>
          <a:xfrm>
            <a:off x="2085840" y="689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D:\work\大全集\品德与社会\五年级上(二)\!!!我们的班队干部选举\27-3.png"/>
          <p:cNvPicPr/>
          <p:nvPr/>
        </p:nvPicPr>
        <p:blipFill>
          <a:blip r:embed="rId2"/>
          <a:stretch/>
        </p:blipFill>
        <p:spPr>
          <a:xfrm>
            <a:off x="3003480" y="3138480"/>
            <a:ext cx="3092400" cy="349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>
            <a:off x="5334120" y="1162080"/>
            <a:ext cx="3657600" cy="802800"/>
          </a:xfrm>
          <a:prstGeom prst="cloudCallout">
            <a:avLst>
              <a:gd name="adj1" fmla="val -35467"/>
              <a:gd name="adj2" fmla="val 33735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班里就只有一副拍子，既然归我保管，我要先玩儿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82680" y="1752480"/>
            <a:ext cx="4037040" cy="802440"/>
          </a:xfrm>
          <a:prstGeom prst="cloudCallout">
            <a:avLst>
              <a:gd name="adj1" fmla="val 18726"/>
              <a:gd name="adj2" fmla="val 28210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体委，我们几个女生想借一下乒乓球拍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362320" y="1905120"/>
            <a:ext cx="4566960" cy="8312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干部是大家选出来的，没有任何特殊的权利，只有为大家服务的职责。当上干部就意味着比其他同学多了一份责任，多了一些为大家服务和锻炼自己的机会。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80" name="Picture 3" descr="F:\品德\PPT背景\02.gif"/>
          <p:cNvPicPr/>
          <p:nvPr/>
        </p:nvPicPr>
        <p:blipFill>
          <a:blip r:embed="rId2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7386-9250-4438-B4B9-09B191645ECC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F:\品德\PPT背景\04.gif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1116000" y="220500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说一说，你觉得当干部是为了什么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应该怎样看待和履行干部的职责？ 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2-2"/>
          <p:cNvPicPr/>
          <p:nvPr/>
        </p:nvPicPr>
        <p:blipFill>
          <a:blip r:embed="rId2"/>
          <a:stretch/>
        </p:blipFill>
        <p:spPr>
          <a:xfrm>
            <a:off x="1676520" y="1752480"/>
            <a:ext cx="58672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2-3"/>
          <p:cNvPicPr/>
          <p:nvPr/>
        </p:nvPicPr>
        <p:blipFill>
          <a:blip r:embed="rId2"/>
          <a:stretch/>
        </p:blipFill>
        <p:spPr>
          <a:xfrm>
            <a:off x="1676520" y="1752480"/>
            <a:ext cx="58672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4"/>
          <p:cNvSpPr/>
          <p:nvPr/>
        </p:nvSpPr>
        <p:spPr>
          <a:xfrm>
            <a:off x="298764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5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22-4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3"/>
          <p:cNvPicPr/>
          <p:nvPr/>
        </p:nvPicPr>
        <p:blipFill>
          <a:blip r:embed="rId1"/>
          <a:stretch/>
        </p:blipFill>
        <p:spPr>
          <a:xfrm>
            <a:off x="714240" y="809640"/>
            <a:ext cx="2422800" cy="6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2-5"/>
          <p:cNvPicPr/>
          <p:nvPr/>
        </p:nvPicPr>
        <p:blipFill>
          <a:blip r:embed="rId2"/>
          <a:stretch/>
        </p:blipFill>
        <p:spPr>
          <a:xfrm>
            <a:off x="1600200" y="1557360"/>
            <a:ext cx="58672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小孩"/>
          <p:cNvPicPr/>
          <p:nvPr/>
        </p:nvPicPr>
        <p:blipFill>
          <a:blip r:embed="rId2"/>
          <a:stretch/>
        </p:blipFill>
        <p:spPr>
          <a:xfrm>
            <a:off x="5867280" y="3581280"/>
            <a:ext cx="194328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1143000" y="1828800"/>
            <a:ext cx="5029200" cy="2819520"/>
          </a:xfrm>
          <a:prstGeom prst="cloudCallout">
            <a:avLst>
              <a:gd name="adj1" fmla="val 47222"/>
              <a:gd name="adj2" fmla="val 543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什么要这样选干部呢？可不可以由老师直接指定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295280" y="2286000"/>
            <a:ext cx="6477120" cy="304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dc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每个少先队员都是少先队组织的主人，在队里都有选举权和被选举权。队干部的任职要充分尊重广大少先队员的意愿，严格实行队干部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主选举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，禁止由成人指定或变相指定队干部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49Z</dcterms:modified>
  <cp:revision>1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