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375-EA0F-4819-B797-44D6C7F6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3E7-B480-49BA-BAC6-D8C0F773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6A8-1338-4F09-ACF9-F82DEA7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59-33AF-4B99-895E-1BD4E43A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1CC-DB8D-44DE-AFB5-8190A4CE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2DB7-5DAD-4CE2-9E2C-2138957B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FF35-F2F9-4327-A047-0F20F73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34A8-8C78-4669-90D4-BD0B4128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28EB-E157-4B74-82B8-A7FA7440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AAA8-7597-41DA-8C3D-D5B3F01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A237-728B-4053-9633-AF60253E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C44-9C6F-479E-8D68-326AC4FF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FE4-CAED-4118-98DF-CE2E5D30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D6BE-872B-4219-B369-44C719B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C1DF-D7B3-4D8C-829B-9F8F24D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5CE9-26E0-45C5-9630-3BA16BCD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5971-C527-429B-9E94-482A4805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DA60-F9FB-46AA-BCD4-3507FBC9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8727-1EBF-4C98-83D8-DC7D34BF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CAC8-B01F-4E6E-82C9-F57AA0D1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4286-7030-4513-983D-770C88A7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19CEB-4F9C-4343-A673-E086309C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F7A8-163E-4E21-A118-C47C2205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8929-F6EA-480B-8134-3D5E656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BFA59-DD60-46AD-965A-E1BC1C4B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8FA71-AD33-408A-A0BE-3511B28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D686-F4A7-4BB3-8243-16B25FFD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666DA-6077-489A-87B7-7DD87DB5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89EED-D75E-4707-B6B2-24AECECD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79E6-9819-4143-B0D7-ABF23624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6655-CBB2-4D2A-91A6-52A03C5E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50367-05BE-4FA7-84DE-DF27FF19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7BE05-2CC5-45C1-ADD5-6B962AC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A55-7E38-4F46-860B-31CEAD0A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D050-A2B0-4464-A3BC-2E038324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B6D53-D1E6-47F6-A5E4-51ABC2C1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BC717-C8D7-4D58-A874-323AEF3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9F84-8139-4EF6-B135-22835CE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61C63-F8FF-4275-8B3B-FC616D1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3D21-ED52-461B-B96A-F524F8A2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3ABB2-DE02-4B90-90D7-86503818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E1D0B-29ED-4DC8-9BEA-C9A86329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0D5A8-6FE2-488E-8C64-095CF988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73D5B-66DC-48A8-8117-0D32DAB3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818-5142-425F-9A15-78863BB2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C17F-C7B8-420D-BB2E-32124893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DB460-98DB-4019-8F01-D23A50E7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147E-D976-4612-88B8-04DA5224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BA27-8990-4515-98E1-6024CC38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19BFC-D5DA-4529-B13E-30E0BBD1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D321-A031-4FEC-9766-1AC1601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D4A3-6422-4F4B-97F7-EC2CEF0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32CF-493C-46D2-8874-84ABB3FD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0D651-94F3-4C0B-B541-007F0EB0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9F00E-B4A6-471B-90EB-58703D8E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BB8-FA2A-4739-8DF4-D8BD936A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594F8-6E2E-40C8-8375-25BD22DE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453-EA18-473D-83B8-77E64CE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A241-12E1-4CDC-85A4-2A5F6EB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D08-DFB9-434D-A60C-D3ACA4B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0F6F-6557-4D82-84B8-2D9E5C4CD84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887-C96C-4705-A1F4-DFBF9F5BC4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10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1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Oval 13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CDB-A609-4D4C-92C5-0F360487FA0C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6" descr=""/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7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Oval 9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6" descr=""/>
          <p:cNvPicPr/>
          <p:nvPr/>
        </p:nvPicPr>
        <p:blipFill>
          <a:blip r:embed="rId6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7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Oval 9" descr=""/>
          <p:cNvPicPr/>
          <p:nvPr/>
        </p:nvPicPr>
        <p:blipFill>
          <a:blip r:embed="rId8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B8F5-7D1D-4ADE-B742-9D392434A2D9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Rectangle 7" descr=""/>
          <p:cNvPicPr/>
          <p:nvPr/>
        </p:nvPicPr>
        <p:blipFill>
          <a:blip r:embed="rId3"/>
          <a:stretch/>
        </p:blipFill>
        <p:spPr>
          <a:xfrm>
            <a:off x="0" y="3867120"/>
            <a:ext cx="9144000" cy="299088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38671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Oval 10" descr="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65040" indent="5493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639720" indent="2746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91440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206360" indent="-291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206360" indent="-29196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61E-27ED-48D0-8938-001A9D9870EE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5"/>
          <p:cNvSpPr txBox="1"/>
          <p:nvPr/>
        </p:nvSpPr>
        <p:spPr>
          <a:xfrm>
            <a:off x="1042920" y="2492280"/>
            <a:ext cx="7058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的地球村课件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打包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728800" y="1009800"/>
            <a:ext cx="36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五年级下册品德与社会     我们生活的地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760" indent="-3207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600" spc="-1" strike="noStrike">
                <a:solidFill>
                  <a:srgbClr val="212745"/>
                </a:solidFill>
                <a:latin typeface="Trebuchet MS"/>
              </a:rPr>
              <a:t>七大洲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4" descr="qidazhou"/>
          <p:cNvPicPr/>
          <p:nvPr/>
        </p:nvPicPr>
        <p:blipFill>
          <a:blip r:embed="rId1"/>
          <a:stretch/>
        </p:blipFill>
        <p:spPr>
          <a:xfrm>
            <a:off x="3780000" y="1484280"/>
            <a:ext cx="4883040" cy="4944960"/>
          </a:xfrm>
          <a:prstGeom prst="rect">
            <a:avLst/>
          </a:prstGeom>
          <a:ln w="0">
            <a:noFill/>
          </a:ln>
        </p:spPr>
      </p:pic>
      <p:sp>
        <p:nvSpPr>
          <p:cNvPr id="263" name="TextBox 4"/>
          <p:cNvSpPr/>
          <p:nvPr/>
        </p:nvSpPr>
        <p:spPr>
          <a:xfrm>
            <a:off x="250920" y="1628640"/>
            <a:ext cx="338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1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亚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2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非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3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北美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4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南美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5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南极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6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欧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7.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大洋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250920" y="5300640"/>
            <a:ext cx="2271600" cy="1108080"/>
            <a:chOff x="250920" y="5300640"/>
            <a:chExt cx="2271600" cy="1108080"/>
          </a:xfrm>
        </p:grpSpPr>
        <p:sp>
          <p:nvSpPr>
            <p:cNvPr id="265" name="云形标注 6"/>
            <p:cNvSpPr/>
            <p:nvPr/>
          </p:nvSpPr>
          <p:spPr>
            <a:xfrm rot="10800000">
              <a:off x="250920" y="5300640"/>
              <a:ext cx="2271600" cy="1108080"/>
            </a:xfrm>
            <a:prstGeom prst="cloudCallout">
              <a:avLst>
                <a:gd name="adj1" fmla="val -99398"/>
                <a:gd name="adj2" fmla="val 354384"/>
              </a:avLst>
            </a:prstGeom>
            <a:solidFill>
              <a:srgbClr val="953735"/>
            </a:solidFill>
            <a:ln w="25560">
              <a:solidFill>
                <a:srgbClr val="d7e4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7"/>
            <p:cNvSpPr/>
            <p:nvPr/>
          </p:nvSpPr>
          <p:spPr>
            <a:xfrm>
              <a:off x="558720" y="56703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00"/>
                  </a:solidFill>
                  <a:latin typeface="Trebuchet MS"/>
                  <a:ea typeface="方正姚体"/>
                </a:rPr>
                <a:t>中国在哪个州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文本框 8197"/>
          <p:cNvSpPr/>
          <p:nvPr/>
        </p:nvSpPr>
        <p:spPr>
          <a:xfrm>
            <a:off x="1660680" y="94140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760" indent="-3207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212745"/>
                </a:solidFill>
                <a:latin typeface="Trebuchet MS"/>
              </a:rPr>
              <a:t>四大洋</a:t>
            </a: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4" descr="sidayang"/>
          <p:cNvPicPr/>
          <p:nvPr/>
        </p:nvPicPr>
        <p:blipFill>
          <a:blip r:embed="rId1"/>
          <a:stretch/>
        </p:blipFill>
        <p:spPr>
          <a:xfrm>
            <a:off x="4067280" y="1484280"/>
            <a:ext cx="4825800" cy="4824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395280" y="1700280"/>
            <a:ext cx="331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1.</a:t>
            </a:r>
            <a:r>
              <a:rPr b="1" i="1" lang="zh-CN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太平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2.</a:t>
            </a:r>
            <a:r>
              <a:rPr b="1" i="1" lang="zh-CN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印度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3.</a:t>
            </a:r>
            <a:r>
              <a:rPr b="1" i="1" lang="zh-CN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大西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4.</a:t>
            </a:r>
            <a:r>
              <a:rPr b="1" i="1" lang="zh-CN" sz="4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北冰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68360" y="141300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布置作业；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745"/>
                </a:solidFill>
                <a:latin typeface="Trebuchet MS"/>
              </a:rPr>
              <a:t>1.</a:t>
            </a: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回家后在地球仪上找一找我们国家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12745"/>
                </a:solidFill>
                <a:latin typeface="Trebuchet MS"/>
              </a:rPr>
              <a:t>2.</a:t>
            </a: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回家后在地球仪上找一找七大洲和四大洋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1CA7-9444-4C0F-BCC9-F51151FC65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3"/>
          <p:cNvSpPr txBox="1"/>
          <p:nvPr/>
        </p:nvSpPr>
        <p:spPr>
          <a:xfrm>
            <a:off x="2484360" y="2781360"/>
            <a:ext cx="460872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谢谢大家！</a:t>
            </a:r>
            <a:endParaRPr b="1" i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760" indent="-320760" algn="ct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600" spc="-1" strike="noStrike">
                <a:solidFill>
                  <a:srgbClr val="000066"/>
                </a:solidFill>
                <a:latin typeface="华文行楷"/>
                <a:ea typeface="华文行楷"/>
              </a:rPr>
              <a:t>地球村的形成的原因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1844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    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地球是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人类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共同生活的地方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。过去</a:t>
            </a:r>
            <a:r>
              <a:rPr b="1" i="1" lang="en-US" sz="40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高山</a:t>
            </a:r>
            <a:r>
              <a:rPr b="1" i="1" lang="en-US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.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大河</a:t>
            </a:r>
            <a:r>
              <a:rPr b="1" i="1" lang="en-US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.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海洋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阻碍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了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人们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的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来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往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。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近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几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年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来交通进步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及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资讯发达</a:t>
            </a:r>
            <a:r>
              <a:rPr b="1" i="1" lang="en-US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,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使人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们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的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距离缩短</a:t>
            </a:r>
            <a:r>
              <a:rPr b="1" i="1" lang="en-US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, 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使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人们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就像共同住在一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个</a:t>
            </a:r>
            <a:r>
              <a:rPr b="1" i="1" lang="zh-TW" sz="4000" spc="-1" strike="noStrike">
                <a:solidFill>
                  <a:srgbClr val="3366ff"/>
                </a:solidFill>
                <a:latin typeface="宋体"/>
                <a:ea typeface="Microsoft JhengHei"/>
              </a:rPr>
              <a:t>地球村一</a:t>
            </a:r>
            <a:r>
              <a:rPr b="1" i="1" lang="zh-CN" sz="4000" spc="-1" strike="noStrike">
                <a:solidFill>
                  <a:srgbClr val="3366ff"/>
                </a:solidFill>
                <a:latin typeface="宋体"/>
              </a:rPr>
              <a:t>样。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4" descr="011"/>
          <p:cNvPicPr/>
          <p:nvPr/>
        </p:nvPicPr>
        <p:blipFill>
          <a:blip r:embed="rId1"/>
          <a:stretch/>
        </p:blipFill>
        <p:spPr>
          <a:xfrm>
            <a:off x="5003640" y="4941720"/>
            <a:ext cx="281952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4"/>
          <p:cNvSpPr/>
          <p:nvPr/>
        </p:nvSpPr>
        <p:spPr>
          <a:xfrm>
            <a:off x="3995640" y="1341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760" indent="-3207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200" spc="-1" strike="noStrike">
                <a:solidFill>
                  <a:srgbClr val="212745"/>
                </a:solidFill>
                <a:latin typeface="Trebuchet MS"/>
              </a:rPr>
              <a:t>看看缩小的地球</a:t>
            </a:r>
            <a:r>
              <a:rPr b="1" i="1" lang="en-US" sz="4200" spc="-1" strike="noStrike">
                <a:solidFill>
                  <a:srgbClr val="212745"/>
                </a:solidFill>
                <a:latin typeface="Trebuchet MS"/>
              </a:rPr>
              <a:t>----</a:t>
            </a:r>
            <a:r>
              <a:rPr b="1" i="1" lang="zh-CN" sz="4200" spc="-1" strike="noStrike">
                <a:solidFill>
                  <a:srgbClr val="212745"/>
                </a:solidFill>
                <a:latin typeface="Trebuchet MS"/>
              </a:rPr>
              <a:t>地球仪</a:t>
            </a:r>
            <a:endParaRPr b="1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4" descr="地球仪"/>
          <p:cNvPicPr/>
          <p:nvPr/>
        </p:nvPicPr>
        <p:blipFill>
          <a:blip r:embed="rId1"/>
          <a:stretch/>
        </p:blipFill>
        <p:spPr>
          <a:xfrm>
            <a:off x="1332000" y="549360"/>
            <a:ext cx="662472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60040" y="1628640"/>
            <a:ext cx="72010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         </a:t>
            </a: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人们要认识地球，研究地球，最好是 进行实地观察。但是地球太大了，人们很难看到 它的全貌。于是，人们仿照地球的形状，并按照一定的比例缩小，制作了地球的模型</a:t>
            </a:r>
            <a:r>
              <a:rPr b="1" i="1" lang="en-US" sz="3200" spc="-1" strike="noStrike">
                <a:solidFill>
                  <a:srgbClr val="212745"/>
                </a:solidFill>
                <a:latin typeface="Trebuchet MS"/>
              </a:rPr>
              <a:t>——</a:t>
            </a:r>
            <a:r>
              <a:rPr b="1" i="1" lang="zh-CN" sz="3200" spc="-1" strike="noStrike">
                <a:solidFill>
                  <a:srgbClr val="212745"/>
                </a:solidFill>
                <a:latin typeface="Trebuchet MS"/>
              </a:rPr>
              <a:t>地球仪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矩形 1" descr=""/>
          <p:cNvPicPr/>
          <p:nvPr/>
        </p:nvPicPr>
        <p:blipFill>
          <a:blip r:embed="rId1"/>
          <a:stretch/>
        </p:blipFill>
        <p:spPr>
          <a:xfrm>
            <a:off x="1820880" y="422280"/>
            <a:ext cx="4608360" cy="92232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2" descr=""/>
          <p:cNvPicPr/>
          <p:nvPr/>
        </p:nvPicPr>
        <p:blipFill>
          <a:blip r:embed="rId2"/>
          <a:stretch/>
        </p:blipFill>
        <p:spPr>
          <a:xfrm>
            <a:off x="977760" y="4149720"/>
            <a:ext cx="7056720" cy="25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8197"/>
          <p:cNvSpPr/>
          <p:nvPr/>
        </p:nvSpPr>
        <p:spPr>
          <a:xfrm>
            <a:off x="2276640" y="4824360"/>
            <a:ext cx="582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(E}8}IBU0B_4RA)A84_7M[6"/>
          <p:cNvPicPr/>
          <p:nvPr/>
        </p:nvPicPr>
        <p:blipFill>
          <a:blip r:embed="rId1"/>
          <a:stretch/>
        </p:blipFill>
        <p:spPr>
          <a:xfrm>
            <a:off x="4572000" y="1077840"/>
            <a:ext cx="4411800" cy="34974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539640" y="765000"/>
            <a:ext cx="16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12745"/>
                </a:solidFill>
                <a:latin typeface="Trebuchet MS"/>
                <a:ea typeface="方正姚体"/>
              </a:rPr>
              <a:t>经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79280" y="1844640"/>
            <a:ext cx="41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4e67c8"/>
                </a:solidFill>
                <a:latin typeface="Trebuchet MS"/>
                <a:ea typeface="方正姚体"/>
              </a:rPr>
              <a:t>        </a:t>
            </a:r>
            <a:r>
              <a:rPr b="1" i="1" lang="zh-CN" sz="3200" spc="-1" strike="noStrike">
                <a:solidFill>
                  <a:srgbClr val="4e67c8"/>
                </a:solidFill>
                <a:latin typeface="Trebuchet MS"/>
                <a:ea typeface="方正姚体"/>
              </a:rPr>
              <a:t>在地球仪上，连接南北两极的是经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650880" y="3276720"/>
            <a:ext cx="16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12745"/>
                </a:solidFill>
                <a:latin typeface="Trebuchet MS"/>
                <a:ea typeface="方正姚体"/>
              </a:rPr>
              <a:t>纬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1"/>
          <p:cNvSpPr/>
          <p:nvPr/>
        </p:nvSpPr>
        <p:spPr>
          <a:xfrm>
            <a:off x="324000" y="4437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e67c8"/>
                </a:solidFill>
                <a:latin typeface="Trebuchet MS"/>
                <a:ea typeface="方正姚体"/>
              </a:rPr>
              <a:t>        </a:t>
            </a:r>
            <a:r>
              <a:rPr b="1" i="1" lang="zh-CN" sz="3200" spc="-1" strike="noStrike">
                <a:solidFill>
                  <a:srgbClr val="4e67c8"/>
                </a:solidFill>
                <a:latin typeface="Trebuchet MS"/>
                <a:ea typeface="方正姚体"/>
              </a:rPr>
              <a:t>在地球仪上，顺着东西方向，围绕地球仪一周的是纬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下箭头 12"/>
          <p:cNvSpPr/>
          <p:nvPr/>
        </p:nvSpPr>
        <p:spPr>
          <a:xfrm>
            <a:off x="684360" y="1341360"/>
            <a:ext cx="320400" cy="49536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21274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下箭头 13"/>
          <p:cNvSpPr/>
          <p:nvPr/>
        </p:nvSpPr>
        <p:spPr>
          <a:xfrm>
            <a:off x="650880" y="3860640"/>
            <a:ext cx="320760" cy="7146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21274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5}5XYD@54(D{J%VUDE7CO]5"/>
          <p:cNvPicPr/>
          <p:nvPr/>
        </p:nvPicPr>
        <p:blipFill>
          <a:blip r:embed="rId1"/>
          <a:stretch/>
        </p:blipFill>
        <p:spPr>
          <a:xfrm>
            <a:off x="3924360" y="1844640"/>
            <a:ext cx="4176720" cy="43657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4"/>
          <p:cNvSpPr/>
          <p:nvPr/>
        </p:nvSpPr>
        <p:spPr>
          <a:xfrm>
            <a:off x="468360" y="1052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12745"/>
                </a:solidFill>
                <a:latin typeface="Trebuchet MS"/>
                <a:ea typeface="方正姚体"/>
              </a:rPr>
              <a:t>北半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直接箭头连接符 6"/>
          <p:cNvCxnSpPr/>
          <p:nvPr/>
        </p:nvCxnSpPr>
        <p:spPr>
          <a:xfrm>
            <a:off x="2484360" y="1669680"/>
            <a:ext cx="2232720" cy="86580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48" name="任意多边形 8"/>
          <p:cNvSpPr/>
          <p:nvPr/>
        </p:nvSpPr>
        <p:spPr>
          <a:xfrm>
            <a:off x="4137120" y="2322360"/>
            <a:ext cx="1261800" cy="1495440"/>
          </a:xfrm>
          <a:custGeom>
            <a:avLst/>
            <a:gdLst/>
            <a:ahLst/>
            <a:rect l="l" t="t" r="r" b="b"/>
            <a:pathLst>
              <a:path w="1262743" h="1494971">
                <a:moveTo>
                  <a:pt x="1262743" y="0"/>
                </a:moveTo>
                <a:cubicBezTo>
                  <a:pt x="1228876" y="4838"/>
                  <a:pt x="1195184" y="11110"/>
                  <a:pt x="1161143" y="14514"/>
                </a:cubicBezTo>
                <a:cubicBezTo>
                  <a:pt x="1098375" y="20791"/>
                  <a:pt x="1034767" y="19190"/>
                  <a:pt x="972458" y="29028"/>
                </a:cubicBezTo>
                <a:cubicBezTo>
                  <a:pt x="942234" y="33800"/>
                  <a:pt x="914401" y="48381"/>
                  <a:pt x="885372" y="58057"/>
                </a:cubicBezTo>
                <a:lnTo>
                  <a:pt x="841829" y="72571"/>
                </a:lnTo>
                <a:cubicBezTo>
                  <a:pt x="772195" y="177021"/>
                  <a:pt x="870802" y="48419"/>
                  <a:pt x="725715" y="145143"/>
                </a:cubicBezTo>
                <a:lnTo>
                  <a:pt x="638629" y="203200"/>
                </a:lnTo>
                <a:cubicBezTo>
                  <a:pt x="584992" y="283655"/>
                  <a:pt x="640288" y="220018"/>
                  <a:pt x="566058" y="261257"/>
                </a:cubicBezTo>
                <a:cubicBezTo>
                  <a:pt x="535560" y="278200"/>
                  <a:pt x="478972" y="319314"/>
                  <a:pt x="478972" y="319314"/>
                </a:cubicBezTo>
                <a:cubicBezTo>
                  <a:pt x="469296" y="333828"/>
                  <a:pt x="461110" y="349456"/>
                  <a:pt x="449943" y="362857"/>
                </a:cubicBezTo>
                <a:cubicBezTo>
                  <a:pt x="436802" y="378626"/>
                  <a:pt x="417786" y="389321"/>
                  <a:pt x="406400" y="406400"/>
                </a:cubicBezTo>
                <a:cubicBezTo>
                  <a:pt x="397913" y="419130"/>
                  <a:pt x="399316" y="436569"/>
                  <a:pt x="391886" y="449943"/>
                </a:cubicBezTo>
                <a:cubicBezTo>
                  <a:pt x="342083" y="539589"/>
                  <a:pt x="353892" y="523652"/>
                  <a:pt x="290286" y="566057"/>
                </a:cubicBezTo>
                <a:lnTo>
                  <a:pt x="232229" y="653143"/>
                </a:lnTo>
                <a:lnTo>
                  <a:pt x="203200" y="696685"/>
                </a:lnTo>
                <a:cubicBezTo>
                  <a:pt x="150271" y="855476"/>
                  <a:pt x="234683" y="614964"/>
                  <a:pt x="159658" y="783771"/>
                </a:cubicBezTo>
                <a:cubicBezTo>
                  <a:pt x="147231" y="811733"/>
                  <a:pt x="140305" y="841828"/>
                  <a:pt x="130629" y="870857"/>
                </a:cubicBezTo>
                <a:cubicBezTo>
                  <a:pt x="125791" y="885371"/>
                  <a:pt x="124602" y="901670"/>
                  <a:pt x="116115" y="914400"/>
                </a:cubicBezTo>
                <a:lnTo>
                  <a:pt x="87086" y="957943"/>
                </a:lnTo>
                <a:lnTo>
                  <a:pt x="43543" y="1088571"/>
                </a:lnTo>
                <a:lnTo>
                  <a:pt x="29029" y="1132114"/>
                </a:lnTo>
                <a:cubicBezTo>
                  <a:pt x="24191" y="1146628"/>
                  <a:pt x="18226" y="1160814"/>
                  <a:pt x="14515" y="1175657"/>
                </a:cubicBezTo>
                <a:lnTo>
                  <a:pt x="0" y="1233714"/>
                </a:lnTo>
                <a:cubicBezTo>
                  <a:pt x="15894" y="1456217"/>
                  <a:pt x="14515" y="1369008"/>
                  <a:pt x="14515" y="149497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10"/>
          <p:cNvSpPr/>
          <p:nvPr/>
        </p:nvSpPr>
        <p:spPr>
          <a:xfrm>
            <a:off x="306360" y="53960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12745"/>
                </a:solidFill>
                <a:latin typeface="Trebuchet MS"/>
                <a:ea typeface="方正姚体"/>
              </a:rPr>
              <a:t>南半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任意多边形 11"/>
          <p:cNvSpPr/>
          <p:nvPr/>
        </p:nvSpPr>
        <p:spPr>
          <a:xfrm>
            <a:off x="4137120" y="3860640"/>
            <a:ext cx="1320840" cy="1524240"/>
          </a:xfrm>
          <a:custGeom>
            <a:avLst/>
            <a:gdLst/>
            <a:ahLst/>
            <a:rect l="l" t="t" r="r" b="b"/>
            <a:pathLst>
              <a:path w="1320800" h="1524000">
                <a:moveTo>
                  <a:pt x="1320800" y="1524000"/>
                </a:moveTo>
                <a:cubicBezTo>
                  <a:pt x="1272419" y="1519162"/>
                  <a:pt x="1223035" y="1520419"/>
                  <a:pt x="1175658" y="1509486"/>
                </a:cubicBezTo>
                <a:cubicBezTo>
                  <a:pt x="1158661" y="1505563"/>
                  <a:pt x="1147717" y="1488258"/>
                  <a:pt x="1132115" y="1480457"/>
                </a:cubicBezTo>
                <a:cubicBezTo>
                  <a:pt x="1118431" y="1473615"/>
                  <a:pt x="1103283" y="1470146"/>
                  <a:pt x="1088572" y="1465943"/>
                </a:cubicBezTo>
                <a:cubicBezTo>
                  <a:pt x="1069392" y="1460463"/>
                  <a:pt x="1049622" y="1457161"/>
                  <a:pt x="1030515" y="1451429"/>
                </a:cubicBezTo>
                <a:cubicBezTo>
                  <a:pt x="1001207" y="1442636"/>
                  <a:pt x="943429" y="1422400"/>
                  <a:pt x="943429" y="1422400"/>
                </a:cubicBezTo>
                <a:cubicBezTo>
                  <a:pt x="874426" y="1376397"/>
                  <a:pt x="916436" y="1398888"/>
                  <a:pt x="812800" y="1364343"/>
                </a:cubicBezTo>
                <a:lnTo>
                  <a:pt x="769258" y="1349829"/>
                </a:lnTo>
                <a:cubicBezTo>
                  <a:pt x="740229" y="1330476"/>
                  <a:pt x="715270" y="1302803"/>
                  <a:pt x="682172" y="1291771"/>
                </a:cubicBezTo>
                <a:cubicBezTo>
                  <a:pt x="638533" y="1277225"/>
                  <a:pt x="632600" y="1279491"/>
                  <a:pt x="595086" y="1248229"/>
                </a:cubicBezTo>
                <a:cubicBezTo>
                  <a:pt x="579317" y="1235088"/>
                  <a:pt x="567746" y="1217288"/>
                  <a:pt x="551543" y="1204686"/>
                </a:cubicBezTo>
                <a:cubicBezTo>
                  <a:pt x="524004" y="1183267"/>
                  <a:pt x="464458" y="1146629"/>
                  <a:pt x="464458" y="1146629"/>
                </a:cubicBezTo>
                <a:cubicBezTo>
                  <a:pt x="459620" y="1132115"/>
                  <a:pt x="458430" y="1115816"/>
                  <a:pt x="449943" y="1103086"/>
                </a:cubicBezTo>
                <a:cubicBezTo>
                  <a:pt x="427592" y="1069560"/>
                  <a:pt x="394987" y="1051934"/>
                  <a:pt x="362858" y="1030514"/>
                </a:cubicBezTo>
                <a:cubicBezTo>
                  <a:pt x="326374" y="921066"/>
                  <a:pt x="375588" y="1055974"/>
                  <a:pt x="319315" y="943429"/>
                </a:cubicBezTo>
                <a:cubicBezTo>
                  <a:pt x="277304" y="859408"/>
                  <a:pt x="343799" y="938886"/>
                  <a:pt x="261258" y="856343"/>
                </a:cubicBezTo>
                <a:cubicBezTo>
                  <a:pt x="226713" y="752708"/>
                  <a:pt x="257689" y="786230"/>
                  <a:pt x="188686" y="740229"/>
                </a:cubicBezTo>
                <a:lnTo>
                  <a:pt x="159658" y="653143"/>
                </a:lnTo>
                <a:cubicBezTo>
                  <a:pt x="154820" y="638629"/>
                  <a:pt x="153630" y="622330"/>
                  <a:pt x="145143" y="609600"/>
                </a:cubicBezTo>
                <a:lnTo>
                  <a:pt x="116115" y="566057"/>
                </a:lnTo>
                <a:cubicBezTo>
                  <a:pt x="111465" y="547460"/>
                  <a:pt x="97495" y="485276"/>
                  <a:pt x="87086" y="464457"/>
                </a:cubicBezTo>
                <a:cubicBezTo>
                  <a:pt x="79285" y="448855"/>
                  <a:pt x="65859" y="436516"/>
                  <a:pt x="58058" y="420914"/>
                </a:cubicBezTo>
                <a:cubicBezTo>
                  <a:pt x="40439" y="385677"/>
                  <a:pt x="38969" y="341245"/>
                  <a:pt x="29029" y="304800"/>
                </a:cubicBezTo>
                <a:cubicBezTo>
                  <a:pt x="20978" y="275279"/>
                  <a:pt x="0" y="248313"/>
                  <a:pt x="0" y="217714"/>
                </a:cubicBezTo>
                <a:lnTo>
                  <a:pt x="0" y="0"/>
                </a:lnTo>
              </a:path>
            </a:pathLst>
          </a:cu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直接箭头连接符 13"/>
          <p:cNvCxnSpPr/>
          <p:nvPr/>
        </p:nvCxnSpPr>
        <p:spPr>
          <a:xfrm flipV="1">
            <a:off x="2268000" y="4868280"/>
            <a:ext cx="2088360" cy="1081800"/>
          </a:xfrm>
          <a:prstGeom prst="straightConnector1">
            <a:avLst/>
          </a:prstGeom>
          <a:ln w="38160">
            <a:solidFill>
              <a:srgbClr val="7030a0"/>
            </a:solidFill>
            <a:round/>
            <a:tailEnd len="med" type="arrow" w="med"/>
          </a:ln>
        </p:spPr>
      </p:cxn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南北半球"/>
          <p:cNvPicPr/>
          <p:nvPr/>
        </p:nvPicPr>
        <p:blipFill>
          <a:blip r:embed="rId1"/>
          <a:stretch/>
        </p:blipFill>
        <p:spPr>
          <a:xfrm>
            <a:off x="0" y="3213000"/>
            <a:ext cx="9144000" cy="3645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20760" indent="-3207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212745"/>
                </a:solidFill>
                <a:latin typeface="Trebuchet MS"/>
              </a:rPr>
              <a:t>南北半球</a:t>
            </a:r>
            <a:endParaRPr b="1" lang="en-US" sz="6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65120" y="98100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12745"/>
                </a:solidFill>
                <a:latin typeface="Trebuchet MS"/>
                <a:ea typeface="方正姚体"/>
              </a:rPr>
              <a:t>        </a:t>
            </a:r>
            <a:r>
              <a:rPr b="1" lang="zh-CN" sz="4000" spc="-1" strike="noStrike">
                <a:solidFill>
                  <a:srgbClr val="212745"/>
                </a:solidFill>
                <a:latin typeface="Trebuchet MS"/>
                <a:ea typeface="方正姚体"/>
              </a:rPr>
              <a:t>最长的纬线叫赤道。赤道将地球平分成南北两个半球，赤道以北是北半球，以南是南半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2127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5"/>
          <p:cNvSpPr/>
          <p:nvPr/>
        </p:nvSpPr>
        <p:spPr>
          <a:xfrm>
            <a:off x="455760" y="66816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212745"/>
                </a:solidFill>
                <a:latin typeface="Trebuchet MS"/>
                <a:ea typeface="方正姚体"/>
              </a:rPr>
              <a:t>东西半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" descr="C:\Users\Administrator\Desktop\20110914202505-1954664141.jpg"/>
          <p:cNvPicPr/>
          <p:nvPr/>
        </p:nvPicPr>
        <p:blipFill>
          <a:blip r:embed="rId1"/>
          <a:stretch/>
        </p:blipFill>
        <p:spPr>
          <a:xfrm>
            <a:off x="250920" y="3068640"/>
            <a:ext cx="8642160" cy="34560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358920" y="148428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         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人们用西经</a:t>
            </a: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20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度，东经</a:t>
            </a:r>
            <a:r>
              <a:rPr b="1" i="1" lang="en-US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160</a:t>
            </a:r>
            <a:r>
              <a:rPr b="1" i="1" lang="zh-CN" sz="2800" spc="-1" strike="noStrike">
                <a:solidFill>
                  <a:srgbClr val="212745"/>
                </a:solidFill>
                <a:latin typeface="Trebuchet MS"/>
                <a:ea typeface="方正姚体"/>
              </a:rPr>
              <a:t>度两条经线将地球分成东半球和西半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组合 1"/>
          <p:cNvGrpSpPr/>
          <p:nvPr/>
        </p:nvGrpSpPr>
        <p:grpSpPr>
          <a:xfrm>
            <a:off x="1547640" y="2492280"/>
            <a:ext cx="5685120" cy="553680"/>
            <a:chOff x="1547640" y="2492280"/>
            <a:chExt cx="5685120" cy="553680"/>
          </a:xfrm>
        </p:grpSpPr>
        <p:sp>
          <p:nvSpPr>
            <p:cNvPr id="259" name="TextBox 6"/>
            <p:cNvSpPr/>
            <p:nvPr/>
          </p:nvSpPr>
          <p:spPr>
            <a:xfrm>
              <a:off x="5648400" y="249228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rebuchet MS"/>
                  <a:ea typeface="方正姚体"/>
                </a:rPr>
                <a:t>东半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Box 9"/>
            <p:cNvSpPr/>
            <p:nvPr/>
          </p:nvSpPr>
          <p:spPr>
            <a:xfrm>
              <a:off x="1547640" y="25254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0000"/>
                  </a:solidFill>
                  <a:latin typeface="Trebuchet MS"/>
                  <a:ea typeface="方正姚体"/>
                </a:rPr>
                <a:t>西半球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07:52:59Z</dcterms:created>
  <dc:creator>第一PPT模板网-WWW.1PPT.COM</dc:creator>
  <dc:description>第一PPT模板网-WWW.1PPT.COM
</dc:description>
  <cp:keywords>第一PPT模板网-WWW.1PPT.COM</cp:keywords>
  <dc:language>en-US</dc:language>
  <cp:lastModifiedBy>pc</cp:lastModifiedBy>
  <dcterms:modified xsi:type="dcterms:W3CDTF">2016-06-30T08:50:44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