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A6AB-5A84-451C-8F25-695BC20C4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C852-9E90-464D-876F-050F7431E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1CDD-B7AA-47E2-B214-36BBA29A6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78CC-BC68-43CC-8503-AC101FE5E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D28F-C4D7-43E6-90D8-7E26F0002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A61C5-B2FD-4AD8-AB69-198A07F9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3BDD-5FA3-439A-834B-CD7C74C3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3CAF-D200-4AE2-B4B6-057B14DD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2CF9-95EB-4E23-B69E-EF0EF21A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9CCD-C676-4DAB-9036-581C1381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CBB4-1392-4473-9E24-0FB3E57C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E118-A84C-49D0-A488-E3BF0CAA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C991-8704-4AE7-8685-DD12165E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FC2C-939D-4F1E-A5C5-D6FA3197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CA1F-03E2-4B9B-AD42-E1882992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2868-DF4F-4E3A-B810-820000466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62161-8670-4DFA-94C6-56258570E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04D3-C46D-42B8-A81D-E399A3BC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B7DF-9702-47DE-8D29-11C9261B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87CB-B056-4E67-A020-68077051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26A5-5439-4934-B0F9-C719878B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6C06-53CE-4C67-AEB6-D8B184D1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F7A2-3E0C-4C2D-9F34-BB395A40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8F7A-EA01-4DF9-A0DA-992E6B7A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E68B-F025-438A-BBB1-2C3A6D4D1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B3C3-B508-49EE-83B5-5DE97BDC16F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..%5CLocal%20Settings%5CTemp%5CHZ$D.423.689%5CHZ$D.423.690%5C&#65288;&#20154;&#25945;&#26032;&#35838;&#26631;&#65289;&#22235;&#24180;&#32423;&#21697;&#24503;&#19982;&#31038;&#20250;&#19978;&#20876;&#35838;&#20214;%20&#25105;&#20204;&#30340;&#29983;&#21629;%5Cwmdsm-yy.mp3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200988213353951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6"/>
          <p:cNvSpPr txBox="1"/>
          <p:nvPr/>
        </p:nvSpPr>
        <p:spPr>
          <a:xfrm>
            <a:off x="2031840" y="1219320"/>
            <a:ext cx="5029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7575d1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楷体_GB2312"/>
              </a:rPr>
              <a:t>四年级上册品德与社会</a:t>
            </a:r>
            <a:endParaRPr b="1" lang="en-US" sz="1800" spc="-1" strike="noStrike">
              <a:ln w="0">
                <a:noFill/>
              </a:ln>
              <a:solidFill>
                <a:srgbClr val="7575d1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4" name="WordArt 7"/>
          <p:cNvSpPr txBox="1"/>
          <p:nvPr/>
        </p:nvSpPr>
        <p:spPr>
          <a:xfrm>
            <a:off x="1488960" y="2514600"/>
            <a:ext cx="609624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153753" dir="2700000" blurRad="0" rotWithShape="0">
                    <a:srgbClr val="9999ff">
                      <a:alpha val="50000"/>
                    </a:srgbClr>
                  </a:outerShdw>
                </a:effectLst>
                <a:latin typeface="宋体"/>
              </a:rPr>
              <a:t>我们的生命</a:t>
            </a:r>
            <a:r>
              <a:rPr b="1" lang="en-US" sz="40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153753" dir="2700000" blurRad="0" rotWithShape="0">
                    <a:srgbClr val="9999ff">
                      <a:alpha val="50000"/>
                    </a:srgbClr>
                  </a:outerShdw>
                </a:effectLst>
                <a:latin typeface="宋体"/>
              </a:rPr>
              <a:t>PPTK</a:t>
            </a:r>
            <a:r>
              <a:rPr b="1" lang="zh-CN" sz="40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153753" dir="2700000" blurRad="0" rotWithShape="0">
                    <a:srgbClr val="9999ff">
                      <a:alpha val="50000"/>
                    </a:srgbClr>
                  </a:outerShdw>
                </a:effectLst>
                <a:latin typeface="宋体"/>
              </a:rPr>
              <a:t>课件模板下载</a:t>
            </a:r>
            <a:endParaRPr b="1" lang="en-US" sz="40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153753" dir="2700000" blurRad="0" rotWithShape="0">
                  <a:srgbClr val="9999ff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23760" y="64533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2010624175136887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5"/>
          <p:cNvSpPr/>
          <p:nvPr/>
        </p:nvSpPr>
        <p:spPr>
          <a:xfrm rot="15891600">
            <a:off x="5429160" y="74160"/>
            <a:ext cx="2361960" cy="3124080"/>
          </a:xfrm>
          <a:prstGeom prst="cloudCallout">
            <a:avLst>
              <a:gd name="adj1" fmla="val -58712"/>
              <a:gd name="adj2" fmla="val 14629"/>
            </a:avLst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33"/>
                </a:solidFill>
                <a:latin typeface="Arial"/>
                <a:ea typeface="楷体_GB2312"/>
              </a:rPr>
              <a:t>想一想，我们的生命仅仅只是属于我们自己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034">
            <a:hlinkClick r:id="rId2"/>
          </p:cNvPr>
          <p:cNvSpPr/>
          <p:nvPr/>
        </p:nvSpPr>
        <p:spPr>
          <a:xfrm>
            <a:off x="304920" y="1905120"/>
            <a:ext cx="4952880" cy="4647960"/>
          </a:xfrm>
          <a:prstGeom prst="foldedCorner">
            <a:avLst>
              <a:gd name="adj" fmla="val 12500"/>
            </a:avLst>
          </a:prstGeom>
          <a:solidFill>
            <a:srgbClr val="f6e3fd"/>
          </a:solidFill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　当我们还是小小胎儿的时候，我们的生命就寄托了家人无限的期望。从初生的嗷嗷啼哭，到张开小嘴牙牙学语；从歪歪扭扭的小脚印，到成长为一名小学生，这其中凝结了家人多少的关爱与付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p200982019562739993"/>
          <p:cNvPicPr/>
          <p:nvPr/>
        </p:nvPicPr>
        <p:blipFill>
          <a:blip r:embed="rId1"/>
          <a:stretch/>
        </p:blipFill>
        <p:spPr>
          <a:xfrm>
            <a:off x="0" y="0"/>
            <a:ext cx="9144000" cy="6794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20116191832037351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120" y="1143000"/>
            <a:ext cx="586764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996633"/>
                </a:solidFill>
                <a:latin typeface="Arial"/>
                <a:ea typeface="楷体_GB2312"/>
              </a:rPr>
              <a:t>事情做错了，可以改正重来。我们的生命一旦失去了，还会再来吗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8"/>
          <p:cNvSpPr txBox="1"/>
          <p:nvPr/>
        </p:nvSpPr>
        <p:spPr>
          <a:xfrm>
            <a:off x="2438280" y="4114800"/>
            <a:ext cx="5105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我们的生命只有一次</a:t>
            </a:r>
            <a:endParaRPr b="0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1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WordArt 5"/>
          <p:cNvSpPr txBox="1"/>
          <p:nvPr/>
        </p:nvSpPr>
        <p:spPr>
          <a:xfrm>
            <a:off x="380880" y="3124080"/>
            <a:ext cx="2133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资料</a:t>
            </a:r>
            <a:endParaRPr b="1" lang="en-US" sz="1800" spc="-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772400" y="304920"/>
            <a:ext cx="1371600" cy="574488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人的寿命有多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28800" y="533520"/>
            <a:ext cx="6019920" cy="585144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按照世界卫生组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的定义，人在</a:t>
            </a:r>
            <a:r>
              <a:rPr b="1" lang="en-US" sz="32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65</a:t>
            </a:r>
            <a:r>
              <a:rPr b="1" lang="zh-CN" sz="32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岁以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算中年人，</a:t>
            </a:r>
            <a:r>
              <a:rPr b="1" lang="en-US" sz="32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65</a:t>
            </a:r>
            <a:r>
              <a:rPr b="1" lang="zh-CN" sz="32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至</a:t>
            </a:r>
            <a:r>
              <a:rPr b="1" lang="en-US" sz="32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74</a:t>
            </a:r>
            <a:r>
              <a:rPr b="1" lang="zh-CN" sz="32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岁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年轻的老人，</a:t>
            </a:r>
            <a:r>
              <a:rPr b="1" lang="en-US" sz="32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75</a:t>
            </a:r>
            <a:r>
              <a:rPr b="1" lang="zh-CN" sz="32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岁至</a:t>
            </a:r>
            <a:r>
              <a:rPr b="1" lang="en-US" sz="32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岁才算正式的老人，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至</a:t>
            </a:r>
            <a:r>
              <a:rPr b="1" lang="en-US" sz="32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120</a:t>
            </a:r>
            <a:r>
              <a:rPr b="1" lang="zh-CN" sz="32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岁算高龄的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年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按照生物学原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人能够活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100</a:t>
            </a:r>
            <a:r>
              <a:rPr b="1" lang="zh-CN" sz="32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多岁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C036-24DD-4E04-BBEE-3AA1A071A6C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2010126192547849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WordArt 5"/>
          <p:cNvSpPr txBox="1"/>
          <p:nvPr/>
        </p:nvSpPr>
        <p:spPr>
          <a:xfrm rot="233400">
            <a:off x="1752120" y="2819160"/>
            <a:ext cx="5542200" cy="1982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谢 谢 观 看！</a:t>
            </a:r>
            <a:endParaRPr b="1" lang="en-US" sz="4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1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371240" y="685800"/>
            <a:ext cx="67057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燕子去了，有再来的时候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杨柳枯了，有再青的时候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桃花谢了，有再开的时候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但是人的生命，一旦丧失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2008420191246792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WordArt 5"/>
          <p:cNvSpPr txBox="1"/>
          <p:nvPr/>
        </p:nvSpPr>
        <p:spPr>
          <a:xfrm>
            <a:off x="3867120" y="838080"/>
            <a:ext cx="48960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ff00"/>
                </a:solidFill>
                <a:latin typeface="仿宋_GB2312"/>
              </a:rPr>
              <a:t>生命的成长史</a:t>
            </a:r>
            <a:endParaRPr b="1" lang="en-US" sz="1800" spc="-1" strike="noStrike">
              <a:ln w="0">
                <a:noFill/>
              </a:ln>
              <a:solidFill>
                <a:srgbClr val="00ff00"/>
              </a:solidFill>
              <a:latin typeface="仿宋_GB2312"/>
              <a:ea typeface="仿宋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8" descr="20091204084930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12"/>
          <p:cNvGrpSpPr/>
          <p:nvPr/>
        </p:nvGrpSpPr>
        <p:grpSpPr>
          <a:xfrm>
            <a:off x="0" y="0"/>
            <a:ext cx="4343400" cy="3276720"/>
            <a:chOff x="0" y="0"/>
            <a:chExt cx="4343400" cy="3276720"/>
          </a:xfrm>
        </p:grpSpPr>
        <p:pic>
          <p:nvPicPr>
            <p:cNvPr id="92" name="Picture 10" descr="F:\品德\！我们的生命\受精卵.bmp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4343400" cy="32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1"/>
            <p:cNvSpPr/>
            <p:nvPr/>
          </p:nvSpPr>
          <p:spPr>
            <a:xfrm>
              <a:off x="295560" y="27601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受精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15"/>
          <p:cNvGrpSpPr/>
          <p:nvPr/>
        </p:nvGrpSpPr>
        <p:grpSpPr>
          <a:xfrm>
            <a:off x="4343400" y="0"/>
            <a:ext cx="4800240" cy="3492720"/>
            <a:chOff x="4343400" y="0"/>
            <a:chExt cx="4800240" cy="3492720"/>
          </a:xfrm>
        </p:grpSpPr>
        <p:pic>
          <p:nvPicPr>
            <p:cNvPr id="95" name="Picture 13" descr="F:\品德\！我们的生命\胚胎.gif"/>
            <p:cNvPicPr/>
            <p:nvPr/>
          </p:nvPicPr>
          <p:blipFill>
            <a:blip r:embed="rId3"/>
            <a:stretch/>
          </p:blipFill>
          <p:spPr>
            <a:xfrm>
              <a:off x="4343400" y="0"/>
              <a:ext cx="4800240" cy="342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Rectangle 14"/>
            <p:cNvSpPr/>
            <p:nvPr/>
          </p:nvSpPr>
          <p:spPr>
            <a:xfrm>
              <a:off x="4662000" y="30330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胚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17" descr="F:\品德\！我们的生命\小孩.jpg"/>
          <p:cNvPicPr/>
          <p:nvPr/>
        </p:nvPicPr>
        <p:blipFill>
          <a:blip r:embed="rId4"/>
          <a:stretch/>
        </p:blipFill>
        <p:spPr>
          <a:xfrm>
            <a:off x="4346640" y="3429000"/>
            <a:ext cx="4797360" cy="3429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6" descr="F:\品德\！我们的生命\胎儿.bmp"/>
          <p:cNvPicPr/>
          <p:nvPr/>
        </p:nvPicPr>
        <p:blipFill>
          <a:blip r:embed="rId5"/>
          <a:stretch/>
        </p:blipFill>
        <p:spPr>
          <a:xfrm>
            <a:off x="0" y="3273480"/>
            <a:ext cx="426708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2010624175136887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F:\品德\！我们的生命\p6.jpg"/>
          <p:cNvPicPr/>
          <p:nvPr/>
        </p:nvPicPr>
        <p:blipFill>
          <a:blip r:embed="rId2"/>
          <a:stretch/>
        </p:blipFill>
        <p:spPr>
          <a:xfrm>
            <a:off x="0" y="1143000"/>
            <a:ext cx="6858000" cy="54100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9900"/>
                </a:solidFill>
                <a:latin typeface="Arial"/>
              </a:rPr>
              <a:t>想一想，妈妈在怀你的时候会想些      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8199"/>
          <p:cNvSpPr/>
          <p:nvPr/>
        </p:nvSpPr>
        <p:spPr>
          <a:xfrm>
            <a:off x="2131920" y="10825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7"/>
          <p:cNvSpPr/>
          <p:nvPr/>
        </p:nvSpPr>
        <p:spPr>
          <a:xfrm>
            <a:off x="1393920" y="213048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2010624175136887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F:\全集课件\课件\数学\小学一年级数学\19 10的认识\teacher00.png"/>
          <p:cNvPicPr/>
          <p:nvPr/>
        </p:nvPicPr>
        <p:blipFill>
          <a:blip r:embed="rId2"/>
          <a:stretch/>
        </p:blipFill>
        <p:spPr>
          <a:xfrm>
            <a:off x="3200400" y="3657600"/>
            <a:ext cx="3078000" cy="288144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9"/>
          <p:cNvSpPr/>
          <p:nvPr/>
        </p:nvSpPr>
        <p:spPr>
          <a:xfrm>
            <a:off x="304920" y="457200"/>
            <a:ext cx="5638680" cy="3048120"/>
          </a:xfrm>
          <a:prstGeom prst="cloudCallout">
            <a:avLst>
              <a:gd name="adj1" fmla="val 54250"/>
              <a:gd name="adj2" fmla="val 49583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当你还在妈妈肚子里的时候，爸爸妈妈有些什么想法、感受和期盼，为了生个聪明健康的宝宝，他们是怎么做的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2010624175136887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F:\品德\！我们的生命\p7.jpg"/>
          <p:cNvPicPr/>
          <p:nvPr/>
        </p:nvPicPr>
        <p:blipFill>
          <a:blip r:embed="rId2"/>
          <a:stretch/>
        </p:blipFill>
        <p:spPr>
          <a:xfrm>
            <a:off x="304920" y="2133720"/>
            <a:ext cx="655308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1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9"/>
          <p:cNvSpPr/>
          <p:nvPr/>
        </p:nvSpPr>
        <p:spPr>
          <a:xfrm>
            <a:off x="2743200" y="457200"/>
            <a:ext cx="5105520" cy="3124080"/>
          </a:xfrm>
          <a:prstGeom prst="cloudCallout">
            <a:avLst>
              <a:gd name="adj1" fmla="val -18717"/>
              <a:gd name="adj2" fmla="val 71240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ccff33"/>
                </a:solidFill>
                <a:latin typeface="楷体_GB2312"/>
                <a:ea typeface="楷体_GB2312"/>
              </a:rPr>
              <a:t>在你出生的那一天，你的家人是怎样度过的？在你出生的那一刻，在第一眼看到你时，他们的心情又怎样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7" descr="201161918320373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F:\品德\！我们的生命\p7-1.jpg"/>
          <p:cNvPicPr/>
          <p:nvPr/>
        </p:nvPicPr>
        <p:blipFill>
          <a:blip r:embed="rId2"/>
          <a:stretch/>
        </p:blipFill>
        <p:spPr>
          <a:xfrm>
            <a:off x="1523880" y="2438280"/>
            <a:ext cx="6629400" cy="2730600"/>
          </a:xfrm>
          <a:prstGeom prst="rect">
            <a:avLst/>
          </a:prstGeom>
          <a:ln w="0">
            <a:noFill/>
          </a:ln>
        </p:spPr>
      </p:pic>
      <p:sp>
        <p:nvSpPr>
          <p:cNvPr id="117" name="WordArt 6"/>
          <p:cNvSpPr txBox="1"/>
          <p:nvPr/>
        </p:nvSpPr>
        <p:spPr>
          <a:xfrm>
            <a:off x="1523880" y="1371600"/>
            <a:ext cx="6124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楷体_GB2312"/>
              </a:rPr>
              <a:t>为了我们能健康成长，他们曾做过些什么？</a:t>
            </a:r>
            <a:endParaRPr b="1" lang="en-US" sz="1800" spc="-1" strike="noStrike">
              <a:ln w="0">
                <a:noFill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18" name="WordArt 8"/>
          <p:cNvSpPr txBox="1"/>
          <p:nvPr/>
        </p:nvSpPr>
        <p:spPr>
          <a:xfrm rot="5400000">
            <a:off x="-419400" y="952560"/>
            <a:ext cx="198108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cc0000"/>
                </a:solidFill>
                <a:latin typeface="仿宋_GB2312"/>
              </a:rPr>
              <a:t>想一想</a:t>
            </a:r>
            <a:endParaRPr b="1" lang="en-US" sz="1800" spc="-1" strike="noStrike">
              <a:ln w="0">
                <a:noFill/>
              </a:ln>
              <a:solidFill>
                <a:srgbClr val="cc0000"/>
              </a:solidFill>
              <a:latin typeface="仿宋_GB2312"/>
              <a:ea typeface="仿宋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9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9T03:37:23Z</dcterms:created>
  <dc:creator>幻灯片之家：www.eept.com</dc:creator>
  <dc:description>幻灯片之家：www.eept.com</dc:description>
  <cp:keywords>幻灯片之家：www.eept.com</cp:keywords>
  <dc:language>en-US</dc:language>
  <cp:lastModifiedBy>pc</cp:lastModifiedBy>
  <dcterms:modified xsi:type="dcterms:W3CDTF">2016-06-30T08:50:50Z</dcterms:modified>
  <cp:revision>7</cp:revision>
  <dc:subject>幻灯片之家：www.eept.com</dc:subject>
  <dc:title>幻灯片之家：www.ee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