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9.jpeg" ContentType="image/jpeg"/>
  <Override PartName="/ppt/media/image11.png" ContentType="image/png"/>
  <Override PartName="/ppt/media/image7.jpeg" ContentType="image/jpeg"/>
  <Override PartName="/ppt/media/image34.jpeg" ContentType="image/jpeg"/>
  <Override PartName="/ppt/media/image28.jpeg" ContentType="image/jpeg"/>
  <Override PartName="/ppt/media/image12.wmf" ContentType="image/x-wmf"/>
  <Override PartName="/ppt/media/image27.png" ContentType="image/png"/>
  <Override PartName="/ppt/media/image3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29.jpeg" ContentType="image/jpeg"/>
  <Override PartName="/ppt/media/image5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camera.wav" ContentType="audio/x-wav"/>
  <Override PartName="/ppt/media/image21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3.jpeg" ContentType="image/jpe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06AE-2C63-4DD5-8B0D-06059E5D4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C512-79BF-45DC-AFD8-886D0BB7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D064-03D2-43F3-9AB3-BA75EA410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CE12-F878-49B4-8E15-722EAB952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B459-69EC-4AA5-AE9A-CA6D43BA4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CB1D-EF38-4F5B-8CB6-03E8BC98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A747-47E9-4E27-B495-736114AE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BC99-F492-4250-A498-74162620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B6BA-64EB-489F-A7A4-79F8A73D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7AE1-F871-4BD4-82BD-771C0F6F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6194-8569-4CB9-AABB-B56E26C6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0450-19A9-4CF8-977F-A5937B48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021F-A52A-4E0A-8F82-E3CFF37C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8376-49A0-4457-A506-8E6F9F74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3416-AC45-44EA-8BEB-983ADB74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DDF4-FA5D-406F-8ACA-2D230059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A47A-762C-472F-91B3-CBDB0084D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6A72-7CD3-4BE1-AD8F-05D9B6E7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5A2A-9C20-4E8E-9733-F7AC3ECF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8D44-7A20-4E44-A8B0-B639BFCC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EA83-F9A5-4129-BA21-59F24806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23B4-6C04-4A70-99AD-EB2444C5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1938-38EC-419D-949D-106E8E0A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14B4-EE08-4F71-842D-F0014C2A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9F56-EE79-441A-8DEC-105B4517C0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109D-4D68-4C90-8E57-E4CDE074A62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2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1116000" y="2349360"/>
            <a:ext cx="70358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我们给自己定规则</a:t>
            </a:r>
            <a:r>
              <a:rPr b="1" lang="en-US" sz="40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课件免费下载</a:t>
            </a:r>
            <a:endParaRPr b="1" lang="en-US" sz="40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WordArt 3"/>
          <p:cNvSpPr txBox="1"/>
          <p:nvPr/>
        </p:nvSpPr>
        <p:spPr>
          <a:xfrm>
            <a:off x="1576440" y="765000"/>
            <a:ext cx="6113520" cy="9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第三单元 我和规则交朋友</a:t>
            </a:r>
            <a:endParaRPr b="1" lang="en-US" sz="2400" spc="-1" strike="noStrike">
              <a:ln w="0">
                <a:noFill/>
              </a:ln>
              <a:solidFill>
                <a:srgbClr val="ff99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52240" y="185760"/>
            <a:ext cx="4343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黑体"/>
                <a:ea typeface="黑体"/>
              </a:rPr>
              <a:t>活动三 假如不遵守规则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647640" y="10936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为什么有的同学能自觉遵守规则，有些同学违反规则呢？看看几个同学的想法和做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971800" y="54100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（课件：假如不遵守规则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不遵守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2514600" y="2438280"/>
            <a:ext cx="4191120" cy="28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不规01"/>
          <p:cNvPicPr/>
          <p:nvPr/>
        </p:nvPicPr>
        <p:blipFill>
          <a:blip r:embed="rId1"/>
          <a:stretch/>
        </p:blipFill>
        <p:spPr>
          <a:xfrm>
            <a:off x="611280" y="907920"/>
            <a:ext cx="78343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不规02"/>
          <p:cNvPicPr/>
          <p:nvPr/>
        </p:nvPicPr>
        <p:blipFill>
          <a:blip r:embed="rId1"/>
          <a:stretch/>
        </p:blipFill>
        <p:spPr>
          <a:xfrm>
            <a:off x="611280" y="981000"/>
            <a:ext cx="78343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不规03"/>
          <p:cNvPicPr/>
          <p:nvPr/>
        </p:nvPicPr>
        <p:blipFill>
          <a:blip r:embed="rId1"/>
          <a:stretch/>
        </p:blipFill>
        <p:spPr>
          <a:xfrm>
            <a:off x="468360" y="981000"/>
            <a:ext cx="78343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52240" y="185760"/>
            <a:ext cx="4343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黑体"/>
                <a:ea typeface="黑体"/>
              </a:rPr>
              <a:t>活动三 假如不遵守规则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09480" y="1197000"/>
            <a:ext cx="80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违规带来了哪些危害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13"/>
          <p:cNvPicPr/>
          <p:nvPr/>
        </p:nvPicPr>
        <p:blipFill>
          <a:blip r:embed="rId2"/>
          <a:stretch/>
        </p:blipFill>
        <p:spPr>
          <a:xfrm>
            <a:off x="468360" y="2421000"/>
            <a:ext cx="1727280" cy="1297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16"/>
          <p:cNvPicPr/>
          <p:nvPr/>
        </p:nvPicPr>
        <p:blipFill>
          <a:blip r:embed="rId3"/>
          <a:stretch/>
        </p:blipFill>
        <p:spPr>
          <a:xfrm>
            <a:off x="6372360" y="2421000"/>
            <a:ext cx="1728720" cy="1297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17"/>
          <p:cNvPicPr/>
          <p:nvPr/>
        </p:nvPicPr>
        <p:blipFill>
          <a:blip r:embed="rId4"/>
          <a:stretch/>
        </p:blipFill>
        <p:spPr>
          <a:xfrm>
            <a:off x="2411280" y="4221000"/>
            <a:ext cx="1657440" cy="1243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19"/>
          <p:cNvPicPr/>
          <p:nvPr/>
        </p:nvPicPr>
        <p:blipFill>
          <a:blip r:embed="rId5"/>
          <a:stretch/>
        </p:blipFill>
        <p:spPr>
          <a:xfrm>
            <a:off x="4427640" y="2421000"/>
            <a:ext cx="1726920" cy="1297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20"/>
          <p:cNvPicPr/>
          <p:nvPr/>
        </p:nvPicPr>
        <p:blipFill>
          <a:blip r:embed="rId6"/>
          <a:stretch/>
        </p:blipFill>
        <p:spPr>
          <a:xfrm>
            <a:off x="468360" y="4221000"/>
            <a:ext cx="1654200" cy="1239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24"/>
          <p:cNvPicPr/>
          <p:nvPr/>
        </p:nvPicPr>
        <p:blipFill>
          <a:blip r:embed="rId7"/>
          <a:stretch/>
        </p:blipFill>
        <p:spPr>
          <a:xfrm>
            <a:off x="2411280" y="2421000"/>
            <a:ext cx="1727280" cy="1297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29"/>
          <p:cNvPicPr/>
          <p:nvPr/>
        </p:nvPicPr>
        <p:blipFill>
          <a:blip r:embed="rId8"/>
          <a:stretch/>
        </p:blipFill>
        <p:spPr>
          <a:xfrm>
            <a:off x="6372360" y="4149720"/>
            <a:ext cx="1655640" cy="12430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1"/>
          <p:cNvSpPr/>
          <p:nvPr/>
        </p:nvSpPr>
        <p:spPr>
          <a:xfrm>
            <a:off x="7871040" y="2637000"/>
            <a:ext cx="790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图片点击后可进行缩放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2" descr="违规建房造成房屋坍塌jsp3s030308008"/>
          <p:cNvPicPr/>
          <p:nvPr/>
        </p:nvPicPr>
        <p:blipFill>
          <a:blip r:embed="rId9"/>
          <a:stretch/>
        </p:blipFill>
        <p:spPr>
          <a:xfrm>
            <a:off x="4427640" y="4149720"/>
            <a:ext cx="1728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52240" y="185760"/>
            <a:ext cx="4343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黑体"/>
                <a:ea typeface="黑体"/>
              </a:rPr>
              <a:t>活动三 假如不遵守规则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3" descr="jsp3s030308001客车超载翻入沟中"/>
          <p:cNvPicPr/>
          <p:nvPr/>
        </p:nvPicPr>
        <p:blipFill>
          <a:blip r:embed="rId2"/>
          <a:stretch/>
        </p:blipFill>
        <p:spPr>
          <a:xfrm>
            <a:off x="762120" y="888840"/>
            <a:ext cx="7619760" cy="50803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5562720" y="5486400"/>
            <a:ext cx="3276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客车超载翻入沟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jsp3s030308004违规造成交通事故"/>
          <p:cNvPicPr/>
          <p:nvPr/>
        </p:nvPicPr>
        <p:blipFill>
          <a:blip r:embed="rId2"/>
          <a:stretch/>
        </p:blipFill>
        <p:spPr>
          <a:xfrm>
            <a:off x="987480" y="741240"/>
            <a:ext cx="7165800" cy="53722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52240" y="185760"/>
            <a:ext cx="4343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黑体"/>
                <a:ea typeface="黑体"/>
              </a:rPr>
              <a:t>活动三 假如不遵守规则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110040" y="5486400"/>
            <a:ext cx="3152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违规造成交通事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jsp3s030308005违章操作引发爆竹零售摊点连环爆炸"/>
          <p:cNvPicPr/>
          <p:nvPr/>
        </p:nvPicPr>
        <p:blipFill>
          <a:blip r:embed="rId2"/>
          <a:stretch/>
        </p:blipFill>
        <p:spPr>
          <a:xfrm>
            <a:off x="762120" y="895320"/>
            <a:ext cx="7619760" cy="5067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52240" y="185760"/>
            <a:ext cx="4343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黑体"/>
                <a:ea typeface="黑体"/>
              </a:rPr>
              <a:t>活动三 假如不遵守规则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2138400" y="5486400"/>
            <a:ext cx="510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违章操作引发爆竹零售摊点连环爆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jsp3s030308007私藏柴油引火烧房"/>
          <p:cNvPicPr/>
          <p:nvPr/>
        </p:nvPicPr>
        <p:blipFill>
          <a:blip r:embed="rId2"/>
          <a:stretch/>
        </p:blipFill>
        <p:spPr>
          <a:xfrm>
            <a:off x="990720" y="838080"/>
            <a:ext cx="7162560" cy="53722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52240" y="185760"/>
            <a:ext cx="4343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黑体"/>
                <a:ea typeface="黑体"/>
              </a:rPr>
              <a:t>活动三 假如不遵守规则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195640" y="5661000"/>
            <a:ext cx="5105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私藏柴油引火烧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jsp3s030308008违章操作引爆烟花仓库"/>
          <p:cNvPicPr/>
          <p:nvPr/>
        </p:nvPicPr>
        <p:blipFill>
          <a:blip r:embed="rId2"/>
          <a:stretch/>
        </p:blipFill>
        <p:spPr>
          <a:xfrm>
            <a:off x="762120" y="882720"/>
            <a:ext cx="7619760" cy="50925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52240" y="185760"/>
            <a:ext cx="4343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黑体"/>
                <a:ea typeface="黑体"/>
              </a:rPr>
              <a:t>活动三 假如不遵守规则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2195640" y="5486400"/>
            <a:ext cx="5105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违章操作引爆烟花仓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52240" y="185760"/>
            <a:ext cx="4343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活动一 规则是怎么产生的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143000" y="1484280"/>
            <a:ext cx="674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边看边想：为什么要制定规则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跳绳"/>
          <p:cNvPicPr/>
          <p:nvPr/>
        </p:nvPicPr>
        <p:blipFill>
          <a:blip r:embed="rId2"/>
          <a:stretch/>
        </p:blipFill>
        <p:spPr>
          <a:xfrm>
            <a:off x="2343240" y="2492280"/>
            <a:ext cx="4402080" cy="28432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2286000" y="5638680"/>
            <a:ext cx="64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（点击图片播放动画：活动中的矛盾）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jsp3s030308012手持氢气球燃爆伤学生"/>
          <p:cNvPicPr/>
          <p:nvPr/>
        </p:nvPicPr>
        <p:blipFill>
          <a:blip r:embed="rId2"/>
          <a:stretch/>
        </p:blipFill>
        <p:spPr>
          <a:xfrm>
            <a:off x="990720" y="743040"/>
            <a:ext cx="7162560" cy="53719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52240" y="185760"/>
            <a:ext cx="4343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黑体"/>
                <a:ea typeface="黑体"/>
              </a:rPr>
              <a:t>活动三 假如不遵守规则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938240" y="5635800"/>
            <a:ext cx="5348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手持氢气球燃爆伤学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52240" y="185760"/>
            <a:ext cx="4343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黑体"/>
                <a:ea typeface="黑体"/>
              </a:rPr>
              <a:t>活动三 假如不遵守规则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3" descr="违规建房造成房屋坍塌jsp3s030308008"/>
          <p:cNvPicPr/>
          <p:nvPr/>
        </p:nvPicPr>
        <p:blipFill>
          <a:blip r:embed="rId2"/>
          <a:stretch/>
        </p:blipFill>
        <p:spPr>
          <a:xfrm>
            <a:off x="971640" y="836640"/>
            <a:ext cx="7057800" cy="52941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1619280" y="5877000"/>
            <a:ext cx="53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违规建房造成房屋坍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文本框 8197"/>
          <p:cNvSpPr/>
          <p:nvPr/>
        </p:nvSpPr>
        <p:spPr>
          <a:xfrm>
            <a:off x="1751040" y="719280"/>
            <a:ext cx="58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jsp3s030308017油库爆炸"/>
          <p:cNvPicPr/>
          <p:nvPr/>
        </p:nvPicPr>
        <p:blipFill>
          <a:blip r:embed="rId2"/>
          <a:stretch/>
        </p:blipFill>
        <p:spPr>
          <a:xfrm>
            <a:off x="2195640" y="762120"/>
            <a:ext cx="4000320" cy="53337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52240" y="185760"/>
            <a:ext cx="4343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黑体"/>
                <a:ea typeface="黑体"/>
              </a:rPr>
              <a:t>活动三 假如不遵守规则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430320" y="981000"/>
            <a:ext cx="91188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油库违反操作规则发生重大爆炸事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9A54-7173-4786-91E3-2773242964F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52240" y="185760"/>
            <a:ext cx="4343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活动四 我要守规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84360" y="2349360"/>
            <a:ext cx="803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同学们，你守规则了吗？在家里，在学校里，在电影院，在商场，在公园，在马路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让我们来评评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1619280" y="1935000"/>
            <a:ext cx="5978520" cy="45100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52240" y="185760"/>
            <a:ext cx="4343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活动一 规则是怎么产生的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647640" y="110016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假如这样的事情发生在你们班，你们会怎样制定规则呢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011400" y="36511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Times New Roman"/>
                <a:ea typeface="华文彩云"/>
              </a:rPr>
              <a:t>规则的制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987640" y="4278240"/>
            <a:ext cx="51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要考虑多数人的利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975040" y="4941720"/>
            <a:ext cx="367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大多数人认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975040" y="55897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能够做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52240" y="185760"/>
            <a:ext cx="4343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活动二 我们的约定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684360" y="1341360"/>
            <a:ext cx="79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这些行为会有哪些不好的影响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班级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2916360" y="2276640"/>
            <a:ext cx="2743200" cy="26733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2411280" y="522936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（课件：班级存在问题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问题01"/>
          <p:cNvPicPr/>
          <p:nvPr/>
        </p:nvPicPr>
        <p:blipFill>
          <a:blip r:embed="rId1"/>
          <a:stretch/>
        </p:blipFill>
        <p:spPr>
          <a:xfrm>
            <a:off x="1835280" y="311040"/>
            <a:ext cx="6029280" cy="65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5"/>
          <p:cNvSpPr/>
          <p:nvPr/>
        </p:nvSpPr>
        <p:spPr>
          <a:xfrm>
            <a:off x="2627280" y="2565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2" descr="问题02"/>
          <p:cNvPicPr/>
          <p:nvPr/>
        </p:nvPicPr>
        <p:blipFill>
          <a:blip r:embed="rId1"/>
          <a:stretch/>
        </p:blipFill>
        <p:spPr>
          <a:xfrm>
            <a:off x="1116000" y="620640"/>
            <a:ext cx="684540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问题03"/>
          <p:cNvPicPr/>
          <p:nvPr/>
        </p:nvPicPr>
        <p:blipFill>
          <a:blip r:embed="rId1"/>
          <a:stretch/>
        </p:blipFill>
        <p:spPr>
          <a:xfrm>
            <a:off x="1692360" y="457200"/>
            <a:ext cx="6356160" cy="640080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8197"/>
          <p:cNvSpPr/>
          <p:nvPr/>
        </p:nvSpPr>
        <p:spPr>
          <a:xfrm>
            <a:off x="1660680" y="276120"/>
            <a:ext cx="582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问题04"/>
          <p:cNvPicPr/>
          <p:nvPr/>
        </p:nvPicPr>
        <p:blipFill>
          <a:blip r:embed="rId1"/>
          <a:stretch/>
        </p:blipFill>
        <p:spPr>
          <a:xfrm>
            <a:off x="1619280" y="349200"/>
            <a:ext cx="5595840" cy="65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52240" y="185760"/>
            <a:ext cx="4343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活动二 我们的约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684360" y="2133720"/>
            <a:ext cx="79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小组活动：按照制定规则的要求，针对班级的情况制定班级公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PE02658_"/>
          <p:cNvPicPr/>
          <p:nvPr/>
        </p:nvPicPr>
        <p:blipFill>
          <a:blip r:embed="rId2"/>
          <a:stretch/>
        </p:blipFill>
        <p:spPr>
          <a:xfrm>
            <a:off x="395280" y="4581360"/>
            <a:ext cx="2590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7T08:16:42Z</dcterms:created>
  <dc:creator>第一PPT模板网-WWW.1PPT.COM</dc:creator>
  <dc:description>第一PPT模板网-WWW.1PPT.COM
</dc:description>
  <cp:keywords>第一PPT模板网-WWW.1PPT.COM</cp:keywords>
  <dc:language>en-US</dc:language>
  <cp:lastModifiedBy>pc</cp:lastModifiedBy>
  <dcterms:modified xsi:type="dcterms:W3CDTF">2016-06-30T08:50:57Z</dcterms:modified>
  <cp:revision>11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