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893-29F9-4632-A1D9-B3655903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BA1-4289-4930-8975-1EAD3007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E8C-46CB-470B-9C12-9BC1EBD3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546-8592-491C-A9B7-F5322570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152F-2BB9-4352-9CAC-84DEC13B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16F2-0317-4E7C-BC95-789E40BB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B824-E589-420C-A07F-8CEFDC07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34D-35F6-416D-B589-E0E71B8E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2B34-F0C9-4AB9-B75B-2D4B97F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D757-E2BD-4C9D-9D78-C8EF03E2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5004-054E-4429-ADC0-DAB9840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94D-A4F5-4E5C-A9C2-F20801DD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4A50-7639-47D6-A23E-4A98CA5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6256-622E-4F47-A2B9-2D1D34BC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F979-B16F-4B29-8DD3-D0D7F861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7853-F7DA-45E9-9876-88E72D18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AF36-F124-4189-902A-ACA636A9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D72-1AED-4C49-943A-3268D9B0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623-C19C-43D6-ADD7-76AFB12B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74A-503C-4DBF-8A8C-E51D9194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7BB-9508-4886-9637-6F05AA99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991-C8F1-4CE6-A6EE-EFA998E0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C69-D570-4D66-8EE9-F8C9E4B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D60-AEFD-4DDE-B588-BC95AE0B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563-7F00-4751-A455-1F32A77F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1787-996E-48D1-91B2-2C727A6609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200891624136137_2"/>
          <p:cNvPicPr/>
          <p:nvPr/>
        </p:nvPicPr>
        <p:blipFill>
          <a:blip r:embed="rId1"/>
          <a:srcRect l="25781" t="9375" r="15627" b="0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228600" y="1676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我们来造环形山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cf1b9d160ca80867f3de32ed[1]"/>
          <p:cNvPicPr/>
          <p:nvPr/>
        </p:nvPicPr>
        <p:blipFill>
          <a:blip r:embed="rId1"/>
          <a:srcRect l="0" t="0" r="2551" b="2742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34320" y="533160"/>
            <a:ext cx="1828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月球上最大的环形山位于南极的贝利环形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533520" y="1981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环形山的形成与许多因素有关，我们小组认为火山喷发是环形山形成的可能性比较大。因为环形山与火山口的形状、特点都很相似。所以我认为环形山应该是火山爆发形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971800" y="7621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的推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199"/>
          <p:cNvSpPr/>
          <p:nvPr/>
        </p:nvSpPr>
        <p:spPr>
          <a:xfrm>
            <a:off x="674640" y="426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009082510242843063"/>
          <p:cNvPicPr/>
          <p:nvPr/>
        </p:nvPicPr>
        <p:blipFill>
          <a:blip r:embed="rId1"/>
          <a:srcRect l="3659" t="0" r="4809" b="0"/>
          <a:stretch/>
        </p:blipFill>
        <p:spPr>
          <a:xfrm>
            <a:off x="457200" y="1585800"/>
            <a:ext cx="4038480" cy="2957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火山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u=501207932,1696900641&amp;fm=0&amp;gp=0"/>
          <p:cNvPicPr/>
          <p:nvPr/>
        </p:nvPicPr>
        <p:blipFill>
          <a:blip r:embed="rId2"/>
          <a:stretch/>
        </p:blipFill>
        <p:spPr>
          <a:xfrm>
            <a:off x="4876920" y="1571760"/>
            <a:ext cx="4038480" cy="3000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1"/>
          <p:cNvSpPr/>
          <p:nvPr/>
        </p:nvSpPr>
        <p:spPr>
          <a:xfrm>
            <a:off x="5334120" y="480060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环形山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200891624136137_2"/>
          <p:cNvPicPr/>
          <p:nvPr/>
        </p:nvPicPr>
        <p:blipFill>
          <a:blip r:embed="rId1"/>
          <a:srcRect l="25781" t="9375" r="15627" b="0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我们来造环形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9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5527010_213758091356_2"/>
          <p:cNvPicPr/>
          <p:nvPr/>
        </p:nvPicPr>
        <p:blipFill>
          <a:blip r:embed="rId1"/>
          <a:srcRect l="0" t="0" r="0" b="47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228600" y="228600"/>
            <a:ext cx="8686800" cy="6477120"/>
          </a:xfrm>
          <a:prstGeom prst="rect">
            <a:avLst/>
          </a:prstGeom>
          <a:solidFill>
            <a:srgbClr val="c0c0c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2819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实验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4560" y="3123720"/>
            <a:ext cx="8839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月球上的环形山是否由火山喷发形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7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8280" y="380880"/>
            <a:ext cx="9045720" cy="1143000"/>
          </a:xfrm>
          <a:prstGeom prst="rect">
            <a:avLst/>
          </a:prstGeom>
          <a:solidFill>
            <a:srgbClr val="c0c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关于环形山形成的两种比较科学的解释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solidFill>
            <a:srgbClr val="cc99ff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月球形成不久，月球内部的高热熔岩与气体冲破表层，喷射而出，形成了环形山，就像地球上的火山喷发一样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流星体撞击月球。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97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日有一颗大的陨星体在月面上撞成一个有足球场那么大的陨石坑。撞击时引起的月震，被放置在月面的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月震仪记录下来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火山爆发时，它们起初威力较强，熔岩喷出又高又远，堆积喷口外部，形成环形山。后来喷射威力减小，喷射堆积只在中央底部，堆成小山峰，就是环形山中的中央峰。有的喷射熄灭较早，或没有再次喷射，就没有中央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80880" y="68580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补充知识   火山爆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4_22_48_01300000068432120364484342523_s"/>
          <p:cNvPicPr/>
          <p:nvPr/>
        </p:nvPicPr>
        <p:blipFill>
          <a:blip r:embed="rId1"/>
          <a:stretch/>
        </p:blipFill>
        <p:spPr>
          <a:xfrm>
            <a:off x="1828800" y="12952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2895480" y="5257800"/>
            <a:ext cx="2057400" cy="642600"/>
          </a:xfrm>
          <a:prstGeom prst="rect">
            <a:avLst/>
          </a:prstGeom>
          <a:solidFill>
            <a:srgbClr val="c0c0c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中央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7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8595798_091517726178_2"/>
          <p:cNvPicPr/>
          <p:nvPr/>
        </p:nvPicPr>
        <p:blipFill>
          <a:blip r:embed="rId1"/>
          <a:srcRect l="7031" t="0" r="-778" b="6944"/>
          <a:stretch/>
        </p:blipFill>
        <p:spPr>
          <a:xfrm>
            <a:off x="7632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2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2209320"/>
            <a:ext cx="762012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让我们先来看一组有关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于月球上的环形山图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685800" y="762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准备材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3520" y="22096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环形山是火山爆发形成的实验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』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准备材料：盒子、泥沙、少量面粉、水、剪刀、透明胶、针管、吸管、勺子（搅拌泥沙和面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914400" y="685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实验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62120" y="1647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把报纸铺在桌面上，避免实验过程弄脏桌椅。把盆子放在报纸上，剪一段透明胶，把吸管固定在盆子的底面，两端的吸管口都朝上，接着倒入体积为盆子容积的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之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沙土，表示月球表面土壤，针管中注入适量的水，然后在确保沙土表面为平面的状态下，针管口对准吸管口的一端喷出水，最后用笔在记录表上记录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6C3E-51FB-4CA9-A6F9-DADAC4D744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们的发现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093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吸管的直径大小可以改变“环形山”的大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4224939400428427588"/>
          <p:cNvPicPr/>
          <p:nvPr/>
        </p:nvPicPr>
        <p:blipFill>
          <a:blip r:embed="rId1"/>
          <a:stretch/>
        </p:blipFill>
        <p:spPr>
          <a:xfrm>
            <a:off x="1752480" y="685800"/>
            <a:ext cx="5241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5"/>
          <p:cNvGrpSpPr/>
          <p:nvPr/>
        </p:nvGrpSpPr>
        <p:grpSpPr>
          <a:xfrm>
            <a:off x="0" y="1295280"/>
            <a:ext cx="9144000" cy="5562360"/>
            <a:chOff x="0" y="1295280"/>
            <a:chExt cx="9144000" cy="5562360"/>
          </a:xfrm>
        </p:grpSpPr>
        <p:pic>
          <p:nvPicPr>
            <p:cNvPr id="90" name="Picture 6" descr="6301751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9144000" cy="55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7"/>
            <p:cNvSpPr/>
            <p:nvPr/>
          </p:nvSpPr>
          <p:spPr>
            <a:xfrm>
              <a:off x="4876920" y="2248560"/>
              <a:ext cx="1066680" cy="476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300000164586121824780890041"/>
          <p:cNvPicPr/>
          <p:nvPr/>
        </p:nvPicPr>
        <p:blipFill>
          <a:blip r:embed="rId1"/>
          <a:stretch/>
        </p:blipFill>
        <p:spPr>
          <a:xfrm>
            <a:off x="1523880" y="0"/>
            <a:ext cx="56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762120" y="1143000"/>
            <a:ext cx="7619760" cy="5029200"/>
            <a:chOff x="762120" y="1143000"/>
            <a:chExt cx="7619760" cy="5029200"/>
          </a:xfrm>
        </p:grpSpPr>
        <p:pic>
          <p:nvPicPr>
            <p:cNvPr id="94" name="Picture 4" descr="20101018232256300"/>
            <p:cNvPicPr/>
            <p:nvPr/>
          </p:nvPicPr>
          <p:blipFill>
            <a:blip r:embed="rId1"/>
            <a:stretch/>
          </p:blipFill>
          <p:spPr>
            <a:xfrm>
              <a:off x="1295280" y="1143000"/>
              <a:ext cx="6477120" cy="48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5"/>
            <p:cNvSpPr/>
            <p:nvPr/>
          </p:nvSpPr>
          <p:spPr>
            <a:xfrm>
              <a:off x="762120" y="5715000"/>
              <a:ext cx="761976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形山 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14176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形山，希腊文的意思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碗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形山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常指碗状凹坑结构的坑。环形山又称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环形山是月球上面最显著的特征，几乎布满了整个月面。月面上星罗棋布、重重叠叠的环形山酷似地球上的火山口，中央有一块圆形的平地，外围是一圈隆起的山环，内壁陡峭，外坡平缓。环形山的高度一般在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里之间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形山 相关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面上最大的环形山为月球南极附近的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贝利环形山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直径达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95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里。环形山大多数以著名天文学家或其他学者的名字命名，月球背面的环形山中，有六座分别以我国古代天文学家名字命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月球上的环形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80880" y="160020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月球地貌的最大特征，就是分布着许多大大小小的环形山。环形山大多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圆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，有单个的，有几个挤叠在一起的，也有大环套小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环形山的直径有的不足一千米，有的直径能达到几百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7:50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39Z</dcterms:modified>
  <cp:revision>1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