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785-510B-4572-88FA-9F775A2D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134-EEE8-42C0-92D6-00E3BADB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882-6200-4F97-AA5A-57D6EDCE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D25-7417-46D3-9D96-AB7ED2ED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16B7-0186-443A-850C-E8CA34A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A3A7-9D01-4213-92A7-C3E36C78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720-E32B-4038-A87E-45466297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772-EBD6-4437-92B3-9453D8A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CD2-7DDD-4927-9BA6-00A7C9E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6E6-DDAE-463E-A6E2-483A8284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7F7-ED05-4F0E-831C-E4A6651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2E2-EBAA-43C5-A915-E104C028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8703-8F21-4E2E-9627-6E3FFDC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B62A-4B46-436A-8518-1566F25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73D-3C8C-4B3F-BDFC-EEC1DA53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4D7-CB72-4FB0-BECD-6CE8379A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64C-8FE1-4F60-97BD-EE0111C9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6C95-6673-45A4-A356-3F35976C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2047-F429-4C13-A9E1-2167A05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3D35-D09F-4B84-ADFC-A75D3BA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F1F5-CC9E-4C74-AF64-A700D79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E444-51C0-4173-9342-BA32D40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5DC-403E-49BB-BFFE-AEA9589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AAE2-F845-4CA9-80B6-9D77EE83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458E-CCA8-411C-AE87-CD6C07F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663E-5224-453E-B1D7-CFFE335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6AC5-29A5-44D5-BF71-C7F0687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3F4E-2258-4D2E-BC43-62D38753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A1D3-B084-4423-BC3C-779ABE5F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9BF1-272A-4AE9-8E07-F15A9ECC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630B7-6BFA-428F-8A72-8CAFC4E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66B0E-3C09-4A70-9DB3-44DB6481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69532-4080-4375-995B-BF919A32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BC0-44F9-4DF1-9304-5E0871E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5D0B2-A101-4EAC-B7F2-451BC6D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43B11-FF3C-49DB-80BE-1A7CC3A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BF7AE-EE0E-409F-8155-593C7BBC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4F1A6-417C-4564-A543-177CB68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AD4A4-6D4D-4AA0-8214-C12F2B96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DA0E6-BF29-4F5F-BB1F-A5F431E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84E98-9A66-4CDA-BD22-AD2CDEA3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33344-37AA-4BFC-BA35-506FBC5A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4B599-55A4-47E0-9E56-2D5E7624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0D3E-D7BF-40E5-A654-DFE131D4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09C-E08C-4A11-8EB9-CD1E0D5A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BAF3-4362-42BE-B554-FDE199B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AF1D-3913-4427-8536-0AAEF620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F899-17B1-4F0D-8AD2-972AE30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DE50-F964-4BDD-8F8C-01EFAE5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4BA4-3F79-473A-A3A4-5DF61215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D830-4C14-4673-BE8F-59C3EB3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DE2C-361E-4A47-ADBC-9D94D9E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DD7C-BADB-4DDD-975B-5C91373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B8CE-6604-41F0-BDA0-95C31469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BCC9-4D2B-4762-A6B0-0EBCBBAD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FA1-06E6-46A5-A15E-A3AF318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E022-8D58-4FFC-B581-1772D8DC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7090C-8DFD-4E08-BF88-61C894D4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A2912-5BAB-431D-BDB0-EBFAD877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D631A-8E10-405D-8E96-D275E74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3EC8E-17D6-4854-8153-02BE600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CCFCE-78BA-4255-B0AD-BC278E2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FAC54-D45E-4563-9622-0CFA61DC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5AED4-888F-44D7-B0A6-CF0F599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4E6D4-BE01-47CF-8650-ED99D03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2488F-A462-4A21-84F8-E59237B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250-F9A2-44CD-AE79-6871BAE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D8FC0-AB3A-44FB-A714-5B4A22F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88907-F782-46F9-AD1F-CAC77ECF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8D98B-2711-4915-AD8A-E69741A4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FB81F-DAE7-4AC6-8E1D-E0F1DAC3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89C30-ADED-41B4-9235-92815CA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E8D2C-B36E-4AED-A7D0-70AE5122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2DFDD-A23F-4062-A8B7-61946930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5D4F2-8696-4CB2-AA75-C9E110B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E5D3C-3299-4088-A3B7-F08FBA3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4A87E-512B-4B8C-BDC1-0B7597CE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6E9-29FF-481C-A034-34CD826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DCF12-D54F-4A0D-9EBD-81D170B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E2338-7F44-4492-B8F4-0BCDD86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A69CF-7C4D-493A-AF16-9F2F3012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F9C6E-406C-4946-9703-B67B046B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0FE93-8ECE-4C98-814E-25B1F2B3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08312-E885-4227-B95C-F1A7B679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F828AD-E59B-4874-906E-274E8AEC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3B43F-7689-4588-ACEB-D5B6860E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D48C2-B5C5-4E93-944A-4200478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D48F5-200D-450F-B52F-05997BB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E5B-AFD4-40B2-AA9F-A1C5452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95AFB-1402-4071-910F-6D681A3C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01CBC-7D1D-4AE0-98A4-63AB1B2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D01D9-9843-4AA6-BE6E-9F0062E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A97E3-247D-4CBF-B50F-E2BE093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317AE-1F95-448F-B939-8B111DA1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146AF-8CEE-4847-B629-1BDC3E63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32B71-C621-4071-8442-7A2F7F2B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c0e5af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A8A-083F-47BD-B919-D420E13C0AD0}" type="datetime">
              <a: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8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1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5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5D3-FE1D-44A5-ABD8-1197607E68A3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B83-7BFC-4F09-94E0-27842BC766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101" name="直接连接符 10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c0e5a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104" name="直接连接符 17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ecf7e8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107" name="直接连接符 19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110" name="直接连接符 15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c0e5af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113" name="直接连接符 1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9113760" y="0"/>
            <a:ext cx="360" cy="6858000"/>
            <a:chOff x="9113760" y="0"/>
            <a:chExt cx="360" cy="6858000"/>
          </a:xfrm>
        </p:grpSpPr>
        <p:sp>
          <p:nvSpPr>
            <p:cNvPr id="116" name="直接连接符 21"/>
            <p:cNvSpPr/>
            <p:nvPr/>
          </p:nvSpPr>
          <p:spPr>
            <a:xfrm>
              <a:off x="911376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911376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18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椭圆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椭圆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椭圆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椭圆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椭圆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989-0CC2-4BE7-902B-0DFD0883EFD7}" type="datetime">
              <a: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A072-77BB-4FC3-B66D-03CF3FF19973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66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c0e5af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169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72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74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76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78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551-AE2A-43BD-BE16-F6749019E4CC}" type="datetime">
              <a: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1433-BBDD-4D87-920D-6BC54C510591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225" name="直接连接符 12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c0e5a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228" name="直接连接符 1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ecf7e8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231" name="直接连接符 14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234" name="直接连接符 15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c0e5af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237" name="直接连接符 16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39" name="矩形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椭圆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椭圆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椭圆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椭圆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椭圆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97920" y="0"/>
            <a:ext cx="360" cy="6858000"/>
            <a:chOff x="9097920" y="0"/>
            <a:chExt cx="360" cy="6858000"/>
          </a:xfrm>
        </p:grpSpPr>
        <p:sp>
          <p:nvSpPr>
            <p:cNvPr id="246" name="直接连接符 25"/>
            <p:cNvSpPr/>
            <p:nvPr/>
          </p:nvSpPr>
          <p:spPr>
            <a:xfrm>
              <a:off x="909792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9097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0D3-BFBE-4F1C-A457-54CDD54EE251}" type="datetime">
              <a:rPr b="0" lang="zh-CN" sz="1200" spc="-1" strike="noStrike">
                <a:solidFill>
                  <a:srgbClr val="d6ecf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2E6-8B36-427F-B3C6-273C9F464637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290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c0e5af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293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296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98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300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2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4A5E-5D64-4786-9BAD-1E128E525FF9}" type="datetime">
              <a: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BB3C-06A1-428A-8698-578623421814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345" name="直接连接符 9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c0e5af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520" y="0"/>
            <a:ext cx="360" cy="6858000"/>
            <a:chOff x="6248520" y="0"/>
            <a:chExt cx="360" cy="6858000"/>
          </a:xfrm>
        </p:grpSpPr>
        <p:sp>
          <p:nvSpPr>
            <p:cNvPr id="348" name="直接连接符 7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3816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62485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92720" y="0"/>
            <a:ext cx="360" cy="6858000"/>
            <a:chOff x="6192720" y="0"/>
            <a:chExt cx="360" cy="6858000"/>
          </a:xfrm>
        </p:grpSpPr>
        <p:sp>
          <p:nvSpPr>
            <p:cNvPr id="351" name="直接连接符 8"/>
            <p:cNvSpPr/>
            <p:nvPr/>
          </p:nvSpPr>
          <p:spPr>
            <a:xfrm>
              <a:off x="6192720" y="0"/>
              <a:ext cx="0" cy="6858000"/>
            </a:xfrm>
            <a:prstGeom prst="line">
              <a:avLst/>
            </a:prstGeom>
            <a:ln w="1260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6192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354" name="直接连接符 10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56" name="矩形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358" name="直接连接符 12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60" name="椭圆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C8B9-107D-421D-89F8-59641DF9185F}" type="datetime">
              <a: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2E9-6AC6-4122-8CDF-12F0924D52EF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403" name="直接连接符 8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05" name="椭圆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407" name="直接连接符 9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09" name="矩形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411" name="直接连接符 11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248520" y="0"/>
            <a:ext cx="360" cy="6858000"/>
            <a:chOff x="6248520" y="0"/>
            <a:chExt cx="360" cy="6858000"/>
          </a:xfrm>
        </p:grpSpPr>
        <p:sp>
          <p:nvSpPr>
            <p:cNvPr id="414" name="直接连接符 18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38160">
              <a:solidFill>
                <a:srgbClr val="c0e5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62485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192720" y="0"/>
            <a:ext cx="360" cy="6858000"/>
            <a:chOff x="6192720" y="0"/>
            <a:chExt cx="360" cy="6858000"/>
          </a:xfrm>
        </p:grpSpPr>
        <p:sp>
          <p:nvSpPr>
            <p:cNvPr id="417" name="直接连接符 19"/>
            <p:cNvSpPr/>
            <p:nvPr/>
          </p:nvSpPr>
          <p:spPr>
            <a:xfrm>
              <a:off x="6192720" y="0"/>
              <a:ext cx="0" cy="6858000"/>
            </a:xfrm>
            <a:prstGeom prst="line">
              <a:avLst/>
            </a:prstGeom>
            <a:ln w="1260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6192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D3B-D43F-4D36-AB23-ED25770C8EEC}" type="datetime">
              <a:rPr b="0" lang="zh-CN" sz="1200" spc="-1" strike="noStrike">
                <a:solidFill>
                  <a:srgbClr val="4e5b6f"/>
                </a:solidFill>
                <a:latin typeface="Century Schoolbook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0D8-929E-49FE-A14F-686A2B913565}" type="slidenum">
              <a:rPr b="1" lang="zh-CN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3" descr=""/>
          <p:cNvPicPr/>
          <p:nvPr/>
        </p:nvPicPr>
        <p:blipFill>
          <a:blip r:embed="rId1"/>
          <a:stretch/>
        </p:blipFill>
        <p:spPr>
          <a:xfrm>
            <a:off x="3492360" y="763560"/>
            <a:ext cx="5185080" cy="5661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763560"/>
            <a:ext cx="7372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4e5b6f"/>
                </a:solidFill>
                <a:latin typeface="宋体"/>
                <a:ea typeface="宋体"/>
              </a:rPr>
              <a:t>我们能为地球做些什么</a:t>
            </a:r>
            <a:r>
              <a:rPr b="1" lang="en-US" sz="3700" spc="-1" strike="noStrike">
                <a:solidFill>
                  <a:srgbClr val="4e5b6f"/>
                </a:solidFill>
                <a:latin typeface="宋体"/>
                <a:ea typeface="宋体"/>
              </a:rPr>
              <a:t>PPT</a:t>
            </a:r>
            <a:r>
              <a:rPr b="1" lang="zh-CN" sz="3700" spc="-1" strike="noStrike">
                <a:solidFill>
                  <a:srgbClr val="4e5b6f"/>
                </a:solidFill>
                <a:latin typeface="宋体"/>
                <a:ea typeface="宋体"/>
              </a:rPr>
              <a:t>课件下载</a:t>
            </a:r>
            <a:endParaRPr b="0" lang="en-US" sz="37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6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的生活与环境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82" name="Picture 2" descr="H:\课件\垃圾堆.jpg"/>
          <p:cNvPicPr/>
          <p:nvPr/>
        </p:nvPicPr>
        <p:blipFill>
          <a:blip r:embed="rId1"/>
          <a:stretch/>
        </p:blipFill>
        <p:spPr>
          <a:xfrm>
            <a:off x="758880" y="1600200"/>
            <a:ext cx="6864120" cy="487368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8197"/>
          <p:cNvSpPr/>
          <p:nvPr/>
        </p:nvSpPr>
        <p:spPr>
          <a:xfrm>
            <a:off x="1063800" y="59220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的生活与环境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85" name="Picture 2" descr="H:\课件\资阳水.jpg"/>
          <p:cNvPicPr/>
          <p:nvPr/>
        </p:nvPicPr>
        <p:blipFill>
          <a:blip r:embed="rId1"/>
          <a:stretch/>
        </p:blipFill>
        <p:spPr>
          <a:xfrm>
            <a:off x="1095480" y="1969920"/>
            <a:ext cx="6191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的生活与环境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87" name="Picture 2" descr="H:\课件\shuiwuran.jpg"/>
          <p:cNvPicPr/>
          <p:nvPr/>
        </p:nvPicPr>
        <p:blipFill>
          <a:blip r:embed="rId1"/>
          <a:stretch/>
        </p:blipFill>
        <p:spPr>
          <a:xfrm>
            <a:off x="1022400" y="1600200"/>
            <a:ext cx="6335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的生活与环境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89" name="Picture 2" descr="H:\课件\倒影.jpg"/>
          <p:cNvPicPr/>
          <p:nvPr/>
        </p:nvPicPr>
        <p:blipFill>
          <a:blip r:embed="rId1"/>
          <a:stretch/>
        </p:blipFill>
        <p:spPr>
          <a:xfrm>
            <a:off x="4071960" y="0"/>
            <a:ext cx="45021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372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5b6f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4e5b6f"/>
                </a:solidFill>
                <a:latin typeface="Century Schoolbook"/>
              </a:rPr>
              <a:t>无论是过去、现在、未来，还是家庭、国家、世界，环境永远是我们的朋友，善待朋友，就是善待我们自己。</a:t>
            </a:r>
            <a:br>
              <a:rPr sz="2800"/>
            </a:br>
            <a:endParaRPr b="0" lang="en-US" sz="28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28400" y="3285720"/>
            <a:ext cx="825804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那么，我们能为地球做些什么？能为环境做点什么呢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e5b6f"/>
                </a:solidFill>
                <a:latin typeface="Century Schoolbook"/>
              </a:rPr>
              <a:t>一、留住大自然的绿</a:t>
            </a:r>
            <a:endParaRPr b="0" lang="en-US" sz="4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642960" y="228600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绿色植物叶、茎中的叶绿素能进行光合作用，将二氧化碳转化成糖类时放出氧气及能量。动物要消耗氧气呼出二氧化碳，必须靠绿色植物进行光合作用来维持地球大气中的氧气平衡，人类的食物绝大多数直接（粮食蔬菜水果）或间接（肉类）来自植物，占人类能源绝大比例的石油、煤炭、天然气也主要来自远古植物，此外，木材供我们建造居室，棉麻供我们制衣，很多植物还可以直接入药或从中提取有效成分制成药物，总而言之，人的生活绝对离不开绿色植物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1071720" y="164304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绿色植物有什么作用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被砍伐的绿色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96" name="Picture 2" descr="H:\课件\jiedao.jpg"/>
          <p:cNvPicPr/>
          <p:nvPr/>
        </p:nvPicPr>
        <p:blipFill>
          <a:blip r:embed="rId1"/>
          <a:stretch/>
        </p:blipFill>
        <p:spPr>
          <a:xfrm>
            <a:off x="4143240" y="571680"/>
            <a:ext cx="324180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被砍伐的绿色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98" name="Picture 2" descr="H:\课件\海南红树林.jpg"/>
          <p:cNvPicPr/>
          <p:nvPr/>
        </p:nvPicPr>
        <p:blipFill>
          <a:blip r:embed="rId1"/>
          <a:stretch/>
        </p:blipFill>
        <p:spPr>
          <a:xfrm>
            <a:off x="3571920" y="214200"/>
            <a:ext cx="429732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5b6f"/>
                </a:solidFill>
                <a:latin typeface="Century Schoolbook"/>
              </a:rPr>
              <a:t>被践踏的绿色</a:t>
            </a:r>
            <a:endParaRPr b="0" lang="en-US" sz="4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00" name="Picture 2" descr="H:\课件\走草坪.jpg"/>
          <p:cNvPicPr/>
          <p:nvPr/>
        </p:nvPicPr>
        <p:blipFill>
          <a:blip r:embed="rId1"/>
          <a:stretch/>
        </p:blipFill>
        <p:spPr>
          <a:xfrm>
            <a:off x="1474920" y="2058840"/>
            <a:ext cx="5432400" cy="395604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8197"/>
          <p:cNvSpPr/>
          <p:nvPr/>
        </p:nvSpPr>
        <p:spPr>
          <a:xfrm>
            <a:off x="1279440" y="151272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青海沙尘暴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03" name="Picture 2" descr="H:\课件\青海沙尘暴.jpg"/>
          <p:cNvPicPr/>
          <p:nvPr/>
        </p:nvPicPr>
        <p:blipFill>
          <a:blip r:embed="rId1"/>
          <a:stretch/>
        </p:blipFill>
        <p:spPr>
          <a:xfrm>
            <a:off x="230040" y="1965240"/>
            <a:ext cx="79218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972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5b6f"/>
                </a:solidFill>
                <a:latin typeface="Century Schoolbook"/>
              </a:rPr>
              <a:t>地球给了我们生命，我们给了地球什么？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1285920" y="3357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全球变暖、生物减少、酸雨、森林锐减、大气和水的污染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5b6f"/>
                </a:solidFill>
                <a:latin typeface="Century Schoolbook"/>
              </a:rPr>
              <a:t>沙尘暴来袭</a:t>
            </a:r>
            <a:endParaRPr b="0" lang="en-US" sz="4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05" name="Picture 2" descr="H:\课件\凤凰城沙尘暴.jpg"/>
          <p:cNvPicPr/>
          <p:nvPr/>
        </p:nvPicPr>
        <p:blipFill>
          <a:blip r:embed="rId1"/>
          <a:stretch/>
        </p:blipFill>
        <p:spPr>
          <a:xfrm>
            <a:off x="622440" y="1633680"/>
            <a:ext cx="713736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5b6f"/>
                </a:solidFill>
                <a:latin typeface="Century Schoolbook"/>
              </a:rPr>
              <a:t>怎么留住大自然的绿？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99680" y="1856880"/>
            <a:ext cx="74674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entury Schoolbook"/>
              </a:rPr>
              <a:t>在大气污染日益严重的今天，不仅人类苦不堪言，就连植物也是深受其害。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entury Schoolbook"/>
              </a:rPr>
              <a:t>所以，留住绿色，不仅仅是要保护植被，还应减少植物赖以生存的空气污染、土壤污染、水污染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小学生能做到的是：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599840"/>
            <a:ext cx="74674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entury Schoolbook"/>
              </a:rPr>
              <a:t>爱惜文具，充分利用我们的书本，节约纸就等于保护了净化空气的森林资源；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entury Schoolbook"/>
              </a:rPr>
              <a:t>保护绿色，保护校园和周围的绿色植物，在庭院、阳台、学校的花坛里多种花草，爱护小树苗；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entury Schoolbook"/>
              </a:rPr>
              <a:t>不随意焚烧垃圾，因为很多垃圾焚烧时会产生有毒气体，污染空气：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entury Schoolbook"/>
              </a:rPr>
              <a:t>向父母宣传，购买节能型家用电器，用电少，对空气的污染也少；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entury Schoolbook"/>
              </a:rPr>
              <a:t>倡导步行，骑自行车；必须坐车时，尽量乘坐公交车。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entury Schoolbook"/>
              </a:rPr>
              <a:t>拒绝使用一次性筷子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一次性筷子的危害：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71680" y="1214280"/>
            <a:ext cx="7643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随意丢弃，影响环境卫生并且易造成第二次污染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砍伐树木，影响造林，减少氧气，造成水土流失，严重时会引发洪水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浪费木材。日本的资源比较缺乏，但森林覆盖率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7%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，可从来舍不得乱砍树木，而所需的卫生筷基本上从中国廉价进口，用完后的卫生筷再回收利用作为造纸的好原料，也不会造成资源的浪费。而我国森林覆盖率只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，却还在大量砍伐树木，造成资源的严重浪费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不卫生。因为在生产和运输过程中筷子没有封口，灰尘等一些杂物通过风很容易进入筷子里，而且好多生产厂家不消毒，等等，造成许多不良后果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二、打造节水型社会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99680" y="1999800"/>
            <a:ext cx="746748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我国的水资源总量在世界上并不少，但人均占有量却只有世界人均占有量的四分之一，是全球少数几个贫水国家之一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据调查显示，现在水污染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％来自工厂和企业的排水，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％来自家庭生活排水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其他国家都采用了各种节水措施：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99680" y="1928880"/>
            <a:ext cx="747252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现在许多国家的非饮用水，如厕所冲洗、园林和农田浇灌、道路保洁、洗车、城市喷泉、冷却设备补充用水等，都大量使用</a:t>
            </a:r>
            <a:r>
              <a:rPr b="0" lang="zh-CN" sz="2400" spc="-1" strike="noStrike">
                <a:solidFill>
                  <a:srgbClr val="ff0000"/>
                </a:solidFill>
                <a:latin typeface="Century Schoolbook"/>
              </a:rPr>
              <a:t>中水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。而我国现在大部分水仅使用一次便排入江河，只有很少一部分废水得到了再利用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143000" y="42861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entury Schoolbook"/>
              </a:rPr>
              <a:t>小资料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：排放的生活污水、工业废水经回收、处理后达到一定得水质标准，可在一定范围内重复使用的非饮用水，叫做</a:t>
            </a:r>
            <a:r>
              <a:rPr b="0" lang="zh-CN" sz="2400" spc="-1" strike="noStrike">
                <a:solidFill>
                  <a:srgbClr val="ff0000"/>
                </a:solidFill>
                <a:latin typeface="Century Schoolbook"/>
              </a:rPr>
              <a:t>中水</a:t>
            </a: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85480" y="499680"/>
            <a:ext cx="80010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Schoolbook"/>
              </a:rPr>
              <a:t>作为小学生，我们应该做到：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注意水龙头，避免漏损：水龙头随开随关，在学校、家里、公共场合看见水龙头没有关好，要及时关紧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a326"/>
                </a:solidFill>
                <a:latin typeface="Century Schoolbook"/>
              </a:rPr>
              <a:t>节约水资源，家里用过的淘米、洗菜水可以用来浇花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洗衣服的水可以用来拖地、冲厕所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a326"/>
                </a:solidFill>
                <a:latin typeface="Century Schoolbook"/>
              </a:rPr>
              <a:t>洗脸水可以用来洗脚，然后再冲厕所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要从自己做起，不和别人一起破坏水资源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a326"/>
                </a:solidFill>
                <a:latin typeface="Century Schoolbook"/>
              </a:rPr>
              <a:t>从家庭做起，让家人了解到破坏水资源的危险，让他们也不破坏水资源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还要让别人跟你一样保护水资源，让家长在工作单位上也节约用水，不要以为公家的水就可以浪费了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a326"/>
                </a:solidFill>
                <a:latin typeface="Century Schoolbook"/>
              </a:rPr>
              <a:t>如果见到有人故意破坏水源，应勇敢的向他劝说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三、减少垃圾污染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我们每天的生活都产生很多的垃圾。我们再丢弃这些垃圾的时候，可能从来不会关心它们的去向，似乎它们与我们的生活不再有任何关系。其实，这些垃圾正在越来越严重地破换这环境，影响着我们的生活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减少垃圾的方法有两个：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一是不浪费，少扔垃圾：二是不要的东西不应马上扔掉，要再利用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垃圾被扔到了哪里？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21" name="Picture 3" descr="H:\课件\大堆垃圾.jpg"/>
          <p:cNvPicPr/>
          <p:nvPr/>
        </p:nvPicPr>
        <p:blipFill>
          <a:blip r:embed="rId1"/>
          <a:stretch/>
        </p:blipFill>
        <p:spPr>
          <a:xfrm>
            <a:off x="781200" y="1477800"/>
            <a:ext cx="6819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焚烧垃圾更有害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23" name="Picture 2" descr="H:\课件\垃圾焚烧.jpg"/>
          <p:cNvPicPr/>
          <p:nvPr/>
        </p:nvPicPr>
        <p:blipFill>
          <a:blip r:embed="rId1"/>
          <a:stretch/>
        </p:blipFill>
        <p:spPr>
          <a:xfrm>
            <a:off x="1015920" y="1986120"/>
            <a:ext cx="6350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5b6f"/>
                </a:solidFill>
                <a:latin typeface="Century Schoolbook"/>
              </a:rPr>
              <a:t>人类对环境的破坏会反馈到我们身上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28440"/>
            <a:ext cx="48578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卡迪兹号油轮事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978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年美国一艘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万吨的超级油轮触礁沉没，原油全部泄露，污染海岸线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5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公里，造成海鸟死亡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万多吨，仅牡蛎就死掉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900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多吨，给污染区域的海洋生态环境造成的损失难以估量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7" name="Picture 2" descr="E:\53550_70_1277783549_88small.jpg"/>
          <p:cNvPicPr/>
          <p:nvPr/>
        </p:nvPicPr>
        <p:blipFill>
          <a:blip r:embed="rId1"/>
          <a:stretch/>
        </p:blipFill>
        <p:spPr>
          <a:xfrm>
            <a:off x="5000760" y="1857240"/>
            <a:ext cx="3425760" cy="3643560"/>
          </a:xfrm>
          <a:prstGeom prst="rect">
            <a:avLst/>
          </a:prstGeom>
          <a:ln w="0">
            <a:noFill/>
          </a:ln>
        </p:spPr>
      </p:pic>
      <p:pic>
        <p:nvPicPr>
          <p:cNvPr id="468" name="Vangelis-Conquest Of Paradise.mp3" descr=""/>
          <p:cNvPicPr/>
          <p:nvPr/>
        </p:nvPicPr>
        <p:blipFill>
          <a:blip r:embed="rId2"/>
          <a:stretch/>
        </p:blipFill>
        <p:spPr>
          <a:xfrm>
            <a:off x="50004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垃圾村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25" name="Picture 2" descr="H:\课件\垃圾村.jpg"/>
          <p:cNvPicPr/>
          <p:nvPr/>
        </p:nvPicPr>
        <p:blipFill>
          <a:blip r:embed="rId1"/>
          <a:stretch/>
        </p:blipFill>
        <p:spPr>
          <a:xfrm>
            <a:off x="3429000" y="35712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74678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能做到的：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99680" y="1000080"/>
            <a:ext cx="7467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充分利用家里的剩蔬菜，做炒饭等，减少浪费：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纸是用木材做原料的，所以我们应该珍惜用纸，用广告或者宣传单的背面做记录纸，尽量不用一次性纸制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买东西时拒绝多余的包装：吃剩的菜不要用保鲜纸，把它装到有盖的容器里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尽可能买玻璃瓶装的饮料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买方便面时，不要买碗装的，买袋装的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不用超市、菜场的塑料袋，自己拿袋子去；把啤酒瓶、牛奶瓶送到店里，把易拉罐打扁，送去再回收利用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不要乱扔垃圾，把它们扔进垃圾箱里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焚烧一些塑料、工业废料会产生有害气体，严禁焚烧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用电池时，用充电式电池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文本框 8197"/>
          <p:cNvSpPr/>
          <p:nvPr/>
        </p:nvSpPr>
        <p:spPr>
          <a:xfrm>
            <a:off x="1506600" y="66528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28400" y="428400"/>
            <a:ext cx="74674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Schoolbook"/>
              </a:rPr>
              <a:t>环保公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培养绿色情感，爱护花草树木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言行举止文明，崇尚勤俭节约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爱护环境卫生，创建绿色氛围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节水节电光荣，废旧品资源化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学习环保知识，积极宣传环保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争做环保明星，建设绿色家园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提高环保素质，增强生活品位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 algn="ctr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</a:rPr>
              <a:t>提倡绿色消费，追求现代文明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请写下你能为地球做的事情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531" name="Picture 2" descr="H:\课件\img200810281413270.jpg"/>
          <p:cNvPicPr/>
          <p:nvPr/>
        </p:nvPicPr>
        <p:blipFill>
          <a:blip r:embed="rId1"/>
          <a:stretch/>
        </p:blipFill>
        <p:spPr>
          <a:xfrm>
            <a:off x="1428840" y="1655640"/>
            <a:ext cx="5524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AF02-CACA-419B-9491-CD2EE24E67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:\课件\img200810281413271.jpg"/>
          <p:cNvPicPr/>
          <p:nvPr/>
        </p:nvPicPr>
        <p:blipFill>
          <a:blip r:embed="rId1"/>
          <a:stretch/>
        </p:blipFill>
        <p:spPr>
          <a:xfrm>
            <a:off x="714240" y="214200"/>
            <a:ext cx="67262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214200" y="499680"/>
            <a:ext cx="85010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多年前，巴西的城市库巴唐有数十个出生的婴儿没有脑子，这个城市一夜之间得到了一个充满恐怖的外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死亡谷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0" name="Picture 2" descr="E:\库巴唐.jpg"/>
          <p:cNvPicPr/>
          <p:nvPr/>
        </p:nvPicPr>
        <p:blipFill>
          <a:blip r:embed="rId1"/>
          <a:stretch/>
        </p:blipFill>
        <p:spPr>
          <a:xfrm>
            <a:off x="1500120" y="2428920"/>
            <a:ext cx="569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3840" y="214200"/>
            <a:ext cx="82868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今天，库巴唐市内的烟囱依然不间断地释放着色彩斑斓的工业废气，市里也依然弥漫着一股腐臭的气味。科学家发现，这里的市民患各种癌症的概率高的惊人，是其他城市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2" name="Picture 2" descr="E:\库巴唐2.jpg"/>
          <p:cNvPicPr/>
          <p:nvPr/>
        </p:nvPicPr>
        <p:blipFill>
          <a:blip r:embed="rId1"/>
          <a:stretch/>
        </p:blipFill>
        <p:spPr>
          <a:xfrm>
            <a:off x="1357200" y="2214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285840" y="642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在印度，一家农药厂发生爆炸，毒气泄漏，造成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万多人死亡，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万人受到波及，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万人可能永久失明或终生残疾，近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 00</a:t>
            </a:r>
            <a:r>
              <a:rPr b="0" lang="zh-CN" sz="2800" spc="-1" strike="noStrike">
                <a:solidFill>
                  <a:srgbClr val="000000"/>
                </a:solidFill>
                <a:latin typeface="Century Schoolbook"/>
              </a:rPr>
              <a:t>万居民受到不同程度的影响，很多胎儿死在母亲的腹中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Picture 2" descr="E:\印度.jpg"/>
          <p:cNvPicPr/>
          <p:nvPr/>
        </p:nvPicPr>
        <p:blipFill>
          <a:blip r:embed="rId1"/>
          <a:stretch/>
        </p:blipFill>
        <p:spPr>
          <a:xfrm>
            <a:off x="1785960" y="27147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环境问题在中国也十分严峻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14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由于环境污染，中国儿童血液中铅含量超过临界水平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全国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的城市人口呼吸着严重污染的空气，有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的国土被酸雨侵蚀。其中浙江省酸雨覆盖率已经达到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680" indent="-27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据世界卫生组织公布的有关资料显示：在全世界污染最严重的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个城市中，我国占了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个，全世界污染排名前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位的城市中，我们占了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个；另据国家环保总局透露，我国环境污染恶化还在加重，仅大气污染每年就损失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100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多亿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的生活与环境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78" name="Picture 2" descr="H:\课件\大雾堵车.jpg"/>
          <p:cNvPicPr/>
          <p:nvPr/>
        </p:nvPicPr>
        <p:blipFill>
          <a:blip r:embed="rId1"/>
          <a:stretch/>
        </p:blipFill>
        <p:spPr>
          <a:xfrm>
            <a:off x="944640" y="1474920"/>
            <a:ext cx="69134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5b6f"/>
                </a:solidFill>
                <a:latin typeface="Century Schoolbook"/>
              </a:rPr>
              <a:t>我们的生活与环境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80" name="Picture 2" descr="H:\课件\环境破坏.jpg"/>
          <p:cNvPicPr/>
          <p:nvPr/>
        </p:nvPicPr>
        <p:blipFill>
          <a:blip r:embed="rId1"/>
          <a:stretch/>
        </p:blipFill>
        <p:spPr>
          <a:xfrm>
            <a:off x="1000080" y="1714680"/>
            <a:ext cx="6334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8:49:00Z</dcterms:created>
  <dc:creator>第一PPT模板网-WWW.1PPT.COM</dc:creator>
  <dc:description>第一PPT模板网-WWW.1PPT.COM</dc:description>
  <cp:keywords>第一PPT模板网-WWW.1PPT.COM</cp:keywords>
  <dc:language>en-US</dc:language>
  <cp:lastModifiedBy>pc</cp:lastModifiedBy>
  <dcterms:modified xsi:type="dcterms:W3CDTF">2016-06-30T08:50:58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