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15.jpeg" ContentType="image/jpeg"/>
  <Override PartName="/ppt/media/image3.jpeg" ContentType="image/jpeg"/>
  <Override PartName="/ppt/media/image4.png" ContentType="image/png"/>
  <Override PartName="/ppt/media/image18.wmf" ContentType="image/x-wmf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42F-1132-4314-B81D-306175A3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A11-41B3-4A27-8C36-AE15824D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281-0DB7-4FAE-B2B0-4433C813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A1E-C584-44F3-9218-F6D7B77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8B6-8047-4218-9DFA-5F4E55D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C28-922D-4D20-AB51-6F239256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D29-F5F1-415D-8110-9FCD939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4DE-D145-47B1-85A8-6048EBA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EA3-BEED-4F65-817A-8112408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8F4-09A3-4ED1-9AE1-B5B47DD2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258-B216-4AF6-B79B-609A48D3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51C-A7E6-46AD-92CD-8C98006A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DBF-0416-4E90-AC17-A376A2FC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E209-04D2-462F-BDD6-99ED0BF9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F899-E2F1-4F6E-A2CB-E6BDD4A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8154-5008-41E2-B333-772E0DC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B890-D8D5-4B4C-9DC5-2E44409C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218-AF31-4AF7-B34F-A86F8F98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A19-ACA3-4BE5-9467-BC7A2BB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4228-FBA9-4935-8B4D-21F8AF0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6CC-0F15-4F63-8EC9-279B4550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7836-1ECD-4920-A05F-B5591E03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0FC2-268D-4F63-B0BC-1017E43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FE19-2F89-4E18-B3D7-2AD22022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4CA9-0113-4362-991A-2BA1D9DFA3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8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9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0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1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2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3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4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86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grpSp>
          <p:nvGrpSpPr>
            <p:cNvPr id="92" name="Group 17"/>
            <p:cNvGrpSpPr/>
            <p:nvPr/>
          </p:nvGrpSpPr>
          <p:grpSpPr>
            <a:xfrm>
              <a:off x="4136040" y="1034640"/>
              <a:ext cx="1017000" cy="1263240"/>
              <a:chOff x="4136040" y="1034640"/>
              <a:chExt cx="1017000" cy="1263240"/>
            </a:xfrm>
          </p:grpSpPr>
          <p:sp>
            <p:nvSpPr>
              <p:cNvPr id="93" name="Freeform 18"/>
              <p:cNvSpPr/>
              <p:nvPr/>
            </p:nvSpPr>
            <p:spPr>
              <a:xfrm rot="3220200">
                <a:off x="4551840" y="107244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4" name="Freeform 19"/>
              <p:cNvSpPr/>
              <p:nvPr/>
            </p:nvSpPr>
            <p:spPr>
              <a:xfrm rot="3220200">
                <a:off x="4636440" y="160560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 rot="3220200">
                <a:off x="4096440" y="19641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96" name="Group 21"/>
            <p:cNvGrpSpPr/>
            <p:nvPr/>
          </p:nvGrpSpPr>
          <p:grpSpPr>
            <a:xfrm>
              <a:off x="5640480" y="293040"/>
              <a:ext cx="888840" cy="833760"/>
              <a:chOff x="5640480" y="293040"/>
              <a:chExt cx="888840" cy="833760"/>
            </a:xfrm>
          </p:grpSpPr>
          <p:sp>
            <p:nvSpPr>
              <p:cNvPr id="97" name="Freeform 22"/>
              <p:cNvSpPr/>
              <p:nvPr/>
            </p:nvSpPr>
            <p:spPr>
              <a:xfrm rot="14908200">
                <a:off x="5751720" y="7966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 rot="14908200">
                <a:off x="5700600" y="4762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14908200">
                <a:off x="6239520" y="39348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1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4" name="Group 29"/>
            <p:cNvGrpSpPr/>
            <p:nvPr/>
          </p:nvGrpSpPr>
          <p:grpSpPr>
            <a:xfrm>
              <a:off x="354600" y="428400"/>
              <a:ext cx="1693080" cy="1148040"/>
              <a:chOff x="354600" y="428400"/>
              <a:chExt cx="1693080" cy="1148040"/>
            </a:xfrm>
          </p:grpSpPr>
          <p:sp>
            <p:nvSpPr>
              <p:cNvPr id="105" name="Freeform 30"/>
              <p:cNvSpPr/>
              <p:nvPr/>
            </p:nvSpPr>
            <p:spPr>
              <a:xfrm flipH="1" rot="4107000">
                <a:off x="1557000" y="10479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 flipH="1" rot="4107000">
                <a:off x="1002960" y="57204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7" name="Freeform 32"/>
              <p:cNvSpPr/>
              <p:nvPr/>
            </p:nvSpPr>
            <p:spPr>
              <a:xfrm flipH="1" rot="4107000">
                <a:off x="257040" y="108648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8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09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10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11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112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4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5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6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7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5c01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024-5EC4-4764-9745-3F0E87B5F897}" type="slidenum">
              <a:rPr b="0" lang="en-US" sz="14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矩形 1" descr=""/>
          <p:cNvPicPr/>
          <p:nvPr/>
        </p:nvPicPr>
        <p:blipFill>
          <a:blip r:embed="rId1"/>
          <a:stretch/>
        </p:blipFill>
        <p:spPr>
          <a:xfrm>
            <a:off x="954000" y="1413000"/>
            <a:ext cx="7751880" cy="958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3" descr=""/>
          <p:cNvPicPr/>
          <p:nvPr/>
        </p:nvPicPr>
        <p:blipFill>
          <a:blip r:embed="rId2"/>
          <a:stretch/>
        </p:blipFill>
        <p:spPr>
          <a:xfrm>
            <a:off x="3098880" y="3033720"/>
            <a:ext cx="3297240" cy="24829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05c01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905c01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079640" y="198900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Arial"/>
                <a:ea typeface="楷体_GB2312"/>
              </a:rPr>
              <a:t>我们给凤仙花浇水时，一般往哪里浇？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079640" y="3645000"/>
            <a:ext cx="71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Arial"/>
                <a:ea typeface="楷体_GB2312"/>
              </a:rPr>
              <a:t>植物的根在植物的生长发育过程中有什么作用？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187280" y="288936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Arial"/>
                <a:ea typeface="楷体_GB2312"/>
              </a:rPr>
              <a:t>为什么大部分都浇到土壤上？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7cd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17cd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905c01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304D"/>
          <p:cNvPicPr/>
          <p:nvPr/>
        </p:nvPicPr>
        <p:blipFill>
          <a:blip r:embed="rId2"/>
          <a:stretch/>
        </p:blipFill>
        <p:spPr>
          <a:xfrm>
            <a:off x="2016000" y="1628640"/>
            <a:ext cx="5435640" cy="3929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3601080" y="555300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观察油层下面的水量有什么变化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971640" y="1521000"/>
            <a:ext cx="6191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Verdana"/>
                <a:ea typeface="楷体_GB2312"/>
              </a:rPr>
              <a:t>植物为什么要先长根呢？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Verdana"/>
                <a:ea typeface="楷体_GB2312"/>
              </a:rPr>
              <a:t>你知道根的作用吗？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2951280" y="2637000"/>
            <a:ext cx="3313080" cy="3076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492360" y="5734080"/>
            <a:ext cx="31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种子萌发的过程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5c01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3FE-0532-487A-BA69-AF80CB364065}" type="slidenum">
              <a:rPr b="0" lang="zh-CN" sz="1400" spc="-1" strike="noStrike">
                <a:solidFill>
                  <a:srgbClr val="905c01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3276720" y="270828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c01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05c01"/>
                </a:solidFill>
                <a:latin typeface="Arial"/>
                <a:ea typeface="楷体_GB2312"/>
              </a:rPr>
              <a:t>植物的根能够吸收土壤中的水分和矿物质，满足植物生长的需要，还能将植物固定在土壤中。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224000" y="18590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Verdana"/>
                <a:ea typeface="楷体_GB2312"/>
              </a:rPr>
              <a:t>根的作用 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217" name="Picture 6" descr="学生 女2"/>
          <p:cNvPicPr/>
          <p:nvPr/>
        </p:nvPicPr>
        <p:blipFill>
          <a:blip r:embed="rId2"/>
          <a:stretch/>
        </p:blipFill>
        <p:spPr>
          <a:xfrm>
            <a:off x="971640" y="2781360"/>
            <a:ext cx="22557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大树1"/>
          <p:cNvPicPr/>
          <p:nvPr/>
        </p:nvPicPr>
        <p:blipFill>
          <a:blip r:embed="rId2"/>
          <a:stretch/>
        </p:blipFill>
        <p:spPr>
          <a:xfrm>
            <a:off x="1187280" y="1592280"/>
            <a:ext cx="4464360" cy="2533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2519280" y="46148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大树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4" name="Picture 17" descr="大树2"/>
          <p:cNvPicPr/>
          <p:nvPr/>
        </p:nvPicPr>
        <p:blipFill>
          <a:blip r:embed="rId3"/>
          <a:stretch/>
        </p:blipFill>
        <p:spPr>
          <a:xfrm>
            <a:off x="4535640" y="3176640"/>
            <a:ext cx="3492360" cy="264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小草"/>
          <p:cNvPicPr/>
          <p:nvPr/>
        </p:nvPicPr>
        <p:blipFill>
          <a:blip r:embed="rId2"/>
          <a:stretch/>
        </p:blipFill>
        <p:spPr>
          <a:xfrm>
            <a:off x="4032360" y="1628640"/>
            <a:ext cx="3730680" cy="392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小草1"/>
          <p:cNvPicPr/>
          <p:nvPr/>
        </p:nvPicPr>
        <p:blipFill>
          <a:blip r:embed="rId3"/>
          <a:stretch/>
        </p:blipFill>
        <p:spPr>
          <a:xfrm>
            <a:off x="1116000" y="1592280"/>
            <a:ext cx="2592360" cy="2379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1692360" y="41641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小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根6"/>
          <p:cNvPicPr/>
          <p:nvPr/>
        </p:nvPicPr>
        <p:blipFill>
          <a:blip r:embed="rId2"/>
          <a:stretch/>
        </p:blipFill>
        <p:spPr>
          <a:xfrm>
            <a:off x="1150920" y="1557360"/>
            <a:ext cx="3168720" cy="3708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4211640" y="5589720"/>
            <a:ext cx="6069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根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2" name="Picture 5" descr="根2"/>
          <p:cNvPicPr/>
          <p:nvPr/>
        </p:nvPicPr>
        <p:blipFill>
          <a:blip r:embed="rId3"/>
          <a:stretch/>
        </p:blipFill>
        <p:spPr>
          <a:xfrm>
            <a:off x="5040360" y="1557360"/>
            <a:ext cx="2959200" cy="374328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8199"/>
          <p:cNvSpPr/>
          <p:nvPr/>
        </p:nvSpPr>
        <p:spPr>
          <a:xfrm>
            <a:off x="2533680" y="1112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7cd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17cd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905c01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9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4" descr="1301D"/>
          <p:cNvPicPr/>
          <p:nvPr/>
        </p:nvPicPr>
        <p:blipFill>
          <a:blip r:embed="rId2"/>
          <a:stretch/>
        </p:blipFill>
        <p:spPr>
          <a:xfrm>
            <a:off x="1727280" y="159228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5"/>
          <p:cNvSpPr/>
          <p:nvPr/>
        </p:nvSpPr>
        <p:spPr>
          <a:xfrm>
            <a:off x="2014560" y="5516640"/>
            <a:ext cx="64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不同方向放置的种子根都向下生长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1081080" y="4797360"/>
            <a:ext cx="76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05c01"/>
                </a:solidFill>
                <a:latin typeface="Verdana"/>
                <a:ea typeface="楷体_GB2312"/>
              </a:rPr>
              <a:t>我们种下的种子已经发生了变化，上面所示有四种情况，你是属于哪一种呢？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2"/>
          <a:stretch/>
        </p:blipFill>
        <p:spPr>
          <a:xfrm>
            <a:off x="2303640" y="1773360"/>
            <a:ext cx="4897440" cy="2989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4967280" y="414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156360" y="414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411280" y="411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3635280" y="411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1302D"/>
          <p:cNvPicPr/>
          <p:nvPr/>
        </p:nvPicPr>
        <p:blipFill>
          <a:blip r:embed="rId2"/>
          <a:stretch/>
        </p:blipFill>
        <p:spPr>
          <a:xfrm>
            <a:off x="1295280" y="1773360"/>
            <a:ext cx="4896000" cy="3519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1692360" y="5373720"/>
            <a:ext cx="485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种子萌发出根和茎叶的过程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227640" y="2276640"/>
            <a:ext cx="248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根向什么方向生长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与种子放置的方向有关系吗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1303D"/>
          <p:cNvPicPr/>
          <p:nvPr/>
        </p:nvPicPr>
        <p:blipFill>
          <a:blip r:embed="rId2"/>
          <a:stretch/>
        </p:blipFill>
        <p:spPr>
          <a:xfrm>
            <a:off x="1908000" y="1628640"/>
            <a:ext cx="5040360" cy="3637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735280" y="5337000"/>
            <a:ext cx="46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种子萌发出的跟、茎、叶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042920" y="227664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通过观察，我们发现种子萌发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先</a:t>
            </a:r>
            <a:r>
              <a:rPr b="1" lang="zh-CN" sz="28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，再</a:t>
            </a:r>
            <a:r>
              <a:rPr b="1" lang="zh-CN" sz="28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植物的根向</a:t>
            </a:r>
            <a:r>
              <a:rPr b="1" lang="zh-CN" sz="28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生长，根的生长速度</a:t>
            </a:r>
            <a:r>
              <a:rPr b="1" lang="zh-CN" sz="28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41600" y="26701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长根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906720" y="26607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长茎和叶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014640" y="35258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下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53320" y="3525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很快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97" name="Picture 8" descr="学生 男2"/>
          <p:cNvPicPr/>
          <p:nvPr/>
        </p:nvPicPr>
        <p:blipFill>
          <a:blip r:embed="rId2"/>
          <a:stretch/>
        </p:blipFill>
        <p:spPr>
          <a:xfrm flipH="1">
            <a:off x="6242040" y="3967200"/>
            <a:ext cx="185904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2:39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36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