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3.jpeg" ContentType="image/jpeg"/>
  <Override PartName="/ppt/media/image30.jpeg" ContentType="image/jpeg"/>
  <Override PartName="/ppt/media/image15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20.jpeg" ContentType="image/jpeg"/>
  <Override PartName="/ppt/media/image11.png" ContentType="image/png"/>
  <Override PartName="/ppt/media/image9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gif" ContentType="image/gif"/>
  <Override PartName="/ppt/media/image24.png" ContentType="image/png"/>
  <Override PartName="/ppt/media/image22.png" ContentType="image/png"/>
  <Override PartName="/ppt/media/image29.png" ContentType="image/png"/>
  <Override PartName="/ppt/media/image21.jpeg" ContentType="image/jpeg"/>
  <Override PartName="/ppt/media/image25.jpeg" ContentType="image/jpeg"/>
  <Override PartName="/ppt/media/image26.png" ContentType="image/png"/>
  <Override PartName="/ppt/media/image28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1A30-051A-495C-854A-00CBB7C2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26C-16F9-4834-A135-F8E9A746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FA2E-4204-4CF7-B00A-1FFFC727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44E-2FF5-41A9-BBC2-6343958B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0975-BCA2-4F39-A3E5-E57FBE48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76E-81DC-4FA4-AFC8-47A489DB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26A2-1DD8-4CFF-8065-A5A9817C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B17F-AD3E-4757-985A-3A9E8430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B7C-7364-42A9-84DC-DFD219FC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21D5-82FA-4B4A-8F93-405B237C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E25A-3D68-474F-B7BA-203F1635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17D-404D-4355-AACB-42243E66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9190-12A3-494A-A499-9E489486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8DA7-CA21-4D23-8147-FA8D8F1A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3375-D2A0-4E22-B623-D0C386A1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D7A5-81EE-4D86-A5BB-E11F55F3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3753-D2FF-48CC-A81F-065F9099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F064-D33C-498D-8A5F-51C53A11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9691-CE06-4C81-B22C-D91C3AC7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2B2C-C9BD-46FB-8138-7084A254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D908-8154-4715-930E-5DBEB0D9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58DA-EC86-4E23-9DF0-77AAFAC0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8A5E-3DEB-473A-80D2-73630DD5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7053-AA2F-4C7B-853D-A0514A85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>
              <a:lum bright="-10000"/>
            </a:blip>
            <a:stretch/>
          </p:blipFill>
          <p:spPr>
            <a:xfrm>
              <a:off x="0" y="380880"/>
              <a:ext cx="9142560" cy="60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10"/>
            <p:cNvSpPr/>
            <p:nvPr/>
          </p:nvSpPr>
          <p:spPr>
            <a:xfrm>
              <a:off x="0" y="0"/>
              <a:ext cx="914256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11"/>
            <p:cNvSpPr/>
            <p:nvPr/>
          </p:nvSpPr>
          <p:spPr>
            <a:xfrm>
              <a:off x="0" y="6553440"/>
              <a:ext cx="914256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4"/>
            <p:cNvSpPr/>
            <p:nvPr/>
          </p:nvSpPr>
          <p:spPr>
            <a:xfrm>
              <a:off x="0" y="380880"/>
              <a:ext cx="9142560" cy="1440"/>
            </a:xfrm>
            <a:prstGeom prst="line">
              <a:avLst/>
            </a:prstGeom>
            <a:ln w="38160">
              <a:solidFill>
                <a:srgbClr val="307f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6"/>
            <p:cNvSpPr/>
            <p:nvPr/>
          </p:nvSpPr>
          <p:spPr>
            <a:xfrm>
              <a:off x="0" y="6477120"/>
              <a:ext cx="9142560" cy="1440"/>
            </a:xfrm>
            <a:prstGeom prst="line">
              <a:avLst/>
            </a:prstGeom>
            <a:ln w="38160">
              <a:solidFill>
                <a:srgbClr val="307f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3891a7">
                    <a:alpha val="0"/>
                  </a:srgbClr>
                </a:gs>
                <a:gs pos="100000">
                  <a:srgbClr val="e8ee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307f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Segoe Condense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BF58-E5D1-4073-BAD9-00234104A302}" type="slidenum">
              <a:rPr b="0" lang="zh-CN" sz="1200" spc="-1" strike="noStrike">
                <a:solidFill>
                  <a:srgbClr val="ffffff"/>
                </a:solidFill>
                <a:latin typeface="Segoe Condense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377640"/>
              <a:ext cx="9144000" cy="6108480"/>
              <a:chOff x="0" y="377640"/>
              <a:chExt cx="9144000" cy="6108480"/>
            </a:xfrm>
          </p:grpSpPr>
          <p:pic>
            <p:nvPicPr>
              <p:cNvPr id="92" name="Rectangl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77640"/>
                <a:ext cx="9144000" cy="610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Text Box 5"/>
              <p:cNvSpPr/>
              <p:nvPr/>
            </p:nvSpPr>
            <p:spPr>
              <a:xfrm>
                <a:off x="5760" y="380520"/>
                <a:ext cx="9132120" cy="609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Rectangle 9"/>
            <p:cNvSpPr/>
            <p:nvPr/>
          </p:nvSpPr>
          <p:spPr>
            <a:xfrm>
              <a:off x="4320" y="0"/>
              <a:ext cx="913212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4320" y="6553440"/>
              <a:ext cx="913212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15"/>
            <p:cNvSpPr/>
            <p:nvPr/>
          </p:nvSpPr>
          <p:spPr>
            <a:xfrm>
              <a:off x="4320" y="380880"/>
              <a:ext cx="9132120" cy="1440"/>
            </a:xfrm>
            <a:prstGeom prst="line">
              <a:avLst/>
            </a:prstGeom>
            <a:ln w="38160">
              <a:solidFill>
                <a:srgbClr val="307f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16"/>
            <p:cNvSpPr/>
            <p:nvPr/>
          </p:nvSpPr>
          <p:spPr>
            <a:xfrm>
              <a:off x="4320" y="6477120"/>
              <a:ext cx="9132120" cy="1440"/>
            </a:xfrm>
            <a:prstGeom prst="line">
              <a:avLst/>
            </a:prstGeom>
            <a:ln w="38160">
              <a:solidFill>
                <a:srgbClr val="307f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AE5C-EB92-43FA-BC23-7219314359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3.png"/><Relationship Id="rId11" Type="http://schemas.openxmlformats.org/officeDocument/2006/relationships/image" Target="../media/image10.png"/><Relationship Id="rId12" Type="http://schemas.openxmlformats.org/officeDocument/2006/relationships/image" Target="../media/image13.png"/><Relationship Id="rId13" Type="http://schemas.openxmlformats.org/officeDocument/2006/relationships/image" Target="../media/image10.png"/><Relationship Id="rId14" Type="http://schemas.openxmlformats.org/officeDocument/2006/relationships/image" Target="../media/image16.png"/><Relationship Id="rId15" Type="http://schemas.openxmlformats.org/officeDocument/2006/relationships/image" Target="../media/image18.png"/><Relationship Id="rId16" Type="http://schemas.openxmlformats.org/officeDocument/2006/relationships/image" Target="../media/image14.png"/><Relationship Id="rId17" Type="http://schemas.openxmlformats.org/officeDocument/2006/relationships/image" Target="../media/image12.png"/><Relationship Id="rId18" Type="http://schemas.openxmlformats.org/officeDocument/2006/relationships/image" Target="../media/image15.png"/><Relationship Id="rId19" Type="http://schemas.openxmlformats.org/officeDocument/2006/relationships/image" Target="../media/image19.gif"/><Relationship Id="rId2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936720" y="2276640"/>
            <a:ext cx="727236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我们享有广泛的权利课件</a:t>
            </a:r>
            <a:r>
              <a:rPr b="1" lang="en-US" sz="4000" spc="1" strike="noStrike">
                <a:ln w="1908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908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908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8" name="矩形 1"/>
          <p:cNvSpPr/>
          <p:nvPr/>
        </p:nvSpPr>
        <p:spPr>
          <a:xfrm>
            <a:off x="2837160" y="981000"/>
            <a:ext cx="34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一课　国家的主人广泛的权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10"/>
          <p:cNvSpPr/>
          <p:nvPr/>
        </p:nvSpPr>
        <p:spPr>
          <a:xfrm>
            <a:off x="1389240" y="2637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3b1d15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3b1d15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3b1d15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3b1d15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3b1d15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3b1d15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b1d15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3b1d15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b1d15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3b1d15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3b1d15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3b1d15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b1d15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3b1d15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b1d15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3b1d15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b1d15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3b1d15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b1d15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3b1d15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b1d15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3b1d15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3b1d15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2"/>
          <p:cNvGrpSpPr/>
          <p:nvPr/>
        </p:nvGrpSpPr>
        <p:grpSpPr>
          <a:xfrm>
            <a:off x="1476360" y="3213000"/>
            <a:ext cx="6696000" cy="3384720"/>
            <a:chOff x="1476360" y="3213000"/>
            <a:chExt cx="6696000" cy="3384720"/>
          </a:xfrm>
        </p:grpSpPr>
        <p:sp>
          <p:nvSpPr>
            <p:cNvPr id="263" name="AutoShape 3"/>
            <p:cNvSpPr/>
            <p:nvPr/>
          </p:nvSpPr>
          <p:spPr>
            <a:xfrm>
              <a:off x="1476360" y="3213000"/>
              <a:ext cx="6696000" cy="3384720"/>
            </a:xfrm>
            <a:prstGeom prst="roundRect">
              <a:avLst>
                <a:gd name="adj" fmla="val 6755"/>
              </a:avLst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4"/>
            <p:cNvSpPr/>
            <p:nvPr/>
          </p:nvSpPr>
          <p:spPr>
            <a:xfrm>
              <a:off x="1547640" y="3286080"/>
              <a:ext cx="648180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03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夏季，在全国人民万众一心抗击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非典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时期，蒋某却用手机发出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北京疫情严重，近日即将封城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短信，造谣惑众，影响恶劣，结果受到法律的追究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5"/>
            <p:cNvSpPr/>
            <p:nvPr/>
          </p:nvSpPr>
          <p:spPr>
            <a:xfrm>
              <a:off x="1476360" y="5373720"/>
              <a:ext cx="64436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WordArt 6"/>
          <p:cNvSpPr txBox="1"/>
          <p:nvPr/>
        </p:nvSpPr>
        <p:spPr>
          <a:xfrm>
            <a:off x="647640" y="62064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第二关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7" name="Picture 7" descr="图片30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1655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539640" y="2060640"/>
            <a:ext cx="288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eb80a"/>
                </a:solid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问题回答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eb80a"/>
                </a:solid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: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solidFill>
                <a:srgbClr val="feb80a"/>
              </a:solid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684360" y="278136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问：蒋某的所作所为是在正确行使言论自由吗？其危害是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611280" y="3860640"/>
            <a:ext cx="6408720" cy="1152720"/>
          </a:xfrm>
          <a:prstGeom prst="cloudCallout">
            <a:avLst>
              <a:gd name="adj1" fmla="val 49800"/>
              <a:gd name="adj2" fmla="val -99861"/>
            </a:avLst>
          </a:prstGeom>
          <a:solidFill>
            <a:srgbClr val="3da35d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蒋某的所作所为不是在正确行使言论自由。造成了人们心理上的恐慌，破坏了社会秩序，影响了安定团结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395280" y="55515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说明公民在行使权利时，不得损害国家的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社会的、集体的利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2"/>
          <p:cNvSpPr txBox="1"/>
          <p:nvPr/>
        </p:nvSpPr>
        <p:spPr>
          <a:xfrm>
            <a:off x="395280" y="620640"/>
            <a:ext cx="151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第三关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468360" y="1557360"/>
            <a:ext cx="741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某国有造纸厂的厂长锐意改革，把一个亏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40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万元的企业变成年缴利税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120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万元的企业。个别人诬陷厂长有行贿受贿的行为和生活作风问题。为了弄清事实，庞大的工作组到省内外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7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单位调查。一年多的调查期间，工厂由盈转亏，元气大伤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WordArt 4"/>
          <p:cNvSpPr txBox="1"/>
          <p:nvPr/>
        </p:nvSpPr>
        <p:spPr>
          <a:xfrm>
            <a:off x="539640" y="3357720"/>
            <a:ext cx="288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eb80a"/>
                </a:solid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问题回答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eb80a"/>
                </a:solid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: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solidFill>
                <a:srgbClr val="feb80a"/>
              </a:solid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5640" y="4149720"/>
            <a:ext cx="7129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：诬陷别人，属于言论自由吗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：诬陷别人，于人于己于社会有什么危害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1403280" y="4581360"/>
            <a:ext cx="2232000" cy="360360"/>
          </a:xfrm>
          <a:prstGeom prst="roundRect">
            <a:avLst>
              <a:gd name="adj" fmla="val 16667"/>
            </a:avLst>
          </a:prstGeom>
          <a:solidFill>
            <a:srgbClr val="3da35d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414cc"/>
                </a:solidFill>
                <a:latin typeface="Arial"/>
                <a:ea typeface="宋体"/>
              </a:rPr>
              <a:t>不属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1332000" y="5516640"/>
            <a:ext cx="6335640" cy="649080"/>
          </a:xfrm>
          <a:prstGeom prst="roundRect">
            <a:avLst>
              <a:gd name="adj" fmla="val 16667"/>
            </a:avLst>
          </a:prstGeom>
          <a:solidFill>
            <a:srgbClr val="3da35d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14cc"/>
                </a:solidFill>
                <a:latin typeface="Arial"/>
                <a:ea typeface="宋体"/>
              </a:rPr>
              <a:t>既侵害了他人的权利，又危害社会给社会造成损失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14cc"/>
                </a:solidFill>
                <a:latin typeface="Arial"/>
                <a:ea typeface="宋体"/>
              </a:rPr>
              <a:t>还造成了自己的违法，受到法律的制裁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539640" y="1773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说明公民在行使权利时要在法律允许的范围内行使权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684360" y="3991320"/>
            <a:ext cx="7920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我国宪法规定，公民享有言论自由。但是，言论自由不是无限制的自由。滥用言论自由是法律不允许的。具体来说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言论自由要受到法律两方面的限制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第一，公民不得利用言论自由来侮辱、诽谤他人；第二，公民不得利用言论自由教唆、煽动他人实施危害国家安全、破坏民族团结、破坏社会公德、扰乱社会秩序的行为。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WordArt 4" descr=""/>
          <p:cNvPicPr/>
          <p:nvPr/>
        </p:nvPicPr>
        <p:blipFill>
          <a:blip r:embed="rId1"/>
          <a:stretch/>
        </p:blipFill>
        <p:spPr>
          <a:xfrm>
            <a:off x="179280" y="6203880"/>
            <a:ext cx="8358120" cy="657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WordArt 2"/>
          <p:cNvSpPr txBox="1"/>
          <p:nvPr/>
        </p:nvSpPr>
        <p:spPr>
          <a:xfrm>
            <a:off x="395280" y="620640"/>
            <a:ext cx="158436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第四关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82" name="Picture 3" descr="图片31"/>
          <p:cNvPicPr/>
          <p:nvPr/>
        </p:nvPicPr>
        <p:blipFill>
          <a:blip r:embed="rId1"/>
          <a:stretch/>
        </p:blipFill>
        <p:spPr>
          <a:xfrm>
            <a:off x="539640" y="1557360"/>
            <a:ext cx="7850160" cy="20160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684360" y="3573360"/>
            <a:ext cx="7775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003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年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1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月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日，中国女排时隔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7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年后重新登上世界杯冠军宝座，人们欣喜若狂。一些球迷打算当即上街游行，以示庆贺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11280" y="522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：这些球迷将要实施的行为，受法律的保护吗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WordArt 6"/>
          <p:cNvSpPr txBox="1"/>
          <p:nvPr/>
        </p:nvSpPr>
        <p:spPr>
          <a:xfrm>
            <a:off x="468360" y="4797360"/>
            <a:ext cx="2879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eb80a"/>
                </a:solid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问题回答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eb80a"/>
                </a:solid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: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solidFill>
                <a:srgbClr val="feb80a"/>
              </a:solid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5940360" y="5373720"/>
            <a:ext cx="2016360" cy="863640"/>
          </a:xfrm>
          <a:prstGeom prst="cloudCallout">
            <a:avLst>
              <a:gd name="adj1" fmla="val -130472"/>
              <a:gd name="adj2" fmla="val 18750"/>
            </a:avLst>
          </a:prstGeom>
          <a:solidFill>
            <a:srgbClr val="3da35d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14cc"/>
                </a:solidFill>
                <a:latin typeface="Arial"/>
                <a:ea typeface="宋体"/>
              </a:rPr>
              <a:t>不受保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468360" y="3933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说明要以合法方式行使权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539640" y="2133720"/>
            <a:ext cx="6913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公民行使自由和权利，并不能随心所欲，必须用合法的方式，依据法律规定的程序进行。否则，会损害国家或他人的利益，甚至构成违法犯罪。例如，我国宪法规定，公民拥有集会游行示威法规定的程序进行，而不是随意地行使这些权利。如果随意行使这些权利，不仅会破坏国家和社会的稳定，而且违法行使权利的人还会受到法律的惩处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WordArt 4"/>
          <p:cNvSpPr txBox="1"/>
          <p:nvPr/>
        </p:nvSpPr>
        <p:spPr>
          <a:xfrm>
            <a:off x="684360" y="167652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5000"/>
                    </a:srgbClr>
                  </a:outerShdw>
                </a:effectLst>
                <a:latin typeface="宋体"/>
              </a:rPr>
              <a:t>知识小贴士：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755640" y="4724280"/>
            <a:ext cx="6769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da35d"/>
                </a:solidFill>
                <a:latin typeface="Arial"/>
                <a:ea typeface="宋体"/>
              </a:rPr>
              <a:t>我国集会游行示威法规定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举行集会、游行、示威必须依法向主管机关提出</a:t>
            </a:r>
            <a:r>
              <a:rPr b="1" lang="zh-CN" sz="1800" spc="-1" strike="noStrike">
                <a:solidFill>
                  <a:srgbClr val="3da35d"/>
                </a:solidFill>
                <a:latin typeface="Arial"/>
                <a:ea typeface="宋体"/>
              </a:rPr>
              <a:t>申请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并获得许可；应当按照主管机关许可的</a:t>
            </a:r>
            <a:r>
              <a:rPr b="1" lang="zh-CN" sz="1800" spc="-1" strike="noStrike">
                <a:solidFill>
                  <a:srgbClr val="3da35d"/>
                </a:solidFill>
                <a:latin typeface="Arial"/>
                <a:ea typeface="宋体"/>
              </a:rPr>
              <a:t>目的、方式、标语、口号及起止时间、地点、路线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等事项进行；在集会游行示威过程中，不得进行犯罪活动或者煽动犯罪；等等。只有严格按照法定程序和要求去做，才能确保依法举行的集会、游行、示威顺利进行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文本框 8194"/>
          <p:cNvSpPr/>
          <p:nvPr/>
        </p:nvSpPr>
        <p:spPr>
          <a:xfrm>
            <a:off x="3092400" y="16765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egoe Condensed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21873a"/>
                </a:solidFill>
                <a:uFillTx/>
                <a:latin typeface="Segoe Condensed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Segoe Condensed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Segoe Condensed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hua"/>
          <p:cNvPicPr/>
          <p:nvPr/>
        </p:nvPicPr>
        <p:blipFill>
          <a:blip r:embed="rId1"/>
          <a:stretch/>
        </p:blipFill>
        <p:spPr>
          <a:xfrm>
            <a:off x="0" y="44280"/>
            <a:ext cx="4724280" cy="5191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xian"/>
          <p:cNvPicPr/>
          <p:nvPr/>
        </p:nvPicPr>
        <p:blipFill>
          <a:blip r:embed="rId2"/>
          <a:stretch/>
        </p:blipFill>
        <p:spPr>
          <a:xfrm rot="10860000">
            <a:off x="4860720" y="-165240"/>
            <a:ext cx="4248000" cy="5061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guzhang"/>
          <p:cNvPicPr/>
          <p:nvPr/>
        </p:nvPicPr>
        <p:blipFill>
          <a:blip r:embed="rId3"/>
          <a:stretch/>
        </p:blipFill>
        <p:spPr>
          <a:xfrm>
            <a:off x="468360" y="4292640"/>
            <a:ext cx="1981080" cy="25210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guzhang"/>
          <p:cNvPicPr/>
          <p:nvPr/>
        </p:nvPicPr>
        <p:blipFill>
          <a:blip r:embed="rId4"/>
          <a:stretch/>
        </p:blipFill>
        <p:spPr>
          <a:xfrm>
            <a:off x="2413080" y="4292640"/>
            <a:ext cx="1981080" cy="2521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guzhang"/>
          <p:cNvPicPr/>
          <p:nvPr/>
        </p:nvPicPr>
        <p:blipFill>
          <a:blip r:embed="rId5"/>
          <a:stretch/>
        </p:blipFill>
        <p:spPr>
          <a:xfrm>
            <a:off x="4356000" y="4292640"/>
            <a:ext cx="1981440" cy="2521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guzhang"/>
          <p:cNvPicPr/>
          <p:nvPr/>
        </p:nvPicPr>
        <p:blipFill>
          <a:blip r:embed="rId6"/>
          <a:stretch/>
        </p:blipFill>
        <p:spPr>
          <a:xfrm>
            <a:off x="6300720" y="4292640"/>
            <a:ext cx="1981440" cy="2521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2008112105649355_2"/>
          <p:cNvPicPr/>
          <p:nvPr/>
        </p:nvPicPr>
        <p:blipFill>
          <a:blip r:embed="rId7"/>
          <a:stretch/>
        </p:blipFill>
        <p:spPr>
          <a:xfrm>
            <a:off x="5292720" y="1989000"/>
            <a:ext cx="1800360" cy="21607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2008112105649355_2"/>
          <p:cNvPicPr/>
          <p:nvPr/>
        </p:nvPicPr>
        <p:blipFill>
          <a:blip r:embed="rId8"/>
          <a:stretch/>
        </p:blipFill>
        <p:spPr>
          <a:xfrm>
            <a:off x="3132000" y="2205000"/>
            <a:ext cx="1800360" cy="2160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2008112105649355_2"/>
          <p:cNvPicPr/>
          <p:nvPr/>
        </p:nvPicPr>
        <p:blipFill>
          <a:blip r:embed="rId9"/>
          <a:stretch/>
        </p:blipFill>
        <p:spPr>
          <a:xfrm>
            <a:off x="1260360" y="1989000"/>
            <a:ext cx="1800360" cy="2160720"/>
          </a:xfrm>
          <a:prstGeom prst="rect">
            <a:avLst/>
          </a:prstGeom>
          <a:ln w="0">
            <a:noFill/>
          </a:ln>
        </p:spPr>
      </p:pic>
      <p:sp>
        <p:nvSpPr>
          <p:cNvPr id="301" name="WordArt 11"/>
          <p:cNvSpPr txBox="1"/>
          <p:nvPr/>
        </p:nvSpPr>
        <p:spPr>
          <a:xfrm>
            <a:off x="2916360" y="404640"/>
            <a:ext cx="2519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恭喜同学们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2" name="WordArt 12"/>
          <p:cNvSpPr txBox="1"/>
          <p:nvPr/>
        </p:nvSpPr>
        <p:spPr>
          <a:xfrm>
            <a:off x="2771640" y="1413000"/>
            <a:ext cx="302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闯关成功！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animClr clrSpc="rgb">
                                      <p:cBhvr>
                                        <p:cTn id="44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449" dur="3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2"/>
          <p:cNvSpPr txBox="1"/>
          <p:nvPr/>
        </p:nvSpPr>
        <p:spPr>
          <a:xfrm>
            <a:off x="179280" y="549360"/>
            <a:ext cx="24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我来出主意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395280" y="1773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案例一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吴家的六间私房位于繁华市区，由于拓宽马路需要拆迁，老吴因拆迁补偿问题与拆迁办的工作人员发生争执。老吴对强制拆迁不满，于是将有关情况写了一张大字报贴在拆迁办的墙上，造成了不良影响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539640" y="3357720"/>
            <a:ext cx="684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：老吴实施的上述行为法律允许吗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：他应该采用何种方式维护自己的权益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WordArt 5"/>
          <p:cNvSpPr txBox="1"/>
          <p:nvPr/>
        </p:nvSpPr>
        <p:spPr>
          <a:xfrm>
            <a:off x="407880" y="280188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献爱心：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7" name="AutoShape 6"/>
          <p:cNvSpPr/>
          <p:nvPr/>
        </p:nvSpPr>
        <p:spPr>
          <a:xfrm>
            <a:off x="7596360" y="3141720"/>
            <a:ext cx="100800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da35d"/>
                </a:solidFill>
                <a:latin typeface="Arial"/>
                <a:ea typeface="宋体"/>
              </a:rPr>
              <a:t>不允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5867280" y="4149720"/>
            <a:ext cx="3097440" cy="194472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da35d"/>
                </a:solidFill>
                <a:latin typeface="Arial"/>
                <a:ea typeface="宋体"/>
              </a:rPr>
              <a:t>向上级主管部门反映，也可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da35d"/>
                </a:solidFill>
                <a:latin typeface="Arial"/>
                <a:ea typeface="宋体"/>
              </a:rPr>
              <a:t>通过法律诉讼方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4062 0.01968 -0.08125 0.03936 -0.11163 0.03426 C -0.14201 0.02917 -0.15937 -0.03379 -0.18246 -0.03078 C -0.20555 -0.02777 -0.22621 0.03913 -0.25 0.05278 C -0.27378 0.06644 -0.30885 0.04607 -0.32552 0.05116 C -0.34219 0.05625 -0.34271 0.08102 -0.35 0.0838 C -0.35729 0.08658 -0.3651 0.06945 -0.36979 0.06829 C -0.37448 0.06713 -0.3743 0.07709 -0.37778 0.07755 C -0.38125 0.07801 -0.38785 0.07107 -0.39062 0.07153 C -0.3934 0.072 -0.39358 0.07917 -0.3941 0.08079 E">
                                      <p:cBhvr>
                                        <p:cTn id="461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667 -0.07663 -0.03316 -0.15301 -0.06632 -0.1301 C -0.09948 -0.10718 -0.16198 0.10277 -0.19879 0.13796 C -0.23559 0.17314 -0.25643 0.07847 -0.28715 0.08078 C -0.31788 0.0831 -0.35695 0.14791 -0.38368 0.15208 C -0.41042 0.15625 -0.43264 0.10949 -0.44775 0.10555 C -0.46285 0.10162 -0.46615 0.12824 -0.47448 0.1287 C -0.48281 0.12916 -0.49306 0.11064 -0.49775 0.10856 C -0.50243 0.10648 -0.49844 0.11643 -0.50226 0.11643 C -0.50608 0.11643 -0.51354 0.1125 -0.52101 0.10856 E">
                                      <p:cBhvr>
                                        <p:cTn id="470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7DE5-4B45-4A3D-AA0E-85955401985B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Segoe Condensed"/>
                <a:ea typeface="宋体"/>
              </a:rPr>
              <a:t>案例二：</a:t>
            </a:r>
            <a:r>
              <a:rPr b="0" lang="zh-CN" sz="2000" spc="-1" strike="noStrike">
                <a:solidFill>
                  <a:srgbClr val="ffffff"/>
                </a:solidFill>
                <a:latin typeface="Segoe Condensed"/>
                <a:ea typeface="宋体"/>
              </a:rPr>
              <a:t>小辛的父母先后下岗，为了生计，未办任何手续就在闹市区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marL="533520" indent="-53352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Segoe Condensed"/>
                <a:ea typeface="宋体"/>
              </a:rPr>
              <a:t>开店出售水果、蔬菜。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marL="533520" indent="-533520">
              <a:spcBef>
                <a:spcPts val="4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14" name="WordArt 4"/>
          <p:cNvSpPr txBox="1"/>
          <p:nvPr/>
        </p:nvSpPr>
        <p:spPr>
          <a:xfrm>
            <a:off x="685800" y="269568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献爱心：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395280" y="3357720"/>
            <a:ext cx="698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：小辛的父母有经营权吗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：据你所知，取得合法个体经营权要履行什么法定程序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7596360" y="2924280"/>
            <a:ext cx="1223640" cy="71892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da35d"/>
                </a:solidFill>
                <a:latin typeface="Arial"/>
                <a:ea typeface="宋体"/>
              </a:rPr>
              <a:t>没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5975280" y="4292640"/>
            <a:ext cx="3168720" cy="187164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   </a:t>
            </a:r>
            <a:r>
              <a:rPr b="1" lang="zh-CN" sz="1600" spc="-1" strike="noStrike">
                <a:solidFill>
                  <a:srgbClr val="3da35d"/>
                </a:solidFill>
                <a:latin typeface="Arial"/>
                <a:ea typeface="宋体"/>
              </a:rPr>
              <a:t>向所在地的工商行政管理机关申请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da35d"/>
                </a:solidFill>
                <a:latin typeface="Arial"/>
                <a:ea typeface="宋体"/>
              </a:rPr>
              <a:t>领取营业执照后方可经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691 0.03148 -0.05382 0.06319 -0.08247 0.05439 C -0.11112 0.0456 -0.14844 -0.05209 -0.17205 -0.05278 C -0.19566 -0.05348 -0.20435 0.04282 -0.22431 0.04976 C -0.24428 0.05671 -0.27414 -0.01204 -0.29185 -0.01088 C -0.30955 -0.00973 -0.31511 0.05277 -0.33021 0.0574 C -0.34532 0.06203 -0.37084 0.01435 -0.38247 0.01713 C -0.3941 0.0199 -0.39462 0.06504 -0.4 0.07453 C -0.40539 0.08402 -0.40955 0.07638 -0.41511 0.07453 C -0.42066 0.07268 -0.43039 0.06157 -0.43369 0.06365 C -0.43698 0.06574 -0.43282 0.08217 -0.4349 0.0868 C -0.43698 0.09143 -0.44167 0.09143 -0.44636 0.09143 E">
                                      <p:cBhvr>
                                        <p:cTn id="481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438 -0.06157 -0.06858 -0.12291 -0.10365 -0.12708 C -0.13872 -0.13125 -0.17222 -0.03611 -0.21059 -0.02477 C -0.24896 -0.01342 -0.3007 -0.07199 -0.33386 -0.05879 C -0.36701 -0.0456 -0.38629 0.04144 -0.40938 0.0544 C -0.43247 0.06736 -0.45451 0.02107 -0.47222 0.01875 C -0.48993 0.01644 -0.50521 0.0382 -0.51528 0.04028 C -0.52535 0.04236 -0.52847 0.0301 -0.53264 0.03102 C -0.53681 0.03195 -0.53715 0.04676 -0.5408 0.04653 C -0.54445 0.0463 -0.55226 0.03079 -0.55469 0.02963 C -0.55712 0.02848 -0.5566 0.03357 -0.5559 0.03889 E">
                                      <p:cBhvr>
                                        <p:cTn id="490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7920" y="3141360"/>
            <a:ext cx="90360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一个女婴降临人间，父亲给她起名叫田甜。小田甜在父母的抚育、呵护下，在空气清新、水清草绿的环境下健康成长。她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岁进幼儿园，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岁开始上小学，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岁步入中学的校园。田甜喜欢绘画，勤奋学画，升入中学后她的两幅获奖作品被一家出版社选入《少年儿童美术作品集锦》出版。田甜品学兼优，经常受到老师、同学们的夸奖和学校的表扬，并获得优秀共青团员的称号。上高中后，田甜发现有些工商管理人员在维持市场次序时态度粗暴，于是写信给工商局，建议工作人员文明执法。高中二年级寒假期间，田甜参加了勤工俭学活动，获得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320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元的收入。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6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，时逢县级人代会换届选举，刚满十八岁的田甜对自己满意的代表候选人投下了庄严地赞成票。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488880" y="333360"/>
            <a:ext cx="403236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6000"/>
                    </a:srgbClr>
                  </a:outerShdw>
                </a:effectLst>
                <a:latin typeface="宋体"/>
              </a:rPr>
              <a:t>公民权利的广泛性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82" name="Picture 5" descr="图片2"/>
          <p:cNvPicPr/>
          <p:nvPr/>
        </p:nvPicPr>
        <p:blipFill>
          <a:blip r:embed="rId3"/>
          <a:stretch/>
        </p:blipFill>
        <p:spPr>
          <a:xfrm>
            <a:off x="108000" y="1484280"/>
            <a:ext cx="2160360" cy="194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图片3"/>
          <p:cNvPicPr/>
          <p:nvPr/>
        </p:nvPicPr>
        <p:blipFill>
          <a:blip r:embed="rId4"/>
          <a:stretch/>
        </p:blipFill>
        <p:spPr>
          <a:xfrm>
            <a:off x="2268360" y="1484280"/>
            <a:ext cx="2232360" cy="1943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图片4"/>
          <p:cNvPicPr/>
          <p:nvPr/>
        </p:nvPicPr>
        <p:blipFill>
          <a:blip r:embed="rId5"/>
          <a:stretch/>
        </p:blipFill>
        <p:spPr>
          <a:xfrm>
            <a:off x="4500720" y="1484280"/>
            <a:ext cx="2376360" cy="1943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图片5"/>
          <p:cNvPicPr/>
          <p:nvPr/>
        </p:nvPicPr>
        <p:blipFill>
          <a:blip r:embed="rId6"/>
          <a:stretch/>
        </p:blipFill>
        <p:spPr>
          <a:xfrm>
            <a:off x="6877080" y="1484280"/>
            <a:ext cx="21589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203640" y="1485720"/>
            <a:ext cx="634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Condensed"/>
                <a:ea typeface="宋体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Condensed"/>
                <a:ea typeface="宋体"/>
              </a:rPr>
              <a:t>           </a:t>
            </a:r>
            <a:endParaRPr b="0" lang="en-US" sz="1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249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Condensed"/>
                <a:ea typeface="宋体"/>
              </a:rPr>
              <a:t>主人公有自己的名字，叫田甜，体现她享有           权；</a:t>
            </a:r>
            <a:endParaRPr b="0" lang="en-US" sz="1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249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Condensed"/>
                <a:ea typeface="宋体"/>
              </a:rPr>
              <a:t>父母的抚育，体现她享有             权；</a:t>
            </a:r>
            <a:endParaRPr b="0" lang="en-US" sz="1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249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Condensed"/>
                <a:ea typeface="宋体"/>
              </a:rPr>
              <a:t>在清新美丽的环境中成长，体现她享有            权；</a:t>
            </a:r>
            <a:endParaRPr b="0" lang="en-US" sz="1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249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Condensed"/>
                <a:ea typeface="宋体"/>
              </a:rPr>
              <a:t>按时入学，到校学习，体现她享有               权；</a:t>
            </a:r>
            <a:endParaRPr b="0" lang="en-US" sz="1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249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Condensed"/>
                <a:ea typeface="宋体"/>
              </a:rPr>
              <a:t>画作出版，体现她享有              权；</a:t>
            </a:r>
            <a:endParaRPr b="0" lang="en-US" sz="1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249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Condensed"/>
                <a:ea typeface="宋体"/>
              </a:rPr>
              <a:t>获得荣誉称号，体现她享有              权；</a:t>
            </a:r>
            <a:endParaRPr b="0" lang="en-US" sz="1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249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Condensed"/>
                <a:ea typeface="宋体"/>
              </a:rPr>
              <a:t>想工商局提出建议，体现她享有                   权；</a:t>
            </a:r>
            <a:endParaRPr b="0" lang="en-US" sz="1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249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Condensed"/>
                <a:ea typeface="宋体"/>
              </a:rPr>
              <a:t>获的劳动收入，体现她享有             权；</a:t>
            </a:r>
            <a:endParaRPr b="0" lang="en-US" sz="1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249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Condensed"/>
                <a:ea typeface="宋体"/>
              </a:rPr>
              <a:t>参加选举，体现她享有             权。</a:t>
            </a:r>
            <a:endParaRPr b="0" lang="en-US" sz="1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Segoe Condensed"/>
            </a:endParaRPr>
          </a:p>
        </p:txBody>
      </p:sp>
      <p:pic>
        <p:nvPicPr>
          <p:cNvPr id="187" name="Picture 3" descr="1"/>
          <p:cNvPicPr/>
          <p:nvPr/>
        </p:nvPicPr>
        <p:blipFill>
          <a:blip r:embed="rId1"/>
          <a:stretch/>
        </p:blipFill>
        <p:spPr>
          <a:xfrm>
            <a:off x="5148360" y="3860640"/>
            <a:ext cx="506160" cy="576360"/>
          </a:xfrm>
          <a:prstGeom prst="rect">
            <a:avLst/>
          </a:prstGeom>
          <a:ln w="0">
            <a:noFill/>
          </a:ln>
        </p:spPr>
      </p:pic>
      <p:sp>
        <p:nvSpPr>
          <p:cNvPr id="188" name="WordArt 5"/>
          <p:cNvSpPr txBox="1"/>
          <p:nvPr/>
        </p:nvSpPr>
        <p:spPr>
          <a:xfrm>
            <a:off x="539640" y="1628640"/>
            <a:ext cx="604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上述材料中涉及主人公的哪些权利？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507960" y="477720"/>
            <a:ext cx="4394160" cy="6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游戏：愤怒的小鸟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1332000" y="4726080"/>
            <a:ext cx="536400" cy="792000"/>
            <a:chOff x="1332000" y="4726080"/>
            <a:chExt cx="536400" cy="792000"/>
          </a:xfrm>
        </p:grpSpPr>
        <p:sp>
          <p:nvSpPr>
            <p:cNvPr id="191" name="WordArt 8"/>
            <p:cNvSpPr txBox="1"/>
            <p:nvPr/>
          </p:nvSpPr>
          <p:spPr>
            <a:xfrm>
              <a:off x="1403640" y="4726080"/>
              <a:ext cx="400320" cy="19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选举</a:t>
              </a:r>
              <a:endParaRPr b="0" lang="en-US" sz="16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pic>
          <p:nvPicPr>
            <p:cNvPr id="192" name="Picture 9" descr="2"/>
            <p:cNvPicPr/>
            <p:nvPr/>
          </p:nvPicPr>
          <p:blipFill>
            <a:blip r:embed="rId2"/>
            <a:stretch/>
          </p:blipFill>
          <p:spPr>
            <a:xfrm>
              <a:off x="1332000" y="4797720"/>
              <a:ext cx="536400" cy="72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Group 10"/>
          <p:cNvGrpSpPr/>
          <p:nvPr/>
        </p:nvGrpSpPr>
        <p:grpSpPr>
          <a:xfrm>
            <a:off x="179280" y="4726080"/>
            <a:ext cx="598680" cy="772920"/>
            <a:chOff x="179280" y="4726080"/>
            <a:chExt cx="598680" cy="772920"/>
          </a:xfrm>
        </p:grpSpPr>
        <p:sp>
          <p:nvSpPr>
            <p:cNvPr id="194" name="WordArt 11"/>
            <p:cNvSpPr txBox="1"/>
            <p:nvPr/>
          </p:nvSpPr>
          <p:spPr>
            <a:xfrm>
              <a:off x="322920" y="4726080"/>
              <a:ext cx="400320" cy="19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著作</a:t>
              </a:r>
              <a:endParaRPr b="0" lang="en-US" sz="16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pic>
          <p:nvPicPr>
            <p:cNvPr id="195" name="Picture 12" descr="3"/>
            <p:cNvPicPr/>
            <p:nvPr/>
          </p:nvPicPr>
          <p:blipFill>
            <a:blip r:embed="rId3"/>
            <a:stretch/>
          </p:blipFill>
          <p:spPr>
            <a:xfrm>
              <a:off x="179280" y="4797720"/>
              <a:ext cx="598680" cy="70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Picture 13" descr="5"/>
          <p:cNvPicPr/>
          <p:nvPr/>
        </p:nvPicPr>
        <p:blipFill>
          <a:blip r:embed="rId4"/>
          <a:stretch/>
        </p:blipFill>
        <p:spPr>
          <a:xfrm>
            <a:off x="6012000" y="2925720"/>
            <a:ext cx="474480" cy="50328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4"/>
          <p:cNvGrpSpPr/>
          <p:nvPr/>
        </p:nvGrpSpPr>
        <p:grpSpPr>
          <a:xfrm>
            <a:off x="2484360" y="5734080"/>
            <a:ext cx="399960" cy="650520"/>
            <a:chOff x="2484360" y="5734080"/>
            <a:chExt cx="399960" cy="650520"/>
          </a:xfrm>
        </p:grpSpPr>
        <p:sp>
          <p:nvSpPr>
            <p:cNvPr id="198" name="WordArt 15"/>
            <p:cNvSpPr txBox="1"/>
            <p:nvPr/>
          </p:nvSpPr>
          <p:spPr>
            <a:xfrm>
              <a:off x="2484360" y="5734080"/>
              <a:ext cx="399960" cy="19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姓名</a:t>
              </a:r>
              <a:endParaRPr b="0" lang="en-US" sz="16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pic>
          <p:nvPicPr>
            <p:cNvPr id="199" name="Picture 16" descr="6"/>
            <p:cNvPicPr/>
            <p:nvPr/>
          </p:nvPicPr>
          <p:blipFill>
            <a:blip r:embed="rId5"/>
            <a:stretch/>
          </p:blipFill>
          <p:spPr>
            <a:xfrm>
              <a:off x="2486160" y="5950080"/>
              <a:ext cx="369720" cy="43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Group 17"/>
          <p:cNvGrpSpPr/>
          <p:nvPr/>
        </p:nvGrpSpPr>
        <p:grpSpPr>
          <a:xfrm>
            <a:off x="179280" y="5734080"/>
            <a:ext cx="600120" cy="809640"/>
            <a:chOff x="179280" y="5734080"/>
            <a:chExt cx="600120" cy="809640"/>
          </a:xfrm>
        </p:grpSpPr>
        <p:sp>
          <p:nvSpPr>
            <p:cNvPr id="201" name="WordArt 18"/>
            <p:cNvSpPr txBox="1"/>
            <p:nvPr/>
          </p:nvSpPr>
          <p:spPr>
            <a:xfrm>
              <a:off x="179280" y="5734080"/>
              <a:ext cx="600120" cy="19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被抚育</a:t>
              </a:r>
              <a:endParaRPr b="0" lang="en-US" sz="16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pic>
          <p:nvPicPr>
            <p:cNvPr id="202" name="Picture 19" descr="7"/>
            <p:cNvPicPr/>
            <p:nvPr/>
          </p:nvPicPr>
          <p:blipFill>
            <a:blip r:embed="rId6"/>
            <a:stretch/>
          </p:blipFill>
          <p:spPr>
            <a:xfrm>
              <a:off x="179280" y="5878080"/>
              <a:ext cx="504360" cy="66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3" name="Picture 20" descr="8"/>
          <p:cNvPicPr/>
          <p:nvPr/>
        </p:nvPicPr>
        <p:blipFill>
          <a:blip r:embed="rId7"/>
          <a:stretch/>
        </p:blipFill>
        <p:spPr>
          <a:xfrm>
            <a:off x="6372360" y="1989000"/>
            <a:ext cx="504720" cy="5032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21"/>
          <p:cNvGrpSpPr/>
          <p:nvPr/>
        </p:nvGrpSpPr>
        <p:grpSpPr>
          <a:xfrm>
            <a:off x="252360" y="2349360"/>
            <a:ext cx="598680" cy="957240"/>
            <a:chOff x="252360" y="2349360"/>
            <a:chExt cx="598680" cy="957240"/>
          </a:xfrm>
        </p:grpSpPr>
        <p:sp>
          <p:nvSpPr>
            <p:cNvPr id="205" name="WordArt 22"/>
            <p:cNvSpPr txBox="1"/>
            <p:nvPr/>
          </p:nvSpPr>
          <p:spPr>
            <a:xfrm>
              <a:off x="252360" y="2349360"/>
              <a:ext cx="598680" cy="19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受教育</a:t>
              </a:r>
              <a:endParaRPr b="0" lang="en-US" sz="16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pic>
          <p:nvPicPr>
            <p:cNvPr id="206" name="Picture 23" descr="9"/>
            <p:cNvPicPr/>
            <p:nvPr/>
          </p:nvPicPr>
          <p:blipFill>
            <a:blip r:embed="rId8"/>
            <a:stretch/>
          </p:blipFill>
          <p:spPr>
            <a:xfrm>
              <a:off x="323640" y="2493360"/>
              <a:ext cx="359280" cy="81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7" name="Picture 24" descr="8"/>
          <p:cNvPicPr/>
          <p:nvPr/>
        </p:nvPicPr>
        <p:blipFill>
          <a:blip r:embed="rId9"/>
          <a:stretch/>
        </p:blipFill>
        <p:spPr>
          <a:xfrm>
            <a:off x="5148360" y="5734080"/>
            <a:ext cx="490320" cy="504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5" descr="5"/>
          <p:cNvPicPr/>
          <p:nvPr/>
        </p:nvPicPr>
        <p:blipFill>
          <a:blip r:embed="rId10"/>
          <a:stretch/>
        </p:blipFill>
        <p:spPr>
          <a:xfrm>
            <a:off x="5796000" y="3429000"/>
            <a:ext cx="474480" cy="504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6" descr="1"/>
          <p:cNvPicPr/>
          <p:nvPr/>
        </p:nvPicPr>
        <p:blipFill>
          <a:blip r:embed="rId11"/>
          <a:stretch/>
        </p:blipFill>
        <p:spPr>
          <a:xfrm>
            <a:off x="5435640" y="5229360"/>
            <a:ext cx="506520" cy="576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7" descr="5"/>
          <p:cNvPicPr/>
          <p:nvPr/>
        </p:nvPicPr>
        <p:blipFill>
          <a:blip r:embed="rId12"/>
          <a:stretch/>
        </p:blipFill>
        <p:spPr>
          <a:xfrm>
            <a:off x="6012000" y="4797360"/>
            <a:ext cx="474480" cy="504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8" descr="1"/>
          <p:cNvPicPr/>
          <p:nvPr/>
        </p:nvPicPr>
        <p:blipFill>
          <a:blip r:embed="rId13"/>
          <a:stretch/>
        </p:blipFill>
        <p:spPr>
          <a:xfrm>
            <a:off x="5292720" y="2421000"/>
            <a:ext cx="504720" cy="576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9" descr="8"/>
          <p:cNvPicPr/>
          <p:nvPr/>
        </p:nvPicPr>
        <p:blipFill>
          <a:blip r:embed="rId14"/>
          <a:stretch/>
        </p:blipFill>
        <p:spPr>
          <a:xfrm>
            <a:off x="5508720" y="4365720"/>
            <a:ext cx="504720" cy="5047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30"/>
          <p:cNvGrpSpPr/>
          <p:nvPr/>
        </p:nvGrpSpPr>
        <p:grpSpPr>
          <a:xfrm>
            <a:off x="1260360" y="3718080"/>
            <a:ext cx="800280" cy="792000"/>
            <a:chOff x="1260360" y="3718080"/>
            <a:chExt cx="800280" cy="792000"/>
          </a:xfrm>
        </p:grpSpPr>
        <p:sp>
          <p:nvSpPr>
            <p:cNvPr id="214" name="WordArt 31"/>
            <p:cNvSpPr txBox="1"/>
            <p:nvPr/>
          </p:nvSpPr>
          <p:spPr>
            <a:xfrm>
              <a:off x="1260360" y="3718080"/>
              <a:ext cx="800280" cy="19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批评建议</a:t>
              </a:r>
              <a:endParaRPr b="0" lang="en-US" sz="16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pic>
          <p:nvPicPr>
            <p:cNvPr id="215" name="Picture 32" descr="4"/>
            <p:cNvPicPr/>
            <p:nvPr/>
          </p:nvPicPr>
          <p:blipFill>
            <a:blip r:embed="rId15"/>
            <a:stretch/>
          </p:blipFill>
          <p:spPr>
            <a:xfrm>
              <a:off x="1260360" y="3790440"/>
              <a:ext cx="692280" cy="71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33"/>
          <p:cNvGrpSpPr/>
          <p:nvPr/>
        </p:nvGrpSpPr>
        <p:grpSpPr>
          <a:xfrm>
            <a:off x="324000" y="3645000"/>
            <a:ext cx="399960" cy="652320"/>
            <a:chOff x="324000" y="3645000"/>
            <a:chExt cx="399960" cy="652320"/>
          </a:xfrm>
        </p:grpSpPr>
        <p:sp>
          <p:nvSpPr>
            <p:cNvPr id="217" name="WordArt 34"/>
            <p:cNvSpPr txBox="1"/>
            <p:nvPr/>
          </p:nvSpPr>
          <p:spPr>
            <a:xfrm>
              <a:off x="324000" y="3645000"/>
              <a:ext cx="399960" cy="20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环境</a:t>
              </a:r>
              <a:endParaRPr b="0" lang="en-US" sz="16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pic>
          <p:nvPicPr>
            <p:cNvPr id="218" name="Picture 35" descr="6"/>
            <p:cNvPicPr/>
            <p:nvPr/>
          </p:nvPicPr>
          <p:blipFill>
            <a:blip r:embed="rId16"/>
            <a:stretch/>
          </p:blipFill>
          <p:spPr>
            <a:xfrm>
              <a:off x="324000" y="3861000"/>
              <a:ext cx="369360" cy="43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36"/>
          <p:cNvGrpSpPr/>
          <p:nvPr/>
        </p:nvGrpSpPr>
        <p:grpSpPr>
          <a:xfrm>
            <a:off x="1260360" y="2492280"/>
            <a:ext cx="596880" cy="844560"/>
            <a:chOff x="1260360" y="2492280"/>
            <a:chExt cx="596880" cy="844560"/>
          </a:xfrm>
        </p:grpSpPr>
        <p:sp>
          <p:nvSpPr>
            <p:cNvPr id="220" name="WordArt 37"/>
            <p:cNvSpPr txBox="1"/>
            <p:nvPr/>
          </p:nvSpPr>
          <p:spPr>
            <a:xfrm>
              <a:off x="1404000" y="2492280"/>
              <a:ext cx="399240" cy="19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1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劳动</a:t>
              </a:r>
              <a:endParaRPr b="0" lang="en-US" sz="16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pic>
          <p:nvPicPr>
            <p:cNvPr id="221" name="Picture 38" descr="3"/>
            <p:cNvPicPr/>
            <p:nvPr/>
          </p:nvPicPr>
          <p:blipFill>
            <a:blip r:embed="rId17"/>
            <a:stretch/>
          </p:blipFill>
          <p:spPr>
            <a:xfrm>
              <a:off x="1260360" y="2564640"/>
              <a:ext cx="596880" cy="77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39"/>
          <p:cNvGrpSpPr/>
          <p:nvPr/>
        </p:nvGrpSpPr>
        <p:grpSpPr>
          <a:xfrm>
            <a:off x="1260360" y="5734080"/>
            <a:ext cx="503280" cy="772560"/>
            <a:chOff x="1260360" y="5734080"/>
            <a:chExt cx="503280" cy="772560"/>
          </a:xfrm>
        </p:grpSpPr>
        <p:sp>
          <p:nvSpPr>
            <p:cNvPr id="223" name="WordArt 40"/>
            <p:cNvSpPr txBox="1"/>
            <p:nvPr/>
          </p:nvSpPr>
          <p:spPr>
            <a:xfrm>
              <a:off x="1358640" y="5734080"/>
              <a:ext cx="399240" cy="19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荣誉</a:t>
              </a:r>
              <a:endParaRPr b="0" lang="en-US" sz="16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pic>
          <p:nvPicPr>
            <p:cNvPr id="224" name="Picture 41" descr="7"/>
            <p:cNvPicPr/>
            <p:nvPr/>
          </p:nvPicPr>
          <p:blipFill>
            <a:blip r:embed="rId18"/>
            <a:stretch/>
          </p:blipFill>
          <p:spPr>
            <a:xfrm>
              <a:off x="1260360" y="5842080"/>
              <a:ext cx="503280" cy="66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5" name="Picture 42" descr="2008112105649355_2"/>
          <p:cNvPicPr/>
          <p:nvPr/>
        </p:nvPicPr>
        <p:blipFill>
          <a:blip r:embed="rId19"/>
          <a:stretch/>
        </p:blipFill>
        <p:spPr>
          <a:xfrm rot="60000">
            <a:off x="-30240" y="2781360"/>
            <a:ext cx="3017880" cy="35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03 -0.117006 0.027558 -0.594969 0.066181 -0.702037 C 0.104803 -0.809105 0.191169 -0.646821 0.231736 -0.642407 C 0.272303 -0.637994 0.291366 -0.68034 0.309583 -0.675556 C 0.327801 -0.670772 0.331111 -0.631728 0.341042 -0.613704 C 0.350972 -0.595679 0.362546 -0.571451 0.369167 -0.567407 C 0.375787 -0.563364 0.377731 -0.588719 0.380764 -0.589444 C 0.383796 -0.59017 0.384606 -0.573225 0.387361 -0.571759 C 0.390116 -0.570293 0.395081 -0.581373 0.397292 -0.580648 C 0.399502 -0.579923 0.399236 -0.569614 0.400625 -0.567407 C 0.402014 -0.565201 0.404792 -0.567407 0.405625 -0.567407 E">
                                      <p:cBhvr>
                                        <p:cTn id="165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dur="indefinite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9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4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99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99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98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99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99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666 0.009167 C 0.030948 -0.112608 0.091099 -0.628024 0.15236 -0.721481 C 0.213622 -0.814938 0.325115 -0.569969 0.374235 -0.551574 C 0.423356 -0.533179 0.428877 -0.618101 0.447083 -0.611111 C 0.465289 -0.60412 0.473819 -0.521759 0.483472 -0.509629 C 0.493124 -0.4975 0.498923 -0.541281 0.504999 -0.538333 C 0.511076 -0.535386 0.515786 -0.497839 0.51993 -0.491944 C 0.524073 -0.486049 0.527384 -0.504799 0.52986 -0.502963 C 0.532337 -0.501126 0.533414 -0.482392 0.534791 -0.480926 C 0.536168 -0.47946 0.537569 -0.49196 0.538124 -0.494166 E">
                                      <p:cBhvr>
                                        <p:cTn id="180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dur="indefinite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416 0.009722 C 0.048599 -0.046189 0.102985 -0.309923 0.164513 -0.325741 C 0.226041 -0.341559 0.33802 -0.114985 0.394583 -0.085185 C 0.451145 -0.055386 0.476285 -0.144368 0.503888 -0.146945 C 0.531492 -0.149522 0.545578 -0.103951 0.560208 -0.100648 C 0.574837 -0.097346 0.583946 -0.123087 0.591666 -0.12713 C 0.599386 -0.131173 0.602395 -0.125648 0.606527 -0.124908 C 0.610659 -0.124167 0.61397 -0.12415 0.616458 -0.122685 C 0.618946 -0.121219 0.619247 -0.115 0.621458 -0.116111 C 0.623668 -0.117222 0.628344 -0.127145 0.629722 -0.129352 E">
                                      <p:cBhvr>
                                        <p:cTn id="195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dur="indefinite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93 0.029722 C 0.009561 -0.037238 0.10779 -0.395216 0.182014 -0.372037 C 0.256239 -0.348857 0.367987 0.086373 0.420417 0.168797 C 0.472848 0.251219 0.477003 0.126173 0.496598 0.122501 C 0.516193 0.118827 0.529156 0.14824 0.537987 0.146758 C 0.546817 0.145277 0.545163 0.118765 0.549584 0.113611 C 0.554005 0.108457 0.56176 0.112886 0.564514 0.115833 C 0.567269 0.118781 0.564734 0.132037 0.566112 0.131296 C 0.567489 0.130555 0.571388 0.112855 0.572778 0.111389 C 0.574166 0.109923 0.574166 0.120648 0.574445 0.122501 E">
                                      <p:cBhvr>
                                        <p:cTn id="206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dur="indefinite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18 0.003056 C 0.025869 -0.067963 0.109781 -0.401343 0.161112 -0.423055 C 0.212443 -0.444768 0.262385 -0.165864 0.306806 -0.127222 C 0.351227 -0.08858 0.397292 -0.190833 0.427639 -0.191203 C 0.457987 -0.191574 0.476748 -0.135694 0.488889 -0.129444 C 0.501031 -0.123194 0.495521 -0.151867 0.500487 -0.153703 C 0.505452 -0.15554 0.513982 -0.140833 0.51868 -0.140463 C 0.52338 -0.140092 0.528947 -0.149274 0.528681 -0.151481 C 0.528415 -0.153688 0.519018 -0.153333 0.517083 -0.153703 E">
                                      <p:cBhvr>
                                        <p:cTn id="217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dur="indefinite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59 0.028149 C 0.019133 -0.086635 0.065197 -0.6348 0.095001 -0.660554 C 0.124804 -0.686312 0.152975 -0.192607 0.182778 -0.126388 C 0.212582 -0.060169 0.249538 -0.25588 0.27382 -0.26324 C 0.298103 -0.270601 0.310533 -0.178286 0.328473 -0.170555 C 0.346413 -0.162823 0.367663 -0.214274 0.381458 -0.216851 C 0.395255 -0.219428 0.402976 -0.186373 0.411251 -0.186018 C 0.419526 -0.185663 0.42698 -0.211419 0.431112 -0.214722 C 0.435244 -0.218024 0.432454 -0.205107 0.436042 -0.205832 C 0.43963 -0.206558 0.449596 -0.219073 0.45264 -0.219073 C 0.455684 -0.219073 0.454028 -0.208039 0.454305 -0.205832 E">
                                      <p:cBhvr>
                                        <p:cTn id="227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dur="indefinite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222 0.016666 C 0.039085 -0.067223 0.058947 -0.519769 0.098403 -0.486667 C 0.137859 -0.453564 0.218703 0.116311 0.263958 0.215277 C 0.309213 0.314243 0.342604 0.114845 0.36993 0.107129 C 0.397257 0.099413 0.409699 0.163456 0.427917 0.168981 C 0.446134 0.174505 0.470139 0.142484 0.479236 0.140277 C 0.488333 0.13807 0.479189 0.154645 0.482499 0.15574 C 0.48581 0.156836 0.496331 0.148333 0.499097 0.146851 E">
                                      <p:cBhvr>
                                        <p:cTn id="238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dur="indefinite" nodeType="after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14 0.007315 C 0.025278 -0.032052 0.050949 -0.313504 0.079097 -0.228889 C 0.107245 -0.144275 0.148912 0.4175 0.183403 0.515 C 0.217894 0.6125 0.260382 0.373024 0.286042 0.356111 C 0.311701 0.339198 0.320799 0.416096 0.337361 0.413519 C 0.353924 0.41094 0.370509 0.343596 0.385417 0.340647 C 0.400324 0.337701 0.417708 0.389584 0.426806 0.395834 C 0.435903 0.402083 0.436968 0.379259 0.44 0.378147 C 0.443032 0.377037 0.444167 0.387329 0.445 0.389167 E">
                                      <p:cBhvr>
                                        <p:cTn id="248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dur="indefinite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611 0.002593 C 0.002396 -0.070617 0.046829 -0.467206 0.082431 -0.436666 C 0.118033 -0.406126 0.163577 0.103426 0.2 0.185834 C 0.236424 0.268241 0.276134 0.062192 0.300972 0.057778 C 0.32581 0.053365 0.337431 0.152362 0.349028 0.159352 C 0.360625 0.166343 0.36559 0.10304 0.370556 0.099723 C 0.375521 0.096405 0.375787 0.136868 0.37882 0.139445 C 0.381852 0.142022 0.384618 0.116281 0.38875 0.115186 C 0.392882 0.11409 0.401134 0.129923 0.403611 0.132871 E">
                                      <p:cBhvr>
                                        <p:cTn id="259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dur="indefinite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137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Segoe Condensed"/>
                <a:ea typeface="宋体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Segoe Condensed"/>
                <a:ea typeface="宋体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5292720" y="1773360"/>
            <a:ext cx="3527280" cy="1871640"/>
          </a:xfrm>
          <a:prstGeom prst="cloudCallout">
            <a:avLst>
              <a:gd name="adj1" fmla="val -87175"/>
              <a:gd name="adj2" fmla="val 31171"/>
            </a:avLst>
          </a:prstGeom>
          <a:solidFill>
            <a:srgbClr val="3da35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eb80a"/>
                </a:solidFill>
                <a:latin typeface="宋体"/>
                <a:ea typeface="宋体"/>
              </a:rPr>
              <a:t>让她健康成长，保护自己的利益不受损害，顺利地学习到更多的知识</a:t>
            </a:r>
            <a:r>
              <a:rPr b="0" lang="zh-CN" sz="1400" spc="-1" strike="noStrike">
                <a:solidFill>
                  <a:srgbClr val="feb80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feb80a"/>
                </a:solidFill>
                <a:latin typeface="宋体"/>
                <a:ea typeface="宋体"/>
              </a:rPr>
              <a:t>为社会做出贡献，实现她作为国家主人的责任和义务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4360" y="1557360"/>
            <a:ext cx="3240000" cy="2016000"/>
          </a:xfrm>
          <a:prstGeom prst="irregularSeal1">
            <a:avLst/>
          </a:prstGeom>
          <a:solidFill>
            <a:srgbClr val="3891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这些权利对她有什么益处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509760" y="4435560"/>
            <a:ext cx="3557520" cy="1871640"/>
          </a:xfrm>
          <a:prstGeom prst="irregularSeal2">
            <a:avLst/>
          </a:prstGeom>
          <a:solidFill>
            <a:srgbClr val="3891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你知道我们还有那些权利吗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6"/>
          <p:cNvGrpSpPr/>
          <p:nvPr/>
        </p:nvGrpSpPr>
        <p:grpSpPr>
          <a:xfrm>
            <a:off x="5292720" y="4292640"/>
            <a:ext cx="3600360" cy="2016000"/>
            <a:chOff x="5292720" y="4292640"/>
            <a:chExt cx="3600360" cy="2016000"/>
          </a:xfrm>
        </p:grpSpPr>
        <p:sp>
          <p:nvSpPr>
            <p:cNvPr id="231" name="AutoShape 7"/>
            <p:cNvSpPr/>
            <p:nvPr/>
          </p:nvSpPr>
          <p:spPr>
            <a:xfrm>
              <a:off x="5292720" y="4292640"/>
              <a:ext cx="3600360" cy="2016000"/>
            </a:xfrm>
            <a:prstGeom prst="wedgeRoundRectCallout">
              <a:avLst>
                <a:gd name="adj1" fmla="val -84481"/>
                <a:gd name="adj2" fmla="val 21416"/>
                <a:gd name="adj3" fmla="val 16667"/>
              </a:avLst>
            </a:prstGeom>
            <a:solidFill>
              <a:srgbClr val="3da3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" name="Group 8"/>
            <p:cNvGrpSpPr/>
            <p:nvPr/>
          </p:nvGrpSpPr>
          <p:grpSpPr>
            <a:xfrm>
              <a:off x="5435640" y="4508640"/>
              <a:ext cx="3352680" cy="1584360"/>
              <a:chOff x="5435640" y="4508640"/>
              <a:chExt cx="3352680" cy="1584360"/>
            </a:xfrm>
          </p:grpSpPr>
          <p:sp>
            <p:nvSpPr>
              <p:cNvPr id="233" name="WordArt 9"/>
              <p:cNvSpPr txBox="1"/>
              <p:nvPr/>
            </p:nvSpPr>
            <p:spPr>
              <a:xfrm>
                <a:off x="5508720" y="4508640"/>
                <a:ext cx="115092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12600">
                      <a:solidFill>
                        <a:srgbClr val="eaeaea"/>
                      </a:solidFill>
                      <a:round/>
                    </a:ln>
                    <a:gradFill rotWithShape="0">
                      <a:gsLst>
                        <a:gs pos="0">
                          <a:srgbClr val="a603ab"/>
                        </a:gs>
                        <a:gs pos="100000">
                          <a:srgbClr val="a603ab"/>
                        </a:gs>
                      </a:gsLst>
                      <a:lin ang="0"/>
                    </a:gradFill>
                    <a:effectLst>
                      <a:outerShdw dist="153753" dir="2700000" blurRad="0" rotWithShape="0">
                        <a:srgbClr val="c0c0c0">
                          <a:alpha val="76000"/>
                        </a:srgbClr>
                      </a:outerShdw>
                    </a:effectLst>
                    <a:latin typeface="宋体"/>
                  </a:rPr>
                  <a:t>生命健康权</a:t>
                </a:r>
                <a:endParaRPr b="0" lang="en-US" sz="18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76000"/>
                      </a:srgbClr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234" name="WordArt 10"/>
              <p:cNvSpPr txBox="1"/>
              <p:nvPr/>
            </p:nvSpPr>
            <p:spPr>
              <a:xfrm>
                <a:off x="6804000" y="4508640"/>
                <a:ext cx="86364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12600">
                      <a:solidFill>
                        <a:srgbClr val="eaeaea"/>
                      </a:solidFill>
                      <a:round/>
                    </a:ln>
                    <a:gradFill rotWithShape="0">
                      <a:gsLst>
                        <a:gs pos="0">
                          <a:srgbClr val="a603ab"/>
                        </a:gs>
                        <a:gs pos="100000">
                          <a:srgbClr val="a603ab"/>
                        </a:gs>
                      </a:gsLst>
                      <a:lin ang="0"/>
                    </a:gradFill>
                    <a:effectLst>
                      <a:outerShdw dist="153753" dir="2700000" blurRad="0" rotWithShape="0">
                        <a:srgbClr val="c0c0c0">
                          <a:alpha val="76000"/>
                        </a:srgbClr>
                      </a:outerShdw>
                    </a:effectLst>
                    <a:latin typeface="宋体"/>
                  </a:rPr>
                  <a:t>名誉权</a:t>
                </a:r>
                <a:endParaRPr b="0" lang="en-US" sz="18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76000"/>
                      </a:srgbClr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235" name="WordArt 11"/>
              <p:cNvSpPr txBox="1"/>
              <p:nvPr/>
            </p:nvSpPr>
            <p:spPr>
              <a:xfrm>
                <a:off x="7885080" y="4508640"/>
                <a:ext cx="90324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12600">
                      <a:solidFill>
                        <a:srgbClr val="eaeaea"/>
                      </a:solidFill>
                      <a:round/>
                    </a:ln>
                    <a:gradFill rotWithShape="0">
                      <a:gsLst>
                        <a:gs pos="0">
                          <a:srgbClr val="a603ab"/>
                        </a:gs>
                        <a:gs pos="100000">
                          <a:srgbClr val="a603ab"/>
                        </a:gs>
                      </a:gsLst>
                      <a:lin ang="0"/>
                    </a:gradFill>
                    <a:effectLst>
                      <a:outerShdw dist="153753" dir="2700000" blurRad="0" rotWithShape="0">
                        <a:srgbClr val="c0c0c0">
                          <a:alpha val="76000"/>
                        </a:srgbClr>
                      </a:outerShdw>
                    </a:effectLst>
                    <a:latin typeface="宋体"/>
                  </a:rPr>
                  <a:t>肖像权</a:t>
                </a:r>
                <a:endParaRPr b="0" lang="en-US" sz="18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76000"/>
                      </a:srgbClr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236" name="WordArt 12"/>
              <p:cNvSpPr txBox="1"/>
              <p:nvPr/>
            </p:nvSpPr>
            <p:spPr>
              <a:xfrm>
                <a:off x="5508720" y="5013360"/>
                <a:ext cx="93672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12600">
                      <a:solidFill>
                        <a:srgbClr val="eaeaea"/>
                      </a:solidFill>
                      <a:round/>
                    </a:ln>
                    <a:gradFill rotWithShape="0">
                      <a:gsLst>
                        <a:gs pos="0">
                          <a:srgbClr val="a603ab"/>
                        </a:gs>
                        <a:gs pos="100000">
                          <a:srgbClr val="a603ab"/>
                        </a:gs>
                      </a:gsLst>
                      <a:lin ang="0"/>
                    </a:gradFill>
                    <a:effectLst>
                      <a:outerShdw dist="153753" dir="2700000" blurRad="0" rotWithShape="0">
                        <a:srgbClr val="c0c0c0">
                          <a:alpha val="76000"/>
                        </a:srgbClr>
                      </a:outerShdw>
                    </a:effectLst>
                    <a:latin typeface="宋体"/>
                  </a:rPr>
                  <a:t>隐私权</a:t>
                </a:r>
                <a:endParaRPr b="0" lang="en-US" sz="18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76000"/>
                      </a:srgbClr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237" name="WordArt 13"/>
              <p:cNvSpPr txBox="1"/>
              <p:nvPr/>
            </p:nvSpPr>
            <p:spPr>
              <a:xfrm>
                <a:off x="6659640" y="5013360"/>
                <a:ext cx="151272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12600">
                      <a:solidFill>
                        <a:srgbClr val="eaeaea"/>
                      </a:solidFill>
                      <a:round/>
                    </a:ln>
                    <a:gradFill rotWithShape="0">
                      <a:gsLst>
                        <a:gs pos="0">
                          <a:srgbClr val="a603ab"/>
                        </a:gs>
                        <a:gs pos="100000">
                          <a:srgbClr val="a603ab"/>
                        </a:gs>
                      </a:gsLst>
                      <a:lin ang="0"/>
                    </a:gradFill>
                    <a:effectLst>
                      <a:outerShdw dist="153753" dir="2700000" blurRad="0" rotWithShape="0">
                        <a:srgbClr val="c0c0c0">
                          <a:alpha val="76000"/>
                        </a:srgbClr>
                      </a:outerShdw>
                    </a:effectLst>
                    <a:latin typeface="宋体"/>
                  </a:rPr>
                  <a:t>财产所有权</a:t>
                </a:r>
                <a:endParaRPr b="0" lang="en-US" sz="18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76000"/>
                      </a:srgbClr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238" name="WordArt 14"/>
              <p:cNvSpPr txBox="1"/>
              <p:nvPr/>
            </p:nvSpPr>
            <p:spPr>
              <a:xfrm>
                <a:off x="5435640" y="5445360"/>
                <a:ext cx="144144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12600">
                      <a:solidFill>
                        <a:srgbClr val="eaeaea"/>
                      </a:solidFill>
                      <a:round/>
                    </a:ln>
                    <a:gradFill rotWithShape="0">
                      <a:gsLst>
                        <a:gs pos="0">
                          <a:srgbClr val="a603ab"/>
                        </a:gs>
                        <a:gs pos="100000">
                          <a:srgbClr val="a603ab"/>
                        </a:gs>
                      </a:gsLst>
                      <a:lin ang="0"/>
                    </a:gradFill>
                    <a:effectLst>
                      <a:outerShdw dist="153753" dir="2700000" blurRad="0" rotWithShape="0">
                        <a:srgbClr val="c0c0c0">
                          <a:alpha val="76000"/>
                        </a:srgbClr>
                      </a:outerShdw>
                    </a:effectLst>
                    <a:latin typeface="宋体"/>
                  </a:rPr>
                  <a:t>人格尊严权</a:t>
                </a:r>
                <a:endParaRPr b="0" lang="en-US" sz="18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76000"/>
                      </a:srgbClr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239" name="WordArt 15"/>
              <p:cNvSpPr txBox="1"/>
              <p:nvPr/>
            </p:nvSpPr>
            <p:spPr>
              <a:xfrm>
                <a:off x="7093080" y="5445360"/>
                <a:ext cx="107928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12600">
                      <a:solidFill>
                        <a:srgbClr val="eaeaea"/>
                      </a:solidFill>
                      <a:round/>
                    </a:ln>
                    <a:gradFill rotWithShape="0">
                      <a:gsLst>
                        <a:gs pos="0">
                          <a:srgbClr val="a603ab"/>
                        </a:gs>
                        <a:gs pos="100000">
                          <a:srgbClr val="a603ab"/>
                        </a:gs>
                      </a:gsLst>
                      <a:lin ang="0"/>
                    </a:gradFill>
                    <a:effectLst>
                      <a:outerShdw dist="153753" dir="2700000" blurRad="0" rotWithShape="0">
                        <a:srgbClr val="c0c0c0">
                          <a:alpha val="76000"/>
                        </a:srgbClr>
                      </a:outerShdw>
                    </a:effectLst>
                    <a:latin typeface="宋体"/>
                  </a:rPr>
                  <a:t>知情权</a:t>
                </a:r>
                <a:endParaRPr b="0" lang="en-US" sz="18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76000"/>
                      </a:srgbClr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240" name="WordArt 16"/>
              <p:cNvSpPr txBox="1"/>
              <p:nvPr/>
            </p:nvSpPr>
            <p:spPr>
              <a:xfrm>
                <a:off x="5508720" y="6021360"/>
                <a:ext cx="1155600" cy="71640"/>
              </a:xfrm>
              <a:prstGeom prst="rect">
                <a:avLst/>
              </a:prstGeom>
            </p:spPr>
            <p:txBody>
              <a:bodyPr wrap="none" lIns="90000" rIns="90000" tIns="25200" bIns="252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12600">
                      <a:solidFill>
                        <a:srgbClr val="eaeaea"/>
                      </a:solidFill>
                      <a:round/>
                    </a:ln>
                    <a:gradFill rotWithShape="0">
                      <a:gsLst>
                        <a:gs pos="0">
                          <a:srgbClr val="a603ab"/>
                        </a:gs>
                        <a:gs pos="100000">
                          <a:srgbClr val="a603ab"/>
                        </a:gs>
                      </a:gsLst>
                      <a:lin ang="0"/>
                    </a:gradFill>
                    <a:effectLst>
                      <a:outerShdw dist="153753" dir="2700000" blurRad="0" rotWithShape="0">
                        <a:srgbClr val="c0c0c0">
                          <a:alpha val="76000"/>
                        </a:srgbClr>
                      </a:outerShdw>
                    </a:effectLst>
                    <a:latin typeface="宋体"/>
                  </a:rPr>
                  <a:t>。。。</a:t>
                </a:r>
                <a:endParaRPr b="0" lang="en-US" sz="18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76000"/>
                      </a:srgbClr>
                    </a:outerShdw>
                  </a:effectLst>
                  <a:latin typeface="宋体"/>
                  <a:ea typeface="宋体"/>
                </a:endParaRPr>
              </a:p>
            </p:txBody>
          </p:sp>
        </p:grpSp>
      </p:grpSp>
    </p:spTree>
  </p:cSld>
  <p:transition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2"/>
          <p:cNvSpPr txBox="1"/>
          <p:nvPr/>
        </p:nvSpPr>
        <p:spPr>
          <a:xfrm>
            <a:off x="2050920" y="1700280"/>
            <a:ext cx="4681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我们享有广泛的权利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716360" y="2565360"/>
            <a:ext cx="3600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公民的基本权利是什么法来规定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500720" y="3789360"/>
            <a:ext cx="4176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宪法是公民基本权利的确认书和保证书。我国的普通法律则依据宪法进一步规定公民的具体权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图片1"/>
          <p:cNvPicPr/>
          <p:nvPr/>
        </p:nvPicPr>
        <p:blipFill>
          <a:blip r:embed="rId1"/>
          <a:stretch/>
        </p:blipFill>
        <p:spPr>
          <a:xfrm>
            <a:off x="684360" y="2492280"/>
            <a:ext cx="3292200" cy="4121280"/>
          </a:xfrm>
          <a:prstGeom prst="rect">
            <a:avLst/>
          </a:prstGeom>
          <a:ln w="0">
            <a:noFill/>
          </a:ln>
        </p:spPr>
      </p:pic>
      <p:sp>
        <p:nvSpPr>
          <p:cNvPr id="245" name="文本框 8194"/>
          <p:cNvSpPr/>
          <p:nvPr/>
        </p:nvSpPr>
        <p:spPr>
          <a:xfrm>
            <a:off x="2354400" y="8604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egoe Condensed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21873a"/>
                </a:solidFill>
                <a:uFillTx/>
                <a:latin typeface="Segoe Condensed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Segoe Condensed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Segoe Condensed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684360" y="1700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公民享有广泛的权利，就可以随意的行使权利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WordArt 3"/>
          <p:cNvSpPr txBox="1"/>
          <p:nvPr/>
        </p:nvSpPr>
        <p:spPr>
          <a:xfrm rot="20183400">
            <a:off x="2343240" y="3354120"/>
            <a:ext cx="502740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4414cc"/>
                    </a:gs>
                    <a:gs pos="50000">
                      <a:srgbClr val="258dbb"/>
                    </a:gs>
                    <a:gs pos="100000">
                      <a:srgbClr val="4414cc"/>
                    </a:gs>
                  </a:gsLst>
                  <a:lin ang="16056000"/>
                </a:gradFill>
                <a:latin typeface="宋体"/>
              </a:rPr>
              <a:t>正确行使权利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4414cc"/>
                  </a:gs>
                  <a:gs pos="50000">
                    <a:srgbClr val="258dbb"/>
                  </a:gs>
                  <a:gs pos="100000">
                    <a:srgbClr val="4414cc"/>
                  </a:gs>
                </a:gsLst>
                <a:lin ang="16056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2"/>
          <p:cNvSpPr txBox="1"/>
          <p:nvPr/>
        </p:nvSpPr>
        <p:spPr>
          <a:xfrm>
            <a:off x="2195640" y="1989000"/>
            <a:ext cx="453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大家一起来闯关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课堂闯关活动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0" name="WordArt 4"/>
          <p:cNvSpPr txBox="1"/>
          <p:nvPr/>
        </p:nvSpPr>
        <p:spPr>
          <a:xfrm>
            <a:off x="325440" y="4365720"/>
            <a:ext cx="201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GO GO GO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diamond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288 0.026759 C -0.084749 0.053981 0.005944 0.213271 0.042947 0.190092 C 0.079949 0.166913 0.084376 -0.115633 0.111729 -0.112315 C 0.139082 -0.108997 0.177626 0.212206 0.207066 0.210001 C 0.236507 0.207793 0.264144 -0.121513 0.288372 -0.125556 C 0.3126 -0.129599 0.33368 0.184629 0.352433 0.18574 C 0.371185 0.186852 0.38395 -0.123303 0.400889 -0.118889 C 0.417828 -0.114476 0.430351 0.21591 0.454065 0.212222 C 0.477779 0.208534 0.523109 -0.14176 0.543173 -0.141019 C 0.563237 -0.140278 0.560385 0.185015 0.57445 0.216666 C 0.588515 0.248318 0.616097 0.061774 0.627561 0.048889 C 0.639025 0.036003 0.63932 0.130895 0.643233 0.139352 C 0.647144 0.147808 0.648172 0.102932 0.651035 0.099629 C 0.653898 0.096327 0.656761 0.121003 0.660411 0.119537 C 0.664062 0.118071 0.66981 0.088271 0.672935 0.090833 C 0.67606 0.093395 0.678126 0.127561 0.679164 0.134907 E">
                                      <p:cBhvr>
                                        <p:cTn id="331" dur="3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中学生小宋家楼上姓冯的住户，养了两条狗。这两条狗夜晚经常狂吠，扰的四邻不安。狗的主人在小区里遛狗，吓得一些妇女和儿童心惊肉跳。这两条狗有事还在楼道内便溺，气味特别的难闻。邻居多次与冯某交涉，冯某却理直气壮的说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:”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我有权养狗，狗叫是正常现象。”小宋及父母找到公安局，请求警方干预此事，结果冯某受到批评教育，并作出养狗不扰民的保证。</a:t>
            </a:r>
            <a:endParaRPr b="0" lang="en-US" sz="1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52" name="WordArt 3"/>
          <p:cNvSpPr txBox="1"/>
          <p:nvPr/>
        </p:nvSpPr>
        <p:spPr>
          <a:xfrm>
            <a:off x="684360" y="620640"/>
            <a:ext cx="1511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第一关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53" name="Picture 4" descr="图片27"/>
          <p:cNvPicPr/>
          <p:nvPr/>
        </p:nvPicPr>
        <p:blipFill>
          <a:blip r:embed="rId1"/>
          <a:stretch/>
        </p:blipFill>
        <p:spPr>
          <a:xfrm>
            <a:off x="765000" y="2924280"/>
            <a:ext cx="7129800" cy="3933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539640" y="2060640"/>
            <a:ext cx="288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eb80a"/>
                </a:solid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问题回答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eb80a"/>
                </a:solid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: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solidFill>
                <a:srgbClr val="feb80a"/>
              </a:solid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55" name="Picture 3" descr="图片29"/>
          <p:cNvPicPr/>
          <p:nvPr/>
        </p:nvPicPr>
        <p:blipFill>
          <a:blip r:embed="rId1"/>
          <a:stretch/>
        </p:blipFill>
        <p:spPr>
          <a:xfrm>
            <a:off x="5580000" y="1628640"/>
            <a:ext cx="2978280" cy="8352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755640" y="328464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：在都市生活的冯某有养狗的权利吗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：冯某不文明养狗侵犯了邻居和其他居民的哪些权利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：你认为文明养狗应注意什么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1476360" y="3645000"/>
            <a:ext cx="2303640" cy="504720"/>
          </a:xfrm>
          <a:prstGeom prst="horizontalScroll">
            <a:avLst>
              <a:gd name="adj" fmla="val 12500"/>
            </a:avLst>
          </a:prstGeom>
          <a:solidFill>
            <a:srgbClr val="3da35d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14cc"/>
                </a:solidFill>
                <a:latin typeface="Arial"/>
                <a:ea typeface="宋体"/>
              </a:rPr>
              <a:t>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1476360" y="4437000"/>
            <a:ext cx="5040360" cy="576360"/>
          </a:xfrm>
          <a:prstGeom prst="horizontalScroll">
            <a:avLst>
              <a:gd name="adj" fmla="val 12500"/>
            </a:avLst>
          </a:prstGeom>
          <a:solidFill>
            <a:srgbClr val="3da35d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414cc"/>
                </a:solidFill>
                <a:latin typeface="Arial"/>
                <a:ea typeface="宋体"/>
              </a:rPr>
              <a:t>休息权、安全权、健康权、环境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1476360" y="5300640"/>
            <a:ext cx="7199280" cy="719280"/>
          </a:xfrm>
          <a:prstGeom prst="horizontalScroll">
            <a:avLst>
              <a:gd name="adj" fmla="val 12500"/>
            </a:avLst>
          </a:prstGeom>
          <a:solidFill>
            <a:srgbClr val="3da35d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414cc"/>
                </a:solidFill>
                <a:latin typeface="Arial"/>
                <a:ea typeface="宋体"/>
              </a:rPr>
              <a:t>不能影响其他人的生活，侵犯别人的权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324000" y="2637000"/>
            <a:ext cx="8280360" cy="5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说明公民在行使权利时要尊重他人权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03:40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34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