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laser.wav" ContentType="audio/x-wav"/>
  <Override PartName="/ppt/media/image16.jpeg" ContentType="image/jpeg"/>
  <Override PartName="/ppt/media/TYPE.WAV" ContentType="audio/x-wav"/>
  <Override PartName="/ppt/media/image21.gif" ContentType="image/gif"/>
  <Override PartName="/ppt/media/image10.jpeg" ContentType="image/jpeg"/>
  <Override PartName="/ppt/media/image19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camera.wav" ContentType="audio/x-wav"/>
  <Override PartName="/ppt/media/image20.gif" ContentType="image/gif"/>
  <Override PartName="/ppt/media/image13.jpeg" ContentType="image/jpeg"/>
  <Override PartName="/ppt/media/cashreg.wav" ContentType="audio/x-wav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gif" ContentType="image/gif"/>
  <Override PartName="/ppt/media/image30.jpeg" ContentType="image/jpeg"/>
  <Override PartName="/ppt/media/image5.png" ContentType="image/png"/>
  <Override PartName="/ppt/media/image3.jpeg" ContentType="image/jpeg"/>
  <Override PartName="/ppt/media/image28.wmf" ContentType="image/x-wmf"/>
  <Override PartName="/ppt/media/image27.jpeg" ContentType="image/jpeg"/>
  <Override PartName="/ppt/media/drumroll.wav" ContentType="audio/x-wav"/>
  <Override PartName="/ppt/media/image33.jpeg" ContentType="image/jpeg"/>
  <Override PartName="/ppt/media/image29.jpeg" ContentType="image/jpeg"/>
  <Override PartName="/ppt/media/image37.gif" ContentType="image/gif"/>
  <Override PartName="/ppt/media/image26.png" ContentType="image/png"/>
  <Override PartName="/ppt/media/projctor.wav" ContentType="audio/x-wav"/>
  <Override PartName="/ppt/media/image31.jpeg" ContentType="image/jpeg"/>
  <Override PartName="/ppt/media/image4.jpeg" ContentType="image/jpeg"/>
  <Override PartName="/ppt/media/image34.png" ContentType="image/png"/>
  <Override PartName="/ppt/media/image8.jpeg" ContentType="image/jpeg"/>
  <Override PartName="/ppt/media/image39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32.wmf" ContentType="image/x-wmf"/>
  <Override PartName="/ppt/media/chimes.wav" ContentType="audio/x-wav"/>
  <Override PartName="/ppt/media/image25.gif" ContentType="image/gif"/>
  <Override PartName="/ppt/media/image6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7AB-B8B9-414E-8B80-1A9A517C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A50-FA0B-4B22-9CCE-3430DFE4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BA8A-B21B-42A0-9713-7CA77E1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12C24-6571-419A-9B8C-0DBF1BA7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F8F9B-66DA-41B5-8681-AFC2DC8D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1B844-762E-492B-863A-D9C44FC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797A3-AF82-4C5F-92D4-AA13430A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2BE1-6ADF-46D4-B928-70D8C45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4E80E-992D-4530-971C-EF6474C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D13DB-D80E-4266-B57A-DDE91CCE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B1279-2FDA-41B1-9CBA-B5430D0B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3627C-13ED-4882-87C2-BB247E74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81D-42EC-4672-B57E-2A8DB6CC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89815-BE14-4D1D-9F7A-E8F2AADB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97258-03E7-45A8-91B5-26D1628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9424B-0E89-4A9D-ACE8-916C108B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CE38E-3882-40DB-A910-57230DF4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96631-B834-4CAE-BAB7-53A1BBB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55A0D-45DE-430D-8F0E-FF6A910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CE7CE-12DD-4C0B-9343-083C356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7CAF-F710-4F3C-A70D-E798F90B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7906B-5D9E-42F5-B700-9E32D64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5C897-F188-46C4-9FCC-72B7B9ED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8C9-E114-4A25-9D46-95666661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62803-5DD8-4659-A397-969F5906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677E4-2EF0-4FBC-B3AA-6E362C9A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30A7-6741-4110-BA03-DDBC4F05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F9E70-E1C2-4565-987A-BF3BCEF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529C9-A6B6-45A9-A355-403D8E2B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B0E94-F62A-49B1-81F5-5002FB9D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2842A-C13A-413C-B1B1-B356593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8B85E-F37D-401C-817B-8B3030F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02C8F-C66B-4C69-BC6C-9AD1180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29F8-AE87-4E42-BA97-3A1863D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8733-2C66-49F5-98DE-ECE37DA4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7AC8E-92F0-4B19-8078-3329738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95D81-C8E5-4433-BCBF-63E45AB1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B7A0F-D1D3-4710-802A-D9556634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E447-DABA-4556-9B26-9486E4CB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177F-13F6-445E-BA6F-3F25E9F3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AF91-CBC6-470D-AA7B-2237252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1671-78A0-40A3-B88E-AED8857A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A51-7684-494B-8874-3924393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319-205A-498D-A13D-DC3F29B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996-A69B-4E60-9AD0-78C041C5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58D1-5D6E-4A67-9917-F693C29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D3E-3BF2-4F17-8D62-F8C0847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B29B-32A4-4050-A78D-97BC347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AD1-4C6D-493E-8CF5-BDA89E69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C28-F02D-4A5C-9B4F-21BA2858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F66E-C300-4B91-A8C4-C4997DDC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4819-4293-4E21-AA77-FB87F77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FAFF-A134-46E9-913F-69D4CC2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1126-8EB3-41EA-9CC6-5CCAD576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53E1-5E48-4C02-90B8-5C492C72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BF2-A354-4F69-9A03-273AC391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873A-2872-4B07-94E0-120995EA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512F-6AEC-4286-8E13-C9D610D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0D2C-58CB-4A9D-936C-829C23F3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8064-6CAF-4158-8784-FEF08E8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E272-5F46-44A3-9123-5ABA5AE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61F4-D8FE-4174-8D92-6829777D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06DF-A47E-47AF-B7B0-C086D08F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F630-36AE-4744-AE32-0B406101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47C0-2315-4C21-9F5F-8B9481A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A413-DF92-41FD-AA2F-9EE735E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AEF-FBBC-4385-AE41-9DDB6998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2286-1AE9-4DD3-8F10-66003F2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A42B-B5A2-40A4-B251-A68401B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C7F2E-77AC-45B3-AACF-40D3A72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3199-99FB-40C1-B205-93D68D2A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4E65-4920-40BD-9ADD-A610876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E158-2D57-4590-8908-B4D96DE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7770-583B-4C92-B616-B72C776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3962-C6DF-4ACA-A02C-7B2DC0F3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EE20-17FB-4225-87C6-C5ED0D66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5BF6-97A2-4CD0-B756-FCA004F8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F9C-CF7F-4DE1-B108-0ED3BB34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213BB-236F-4821-BAAE-1FBEE95A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99BBC-3254-4A72-9398-F6DE0634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0B03-8668-4046-B99A-54FCF36D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AF83-2B70-4C68-A713-9E3719D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85BA-D398-4DB1-8F08-615ABE81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8759-A2A2-4A7C-8229-CB42652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542B-45C3-49D9-A3A4-F7E70CC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4C47-1222-468A-A7C9-8839F5A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6E96E-C08B-45BE-A29F-9FFCE24A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4D6D-4E3B-47E6-8BEE-DBACF873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A97-2BB5-409E-BC99-B1853501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513B-1983-4E81-AD52-CF6F843C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66EC-5EC9-4388-91D4-0E082A77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2BBC-D0A8-4CB5-A668-5E220669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9543-67F1-43BD-8F4F-17AC87DD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0E47-B285-4731-8E5F-032074FD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FC54-66EE-4AF4-A2CE-555619F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75325-BA8A-4E4A-A3D2-B31C1772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F15B-3B36-4A87-8480-ABE4C08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94D68-4A6D-47A7-AFAD-1921F19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070A-A2FA-4DAE-A37E-CD10C7B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A2B-0517-485E-94D7-4CC4103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AAA5-A0E4-4B97-ADD8-C205B722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1B2B-BCCB-4C94-B0F9-51AE40D7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6D26-4DC5-4072-AA63-AD993DFE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6DF6-9AF0-404B-8EB3-0F67D4E9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311B7-5D60-4464-84CF-A31227EE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A1575-2B0C-4BCE-8623-9D55883C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9FF3-BFFC-4E23-A554-45C3213B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0B89-84BF-4B7C-B0A7-40F5A4B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81CC-E717-48E8-B096-A8C0C504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E2B8-E7D2-44F3-84AE-F66B3E6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664-E491-4962-831A-435F198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F33C-A447-4790-A3A7-D9BC03C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F2D6-5401-438D-9C1E-E4BC9D75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1A486-0152-49B0-AB7C-D6CA9447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8AD0B-8FA7-46E3-AE50-913C79D4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81C6-DC3E-4B9B-BD05-BEC58530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B6CDE-666F-46F6-9A3C-EA748E5A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F5D3-2AB8-409F-A1D0-6671AFF3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48914-6BF1-4750-B7E5-A28CC798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77429-2133-47F7-B016-888A681A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8977F-5613-4403-8F26-EE3BA25A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63F-A068-4899-9F95-66F6DE8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21F7-2727-43EA-8FAD-E0ABFD2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5063-FAFF-44E9-8736-C6634E5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DF551-512F-4404-B146-9446C1E9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652E3-52EE-4A40-898A-6A55871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F3F1E-7836-4D2F-B8D8-66168DF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18867-4EA1-4C1F-89EF-2239CE08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2B42-B8A4-4B5E-B8A2-EB281CE7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2A2EB-70FF-460C-BDD8-19226FA6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092F-7C4D-4D5E-8BAB-1FAF965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5654C-98A6-4339-8D39-AAFCAF3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B46D-F8D1-49CD-A81C-2AEA4652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DA2A-9F3D-4EF8-B118-3D29E882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C6AB-8C56-4B50-AC49-449D816C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4BC9-1245-4397-BAC7-5A0376137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9FBA-2D12-4969-9F67-2D3718036D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31BC-1C2B-4176-96A9-099B8D0B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C130-7C66-4EFF-951C-E1D890F1D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655-CAC2-4FCC-BB9E-249AF7B04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64E1-CA08-4949-B7FB-F11EEE429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68C-0F2F-445D-8204-C44BB5E5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1FD0-DE19-4FCE-9F6B-1A2CCD4A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5"/>
          <p:cNvSpPr txBox="1"/>
          <p:nvPr/>
        </p:nvSpPr>
        <p:spPr>
          <a:xfrm>
            <a:off x="870120" y="2817720"/>
            <a:ext cx="75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6480">
                  <a:solidFill>
                    <a:srgbClr val="cc66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我们享有上帝的权利课件</a:t>
            </a:r>
            <a:r>
              <a:rPr b="1" i="1" lang="en-US" sz="4000" spc="1" strike="noStrike">
                <a:ln w="6480">
                  <a:solidFill>
                    <a:srgbClr val="cc66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6480">
                  <a:solidFill>
                    <a:srgbClr val="cc66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下载</a:t>
            </a:r>
            <a:endParaRPr b="1" i="1" lang="en-US" sz="4000" spc="1" strike="noStrike">
              <a:ln w="6480">
                <a:solidFill>
                  <a:srgbClr val="cc66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527040" y="105264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第八课   消费者的权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380880" y="6172200"/>
            <a:ext cx="11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50920" y="1535040"/>
            <a:ext cx="8351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联合国于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985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年通过了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保护消费者准则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993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31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日通过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&lt;&lt;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消费者权益保护法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际消费者联盟组织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8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正式确定每年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际消费者权益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3"/>
          <p:cNvSpPr txBox="1"/>
          <p:nvPr/>
        </p:nvSpPr>
        <p:spPr>
          <a:xfrm>
            <a:off x="324000" y="476280"/>
            <a:ext cx="3429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 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知识海洋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1797840" y="4581360"/>
            <a:ext cx="37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主题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消费与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N_183"/>
          <p:cNvPicPr/>
          <p:nvPr/>
        </p:nvPicPr>
        <p:blipFill>
          <a:blip r:embed="rId1"/>
          <a:stretch/>
        </p:blipFill>
        <p:spPr>
          <a:xfrm>
            <a:off x="7128000" y="0"/>
            <a:ext cx="2016000" cy="1828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117"/>
          <p:cNvPicPr/>
          <p:nvPr/>
        </p:nvPicPr>
        <p:blipFill>
          <a:blip r:embed="rId2"/>
          <a:stretch/>
        </p:blipFill>
        <p:spPr>
          <a:xfrm>
            <a:off x="5715000" y="256536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5"/>
          <p:cNvSpPr/>
          <p:nvPr/>
        </p:nvSpPr>
        <p:spPr>
          <a:xfrm>
            <a:off x="468360" y="1628640"/>
            <a:ext cx="8351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保护消费者的权益有利于： 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(P8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430200" y="278136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1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促进生产发展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2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保证社会再生产的顺利进行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维护社会的正常秩序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4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让消费者过上更美好的生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N_183"/>
          <p:cNvPicPr/>
          <p:nvPr/>
        </p:nvPicPr>
        <p:blipFill>
          <a:blip r:embed="rId1"/>
          <a:stretch/>
        </p:blipFill>
        <p:spPr>
          <a:xfrm>
            <a:off x="250920" y="4581360"/>
            <a:ext cx="2016000" cy="18288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900000" y="1413000"/>
            <a:ext cx="7704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隶书"/>
              </a:rPr>
              <a:t>二、消费者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隶书"/>
              </a:rPr>
              <a:t> 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隶书"/>
              </a:rPr>
              <a:t>享有的权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F20040420092951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0" y="5638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一些无良厂家制造的“无营养”劣质婴儿奶粉，使数十名婴儿身体遭受摧残，其中至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91320" y="0"/>
            <a:ext cx="1323720" cy="283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重度营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不良的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形“大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娃娃”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越长越小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全身浮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10.gif (27981 bytes)"/>
          <p:cNvPicPr/>
          <p:nvPr/>
        </p:nvPicPr>
        <p:blipFill>
          <a:blip r:embed="rId1"/>
          <a:stretch/>
        </p:blipFill>
        <p:spPr>
          <a:xfrm>
            <a:off x="7451640" y="5624640"/>
            <a:ext cx="1692360" cy="12333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539640" y="1557360"/>
            <a:ext cx="7848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消费者在购买、使用商品和接受服务时，享有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人身、财产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安全不受损害的权利 。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隶书"/>
              </a:rPr>
              <a:t>人身</a:t>
            </a:r>
            <a:r>
              <a:rPr b="0" lang="en-US" sz="48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隶书"/>
              </a:rPr>
              <a:t>财产安全是公民在社会中生存的基本条件</a:t>
            </a:r>
            <a:r>
              <a:rPr b="0" lang="en-US" sz="48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0" y="0"/>
            <a:ext cx="8604000" cy="1347480"/>
            <a:chOff x="0" y="0"/>
            <a:chExt cx="8604000" cy="1347480"/>
          </a:xfrm>
        </p:grpSpPr>
        <p:sp>
          <p:nvSpPr>
            <p:cNvPr id="526" name="AutoShape 5"/>
            <p:cNvSpPr/>
            <p:nvPr/>
          </p:nvSpPr>
          <p:spPr>
            <a:xfrm>
              <a:off x="0" y="0"/>
              <a:ext cx="4183920" cy="1347480"/>
            </a:xfrm>
            <a:custGeom>
              <a:avLst/>
              <a:gdLst>
                <a:gd name="textAreaLeft" fmla="*/ 872280 w 4183920"/>
                <a:gd name="textAreaRight" fmla="*/ 3311640 w 4183920"/>
                <a:gd name="textAreaTop" fmla="*/ 280800 h 1347480"/>
                <a:gd name="textAreaBottom" fmla="*/ 1066680 h 134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29" y="11576"/>
                  </a:lnTo>
                  <a:lnTo>
                    <a:pt x="198" y="12861"/>
                  </a:lnTo>
                  <a:lnTo>
                    <a:pt x="2240" y="13255"/>
                  </a:lnTo>
                  <a:lnTo>
                    <a:pt x="786" y="14846"/>
                  </a:lnTo>
                  <a:lnTo>
                    <a:pt x="2937" y="14981"/>
                  </a:lnTo>
                  <a:lnTo>
                    <a:pt x="1742" y="16682"/>
                  </a:lnTo>
                  <a:lnTo>
                    <a:pt x="3880" y="16404"/>
                  </a:lnTo>
                  <a:lnTo>
                    <a:pt x="3163" y="18437"/>
                  </a:lnTo>
                  <a:lnTo>
                    <a:pt x="5076" y="17622"/>
                  </a:lnTo>
                  <a:lnTo>
                    <a:pt x="4761" y="19754"/>
                  </a:lnTo>
                  <a:lnTo>
                    <a:pt x="6483" y="18588"/>
                  </a:lnTo>
                  <a:lnTo>
                    <a:pt x="6580" y="20741"/>
                  </a:lnTo>
                  <a:lnTo>
                    <a:pt x="8196" y="19316"/>
                  </a:lnTo>
                  <a:lnTo>
                    <a:pt x="8555" y="21364"/>
                  </a:lnTo>
                  <a:lnTo>
                    <a:pt x="9869" y="19656"/>
                  </a:lnTo>
                  <a:lnTo>
                    <a:pt x="10800" y="21600"/>
                  </a:lnTo>
                  <a:lnTo>
                    <a:pt x="11576" y="19671"/>
                  </a:lnTo>
                  <a:lnTo>
                    <a:pt x="12861" y="21402"/>
                  </a:lnTo>
                  <a:lnTo>
                    <a:pt x="13255" y="19360"/>
                  </a:lnTo>
                  <a:lnTo>
                    <a:pt x="14846" y="20814"/>
                  </a:lnTo>
                  <a:lnTo>
                    <a:pt x="14981" y="18663"/>
                  </a:lnTo>
                  <a:lnTo>
                    <a:pt x="16682" y="19858"/>
                  </a:lnTo>
                  <a:lnTo>
                    <a:pt x="16404" y="17720"/>
                  </a:lnTo>
                  <a:lnTo>
                    <a:pt x="18437" y="18437"/>
                  </a:lnTo>
                  <a:lnTo>
                    <a:pt x="17622" y="16524"/>
                  </a:lnTo>
                  <a:lnTo>
                    <a:pt x="19754" y="16839"/>
                  </a:lnTo>
                  <a:lnTo>
                    <a:pt x="18588" y="15117"/>
                  </a:lnTo>
                  <a:lnTo>
                    <a:pt x="20741" y="15020"/>
                  </a:lnTo>
                  <a:lnTo>
                    <a:pt x="19316" y="13404"/>
                  </a:lnTo>
                  <a:lnTo>
                    <a:pt x="21364" y="13045"/>
                  </a:lnTo>
                  <a:lnTo>
                    <a:pt x="19656" y="11731"/>
                  </a:lnTo>
                  <a:lnTo>
                    <a:pt x="21600" y="10800"/>
                  </a:lnTo>
                  <a:lnTo>
                    <a:pt x="19671" y="10024"/>
                  </a:lnTo>
                  <a:lnTo>
                    <a:pt x="21402" y="8739"/>
                  </a:lnTo>
                  <a:lnTo>
                    <a:pt x="19360" y="8345"/>
                  </a:lnTo>
                  <a:lnTo>
                    <a:pt x="20814" y="6754"/>
                  </a:lnTo>
                  <a:lnTo>
                    <a:pt x="18663" y="6619"/>
                  </a:lnTo>
                  <a:lnTo>
                    <a:pt x="19858" y="4918"/>
                  </a:lnTo>
                  <a:lnTo>
                    <a:pt x="17720" y="5196"/>
                  </a:lnTo>
                  <a:lnTo>
                    <a:pt x="18437" y="3163"/>
                  </a:lnTo>
                  <a:lnTo>
                    <a:pt x="16524" y="3978"/>
                  </a:lnTo>
                  <a:lnTo>
                    <a:pt x="16839" y="1846"/>
                  </a:lnTo>
                  <a:lnTo>
                    <a:pt x="15117" y="3012"/>
                  </a:lnTo>
                  <a:lnTo>
                    <a:pt x="15020" y="859"/>
                  </a:lnTo>
                  <a:lnTo>
                    <a:pt x="13404" y="2284"/>
                  </a:lnTo>
                  <a:lnTo>
                    <a:pt x="13045" y="236"/>
                  </a:lnTo>
                  <a:lnTo>
                    <a:pt x="11731" y="1944"/>
                  </a:lnTo>
                  <a:lnTo>
                    <a:pt x="10800" y="0"/>
                  </a:lnTo>
                  <a:lnTo>
                    <a:pt x="10024" y="1929"/>
                  </a:lnTo>
                  <a:lnTo>
                    <a:pt x="8739" y="198"/>
                  </a:lnTo>
                  <a:lnTo>
                    <a:pt x="8345" y="2240"/>
                  </a:lnTo>
                  <a:lnTo>
                    <a:pt x="6754" y="786"/>
                  </a:lnTo>
                  <a:lnTo>
                    <a:pt x="6619" y="2937"/>
                  </a:lnTo>
                  <a:lnTo>
                    <a:pt x="4918" y="1742"/>
                  </a:lnTo>
                  <a:lnTo>
                    <a:pt x="5196" y="3880"/>
                  </a:lnTo>
                  <a:lnTo>
                    <a:pt x="3163" y="3163"/>
                  </a:lnTo>
                  <a:lnTo>
                    <a:pt x="3978" y="5076"/>
                  </a:lnTo>
                  <a:lnTo>
                    <a:pt x="1846" y="4761"/>
                  </a:lnTo>
                  <a:lnTo>
                    <a:pt x="3012" y="6483"/>
                  </a:lnTo>
                  <a:lnTo>
                    <a:pt x="859" y="6580"/>
                  </a:lnTo>
                  <a:lnTo>
                    <a:pt x="2284" y="8196"/>
                  </a:lnTo>
                  <a:lnTo>
                    <a:pt x="236" y="8555"/>
                  </a:lnTo>
                  <a:lnTo>
                    <a:pt x="1944" y="986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6"/>
            <p:cNvSpPr/>
            <p:nvPr/>
          </p:nvSpPr>
          <p:spPr>
            <a:xfrm>
              <a:off x="160920" y="174600"/>
              <a:ext cx="8443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消费者享有的权利</a:t>
              </a:r>
              <a:r>
                <a:rPr b="1" lang="en-US" sz="44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——</a:t>
              </a:r>
              <a:r>
                <a:rPr b="1" i="1" lang="zh-CN" sz="60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安全权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Picture 7" descr="gif007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03280" y="-243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旅行社的行为侵犯了消费者的什么权利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星级宾馆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6858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mfqs"/>
          <p:cNvPicPr/>
          <p:nvPr/>
        </p:nvPicPr>
        <p:blipFill>
          <a:blip r:embed="rId1"/>
          <a:stretch/>
        </p:blipFill>
        <p:spPr>
          <a:xfrm>
            <a:off x="684360" y="0"/>
            <a:ext cx="540036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4"/>
          <p:cNvSpPr/>
          <p:nvPr/>
        </p:nvSpPr>
        <p:spPr>
          <a:xfrm>
            <a:off x="6156360" y="549360"/>
            <a:ext cx="2987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商家的销售行为侵犯了消费者的什么权益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6156360" y="3357720"/>
            <a:ext cx="2736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67ff"/>
                </a:solidFill>
                <a:latin typeface="黑体"/>
                <a:ea typeface="黑体"/>
              </a:rPr>
              <a:t>对商品和服务真实情况的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知悉权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知情权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af67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050840" y="11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250920" y="220968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消费者享有知悉其购买、使用的商品或者接受服务的真实情况的权利。如商品的价格、产地、生产者、用途、主要成份、生产日期、使用方法说明书等有关情况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0" y="380880"/>
            <a:ext cx="6858000" cy="1676160"/>
            <a:chOff x="0" y="380880"/>
            <a:chExt cx="6858000" cy="1676160"/>
          </a:xfrm>
        </p:grpSpPr>
        <p:sp>
          <p:nvSpPr>
            <p:cNvPr id="538" name="AutoShape 5"/>
            <p:cNvSpPr/>
            <p:nvPr/>
          </p:nvSpPr>
          <p:spPr>
            <a:xfrm>
              <a:off x="0" y="380880"/>
              <a:ext cx="3962520" cy="1676160"/>
            </a:xfrm>
            <a:custGeom>
              <a:avLst/>
              <a:gdLst>
                <a:gd name="textAreaLeft" fmla="*/ 825840 w 3962520"/>
                <a:gd name="textAreaRight" fmla="*/ 3136680 w 3962520"/>
                <a:gd name="textAreaTop" fmla="*/ 349200 h 1676160"/>
                <a:gd name="textAreaBottom" fmla="*/ 132696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29" y="11576"/>
                  </a:lnTo>
                  <a:lnTo>
                    <a:pt x="198" y="12861"/>
                  </a:lnTo>
                  <a:lnTo>
                    <a:pt x="2240" y="13255"/>
                  </a:lnTo>
                  <a:lnTo>
                    <a:pt x="786" y="14846"/>
                  </a:lnTo>
                  <a:lnTo>
                    <a:pt x="2937" y="14981"/>
                  </a:lnTo>
                  <a:lnTo>
                    <a:pt x="1742" y="16682"/>
                  </a:lnTo>
                  <a:lnTo>
                    <a:pt x="3880" y="16404"/>
                  </a:lnTo>
                  <a:lnTo>
                    <a:pt x="3163" y="18437"/>
                  </a:lnTo>
                  <a:lnTo>
                    <a:pt x="5076" y="17622"/>
                  </a:lnTo>
                  <a:lnTo>
                    <a:pt x="4761" y="19754"/>
                  </a:lnTo>
                  <a:lnTo>
                    <a:pt x="6483" y="18588"/>
                  </a:lnTo>
                  <a:lnTo>
                    <a:pt x="6580" y="20741"/>
                  </a:lnTo>
                  <a:lnTo>
                    <a:pt x="8196" y="19316"/>
                  </a:lnTo>
                  <a:lnTo>
                    <a:pt x="8555" y="21364"/>
                  </a:lnTo>
                  <a:lnTo>
                    <a:pt x="9869" y="19656"/>
                  </a:lnTo>
                  <a:lnTo>
                    <a:pt x="10800" y="21600"/>
                  </a:lnTo>
                  <a:lnTo>
                    <a:pt x="11576" y="19671"/>
                  </a:lnTo>
                  <a:lnTo>
                    <a:pt x="12861" y="21402"/>
                  </a:lnTo>
                  <a:lnTo>
                    <a:pt x="13255" y="19360"/>
                  </a:lnTo>
                  <a:lnTo>
                    <a:pt x="14846" y="20814"/>
                  </a:lnTo>
                  <a:lnTo>
                    <a:pt x="14981" y="18663"/>
                  </a:lnTo>
                  <a:lnTo>
                    <a:pt x="16682" y="19858"/>
                  </a:lnTo>
                  <a:lnTo>
                    <a:pt x="16404" y="17720"/>
                  </a:lnTo>
                  <a:lnTo>
                    <a:pt x="18437" y="18437"/>
                  </a:lnTo>
                  <a:lnTo>
                    <a:pt x="17622" y="16524"/>
                  </a:lnTo>
                  <a:lnTo>
                    <a:pt x="19754" y="16839"/>
                  </a:lnTo>
                  <a:lnTo>
                    <a:pt x="18588" y="15117"/>
                  </a:lnTo>
                  <a:lnTo>
                    <a:pt x="20741" y="15020"/>
                  </a:lnTo>
                  <a:lnTo>
                    <a:pt x="19316" y="13404"/>
                  </a:lnTo>
                  <a:lnTo>
                    <a:pt x="21364" y="13045"/>
                  </a:lnTo>
                  <a:lnTo>
                    <a:pt x="19656" y="11731"/>
                  </a:lnTo>
                  <a:lnTo>
                    <a:pt x="21600" y="10800"/>
                  </a:lnTo>
                  <a:lnTo>
                    <a:pt x="19671" y="10024"/>
                  </a:lnTo>
                  <a:lnTo>
                    <a:pt x="21402" y="8739"/>
                  </a:lnTo>
                  <a:lnTo>
                    <a:pt x="19360" y="8345"/>
                  </a:lnTo>
                  <a:lnTo>
                    <a:pt x="20814" y="6754"/>
                  </a:lnTo>
                  <a:lnTo>
                    <a:pt x="18663" y="6619"/>
                  </a:lnTo>
                  <a:lnTo>
                    <a:pt x="19858" y="4918"/>
                  </a:lnTo>
                  <a:lnTo>
                    <a:pt x="17720" y="5196"/>
                  </a:lnTo>
                  <a:lnTo>
                    <a:pt x="18437" y="3163"/>
                  </a:lnTo>
                  <a:lnTo>
                    <a:pt x="16524" y="3978"/>
                  </a:lnTo>
                  <a:lnTo>
                    <a:pt x="16839" y="1846"/>
                  </a:lnTo>
                  <a:lnTo>
                    <a:pt x="15117" y="3012"/>
                  </a:lnTo>
                  <a:lnTo>
                    <a:pt x="15020" y="859"/>
                  </a:lnTo>
                  <a:lnTo>
                    <a:pt x="13404" y="2284"/>
                  </a:lnTo>
                  <a:lnTo>
                    <a:pt x="13045" y="236"/>
                  </a:lnTo>
                  <a:lnTo>
                    <a:pt x="11731" y="1944"/>
                  </a:lnTo>
                  <a:lnTo>
                    <a:pt x="10800" y="0"/>
                  </a:lnTo>
                  <a:lnTo>
                    <a:pt x="10024" y="1929"/>
                  </a:lnTo>
                  <a:lnTo>
                    <a:pt x="8739" y="198"/>
                  </a:lnTo>
                  <a:lnTo>
                    <a:pt x="8345" y="2240"/>
                  </a:lnTo>
                  <a:lnTo>
                    <a:pt x="6754" y="786"/>
                  </a:lnTo>
                  <a:lnTo>
                    <a:pt x="6619" y="2937"/>
                  </a:lnTo>
                  <a:lnTo>
                    <a:pt x="4918" y="1742"/>
                  </a:lnTo>
                  <a:lnTo>
                    <a:pt x="5196" y="3880"/>
                  </a:lnTo>
                  <a:lnTo>
                    <a:pt x="3163" y="3163"/>
                  </a:lnTo>
                  <a:lnTo>
                    <a:pt x="3978" y="5076"/>
                  </a:lnTo>
                  <a:lnTo>
                    <a:pt x="1846" y="4761"/>
                  </a:lnTo>
                  <a:lnTo>
                    <a:pt x="3012" y="6483"/>
                  </a:lnTo>
                  <a:lnTo>
                    <a:pt x="859" y="6580"/>
                  </a:lnTo>
                  <a:lnTo>
                    <a:pt x="2284" y="8196"/>
                  </a:lnTo>
                  <a:lnTo>
                    <a:pt x="236" y="8555"/>
                  </a:lnTo>
                  <a:lnTo>
                    <a:pt x="1944" y="986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"/>
            <p:cNvSpPr/>
            <p:nvPr/>
          </p:nvSpPr>
          <p:spPr>
            <a:xfrm>
              <a:off x="1504800" y="559440"/>
              <a:ext cx="535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消费者享有的权利</a:t>
              </a:r>
              <a:r>
                <a:rPr b="1" lang="en-US" sz="44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——</a:t>
              </a:r>
              <a:r>
                <a:rPr b="1" i="1" lang="zh-CN" sz="60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知情权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Picture 7" descr="gif007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604936"/>
          <p:cNvPicPr/>
          <p:nvPr/>
        </p:nvPicPr>
        <p:blipFill>
          <a:blip r:embed="rId2"/>
          <a:stretch/>
        </p:blipFill>
        <p:spPr>
          <a:xfrm>
            <a:off x="7596360" y="5848200"/>
            <a:ext cx="1095120" cy="1009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604936"/>
          <p:cNvPicPr/>
          <p:nvPr/>
        </p:nvPicPr>
        <p:blipFill>
          <a:blip r:embed="rId3"/>
          <a:stretch/>
        </p:blipFill>
        <p:spPr>
          <a:xfrm>
            <a:off x="324000" y="5848200"/>
            <a:ext cx="1095120" cy="10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3640" y="149040"/>
            <a:ext cx="777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66"/>
                </a:solidFill>
                <a:latin typeface="Arial"/>
              </a:rPr>
              <a:t>一、我们都是消费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2006218154432_coid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s200411260004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WA0428030C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200512302350"/>
          <p:cNvPicPr/>
          <p:nvPr/>
        </p:nvPicPr>
        <p:blipFill>
          <a:blip r:embed="rId4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Arial"/>
                <a:ea typeface="隶书"/>
              </a:rPr>
              <a:t>该商贩的行为是什么行为？侵犯了消费者的什么权利？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116000" y="2707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是一种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强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行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0" y="3860640"/>
            <a:ext cx="8642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侵犯了消费者的</a:t>
            </a:r>
            <a:r>
              <a:rPr b="1" lang="zh-CN" sz="6000" spc="-1" strike="noStrike" u="sng">
                <a:solidFill>
                  <a:srgbClr val="cc0000"/>
                </a:solidFill>
                <a:uFillTx/>
                <a:latin typeface="Times New Roman"/>
                <a:ea typeface="隶书"/>
              </a:rPr>
              <a:t>自主选择权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533520" y="914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79280" y="1989000"/>
            <a:ext cx="8964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权自主选择提供商品或服务的经营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权自主选择商品品种或服务方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权自主决定购买或不购买任何一种商品，接受或不接受任何一项服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选择商品或服务时，有权进行比较、鉴别和挑选</a:t>
            </a: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0" y="0"/>
            <a:ext cx="7416360" cy="2057040"/>
            <a:chOff x="0" y="0"/>
            <a:chExt cx="7416360" cy="2057040"/>
          </a:xfrm>
        </p:grpSpPr>
        <p:sp>
          <p:nvSpPr>
            <p:cNvPr id="550" name="AutoShape 5"/>
            <p:cNvSpPr/>
            <p:nvPr/>
          </p:nvSpPr>
          <p:spPr>
            <a:xfrm>
              <a:off x="0" y="0"/>
              <a:ext cx="4210200" cy="2057040"/>
            </a:xfrm>
            <a:custGeom>
              <a:avLst/>
              <a:gdLst>
                <a:gd name="textAreaLeft" fmla="*/ 877680 w 4210200"/>
                <a:gd name="textAreaRight" fmla="*/ 3332520 w 4210200"/>
                <a:gd name="textAreaTop" fmla="*/ 428760 h 2057040"/>
                <a:gd name="textAreaBottom" fmla="*/ 1628280 h 20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29" y="11576"/>
                  </a:lnTo>
                  <a:lnTo>
                    <a:pt x="198" y="12861"/>
                  </a:lnTo>
                  <a:lnTo>
                    <a:pt x="2240" y="13255"/>
                  </a:lnTo>
                  <a:lnTo>
                    <a:pt x="786" y="14846"/>
                  </a:lnTo>
                  <a:lnTo>
                    <a:pt x="2937" y="14981"/>
                  </a:lnTo>
                  <a:lnTo>
                    <a:pt x="1742" y="16682"/>
                  </a:lnTo>
                  <a:lnTo>
                    <a:pt x="3880" y="16404"/>
                  </a:lnTo>
                  <a:lnTo>
                    <a:pt x="3163" y="18437"/>
                  </a:lnTo>
                  <a:lnTo>
                    <a:pt x="5076" y="17622"/>
                  </a:lnTo>
                  <a:lnTo>
                    <a:pt x="4761" y="19754"/>
                  </a:lnTo>
                  <a:lnTo>
                    <a:pt x="6483" y="18588"/>
                  </a:lnTo>
                  <a:lnTo>
                    <a:pt x="6580" y="20741"/>
                  </a:lnTo>
                  <a:lnTo>
                    <a:pt x="8196" y="19316"/>
                  </a:lnTo>
                  <a:lnTo>
                    <a:pt x="8555" y="21364"/>
                  </a:lnTo>
                  <a:lnTo>
                    <a:pt x="9869" y="19656"/>
                  </a:lnTo>
                  <a:lnTo>
                    <a:pt x="10800" y="21600"/>
                  </a:lnTo>
                  <a:lnTo>
                    <a:pt x="11576" y="19671"/>
                  </a:lnTo>
                  <a:lnTo>
                    <a:pt x="12861" y="21402"/>
                  </a:lnTo>
                  <a:lnTo>
                    <a:pt x="13255" y="19360"/>
                  </a:lnTo>
                  <a:lnTo>
                    <a:pt x="14846" y="20814"/>
                  </a:lnTo>
                  <a:lnTo>
                    <a:pt x="14981" y="18663"/>
                  </a:lnTo>
                  <a:lnTo>
                    <a:pt x="16682" y="19858"/>
                  </a:lnTo>
                  <a:lnTo>
                    <a:pt x="16404" y="17720"/>
                  </a:lnTo>
                  <a:lnTo>
                    <a:pt x="18437" y="18437"/>
                  </a:lnTo>
                  <a:lnTo>
                    <a:pt x="17622" y="16524"/>
                  </a:lnTo>
                  <a:lnTo>
                    <a:pt x="19754" y="16839"/>
                  </a:lnTo>
                  <a:lnTo>
                    <a:pt x="18588" y="15117"/>
                  </a:lnTo>
                  <a:lnTo>
                    <a:pt x="20741" y="15020"/>
                  </a:lnTo>
                  <a:lnTo>
                    <a:pt x="19316" y="13404"/>
                  </a:lnTo>
                  <a:lnTo>
                    <a:pt x="21364" y="13045"/>
                  </a:lnTo>
                  <a:lnTo>
                    <a:pt x="19656" y="11731"/>
                  </a:lnTo>
                  <a:lnTo>
                    <a:pt x="21600" y="10800"/>
                  </a:lnTo>
                  <a:lnTo>
                    <a:pt x="19671" y="10024"/>
                  </a:lnTo>
                  <a:lnTo>
                    <a:pt x="21402" y="8739"/>
                  </a:lnTo>
                  <a:lnTo>
                    <a:pt x="19360" y="8345"/>
                  </a:lnTo>
                  <a:lnTo>
                    <a:pt x="20814" y="6754"/>
                  </a:lnTo>
                  <a:lnTo>
                    <a:pt x="18663" y="6619"/>
                  </a:lnTo>
                  <a:lnTo>
                    <a:pt x="19858" y="4918"/>
                  </a:lnTo>
                  <a:lnTo>
                    <a:pt x="17720" y="5196"/>
                  </a:lnTo>
                  <a:lnTo>
                    <a:pt x="18437" y="3163"/>
                  </a:lnTo>
                  <a:lnTo>
                    <a:pt x="16524" y="3978"/>
                  </a:lnTo>
                  <a:lnTo>
                    <a:pt x="16839" y="1846"/>
                  </a:lnTo>
                  <a:lnTo>
                    <a:pt x="15117" y="3012"/>
                  </a:lnTo>
                  <a:lnTo>
                    <a:pt x="15020" y="859"/>
                  </a:lnTo>
                  <a:lnTo>
                    <a:pt x="13404" y="2284"/>
                  </a:lnTo>
                  <a:lnTo>
                    <a:pt x="13045" y="236"/>
                  </a:lnTo>
                  <a:lnTo>
                    <a:pt x="11731" y="1944"/>
                  </a:lnTo>
                  <a:lnTo>
                    <a:pt x="10800" y="0"/>
                  </a:lnTo>
                  <a:lnTo>
                    <a:pt x="10024" y="1929"/>
                  </a:lnTo>
                  <a:lnTo>
                    <a:pt x="8739" y="198"/>
                  </a:lnTo>
                  <a:lnTo>
                    <a:pt x="8345" y="2240"/>
                  </a:lnTo>
                  <a:lnTo>
                    <a:pt x="6754" y="786"/>
                  </a:lnTo>
                  <a:lnTo>
                    <a:pt x="6619" y="2937"/>
                  </a:lnTo>
                  <a:lnTo>
                    <a:pt x="4918" y="1742"/>
                  </a:lnTo>
                  <a:lnTo>
                    <a:pt x="5196" y="3880"/>
                  </a:lnTo>
                  <a:lnTo>
                    <a:pt x="3163" y="3163"/>
                  </a:lnTo>
                  <a:lnTo>
                    <a:pt x="3978" y="5076"/>
                  </a:lnTo>
                  <a:lnTo>
                    <a:pt x="1846" y="4761"/>
                  </a:lnTo>
                  <a:lnTo>
                    <a:pt x="3012" y="6483"/>
                  </a:lnTo>
                  <a:lnTo>
                    <a:pt x="859" y="6580"/>
                  </a:lnTo>
                  <a:lnTo>
                    <a:pt x="2284" y="8196"/>
                  </a:lnTo>
                  <a:lnTo>
                    <a:pt x="236" y="8555"/>
                  </a:lnTo>
                  <a:lnTo>
                    <a:pt x="1944" y="986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936440" y="221760"/>
              <a:ext cx="5479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消费者享有的权利</a:t>
              </a:r>
              <a:r>
                <a:rPr b="1" lang="en-US" sz="4400" spc="-1" strike="noStrike">
                  <a:solidFill>
                    <a:srgbClr val="000066"/>
                  </a:solidFill>
                  <a:latin typeface="Times New Roman"/>
                  <a:ea typeface="华文新魏"/>
                </a:rPr>
                <a:t>—</a:t>
              </a:r>
              <a:r>
                <a:rPr b="1" i="1" lang="zh-CN" sz="5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自主选择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5148360" y="90792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" descr="gif007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  <a:ea typeface="隶书"/>
              </a:rPr>
              <a:t>父亲侵犯了消费者的什么权利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3_55-4-50-235_200305121243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6"/>
          <p:cNvSpPr/>
          <p:nvPr/>
        </p:nvSpPr>
        <p:spPr>
          <a:xfrm>
            <a:off x="684360" y="4086360"/>
            <a:ext cx="7343640" cy="764280"/>
          </a:xfrm>
          <a:prstGeom prst="rect">
            <a:avLst/>
          </a:prstGeom>
          <a:solidFill>
            <a:srgbClr val="f7a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消费者有权获得质量保障、价格合理、计量正确等公平交易条件，有权拒绝经营者的强制交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7958160" y="0"/>
            <a:ext cx="1185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华文隶书"/>
                <a:ea typeface="华文隶书"/>
              </a:rPr>
              <a:t>   </a:t>
            </a:r>
            <a:r>
              <a:rPr b="1" lang="zh-CN" sz="6600" spc="-1" strike="noStrike">
                <a:solidFill>
                  <a:srgbClr val="990000"/>
                </a:solidFill>
                <a:latin typeface="华文隶书"/>
                <a:ea typeface="华文隶书"/>
              </a:rPr>
              <a:t>公平交易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55280" y="49417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492dd3"/>
                </a:solidFill>
                <a:latin typeface="Arial"/>
              </a:rPr>
              <a:t>该消费者以什么理由将销售者和经营者送上法庭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31640" y="119700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67ff"/>
                </a:solidFill>
                <a:latin typeface="Times New Roman"/>
                <a:ea typeface="隶书"/>
              </a:rPr>
              <a:t>某消费者购买一压力热水瓶。使用时爆炸 ，将其左眼刺伤，导致失明。经鉴定该瓶存在设计缺陷。消费者向销售者索赔，未果。后向法院诉讼。获赔医药费和</a:t>
            </a:r>
            <a:r>
              <a:rPr b="1" lang="en-US" sz="4000" spc="-1" strike="noStrike">
                <a:solidFill>
                  <a:srgbClr val="af67ff"/>
                </a:solidFill>
                <a:latin typeface="Times New Roman"/>
                <a:ea typeface="隶书"/>
              </a:rPr>
              <a:t>3.8</a:t>
            </a:r>
            <a:r>
              <a:rPr b="1" lang="zh-CN" sz="4000" spc="-1" strike="noStrike">
                <a:solidFill>
                  <a:srgbClr val="af67ff"/>
                </a:solidFill>
                <a:latin typeface="Times New Roman"/>
                <a:ea typeface="隶书"/>
              </a:rPr>
              <a:t>万元损失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990720" y="327672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1523880" y="5943600"/>
            <a:ext cx="21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468360" y="260280"/>
            <a:ext cx="273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以致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353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300"/>
            </a:b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理由</a:t>
            </a:r>
            <a:r>
              <a:rPr b="1" lang="en-US" sz="63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br>
              <a:rPr sz="6300"/>
            </a:b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以侵犯了</a:t>
            </a:r>
            <a:r>
              <a:rPr b="1" lang="zh-CN" sz="6300" spc="-1" strike="noStrike">
                <a:solidFill>
                  <a:srgbClr val="cc0000"/>
                </a:solidFill>
                <a:latin typeface="Arial"/>
                <a:ea typeface="隶书"/>
              </a:rPr>
              <a:t>消费者人身财产安全权</a:t>
            </a: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和</a:t>
            </a:r>
            <a:r>
              <a:rPr b="1" lang="zh-CN" sz="6300" spc="-1" strike="noStrike">
                <a:solidFill>
                  <a:srgbClr val="cc0000"/>
                </a:solidFill>
                <a:latin typeface="Arial"/>
                <a:ea typeface="隶书"/>
              </a:rPr>
              <a:t>依法求偿权</a:t>
            </a:r>
            <a:r>
              <a:rPr b="1" lang="zh-CN" sz="6300" spc="-1" strike="noStrike">
                <a:solidFill>
                  <a:srgbClr val="000000"/>
                </a:solidFill>
                <a:latin typeface="Arial"/>
                <a:ea typeface="隶书"/>
              </a:rPr>
              <a:t>将销售者告上法庭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92360" y="522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该材料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9640" y="38052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67ff"/>
                </a:solidFill>
                <a:latin typeface="Arial"/>
                <a:ea typeface="隶书"/>
              </a:rPr>
              <a:t>         </a:t>
            </a:r>
            <a:r>
              <a:rPr b="1" lang="zh-CN" sz="5400" spc="-1" strike="noStrike">
                <a:solidFill>
                  <a:srgbClr val="af67ff"/>
                </a:solidFill>
                <a:latin typeface="Arial"/>
                <a:ea typeface="隶书"/>
              </a:rPr>
              <a:t>河南一商家，因怀疑六个女孩偷拿化妆品而对其非法搜身，被判处有期徒刑</a:t>
            </a:r>
            <a:r>
              <a:rPr b="1" lang="en-US" sz="5400" spc="-1" strike="noStrike">
                <a:solidFill>
                  <a:srgbClr val="af67ff"/>
                </a:solidFill>
                <a:latin typeface="Arial"/>
                <a:ea typeface="隶书"/>
              </a:rPr>
              <a:t>6 </a:t>
            </a:r>
            <a:r>
              <a:rPr b="1" lang="zh-CN" sz="5400" spc="-1" strike="noStrike">
                <a:solidFill>
                  <a:srgbClr val="af67ff"/>
                </a:solidFill>
                <a:latin typeface="Arial"/>
                <a:ea typeface="隶书"/>
              </a:rPr>
              <a:t>个月，缓刑</a:t>
            </a:r>
            <a:r>
              <a:rPr b="1" lang="en-US" sz="5400" spc="-1" strike="noStrike">
                <a:solidFill>
                  <a:srgbClr val="af67ff"/>
                </a:solidFill>
                <a:latin typeface="Arial"/>
                <a:ea typeface="隶书"/>
              </a:rPr>
              <a:t>1</a:t>
            </a:r>
            <a:r>
              <a:rPr b="1" lang="zh-CN" sz="5400" spc="-1" strike="noStrike">
                <a:solidFill>
                  <a:srgbClr val="af67ff"/>
                </a:solidFill>
                <a:latin typeface="Arial"/>
                <a:ea typeface="隶书"/>
              </a:rPr>
              <a:t>年，赔偿每位少女名誉损失费各</a:t>
            </a:r>
            <a:r>
              <a:rPr b="1" lang="en-US" sz="5400" spc="-1" strike="noStrike">
                <a:solidFill>
                  <a:srgbClr val="af67ff"/>
                </a:solidFill>
                <a:latin typeface="Arial"/>
                <a:ea typeface="隶书"/>
              </a:rPr>
              <a:t>700</a:t>
            </a:r>
            <a:r>
              <a:rPr b="1" lang="zh-CN" sz="5400" spc="-1" strike="noStrike">
                <a:solidFill>
                  <a:srgbClr val="af67ff"/>
                </a:solidFill>
                <a:latin typeface="Arial"/>
                <a:ea typeface="隶书"/>
              </a:rPr>
              <a:t>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</a:rPr>
              <a:t>消费者享有人格尊严和民族风俗习惯受尊重的权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46083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同时还说明了消费者享有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依法求偿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BS00508_"/>
          <p:cNvPicPr/>
          <p:nvPr/>
        </p:nvPicPr>
        <p:blipFill>
          <a:blip r:embed="rId1"/>
          <a:stretch/>
        </p:blipFill>
        <p:spPr>
          <a:xfrm>
            <a:off x="5724360" y="2205000"/>
            <a:ext cx="3114720" cy="422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38131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禁食自死之物、血液、猪肉（也禁忌论“猪”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01huizu"/>
          <p:cNvPicPr/>
          <p:nvPr/>
        </p:nvPicPr>
        <p:blipFill>
          <a:blip r:embed="rId1"/>
          <a:stretch/>
        </p:blipFill>
        <p:spPr>
          <a:xfrm>
            <a:off x="5908680" y="1600200"/>
            <a:ext cx="151776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camera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457200" y="3645000"/>
            <a:ext cx="213372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知情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962520" y="281952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4038480" y="4495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974880" y="12952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200400" y="2492280"/>
            <a:ext cx="297180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隶书"/>
              </a:rPr>
              <a:t>消费者享有的权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533520" y="2133720"/>
            <a:ext cx="2133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安全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556000" y="380880"/>
            <a:ext cx="3887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自主选择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6732720" y="2133720"/>
            <a:ext cx="2160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求偿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6080040" y="2057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6659640" y="4221000"/>
            <a:ext cx="205740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其它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2"/>
          <p:cNvSpPr/>
          <p:nvPr/>
        </p:nvSpPr>
        <p:spPr>
          <a:xfrm>
            <a:off x="2556000" y="386064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3"/>
          <p:cNvSpPr/>
          <p:nvPr/>
        </p:nvSpPr>
        <p:spPr>
          <a:xfrm>
            <a:off x="2556000" y="2349360"/>
            <a:ext cx="685800" cy="460440"/>
          </a:xfrm>
          <a:prstGeom prst="leftArrow">
            <a:avLst>
              <a:gd name="adj1" fmla="val 50000"/>
              <a:gd name="adj2" fmla="val 37222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4"/>
          <p:cNvSpPr/>
          <p:nvPr/>
        </p:nvSpPr>
        <p:spPr>
          <a:xfrm>
            <a:off x="4211640" y="1197000"/>
            <a:ext cx="576360" cy="1278000"/>
          </a:xfrm>
          <a:prstGeom prst="upArrow">
            <a:avLst>
              <a:gd name="adj1" fmla="val 50000"/>
              <a:gd name="adj2" fmla="val 55413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5"/>
          <p:cNvSpPr/>
          <p:nvPr/>
        </p:nvSpPr>
        <p:spPr>
          <a:xfrm rot="10800000">
            <a:off x="4427280" y="4221000"/>
            <a:ext cx="533160" cy="914400"/>
          </a:xfrm>
          <a:prstGeom prst="upArrow">
            <a:avLst>
              <a:gd name="adj1" fmla="val 50000"/>
              <a:gd name="adj2" fmla="val 4286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6"/>
          <p:cNvSpPr/>
          <p:nvPr/>
        </p:nvSpPr>
        <p:spPr>
          <a:xfrm>
            <a:off x="6084720" y="234936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7"/>
          <p:cNvSpPr/>
          <p:nvPr/>
        </p:nvSpPr>
        <p:spPr>
          <a:xfrm>
            <a:off x="6084720" y="4005360"/>
            <a:ext cx="609840" cy="533160"/>
          </a:xfrm>
          <a:prstGeom prst="rightArrow">
            <a:avLst>
              <a:gd name="adj1" fmla="val 50000"/>
              <a:gd name="adj2" fmla="val 2858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2700360" y="5157720"/>
            <a:ext cx="410364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公平交易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3"/>
          <p:cNvSpPr/>
          <p:nvPr/>
        </p:nvSpPr>
        <p:spPr>
          <a:xfrm>
            <a:off x="971640" y="595008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539640" y="260280"/>
            <a:ext cx="8209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消费者权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安全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最基本）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知情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自主选择权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公平交易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依法求偿权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结社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获得教育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人格尊严与民族风俗获得尊重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9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监督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611280" y="580536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说下面的漫画侵犯了消费者的何种权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117"/>
          <p:cNvPicPr/>
          <p:nvPr/>
        </p:nvPicPr>
        <p:blipFill>
          <a:blip r:embed="rId1"/>
          <a:stretch/>
        </p:blipFill>
        <p:spPr>
          <a:xfrm>
            <a:off x="7248600" y="3068640"/>
            <a:ext cx="1895400" cy="378936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"/>
          <p:cNvSpPr/>
          <p:nvPr/>
        </p:nvSpPr>
        <p:spPr>
          <a:xfrm>
            <a:off x="611280" y="2781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你在生活中有哪些消费活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4211640" y="1557360"/>
            <a:ext cx="39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你说我说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1692360" y="465300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消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3419640" y="4724280"/>
            <a:ext cx="215640" cy="100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5920 h 1008360"/>
              <a:gd name="textAreaBottom" fmla="*/ 98244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924360" y="458136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质消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84360" y="26028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一、我们都是消费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4291560" y="530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精神消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1078295504"/>
          <p:cNvPicPr/>
          <p:nvPr/>
        </p:nvPicPr>
        <p:blipFill>
          <a:blip r:embed="rId1"/>
          <a:srcRect l="3855" t="3831" r="11566" b="9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WordArt 6"/>
          <p:cNvSpPr txBox="1"/>
          <p:nvPr/>
        </p:nvSpPr>
        <p:spPr>
          <a:xfrm>
            <a:off x="395280" y="260280"/>
            <a:ext cx="3025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永远新鲜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2005-03-15-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8" name="Picture 3" descr="哇，象给你度身订造的一样！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AutoShape 4"/>
            <p:cNvSpPr/>
            <p:nvPr/>
          </p:nvSpPr>
          <p:spPr>
            <a:xfrm>
              <a:off x="0" y="5634000"/>
              <a:ext cx="9144000" cy="12240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哇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多合身呀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就是为你定做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3" descr="我这是第十次保修了"/>
          <p:cNvPicPr/>
          <p:nvPr/>
        </p:nvPicPr>
        <p:blipFill>
          <a:blip r:embed="rId1"/>
          <a:stretch/>
        </p:blipFill>
        <p:spPr>
          <a:xfrm>
            <a:off x="900000" y="836640"/>
            <a:ext cx="72788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3280" cy="8037000"/>
            <a:chOff x="0" y="0"/>
            <a:chExt cx="9143280" cy="8037000"/>
          </a:xfrm>
        </p:grpSpPr>
        <p:pic>
          <p:nvPicPr>
            <p:cNvPr id="603" name="Picture 3" descr="未定标题6"/>
            <p:cNvPicPr/>
            <p:nvPr/>
          </p:nvPicPr>
          <p:blipFill>
            <a:blip r:embed="rId1"/>
            <a:srcRect l="5921" t="0" r="0" b="3028"/>
            <a:stretch/>
          </p:blipFill>
          <p:spPr>
            <a:xfrm>
              <a:off x="0" y="0"/>
              <a:ext cx="9143280" cy="68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4"/>
            <p:cNvSpPr/>
            <p:nvPr/>
          </p:nvSpPr>
          <p:spPr>
            <a:xfrm>
              <a:off x="3047400" y="6831720"/>
              <a:ext cx="3725280" cy="12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imes New Roman"/>
                </a:rPr>
                <a:t>合格产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684360" y="18446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黑体"/>
              </a:rPr>
              <a:t>假如你是经营者，你希望消费者怎么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1"/>
          <p:cNvPicPr/>
          <p:nvPr/>
        </p:nvPicPr>
        <p:blipFill>
          <a:blip r:embed="rId1"/>
          <a:stretch/>
        </p:blipFill>
        <p:spPr>
          <a:xfrm>
            <a:off x="6443640" y="2708280"/>
            <a:ext cx="2165400" cy="15843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684360" y="476280"/>
            <a:ext cx="626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换位思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5"/>
          <p:cNvSpPr txBox="1"/>
          <p:nvPr/>
        </p:nvSpPr>
        <p:spPr>
          <a:xfrm>
            <a:off x="395280" y="4292640"/>
            <a:ext cx="727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  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做文明的“上帝”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124000" y="333360"/>
            <a:ext cx="533412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琥珀"/>
              </a:rPr>
              <a:t>做一个文明的“上帝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539640" y="141300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文鼎ＰＯＰ－４"/>
                <a:ea typeface="文鼎ＰＯＰ－４"/>
              </a:rPr>
              <a:t>法律保障消费者的合法权益。作为消费者，也应履行自己的义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468360" y="335772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我们应该怎样做一个文明的上帝？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  <a:ea typeface="黑体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消费者应该履行哪些义务呢？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做文明的“上帝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0920" y="112536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到商场购物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态度要谦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说话要有礼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选择商品应事先考虑好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以免耽误其他顾客购物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对营业员的优质服务应表示谢意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维护生产经营者的正当利益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9500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辩析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消费者是上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可以为所欲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1194840" y="1700280"/>
            <a:ext cx="7096320" cy="4770360"/>
            <a:chOff x="1194840" y="1700280"/>
            <a:chExt cx="7096320" cy="4770360"/>
          </a:xfrm>
        </p:grpSpPr>
        <p:pic>
          <p:nvPicPr>
            <p:cNvPr id="476" name="Picture 3" descr="keiyaku_ill"/>
            <p:cNvPicPr/>
            <p:nvPr/>
          </p:nvPicPr>
          <p:blipFill>
            <a:blip r:embed="rId1"/>
            <a:stretch/>
          </p:blipFill>
          <p:spPr>
            <a:xfrm>
              <a:off x="1563840" y="1700280"/>
              <a:ext cx="6553080" cy="477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7" name="Text Box 4"/>
            <p:cNvSpPr/>
            <p:nvPr/>
          </p:nvSpPr>
          <p:spPr>
            <a:xfrm rot="1159200">
              <a:off x="6592680" y="3298680"/>
              <a:ext cx="163800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文鼎ＰＯＰ－４"/>
                </a:rPr>
                <a:t>经营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"/>
            <p:cNvSpPr/>
            <p:nvPr/>
          </p:nvSpPr>
          <p:spPr>
            <a:xfrm rot="19766400">
              <a:off x="1258920" y="3605040"/>
              <a:ext cx="1752840" cy="73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文鼎ＰＯＰ－４"/>
                  <a:ea typeface="文鼎ＰＯＰ－４"/>
                </a:rPr>
                <a:t>消费者</a:t>
              </a:r>
              <a:r>
                <a:rPr b="1" lang="zh-CN" sz="4000" spc="-1" strike="noStrike">
                  <a:solidFill>
                    <a:srgbClr val="000000"/>
                  </a:solidFill>
                  <a:latin typeface="文鼎中特广告体"/>
                  <a:ea typeface="文鼎中特广告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6"/>
          <p:cNvGrpSpPr/>
          <p:nvPr/>
        </p:nvGrpSpPr>
        <p:grpSpPr>
          <a:xfrm>
            <a:off x="1042920" y="1628640"/>
            <a:ext cx="5905080" cy="1486080"/>
            <a:chOff x="1042920" y="1628640"/>
            <a:chExt cx="5905080" cy="1486080"/>
          </a:xfrm>
        </p:grpSpPr>
        <p:sp>
          <p:nvSpPr>
            <p:cNvPr id="480" name="AutoShape 7"/>
            <p:cNvSpPr/>
            <p:nvPr/>
          </p:nvSpPr>
          <p:spPr>
            <a:xfrm rot="5400000">
              <a:off x="3823560" y="-9360"/>
              <a:ext cx="1486080" cy="4762440"/>
            </a:xfrm>
            <a:custGeom>
              <a:avLst/>
              <a:gdLst>
                <a:gd name="textAreaLeft" fmla="*/ 199080 w 1486080"/>
                <a:gd name="textAreaRight" fmla="*/ 1287000 w 1486080"/>
                <a:gd name="textAreaTop" fmla="*/ 1011960 h 4762440"/>
                <a:gd name="textAreaBottom" fmla="*/ 3274200 h 476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180" stAng="-5400000" swAng="-5400000"/>
                  <a:lnTo>
                    <a:pt x="0" y="10260"/>
                  </a:lnTo>
                  <a:arcTo wR="21600" hR="9180" stAng="10800000" swAng="-3015124"/>
                  <a:lnTo>
                    <a:pt x="14402" y="21075"/>
                  </a:lnTo>
                  <a:lnTo>
                    <a:pt x="21600" y="18900"/>
                  </a:lnTo>
                  <a:lnTo>
                    <a:pt x="14402" y="15675"/>
                  </a:lnTo>
                  <a:lnTo>
                    <a:pt x="14402" y="17835"/>
                  </a:lnTo>
                  <a:arcTo wR="21600" hR="9180" stAng="7784876" swAng="2929049"/>
                  <a:lnTo>
                    <a:pt x="37" y="9720"/>
                  </a:lnTo>
                  <a:arcTo wR="21600" hR="9180" stAng="-10713925" swAng="5313925"/>
                  <a:close/>
                </a:path>
                <a:path fill="darkenLess" w="21600" h="21600">
                  <a:moveTo>
                    <a:pt x="21600" y="0"/>
                  </a:moveTo>
                  <a:arcTo wR="21600" hR="9180" stAng="-5400000" swAng="-5400000"/>
                  <a:lnTo>
                    <a:pt x="0" y="9180"/>
                  </a:lnTo>
                  <a:arcTo wR="21600" hR="9180" stAng="10800000" swAng="-86075"/>
                  <a:lnTo>
                    <a:pt x="37" y="9720"/>
                  </a:lnTo>
                  <a:arcTo wR="21600" hR="9180" stAng="-10713925" swAng="5313925"/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8"/>
            <p:cNvSpPr/>
            <p:nvPr/>
          </p:nvSpPr>
          <p:spPr>
            <a:xfrm>
              <a:off x="1042920" y="1933560"/>
              <a:ext cx="3809880" cy="52056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文鼎CS大黑"/>
                </a:rPr>
                <a:t>应该保护消费者的权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9"/>
          <p:cNvSpPr/>
          <p:nvPr/>
        </p:nvSpPr>
        <p:spPr>
          <a:xfrm rot="2359800">
            <a:off x="576000" y="4106880"/>
            <a:ext cx="990360" cy="2057400"/>
          </a:xfrm>
          <a:prstGeom prst="upArrowCallout">
            <a:avLst>
              <a:gd name="adj1" fmla="val 25002"/>
              <a:gd name="adj2" fmla="val 25000"/>
              <a:gd name="adj3" fmla="val 34614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文鼎CS大黑"/>
              </a:rPr>
              <a:t>购买商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 rot="20804400">
            <a:off x="1477440" y="4390560"/>
            <a:ext cx="1190880" cy="2344680"/>
          </a:xfrm>
          <a:prstGeom prst="upArrowCallout">
            <a:avLst>
              <a:gd name="adj1" fmla="val 25002"/>
              <a:gd name="adj2" fmla="val 25000"/>
              <a:gd name="adj3" fmla="val 32805"/>
              <a:gd name="adj4" fmla="val 6666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文鼎CS大黑"/>
              </a:rPr>
              <a:t>享受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1"/>
          <p:cNvGrpSpPr/>
          <p:nvPr/>
        </p:nvGrpSpPr>
        <p:grpSpPr>
          <a:xfrm>
            <a:off x="1619280" y="620640"/>
            <a:ext cx="5257800" cy="703440"/>
            <a:chOff x="1619280" y="620640"/>
            <a:chExt cx="5257800" cy="703440"/>
          </a:xfrm>
        </p:grpSpPr>
        <p:sp>
          <p:nvSpPr>
            <p:cNvPr id="485" name="Text Box 12"/>
            <p:cNvSpPr/>
            <p:nvPr/>
          </p:nvSpPr>
          <p:spPr>
            <a:xfrm>
              <a:off x="1619280" y="620640"/>
              <a:ext cx="5257800" cy="703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华文琥珀"/>
                </a:rPr>
                <a:t>消费者            经营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3"/>
            <p:cNvSpPr/>
            <p:nvPr/>
          </p:nvSpPr>
          <p:spPr>
            <a:xfrm>
              <a:off x="3564000" y="908280"/>
              <a:ext cx="1440000" cy="142920"/>
            </a:xfrm>
            <a:prstGeom prst="rightArrow">
              <a:avLst>
                <a:gd name="adj1" fmla="val 50000"/>
                <a:gd name="adj2" fmla="val 25179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WordArt 14"/>
          <p:cNvSpPr txBox="1"/>
          <p:nvPr/>
        </p:nvSpPr>
        <p:spPr>
          <a:xfrm rot="5400000">
            <a:off x="3502440" y="459360"/>
            <a:ext cx="148428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844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上帝</a:t>
            </a:r>
            <a:endParaRPr b="0" lang="en-US" sz="6000" spc="1" strike="noStrike">
              <a:ln w="2844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684360" y="1197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、张某去一家饭店吃饭，由于地滑摔了一跤，张某向消费者协会投诉，获得了赔偿，张某行使了消费者的什么权利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755640" y="393372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自主选择权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知情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依法求偿权  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安全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4067280" y="3068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7"/>
          <p:cNvSpPr txBox="1"/>
          <p:nvPr/>
        </p:nvSpPr>
        <p:spPr>
          <a:xfrm>
            <a:off x="1042920" y="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巩固练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784080" y="333360"/>
            <a:ext cx="78570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列情况中，不属于侵犯消费者权益的是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某商场规定，购物自备零钱，恕不找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某房屋销售商规定：定购房者若中途退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权要求返还定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某电信局规定，安装电话必须购买由电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销售的电话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某商店规定，本店出售的商品终身免费维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某顾客在购买皮鞋时要求商家提供皮鞋的产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顾客是在行驶                                         （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对商品的自主选择权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公平交易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对商品情况的知悉权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 依法求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7740720" y="40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7504200" y="445284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539640" y="1268280"/>
            <a:ext cx="81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我们的生活离不开消费，消费包括      （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物质方面的消费和精神文化的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旅游消费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购买食品的消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购买住房的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844720" y="1916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0" y="33336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消费者依法享有的最重要、最基本的权利是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自主选择权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公平交易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 求偿权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人身、财产安全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颁布消费者权益保障法的直接目的和根本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保护消费者权益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协调消费者与经营者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宣传消费者享有的合法权益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、确保消费品质优价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3"/>
          <p:cNvSpPr txBox="1"/>
          <p:nvPr/>
        </p:nvSpPr>
        <p:spPr>
          <a:xfrm>
            <a:off x="7093080" y="3141720"/>
            <a:ext cx="50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A</a:t>
            </a:r>
            <a:endParaRPr b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26" name="WordArt 4"/>
          <p:cNvSpPr txBox="1"/>
          <p:nvPr/>
        </p:nvSpPr>
        <p:spPr>
          <a:xfrm>
            <a:off x="8388360" y="333360"/>
            <a:ext cx="431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D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250920" y="0"/>
            <a:ext cx="85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212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1212"/>
                </a:solidFill>
                <a:latin typeface="楷体_GB2312"/>
                <a:ea typeface="楷体_GB2312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赵买了一瓶矿泉水，打开一喝，感觉味道不对，再看瓶上只有保质期而找不到生产日期，该矿泉水的生产厂家主要侵害了消费者的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2205360" y="306864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商品和服务的真实情况的知悉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898280" y="3933720"/>
            <a:ext cx="456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商品和服务的自主选择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1159200" y="4797360"/>
            <a:ext cx="24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平交易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1626840" y="5589720"/>
            <a:ext cx="33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身安全不受侵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7812000" y="184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250920" y="475920"/>
            <a:ext cx="86040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王某到市场李某的摊位购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斤牛肉，付钱后觉得分量不够，到工商管理处称，只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斤。李某侵犯了王某的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自主选择权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公平交易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知悉权　　　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依法求偿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3203640" y="2276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95280" y="533160"/>
            <a:ext cx="806616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某风景区的缆车失修导致缆绳断裂，致使一游客坠落死亡。事件中，该风景区的经营部门侵犯了游客的（　　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公平交易的权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人身财产安全不受损害的权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对商品和服务真实情况的知悉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格尊严、民族风俗习惯得到尊重的权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7451640" y="16686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603B-353D-4F0D-9F51-987159C20B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8440" y="44784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我国法律体系中，保护消费者权益的基本法律是  （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民法通则   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产品质量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消费者权益保护法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反不正当竞争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24000" y="2708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市殡仪馆为创收搞福利，对出殡者硬性搭售花篮、签到册、纪念册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次性使用的茶杯，不论要否，每位死者收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4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。此举侵犯了消费者的  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知悉权  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公平交易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自主选择权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格尊严、民族习惯得到尊重的权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223120" y="4653000"/>
            <a:ext cx="1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7885080" y="4365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4175280" y="10126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539640" y="0"/>
            <a:ext cx="6337440" cy="68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倒霉的上帝，经常要碰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入门遭白眼，冷落是惯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问话不搭理，多问挨训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进餐像讨饭，购物似行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花钱买罪受，生一肚子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更会遭横祸， 竟然犯嫌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搜身兼审讯，翻兜又脱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无端受侮辱，真令人发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说是敬神明，纯属哄骗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HaoSc3_147_20052493232621"/>
          <p:cNvPicPr/>
          <p:nvPr/>
        </p:nvPicPr>
        <p:blipFill>
          <a:blip r:embed="rId1"/>
          <a:stretch/>
        </p:blipFill>
        <p:spPr>
          <a:xfrm>
            <a:off x="7543800" y="380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HaoSc3_147_20052493232621"/>
          <p:cNvPicPr/>
          <p:nvPr/>
        </p:nvPicPr>
        <p:blipFill>
          <a:blip r:embed="rId2"/>
          <a:stretch/>
        </p:blipFill>
        <p:spPr>
          <a:xfrm>
            <a:off x="1447920" y="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HaoSc3_147_20052493232621"/>
          <p:cNvPicPr/>
          <p:nvPr/>
        </p:nvPicPr>
        <p:blipFill>
          <a:blip r:embed="rId3"/>
          <a:stretch/>
        </p:blipFill>
        <p:spPr>
          <a:xfrm>
            <a:off x="8244000" y="765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HaoSc3_147_20052493232621"/>
          <p:cNvPicPr/>
          <p:nvPr/>
        </p:nvPicPr>
        <p:blipFill>
          <a:blip r:embed="rId4"/>
          <a:stretch/>
        </p:blipFill>
        <p:spPr>
          <a:xfrm>
            <a:off x="228600" y="5335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HaoSc3_147_20052493232621"/>
          <p:cNvPicPr/>
          <p:nvPr/>
        </p:nvPicPr>
        <p:blipFill>
          <a:blip r:embed="rId5"/>
          <a:stretch/>
        </p:blipFill>
        <p:spPr>
          <a:xfrm>
            <a:off x="8001000" y="234936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HaoSc3_147_20052493232621"/>
          <p:cNvPicPr/>
          <p:nvPr/>
        </p:nvPicPr>
        <p:blipFill>
          <a:blip r:embed="rId6"/>
          <a:stretch/>
        </p:blipFill>
        <p:spPr>
          <a:xfrm>
            <a:off x="6443640" y="-243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HaoSc3_147_20052493232621"/>
          <p:cNvPicPr/>
          <p:nvPr/>
        </p:nvPicPr>
        <p:blipFill>
          <a:blip r:embed="rId7"/>
          <a:stretch/>
        </p:blipFill>
        <p:spPr>
          <a:xfrm>
            <a:off x="8001000" y="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HaoSc3_147_20052493232621"/>
          <p:cNvPicPr/>
          <p:nvPr/>
        </p:nvPicPr>
        <p:blipFill>
          <a:blip r:embed="rId8"/>
          <a:stretch/>
        </p:blipFill>
        <p:spPr>
          <a:xfrm>
            <a:off x="7451640" y="-45864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HaoSc3_147_20052493232621"/>
          <p:cNvPicPr/>
          <p:nvPr/>
        </p:nvPicPr>
        <p:blipFill>
          <a:blip r:embed="rId9"/>
          <a:stretch/>
        </p:blipFill>
        <p:spPr>
          <a:xfrm>
            <a:off x="250920" y="-685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HaoSc3_147_20052493232621"/>
          <p:cNvPicPr/>
          <p:nvPr/>
        </p:nvPicPr>
        <p:blipFill>
          <a:blip r:embed="rId10"/>
          <a:stretch/>
        </p:blipFill>
        <p:spPr>
          <a:xfrm>
            <a:off x="1066680" y="8380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HaoSc3_147_20052493232621"/>
          <p:cNvPicPr/>
          <p:nvPr/>
        </p:nvPicPr>
        <p:blipFill>
          <a:blip r:embed="rId11"/>
          <a:stretch/>
        </p:blipFill>
        <p:spPr>
          <a:xfrm>
            <a:off x="5486400" y="685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4" descr="HaoSc3_147_20052493232621"/>
          <p:cNvPicPr/>
          <p:nvPr/>
        </p:nvPicPr>
        <p:blipFill>
          <a:blip r:embed="rId12"/>
          <a:stretch/>
        </p:blipFill>
        <p:spPr>
          <a:xfrm>
            <a:off x="5435640" y="-3160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HaoSc3_147_20052493232621"/>
          <p:cNvPicPr/>
          <p:nvPr/>
        </p:nvPicPr>
        <p:blipFill>
          <a:blip r:embed="rId13"/>
          <a:stretch/>
        </p:blipFill>
        <p:spPr>
          <a:xfrm>
            <a:off x="3780000" y="-6858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6"/>
          <p:cNvSpPr/>
          <p:nvPr/>
        </p:nvSpPr>
        <p:spPr>
          <a:xfrm>
            <a:off x="6804000" y="1197000"/>
            <a:ext cx="15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660066"/>
                </a:solidFill>
                <a:latin typeface="Arial"/>
              </a:rPr>
              <a:t>倒霉的上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给猪注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3"/>
          <p:cNvSpPr/>
          <p:nvPr/>
        </p:nvSpPr>
        <p:spPr>
          <a:xfrm>
            <a:off x="6732720" y="3308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335731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xin_4003021513013002122425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740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335727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1:20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32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