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2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882-3EC7-4E10-B1B3-F50D5CEC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177-C75E-4463-8939-BC117529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BD3-5871-4D93-A0B1-A05CF7B1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C6D-1C88-43AA-AC91-13F1F682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D474-9050-444F-B11F-942A4A8B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3906-1348-4CE0-BAA7-CCE68984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A284-7DAF-469A-8BBA-9BBD8376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EBCF-EE09-4CE9-B795-6EE86973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AF59-704F-4DD2-966E-1926B91E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74EE-49B0-4F40-9EAD-9F387643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9889-0608-4F4E-81D7-E580ECA1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6DC-EB8E-4F08-9942-1551E5FA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0D1E-2508-458F-9060-C1ED592C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75B6-FF0C-4FA1-8E1D-74A17093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C87B-8365-4D16-AE58-EC381B50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3561-F879-4FBD-92DA-3DB66A18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F765-B4E3-44D8-8E0B-60D44B1C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DBB5E-0451-416E-838B-93A1D862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71C8A-97D3-4900-ADA2-1DB77D1B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080EE-A138-4F31-9284-A4966920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5928-1F25-49F5-8629-FA7EAA00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E933A-4C72-4FF5-8EC8-41228086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F5B-7178-4861-8E8D-93599EDD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33836-1858-45ED-A375-C525CD8E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4415F-E7D4-4E2B-BD17-954B61B4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14FE5-4445-49A0-B40C-F36AB812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EF7BA-233D-4422-BC37-1966D30F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C4A7-1F81-4A3C-A5EA-B9639D62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D7D63-F873-430C-8B77-D9F30557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4B198-B8F8-4152-9B4D-77841D56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2E6C6-E526-4205-9A04-D2E5F830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C3ABA-9BC0-4DEF-A15F-2465F03B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F65B0-503E-4AA0-ABAA-44811910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FA8-52F6-45C1-B429-ECA6018E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B9B6B-657C-4F4D-850D-05EA81E7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F0635-D310-4922-B9F5-5E61575C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9AC57-391D-4D7F-AA30-CDBAE508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4943-1496-4DAD-87E0-8AB9C830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AA581-4BFB-4DBE-BF6B-06FCF70B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70F63-17C2-48D8-9367-317D29B5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0E257-31C8-41A1-B777-E06A34B5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69A47-B350-43D2-B44F-ACA2BAC3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BDEC9-F389-4054-B983-D10FAAC5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553-DEA3-4FE9-B727-BEE8721C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534F-C480-4025-896C-B0EB0BE2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156-1286-4772-B739-99C19C4B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B5C-1F8B-4E2C-B1AA-840EBC2B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7B0-568F-4748-B306-E4455900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39B5-7D4C-4854-A642-E555BAADBDF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829B-7838-4E7D-82A0-E3095E3743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2574-8D91-4298-B29F-D528CDE59F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7"/>
          <p:cNvSpPr/>
          <p:nvPr/>
        </p:nvSpPr>
        <p:spPr>
          <a:xfrm>
            <a:off x="0" y="60948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中央电化教育馆资源中心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0" y="335268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幼圆"/>
              </a:rPr>
              <a:t>Resources Center National Center for Educational Technology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469D-126D-4F49-8AFD-FC83116426D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01480" y="1359000"/>
            <a:ext cx="77724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五年级上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cycle2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课件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187280" y="371628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256b8"/>
                </a:solidFill>
                <a:latin typeface="Arial Black"/>
                <a:ea typeface="宋体"/>
              </a:rPr>
              <a:t>Lesson 2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ask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0" y="1224000"/>
            <a:ext cx="5381640" cy="35622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5492160" y="1166760"/>
            <a:ext cx="3512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Now you have a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house for rent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o you need to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Write an ad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ink aout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what your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d should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nclude(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包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括）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文本框 8199"/>
          <p:cNvSpPr/>
          <p:nvPr/>
        </p:nvSpPr>
        <p:spPr>
          <a:xfrm>
            <a:off x="581040" y="5284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Picture 10" descr="21c8a04e-6025-4607-9025-aace2986d619"/>
          <p:cNvPicPr/>
          <p:nvPr/>
        </p:nvPicPr>
        <p:blipFill>
          <a:blip r:embed="rId1"/>
          <a:stretch/>
        </p:blipFill>
        <p:spPr>
          <a:xfrm>
            <a:off x="2862360" y="2933640"/>
            <a:ext cx="2876400" cy="3146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/>
          <p:cNvPicPr/>
          <p:nvPr/>
        </p:nvPicPr>
        <p:blipFill>
          <a:blip r:embed="rId2"/>
          <a:stretch/>
        </p:blipFill>
        <p:spPr>
          <a:xfrm>
            <a:off x="522360" y="414360"/>
            <a:ext cx="1338120" cy="189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3"/>
          <a:stretch/>
        </p:blipFill>
        <p:spPr>
          <a:xfrm>
            <a:off x="3672000" y="684360"/>
            <a:ext cx="1439640" cy="1530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20054261133633112"/>
          <p:cNvPicPr/>
          <p:nvPr/>
        </p:nvPicPr>
        <p:blipFill>
          <a:blip r:embed="rId4"/>
          <a:stretch/>
        </p:blipFill>
        <p:spPr>
          <a:xfrm>
            <a:off x="5877000" y="279360"/>
            <a:ext cx="2249280" cy="2249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20078794124761_2"/>
          <p:cNvPicPr/>
          <p:nvPr/>
        </p:nvPicPr>
        <p:blipFill>
          <a:blip r:embed="rId5"/>
          <a:stretch/>
        </p:blipFill>
        <p:spPr>
          <a:xfrm>
            <a:off x="566640" y="3519360"/>
            <a:ext cx="1535040" cy="1754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20061271880806"/>
          <p:cNvPicPr/>
          <p:nvPr/>
        </p:nvPicPr>
        <p:blipFill>
          <a:blip r:embed="rId6"/>
          <a:stretch/>
        </p:blipFill>
        <p:spPr>
          <a:xfrm>
            <a:off x="5697360" y="3024360"/>
            <a:ext cx="3446640" cy="21906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3"/>
          <p:cNvSpPr/>
          <p:nvPr/>
        </p:nvSpPr>
        <p:spPr>
          <a:xfrm>
            <a:off x="3531960" y="266400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lepho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528120" y="5556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3498120" y="555624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d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7319520" y="55562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ir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612720" y="231624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ardrobe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6557040" y="263196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idge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1285920" y="1673280"/>
            <a:ext cx="65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Maybe your ad should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have some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Information about these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5920" y="998640"/>
            <a:ext cx="1755720" cy="49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411280" y="1042920"/>
            <a:ext cx="45468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is 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A2D4-1985-4988-A38B-5F2BC1AD21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WordArt 4"/>
          <p:cNvSpPr txBox="1"/>
          <p:nvPr/>
        </p:nvSpPr>
        <p:spPr>
          <a:xfrm>
            <a:off x="3716280" y="0"/>
            <a:ext cx="4454640" cy="20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-360"/>
            <a:ext cx="450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教学目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96640" y="1133280"/>
            <a:ext cx="8847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复习前三单元的单词、语法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掌握本课句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巨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会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chant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sing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部分的歌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6"/>
          <p:cNvSpPr/>
          <p:nvPr/>
        </p:nvSpPr>
        <p:spPr>
          <a:xfrm>
            <a:off x="6281640" y="5229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2438280" y="-73080"/>
            <a:ext cx="3353040" cy="1216080"/>
          </a:xfrm>
          <a:custGeom>
            <a:avLst/>
            <a:gdLst>
              <a:gd name="textAreaLeft" fmla="*/ 658440 w 3353040"/>
              <a:gd name="textAreaRight" fmla="*/ 2694600 w 3353040"/>
              <a:gd name="textAreaTop" fmla="*/ 155520 h 1216080"/>
              <a:gd name="textAreaBottom" fmla="*/ 106056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2764"/>
                </a:moveTo>
                <a:lnTo>
                  <a:pt x="15900" y="2764"/>
                </a:lnTo>
                <a:lnTo>
                  <a:pt x="15900" y="0"/>
                </a:lnTo>
                <a:lnTo>
                  <a:pt x="21600" y="10800"/>
                </a:lnTo>
                <a:lnTo>
                  <a:pt x="15900" y="21600"/>
                </a:lnTo>
                <a:lnTo>
                  <a:pt x="15900" y="18836"/>
                </a:lnTo>
                <a:lnTo>
                  <a:pt x="0" y="18836"/>
                </a:lnTo>
                <a:lnTo>
                  <a:pt x="4241" y="10800"/>
                </a:lnTo>
                <a:lnTo>
                  <a:pt x="0" y="2764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华文彩云"/>
              </a:rPr>
              <a:t>唱一唱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520" y="990720"/>
            <a:ext cx="8076960" cy="5486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2514600" y="152280"/>
            <a:ext cx="4114800" cy="685800"/>
          </a:xfrm>
          <a:prstGeom prst="cloudCallout">
            <a:avLst>
              <a:gd name="adj1" fmla="val -39236"/>
              <a:gd name="adj2" fmla="val 68518"/>
            </a:avLst>
          </a:prstGeom>
          <a:solidFill>
            <a:srgbClr val="99ccff">
              <a:alpha val="50000"/>
            </a:srgbClr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  <a:ea typeface="华文彩云"/>
              </a:rPr>
              <a:t>Let’s chan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Let's chant.asf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311800"/>
          </a:xfrm>
          <a:prstGeom prst="rect">
            <a:avLst/>
          </a:prstGeom>
          <a:ln w="0">
            <a:noFill/>
          </a:ln>
        </p:spPr>
      </p:pic>
      <p:sp>
        <p:nvSpPr>
          <p:cNvPr id="18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457200" y="0"/>
            <a:ext cx="8686800" cy="1538280"/>
          </a:xfrm>
          <a:prstGeom prst="cloudCallout">
            <a:avLst>
              <a:gd name="adj1" fmla="val 11458"/>
              <a:gd name="adj2" fmla="val 1495"/>
            </a:avLst>
          </a:prstGeom>
          <a:solidFill>
            <a:srgbClr val="99ccff">
              <a:alpha val="50000"/>
            </a:srgbClr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  <a:ea typeface="华文彩云"/>
              </a:rPr>
              <a:t>Guess what they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  <a:ea typeface="华文彩云"/>
              </a:rPr>
              <a:t>     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  <a:ea typeface="华文彩云"/>
              </a:rPr>
              <a:t>are doing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476280" y="1584360"/>
            <a:ext cx="8229600" cy="49338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560" y="1922040"/>
            <a:ext cx="87627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s Mother monkey at hom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n the monkey cook the meal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n the monkey wash the clothe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at can he do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n the monkey help his dad?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1523880" y="533520"/>
            <a:ext cx="5105520" cy="685800"/>
          </a:xfrm>
          <a:prstGeom prst="cloudCallout">
            <a:avLst>
              <a:gd name="adj1" fmla="val 41263"/>
              <a:gd name="adj2" fmla="val -12268"/>
            </a:avLst>
          </a:prstGeom>
          <a:solidFill>
            <a:srgbClr val="99ccff">
              <a:alpha val="50000"/>
            </a:srgbClr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华文彩云"/>
              </a:rPr>
              <a:t>仔细阅读问题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520" y="990720"/>
            <a:ext cx="8076960" cy="5486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2514600" y="152280"/>
            <a:ext cx="4114800" cy="685800"/>
          </a:xfrm>
          <a:prstGeom prst="cloudCallout">
            <a:avLst>
              <a:gd name="adj1" fmla="val -39236"/>
              <a:gd name="adj2" fmla="val 68518"/>
            </a:avLst>
          </a:prstGeom>
          <a:solidFill>
            <a:srgbClr val="99ccff">
              <a:alpha val="50000"/>
            </a:srgbClr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  <a:ea typeface="华文彩云"/>
              </a:rPr>
              <a:t>Let’s read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Let's read.asf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2590920" y="0"/>
            <a:ext cx="3581280" cy="1066680"/>
          </a:xfrm>
          <a:prstGeom prst="horizontalScroll">
            <a:avLst>
              <a:gd name="adj" fmla="val 16550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华文彩云"/>
              </a:rPr>
              <a:t>看一看，写一写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0" y="1295280"/>
            <a:ext cx="9143640" cy="4952520"/>
            <a:chOff x="0" y="1295280"/>
            <a:chExt cx="9143640" cy="4952520"/>
          </a:xfrm>
        </p:grpSpPr>
        <p:grpSp>
          <p:nvGrpSpPr>
            <p:cNvPr id="194" name="Group 4"/>
            <p:cNvGrpSpPr/>
            <p:nvPr/>
          </p:nvGrpSpPr>
          <p:grpSpPr>
            <a:xfrm>
              <a:off x="6840" y="1304640"/>
              <a:ext cx="9128880" cy="4932360"/>
              <a:chOff x="6840" y="1304640"/>
              <a:chExt cx="9128880" cy="4932360"/>
            </a:xfrm>
          </p:grpSpPr>
          <p:grpSp>
            <p:nvGrpSpPr>
              <p:cNvPr id="195" name="Group 5"/>
              <p:cNvGrpSpPr/>
              <p:nvPr/>
            </p:nvGrpSpPr>
            <p:grpSpPr>
              <a:xfrm>
                <a:off x="6840" y="1304640"/>
                <a:ext cx="1825560" cy="1232280"/>
                <a:chOff x="6840" y="1304640"/>
                <a:chExt cx="1825560" cy="1232280"/>
              </a:xfrm>
            </p:grpSpPr>
            <p:sp>
              <p:nvSpPr>
                <p:cNvPr id="196" name="Rectangle 6"/>
                <p:cNvSpPr/>
                <p:nvPr/>
              </p:nvSpPr>
              <p:spPr>
                <a:xfrm>
                  <a:off x="109080" y="1304640"/>
                  <a:ext cx="1620720" cy="123228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Name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7" name="Rectangle 7"/>
                <p:cNvSpPr/>
                <p:nvPr/>
              </p:nvSpPr>
              <p:spPr>
                <a:xfrm>
                  <a:off x="6840" y="1304640"/>
                  <a:ext cx="1825560" cy="123228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8" name="Group 8"/>
              <p:cNvGrpSpPr/>
              <p:nvPr/>
            </p:nvGrpSpPr>
            <p:grpSpPr>
              <a:xfrm>
                <a:off x="1832760" y="1304640"/>
                <a:ext cx="1825200" cy="1232280"/>
                <a:chOff x="1832760" y="1304640"/>
                <a:chExt cx="1825200" cy="1232280"/>
              </a:xfrm>
            </p:grpSpPr>
            <p:sp>
              <p:nvSpPr>
                <p:cNvPr id="199" name="Rectangle 9"/>
                <p:cNvSpPr/>
                <p:nvPr/>
              </p:nvSpPr>
              <p:spPr>
                <a:xfrm>
                  <a:off x="1935000" y="1304640"/>
                  <a:ext cx="1620360" cy="123228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ook the meals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Rectangle 10"/>
                <p:cNvSpPr/>
                <p:nvPr/>
              </p:nvSpPr>
              <p:spPr>
                <a:xfrm>
                  <a:off x="1832760" y="1304640"/>
                  <a:ext cx="1825200" cy="123228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01" name="Group 11"/>
              <p:cNvGrpSpPr/>
              <p:nvPr/>
            </p:nvGrpSpPr>
            <p:grpSpPr>
              <a:xfrm>
                <a:off x="3658320" y="1304640"/>
                <a:ext cx="1825560" cy="1232280"/>
                <a:chOff x="3658320" y="1304640"/>
                <a:chExt cx="1825560" cy="1232280"/>
              </a:xfrm>
            </p:grpSpPr>
            <p:sp>
              <p:nvSpPr>
                <p:cNvPr id="202" name="Rectangle 12"/>
                <p:cNvSpPr/>
                <p:nvPr/>
              </p:nvSpPr>
              <p:spPr>
                <a:xfrm>
                  <a:off x="3760560" y="1304640"/>
                  <a:ext cx="1620720" cy="123228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Wash the clothes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Rectangle 13"/>
                <p:cNvSpPr/>
                <p:nvPr/>
              </p:nvSpPr>
              <p:spPr>
                <a:xfrm>
                  <a:off x="3658320" y="1304640"/>
                  <a:ext cx="1825560" cy="123228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04" name="Group 14"/>
              <p:cNvGrpSpPr/>
              <p:nvPr/>
            </p:nvGrpSpPr>
            <p:grpSpPr>
              <a:xfrm>
                <a:off x="5484600" y="1304640"/>
                <a:ext cx="1825560" cy="1232280"/>
                <a:chOff x="5484600" y="1304640"/>
                <a:chExt cx="1825560" cy="1232280"/>
              </a:xfrm>
            </p:grpSpPr>
            <p:sp>
              <p:nvSpPr>
                <p:cNvPr id="205" name="Rectangle 15"/>
                <p:cNvSpPr/>
                <p:nvPr/>
              </p:nvSpPr>
              <p:spPr>
                <a:xfrm>
                  <a:off x="5586840" y="1304640"/>
                  <a:ext cx="1620720" cy="123228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lean the dishes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Rectangle 16"/>
                <p:cNvSpPr/>
                <p:nvPr/>
              </p:nvSpPr>
              <p:spPr>
                <a:xfrm>
                  <a:off x="5484600" y="1304640"/>
                  <a:ext cx="1825560" cy="123228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07" name="Group 17"/>
              <p:cNvGrpSpPr/>
              <p:nvPr/>
            </p:nvGrpSpPr>
            <p:grpSpPr>
              <a:xfrm>
                <a:off x="7310520" y="1304640"/>
                <a:ext cx="1825200" cy="1232280"/>
                <a:chOff x="7310520" y="1304640"/>
                <a:chExt cx="1825200" cy="1232280"/>
              </a:xfrm>
            </p:grpSpPr>
            <p:sp>
              <p:nvSpPr>
                <p:cNvPr id="208" name="Rectangle 18"/>
                <p:cNvSpPr/>
                <p:nvPr/>
              </p:nvSpPr>
              <p:spPr>
                <a:xfrm>
                  <a:off x="7412760" y="1304640"/>
                  <a:ext cx="1620360" cy="123228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..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Rectangle 19"/>
                <p:cNvSpPr/>
                <p:nvPr/>
              </p:nvSpPr>
              <p:spPr>
                <a:xfrm>
                  <a:off x="7310520" y="1304640"/>
                  <a:ext cx="1825200" cy="123228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0" name="Group 20"/>
              <p:cNvGrpSpPr/>
              <p:nvPr/>
            </p:nvGrpSpPr>
            <p:grpSpPr>
              <a:xfrm>
                <a:off x="6840" y="2537640"/>
                <a:ext cx="1825560" cy="1233000"/>
                <a:chOff x="6840" y="2537640"/>
                <a:chExt cx="1825560" cy="1233000"/>
              </a:xfrm>
            </p:grpSpPr>
            <p:sp>
              <p:nvSpPr>
                <p:cNvPr id="211" name="Rectangle 21"/>
                <p:cNvSpPr/>
                <p:nvPr/>
              </p:nvSpPr>
              <p:spPr>
                <a:xfrm>
                  <a:off x="109080" y="2537640"/>
                  <a:ext cx="1620720" cy="123300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You ______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Rectangle 22"/>
                <p:cNvSpPr/>
                <p:nvPr/>
              </p:nvSpPr>
              <p:spPr>
                <a:xfrm>
                  <a:off x="6840" y="2537640"/>
                  <a:ext cx="1825560" cy="123300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3" name="Group 23"/>
              <p:cNvGrpSpPr/>
              <p:nvPr/>
            </p:nvGrpSpPr>
            <p:grpSpPr>
              <a:xfrm>
                <a:off x="1832760" y="2537640"/>
                <a:ext cx="1825200" cy="1233000"/>
                <a:chOff x="1832760" y="2537640"/>
                <a:chExt cx="1825200" cy="1233000"/>
              </a:xfrm>
            </p:grpSpPr>
            <p:sp>
              <p:nvSpPr>
                <p:cNvPr id="214" name="Rectangle 24"/>
                <p:cNvSpPr/>
                <p:nvPr/>
              </p:nvSpPr>
              <p:spPr>
                <a:xfrm>
                  <a:off x="1935000" y="2537640"/>
                  <a:ext cx="1620360" cy="123300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Rectangle 25"/>
                <p:cNvSpPr/>
                <p:nvPr/>
              </p:nvSpPr>
              <p:spPr>
                <a:xfrm>
                  <a:off x="1832760" y="2537640"/>
                  <a:ext cx="1825200" cy="123300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6" name="Group 26"/>
              <p:cNvGrpSpPr/>
              <p:nvPr/>
            </p:nvGrpSpPr>
            <p:grpSpPr>
              <a:xfrm>
                <a:off x="3658320" y="2537640"/>
                <a:ext cx="1825560" cy="1233000"/>
                <a:chOff x="3658320" y="2537640"/>
                <a:chExt cx="1825560" cy="1233000"/>
              </a:xfrm>
            </p:grpSpPr>
            <p:sp>
              <p:nvSpPr>
                <p:cNvPr id="217" name="Rectangle 27"/>
                <p:cNvSpPr/>
                <p:nvPr/>
              </p:nvSpPr>
              <p:spPr>
                <a:xfrm>
                  <a:off x="3760560" y="2537640"/>
                  <a:ext cx="1620720" cy="123300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Rectangle 28"/>
                <p:cNvSpPr/>
                <p:nvPr/>
              </p:nvSpPr>
              <p:spPr>
                <a:xfrm>
                  <a:off x="3658320" y="2537640"/>
                  <a:ext cx="1825560" cy="123300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9" name="Group 29"/>
              <p:cNvGrpSpPr/>
              <p:nvPr/>
            </p:nvGrpSpPr>
            <p:grpSpPr>
              <a:xfrm>
                <a:off x="5484600" y="2537640"/>
                <a:ext cx="1825560" cy="1233000"/>
                <a:chOff x="5484600" y="2537640"/>
                <a:chExt cx="1825560" cy="1233000"/>
              </a:xfrm>
            </p:grpSpPr>
            <p:sp>
              <p:nvSpPr>
                <p:cNvPr id="220" name="Rectangle 30"/>
                <p:cNvSpPr/>
                <p:nvPr/>
              </p:nvSpPr>
              <p:spPr>
                <a:xfrm>
                  <a:off x="5586840" y="2537640"/>
                  <a:ext cx="1620720" cy="123300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Rectangle 31"/>
                <p:cNvSpPr/>
                <p:nvPr/>
              </p:nvSpPr>
              <p:spPr>
                <a:xfrm>
                  <a:off x="5484600" y="2537640"/>
                  <a:ext cx="1825560" cy="123300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2" name="Group 32"/>
              <p:cNvGrpSpPr/>
              <p:nvPr/>
            </p:nvGrpSpPr>
            <p:grpSpPr>
              <a:xfrm>
                <a:off x="7310520" y="2537640"/>
                <a:ext cx="1825200" cy="1233000"/>
                <a:chOff x="7310520" y="2537640"/>
                <a:chExt cx="1825200" cy="1233000"/>
              </a:xfrm>
            </p:grpSpPr>
            <p:sp>
              <p:nvSpPr>
                <p:cNvPr id="223" name="Rectangle 33"/>
                <p:cNvSpPr/>
                <p:nvPr/>
              </p:nvSpPr>
              <p:spPr>
                <a:xfrm>
                  <a:off x="7412760" y="2537640"/>
                  <a:ext cx="1620360" cy="123300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Rectangle 34"/>
                <p:cNvSpPr/>
                <p:nvPr/>
              </p:nvSpPr>
              <p:spPr>
                <a:xfrm>
                  <a:off x="7310520" y="2537640"/>
                  <a:ext cx="1825200" cy="123300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5" name="Group 35"/>
              <p:cNvGrpSpPr/>
              <p:nvPr/>
            </p:nvGrpSpPr>
            <p:grpSpPr>
              <a:xfrm>
                <a:off x="6840" y="3771720"/>
                <a:ext cx="1825560" cy="1232280"/>
                <a:chOff x="6840" y="3771720"/>
                <a:chExt cx="1825560" cy="1232280"/>
              </a:xfrm>
            </p:grpSpPr>
            <p:sp>
              <p:nvSpPr>
                <p:cNvPr id="226" name="Rectangle 36"/>
                <p:cNvSpPr/>
                <p:nvPr/>
              </p:nvSpPr>
              <p:spPr>
                <a:xfrm>
                  <a:off x="109080" y="3771720"/>
                  <a:ext cx="1620720" cy="123228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Your father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Rectangle 37"/>
                <p:cNvSpPr/>
                <p:nvPr/>
              </p:nvSpPr>
              <p:spPr>
                <a:xfrm>
                  <a:off x="6840" y="3771720"/>
                  <a:ext cx="1825560" cy="123228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8" name="Group 38"/>
              <p:cNvGrpSpPr/>
              <p:nvPr/>
            </p:nvGrpSpPr>
            <p:grpSpPr>
              <a:xfrm>
                <a:off x="1832760" y="3771720"/>
                <a:ext cx="1825200" cy="1232280"/>
                <a:chOff x="1832760" y="3771720"/>
                <a:chExt cx="1825200" cy="1232280"/>
              </a:xfrm>
            </p:grpSpPr>
            <p:sp>
              <p:nvSpPr>
                <p:cNvPr id="229" name="Rectangle 39"/>
                <p:cNvSpPr/>
                <p:nvPr/>
              </p:nvSpPr>
              <p:spPr>
                <a:xfrm>
                  <a:off x="1935000" y="3771720"/>
                  <a:ext cx="1620360" cy="123228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Rectangle 40"/>
                <p:cNvSpPr/>
                <p:nvPr/>
              </p:nvSpPr>
              <p:spPr>
                <a:xfrm>
                  <a:off x="1832760" y="3771720"/>
                  <a:ext cx="1825200" cy="123228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1" name="Group 41"/>
              <p:cNvGrpSpPr/>
              <p:nvPr/>
            </p:nvGrpSpPr>
            <p:grpSpPr>
              <a:xfrm>
                <a:off x="3658320" y="3771720"/>
                <a:ext cx="1825560" cy="1232280"/>
                <a:chOff x="3658320" y="3771720"/>
                <a:chExt cx="1825560" cy="1232280"/>
              </a:xfrm>
            </p:grpSpPr>
            <p:sp>
              <p:nvSpPr>
                <p:cNvPr id="232" name="Rectangle 42"/>
                <p:cNvSpPr/>
                <p:nvPr/>
              </p:nvSpPr>
              <p:spPr>
                <a:xfrm>
                  <a:off x="3760560" y="3771720"/>
                  <a:ext cx="1620720" cy="123228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Rectangle 43"/>
                <p:cNvSpPr/>
                <p:nvPr/>
              </p:nvSpPr>
              <p:spPr>
                <a:xfrm>
                  <a:off x="3658320" y="3771720"/>
                  <a:ext cx="1825560" cy="123228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4" name="Group 44"/>
              <p:cNvGrpSpPr/>
              <p:nvPr/>
            </p:nvGrpSpPr>
            <p:grpSpPr>
              <a:xfrm>
                <a:off x="5484600" y="3771720"/>
                <a:ext cx="1825560" cy="1232280"/>
                <a:chOff x="5484600" y="3771720"/>
                <a:chExt cx="1825560" cy="1232280"/>
              </a:xfrm>
            </p:grpSpPr>
            <p:sp>
              <p:nvSpPr>
                <p:cNvPr id="235" name="Rectangle 45"/>
                <p:cNvSpPr/>
                <p:nvPr/>
              </p:nvSpPr>
              <p:spPr>
                <a:xfrm>
                  <a:off x="5586840" y="3771720"/>
                  <a:ext cx="1620720" cy="123228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Rectangle 46"/>
                <p:cNvSpPr/>
                <p:nvPr/>
              </p:nvSpPr>
              <p:spPr>
                <a:xfrm>
                  <a:off x="5484600" y="3771720"/>
                  <a:ext cx="1825560" cy="123228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7" name="Group 47"/>
              <p:cNvGrpSpPr/>
              <p:nvPr/>
            </p:nvGrpSpPr>
            <p:grpSpPr>
              <a:xfrm>
                <a:off x="7310520" y="3771720"/>
                <a:ext cx="1825200" cy="1232280"/>
                <a:chOff x="7310520" y="3771720"/>
                <a:chExt cx="1825200" cy="1232280"/>
              </a:xfrm>
            </p:grpSpPr>
            <p:sp>
              <p:nvSpPr>
                <p:cNvPr id="238" name="Rectangle 48"/>
                <p:cNvSpPr/>
                <p:nvPr/>
              </p:nvSpPr>
              <p:spPr>
                <a:xfrm>
                  <a:off x="7412760" y="3771720"/>
                  <a:ext cx="1620360" cy="123228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Rectangle 49"/>
                <p:cNvSpPr/>
                <p:nvPr/>
              </p:nvSpPr>
              <p:spPr>
                <a:xfrm>
                  <a:off x="7310520" y="3771720"/>
                  <a:ext cx="1825200" cy="123228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0" name="Group 50"/>
              <p:cNvGrpSpPr/>
              <p:nvPr/>
            </p:nvGrpSpPr>
            <p:grpSpPr>
              <a:xfrm>
                <a:off x="6840" y="5004720"/>
                <a:ext cx="1825560" cy="1232280"/>
                <a:chOff x="6840" y="5004720"/>
                <a:chExt cx="1825560" cy="1232280"/>
              </a:xfrm>
            </p:grpSpPr>
            <p:sp>
              <p:nvSpPr>
                <p:cNvPr id="241" name="Rectangle 51"/>
                <p:cNvSpPr/>
                <p:nvPr/>
              </p:nvSpPr>
              <p:spPr>
                <a:xfrm>
                  <a:off x="109080" y="5004720"/>
                  <a:ext cx="1620720" cy="123228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Your mother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Rectangle 52"/>
                <p:cNvSpPr/>
                <p:nvPr/>
              </p:nvSpPr>
              <p:spPr>
                <a:xfrm>
                  <a:off x="6840" y="5004720"/>
                  <a:ext cx="1825560" cy="123228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3" name="Group 53"/>
              <p:cNvGrpSpPr/>
              <p:nvPr/>
            </p:nvGrpSpPr>
            <p:grpSpPr>
              <a:xfrm>
                <a:off x="1832760" y="5004720"/>
                <a:ext cx="1825200" cy="1232280"/>
                <a:chOff x="1832760" y="5004720"/>
                <a:chExt cx="1825200" cy="1232280"/>
              </a:xfrm>
            </p:grpSpPr>
            <p:sp>
              <p:nvSpPr>
                <p:cNvPr id="244" name="Rectangle 54"/>
                <p:cNvSpPr/>
                <p:nvPr/>
              </p:nvSpPr>
              <p:spPr>
                <a:xfrm>
                  <a:off x="1935000" y="5004720"/>
                  <a:ext cx="1620360" cy="123228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Rectangle 55"/>
                <p:cNvSpPr/>
                <p:nvPr/>
              </p:nvSpPr>
              <p:spPr>
                <a:xfrm>
                  <a:off x="1832760" y="5004720"/>
                  <a:ext cx="1825200" cy="123228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6" name="Group 56"/>
              <p:cNvGrpSpPr/>
              <p:nvPr/>
            </p:nvGrpSpPr>
            <p:grpSpPr>
              <a:xfrm>
                <a:off x="3658320" y="5004720"/>
                <a:ext cx="1825560" cy="1232280"/>
                <a:chOff x="3658320" y="5004720"/>
                <a:chExt cx="1825560" cy="1232280"/>
              </a:xfrm>
            </p:grpSpPr>
            <p:sp>
              <p:nvSpPr>
                <p:cNvPr id="247" name="Rectangle 57"/>
                <p:cNvSpPr/>
                <p:nvPr/>
              </p:nvSpPr>
              <p:spPr>
                <a:xfrm>
                  <a:off x="3760560" y="5004720"/>
                  <a:ext cx="1620720" cy="123228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Rectangle 58"/>
                <p:cNvSpPr/>
                <p:nvPr/>
              </p:nvSpPr>
              <p:spPr>
                <a:xfrm>
                  <a:off x="3658320" y="5004720"/>
                  <a:ext cx="1825560" cy="123228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9" name="Group 59"/>
              <p:cNvGrpSpPr/>
              <p:nvPr/>
            </p:nvGrpSpPr>
            <p:grpSpPr>
              <a:xfrm>
                <a:off x="5484600" y="5004720"/>
                <a:ext cx="1825560" cy="1232280"/>
                <a:chOff x="5484600" y="5004720"/>
                <a:chExt cx="1825560" cy="1232280"/>
              </a:xfrm>
            </p:grpSpPr>
            <p:sp>
              <p:nvSpPr>
                <p:cNvPr id="250" name="Rectangle 60"/>
                <p:cNvSpPr/>
                <p:nvPr/>
              </p:nvSpPr>
              <p:spPr>
                <a:xfrm>
                  <a:off x="5586840" y="5004720"/>
                  <a:ext cx="1620720" cy="123228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Rectangle 61"/>
                <p:cNvSpPr/>
                <p:nvPr/>
              </p:nvSpPr>
              <p:spPr>
                <a:xfrm>
                  <a:off x="5484600" y="5004720"/>
                  <a:ext cx="1825560" cy="123228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2" name="Group 62"/>
              <p:cNvGrpSpPr/>
              <p:nvPr/>
            </p:nvGrpSpPr>
            <p:grpSpPr>
              <a:xfrm>
                <a:off x="7310520" y="5004720"/>
                <a:ext cx="1825200" cy="1232280"/>
                <a:chOff x="7310520" y="5004720"/>
                <a:chExt cx="1825200" cy="1232280"/>
              </a:xfrm>
            </p:grpSpPr>
            <p:sp>
              <p:nvSpPr>
                <p:cNvPr id="253" name="Rectangle 63"/>
                <p:cNvSpPr/>
                <p:nvPr/>
              </p:nvSpPr>
              <p:spPr>
                <a:xfrm>
                  <a:off x="7412760" y="5004720"/>
                  <a:ext cx="1620360" cy="123228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Rectangle 64"/>
                <p:cNvSpPr/>
                <p:nvPr/>
              </p:nvSpPr>
              <p:spPr>
                <a:xfrm>
                  <a:off x="7310520" y="5004720"/>
                  <a:ext cx="1825200" cy="1232280"/>
                </a:xfrm>
                <a:prstGeom prst="rect">
                  <a:avLst/>
                </a:prstGeom>
                <a:noFill/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55" name="Rectangle 65"/>
            <p:cNvSpPr/>
            <p:nvPr/>
          </p:nvSpPr>
          <p:spPr>
            <a:xfrm>
              <a:off x="0" y="1295280"/>
              <a:ext cx="9143640" cy="49525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0" y="0"/>
            <a:ext cx="9144000" cy="669780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3"/>
          <p:cNvSpPr/>
          <p:nvPr/>
        </p:nvSpPr>
        <p:spPr>
          <a:xfrm>
            <a:off x="76320" y="76320"/>
            <a:ext cx="3581280" cy="1066680"/>
          </a:xfrm>
          <a:prstGeom prst="horizontalScroll">
            <a:avLst>
              <a:gd name="adj" fmla="val 16550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  <a:ea typeface="华文彩云"/>
              </a:rPr>
              <a:t>Listen &amp; match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523880" y="2742840"/>
            <a:ext cx="3353040" cy="1600200"/>
            <a:chOff x="1523880" y="2742840"/>
            <a:chExt cx="3353040" cy="1600200"/>
          </a:xfrm>
        </p:grpSpPr>
        <p:sp>
          <p:nvSpPr>
            <p:cNvPr id="260" name="Line 5"/>
            <p:cNvSpPr/>
            <p:nvPr/>
          </p:nvSpPr>
          <p:spPr>
            <a:xfrm flipH="1" flipV="1">
              <a:off x="1523880" y="2742840"/>
              <a:ext cx="3353040" cy="1600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 rot="10800000">
              <a:off x="1523880" y="2742480"/>
              <a:ext cx="335304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599840" y="2895120"/>
            <a:ext cx="2971800" cy="2667240"/>
            <a:chOff x="1599840" y="2895120"/>
            <a:chExt cx="2971800" cy="2667240"/>
          </a:xfrm>
        </p:grpSpPr>
        <p:sp>
          <p:nvSpPr>
            <p:cNvPr id="263" name="Line 6"/>
            <p:cNvSpPr/>
            <p:nvPr/>
          </p:nvSpPr>
          <p:spPr>
            <a:xfrm flipH="1" flipV="1">
              <a:off x="1599840" y="2895120"/>
              <a:ext cx="2971800" cy="2667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 rot="10800000">
              <a:off x="1599840" y="2894760"/>
              <a:ext cx="2971800" cy="266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599840" y="762120"/>
            <a:ext cx="3505680" cy="1447560"/>
            <a:chOff x="1599840" y="762120"/>
            <a:chExt cx="3505680" cy="1447560"/>
          </a:xfrm>
        </p:grpSpPr>
        <p:sp>
          <p:nvSpPr>
            <p:cNvPr id="266" name="Line 7"/>
            <p:cNvSpPr/>
            <p:nvPr/>
          </p:nvSpPr>
          <p:spPr>
            <a:xfrm flipH="1">
              <a:off x="1599840" y="762120"/>
              <a:ext cx="3505320" cy="1447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1600200" y="762120"/>
              <a:ext cx="350532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600200" y="2590560"/>
            <a:ext cx="4114800" cy="1447560"/>
            <a:chOff x="1600200" y="2590560"/>
            <a:chExt cx="4114800" cy="1447560"/>
          </a:xfrm>
        </p:grpSpPr>
        <p:sp>
          <p:nvSpPr>
            <p:cNvPr id="269" name="Line 8"/>
            <p:cNvSpPr/>
            <p:nvPr/>
          </p:nvSpPr>
          <p:spPr>
            <a:xfrm flipH="1" flipV="1">
              <a:off x="1600200" y="2590560"/>
              <a:ext cx="4114800" cy="1447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 rot="10800000">
              <a:off x="1600200" y="2590200"/>
              <a:ext cx="411480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962160" y="4419720"/>
            <a:ext cx="2361960" cy="914400"/>
            <a:chOff x="3962160" y="4419720"/>
            <a:chExt cx="2361960" cy="914400"/>
          </a:xfrm>
        </p:grpSpPr>
        <p:sp>
          <p:nvSpPr>
            <p:cNvPr id="272" name="Line 9"/>
            <p:cNvSpPr/>
            <p:nvPr/>
          </p:nvSpPr>
          <p:spPr>
            <a:xfrm flipH="1" flipV="1">
              <a:off x="3962160" y="4419720"/>
              <a:ext cx="2361960" cy="914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 rot="10800000">
              <a:off x="3962160" y="4419720"/>
              <a:ext cx="23619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885840" y="2590920"/>
            <a:ext cx="2514960" cy="1752480"/>
            <a:chOff x="3885840" y="2590920"/>
            <a:chExt cx="2514960" cy="1752480"/>
          </a:xfrm>
        </p:grpSpPr>
        <p:sp>
          <p:nvSpPr>
            <p:cNvPr id="275" name="Line 10"/>
            <p:cNvSpPr/>
            <p:nvPr/>
          </p:nvSpPr>
          <p:spPr>
            <a:xfrm flipH="1">
              <a:off x="3885840" y="2590920"/>
              <a:ext cx="2514600" cy="1752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3886200" y="2590920"/>
              <a:ext cx="2514600" cy="1752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809880" y="1295280"/>
            <a:ext cx="2819520" cy="2971800"/>
            <a:chOff x="3809880" y="1295280"/>
            <a:chExt cx="2819520" cy="2971800"/>
          </a:xfrm>
        </p:grpSpPr>
        <p:sp>
          <p:nvSpPr>
            <p:cNvPr id="278" name="Line 11"/>
            <p:cNvSpPr/>
            <p:nvPr/>
          </p:nvSpPr>
          <p:spPr>
            <a:xfrm flipH="1">
              <a:off x="3809880" y="1295280"/>
              <a:ext cx="2819520" cy="297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3809880" y="1295280"/>
              <a:ext cx="281952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657600" y="3124080"/>
            <a:ext cx="914400" cy="1067040"/>
            <a:chOff x="3657600" y="3124080"/>
            <a:chExt cx="914400" cy="1067040"/>
          </a:xfrm>
        </p:grpSpPr>
        <p:sp>
          <p:nvSpPr>
            <p:cNvPr id="281" name="Line 12"/>
            <p:cNvSpPr/>
            <p:nvPr/>
          </p:nvSpPr>
          <p:spPr>
            <a:xfrm flipH="1">
              <a:off x="3657600" y="3124080"/>
              <a:ext cx="914400" cy="1067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3657600" y="3124080"/>
              <a:ext cx="91440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strips dir="l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0:46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08Z</dcterms:modified>
  <cp:revision>5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