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applause.wav" ContentType="audio/x-wav"/>
  <Override PartName="/ppt/media/image27.jpeg" ContentType="image/jpeg"/>
  <Override PartName="/ppt/media/image37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744-F323-49F1-99A8-477BB003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2CD-6EA5-4FF9-9D1F-8D418436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1AA-4C87-4A3D-99E3-90D8B710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125-5A86-4349-BAAC-96783605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A06C-18C0-48EB-8659-29BFC9D3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9345-9C17-4734-9113-791F8649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89FD-A9D3-498E-B03F-BA5EAD98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29AB-2842-4DD5-B0A5-A65AD7E3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CED9-ACD4-4469-AD76-491D39EE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215-460D-48B1-A57C-F08C62BE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33FE-DD03-4C8F-84F4-5BC492F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794-E924-4010-BD43-29595560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0EDE-0A6A-438C-8DCD-BF6E1B3C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1C5-F238-48B9-A284-BA35702F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95B4-CC3E-4D43-A350-D65360E5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78A5-331F-41F8-8684-3FC4FCFF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4D0C-DD0D-4D92-B729-6166ABB3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80B-5F71-45A4-B61C-532FE31E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BF0-21B7-47F6-BFF0-A4C5077B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446-37EC-4141-A4D4-8113DC1C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57D-2C29-43AD-B197-461050BA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F516-E464-421C-9693-0A290B5B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682-F717-4B97-B6D0-7BC0B7A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C23-B93A-411A-A807-76220EF8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A887-B409-4367-80C7-C87F77F25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F152-D1CD-4142-BDB1-AB3D9106F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威尼斯小船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Text Box 3" descr=""/>
          <p:cNvPicPr/>
          <p:nvPr/>
        </p:nvPicPr>
        <p:blipFill>
          <a:blip r:embed="rId2"/>
          <a:stretch/>
        </p:blipFill>
        <p:spPr>
          <a:xfrm>
            <a:off x="682560" y="4365720"/>
            <a:ext cx="7721640" cy="701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4869000"/>
            <a:ext cx="88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，整体感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34100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威尼斯美在哪里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826920" y="2276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威尼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城市风光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威尼斯小艇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03280" y="335772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河道纵横交叉，精巧灵活的小艇来回穿梭，形式不同的石桥，耸立于两岸的古建筑，夜色中的威尼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971640" y="1268280"/>
            <a:ext cx="73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一段（１）讲小艇是威尼斯的交通工具，是全文的总起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二段（２、３）讲小艇的样子和坐在舱里舒服的感觉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三段（４）讲船夫驾驶小艇的熟练技术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第四段（５、６）讲小艇在威尼斯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55640" y="476280"/>
            <a:ext cx="804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说说每个自然段主要写了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762120" y="2590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Times New Roman"/>
                <a:ea typeface="华文细黑"/>
              </a:rPr>
              <a:t>         </a:t>
            </a: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华文细黑"/>
              </a:rPr>
              <a:t>课文通过介绍威尼斯小艇的样子、船夫驾驶小艇的高超技术以及小艇的重要作用，为我们展示了威尼斯这座水上名城特有的风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32000" y="549360"/>
            <a:ext cx="70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读课文，标出自然段的序号，把不懂的词句画出来。再想想课文主要写了些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15"/>
          <p:cNvPicPr/>
          <p:nvPr/>
        </p:nvPicPr>
        <p:blipFill>
          <a:blip r:embed="rId1"/>
          <a:stretch/>
        </p:blipFill>
        <p:spPr>
          <a:xfrm>
            <a:off x="-477720" y="0"/>
            <a:ext cx="98614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58440" y="1092240"/>
            <a:ext cx="794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第一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威尼斯是个怎样的城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的主要交通工具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拿小艇比作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39640" y="378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第二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：威尼斯的小艇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威尼斯小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0"/>
            <a:ext cx="8820000" cy="17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威尼斯是世界闻名的水上城市，河道纵横交叉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艇成了主要的交通工具，等于大街上的汽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15"/>
          <p:cNvPicPr/>
          <p:nvPr/>
        </p:nvPicPr>
        <p:blipFill>
          <a:blip r:embed="rId1"/>
          <a:stretch/>
        </p:blipFill>
        <p:spPr>
          <a:xfrm>
            <a:off x="-477720" y="0"/>
            <a:ext cx="986148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855720" y="273060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威尼斯的小艇有二三十英尺长，又窄又深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有点像独木舟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船头和船艄向上翘起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挂在天边的新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行动轻快灵活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仿佛田沟里的水蛇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11360" y="5079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威尼斯的小艇有二三十英尺长，又窄又深。船头和船艄向上翘起，行动轻快灵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33640" y="1788480"/>
            <a:ext cx="5153400" cy="1806120"/>
            <a:chOff x="233640" y="1788480"/>
            <a:chExt cx="5153400" cy="1806120"/>
          </a:xfrm>
        </p:grpSpPr>
        <p:grpSp>
          <p:nvGrpSpPr>
            <p:cNvPr id="121" name="Group 3"/>
            <p:cNvGrpSpPr/>
            <p:nvPr/>
          </p:nvGrpSpPr>
          <p:grpSpPr>
            <a:xfrm>
              <a:off x="233640" y="1788480"/>
              <a:ext cx="5153400" cy="1399680"/>
              <a:chOff x="233640" y="1788480"/>
              <a:chExt cx="5153400" cy="1399680"/>
            </a:xfrm>
          </p:grpSpPr>
          <p:sp>
            <p:nvSpPr>
              <p:cNvPr id="122" name="Freeform 4"/>
              <p:cNvSpPr/>
              <p:nvPr/>
            </p:nvSpPr>
            <p:spPr>
              <a:xfrm rot="16537800">
                <a:off x="93240" y="2009880"/>
                <a:ext cx="1062000" cy="680400"/>
              </a:xfrm>
              <a:custGeom>
                <a:avLst/>
                <a:gdLst/>
                <a:ahLst/>
                <a:rect l="l" t="t" r="r" b="b"/>
                <a:pathLst>
                  <a:path w="392" h="496">
                    <a:moveTo>
                      <a:pt x="0" y="400"/>
                    </a:moveTo>
                    <a:cubicBezTo>
                      <a:pt x="0" y="336"/>
                      <a:pt x="32" y="128"/>
                      <a:pt x="96" y="64"/>
                    </a:cubicBezTo>
                    <a:cubicBezTo>
                      <a:pt x="160" y="0"/>
                      <a:pt x="376" y="8"/>
                      <a:pt x="384" y="16"/>
                    </a:cubicBezTo>
                    <a:cubicBezTo>
                      <a:pt x="392" y="24"/>
                      <a:pt x="192" y="40"/>
                      <a:pt x="144" y="112"/>
                    </a:cubicBezTo>
                    <a:cubicBezTo>
                      <a:pt x="96" y="184"/>
                      <a:pt x="120" y="400"/>
                      <a:pt x="96" y="448"/>
                    </a:cubicBezTo>
                    <a:cubicBezTo>
                      <a:pt x="72" y="496"/>
                      <a:pt x="0" y="464"/>
                      <a:pt x="0" y="400"/>
                    </a:cubicBezTo>
                    <a:close/>
                  </a:path>
                </a:pathLst>
              </a:cu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5"/>
              <p:cNvSpPr/>
              <p:nvPr/>
            </p:nvSpPr>
            <p:spPr>
              <a:xfrm rot="478800">
                <a:off x="4397760" y="1974600"/>
                <a:ext cx="913320" cy="1155600"/>
              </a:xfrm>
              <a:custGeom>
                <a:avLst/>
                <a:gdLst/>
                <a:ahLst/>
                <a:rect l="l" t="t" r="r" b="b"/>
                <a:pathLst>
                  <a:path w="392" h="496">
                    <a:moveTo>
                      <a:pt x="0" y="400"/>
                    </a:moveTo>
                    <a:cubicBezTo>
                      <a:pt x="0" y="336"/>
                      <a:pt x="32" y="128"/>
                      <a:pt x="96" y="64"/>
                    </a:cubicBezTo>
                    <a:cubicBezTo>
                      <a:pt x="160" y="0"/>
                      <a:pt x="376" y="8"/>
                      <a:pt x="384" y="16"/>
                    </a:cubicBezTo>
                    <a:cubicBezTo>
                      <a:pt x="392" y="24"/>
                      <a:pt x="192" y="40"/>
                      <a:pt x="144" y="112"/>
                    </a:cubicBezTo>
                    <a:cubicBezTo>
                      <a:pt x="96" y="184"/>
                      <a:pt x="120" y="400"/>
                      <a:pt x="96" y="448"/>
                    </a:cubicBezTo>
                    <a:cubicBezTo>
                      <a:pt x="72" y="496"/>
                      <a:pt x="0" y="464"/>
                      <a:pt x="0" y="400"/>
                    </a:cubicBezTo>
                    <a:close/>
                  </a:path>
                </a:pathLst>
              </a:cu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AutoShape 6"/>
              <p:cNvSpPr/>
              <p:nvPr/>
            </p:nvSpPr>
            <p:spPr>
              <a:xfrm>
                <a:off x="4704120" y="2226960"/>
                <a:ext cx="304560" cy="7560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AutoShape 7"/>
              <p:cNvSpPr/>
              <p:nvPr/>
            </p:nvSpPr>
            <p:spPr>
              <a:xfrm>
                <a:off x="4648680" y="2442240"/>
                <a:ext cx="304200" cy="7596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8"/>
              <p:cNvSpPr/>
              <p:nvPr/>
            </p:nvSpPr>
            <p:spPr>
              <a:xfrm>
                <a:off x="4572360" y="2670480"/>
                <a:ext cx="304560" cy="75960"/>
              </a:xfrm>
              <a:prstGeom prst="flowChartTerminator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9"/>
              <p:cNvSpPr/>
              <p:nvPr/>
            </p:nvSpPr>
            <p:spPr>
              <a:xfrm>
                <a:off x="4938840" y="1877760"/>
                <a:ext cx="228240" cy="228240"/>
              </a:xfrm>
              <a:prstGeom prst="ellipse">
                <a:avLst/>
              </a:prstGeom>
              <a:solidFill>
                <a:srgbClr val="66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AutoShape 10"/>
            <p:cNvSpPr/>
            <p:nvPr/>
          </p:nvSpPr>
          <p:spPr>
            <a:xfrm rot="16252200">
              <a:off x="2182320" y="1162440"/>
              <a:ext cx="842040" cy="3962160"/>
            </a:xfrm>
            <a:custGeom>
              <a:avLst/>
              <a:gdLst>
                <a:gd name="textAreaLeft" fmla="*/ 229680 w 842040"/>
                <a:gd name="textAreaRight" fmla="*/ 583200 w 842040"/>
                <a:gd name="textAreaTop" fmla="*/ 621360 h 3962160"/>
                <a:gd name="textAreaBottom" fmla="*/ 3340800 h 396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281" y="2684"/>
                    <a:pt x="14962" y="5080"/>
                    <a:pt x="14962" y="10800"/>
                  </a:cubicBezTo>
                  <a:cubicBezTo>
                    <a:pt x="14962" y="16520"/>
                    <a:pt x="18281" y="1891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7162920" y="380880"/>
            <a:ext cx="1752480" cy="1447920"/>
            <a:chOff x="7162920" y="380880"/>
            <a:chExt cx="1752480" cy="1447920"/>
          </a:xfrm>
        </p:grpSpPr>
        <p:sp>
          <p:nvSpPr>
            <p:cNvPr id="130" name="AutoShape 12"/>
            <p:cNvSpPr/>
            <p:nvPr/>
          </p:nvSpPr>
          <p:spPr>
            <a:xfrm flipH="1">
              <a:off x="7848000" y="380880"/>
              <a:ext cx="533160" cy="129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3"/>
            <p:cNvSpPr/>
            <p:nvPr/>
          </p:nvSpPr>
          <p:spPr>
            <a:xfrm>
              <a:off x="7162920" y="380880"/>
              <a:ext cx="457200" cy="457200"/>
            </a:xfrm>
            <a:custGeom>
              <a:avLst/>
              <a:gdLst>
                <a:gd name="textAreaLeft" fmla="*/ 207360 w 457200"/>
                <a:gd name="textAreaRight" fmla="*/ 249840 w 457200"/>
                <a:gd name="textAreaTop" fmla="*/ 207360 h 457200"/>
                <a:gd name="textAreaBottom" fmla="*/ 2498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05" y="9805"/>
                  </a:lnTo>
                  <a:lnTo>
                    <a:pt x="10800" y="0"/>
                  </a:lnTo>
                  <a:lnTo>
                    <a:pt x="11795" y="9805"/>
                  </a:lnTo>
                  <a:lnTo>
                    <a:pt x="21600" y="10800"/>
                  </a:lnTo>
                  <a:lnTo>
                    <a:pt x="11795" y="11795"/>
                  </a:lnTo>
                  <a:lnTo>
                    <a:pt x="10800" y="21600"/>
                  </a:lnTo>
                  <a:lnTo>
                    <a:pt x="9805" y="1179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4"/>
            <p:cNvSpPr/>
            <p:nvPr/>
          </p:nvSpPr>
          <p:spPr>
            <a:xfrm>
              <a:off x="7391520" y="685800"/>
              <a:ext cx="457200" cy="457200"/>
            </a:xfrm>
            <a:custGeom>
              <a:avLst/>
              <a:gdLst>
                <a:gd name="textAreaLeft" fmla="*/ 207360 w 457200"/>
                <a:gd name="textAreaRight" fmla="*/ 249840 w 457200"/>
                <a:gd name="textAreaTop" fmla="*/ 207360 h 457200"/>
                <a:gd name="textAreaBottom" fmla="*/ 2498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05" y="9805"/>
                  </a:lnTo>
                  <a:lnTo>
                    <a:pt x="10800" y="0"/>
                  </a:lnTo>
                  <a:lnTo>
                    <a:pt x="11795" y="9805"/>
                  </a:lnTo>
                  <a:lnTo>
                    <a:pt x="21600" y="10800"/>
                  </a:lnTo>
                  <a:lnTo>
                    <a:pt x="11795" y="11795"/>
                  </a:lnTo>
                  <a:lnTo>
                    <a:pt x="10800" y="21600"/>
                  </a:lnTo>
                  <a:lnTo>
                    <a:pt x="9805" y="1179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5"/>
            <p:cNvSpPr/>
            <p:nvPr/>
          </p:nvSpPr>
          <p:spPr>
            <a:xfrm>
              <a:off x="8305920" y="1371600"/>
              <a:ext cx="457200" cy="457200"/>
            </a:xfrm>
            <a:custGeom>
              <a:avLst/>
              <a:gdLst>
                <a:gd name="textAreaLeft" fmla="*/ 207360 w 457200"/>
                <a:gd name="textAreaRight" fmla="*/ 249840 w 457200"/>
                <a:gd name="textAreaTop" fmla="*/ 207360 h 457200"/>
                <a:gd name="textAreaBottom" fmla="*/ 2498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05" y="9805"/>
                  </a:lnTo>
                  <a:lnTo>
                    <a:pt x="10800" y="0"/>
                  </a:lnTo>
                  <a:lnTo>
                    <a:pt x="11795" y="9805"/>
                  </a:lnTo>
                  <a:lnTo>
                    <a:pt x="21600" y="10800"/>
                  </a:lnTo>
                  <a:lnTo>
                    <a:pt x="11795" y="11795"/>
                  </a:lnTo>
                  <a:lnTo>
                    <a:pt x="10800" y="21600"/>
                  </a:lnTo>
                  <a:lnTo>
                    <a:pt x="9805" y="1179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6"/>
            <p:cNvSpPr/>
            <p:nvPr/>
          </p:nvSpPr>
          <p:spPr>
            <a:xfrm>
              <a:off x="8458200" y="457200"/>
              <a:ext cx="457200" cy="457200"/>
            </a:xfrm>
            <a:custGeom>
              <a:avLst/>
              <a:gdLst>
                <a:gd name="textAreaLeft" fmla="*/ 207360 w 457200"/>
                <a:gd name="textAreaRight" fmla="*/ 249840 w 457200"/>
                <a:gd name="textAreaTop" fmla="*/ 207360 h 457200"/>
                <a:gd name="textAreaBottom" fmla="*/ 2498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05" y="9805"/>
                  </a:lnTo>
                  <a:lnTo>
                    <a:pt x="10800" y="0"/>
                  </a:lnTo>
                  <a:lnTo>
                    <a:pt x="11795" y="9805"/>
                  </a:lnTo>
                  <a:lnTo>
                    <a:pt x="21600" y="10800"/>
                  </a:lnTo>
                  <a:lnTo>
                    <a:pt x="11795" y="11795"/>
                  </a:lnTo>
                  <a:lnTo>
                    <a:pt x="10800" y="21600"/>
                  </a:lnTo>
                  <a:lnTo>
                    <a:pt x="9805" y="1179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7"/>
            <p:cNvSpPr/>
            <p:nvPr/>
          </p:nvSpPr>
          <p:spPr>
            <a:xfrm>
              <a:off x="7391520" y="1295280"/>
              <a:ext cx="457200" cy="457200"/>
            </a:xfrm>
            <a:custGeom>
              <a:avLst/>
              <a:gdLst>
                <a:gd name="textAreaLeft" fmla="*/ 207360 w 457200"/>
                <a:gd name="textAreaRight" fmla="*/ 249840 w 457200"/>
                <a:gd name="textAreaTop" fmla="*/ 207360 h 457200"/>
                <a:gd name="textAreaBottom" fmla="*/ 2498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805" y="9805"/>
                  </a:lnTo>
                  <a:lnTo>
                    <a:pt x="10800" y="0"/>
                  </a:lnTo>
                  <a:lnTo>
                    <a:pt x="11795" y="9805"/>
                  </a:lnTo>
                  <a:lnTo>
                    <a:pt x="21600" y="10800"/>
                  </a:lnTo>
                  <a:lnTo>
                    <a:pt x="11795" y="11795"/>
                  </a:lnTo>
                  <a:lnTo>
                    <a:pt x="10800" y="21600"/>
                  </a:lnTo>
                  <a:lnTo>
                    <a:pt x="9805" y="1179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8"/>
          <p:cNvSpPr/>
          <p:nvPr/>
        </p:nvSpPr>
        <p:spPr>
          <a:xfrm>
            <a:off x="762120" y="6094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威尼斯的小艇有二三十英尺长，又窄又深，有点像独木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28800" y="1371600"/>
            <a:ext cx="228600" cy="360"/>
            <a:chOff x="1828800" y="1371600"/>
            <a:chExt cx="228600" cy="360"/>
          </a:xfrm>
        </p:grpSpPr>
        <p:sp>
          <p:nvSpPr>
            <p:cNvPr id="138" name="Line 19"/>
            <p:cNvSpPr/>
            <p:nvPr/>
          </p:nvSpPr>
          <p:spPr>
            <a:xfrm>
              <a:off x="1828800" y="1371600"/>
              <a:ext cx="22860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828800" y="1371600"/>
              <a:ext cx="22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666880" y="1371600"/>
            <a:ext cx="304920" cy="360"/>
            <a:chOff x="2666880" y="1371600"/>
            <a:chExt cx="304920" cy="360"/>
          </a:xfrm>
        </p:grpSpPr>
        <p:sp>
          <p:nvSpPr>
            <p:cNvPr id="141" name="Line 20"/>
            <p:cNvSpPr/>
            <p:nvPr/>
          </p:nvSpPr>
          <p:spPr>
            <a:xfrm>
              <a:off x="2666880" y="1371600"/>
              <a:ext cx="30492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666880" y="13716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352680" y="1371600"/>
            <a:ext cx="304920" cy="360"/>
            <a:chOff x="3352680" y="1371600"/>
            <a:chExt cx="304920" cy="360"/>
          </a:xfrm>
        </p:grpSpPr>
        <p:sp>
          <p:nvSpPr>
            <p:cNvPr id="144" name="Line 21"/>
            <p:cNvSpPr/>
            <p:nvPr/>
          </p:nvSpPr>
          <p:spPr>
            <a:xfrm>
              <a:off x="3352680" y="1371600"/>
              <a:ext cx="30492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352680" y="137160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447920" y="1752480"/>
            <a:ext cx="838080" cy="360"/>
            <a:chOff x="1447920" y="1752480"/>
            <a:chExt cx="838080" cy="360"/>
          </a:xfrm>
        </p:grpSpPr>
        <p:sp>
          <p:nvSpPr>
            <p:cNvPr id="147" name="Line 22"/>
            <p:cNvSpPr/>
            <p:nvPr/>
          </p:nvSpPr>
          <p:spPr>
            <a:xfrm>
              <a:off x="1447920" y="1752480"/>
              <a:ext cx="83808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1447920" y="17524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23"/>
          <p:cNvSpPr/>
          <p:nvPr/>
        </p:nvSpPr>
        <p:spPr>
          <a:xfrm>
            <a:off x="1752480" y="411480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三十英尺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      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3124080"/>
            <a:ext cx="360" cy="1524240"/>
            <a:chOff x="457200" y="3124080"/>
            <a:chExt cx="360" cy="1524240"/>
          </a:xfrm>
        </p:grpSpPr>
        <p:sp>
          <p:nvSpPr>
            <p:cNvPr id="151" name="Line 24"/>
            <p:cNvSpPr/>
            <p:nvPr/>
          </p:nvSpPr>
          <p:spPr>
            <a:xfrm>
              <a:off x="457200" y="3124080"/>
              <a:ext cx="0" cy="152424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57200" y="31240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876920" y="3124080"/>
            <a:ext cx="360" cy="1524240"/>
            <a:chOff x="4876920" y="3124080"/>
            <a:chExt cx="360" cy="1524240"/>
          </a:xfrm>
        </p:grpSpPr>
        <p:sp>
          <p:nvSpPr>
            <p:cNvPr id="154" name="Line 25"/>
            <p:cNvSpPr/>
            <p:nvPr/>
          </p:nvSpPr>
          <p:spPr>
            <a:xfrm>
              <a:off x="4876920" y="3124080"/>
              <a:ext cx="0" cy="152424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4876920" y="31240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57200" y="4648320"/>
            <a:ext cx="4419720" cy="360"/>
            <a:chOff x="457200" y="4648320"/>
            <a:chExt cx="4419720" cy="360"/>
          </a:xfrm>
        </p:grpSpPr>
        <p:sp>
          <p:nvSpPr>
            <p:cNvPr id="157" name="Line 26"/>
            <p:cNvSpPr/>
            <p:nvPr/>
          </p:nvSpPr>
          <p:spPr>
            <a:xfrm>
              <a:off x="457200" y="4648320"/>
              <a:ext cx="441972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457200" y="464832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286000" y="4952880"/>
            <a:ext cx="380880" cy="360"/>
            <a:chOff x="2286000" y="4952880"/>
            <a:chExt cx="380880" cy="360"/>
          </a:xfrm>
        </p:grpSpPr>
        <p:sp>
          <p:nvSpPr>
            <p:cNvPr id="160" name="Line 27"/>
            <p:cNvSpPr/>
            <p:nvPr/>
          </p:nvSpPr>
          <p:spPr>
            <a:xfrm>
              <a:off x="2286000" y="4952880"/>
              <a:ext cx="38088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2286000" y="49528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28"/>
          <p:cNvSpPr/>
          <p:nvPr/>
        </p:nvSpPr>
        <p:spPr>
          <a:xfrm>
            <a:off x="380880" y="5715000"/>
            <a:ext cx="51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行动轻快灵活，仿佛田沟里的水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678168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船头和船艄向上翘起，像挂在天边的新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43000" y="6172200"/>
            <a:ext cx="1143000" cy="360"/>
            <a:chOff x="1143000" y="6172200"/>
            <a:chExt cx="1143000" cy="360"/>
          </a:xfrm>
        </p:grpSpPr>
        <p:sp>
          <p:nvSpPr>
            <p:cNvPr id="165" name="Line 30"/>
            <p:cNvSpPr/>
            <p:nvPr/>
          </p:nvSpPr>
          <p:spPr>
            <a:xfrm>
              <a:off x="1143000" y="6172200"/>
              <a:ext cx="1143000" cy="0"/>
            </a:xfrm>
            <a:prstGeom prst="line">
              <a:avLst/>
            </a:prstGeom>
            <a:ln w="93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143000" y="6172200"/>
              <a:ext cx="1143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19720" y="6172200"/>
            <a:ext cx="609480" cy="360"/>
            <a:chOff x="4419720" y="6172200"/>
            <a:chExt cx="609480" cy="360"/>
          </a:xfrm>
        </p:grpSpPr>
        <p:sp>
          <p:nvSpPr>
            <p:cNvPr id="168" name="Line 31"/>
            <p:cNvSpPr/>
            <p:nvPr/>
          </p:nvSpPr>
          <p:spPr>
            <a:xfrm>
              <a:off x="4419720" y="6172200"/>
              <a:ext cx="60948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4419720" y="61722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3886200"/>
            <a:ext cx="533160" cy="360"/>
            <a:chOff x="7162920" y="3886200"/>
            <a:chExt cx="533160" cy="360"/>
          </a:xfrm>
        </p:grpSpPr>
        <p:sp>
          <p:nvSpPr>
            <p:cNvPr id="171" name="Line 32"/>
            <p:cNvSpPr/>
            <p:nvPr/>
          </p:nvSpPr>
          <p:spPr>
            <a:xfrm>
              <a:off x="7162920" y="388620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7162920" y="3886200"/>
              <a:ext cx="533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33"/>
          <p:cNvSpPr/>
          <p:nvPr/>
        </p:nvSpPr>
        <p:spPr>
          <a:xfrm>
            <a:off x="5148360" y="407664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什么把小艇比作“新月”和“小蛇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威尼斯的小艇为什么要这样设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5" name="Picture 3" descr="船舱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" descr="船舱3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914400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5"/>
          <p:cNvSpPr/>
          <p:nvPr/>
        </p:nvSpPr>
        <p:spPr>
          <a:xfrm>
            <a:off x="611280" y="2492280"/>
            <a:ext cx="81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皮垫子软软的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像沙发一般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威尼斯的小艇为什么要这样设计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4000" y="2133720"/>
            <a:ext cx="72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威尼斯是世界闻名的水上城市，河道纵横交，城市建筑都是依水而建，所以，威尼斯成了以船代车的城市，小艇成了主要的交通工具，等于大街上的汽车。想要在窄小的河道中自由穿梭，小艇只能是又窄又长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71640" y="83628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四自然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段课文是围绕哪句话写的？从哪些词语体现出来？（在这些词语下面加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句与下文是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26920" y="3860640"/>
            <a:ext cx="79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船夫的驾驶技术特别好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。（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用“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~~~~~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画出船夫的驾驶技术特别好的语句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总分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威尼斯小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0" y="0"/>
            <a:ext cx="8893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威尼斯位于意大利东北部，周围被海洋环绕，它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座姿态各异的桥梁横跨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水道上，连接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小岛。在威尼斯，市内没有汽车和自行车，也就没有交通指挥灯，水道就是城市的马路，小艇是市内唯一的交通工具，所以有“水城、百岛城、桥城”之称。由于它特定的地理位置和独特的交通工具，每年吸引着来自世界各地的游客，也使得它成为了闻名中外的旅游胜地。它还是中意人民的友好使者马可波罗的故乡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威尼斯和我国的苏州市结为姊妹城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15"/>
          <p:cNvPicPr/>
          <p:nvPr/>
        </p:nvPicPr>
        <p:blipFill>
          <a:blip r:embed="rId1"/>
          <a:stretch/>
        </p:blipFill>
        <p:spPr>
          <a:xfrm>
            <a:off x="-447840" y="-504720"/>
            <a:ext cx="10533240" cy="73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649440" y="995400"/>
            <a:ext cx="76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船夫的驾驶技术特别好。行船的速度极快，来往船只很多，他操纵自如，毫不手忙脚乱。不管怎么拥挤，他总能左拐右拐地挤过去。遇到极窄的地方，他总能平稳地穿过，而且速度非常快，还能作急转弯。两边的建筑飞一般地往后倒退，我们的眼睛忙极了，不知看哪一处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15"/>
          <p:cNvPicPr/>
          <p:nvPr/>
        </p:nvPicPr>
        <p:blipFill>
          <a:blip r:embed="rId1"/>
          <a:stretch/>
        </p:blipFill>
        <p:spPr>
          <a:xfrm>
            <a:off x="-447840" y="-504720"/>
            <a:ext cx="10293480" cy="7362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63400" y="979560"/>
            <a:ext cx="7955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船夫的驾驶技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特别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行船的速度极快，来往船只很多，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操纵自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毫不手忙脚乱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么拥挤，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总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拐右拐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去。遇到极窄的地方，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总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稳地穿过，而且速度非常快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还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急转弯。两边的建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地往后倒退，我们的眼睛忙极了，不知看哪一处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威尼斯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威尼斯的小艇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威尼斯古建筑3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威尼斯码头一角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威尼斯古建筑3"/>
          <p:cNvPicPr/>
          <p:nvPr/>
        </p:nvPicPr>
        <p:blipFill>
          <a:blip r:embed="rId5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7"/>
          <p:cNvSpPr/>
          <p:nvPr/>
        </p:nvSpPr>
        <p:spPr>
          <a:xfrm>
            <a:off x="2627280" y="21337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人们的生活离不开小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02920" y="1600200"/>
            <a:ext cx="648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读第五自然段，用上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”说说人们还可以用威尼斯的小艇做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755640" y="692280"/>
            <a:ext cx="7545240" cy="5473080"/>
            <a:chOff x="755640" y="692280"/>
            <a:chExt cx="7545240" cy="5473080"/>
          </a:xfrm>
        </p:grpSpPr>
        <p:grpSp>
          <p:nvGrpSpPr>
            <p:cNvPr id="194" name=""/>
            <p:cNvGrpSpPr/>
            <p:nvPr/>
          </p:nvGrpSpPr>
          <p:grpSpPr>
            <a:xfrm>
              <a:off x="768240" y="698400"/>
              <a:ext cx="7532640" cy="360"/>
              <a:chOff x="768240" y="698400"/>
              <a:chExt cx="7532640" cy="360"/>
            </a:xfrm>
          </p:grpSpPr>
          <p:sp>
            <p:nvSpPr>
              <p:cNvPr id="195" name="Line 3"/>
              <p:cNvSpPr/>
              <p:nvPr/>
            </p:nvSpPr>
            <p:spPr>
              <a:xfrm>
                <a:off x="768240" y="698400"/>
                <a:ext cx="753264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768240" y="698400"/>
                <a:ext cx="753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68240" y="698400"/>
              <a:ext cx="360" cy="5435280"/>
              <a:chOff x="768240" y="698400"/>
              <a:chExt cx="360" cy="5435280"/>
            </a:xfrm>
          </p:grpSpPr>
          <p:sp>
            <p:nvSpPr>
              <p:cNvPr id="198" name="Line 4"/>
              <p:cNvSpPr/>
              <p:nvPr/>
            </p:nvSpPr>
            <p:spPr>
              <a:xfrm>
                <a:off x="768240" y="698400"/>
                <a:ext cx="0" cy="543528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768240" y="698400"/>
                <a:ext cx="360" cy="54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284280" y="730080"/>
              <a:ext cx="360" cy="5435280"/>
              <a:chOff x="3284280" y="730080"/>
              <a:chExt cx="360" cy="5435280"/>
            </a:xfrm>
          </p:grpSpPr>
          <p:sp>
            <p:nvSpPr>
              <p:cNvPr id="201" name="Line 5"/>
              <p:cNvSpPr/>
              <p:nvPr/>
            </p:nvSpPr>
            <p:spPr>
              <a:xfrm>
                <a:off x="3284280" y="730080"/>
                <a:ext cx="0" cy="543528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3284280" y="730080"/>
                <a:ext cx="360" cy="54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8259480" y="692280"/>
              <a:ext cx="360" cy="5435280"/>
              <a:chOff x="8259480" y="692280"/>
              <a:chExt cx="360" cy="5435280"/>
            </a:xfrm>
          </p:grpSpPr>
          <p:sp>
            <p:nvSpPr>
              <p:cNvPr id="204" name="Line 6"/>
              <p:cNvSpPr/>
              <p:nvPr/>
            </p:nvSpPr>
            <p:spPr>
              <a:xfrm>
                <a:off x="8259480" y="692280"/>
                <a:ext cx="0" cy="543528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8259480" y="692280"/>
                <a:ext cx="360" cy="54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55640" y="6139080"/>
              <a:ext cx="7532640" cy="360"/>
              <a:chOff x="755640" y="6139080"/>
              <a:chExt cx="7532640" cy="360"/>
            </a:xfrm>
          </p:grpSpPr>
          <p:sp>
            <p:nvSpPr>
              <p:cNvPr id="207" name="Line 7"/>
              <p:cNvSpPr/>
              <p:nvPr/>
            </p:nvSpPr>
            <p:spPr>
              <a:xfrm>
                <a:off x="755640" y="6139080"/>
                <a:ext cx="753264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55640" y="6139080"/>
                <a:ext cx="7532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8"/>
          <p:cNvGrpSpPr/>
          <p:nvPr/>
        </p:nvGrpSpPr>
        <p:grpSpPr>
          <a:xfrm>
            <a:off x="684360" y="836640"/>
            <a:ext cx="7559640" cy="5181480"/>
            <a:chOff x="684360" y="836640"/>
            <a:chExt cx="7559640" cy="5181480"/>
          </a:xfrm>
        </p:grpSpPr>
        <p:grpSp>
          <p:nvGrpSpPr>
            <p:cNvPr id="210" name=""/>
            <p:cNvGrpSpPr/>
            <p:nvPr/>
          </p:nvGrpSpPr>
          <p:grpSpPr>
            <a:xfrm>
              <a:off x="755640" y="4735440"/>
              <a:ext cx="2522520" cy="360"/>
              <a:chOff x="755640" y="4735440"/>
              <a:chExt cx="2522520" cy="360"/>
            </a:xfrm>
          </p:grpSpPr>
          <p:sp>
            <p:nvSpPr>
              <p:cNvPr id="211" name="Line 9"/>
              <p:cNvSpPr/>
              <p:nvPr/>
            </p:nvSpPr>
            <p:spPr>
              <a:xfrm>
                <a:off x="755640" y="4735440"/>
                <a:ext cx="252252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755640" y="4735440"/>
                <a:ext cx="2522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4875120" y="4722840"/>
              <a:ext cx="3368880" cy="360"/>
              <a:chOff x="4875120" y="4722840"/>
              <a:chExt cx="3368880" cy="360"/>
            </a:xfrm>
          </p:grpSpPr>
          <p:sp>
            <p:nvSpPr>
              <p:cNvPr id="214" name="Line 10"/>
              <p:cNvSpPr/>
              <p:nvPr/>
            </p:nvSpPr>
            <p:spPr>
              <a:xfrm>
                <a:off x="4875120" y="4722840"/>
                <a:ext cx="3368880" cy="0"/>
              </a:xfrm>
              <a:prstGeom prst="line">
                <a:avLst/>
              </a:prstGeom>
              <a:ln w="3816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4875120" y="4722840"/>
                <a:ext cx="336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875120" y="836640"/>
              <a:ext cx="360" cy="5181480"/>
              <a:chOff x="4875120" y="836640"/>
              <a:chExt cx="360" cy="5181480"/>
            </a:xfrm>
          </p:grpSpPr>
          <p:sp>
            <p:nvSpPr>
              <p:cNvPr id="217" name="Line 11"/>
              <p:cNvSpPr/>
              <p:nvPr/>
            </p:nvSpPr>
            <p:spPr>
              <a:xfrm>
                <a:off x="4875120" y="836640"/>
                <a:ext cx="0" cy="5181480"/>
              </a:xfrm>
              <a:prstGeom prst="line">
                <a:avLst/>
              </a:prstGeom>
              <a:ln w="2844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4875120" y="836640"/>
                <a:ext cx="360" cy="51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2"/>
            <p:cNvGrpSpPr/>
            <p:nvPr/>
          </p:nvGrpSpPr>
          <p:grpSpPr>
            <a:xfrm>
              <a:off x="684360" y="1522440"/>
              <a:ext cx="7559640" cy="3200760"/>
              <a:chOff x="684360" y="1522440"/>
              <a:chExt cx="7559640" cy="32007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684360" y="1598400"/>
                <a:ext cx="2522520" cy="360"/>
                <a:chOff x="684360" y="1598400"/>
                <a:chExt cx="2522520" cy="360"/>
              </a:xfrm>
            </p:grpSpPr>
            <p:sp>
              <p:nvSpPr>
                <p:cNvPr id="221" name="Line 13"/>
                <p:cNvSpPr/>
                <p:nvPr/>
              </p:nvSpPr>
              <p:spPr>
                <a:xfrm>
                  <a:off x="684360" y="1598400"/>
                  <a:ext cx="252252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684360" y="1598400"/>
                  <a:ext cx="252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751040" y="2208240"/>
                <a:ext cx="1498680" cy="360"/>
                <a:chOff x="1751040" y="2208240"/>
                <a:chExt cx="1498680" cy="360"/>
              </a:xfrm>
            </p:grpSpPr>
            <p:sp>
              <p:nvSpPr>
                <p:cNvPr id="224" name="Line 14"/>
                <p:cNvSpPr/>
                <p:nvPr/>
              </p:nvSpPr>
              <p:spPr>
                <a:xfrm>
                  <a:off x="1751040" y="2208240"/>
                  <a:ext cx="14986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1751040" y="2208240"/>
                  <a:ext cx="149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751040" y="2817720"/>
                <a:ext cx="1498680" cy="360"/>
                <a:chOff x="1751040" y="2817720"/>
                <a:chExt cx="1498680" cy="360"/>
              </a:xfrm>
            </p:grpSpPr>
            <p:sp>
              <p:nvSpPr>
                <p:cNvPr id="227" name="Line 15"/>
                <p:cNvSpPr/>
                <p:nvPr/>
              </p:nvSpPr>
              <p:spPr>
                <a:xfrm>
                  <a:off x="1751040" y="2817720"/>
                  <a:ext cx="14986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1751040" y="2817720"/>
                  <a:ext cx="149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751040" y="3427200"/>
                <a:ext cx="1498680" cy="360"/>
                <a:chOff x="1751040" y="3427200"/>
                <a:chExt cx="1498680" cy="360"/>
              </a:xfrm>
            </p:grpSpPr>
            <p:sp>
              <p:nvSpPr>
                <p:cNvPr id="230" name="Line 16"/>
                <p:cNvSpPr/>
                <p:nvPr/>
              </p:nvSpPr>
              <p:spPr>
                <a:xfrm>
                  <a:off x="1751040" y="3427200"/>
                  <a:ext cx="14986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1751040" y="3427200"/>
                  <a:ext cx="149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1751040" y="4113000"/>
                <a:ext cx="1498680" cy="360"/>
                <a:chOff x="1751040" y="4113000"/>
                <a:chExt cx="1498680" cy="360"/>
              </a:xfrm>
            </p:grpSpPr>
            <p:sp>
              <p:nvSpPr>
                <p:cNvPr id="233" name="Line 17"/>
                <p:cNvSpPr/>
                <p:nvPr/>
              </p:nvSpPr>
              <p:spPr>
                <a:xfrm>
                  <a:off x="1751040" y="4113000"/>
                  <a:ext cx="14986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>
                  <a:off x="1751040" y="4113000"/>
                  <a:ext cx="1498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875120" y="1522440"/>
                <a:ext cx="3368880" cy="360"/>
                <a:chOff x="4875120" y="1522440"/>
                <a:chExt cx="3368880" cy="360"/>
              </a:xfrm>
            </p:grpSpPr>
            <p:sp>
              <p:nvSpPr>
                <p:cNvPr id="236" name="Line 18"/>
                <p:cNvSpPr/>
                <p:nvPr/>
              </p:nvSpPr>
              <p:spPr>
                <a:xfrm>
                  <a:off x="4875120" y="1522440"/>
                  <a:ext cx="33688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4875120" y="1522440"/>
                  <a:ext cx="33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875120" y="2741400"/>
                <a:ext cx="3368880" cy="360"/>
                <a:chOff x="4875120" y="2741400"/>
                <a:chExt cx="3368880" cy="360"/>
              </a:xfrm>
            </p:grpSpPr>
            <p:sp>
              <p:nvSpPr>
                <p:cNvPr id="239" name="Line 19"/>
                <p:cNvSpPr/>
                <p:nvPr/>
              </p:nvSpPr>
              <p:spPr>
                <a:xfrm>
                  <a:off x="4875120" y="2741400"/>
                  <a:ext cx="33688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 txBox="1"/>
                <p:nvPr/>
              </p:nvSpPr>
              <p:spPr>
                <a:xfrm>
                  <a:off x="4875120" y="2741400"/>
                  <a:ext cx="33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4875120" y="3427200"/>
                <a:ext cx="3368880" cy="360"/>
                <a:chOff x="4875120" y="3427200"/>
                <a:chExt cx="3368880" cy="360"/>
              </a:xfrm>
            </p:grpSpPr>
            <p:sp>
              <p:nvSpPr>
                <p:cNvPr id="242" name="Line 20"/>
                <p:cNvSpPr/>
                <p:nvPr/>
              </p:nvSpPr>
              <p:spPr>
                <a:xfrm>
                  <a:off x="4875120" y="3427200"/>
                  <a:ext cx="33688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4875120" y="3427200"/>
                  <a:ext cx="33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4875120" y="4113000"/>
                <a:ext cx="3368880" cy="360"/>
                <a:chOff x="4875120" y="4113000"/>
                <a:chExt cx="3368880" cy="36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4875120" y="4113000"/>
                  <a:ext cx="33688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4875120" y="4113000"/>
                  <a:ext cx="33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875120" y="2131920"/>
                <a:ext cx="3368880" cy="360"/>
                <a:chOff x="4875120" y="2131920"/>
                <a:chExt cx="3368880" cy="360"/>
              </a:xfrm>
            </p:grpSpPr>
            <p:sp>
              <p:nvSpPr>
                <p:cNvPr id="248" name="Line 22"/>
                <p:cNvSpPr/>
                <p:nvPr/>
              </p:nvSpPr>
              <p:spPr>
                <a:xfrm>
                  <a:off x="4875120" y="2131920"/>
                  <a:ext cx="336888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4875120" y="2131920"/>
                  <a:ext cx="33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1751040" y="1598400"/>
                <a:ext cx="360" cy="3124440"/>
                <a:chOff x="1751040" y="1598400"/>
                <a:chExt cx="360" cy="3124440"/>
              </a:xfrm>
            </p:grpSpPr>
            <p:sp>
              <p:nvSpPr>
                <p:cNvPr id="251" name="Line 23"/>
                <p:cNvSpPr/>
                <p:nvPr/>
              </p:nvSpPr>
              <p:spPr>
                <a:xfrm>
                  <a:off x="1751040" y="1598400"/>
                  <a:ext cx="0" cy="3124440"/>
                </a:xfrm>
                <a:prstGeom prst="line">
                  <a:avLst/>
                </a:prstGeom>
                <a:ln w="28440">
                  <a:solidFill>
                    <a:srgbClr val="bbe0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1751040" y="1598400"/>
                  <a:ext cx="360" cy="31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274920" y="4722840"/>
                <a:ext cx="1535400" cy="360"/>
                <a:chOff x="3274920" y="4722840"/>
                <a:chExt cx="1535400" cy="360"/>
              </a:xfrm>
            </p:grpSpPr>
            <p:sp>
              <p:nvSpPr>
                <p:cNvPr id="254" name="Line 24"/>
                <p:cNvSpPr/>
                <p:nvPr/>
              </p:nvSpPr>
              <p:spPr>
                <a:xfrm>
                  <a:off x="3274920" y="4722840"/>
                  <a:ext cx="1535400" cy="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3274920" y="4722840"/>
                  <a:ext cx="1535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6" name="Text Box 25"/>
          <p:cNvSpPr/>
          <p:nvPr/>
        </p:nvSpPr>
        <p:spPr>
          <a:xfrm>
            <a:off x="684360" y="5877000"/>
            <a:ext cx="67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小艇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940360" y="765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828440" y="762120"/>
            <a:ext cx="360" cy="761760"/>
            <a:chOff x="1828440" y="762120"/>
            <a:chExt cx="360" cy="761760"/>
          </a:xfrm>
        </p:grpSpPr>
        <p:sp>
          <p:nvSpPr>
            <p:cNvPr id="259" name="Line 27"/>
            <p:cNvSpPr/>
            <p:nvPr/>
          </p:nvSpPr>
          <p:spPr>
            <a:xfrm flipV="1">
              <a:off x="1828800" y="762120"/>
              <a:ext cx="0" cy="761760"/>
            </a:xfrm>
            <a:prstGeom prst="line">
              <a:avLst/>
            </a:prstGeom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 rot="10800000">
              <a:off x="1828440" y="7621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28"/>
          <p:cNvSpPr/>
          <p:nvPr/>
        </p:nvSpPr>
        <p:spPr>
          <a:xfrm>
            <a:off x="900000" y="90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979640" y="836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3827880" y="1197000"/>
            <a:ext cx="66780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着小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566640" y="1981080"/>
            <a:ext cx="103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      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835280" y="4653000"/>
            <a:ext cx="360" cy="1295280"/>
            <a:chOff x="1835280" y="4653000"/>
            <a:chExt cx="360" cy="1295280"/>
          </a:xfrm>
        </p:grpSpPr>
        <p:sp>
          <p:nvSpPr>
            <p:cNvPr id="266" name="Line 32"/>
            <p:cNvSpPr/>
            <p:nvPr/>
          </p:nvSpPr>
          <p:spPr>
            <a:xfrm>
              <a:off x="1835280" y="4653000"/>
              <a:ext cx="0" cy="1295280"/>
            </a:xfrm>
            <a:prstGeom prst="line">
              <a:avLst/>
            </a:prstGeom>
            <a:ln w="93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1835280" y="46530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33"/>
          <p:cNvSpPr/>
          <p:nvPr/>
        </p:nvSpPr>
        <p:spPr>
          <a:xfrm>
            <a:off x="612000" y="4876920"/>
            <a:ext cx="91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夜 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1979640" y="1628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商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1619280" y="2205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年妇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1692360" y="2852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孩子保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1763640" y="35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人全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9"/>
          <p:cNvSpPr/>
          <p:nvPr/>
        </p:nvSpPr>
        <p:spPr>
          <a:xfrm>
            <a:off x="1908000" y="5013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戏的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0"/>
          <p:cNvSpPr/>
          <p:nvPr/>
        </p:nvSpPr>
        <p:spPr>
          <a:xfrm>
            <a:off x="1763640" y="4149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5219640" y="155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生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3"/>
          <p:cNvSpPr/>
          <p:nvPr/>
        </p:nvSpPr>
        <p:spPr>
          <a:xfrm>
            <a:off x="5219640" y="2781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郊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4932360" y="3573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教堂做祷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5148360" y="42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5003640" y="530064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戏友告别回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148360" y="220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声谈笑（娱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755640" y="14130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除了书上写的这么人，还有很多人坐小艇。这么多人都需要坐小艇，说明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6694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默读第六自然段和课后连接，说说读后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899640" y="2421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天的小艇像活泼的精灵，自由穿梭于水城之中，威尼斯是充满活力的；但晚上，当小艇送走最后一批威尼斯人，静静地停泊于码头上，整座威尼斯城就沉沉地入睡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全课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55640" y="1557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艇于威尼斯，于威尼斯的人们，于威尼斯人们的生活息息相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威尼斯夜景8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900000" y="260280"/>
            <a:ext cx="77043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课堂拓展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读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&lt;&lt;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威尼斯之夜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&gt;&gt;,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赏威尼斯夜景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v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ve7"/>
          <p:cNvPicPr/>
          <p:nvPr/>
        </p:nvPicPr>
        <p:blipFill>
          <a:blip r:embed="rId2"/>
          <a:stretch/>
        </p:blipFill>
        <p:spPr>
          <a:xfrm>
            <a:off x="0" y="1066680"/>
            <a:ext cx="8077320" cy="5791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威尼斯3"/>
          <p:cNvPicPr/>
          <p:nvPr/>
        </p:nvPicPr>
        <p:blipFill>
          <a:blip r:embed="rId3"/>
          <a:stretch/>
        </p:blipFill>
        <p:spPr>
          <a:xfrm>
            <a:off x="0" y="2052720"/>
            <a:ext cx="6553080" cy="48052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533520" y="228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老的威尼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000317203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威尼斯"/>
          <p:cNvPicPr/>
          <p:nvPr/>
        </p:nvPicPr>
        <p:blipFill>
          <a:blip r:embed="rId5"/>
          <a:stretch/>
        </p:blipFill>
        <p:spPr>
          <a:xfrm>
            <a:off x="380880" y="182880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8"/>
          <p:cNvSpPr/>
          <p:nvPr/>
        </p:nvSpPr>
        <p:spPr>
          <a:xfrm>
            <a:off x="1523880" y="2286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又沉沉地入睡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威尼斯水巷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威尼斯最著名的古迹之一——叹息桥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威尼斯夜景"/>
          <p:cNvPicPr/>
          <p:nvPr/>
        </p:nvPicPr>
        <p:blipFill>
          <a:blip r:embed="rId1"/>
          <a:stretch/>
        </p:blipFill>
        <p:spPr>
          <a:xfrm>
            <a:off x="-541440" y="-1251000"/>
            <a:ext cx="986652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威尼斯夜景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TN_zhzh008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m01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sxqy-12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4572000" y="0"/>
            <a:ext cx="45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课堂拓展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2: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了解东方威尼斯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----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苏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img2"/>
          <p:cNvPicPr/>
          <p:nvPr/>
        </p:nvPicPr>
        <p:blipFill>
          <a:blip r:embed="rId4"/>
          <a:stretch/>
        </p:blipFill>
        <p:spPr>
          <a:xfrm>
            <a:off x="0" y="0"/>
            <a:ext cx="4572000" cy="2927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tn_zhzh010"/>
          <p:cNvPicPr/>
          <p:nvPr/>
        </p:nvPicPr>
        <p:blipFill>
          <a:blip r:embed="rId5"/>
          <a:stretch/>
        </p:blipFill>
        <p:spPr>
          <a:xfrm>
            <a:off x="0" y="434340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tn_zz007"/>
          <p:cNvPicPr/>
          <p:nvPr/>
        </p:nvPicPr>
        <p:blipFill>
          <a:blip r:embed="rId6"/>
          <a:stretch/>
        </p:blipFill>
        <p:spPr>
          <a:xfrm>
            <a:off x="0" y="2400480"/>
            <a:ext cx="4419720" cy="22096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m01a"/>
          <p:cNvPicPr/>
          <p:nvPr/>
        </p:nvPicPr>
        <p:blipFill>
          <a:blip r:embed="rId7"/>
          <a:stretch/>
        </p:blipFill>
        <p:spPr>
          <a:xfrm>
            <a:off x="6734160" y="1676520"/>
            <a:ext cx="2409840" cy="3124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m04"/>
          <p:cNvPicPr/>
          <p:nvPr/>
        </p:nvPicPr>
        <p:blipFill>
          <a:blip r:embed="rId8"/>
          <a:stretch/>
        </p:blipFill>
        <p:spPr>
          <a:xfrm>
            <a:off x="3581280" y="167652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tn_zz014"/>
          <p:cNvPicPr/>
          <p:nvPr/>
        </p:nvPicPr>
        <p:blipFill>
          <a:blip r:embed="rId9"/>
          <a:stretch/>
        </p:blipFill>
        <p:spPr>
          <a:xfrm>
            <a:off x="4724280" y="4648320"/>
            <a:ext cx="4419720" cy="2209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2" descr="tn_zz013"/>
          <p:cNvPicPr/>
          <p:nvPr/>
        </p:nvPicPr>
        <p:blipFill>
          <a:blip r:embed="rId10"/>
          <a:stretch/>
        </p:blipFill>
        <p:spPr>
          <a:xfrm>
            <a:off x="0" y="4267080"/>
            <a:ext cx="4724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61520" y="1562040"/>
            <a:ext cx="81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句意写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信教的人向神祈祷，乞求保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高声喧哗谈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驾驶小艇熟练灵活，得心应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手忙乱，脚也忙乱。形容做事慌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E712-84FB-4CF6-91F5-FBEE173BEE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括号里填上适当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桥梁               （  ）的妇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）的威尼斯           （  ）的街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）的交通工具       （  ）的影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）的水上城市       （  ）的声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威尼斯的桥"/>
          <p:cNvPicPr/>
          <p:nvPr/>
        </p:nvPicPr>
        <p:blipFill>
          <a:blip r:embed="rId1"/>
          <a:stretch/>
        </p:blipFill>
        <p:spPr>
          <a:xfrm>
            <a:off x="0" y="0"/>
            <a:ext cx="4572000" cy="3460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威尼斯共有400余座各式各样的桥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威尼斯人以船代步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主河道上的利阿托桥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547640" y="3141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各式各样的桥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威尼斯的里亚尔托桥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26" descr="圣马可教堂及广场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27" descr="威尼斯古建筑3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16040" y="0"/>
            <a:ext cx="43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cc0000"/>
                </a:solidFill>
                <a:latin typeface="Times New Roman"/>
                <a:ea typeface="黑体"/>
              </a:rPr>
              <a:t>主河道上的利阿托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作为交通工具的小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990720" y="0"/>
            <a:ext cx="683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交通工具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小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先来认识下面的生字朋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斯 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小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ǐn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  交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叉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h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船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hā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起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ià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船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保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告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ǎo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定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笑 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u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7:23:5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