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12.jpeg" ContentType="image/jpeg"/>
  <Override PartName="/ppt/media/image10.gif" ContentType="image/gif"/>
  <Override PartName="/ppt/media/image11.png" ContentType="image/png"/>
  <Override PartName="/ppt/media/image7.gif" ContentType="image/gif"/>
  <Override PartName="/ppt/media/image18.wmf" ContentType="image/x-wmf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28.gif" ContentType="image/gif"/>
  <Override PartName="/ppt/media/image27.jpeg" ContentType="image/jpeg"/>
  <Override PartName="/ppt/media/image17.png" ContentType="image/png"/>
  <Override PartName="/ppt/media/image25.png" ContentType="image/png"/>
  <Override PartName="/ppt/media/image24.wmf" ContentType="image/x-wmf"/>
  <Override PartName="/ppt/media/image21.jpeg" ContentType="image/jpeg"/>
  <Override PartName="/ppt/media/image19.gif" ContentType="image/gif"/>
  <Override PartName="/ppt/media/image16.gif" ContentType="image/gif"/>
  <Override PartName="/ppt/media/image26.wmf" ContentType="image/x-wmf"/>
  <Override PartName="/ppt/media/image15.jpeg" ContentType="image/jpeg"/>
  <Override PartName="/ppt/media/image2.jpeg" ContentType="image/jpeg"/>
  <Override PartName="/ppt/media/image23.gif" ContentType="image/gif"/>
  <Override PartName="/ppt/media/image3.png" ContentType="image/png"/>
  <Override PartName="/ppt/media/image4.gif" ContentType="image/gif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85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128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85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128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8DF8-BA83-4526-993E-37A99EE0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47F-C7D6-460A-9BA3-AD802E87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7CC-E31E-4DEC-A519-3AE31156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C5E8-3236-4611-95F6-4EC5BDF5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34FA-D287-43AC-9991-521CEC2D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764D-3A59-4354-B8E2-8AFFA1B1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F606-22E3-4F83-AD25-128F0DE8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9EA3-B6DF-462F-AD8B-8AC82587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3FB-F00F-41C9-BDB5-5A81622D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DB05-19E4-4408-9D94-4078270F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FDE-4A77-4D07-8167-5AAB91F9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852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128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852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128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1903-C7F1-49C3-8493-60831FCE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398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398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5B04-AFD8-4E1A-A0DE-0038ACCE227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3960" y="112500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隶书"/>
                <a:ea typeface="隶书"/>
              </a:rPr>
              <a:t>第二课  扬起自信的风帆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403280" y="227664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我能行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免费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642960" y="42876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活动二：请你来分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928800" y="128592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材料一      马某在父母眼里，一直都是孝顺、懂事的孩子，在老师眼中他是一个成绩优秀的学生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他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9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的高分考入了云南大学，进入大学后，马某发现周围的同学分数都没有他高，就认为自己是最优秀的，最好的，就开始目中无人，连教授、老师都不放在眼里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1071720" y="4572000"/>
            <a:ext cx="714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自信就是自己相信自己，进入大学后马某还相信自己吗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他表现出来的还是自信吗？这种心理有什么特点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2"/>
          <p:cNvSpPr/>
          <p:nvPr/>
        </p:nvSpPr>
        <p:spPr>
          <a:xfrm>
            <a:off x="1357200" y="785880"/>
            <a:ext cx="700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自负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过高的估计自己的能力，忽视或看不起他人，自以为是。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1357200" y="1071720"/>
            <a:ext cx="600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材料二   进入大学不久，马某在自己生存的小环境培养起的自负和骄傲迅速被现实击得粉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竞选干部的失败，参加运动会的失利，人际关系的紧张使他的心理严重失衡，导致成绩急剧下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马某开始怀疑自己，进而认为自己什么也不行，并认为同学们都瞧不起他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357200" y="4714920"/>
            <a:ext cx="62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马某还相信自己吗？他表现出来的是还是自信吗？这种心理有什么特点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文本框 8197"/>
          <p:cNvSpPr/>
          <p:nvPr/>
        </p:nvSpPr>
        <p:spPr>
          <a:xfrm>
            <a:off x="1589040" y="5668920"/>
            <a:ext cx="58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1" lang="en-US" sz="1600" spc="-1" strike="noStrike" u="sng">
                <a:solidFill>
                  <a:srgbClr val="99cc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000080" y="121428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自卑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--------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表现为情绪消极、缺乏进取心、性格孤僻、悲观、有时还会以暴怒、嫉妒、自暴自弃等形式表现出来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1" descr="C:\My Documents\My Pictures\王永旗\p406.gif"/>
          <p:cNvPicPr/>
          <p:nvPr/>
        </p:nvPicPr>
        <p:blipFill>
          <a:blip r:embed="rId1"/>
          <a:stretch/>
        </p:blipFill>
        <p:spPr>
          <a:xfrm>
            <a:off x="3809880" y="76320"/>
            <a:ext cx="971640" cy="892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C:\My Documents\My Pictures\王永旗\p406.gif"/>
          <p:cNvPicPr/>
          <p:nvPr/>
        </p:nvPicPr>
        <p:blipFill>
          <a:blip r:embed="rId2"/>
          <a:stretch/>
        </p:blipFill>
        <p:spPr>
          <a:xfrm>
            <a:off x="5105520" y="76320"/>
            <a:ext cx="971280" cy="892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C:\My Documents\My Pictures\王永旗\p406.gif"/>
          <p:cNvPicPr/>
          <p:nvPr/>
        </p:nvPicPr>
        <p:blipFill>
          <a:blip r:embed="rId3"/>
          <a:stretch/>
        </p:blipFill>
        <p:spPr>
          <a:xfrm>
            <a:off x="6400800" y="0"/>
            <a:ext cx="971640" cy="892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C:\My Documents\My Pictures\王永旗\p406.gif"/>
          <p:cNvPicPr/>
          <p:nvPr/>
        </p:nvPicPr>
        <p:blipFill>
          <a:blip r:embed="rId4"/>
          <a:stretch/>
        </p:blipFill>
        <p:spPr>
          <a:xfrm>
            <a:off x="7924680" y="0"/>
            <a:ext cx="971640" cy="892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0"/>
          <p:cNvSpPr/>
          <p:nvPr/>
        </p:nvSpPr>
        <p:spPr>
          <a:xfrm>
            <a:off x="76320" y="1066680"/>
            <a:ext cx="586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课堂上不敢举手，不敢站起来发言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敢尝试自己没有绝对把握的事情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敢当众表达自己的看法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敢主动参加班级的活动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……………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2"/>
          <p:cNvSpPr/>
          <p:nvPr/>
        </p:nvSpPr>
        <p:spPr>
          <a:xfrm>
            <a:off x="990720" y="22860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自卑的表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3"/>
          <p:cNvSpPr/>
          <p:nvPr/>
        </p:nvSpPr>
        <p:spPr>
          <a:xfrm>
            <a:off x="5432400" y="20574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为什么会自卑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4"/>
          <p:cNvSpPr/>
          <p:nvPr/>
        </p:nvSpPr>
        <p:spPr>
          <a:xfrm>
            <a:off x="380880" y="30607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　　自卑的人首先对自己不满：不满意自己的长相，不满意自己的状态，不满意自己的成绩等等，不相信自身的潜力。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　　因此往往表现为情绪消极、缺乏进取心、性格孤僻、悲观，有时还会以暴怒、忌妒、自暴自弃等形式表现出来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5"/>
          <p:cNvSpPr/>
          <p:nvPr/>
        </p:nvSpPr>
        <p:spPr>
          <a:xfrm>
            <a:off x="380880" y="56386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结论：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</a:rPr>
              <a:t>每个人都有自己的弱项，也都有自己的强项，没有必要自卑，而是应该努力去扬长避短，从而赢得别人的尊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0" y="0"/>
            <a:ext cx="860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二、超越自负，告别自卑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15"/>
          <p:cNvGrpSpPr/>
          <p:nvPr/>
        </p:nvGrpSpPr>
        <p:grpSpPr>
          <a:xfrm>
            <a:off x="-347760" y="914400"/>
            <a:ext cx="3984840" cy="5943600"/>
            <a:chOff x="-347760" y="914400"/>
            <a:chExt cx="3984840" cy="5943600"/>
          </a:xfrm>
        </p:grpSpPr>
        <p:pic>
          <p:nvPicPr>
            <p:cNvPr id="182" name="Picture 8" descr="自卑与自夸"/>
            <p:cNvPicPr/>
            <p:nvPr/>
          </p:nvPicPr>
          <p:blipFill>
            <a:blip r:embed="rId1"/>
            <a:stretch/>
          </p:blipFill>
          <p:spPr>
            <a:xfrm>
              <a:off x="0" y="914400"/>
              <a:ext cx="36370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10"/>
            <p:cNvSpPr/>
            <p:nvPr/>
          </p:nvSpPr>
          <p:spPr>
            <a:xfrm>
              <a:off x="-270000" y="1447920"/>
              <a:ext cx="103356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自卑者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11"/>
            <p:cNvSpPr/>
            <p:nvPr/>
          </p:nvSpPr>
          <p:spPr>
            <a:xfrm>
              <a:off x="-347760" y="3809880"/>
              <a:ext cx="10335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自负者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16"/>
          <p:cNvGrpSpPr/>
          <p:nvPr/>
        </p:nvGrpSpPr>
        <p:grpSpPr>
          <a:xfrm>
            <a:off x="3733920" y="914400"/>
            <a:ext cx="5410080" cy="5943600"/>
            <a:chOff x="3733920" y="914400"/>
            <a:chExt cx="5410080" cy="5943600"/>
          </a:xfrm>
        </p:grpSpPr>
        <p:pic>
          <p:nvPicPr>
            <p:cNvPr id="186" name="Picture 9" descr="一对小花狗"/>
            <p:cNvPicPr/>
            <p:nvPr/>
          </p:nvPicPr>
          <p:blipFill>
            <a:blip r:embed="rId2"/>
            <a:stretch/>
          </p:blipFill>
          <p:spPr>
            <a:xfrm>
              <a:off x="3733920" y="914400"/>
              <a:ext cx="54100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12"/>
            <p:cNvSpPr/>
            <p:nvPr/>
          </p:nvSpPr>
          <p:spPr>
            <a:xfrm>
              <a:off x="8146440" y="16002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自卑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3"/>
            <p:cNvSpPr/>
            <p:nvPr/>
          </p:nvSpPr>
          <p:spPr>
            <a:xfrm>
              <a:off x="3803040" y="16002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自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457200" y="220680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负的人自以为了不起，往往过高地估计自己，看不起别人，自以为是。而且，自负者依据的事实是虚假的，追求的目标根本不可能达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卑的人轻视自己，往往看不到自己的能力，即使可以做得很好，也不敢尝试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412800" y="533520"/>
            <a:ext cx="69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自负、自卑、自信的区别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80880" y="48448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　　只有自信的人能够实事求是地看待自己，既能看到自己的优点，也能看到自己的缺点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5" descr="B_023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4209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2693520" y="14479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负与自卑都是自信的误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026"/>
          <p:cNvSpPr/>
          <p:nvPr/>
        </p:nvSpPr>
        <p:spPr>
          <a:xfrm>
            <a:off x="304920" y="1936800"/>
            <a:ext cx="8610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个人分工：老师、自信者、自负者、自卑者。反映一下自信者、自负者、自卑者的不同表现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情景：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放学前，教数学的班主任老师带着数学测试的成绩来到了班级里，介绍了一下考试的情况，并且表扬了考得好的同学。放学后，自信者的小芳、自负的小明、自卑的小刚都得了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90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分，三人站在一起聊天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WordArt 1027"/>
          <p:cNvSpPr txBox="1"/>
          <p:nvPr/>
        </p:nvSpPr>
        <p:spPr>
          <a:xfrm>
            <a:off x="2362320" y="380880"/>
            <a:ext cx="2666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cc"/>
                    </a:gs>
                  </a:gsLst>
                  <a:lin ang="5400000"/>
                </a:gradFill>
                <a:latin typeface="黑体"/>
              </a:rPr>
              <a:t>故事表演</a:t>
            </a:r>
            <a:endParaRPr b="1" lang="en-US" sz="2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ff0000"/>
                  </a:gs>
                  <a:gs pos="100000">
                    <a:srgbClr val="0000c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grpSp>
        <p:nvGrpSpPr>
          <p:cNvPr id="196" name="Group 1032"/>
          <p:cNvGrpSpPr/>
          <p:nvPr/>
        </p:nvGrpSpPr>
        <p:grpSpPr>
          <a:xfrm>
            <a:off x="5334120" y="0"/>
            <a:ext cx="3809880" cy="1905120"/>
            <a:chOff x="5334120" y="0"/>
            <a:chExt cx="3809880" cy="1905120"/>
          </a:xfrm>
        </p:grpSpPr>
        <p:pic>
          <p:nvPicPr>
            <p:cNvPr id="197" name="Picture 1028" descr="C:\Program Files\Common Files\Microsoft Shared\Clipart\cagcat50\BD06982_.WMF"/>
            <p:cNvPicPr/>
            <p:nvPr/>
          </p:nvPicPr>
          <p:blipFill>
            <a:blip r:embed="rId1"/>
            <a:srcRect l="19763" t="0" r="0" b="0"/>
            <a:stretch/>
          </p:blipFill>
          <p:spPr>
            <a:xfrm>
              <a:off x="5562720" y="0"/>
              <a:ext cx="35812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029"/>
            <p:cNvSpPr/>
            <p:nvPr/>
          </p:nvSpPr>
          <p:spPr>
            <a:xfrm>
              <a:off x="7391520" y="212760"/>
              <a:ext cx="457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1030"/>
            <p:cNvSpPr/>
            <p:nvPr/>
          </p:nvSpPr>
          <p:spPr>
            <a:xfrm>
              <a:off x="6324480" y="517680"/>
              <a:ext cx="457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1031"/>
            <p:cNvSpPr/>
            <p:nvPr/>
          </p:nvSpPr>
          <p:spPr>
            <a:xfrm>
              <a:off x="5334120" y="593640"/>
              <a:ext cx="457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9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1" name="Picture 1033" descr="C:\My Documents\My Pictures\动脑筋.gif"/>
          <p:cNvPicPr/>
          <p:nvPr/>
        </p:nvPicPr>
        <p:blipFill>
          <a:blip r:embed="rId2"/>
          <a:stretch/>
        </p:blipFill>
        <p:spPr>
          <a:xfrm>
            <a:off x="609480" y="0"/>
            <a:ext cx="1441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bj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7010280" y="304812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自信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38880" y="2895480"/>
            <a:ext cx="595440" cy="609840"/>
            <a:chOff x="6338880" y="2895480"/>
            <a:chExt cx="595440" cy="609840"/>
          </a:xfrm>
        </p:grpSpPr>
        <p:sp>
          <p:nvSpPr>
            <p:cNvPr id="205" name="Line 4"/>
            <p:cNvSpPr/>
            <p:nvPr/>
          </p:nvSpPr>
          <p:spPr>
            <a:xfrm flipH="1" flipV="1">
              <a:off x="6338880" y="2895480"/>
              <a:ext cx="595440" cy="609840"/>
            </a:xfrm>
            <a:prstGeom prst="line">
              <a:avLst/>
            </a:prstGeom>
            <a:ln w="7632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 rot="10800000">
              <a:off x="6338880" y="2895480"/>
              <a:ext cx="59544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218640" y="3460320"/>
            <a:ext cx="804240" cy="546840"/>
            <a:chOff x="6218640" y="3460320"/>
            <a:chExt cx="804240" cy="546840"/>
          </a:xfrm>
        </p:grpSpPr>
        <p:sp>
          <p:nvSpPr>
            <p:cNvPr id="208" name="Line 5"/>
            <p:cNvSpPr/>
            <p:nvPr/>
          </p:nvSpPr>
          <p:spPr>
            <a:xfrm flipH="1">
              <a:off x="6325560" y="3460320"/>
              <a:ext cx="590400" cy="546840"/>
            </a:xfrm>
            <a:prstGeom prst="line">
              <a:avLst/>
            </a:prstGeom>
            <a:ln w="7632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 rot="20368200">
              <a:off x="6248160" y="3580920"/>
              <a:ext cx="7444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Text Box 6"/>
          <p:cNvSpPr/>
          <p:nvPr/>
        </p:nvSpPr>
        <p:spPr>
          <a:xfrm>
            <a:off x="3657600" y="2895480"/>
            <a:ext cx="2233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既看到优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657600" y="3645000"/>
            <a:ext cx="2233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又看到缺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4483440" y="990720"/>
            <a:ext cx="1155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夸大优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3924360" y="1159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自负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4483440" y="4343400"/>
            <a:ext cx="1155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夸大缺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3924360" y="6162840"/>
            <a:ext cx="17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自卑者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WordArt 12"/>
          <p:cNvSpPr txBox="1"/>
          <p:nvPr/>
        </p:nvSpPr>
        <p:spPr>
          <a:xfrm>
            <a:off x="731880" y="1825560"/>
            <a:ext cx="201132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cc"/>
                  </a:solidFill>
                  <a:round/>
                </a:ln>
                <a:solidFill>
                  <a:srgbClr val="ff33cc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黑体"/>
              </a:rPr>
              <a:t>总结：</a:t>
            </a:r>
            <a:endParaRPr b="1" lang="en-US" sz="2800" spc="1" strike="noStrike">
              <a:ln w="12600">
                <a:solidFill>
                  <a:srgbClr val="0000cc"/>
                </a:solidFill>
                <a:round/>
              </a:ln>
              <a:solidFill>
                <a:srgbClr val="ff33cc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788000" y="4221000"/>
            <a:ext cx="360" cy="2016360"/>
            <a:chOff x="4788000" y="4221000"/>
            <a:chExt cx="360" cy="2016360"/>
          </a:xfrm>
        </p:grpSpPr>
        <p:sp>
          <p:nvSpPr>
            <p:cNvPr id="218" name="Line 16"/>
            <p:cNvSpPr/>
            <p:nvPr/>
          </p:nvSpPr>
          <p:spPr>
            <a:xfrm>
              <a:off x="4788000" y="4221000"/>
              <a:ext cx="0" cy="2016360"/>
            </a:xfrm>
            <a:prstGeom prst="line">
              <a:avLst/>
            </a:prstGeom>
            <a:ln w="7632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4788000" y="4221000"/>
              <a:ext cx="360" cy="201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787640" y="691920"/>
            <a:ext cx="360" cy="2236680"/>
            <a:chOff x="4787640" y="691920"/>
            <a:chExt cx="360" cy="2236680"/>
          </a:xfrm>
        </p:grpSpPr>
        <p:sp>
          <p:nvSpPr>
            <p:cNvPr id="221" name="Line 17"/>
            <p:cNvSpPr/>
            <p:nvPr/>
          </p:nvSpPr>
          <p:spPr>
            <a:xfrm flipV="1">
              <a:off x="4788000" y="691920"/>
              <a:ext cx="0" cy="2236680"/>
            </a:xfrm>
            <a:prstGeom prst="line">
              <a:avLst/>
            </a:prstGeom>
            <a:ln w="7632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 rot="10800000">
              <a:off x="4787640" y="691920"/>
              <a:ext cx="360" cy="22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Text Box 19"/>
          <p:cNvSpPr/>
          <p:nvPr/>
        </p:nvSpPr>
        <p:spPr>
          <a:xfrm>
            <a:off x="3555000" y="1066680"/>
            <a:ext cx="1155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高估自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3493080" y="4267080"/>
            <a:ext cx="1155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低估自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457200" y="129528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．一个人如果错误地评估自己，就有可能走进自信的误区，产生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   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心理。（    ）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尊  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爱  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负  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卑和自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85800" y="5335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巩固练习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"/>
          <p:cNvSpPr/>
          <p:nvPr/>
        </p:nvSpPr>
        <p:spPr>
          <a:xfrm>
            <a:off x="304920" y="828720"/>
            <a:ext cx="8732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　　日本指挥家小泽征尔有一次去欧洲参加指挥家大赛。在进行前三名比赛时，他就安排在最后一个参赛。评委交给他一张乐谱。他开始指挥演奏，突然小泽征尔发现乐曲中有不和谐的地方。开始，他以为是演奏家的演奏错了，就指挥乐队停下来重新演奏一次，仍觉得不顺畅。这时，在场的权威人士都郑重声明乐谱没有问题，而是他的错觉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0" y="0"/>
            <a:ext cx="190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1" lang="en-US" sz="2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304920" y="5197320"/>
            <a:ext cx="8534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面对几百名国际音乐权威，如果你是小泽征尔你会如何做？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380880" y="914400"/>
            <a:ext cx="876312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丽有点胖，学习成绩不太理想，总怕同学笑话自己，看不起自己，于是她从不主动和同学交往。同学认为她是一个孤僻、不好接近的人，渐渐地都不怎么和她交往了，这让她情绪更低落，小丽表现出的心理是（     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负 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卑 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信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傲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文本框 8197"/>
          <p:cNvSpPr/>
          <p:nvPr/>
        </p:nvSpPr>
        <p:spPr>
          <a:xfrm>
            <a:off x="1660680" y="5467320"/>
            <a:ext cx="58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1" lang="en-US" sz="1600" spc="-1" strike="noStrike" u="sng">
                <a:solidFill>
                  <a:srgbClr val="99cc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304920" y="907920"/>
            <a:ext cx="8534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你认为下面哪种行为不是自信的表现（     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遇到问题向老师和同学请教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老师批评时，总能虚心接受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外语成绩不太好，但有信心学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复习课看课外书，成绩好，用不着临阵磨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graph_68"/>
          <p:cNvPicPr/>
          <p:nvPr/>
        </p:nvPicPr>
        <p:blipFill>
          <a:blip r:embed="rId1"/>
          <a:stretch/>
        </p:blipFill>
        <p:spPr>
          <a:xfrm>
            <a:off x="6977160" y="4811760"/>
            <a:ext cx="2166840" cy="204624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60020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连线题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 can.”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负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人都不如我”                           自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是女生，学不过男生”             自信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971800" y="2819520"/>
            <a:ext cx="3684600" cy="1633320"/>
            <a:chOff x="2971800" y="2819520"/>
            <a:chExt cx="3684600" cy="1633320"/>
          </a:xfrm>
        </p:grpSpPr>
        <p:sp>
          <p:nvSpPr>
            <p:cNvPr id="233" name="Line 5"/>
            <p:cNvSpPr/>
            <p:nvPr/>
          </p:nvSpPr>
          <p:spPr>
            <a:xfrm>
              <a:off x="2971800" y="2819520"/>
              <a:ext cx="3684600" cy="1633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2971800" y="2819520"/>
              <a:ext cx="3684600" cy="163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581280" y="2742840"/>
            <a:ext cx="2952720" cy="934920"/>
            <a:chOff x="3581280" y="2742840"/>
            <a:chExt cx="2952720" cy="934920"/>
          </a:xfrm>
        </p:grpSpPr>
        <p:sp>
          <p:nvSpPr>
            <p:cNvPr id="236" name="Line 6"/>
            <p:cNvSpPr/>
            <p:nvPr/>
          </p:nvSpPr>
          <p:spPr>
            <a:xfrm flipV="1">
              <a:off x="3581280" y="2742840"/>
              <a:ext cx="2952720" cy="934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 rot="10800000">
              <a:off x="3581280" y="2742840"/>
              <a:ext cx="2952720" cy="9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952880" y="3733920"/>
            <a:ext cx="1656000" cy="720720"/>
            <a:chOff x="4952880" y="3733920"/>
            <a:chExt cx="1656000" cy="720720"/>
          </a:xfrm>
        </p:grpSpPr>
        <p:sp>
          <p:nvSpPr>
            <p:cNvPr id="239" name="Line 7"/>
            <p:cNvSpPr/>
            <p:nvPr/>
          </p:nvSpPr>
          <p:spPr>
            <a:xfrm flipV="1">
              <a:off x="4952880" y="3733920"/>
              <a:ext cx="1656000" cy="720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 rot="10800000">
              <a:off x="4952880" y="3733920"/>
              <a:ext cx="165600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689F-EA79-429B-8C73-A5983B538D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bj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WordArt 3"/>
          <p:cNvSpPr txBox="1"/>
          <p:nvPr/>
        </p:nvSpPr>
        <p:spPr>
          <a:xfrm>
            <a:off x="2622600" y="228600"/>
            <a:ext cx="3854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8b049"/>
                    </a:gs>
                    <a:gs pos="5000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黑体"/>
              </a:rPr>
              <a:t>欣赏自己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f8b049"/>
                  </a:gs>
                  <a:gs pos="5000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04920" y="1219320"/>
            <a:ext cx="86104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也许你想成为太阳， 可你却只是一颗星辰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也许你想成为大树， 可你却只是一颗小草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也许你想成为大河， 可你却只是一泓山泉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做不了太阳，就做星辰，在自己的星座发热发光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做不了大树，就做小草，以自己的绿色装点希望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做不了伟大，就做实在的自我，平凡并不自卑，做最好的自己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不必总是欣赏别人，也欣赏一下自己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133720" y="990720"/>
            <a:ext cx="5410080" cy="360"/>
            <a:chOff x="2133720" y="990720"/>
            <a:chExt cx="5410080" cy="360"/>
          </a:xfrm>
        </p:grpSpPr>
        <p:sp>
          <p:nvSpPr>
            <p:cNvPr id="249" name="Line 6"/>
            <p:cNvSpPr/>
            <p:nvPr/>
          </p:nvSpPr>
          <p:spPr>
            <a:xfrm>
              <a:off x="2133720" y="990720"/>
              <a:ext cx="541008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2133720" y="990720"/>
              <a:ext cx="5410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1" name="Picture 7" descr="C:\Program Files\Microsoft Office\Clipart\homeanim\AG00319_.gif"/>
          <p:cNvPicPr/>
          <p:nvPr/>
        </p:nvPicPr>
        <p:blipFill>
          <a:blip r:embed="rId2"/>
          <a:stretch/>
        </p:blipFill>
        <p:spPr>
          <a:xfrm>
            <a:off x="0" y="-380880"/>
            <a:ext cx="25146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057400" y="174600"/>
            <a:ext cx="70866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　　小泽征尔不免对自己的判断产生动摇。但是，他思索再三，坚持自己的判断是正确的，于是大吼一声：“不，一定是乐谱错了！”他的喊声一落，评委立刻向他报以热烈的掌声，祝贺他大赛夺魁。原来这是评委们精心设计的“圈套”，以试探指挥家们在发现错误而权威人士又不承认的情况下，是否能坚持自己的判断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0" y="76320"/>
            <a:ext cx="2133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说一说</a:t>
            </a:r>
            <a:endParaRPr b="1" lang="en-US" sz="2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44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13"/>
          <p:cNvGrpSpPr/>
          <p:nvPr/>
        </p:nvGrpSpPr>
        <p:grpSpPr>
          <a:xfrm>
            <a:off x="2166840" y="3132000"/>
            <a:ext cx="4813200" cy="360"/>
            <a:chOff x="2166840" y="3132000"/>
            <a:chExt cx="4813200" cy="360"/>
          </a:xfrm>
        </p:grpSpPr>
        <p:sp>
          <p:nvSpPr>
            <p:cNvPr id="89" name="Rectangle 5"/>
            <p:cNvSpPr/>
            <p:nvPr/>
          </p:nvSpPr>
          <p:spPr>
            <a:xfrm>
              <a:off x="2166840" y="3132000"/>
              <a:ext cx="4813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2166840" y="3132000"/>
              <a:ext cx="4813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12"/>
          <p:cNvGrpSpPr/>
          <p:nvPr/>
        </p:nvGrpSpPr>
        <p:grpSpPr>
          <a:xfrm>
            <a:off x="2171880" y="3132000"/>
            <a:ext cx="4803480" cy="360"/>
            <a:chOff x="2171880" y="3132000"/>
            <a:chExt cx="4803480" cy="360"/>
          </a:xfrm>
        </p:grpSpPr>
        <p:sp>
          <p:nvSpPr>
            <p:cNvPr id="92" name="Rectangle 7"/>
            <p:cNvSpPr/>
            <p:nvPr/>
          </p:nvSpPr>
          <p:spPr>
            <a:xfrm>
              <a:off x="2171880" y="3132000"/>
              <a:ext cx="4803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2171880" y="3132000"/>
              <a:ext cx="4803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9"/>
          <p:cNvSpPr/>
          <p:nvPr/>
        </p:nvSpPr>
        <p:spPr>
          <a:xfrm>
            <a:off x="2171880" y="3132000"/>
            <a:ext cx="480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2171880" y="3132000"/>
            <a:ext cx="480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144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23"/>
          <p:cNvGrpSpPr/>
          <p:nvPr/>
        </p:nvGrpSpPr>
        <p:grpSpPr>
          <a:xfrm>
            <a:off x="2166840" y="3132000"/>
            <a:ext cx="4813200" cy="360"/>
            <a:chOff x="2166840" y="3132000"/>
            <a:chExt cx="4813200" cy="360"/>
          </a:xfrm>
        </p:grpSpPr>
        <p:sp>
          <p:nvSpPr>
            <p:cNvPr id="98" name="Rectangle 15"/>
            <p:cNvSpPr/>
            <p:nvPr/>
          </p:nvSpPr>
          <p:spPr>
            <a:xfrm>
              <a:off x="2166840" y="3132000"/>
              <a:ext cx="4813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6"/>
            <p:cNvSpPr/>
            <p:nvPr/>
          </p:nvSpPr>
          <p:spPr>
            <a:xfrm>
              <a:off x="2166840" y="3132000"/>
              <a:ext cx="4813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2"/>
          <p:cNvGrpSpPr/>
          <p:nvPr/>
        </p:nvGrpSpPr>
        <p:grpSpPr>
          <a:xfrm>
            <a:off x="2171880" y="3132000"/>
            <a:ext cx="4803480" cy="360"/>
            <a:chOff x="2171880" y="3132000"/>
            <a:chExt cx="4803480" cy="360"/>
          </a:xfrm>
        </p:grpSpPr>
        <p:sp>
          <p:nvSpPr>
            <p:cNvPr id="101" name="Rectangle 17"/>
            <p:cNvSpPr/>
            <p:nvPr/>
          </p:nvSpPr>
          <p:spPr>
            <a:xfrm>
              <a:off x="2171880" y="3132000"/>
              <a:ext cx="4803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8"/>
            <p:cNvSpPr/>
            <p:nvPr/>
          </p:nvSpPr>
          <p:spPr>
            <a:xfrm>
              <a:off x="2171880" y="3132000"/>
              <a:ext cx="4803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Rectangle 19"/>
          <p:cNvSpPr/>
          <p:nvPr/>
        </p:nvSpPr>
        <p:spPr>
          <a:xfrm>
            <a:off x="2171880" y="3132000"/>
            <a:ext cx="480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2171880" y="3132000"/>
            <a:ext cx="480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4" descr="F:\初一课件（下）\第一单元　做自尊自信的人\第二课　扬起自信的风帆\我能行\小泽征尔.jpg"/>
          <p:cNvPicPr/>
          <p:nvPr/>
        </p:nvPicPr>
        <p:blipFill>
          <a:blip r:embed="rId1"/>
          <a:stretch/>
        </p:blipFill>
        <p:spPr>
          <a:xfrm>
            <a:off x="0" y="1523880"/>
            <a:ext cx="2057400" cy="3276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5"/>
          <p:cNvSpPr/>
          <p:nvPr/>
        </p:nvSpPr>
        <p:spPr>
          <a:xfrm>
            <a:off x="2133720" y="5410080"/>
            <a:ext cx="7010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请回答：是什么力量最终使小泽征尔获得好成绩？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8"/>
          <p:cNvGrpSpPr/>
          <p:nvPr/>
        </p:nvGrpSpPr>
        <p:grpSpPr>
          <a:xfrm>
            <a:off x="304920" y="2057400"/>
            <a:ext cx="1752480" cy="2197080"/>
            <a:chOff x="304920" y="2057400"/>
            <a:chExt cx="1752480" cy="2197080"/>
          </a:xfrm>
        </p:grpSpPr>
        <p:pic>
          <p:nvPicPr>
            <p:cNvPr id="108" name="Picture 8" descr="C:\My Documents\My Pictures\王永旗\王永旗\无标题.bmp"/>
            <p:cNvPicPr/>
            <p:nvPr/>
          </p:nvPicPr>
          <p:blipFill>
            <a:blip r:embed="rId1"/>
            <a:stretch/>
          </p:blipFill>
          <p:spPr>
            <a:xfrm>
              <a:off x="358920" y="2057400"/>
              <a:ext cx="1393560" cy="15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9"/>
            <p:cNvSpPr/>
            <p:nvPr/>
          </p:nvSpPr>
          <p:spPr>
            <a:xfrm>
              <a:off x="304920" y="37339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</a:rPr>
                <a:t>学习电脑我能行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23"/>
          <p:cNvGrpSpPr/>
          <p:nvPr/>
        </p:nvGrpSpPr>
        <p:grpSpPr>
          <a:xfrm>
            <a:off x="2209680" y="2133720"/>
            <a:ext cx="1676520" cy="2120760"/>
            <a:chOff x="2209680" y="2133720"/>
            <a:chExt cx="1676520" cy="2120760"/>
          </a:xfrm>
        </p:grpSpPr>
        <p:pic>
          <p:nvPicPr>
            <p:cNvPr id="111" name="Picture 5" descr="C:\My Documents\My Pictures\王永旗\p371.gif"/>
            <p:cNvPicPr/>
            <p:nvPr/>
          </p:nvPicPr>
          <p:blipFill>
            <a:blip r:embed="rId2"/>
            <a:stretch/>
          </p:blipFill>
          <p:spPr>
            <a:xfrm>
              <a:off x="2362320" y="2133720"/>
              <a:ext cx="1143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/>
            <p:cNvSpPr/>
            <p:nvPr/>
          </p:nvSpPr>
          <p:spPr>
            <a:xfrm>
              <a:off x="2209680" y="3733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</a:rPr>
                <a:t>锻炼身体我能行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0"/>
          <p:cNvGrpSpPr/>
          <p:nvPr/>
        </p:nvGrpSpPr>
        <p:grpSpPr>
          <a:xfrm>
            <a:off x="4038480" y="1981080"/>
            <a:ext cx="1371600" cy="2744280"/>
            <a:chOff x="4038480" y="1981080"/>
            <a:chExt cx="1371600" cy="2744280"/>
          </a:xfrm>
        </p:grpSpPr>
        <p:pic>
          <p:nvPicPr>
            <p:cNvPr id="114" name="Picture 7" descr="C:\My Documents\My Pictures\王永旗\p456.gif"/>
            <p:cNvPicPr/>
            <p:nvPr/>
          </p:nvPicPr>
          <p:blipFill>
            <a:blip r:embed="rId3"/>
            <a:stretch/>
          </p:blipFill>
          <p:spPr>
            <a:xfrm>
              <a:off x="4038480" y="1981080"/>
              <a:ext cx="10861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1"/>
            <p:cNvSpPr/>
            <p:nvPr/>
          </p:nvSpPr>
          <p:spPr>
            <a:xfrm>
              <a:off x="4114800" y="3778200"/>
              <a:ext cx="1295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</a:rPr>
                <a:t>打篮球我能行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21"/>
          <p:cNvGrpSpPr/>
          <p:nvPr/>
        </p:nvGrpSpPr>
        <p:grpSpPr>
          <a:xfrm>
            <a:off x="5562720" y="2057400"/>
            <a:ext cx="1371600" cy="2667960"/>
            <a:chOff x="5562720" y="2057400"/>
            <a:chExt cx="1371600" cy="2667960"/>
          </a:xfrm>
        </p:grpSpPr>
        <p:pic>
          <p:nvPicPr>
            <p:cNvPr id="117" name="Picture 6" descr="C:\My Documents\My Pictures\王永旗\p440.gif"/>
            <p:cNvPicPr/>
            <p:nvPr/>
          </p:nvPicPr>
          <p:blipFill>
            <a:blip r:embed="rId4"/>
            <a:stretch/>
          </p:blipFill>
          <p:spPr>
            <a:xfrm>
              <a:off x="5562720" y="2057400"/>
              <a:ext cx="113184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2"/>
            <p:cNvSpPr/>
            <p:nvPr/>
          </p:nvSpPr>
          <p:spPr>
            <a:xfrm>
              <a:off x="5638680" y="3778200"/>
              <a:ext cx="1295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</a:rPr>
                <a:t>唱歌</a:t>
              </a:r>
              <a:br>
                <a:rPr sz="2800"/>
              </a:br>
              <a:r>
                <a:rPr b="1" lang="zh-CN" sz="2800" spc="-1" strike="noStrike">
                  <a:solidFill>
                    <a:srgbClr val="0000cc"/>
                  </a:solidFill>
                  <a:latin typeface="黑体"/>
                </a:rPr>
                <a:t>我能行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22"/>
          <p:cNvGrpSpPr/>
          <p:nvPr/>
        </p:nvGrpSpPr>
        <p:grpSpPr>
          <a:xfrm>
            <a:off x="7162920" y="2133720"/>
            <a:ext cx="1600200" cy="2547360"/>
            <a:chOff x="7162920" y="2133720"/>
            <a:chExt cx="1600200" cy="2547360"/>
          </a:xfrm>
        </p:grpSpPr>
        <p:pic>
          <p:nvPicPr>
            <p:cNvPr id="120" name="Picture 4" descr="C:\My Documents\My Pictures\王永旗\p140.gif"/>
            <p:cNvPicPr/>
            <p:nvPr/>
          </p:nvPicPr>
          <p:blipFill>
            <a:blip r:embed="rId5"/>
            <a:stretch/>
          </p:blipFill>
          <p:spPr>
            <a:xfrm>
              <a:off x="7162920" y="2133720"/>
              <a:ext cx="1600200" cy="14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7467480" y="3733920"/>
              <a:ext cx="1295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</a:rPr>
                <a:t>跳舞</a:t>
              </a:r>
              <a:br>
                <a:rPr sz="2800"/>
              </a:br>
              <a:r>
                <a:rPr b="1" lang="zh-CN" sz="2800" spc="-1" strike="noStrike">
                  <a:solidFill>
                    <a:srgbClr val="0000cc"/>
                  </a:solidFill>
                  <a:latin typeface="黑体"/>
                </a:rPr>
                <a:t>我能行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15"/>
          <p:cNvSpPr/>
          <p:nvPr/>
        </p:nvSpPr>
        <p:spPr>
          <a:xfrm>
            <a:off x="609480" y="12952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华文彩云"/>
                <a:ea typeface="华文彩云"/>
              </a:rPr>
              <a:t>学生活动（一）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2188080" y="5029200"/>
            <a:ext cx="40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写一写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我能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（越多越好）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说一说：感触最深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我能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1360440" y="0"/>
            <a:ext cx="205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一、自信一族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304920" y="2514600"/>
            <a:ext cx="914400" cy="344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我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能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行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362320" y="2936880"/>
            <a:ext cx="4572000" cy="360"/>
            <a:chOff x="2362320" y="2936880"/>
            <a:chExt cx="4572000" cy="360"/>
          </a:xfrm>
        </p:grpSpPr>
        <p:sp>
          <p:nvSpPr>
            <p:cNvPr id="127" name="Line 4"/>
            <p:cNvSpPr/>
            <p:nvPr/>
          </p:nvSpPr>
          <p:spPr>
            <a:xfrm>
              <a:off x="2362320" y="293688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2362320" y="2936880"/>
              <a:ext cx="457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4003560"/>
            <a:ext cx="4572000" cy="360"/>
            <a:chOff x="2362320" y="4003560"/>
            <a:chExt cx="4572000" cy="360"/>
          </a:xfrm>
        </p:grpSpPr>
        <p:sp>
          <p:nvSpPr>
            <p:cNvPr id="130" name="Line 5"/>
            <p:cNvSpPr/>
            <p:nvPr/>
          </p:nvSpPr>
          <p:spPr>
            <a:xfrm>
              <a:off x="2362320" y="400356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2362320" y="4003560"/>
              <a:ext cx="457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362320" y="4994280"/>
            <a:ext cx="4572000" cy="360"/>
            <a:chOff x="2362320" y="4994280"/>
            <a:chExt cx="4572000" cy="360"/>
          </a:xfrm>
        </p:grpSpPr>
        <p:sp>
          <p:nvSpPr>
            <p:cNvPr id="133" name="Line 6"/>
            <p:cNvSpPr/>
            <p:nvPr/>
          </p:nvSpPr>
          <p:spPr>
            <a:xfrm>
              <a:off x="2362320" y="499428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2362320" y="4994280"/>
              <a:ext cx="457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362320" y="5985000"/>
            <a:ext cx="4724280" cy="360"/>
            <a:chOff x="2362320" y="5985000"/>
            <a:chExt cx="4724280" cy="360"/>
          </a:xfrm>
        </p:grpSpPr>
        <p:sp>
          <p:nvSpPr>
            <p:cNvPr id="136" name="Line 7"/>
            <p:cNvSpPr/>
            <p:nvPr/>
          </p:nvSpPr>
          <p:spPr>
            <a:xfrm>
              <a:off x="2362320" y="5985000"/>
              <a:ext cx="47242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2362320" y="5985000"/>
              <a:ext cx="4724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Picture 8" descr="C:\Program Files\Common Files\Microsoft Shared\Clipart\themes1\Bullets\BD14752_.GIF"/>
          <p:cNvPicPr/>
          <p:nvPr/>
        </p:nvPicPr>
        <p:blipFill>
          <a:blip r:embed="rId1"/>
          <a:stretch/>
        </p:blipFill>
        <p:spPr>
          <a:xfrm>
            <a:off x="1905120" y="468936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C:\Program Files\Common Files\Microsoft Shared\Clipart\themes1\Bullets\BD14752_.GIF"/>
          <p:cNvPicPr/>
          <p:nvPr/>
        </p:nvPicPr>
        <p:blipFill>
          <a:blip r:embed="rId2"/>
          <a:stretch/>
        </p:blipFill>
        <p:spPr>
          <a:xfrm>
            <a:off x="1905120" y="369900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C:\Program Files\Common Files\Microsoft Shared\Clipart\themes1\Bullets\BD14752_.GIF"/>
          <p:cNvPicPr/>
          <p:nvPr/>
        </p:nvPicPr>
        <p:blipFill>
          <a:blip r:embed="rId3"/>
          <a:stretch/>
        </p:blipFill>
        <p:spPr>
          <a:xfrm>
            <a:off x="1905120" y="2631960"/>
            <a:ext cx="466560" cy="466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C:\Program Files\Common Files\Microsoft Shared\Clipart\themes1\Bullets\BD14752_.GIF"/>
          <p:cNvPicPr/>
          <p:nvPr/>
        </p:nvPicPr>
        <p:blipFill>
          <a:blip r:embed="rId4"/>
          <a:stretch/>
        </p:blipFill>
        <p:spPr>
          <a:xfrm>
            <a:off x="1905120" y="5756400"/>
            <a:ext cx="476280" cy="399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D:\杜瑞英\001.gif"/>
          <p:cNvPicPr/>
          <p:nvPr/>
        </p:nvPicPr>
        <p:blipFill>
          <a:blip r:embed="rId5"/>
          <a:stretch/>
        </p:blipFill>
        <p:spPr>
          <a:xfrm>
            <a:off x="7543800" y="0"/>
            <a:ext cx="1219320" cy="22096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3"/>
          <p:cNvSpPr/>
          <p:nvPr/>
        </p:nvSpPr>
        <p:spPr>
          <a:xfrm>
            <a:off x="2438280" y="213372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cc"/>
                </a:solidFill>
                <a:latin typeface="Arial"/>
              </a:rPr>
              <a:t>做早饭，我能行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438280" y="3200400"/>
            <a:ext cx="39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cc"/>
                </a:solidFill>
                <a:latin typeface="Arial"/>
              </a:rPr>
              <a:t>学好数学，我能行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WordArt 15"/>
          <p:cNvSpPr txBox="1"/>
          <p:nvPr/>
        </p:nvSpPr>
        <p:spPr>
          <a:xfrm>
            <a:off x="2546280" y="762120"/>
            <a:ext cx="4464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8b049"/>
                    </a:gs>
                    <a:gs pos="5000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黑体"/>
              </a:rPr>
              <a:t>夸夸我自己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f8b049"/>
                  </a:gs>
                  <a:gs pos="5000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7924680" y="2438280"/>
            <a:ext cx="843120" cy="21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我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可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9" descr="C:\My Documents\My Pictures\小男孩.jpg"/>
          <p:cNvPicPr/>
          <p:nvPr/>
        </p:nvPicPr>
        <p:blipFill>
          <a:blip r:embed="rId6"/>
          <a:stretch/>
        </p:blipFill>
        <p:spPr>
          <a:xfrm>
            <a:off x="228600" y="0"/>
            <a:ext cx="1981080" cy="2438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4284720" y="0"/>
            <a:ext cx="151272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展</a:t>
            </a: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示</a:t>
            </a: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自</a:t>
            </a: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信</a:t>
            </a: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者</a:t>
            </a: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的</a:t>
            </a: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风</a:t>
            </a: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周恩来总理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3573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52799_1"/>
          <p:cNvPicPr/>
          <p:nvPr/>
        </p:nvPicPr>
        <p:blipFill>
          <a:blip r:embed="rId2"/>
          <a:stretch/>
        </p:blipFill>
        <p:spPr>
          <a:xfrm>
            <a:off x="0" y="0"/>
            <a:ext cx="4211640" cy="3905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aoyun.zynews.com/images/2004-08/28/xin_230801280904843251996.jpg"/>
          <p:cNvPicPr/>
          <p:nvPr/>
        </p:nvPicPr>
        <p:blipFill>
          <a:blip r:embed="rId3"/>
          <a:stretch/>
        </p:blipFill>
        <p:spPr>
          <a:xfrm>
            <a:off x="6019920" y="3581280"/>
            <a:ext cx="2819160" cy="32767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8" descr="李娜.jpg"/>
          <p:cNvPicPr/>
          <p:nvPr/>
        </p:nvPicPr>
        <p:blipFill>
          <a:blip r:embed="rId4"/>
          <a:stretch/>
        </p:blipFill>
        <p:spPr>
          <a:xfrm>
            <a:off x="0" y="3929040"/>
            <a:ext cx="4286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1000080" y="2143080"/>
            <a:ext cx="764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cc"/>
                </a:solidFill>
                <a:latin typeface="Times New Roman"/>
              </a:rPr>
              <a:t>思考：什么是自信？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cc"/>
                </a:solidFill>
                <a:latin typeface="Times New Roman"/>
              </a:rPr>
              <a:t>           </a:t>
            </a:r>
            <a:r>
              <a:rPr b="1" lang="zh-CN" sz="5400" spc="-1" strike="noStrike">
                <a:solidFill>
                  <a:srgbClr val="3366cc"/>
                </a:solidFill>
                <a:latin typeface="Times New Roman"/>
              </a:rPr>
              <a:t>自信有哪些表现？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bj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>
            <a:hlinkClick r:id="" action="ppaction://hlinkshowjump?jump=nextslide"/>
          </p:cNvPr>
          <p:cNvSpPr/>
          <p:nvPr/>
        </p:nvSpPr>
        <p:spPr>
          <a:xfrm>
            <a:off x="457200" y="22860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ahoma"/>
              </a:rPr>
              <a:t>自信的含义：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755640" y="1484280"/>
            <a:ext cx="7550280" cy="2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自信又叫自信心， 是人们在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正确认识自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基础上，知道自己的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长处和优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能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愉快地接纳自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相信自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能力和才干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cc"/>
                </a:solidFill>
                <a:latin typeface="黑体"/>
                <a:ea typeface="黑体"/>
              </a:rPr>
              <a:t>简单地说，就是指一个人对自己的积极感受 。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6" descr="C:\WINDOWS\Desktop\资料\双子座.files\star1.gif"/>
          <p:cNvPicPr/>
          <p:nvPr/>
        </p:nvPicPr>
        <p:blipFill>
          <a:blip r:embed="rId2"/>
          <a:stretch/>
        </p:blipFill>
        <p:spPr>
          <a:xfrm>
            <a:off x="4357800" y="42876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26"/>
          <p:cNvSpPr/>
          <p:nvPr/>
        </p:nvSpPr>
        <p:spPr>
          <a:xfrm>
            <a:off x="609480" y="762120"/>
            <a:ext cx="792504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</a:rPr>
              <a:t>自信者表现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黑体"/>
              </a:rPr>
              <a:t>在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思想</a:t>
            </a:r>
            <a:r>
              <a:rPr b="1" lang="zh-CN" sz="3600" spc="-1" strike="noStrike">
                <a:solidFill>
                  <a:srgbClr val="3366cc"/>
                </a:solidFill>
                <a:latin typeface="黑体"/>
              </a:rPr>
              <a:t>上相信“我能行”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行为</a:t>
            </a:r>
            <a:r>
              <a:rPr b="1" lang="zh-CN" sz="3600" spc="-1" strike="noStrike">
                <a:solidFill>
                  <a:srgbClr val="3366cc"/>
                </a:solidFill>
                <a:latin typeface="黑体"/>
              </a:rPr>
              <a:t>上表现为“我能行”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情感</a:t>
            </a:r>
            <a:r>
              <a:rPr b="1" lang="zh-CN" sz="3600" spc="-1" strike="noStrike">
                <a:solidFill>
                  <a:srgbClr val="3366cc"/>
                </a:solidFill>
                <a:latin typeface="黑体"/>
              </a:rPr>
              <a:t>上体验“我能行”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027" descr="BD07211_"/>
          <p:cNvPicPr/>
          <p:nvPr/>
        </p:nvPicPr>
        <p:blipFill>
          <a:blip r:embed="rId1"/>
          <a:stretch/>
        </p:blipFill>
        <p:spPr>
          <a:xfrm>
            <a:off x="6095880" y="3886200"/>
            <a:ext cx="2743200" cy="2381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29" descr="GL_033"/>
          <p:cNvPicPr/>
          <p:nvPr/>
        </p:nvPicPr>
        <p:blipFill>
          <a:blip r:embed="rId2"/>
          <a:stretch/>
        </p:blipFill>
        <p:spPr>
          <a:xfrm>
            <a:off x="304920" y="304920"/>
            <a:ext cx="533160" cy="517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30" descr="GL_033"/>
          <p:cNvPicPr/>
          <p:nvPr/>
        </p:nvPicPr>
        <p:blipFill>
          <a:blip r:embed="rId3"/>
          <a:stretch/>
        </p:blipFill>
        <p:spPr>
          <a:xfrm>
            <a:off x="4267080" y="533520"/>
            <a:ext cx="533520" cy="517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31" descr="GL_033"/>
          <p:cNvPicPr/>
          <p:nvPr/>
        </p:nvPicPr>
        <p:blipFill>
          <a:blip r:embed="rId4"/>
          <a:stretch/>
        </p:blipFill>
        <p:spPr>
          <a:xfrm>
            <a:off x="8305920" y="228600"/>
            <a:ext cx="53316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8:35:06Z</dcterms:created>
  <dc:creator>第一PPT模板网-WWW.1PPT.COM</dc:creator>
  <dc:description>第一PPT模板网-WWW.1PPT.COM
</dc:description>
  <cp:keywords>第一PPT模板网-WWW.1PPT.COM</cp:keywords>
  <dc:language>en-US</dc:language>
  <cp:lastModifiedBy>pc</cp:lastModifiedBy>
  <dcterms:modified xsi:type="dcterms:W3CDTF">2016-06-30T08:51:38Z</dcterms:modified>
  <cp:revision>19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