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CE7C-D835-41B4-9AD6-D3F8BF744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AD74-9CC6-4A0D-B0DE-6CD4F0F5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5DE0-67E0-4C4C-B9C3-1BA0E80A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94B2-92DE-4498-8B5B-743F1DF7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7AC8-819C-45E0-9726-00F3398E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FE81-6D41-4D87-AB6A-E79838E9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54A3-6260-4814-BE2C-9C149690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2577-DD23-4FC2-B17E-7F1BE99F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B49B-5876-4289-B4A0-AB8D80A4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2EB9-ED6D-4399-9295-533870AD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7BC1-58B2-45E5-AF32-92B12DD2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292A-0B69-45BD-92EF-8CBAD337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5025-9891-40B1-81B1-ACF468D8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DB93-239B-4734-B7B9-CF51F63D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D296-9950-483A-8673-3DE21E99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BAC7-1229-4EAD-9B23-3C6A1736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AFCF-E2BC-4E80-AFD1-7CDC1A28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C56A-61CB-4BBF-95E5-2B70F2EA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96F-F419-489D-8C23-74CAD9FB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F404-1CE9-48B6-BF0F-0B6BA57B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C3C3-109A-48F1-BAB0-C9CFEE43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7A6B-D83A-4F5D-9069-72818366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A73E-E35E-4851-91C7-8997F4F8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8D1E-BD74-49A4-9342-1DADE403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09AF-0E68-43CD-894A-61D279A472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B851-E1EA-4330-88B8-A57B280CF19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2"/>
          <p:cNvSpPr/>
          <p:nvPr/>
        </p:nvSpPr>
        <p:spPr>
          <a:xfrm>
            <a:off x="539640" y="2708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1968480" y="2917800"/>
            <a:ext cx="5884920" cy="6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能做好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03"/>
          <p:cNvPicPr/>
          <p:nvPr/>
        </p:nvPicPr>
        <p:blipFill>
          <a:blip r:embed="rId1"/>
          <a:stretch/>
        </p:blipFill>
        <p:spPr>
          <a:xfrm>
            <a:off x="1066680" y="990720"/>
            <a:ext cx="2422800" cy="639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1418760" y="1461960"/>
            <a:ext cx="23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学校的事怎样做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21" name="Picture 4" descr="03"/>
          <p:cNvPicPr/>
          <p:nvPr/>
        </p:nvPicPr>
        <p:blipFill>
          <a:blip r:embed="rId2"/>
          <a:stretch/>
        </p:blipFill>
        <p:spPr>
          <a:xfrm>
            <a:off x="1147680" y="1770120"/>
            <a:ext cx="6548400" cy="4630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2637720" y="5897520"/>
            <a:ext cx="3884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班集体获得荣誉，有我们每位同学的功劳</a:t>
            </a:r>
            <a:endParaRPr b="0" lang="en-US" sz="27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03"/>
          <p:cNvPicPr/>
          <p:nvPr/>
        </p:nvPicPr>
        <p:blipFill>
          <a:blip r:embed="rId1"/>
          <a:stretch/>
        </p:blipFill>
        <p:spPr>
          <a:xfrm>
            <a:off x="1066680" y="990720"/>
            <a:ext cx="2422800" cy="639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04"/>
          <p:cNvPicPr/>
          <p:nvPr/>
        </p:nvPicPr>
        <p:blipFill>
          <a:blip r:embed="rId2"/>
          <a:stretch/>
        </p:blipFill>
        <p:spPr>
          <a:xfrm>
            <a:off x="2384280" y="1523880"/>
            <a:ext cx="3864240" cy="5410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1418760" y="1461960"/>
            <a:ext cx="23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学校的事怎样做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395400" y="1938240"/>
            <a:ext cx="38664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集</a:t>
            </a:r>
            <a:endParaRPr b="0" lang="en-US" sz="27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体</a:t>
            </a:r>
            <a:endParaRPr b="0" lang="en-US" sz="27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活</a:t>
            </a:r>
            <a:endParaRPr b="0" lang="en-US" sz="27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动</a:t>
            </a:r>
            <a:endParaRPr b="0" lang="en-US" sz="27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</a:t>
            </a:r>
            <a:endParaRPr b="0" lang="en-US" sz="27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们</a:t>
            </a:r>
            <a:endParaRPr b="0" lang="en-US" sz="27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都</a:t>
            </a:r>
            <a:endParaRPr b="0" lang="en-US" sz="27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积</a:t>
            </a:r>
            <a:endParaRPr b="0" lang="en-US" sz="27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极</a:t>
            </a:r>
            <a:endParaRPr b="0" lang="en-US" sz="27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参</a:t>
            </a:r>
            <a:endParaRPr b="0" lang="en-US" sz="27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加</a:t>
            </a:r>
            <a:endParaRPr b="0" lang="en-US" sz="27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03"/>
          <p:cNvPicPr/>
          <p:nvPr/>
        </p:nvPicPr>
        <p:blipFill>
          <a:blip r:embed="rId1"/>
          <a:stretch/>
        </p:blipFill>
        <p:spPr>
          <a:xfrm>
            <a:off x="1066680" y="990720"/>
            <a:ext cx="2422800" cy="639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418760" y="1461960"/>
            <a:ext cx="23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社会的事怎样做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29" name="Picture 4" descr="05"/>
          <p:cNvPicPr/>
          <p:nvPr/>
        </p:nvPicPr>
        <p:blipFill>
          <a:blip r:embed="rId2"/>
          <a:stretch/>
        </p:blipFill>
        <p:spPr>
          <a:xfrm>
            <a:off x="1600200" y="1905120"/>
            <a:ext cx="5867280" cy="44672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3604680" y="6095880"/>
            <a:ext cx="182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也为环保出把力</a:t>
            </a:r>
            <a:endParaRPr b="0" lang="en-US" sz="27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03"/>
          <p:cNvPicPr/>
          <p:nvPr/>
        </p:nvPicPr>
        <p:blipFill>
          <a:blip r:embed="rId1"/>
          <a:stretch/>
        </p:blipFill>
        <p:spPr>
          <a:xfrm>
            <a:off x="1066680" y="990720"/>
            <a:ext cx="2422800" cy="6397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1418760" y="1461960"/>
            <a:ext cx="23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社会的事怎样做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3" name="Picture 4" descr="06"/>
          <p:cNvPicPr/>
          <p:nvPr/>
        </p:nvPicPr>
        <p:blipFill>
          <a:blip r:embed="rId2"/>
          <a:stretch/>
        </p:blipFill>
        <p:spPr>
          <a:xfrm>
            <a:off x="1600200" y="1676520"/>
            <a:ext cx="6019920" cy="4724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3272400" y="6049800"/>
            <a:ext cx="264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让小鱼回到水里自由地游吧</a:t>
            </a:r>
            <a:endParaRPr b="0" lang="en-US" sz="27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07"/>
          <p:cNvPicPr/>
          <p:nvPr/>
        </p:nvPicPr>
        <p:blipFill>
          <a:blip r:embed="rId1"/>
          <a:stretch/>
        </p:blipFill>
        <p:spPr>
          <a:xfrm>
            <a:off x="1828800" y="1523880"/>
            <a:ext cx="5029200" cy="4889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03"/>
          <p:cNvPicPr/>
          <p:nvPr/>
        </p:nvPicPr>
        <p:blipFill>
          <a:blip r:embed="rId2"/>
          <a:stretch/>
        </p:blipFill>
        <p:spPr>
          <a:xfrm>
            <a:off x="1066680" y="990720"/>
            <a:ext cx="2422800" cy="639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418760" y="1461960"/>
            <a:ext cx="23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社会的事怎样做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036960" y="6019920"/>
            <a:ext cx="2855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爷爷，您有事就让我们来做吧</a:t>
            </a:r>
            <a:endParaRPr b="0" lang="en-US" sz="27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9" name="文本框 8199"/>
          <p:cNvSpPr/>
          <p:nvPr/>
        </p:nvSpPr>
        <p:spPr>
          <a:xfrm>
            <a:off x="1386000" y="655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08"/>
          <p:cNvPicPr/>
          <p:nvPr/>
        </p:nvPicPr>
        <p:blipFill>
          <a:blip r:embed="rId1"/>
          <a:stretch/>
        </p:blipFill>
        <p:spPr>
          <a:xfrm>
            <a:off x="1486080" y="1600200"/>
            <a:ext cx="5752800" cy="4805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03"/>
          <p:cNvPicPr/>
          <p:nvPr/>
        </p:nvPicPr>
        <p:blipFill>
          <a:blip r:embed="rId2"/>
          <a:stretch/>
        </p:blipFill>
        <p:spPr>
          <a:xfrm>
            <a:off x="1066680" y="990720"/>
            <a:ext cx="2422800" cy="639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418760" y="1461960"/>
            <a:ext cx="23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社会的事怎样做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047120" y="6049800"/>
            <a:ext cx="52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们和小树一起长大</a:t>
            </a:r>
            <a:endParaRPr b="0" lang="en-US" sz="27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09"/>
          <p:cNvPicPr/>
          <p:nvPr/>
        </p:nvPicPr>
        <p:blipFill>
          <a:blip r:embed="rId1"/>
          <a:stretch/>
        </p:blipFill>
        <p:spPr>
          <a:xfrm>
            <a:off x="1600200" y="1598760"/>
            <a:ext cx="5181480" cy="4954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02"/>
          <p:cNvPicPr/>
          <p:nvPr/>
        </p:nvPicPr>
        <p:blipFill>
          <a:blip r:embed="rId2"/>
          <a:stretch/>
        </p:blipFill>
        <p:spPr>
          <a:xfrm>
            <a:off x="1066680" y="993600"/>
            <a:ext cx="2435400" cy="60660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4"/>
          <p:cNvGrpSpPr/>
          <p:nvPr/>
        </p:nvGrpSpPr>
        <p:grpSpPr>
          <a:xfrm>
            <a:off x="4877280" y="158760"/>
            <a:ext cx="4371480" cy="2578320"/>
            <a:chOff x="4877280" y="158760"/>
            <a:chExt cx="4371480" cy="2578320"/>
          </a:xfrm>
        </p:grpSpPr>
        <p:sp>
          <p:nvSpPr>
            <p:cNvPr id="147" name="AutoShape 5"/>
            <p:cNvSpPr/>
            <p:nvPr/>
          </p:nvSpPr>
          <p:spPr>
            <a:xfrm rot="378600">
              <a:off x="4981680" y="380880"/>
              <a:ext cx="4162320" cy="2133720"/>
            </a:xfrm>
            <a:prstGeom prst="cloudCallout">
              <a:avLst>
                <a:gd name="adj1" fmla="val -35013"/>
                <a:gd name="adj2" fmla="val 67129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48" name="Text Box 6"/>
            <p:cNvSpPr/>
            <p:nvPr/>
          </p:nvSpPr>
          <p:spPr>
            <a:xfrm>
              <a:off x="5413320" y="609480"/>
              <a:ext cx="342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　　说说班里最值得骄傲的一件事，你在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其中起了什么作用？ 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A41F-CC76-4E3B-9216-AA8A7076C1D3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04"/>
          <p:cNvPicPr/>
          <p:nvPr/>
        </p:nvPicPr>
        <p:blipFill>
          <a:blip r:embed="rId1"/>
          <a:stretch/>
        </p:blipFill>
        <p:spPr>
          <a:xfrm>
            <a:off x="1066680" y="993600"/>
            <a:ext cx="2446560" cy="606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y"/>
          <p:cNvPicPr/>
          <p:nvPr/>
        </p:nvPicPr>
        <p:blipFill>
          <a:blip r:embed="rId2"/>
          <a:stretch/>
        </p:blipFill>
        <p:spPr>
          <a:xfrm>
            <a:off x="1593720" y="2057400"/>
            <a:ext cx="5950080" cy="42004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4"/>
          <p:cNvGrpSpPr/>
          <p:nvPr/>
        </p:nvGrpSpPr>
        <p:grpSpPr>
          <a:xfrm>
            <a:off x="5270400" y="284040"/>
            <a:ext cx="3443400" cy="2400840"/>
            <a:chOff x="5270400" y="284040"/>
            <a:chExt cx="3443400" cy="2400840"/>
          </a:xfrm>
        </p:grpSpPr>
        <p:sp>
          <p:nvSpPr>
            <p:cNvPr id="156" name="AutoShape 5"/>
            <p:cNvSpPr/>
            <p:nvPr/>
          </p:nvSpPr>
          <p:spPr>
            <a:xfrm rot="378600">
              <a:off x="5373360" y="455400"/>
              <a:ext cx="3236760" cy="2057400"/>
            </a:xfrm>
            <a:prstGeom prst="cloudCallout">
              <a:avLst>
                <a:gd name="adj1" fmla="val -56481"/>
                <a:gd name="adj2" fmla="val 7308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57" name="Text Box 6"/>
            <p:cNvSpPr/>
            <p:nvPr/>
          </p:nvSpPr>
          <p:spPr>
            <a:xfrm>
              <a:off x="5791320" y="76212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　　怎样才能顺利到达终点取得胜利？  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03"/>
          <p:cNvPicPr/>
          <p:nvPr/>
        </p:nvPicPr>
        <p:blipFill>
          <a:blip r:embed="rId1"/>
          <a:stretch/>
        </p:blipFill>
        <p:spPr>
          <a:xfrm>
            <a:off x="1066680" y="990720"/>
            <a:ext cx="2422800" cy="639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346760" y="146196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家务事怎样做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87" name="Picture 4" descr="01"/>
          <p:cNvPicPr/>
          <p:nvPr/>
        </p:nvPicPr>
        <p:blipFill>
          <a:blip r:embed="rId2"/>
          <a:stretch/>
        </p:blipFill>
        <p:spPr>
          <a:xfrm>
            <a:off x="1676520" y="2073240"/>
            <a:ext cx="5410080" cy="425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8" name="Rectangle 5"/>
          <p:cNvSpPr/>
          <p:nvPr/>
        </p:nvSpPr>
        <p:spPr>
          <a:xfrm>
            <a:off x="7162920" y="2438280"/>
            <a:ext cx="68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把房子收拾得干干净净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3"/>
          <p:cNvPicPr/>
          <p:nvPr/>
        </p:nvPicPr>
        <p:blipFill>
          <a:blip r:embed="rId1"/>
          <a:stretch/>
        </p:blipFill>
        <p:spPr>
          <a:xfrm>
            <a:off x="1066680" y="990720"/>
            <a:ext cx="2422800" cy="639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346760" y="146196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家务事怎样做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1" name="Picture 4" descr="03"/>
          <p:cNvPicPr/>
          <p:nvPr/>
        </p:nvPicPr>
        <p:blipFill>
          <a:blip r:embed="rId2"/>
          <a:stretch/>
        </p:blipFill>
        <p:spPr>
          <a:xfrm>
            <a:off x="1828800" y="2013120"/>
            <a:ext cx="5486400" cy="43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Rectangle 5"/>
          <p:cNvSpPr/>
          <p:nvPr/>
        </p:nvSpPr>
        <p:spPr>
          <a:xfrm>
            <a:off x="7391520" y="3276720"/>
            <a:ext cx="685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喂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鸡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6"/>
          <p:cNvSpPr/>
          <p:nvPr/>
        </p:nvSpPr>
        <p:spPr>
          <a:xfrm>
            <a:off x="2943360" y="436572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4" name="Picture 2" descr="03"/>
          <p:cNvPicPr/>
          <p:nvPr/>
        </p:nvPicPr>
        <p:blipFill>
          <a:blip r:embed="rId1"/>
          <a:stretch/>
        </p:blipFill>
        <p:spPr>
          <a:xfrm>
            <a:off x="1066680" y="990720"/>
            <a:ext cx="2422800" cy="639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346760" y="146196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家务事怎样做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6" name="Picture 4" descr="04"/>
          <p:cNvPicPr/>
          <p:nvPr/>
        </p:nvPicPr>
        <p:blipFill>
          <a:blip r:embed="rId2"/>
          <a:stretch/>
        </p:blipFill>
        <p:spPr>
          <a:xfrm>
            <a:off x="2219400" y="2009880"/>
            <a:ext cx="4714920" cy="37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Rectangle 5"/>
          <p:cNvSpPr/>
          <p:nvPr/>
        </p:nvSpPr>
        <p:spPr>
          <a:xfrm>
            <a:off x="2943360" y="56815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烧壶开水，让爸爸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妈妈回家后喝杯茶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03"/>
          <p:cNvPicPr/>
          <p:nvPr/>
        </p:nvPicPr>
        <p:blipFill>
          <a:blip r:embed="rId1"/>
          <a:stretch/>
        </p:blipFill>
        <p:spPr>
          <a:xfrm>
            <a:off x="1066680" y="990720"/>
            <a:ext cx="2422800" cy="639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1346760" y="146196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家务事怎样做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00" name="Picture 4" descr="02"/>
          <p:cNvPicPr/>
          <p:nvPr/>
        </p:nvPicPr>
        <p:blipFill>
          <a:blip r:embed="rId2"/>
          <a:stretch/>
        </p:blipFill>
        <p:spPr>
          <a:xfrm>
            <a:off x="1676520" y="2057400"/>
            <a:ext cx="5410080" cy="425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1" name="Rectangle 5"/>
          <p:cNvSpPr/>
          <p:nvPr/>
        </p:nvSpPr>
        <p:spPr>
          <a:xfrm>
            <a:off x="7238880" y="2743200"/>
            <a:ext cx="68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马马虎虎扫扫地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03"/>
          <p:cNvPicPr/>
          <p:nvPr/>
        </p:nvPicPr>
        <p:blipFill>
          <a:blip r:embed="rId1"/>
          <a:stretch/>
        </p:blipFill>
        <p:spPr>
          <a:xfrm>
            <a:off x="1066680" y="990720"/>
            <a:ext cx="2422800" cy="639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346760" y="146196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家务事怎样做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04" name="Picture 4" descr="05"/>
          <p:cNvPicPr/>
          <p:nvPr/>
        </p:nvPicPr>
        <p:blipFill>
          <a:blip r:embed="rId2"/>
          <a:stretch/>
        </p:blipFill>
        <p:spPr>
          <a:xfrm>
            <a:off x="1600200" y="2081160"/>
            <a:ext cx="5400720" cy="424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" name="Rectangle 5"/>
          <p:cNvSpPr/>
          <p:nvPr/>
        </p:nvSpPr>
        <p:spPr>
          <a:xfrm>
            <a:off x="7162920" y="2514600"/>
            <a:ext cx="68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心不在焉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地冲冲碗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03"/>
          <p:cNvPicPr/>
          <p:nvPr/>
        </p:nvPicPr>
        <p:blipFill>
          <a:blip r:embed="rId1"/>
          <a:stretch/>
        </p:blipFill>
        <p:spPr>
          <a:xfrm>
            <a:off x="1066680" y="990720"/>
            <a:ext cx="2422800" cy="6397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1346760" y="146196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家务事怎样做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08" name="Picture 4" descr="06"/>
          <p:cNvPicPr/>
          <p:nvPr/>
        </p:nvPicPr>
        <p:blipFill>
          <a:blip r:embed="rId2"/>
          <a:stretch/>
        </p:blipFill>
        <p:spPr>
          <a:xfrm>
            <a:off x="2286000" y="2057400"/>
            <a:ext cx="4572000" cy="359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9" name="Rectangle 5"/>
          <p:cNvSpPr/>
          <p:nvPr/>
        </p:nvSpPr>
        <p:spPr>
          <a:xfrm>
            <a:off x="2438280" y="56577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只顾踢球，把爸爸交待的买盐的事忘得一干二净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文本框 8199"/>
          <p:cNvSpPr/>
          <p:nvPr/>
        </p:nvSpPr>
        <p:spPr>
          <a:xfrm>
            <a:off x="1066680" y="655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03"/>
          <p:cNvPicPr/>
          <p:nvPr/>
        </p:nvPicPr>
        <p:blipFill>
          <a:blip r:embed="rId1"/>
          <a:stretch/>
        </p:blipFill>
        <p:spPr>
          <a:xfrm>
            <a:off x="1066680" y="990720"/>
            <a:ext cx="2422800" cy="6397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1418760" y="1461960"/>
            <a:ext cx="23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学校的事怎样做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3" name="Picture 4" descr="01"/>
          <p:cNvPicPr/>
          <p:nvPr/>
        </p:nvPicPr>
        <p:blipFill>
          <a:blip r:embed="rId2"/>
          <a:stretch/>
        </p:blipFill>
        <p:spPr>
          <a:xfrm>
            <a:off x="1600200" y="1839960"/>
            <a:ext cx="5943600" cy="4378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4278600" y="5958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不会的问题，大家一起讨论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03"/>
          <p:cNvPicPr/>
          <p:nvPr/>
        </p:nvPicPr>
        <p:blipFill>
          <a:blip r:embed="rId1"/>
          <a:stretch/>
        </p:blipFill>
        <p:spPr>
          <a:xfrm>
            <a:off x="1066680" y="990720"/>
            <a:ext cx="2422800" cy="639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418760" y="1461960"/>
            <a:ext cx="23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学校的事怎样做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7" name="Picture 4" descr="02"/>
          <p:cNvPicPr/>
          <p:nvPr/>
        </p:nvPicPr>
        <p:blipFill>
          <a:blip r:embed="rId2"/>
          <a:stretch/>
        </p:blipFill>
        <p:spPr>
          <a:xfrm>
            <a:off x="1233360" y="1752480"/>
            <a:ext cx="6615360" cy="4618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3070080" y="59436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运动会上，大家为我呐喊助威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01:17:3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36Z</dcterms:modified>
  <cp:revision>6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8a43000000000001024120</vt:lpwstr>
  </property>
</Properties>
</file>