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F85-9F75-41A5-8042-8AA001AA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DBC-F0AE-4243-A343-7B8A517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B80-CB30-4372-8D38-F4A25296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9A9-B9FF-4DC5-9160-086B068A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1ED5-79A4-48A4-BDF6-AE2FA7FD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9D94-CA35-4462-8F4F-57694EC5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3700-F6D6-4B1F-B5D7-0D8FAE7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4AB-EAF3-43FF-99DC-00B7A449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422-1C54-47C4-9285-4254DE6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5E93-C5BE-4974-881E-DE6154F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B14-DFD1-4278-8FA5-EA448D7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10C-01F3-4E22-A0B0-BBBF0BC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8EB-6E51-42E4-B329-3D672A8B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DCD1-1C4B-4915-BAEA-3A2D5C6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5B8-5D02-4967-88DC-CCC246AA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55D2-2116-4835-BF1C-01A5682F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7CF4-E22B-4AF5-A337-3232D12B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0C1E-2B28-4FDC-9D7B-3C0640C2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F0E3-711A-4406-BCB4-94FE585C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E2FC-042F-4DE0-A40D-C4AADD1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E4B5E-883C-4B99-8E26-03432E99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307D-45E4-400C-B75A-420648F9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A41-DD9D-4FB4-B68F-50F8F21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D62B-AEEA-480A-9333-71A5124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C0DA-9DB5-4200-BC04-296CEC3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A324-8740-492F-A0CF-E104B41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3FFB-F5CA-46C3-9C0A-E95DC1C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635E-0599-410B-8E4D-F593827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8424-3885-4B82-A281-43574341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1186-BEB6-447F-92F2-AC9CA7A6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5421-03E1-4CD2-9169-7997EEAE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7846-0806-4803-8B60-61A4730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07BB-70CF-4203-8A3B-4194B523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EC5-BD90-4D76-A35D-42C3260E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AEA1-5706-4404-80AC-B00DAFA9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39C5-1B92-4614-9383-5D5E686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CB83-0F7A-4735-8828-8BB54F92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DA4B-86F7-45B9-AD97-193787E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3D8E-2E8C-46B7-85C9-AEA1451B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7B19-C932-45CF-AEF9-7B2BA73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7E0A-6981-455F-85C1-C1D668B5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8DE0-039A-4982-9B8C-B6021613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7131-D671-4A70-B7F4-51B31EB1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C765-B07B-47BD-95CD-B6F2CF82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338-3104-4B58-9AE1-342CF43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124B-14C8-46A8-9D10-977E067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8FE9-483F-4B2A-BAA7-3862FB9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B7DE-CADA-4D15-8C4D-88117E34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35D5-40C7-4175-87E2-2A096FD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6164-7AF8-4FED-B15B-DC5E454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D3A7-5EA6-4339-A67E-D642B483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1211-0C57-4C8F-9310-3F6274D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0B2F-D14C-4941-A033-8BE9989B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C9D1-5BD3-4633-9003-9228AFF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1F81-07B9-4CE7-A8BB-5DDA3BE7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9D3-BBE5-4A8F-9B95-B5DDE4A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AE9F-F38B-4043-9E1A-E47324A3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8FB-8282-4B28-89EA-285840F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D37-A5FB-422C-B13B-E789064C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AFA-2857-4DBE-9BB5-DCD595C9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071-DC4A-42D2-A2C1-03D2FDC2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89C9-F093-48C1-9D02-7E676DFF6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EE2-EC6E-49B3-8B3D-5653C6C4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0A9-814E-4855-9D0C-3FEFBE55BE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34D7-E918-4D63-8F5C-3504B8E3E5B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WordArt 2" descr=""/>
          <p:cNvPicPr/>
          <p:nvPr/>
        </p:nvPicPr>
        <p:blipFill>
          <a:blip r:embed="rId2"/>
          <a:stretch/>
        </p:blipFill>
        <p:spPr>
          <a:xfrm>
            <a:off x="768240" y="981000"/>
            <a:ext cx="7689960" cy="419112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这件事对他来说（       ）很大，（       ）他绝对不会放弃，一定会想尽办法解决的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292428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、把你觉得课文中需要记住的语句抄写下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四、背诵自己的喜欢的部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7"/>
          <p:cNvSpPr/>
          <p:nvPr/>
        </p:nvSpPr>
        <p:spPr>
          <a:xfrm>
            <a:off x="641520" y="1125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《为人民服务》插图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4648320" y="430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张思德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同志是中央警卫团的战士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3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参加红军，经历过长征，负过伤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4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因大生产运动的需要，被派去陕北安塞县山中烧炭，因炭窑崩塌不幸牺牲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日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，中央警卫团为他举行了追悼会。毛泽东主席在大会上作了著名的演讲，这就是我们今天要学习的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为人民服务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43828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380880" y="13716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è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057400" y="6094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生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059280" y="14842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迁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qiā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0880" y="251460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鸿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ó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124080" y="251460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旺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w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57200" y="358128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标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biā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200400" y="3581280"/>
            <a:ext cx="252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u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33520" y="46483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葬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z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197"/>
          <p:cNvSpPr/>
          <p:nvPr/>
        </p:nvSpPr>
        <p:spPr>
          <a:xfrm>
            <a:off x="828720" y="609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609480" y="2286000"/>
            <a:ext cx="5867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底 鸿毛 送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兴旺 目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事员 司马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828800" y="9144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676520" y="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理解下面句子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762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我们这个队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完全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是为着解放人民的，是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彻底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地为人民的利益工作的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24382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总是要死的，但死的意义有不同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  <a:ea typeface="宋体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0" y="3581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固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有一死，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泰山，或轻于鸿毛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0" y="4876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只要我们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坚持好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改正错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我们这个队伍就一定会兴旺起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因为我们是为人民服务的，所以，我们如果有缺点，就不怕别人批评指出。不管是什么人，谁向我们指出都行。只要你说得对，我们就改正。你说的办法对人民有好处，我们就照你的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3733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要奋斗就会有牺牲，死人的事情是经常发生的。但是我们想到人民的利益，想到大多数人民的痛苦，我们为人民而死，就是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死得其所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张思德为了人民的利益献出了宝贵的生命，但他为革命为人民奋斗一生的光辉事迹和高贵品质，却永世长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2286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00200" y="304812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原因：革命队伍的宗旨、性质所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牺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做法 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困难、加强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开追悼会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437920" y="4190760"/>
            <a:ext cx="686160" cy="533160"/>
            <a:chOff x="2437920" y="4190760"/>
            <a:chExt cx="686160" cy="533160"/>
          </a:xfrm>
        </p:grpSpPr>
        <p:sp>
          <p:nvSpPr>
            <p:cNvPr id="238" name="Line 5"/>
            <p:cNvSpPr/>
            <p:nvPr/>
          </p:nvSpPr>
          <p:spPr>
            <a:xfrm flipV="1">
              <a:off x="2438280" y="419076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2437920" y="419076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14600" y="4800600"/>
            <a:ext cx="609480" cy="360"/>
            <a:chOff x="2514600" y="4800600"/>
            <a:chExt cx="609480" cy="360"/>
          </a:xfrm>
        </p:grpSpPr>
        <p:sp>
          <p:nvSpPr>
            <p:cNvPr id="241" name="Line 6"/>
            <p:cNvSpPr/>
            <p:nvPr/>
          </p:nvSpPr>
          <p:spPr>
            <a:xfrm>
              <a:off x="251460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514600" y="48006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38280" y="4952880"/>
            <a:ext cx="685800" cy="533520"/>
            <a:chOff x="2438280" y="4952880"/>
            <a:chExt cx="685800" cy="533520"/>
          </a:xfrm>
        </p:grpSpPr>
        <p:sp>
          <p:nvSpPr>
            <p:cNvPr id="244" name="Line 7"/>
            <p:cNvSpPr/>
            <p:nvPr/>
          </p:nvSpPr>
          <p:spPr>
            <a:xfrm>
              <a:off x="2438280" y="4952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438280" y="495288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8"/>
          <p:cNvSpPr/>
          <p:nvPr/>
        </p:nvSpPr>
        <p:spPr>
          <a:xfrm>
            <a:off x="170280" y="3581280"/>
            <a:ext cx="1277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人民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197"/>
          <p:cNvSpPr/>
          <p:nvPr/>
        </p:nvSpPr>
        <p:spPr>
          <a:xfrm>
            <a:off x="1908000" y="2133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彩云"/>
              </a:rPr>
              <a:t>轻松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一、写出下列词语的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困难（      ）完全（       ）支持（       ）光明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兴旺（      ）批评（       ）集中（       ）痛苦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21337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imes New Roman"/>
                <a:ea typeface="宋体"/>
              </a:rPr>
              <a:t>二、选择关联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管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虽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但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不管是高级干部，还是普通群众，（       ）他做过违反法纪的事，（       ）要受到法律的惩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人人都来关心班集体，我的班级（        ）一定能评上“文明班级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付出辛勤的劳动，（        ）会有成功的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是什么，我们（        ）不能搞特殊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BB66-3511-4836-9D96-EBBB768C79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2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