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03C-AB5A-40E8-B6C4-157A5726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EA4-2E76-4BAE-BE6A-C10398C8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C65-65B5-40A6-B010-4EE9C4D9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A97-3441-430B-8F68-C7F218BF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DF24-40EF-4616-9BB1-FFCCC6E5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1A15-333C-49C7-B81C-6DCDC1D0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834E-96E7-4D7A-A4A8-48E2F570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8C4F-3760-4A09-901E-93B8EF19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04E0-C458-426E-B60C-3B6BDF27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0FC8-6DF3-4A4E-A558-3D9A4E69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ED6C-2D74-4E40-8AF0-83A6BA2E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876-4DDF-4620-A776-9A0F8130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5CB7-0E50-462A-8D75-A27EE285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65F1-1CBF-4A3E-AB8C-41EB495A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2847-0BB5-40C2-BEFF-BF3D9FF5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F1CC-2F1B-49FF-9966-B091C1CB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9C95-CA9D-478A-A16B-20972D2A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DFF-749C-49B0-B47F-62CB97A5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39C-BAED-4C3E-AFBB-1E5FF1BA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805-9CAE-45EF-8A51-AAA0A394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C43-9D4D-42D4-B098-1F6BC960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03C-EFD8-457F-B2B0-8C879B5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C63-9411-49E0-85CF-F6FAF37A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803-0FFA-456B-9FEE-82DD465A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4069-F6E4-43B4-BFAE-9344ED893E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A6C2-B492-4448-BEF7-A4089CC664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3400"/>
                </a:solidFill>
                <a:latin typeface="华文新魏"/>
                <a:ea typeface="华文新魏"/>
              </a:rPr>
              <a:t>人教新课标  五年级品德与社会上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1619280" y="2637000"/>
            <a:ext cx="619272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我是参与者</a:t>
            </a: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E:\work\新课标配套课件全集\小学全集\mxy\shui02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247120" y="1706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我们可以做什么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4" name="Picture 5" descr="E:\work\新课标配套课件全集\小学全集\mxy\品德与社会\五年级上（2）\我是参与者\p35_2.png"/>
          <p:cNvPicPr/>
          <p:nvPr/>
        </p:nvPicPr>
        <p:blipFill>
          <a:blip r:embed="rId2"/>
          <a:stretch/>
        </p:blipFill>
        <p:spPr>
          <a:xfrm>
            <a:off x="2362320" y="2362320"/>
            <a:ext cx="4457520" cy="4198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953160" y="5881680"/>
            <a:ext cx="124740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我是播音员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work\新课标配套课件全集\小学全集\mxy\shui02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2247120" y="1706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我们可以做什么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8" name="Picture 5" descr="E:\work\新课标配套课件全集\小学全集\mxy\品德与社会\五年级上（2）\我是参与者\p35_3.png"/>
          <p:cNvPicPr/>
          <p:nvPr/>
        </p:nvPicPr>
        <p:blipFill>
          <a:blip r:embed="rId2"/>
          <a:stretch/>
        </p:blipFill>
        <p:spPr>
          <a:xfrm>
            <a:off x="2563920" y="2438280"/>
            <a:ext cx="3836880" cy="40388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3739320" y="5943600"/>
            <a:ext cx="16743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我是板报组成员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CD5B-EDC7-4A16-8F2D-9CE2D3D8FCCC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E:\work\新课标配套课件全集\小学全集\mxy\品德与社会\五年级上（2）\我是参与者\主动献计献策.bmp"/>
          <p:cNvPicPr/>
          <p:nvPr/>
        </p:nvPicPr>
        <p:blipFill>
          <a:blip r:embed="rId1"/>
          <a:stretch/>
        </p:blipFill>
        <p:spPr>
          <a:xfrm>
            <a:off x="2050920" y="1052640"/>
            <a:ext cx="5315040" cy="397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E:\work\新课标配套课件全集\小学全集\mxy\shui04.gif"/>
          <p:cNvPicPr/>
          <p:nvPr/>
        </p:nvPicPr>
        <p:blipFill>
          <a:blip r:embed="rId2"/>
          <a:stretch/>
        </p:blipFill>
        <p:spPr>
          <a:xfrm>
            <a:off x="468360" y="333360"/>
            <a:ext cx="2446200" cy="606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1736640" y="5254560"/>
            <a:ext cx="59436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看看班级、学校中的工作，哪些可以由我们直接参与？我们参与过其中的哪些工作？做得怎么样？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:\work\新课标配套课件全集\小学全集\mxy\shui01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79680" cy="549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3048120" y="5643720"/>
            <a:ext cx="32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积极参加集体活动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2058840" y="1828800"/>
            <a:ext cx="502452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1676520" y="2514600"/>
            <a:ext cx="6324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第五小队决定开展一次小队活动，去科技馆参观。可是活动那天，有三个队员没有参加。同学们对他们的做法不满，可是他们也有自己的理由……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13200" y="1484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0" name="Picture 5" descr="E:\work\新课标配套课件全集\小学全集\mxy\shui02.gif"/>
          <p:cNvPicPr/>
          <p:nvPr/>
        </p:nvPicPr>
        <p:blipFill>
          <a:blip r:embed="rId1"/>
          <a:stretch/>
        </p:blipFill>
        <p:spPr>
          <a:xfrm>
            <a:off x="755640" y="333360"/>
            <a:ext cx="24354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2170440" y="1706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2" name="Picture 6" descr="E:\work\新课标配套课件全集\小学全集\mxy\品德与社会\五年级上（2）\我是参与者\p34_1.png"/>
          <p:cNvPicPr/>
          <p:nvPr/>
        </p:nvPicPr>
        <p:blipFill>
          <a:blip r:embed="rId1"/>
          <a:stretch/>
        </p:blipFill>
        <p:spPr>
          <a:xfrm>
            <a:off x="1600200" y="2590920"/>
            <a:ext cx="2228760" cy="3962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E:\work\新课标配套课件全集\小学全集\mxy\shui02.gif"/>
          <p:cNvPicPr/>
          <p:nvPr/>
        </p:nvPicPr>
        <p:blipFill>
          <a:blip r:embed="rId2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1"/>
          <p:cNvGrpSpPr/>
          <p:nvPr/>
        </p:nvGrpSpPr>
        <p:grpSpPr>
          <a:xfrm>
            <a:off x="4140360" y="1628640"/>
            <a:ext cx="3962160" cy="2133360"/>
            <a:chOff x="4140360" y="1628640"/>
            <a:chExt cx="3962160" cy="2133360"/>
          </a:xfrm>
        </p:grpSpPr>
        <p:sp>
          <p:nvSpPr>
            <p:cNvPr id="95" name="AutoShape 9"/>
            <p:cNvSpPr/>
            <p:nvPr/>
          </p:nvSpPr>
          <p:spPr>
            <a:xfrm>
              <a:off x="4140360" y="1628640"/>
              <a:ext cx="3962160" cy="213336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4444920" y="1780920"/>
              <a:ext cx="35053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上次队会我请假了，所以做出的决定跟我没关系。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97" name="文本框 8199"/>
          <p:cNvSpPr/>
          <p:nvPr/>
        </p:nvSpPr>
        <p:spPr>
          <a:xfrm>
            <a:off x="1981080" y="808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170440" y="1706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9" name="Picture 5" descr="E:\work\新课标配套课件全集\小学全集\mxy\品德与社会\五年级上（2）\我是参与者\p34_2.png"/>
          <p:cNvPicPr/>
          <p:nvPr/>
        </p:nvPicPr>
        <p:blipFill>
          <a:blip r:embed="rId1"/>
          <a:stretch/>
        </p:blipFill>
        <p:spPr>
          <a:xfrm>
            <a:off x="4191120" y="3048120"/>
            <a:ext cx="3714480" cy="3301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E:\work\新课标配套课件全集\小学全集\mxy\shui02.gif"/>
          <p:cNvPicPr/>
          <p:nvPr/>
        </p:nvPicPr>
        <p:blipFill>
          <a:blip r:embed="rId2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533520" y="2286000"/>
            <a:ext cx="4724280" cy="2362320"/>
            <a:chOff x="533520" y="2286000"/>
            <a:chExt cx="4724280" cy="2362320"/>
          </a:xfrm>
        </p:grpSpPr>
        <p:sp>
          <p:nvSpPr>
            <p:cNvPr id="102" name="AutoShape 8"/>
            <p:cNvSpPr/>
            <p:nvPr/>
          </p:nvSpPr>
          <p:spPr>
            <a:xfrm>
              <a:off x="533520" y="2286000"/>
              <a:ext cx="4724280" cy="2362320"/>
            </a:xfrm>
            <a:prstGeom prst="cloudCallout">
              <a:avLst>
                <a:gd name="adj1" fmla="val 40287"/>
                <a:gd name="adj2" fmla="val 5564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838080" y="2560680"/>
              <a:ext cx="41911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讨论的时候，我本来就不同意，谁同意谁去，我不同意，就不去。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170440" y="1706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5" name="Picture 5" descr="E:\work\新课标配套课件全集\小学全集\mxy\品德与社会\五年级上（2）\我是参与者\p34_3.png"/>
          <p:cNvPicPr/>
          <p:nvPr/>
        </p:nvPicPr>
        <p:blipFill>
          <a:blip r:embed="rId1"/>
          <a:stretch/>
        </p:blipFill>
        <p:spPr>
          <a:xfrm>
            <a:off x="5613480" y="2438280"/>
            <a:ext cx="2387520" cy="403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E:\work\新课标配套课件全集\小学全集\mxy\shui02.gif"/>
          <p:cNvPicPr/>
          <p:nvPr/>
        </p:nvPicPr>
        <p:blipFill>
          <a:blip r:embed="rId2"/>
          <a:stretch/>
        </p:blipFill>
        <p:spPr>
          <a:xfrm>
            <a:off x="900000" y="189000"/>
            <a:ext cx="2435400" cy="6062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0"/>
          <p:cNvGrpSpPr/>
          <p:nvPr/>
        </p:nvGrpSpPr>
        <p:grpSpPr>
          <a:xfrm>
            <a:off x="609480" y="2286000"/>
            <a:ext cx="5029200" cy="2362320"/>
            <a:chOff x="609480" y="2286000"/>
            <a:chExt cx="5029200" cy="2362320"/>
          </a:xfrm>
        </p:grpSpPr>
        <p:sp>
          <p:nvSpPr>
            <p:cNvPr id="108" name="AutoShape 7"/>
            <p:cNvSpPr/>
            <p:nvPr/>
          </p:nvSpPr>
          <p:spPr>
            <a:xfrm>
              <a:off x="609480" y="2286000"/>
              <a:ext cx="5029200" cy="2362320"/>
            </a:xfrm>
            <a:prstGeom prst="cloudCallout">
              <a:avLst>
                <a:gd name="adj1" fmla="val 40879"/>
                <a:gd name="adj2" fmla="val 5564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762120" y="2514600"/>
              <a:ext cx="4572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活动那天，正好有人约我去踢球。我想，小队那么多人，缺我一个也没关系。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2170440" y="1706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763640" y="3213000"/>
            <a:ext cx="6518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你觉得他们说的有道理吗？想一想，集体做出的决定，是不是可以执行，也可以不执行？为什么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2" name="Picture 6" descr="E:\work\新课标配套课件全集\小学全集\mxy\shui02.gif"/>
          <p:cNvPicPr/>
          <p:nvPr/>
        </p:nvPicPr>
        <p:blipFill>
          <a:blip r:embed="rId1"/>
          <a:stretch/>
        </p:blipFill>
        <p:spPr>
          <a:xfrm>
            <a:off x="826920" y="692280"/>
            <a:ext cx="2435400" cy="606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小蜜蜂"/>
          <p:cNvPicPr/>
          <p:nvPr/>
        </p:nvPicPr>
        <p:blipFill>
          <a:blip r:embed="rId2"/>
          <a:stretch/>
        </p:blipFill>
        <p:spPr>
          <a:xfrm>
            <a:off x="6924600" y="4533840"/>
            <a:ext cx="2219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27"/>
          <p:cNvSpPr/>
          <p:nvPr/>
        </p:nvSpPr>
        <p:spPr>
          <a:xfrm>
            <a:off x="2170440" y="1706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Rectangle 1028"/>
          <p:cNvSpPr/>
          <p:nvPr/>
        </p:nvSpPr>
        <p:spPr>
          <a:xfrm>
            <a:off x="1828800" y="2657520"/>
            <a:ext cx="5791320" cy="60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集体讨论的时候，我们有积极发表自己意见的权利和义务，经过民主决策出的行动计划，我们也有遵照执行的责任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6" name="Picture 1030" descr="E:\work\新课标配套课件全集\小学全集\mxy\shui02.gif"/>
          <p:cNvPicPr/>
          <p:nvPr/>
        </p:nvPicPr>
        <p:blipFill>
          <a:blip r:embed="rId2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E:\work\新课标配套课件全集\小学全集\mxy\shui02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2247120" y="1706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我们可以做什么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9" name="Picture 10" descr="E:\work\新课标配套课件全集\小学全集\mxy\品德与社会\五年级上（2）\我是参与者\p35_1.png"/>
          <p:cNvPicPr/>
          <p:nvPr/>
        </p:nvPicPr>
        <p:blipFill>
          <a:blip r:embed="rId2"/>
          <a:stretch/>
        </p:blipFill>
        <p:spPr>
          <a:xfrm>
            <a:off x="2438280" y="2286000"/>
            <a:ext cx="4191120" cy="4014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3642480" y="5943600"/>
            <a:ext cx="188748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我当学校的值周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文本框 8199"/>
          <p:cNvSpPr/>
          <p:nvPr/>
        </p:nvSpPr>
        <p:spPr>
          <a:xfrm>
            <a:off x="2178000" y="808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0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13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