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AF6-76A4-4088-AC19-7084C4F5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91A-B2D9-4C29-B70B-8030A3C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6C99C-BA36-4B42-A94A-64A0A42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F9018-3F38-43ED-AF66-BEF18DEB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01E9E-CA56-41BC-B5C9-A6AE45E6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798AA-08E2-49BC-99E1-C134A78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4F61A-A653-443E-BF47-E56C8206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5DA9F-41DB-4FE7-A007-2D7F457F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7F3EA-0D6D-4023-8AEC-B4001D90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496B5-7596-4A0E-995B-03F0AE1E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584C1-E43E-4DEF-9B84-BFEDC325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82C30-918B-4CF6-98C5-1CEBE135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B89-D840-4C7C-85C7-51C654E3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B8C29-CC8D-4DBB-8A7D-6A36045F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12A05-1CE0-4E67-A5E9-E61FE94A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2F0C6-833C-4688-BAC7-8B4B74B2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64FB1-067F-477F-8812-7CB102B2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AA0D2-8A63-4FC6-AEC0-9EC12799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F3C5F-F799-42B8-B9D0-8BF081D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951E1-4D9B-4DBE-B0F4-2495558A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8E7BC-46D8-42E1-8AF2-E236ED1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11D83-0971-4C36-92AB-CD545C56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8A12A-7FC0-40B9-9B62-3E27000C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895-0419-4771-85F0-72E9DEF3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77268-552E-45EB-8B3D-7FF4E92C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2CB34-3753-4E69-A093-D3366029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9DC45-27FE-42F2-A5DA-F1B7FA50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F20FC-97B1-4347-A29C-343B26FF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67F58-28C3-4C8F-A1BD-56D14855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0A6E2-50A1-445A-AD73-2BE83E09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AEFEB-FC64-4C08-9E7D-6FC6E462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F32DB-4DB1-4C5F-BAE3-17CC095C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BF924-9E7E-4763-9560-44C7A9D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E9C2D-0A3F-44BC-A58C-966A76D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30D4-D4B2-4E31-BF5A-E1078BAF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80ED8-D2A1-4C0F-8B8E-9689A332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2F9C6-7E8E-408B-8455-4CB02B52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508AF-9794-4078-A340-C4E2EEDD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ADE88-8FD3-46CA-A57A-747E3121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9501F-E9AE-47BC-89E9-0038F7A1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A8A78-5845-4872-9B3D-C76FB20B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2C9A8-1614-4C9D-A703-41F96917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01637-8C0D-4E3F-AD80-19B3C436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7ACFA-BACA-4011-85A3-C4D289F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031A9-CEE5-44F5-BFC7-6AF1D1D4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5A07-3E65-4106-AF5B-EA83C4B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E0370-9486-44AC-9DD9-F8C27B0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47FF1-A3D6-48BB-B5BC-63B59EB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E84EF-0DE2-42E6-9CB5-28BFE352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F188C-8329-49F3-B2F3-834D59EE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CC76B-CEC1-4D16-86A5-031A6FD3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ABD32-2DBE-4DED-B17E-4CCC86FA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9457D-1B81-4512-A460-ACF39E1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B8555-EA3A-4A1E-8579-08FE3CF0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6D4B1-0DE8-4DB9-B449-F9D294B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88CC3-28CE-4D8A-9F3E-28E9EFE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CA80-D052-4EB7-BAB0-77FE2B40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5C847-627B-45B2-B620-256881D5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30AE7-4CE1-47DF-8FC2-C4E3486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04280-014F-4A4C-9115-BE225516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17C3D-7EF8-4811-A22D-9032B8F8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60696-1C67-405A-84AB-4EADB716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A3833-45C2-4134-8F86-A165BC71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9DF91-0734-467B-BA1E-01C73FBD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1DD6-A993-44E4-A781-2AB7332D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9785-2D75-4DDE-AF79-298FE484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B897-9D14-43D0-B1B7-C56AFB80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2FF4-A074-4D15-BB6D-6A40BE4A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1EE-063D-4B59-B355-C2C02D9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4D43-539A-4B8E-8A56-B6654D96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9018-D4D8-419B-BF8E-7222ACD1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3606-DED5-4CB6-B58C-05C25C68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F5C0-E0FB-44B7-99AC-9FCDEDDF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F762-D286-4FDA-ADFC-3E7FE3B3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8CC3-BDC3-48FF-9A89-37E44AEC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98C4-8A03-4DCC-8580-49FC4756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45AB-8D20-4302-94AC-51B4572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B381-BB12-481F-953B-53D69E6A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B009-D248-46CC-A02E-E4AB9CEC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1A9-B38C-4655-9EDC-DCF6C286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2492-0064-4D39-BCCD-C98A88B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7687-1B41-415F-8DF3-DE1F0417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B553-C7E5-4260-9857-982DA41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7134-7BA5-4E54-BA84-1BCFC18D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FDC2-D4F3-446B-9DB0-59A5C0C0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6E6A-6620-44A9-84CE-988A76A6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611C-8613-4741-95A5-13011E6F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288C-54B4-4437-8F67-767D9311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484D6-E4CA-4A9C-8F83-A3290433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58EA-38C6-41A0-A3D9-D9D6EC03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0A2-504C-4EFB-A0EA-2886356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88DB3-E7F2-4C3E-B2BC-319FEF7A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DB7F-963E-4C83-A6C3-64223D27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A160-97FC-4870-B3FD-D09F18FE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2D32-845D-41EA-9BEA-5B5FE13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EE0B3-607D-41E6-8344-814D6332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75C7-FC3C-4567-96CF-485E818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8F733-C1ED-48FE-863F-7B331733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25BBC-A2C6-42DB-B91B-218385D3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03AFB-3462-464D-9B25-04D5643E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BD784-1AE3-46F1-B827-F8C22B54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3AD-FE00-438F-92FA-F22BC08C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9DC06-7E14-46B5-AF8F-303783DD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5E8C-93E7-4C01-BCA5-8CDF385D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2D26E-8976-44E2-A969-F486788F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BA82-85CA-4542-85E6-0E0D56D2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D071E-AC3E-4178-BB6A-BA3C51A7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407BE-5BAB-4166-ABC4-B5000E97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1EFD8-2084-4159-80AB-8E3BCDD2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7925D-E5FD-4E30-9647-837FCF04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C42CD-F6A7-4EE6-BC3F-8805C199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D21EA-7678-4621-BE0E-F4C84BF2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54C-283D-42FC-A635-FB0BFD50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83930-491C-4193-A2E8-9EBD46F4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0674-C0DC-4FCB-9D8B-DD90FA19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AB615-E375-4DC5-9088-9F4DA3CD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E0E50-1C78-4583-AF0A-DFF63969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F06ED-7452-4299-A887-C782506D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1FAA1-6AFF-4C3D-9921-A777E7A1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338F-69CA-40C5-8708-46588F46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E298C-3A0F-45A0-AD6A-915D4E57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C004-FD12-4462-A000-7B76141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0F32-DBDC-4B00-91C9-C4372D44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6CA-46FF-4D1E-9116-10F806E2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A3568-8C5F-4491-8503-1F7BD190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7E381-6D72-49EE-AFFE-A8500042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B9E0E-92FD-4150-807F-28AE18E1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012F7-706F-4144-9802-DEF83D54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B9B68-82CD-417C-8A2A-DC214A35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917BE-8606-4E55-8B26-A7907F19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861E6-86CB-4B8E-B517-9061143A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6C11E-AB21-4241-82EC-6633A902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174CC-441E-4E48-944C-B28A85B1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41D2-44F1-40B7-8DA5-E01BD5FE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00B-952F-4A48-9A35-72BC56A8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927C-57C4-43C9-BDD9-3E9FCAC0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30D7D-95F3-472D-873C-EF291607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C3609-894D-4422-A5A2-4A01263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19159-8A37-45C0-8E90-8FD6AC2F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58BD-77B3-45A8-AEED-3828D043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B0826-49B1-492D-87AB-14E73338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4C56-EBAB-446A-BB22-92C992B1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45571-1A68-4B7C-85E5-66754368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BA703-E315-41DE-8A27-8B178418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6A7A4-DECA-4925-BF63-8B8AD387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0C5-8043-4309-A728-83162B1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F2597-5137-457F-AD3B-BA2767AF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AF134-DE5A-4B11-9799-F221B19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6238-6D38-4403-9380-613DE63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3D80D-6331-4A6D-AE45-F42C0EC5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954EA-A293-4598-83D5-B995A745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858C2-4981-43C5-8045-620EBBD2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9D172-E7B6-4BEF-93EB-37C93F5D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F009D-C1E7-4E39-B8E6-EDE24967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B7D05-C898-4F6D-BEA6-A09A1B5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713A6-ADE5-41B6-BEF1-E7B8E6D2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D69E-D00D-43EF-BDCE-1E5EEE5C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4001-16E7-423A-93CB-FFED5CEA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A54E-5472-4A73-B791-998804E0E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DECE-684B-4E4C-B661-7BFEDAD63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BBDE-FCCC-44D3-9E98-EF2B9F3ED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F7BF-65E8-4842-B53E-8F78139EEB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FDBD-E3FD-4446-9025-22275008B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2BD9-F0B6-4476-BA74-CE0381335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5A89-2E10-4C6E-986D-00CDF7553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B6DA-8682-406B-8222-CE11FB2CE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F34F-1B24-4BD7-A95F-B0E713720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AB4-5C2F-4EC7-A5CB-8B068C0C2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1E45-09E4-4497-8EC4-C4925AD0E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 rot="344400">
            <a:off x="1285560" y="777960"/>
            <a:ext cx="6576840" cy="20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生活的社区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9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4" name="图片 2" descr=""/>
          <p:cNvPicPr/>
          <p:nvPr/>
        </p:nvPicPr>
        <p:blipFill>
          <a:blip r:embed="rId1"/>
          <a:stretch/>
        </p:blipFill>
        <p:spPr>
          <a:xfrm>
            <a:off x="2193840" y="278136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5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953240" cy="360504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2556000" y="5157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业余生活越来越丰富了，现在越来越多的老年人也学会了自娱自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WordArt 5"/>
          <p:cNvSpPr txBox="1"/>
          <p:nvPr/>
        </p:nvSpPr>
        <p:spPr>
          <a:xfrm rot="19326000">
            <a:off x="-271080" y="1244160"/>
            <a:ext cx="505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丰富的业余生活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3635280" y="836640"/>
            <a:ext cx="5208840" cy="313524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2195640" y="465300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经常组织一些公益活动，为群众普及法律知识，现在社区居民的权利意识在不断的增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4"/>
          <p:cNvSpPr txBox="1"/>
          <p:nvPr/>
        </p:nvSpPr>
        <p:spPr>
          <a:xfrm rot="19014600">
            <a:off x="-252000" y="1341360"/>
            <a:ext cx="45846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权利意识的提高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文本框 8196"/>
          <p:cNvSpPr/>
          <p:nvPr/>
        </p:nvSpPr>
        <p:spPr>
          <a:xfrm>
            <a:off x="2446200" y="43178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5"/>
          <p:cNvSpPr/>
          <p:nvPr/>
        </p:nvSpPr>
        <p:spPr>
          <a:xfrm>
            <a:off x="210348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611280" y="1125360"/>
            <a:ext cx="78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说说你的社区中还有哪些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公用设施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？给我们的生活带来了哪些方便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684360" y="4149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公用设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进行社会活动的非生产性的建筑物和设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城市社区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农村社区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有什么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相同之处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，各自又有什么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特点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96720" y="1699920"/>
            <a:ext cx="9540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同之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都有一定的地域；一 定的人群；共同的行为规范，生活方式和社区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0" y="2997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农村社区的特点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人口密度稀疏，较少移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经济活动简单；社区组织结构简单；家庭作用重，血缘关系浓；生活方式、风俗习惯较为传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城市社区的特点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人口集中，成分复杂；经济活动频繁；具有各种复杂的多样的生活方式；具有结构复杂的各种群体和组织；政治、思想、文化比较发达；人际关系比较松散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8B91-A980-4143-8AEB-26528D4191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2007112256124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6"/>
          <p:cNvSpPr/>
          <p:nvPr/>
        </p:nvSpPr>
        <p:spPr>
          <a:xfrm>
            <a:off x="3400920" y="700200"/>
            <a:ext cx="23752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社区文明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朋友，拍拍手，文明儿歌记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社区里，好环境，小伙伴们齐出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阳台上，晾衣服，妈妈千万要注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汽车，笛笛笛，爸爸的车儿别乱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邻里间，讲文明，团结友爱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爱社区我的家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042920" y="765000"/>
            <a:ext cx="7058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体验社区里的公用设施给人们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来的方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步了解社区的一些机构，街道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为搞好社区建设所做的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懂得要保护社区的公共设施，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工作人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同学们你知道什么叫社区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03520" y="3068640"/>
            <a:ext cx="2526120" cy="1968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由聚集在某一地域中的社会 群体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社会组织所形成的一个互相关联的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实体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社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城市社区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指在特定的区域内，由从事各种非农业劳动，而有各种社会分工的密集人口所组成的社会。       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农村社区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指居民以从事农业生产为主要谋生手段的区域社会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971640" y="836640"/>
            <a:ext cx="69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社区又分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城市社区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农村社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2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  <p:sp>
        <p:nvSpPr>
          <p:cNvPr id="543" name="WordArt 7"/>
          <p:cNvSpPr txBox="1"/>
          <p:nvPr/>
        </p:nvSpPr>
        <p:spPr>
          <a:xfrm rot="20577600">
            <a:off x="684000" y="1196640"/>
            <a:ext cx="51116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4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社区需要我们的共同参与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44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4" name="文本框 8196"/>
          <p:cNvSpPr/>
          <p:nvPr/>
        </p:nvSpPr>
        <p:spPr>
          <a:xfrm>
            <a:off x="1549440" y="36939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572000" cy="31384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3429000" y="5661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有了电话亭，人们通信更方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 rot="19465800">
            <a:off x="0" y="3573000"/>
            <a:ext cx="500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方便的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0" y="0"/>
            <a:ext cx="91440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看看我们的社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有些什么？这些设施给我们带来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4876920" cy="36496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3635280" y="5157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了公交车，出行方便、快捷，还省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4"/>
          <p:cNvSpPr txBox="1"/>
          <p:nvPr/>
        </p:nvSpPr>
        <p:spPr>
          <a:xfrm rot="19660200">
            <a:off x="-323640" y="1196640"/>
            <a:ext cx="57135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方便的出行</a:t>
            </a:r>
            <a:endParaRPr b="0" lang="en-US" sz="5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724280" cy="36655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2195640" y="479736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增加了许多娱乐、健身设施，居民的业余生活更加丰富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4"/>
          <p:cNvSpPr txBox="1"/>
          <p:nvPr/>
        </p:nvSpPr>
        <p:spPr>
          <a:xfrm rot="19101600">
            <a:off x="-225000" y="1495080"/>
            <a:ext cx="548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方便的生活设施</a:t>
            </a:r>
            <a:endParaRPr b="0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3635280" y="836640"/>
            <a:ext cx="5105520" cy="34653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2895480" y="508464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书店，提高了群众的文化水平，丰富了群众的业余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 rot="19536000">
            <a:off x="-299520" y="1468080"/>
            <a:ext cx="57085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丰富的业余生活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5:44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21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3605000000000001024120</vt:lpwstr>
  </property>
</Properties>
</file>