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42.jpeg" ContentType="image/jpeg"/>
  <Override PartName="/ppt/media/image20.jpeg" ContentType="image/jpeg"/>
  <Override PartName="/ppt/media/image21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0.png" ContentType="image/png"/>
  <Override PartName="/ppt/media/image6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E07-B094-4FDC-8C57-A364652D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C9D-AF00-4D4C-832C-B18C0AB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E49-8653-4090-A920-9B0B930A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B5C-AB2A-42EF-9B8C-CB3A220F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5D96-4FF8-4A65-8474-B0496F80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E20F-FF56-4B3E-9CB6-68163A44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9EE-B9C3-4C8E-8559-891A68B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920-35A0-46C5-9FF4-A6E97B61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817-409D-4A89-A317-A7811CD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2167-1D2F-48E1-8785-FC8B5661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AAC-B861-457E-B46C-B585FA4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C51-DF12-424A-9041-EB1A917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C9B-BA57-433D-8960-D3D0F6E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5933-E80B-4369-8E70-4D9A02D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BEBE-77BD-4B2E-95AA-4207C2B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CFB2-90D4-41BF-9047-224E7D75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9AA1-B68C-4588-B685-8819F558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1BD-690F-4A67-A90C-C7E87BF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E1C-7CA0-4C0C-ACC7-7CD27911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A9E-E2ED-4B83-9A05-222AA9BE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0D0-0A94-4FDF-B34C-962476A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9BA-CE4C-4961-9CF4-263BFBEB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26F-943C-494E-ADCC-36E79FF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D68-35F0-400C-AC00-3A37DAD5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CB25-45CB-40F5-8C83-1E5AFC29A0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D65-C4D9-4690-80EE-83AD60D241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1.jpeg"/><Relationship Id="rId4" Type="http://schemas.openxmlformats.org/officeDocument/2006/relationships/image" Target="../media/image61.jpe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1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hyperlink" Target="259,27,&#24187;&#28783;&#29255; 27" TargetMode="External"/><Relationship Id="rId4" Type="http://schemas.openxmlformats.org/officeDocument/2006/relationships/hyperlink" Target="318,28,&#24187;&#28783;&#29255; 28" TargetMode="External"/><Relationship Id="rId5" Type="http://schemas.openxmlformats.org/officeDocument/2006/relationships/hyperlink" Target="320,30,&#24187;&#28783;&#29255; 30" TargetMode="External"/><Relationship Id="rId6" Type="http://schemas.openxmlformats.org/officeDocument/2006/relationships/hyperlink" Target="271,33,&#24187;&#28783;&#29255; 33" TargetMode="External"/><Relationship Id="rId7" Type="http://schemas.openxmlformats.org/officeDocument/2006/relationships/hyperlink" Target="322,31,&#24187;&#28783;&#29255; 31" TargetMode="External"/><Relationship Id="rId8" Type="http://schemas.openxmlformats.org/officeDocument/2006/relationships/hyperlink" Target="324,37,&#21508;&#20855;&#29305;&#33394;&#30340;&#27665;&#26063;&#33410;&#26085;" TargetMode="Externa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519925176020722959"/>
          <p:cNvPicPr/>
          <p:nvPr/>
        </p:nvPicPr>
        <p:blipFill>
          <a:blip r:embed="rId1"/>
          <a:stretch/>
        </p:blipFill>
        <p:spPr>
          <a:xfrm>
            <a:off x="0" y="2349360"/>
            <a:ext cx="9132840" cy="450864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819000" y="620640"/>
            <a:ext cx="6856560" cy="6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十六个民族五十六朵花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228600" y="152280"/>
            <a:ext cx="3049560" cy="3124080"/>
            <a:chOff x="228600" y="152280"/>
            <a:chExt cx="3049560" cy="3124080"/>
          </a:xfrm>
        </p:grpSpPr>
        <p:pic>
          <p:nvPicPr>
            <p:cNvPr id="173" name="Picture 3" descr="东乡族1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30508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2610360" y="990360"/>
              <a:ext cx="667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东乡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75" name="Group 5"/>
          <p:cNvGrpSpPr/>
          <p:nvPr/>
        </p:nvGrpSpPr>
        <p:grpSpPr>
          <a:xfrm>
            <a:off x="4419720" y="152280"/>
            <a:ext cx="3278160" cy="3276720"/>
            <a:chOff x="4419720" y="152280"/>
            <a:chExt cx="3278160" cy="3276720"/>
          </a:xfrm>
        </p:grpSpPr>
        <p:pic>
          <p:nvPicPr>
            <p:cNvPr id="176" name="Picture 6" descr="纳西族1"/>
            <p:cNvPicPr/>
            <p:nvPr/>
          </p:nvPicPr>
          <p:blipFill>
            <a:blip r:embed="rId2"/>
            <a:stretch/>
          </p:blipFill>
          <p:spPr>
            <a:xfrm>
              <a:off x="4419720" y="152280"/>
              <a:ext cx="2457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7"/>
            <p:cNvSpPr/>
            <p:nvPr/>
          </p:nvSpPr>
          <p:spPr>
            <a:xfrm>
              <a:off x="7030080" y="914400"/>
              <a:ext cx="667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纳西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78" name="Group 8"/>
          <p:cNvGrpSpPr/>
          <p:nvPr/>
        </p:nvGrpSpPr>
        <p:grpSpPr>
          <a:xfrm>
            <a:off x="642960" y="3657600"/>
            <a:ext cx="3330720" cy="2895480"/>
            <a:chOff x="642960" y="3657600"/>
            <a:chExt cx="3330720" cy="2895480"/>
          </a:xfrm>
        </p:grpSpPr>
        <p:pic>
          <p:nvPicPr>
            <p:cNvPr id="179" name="Picture 9" descr="景颇族"/>
            <p:cNvPicPr/>
            <p:nvPr/>
          </p:nvPicPr>
          <p:blipFill>
            <a:blip r:embed="rId3"/>
            <a:stretch/>
          </p:blipFill>
          <p:spPr>
            <a:xfrm>
              <a:off x="642960" y="3657600"/>
              <a:ext cx="2190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0"/>
            <p:cNvSpPr/>
            <p:nvPr/>
          </p:nvSpPr>
          <p:spPr>
            <a:xfrm>
              <a:off x="2938320" y="3857760"/>
              <a:ext cx="103536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景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pò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颇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1" name="Group 11"/>
          <p:cNvGrpSpPr/>
          <p:nvPr/>
        </p:nvGrpSpPr>
        <p:grpSpPr>
          <a:xfrm>
            <a:off x="5029200" y="3505320"/>
            <a:ext cx="3049560" cy="3124080"/>
            <a:chOff x="5029200" y="3505320"/>
            <a:chExt cx="3049560" cy="3124080"/>
          </a:xfrm>
        </p:grpSpPr>
        <p:pic>
          <p:nvPicPr>
            <p:cNvPr id="182" name="Picture 12" descr="柯尔克孜族1"/>
            <p:cNvPicPr/>
            <p:nvPr/>
          </p:nvPicPr>
          <p:blipFill>
            <a:blip r:embed="rId4"/>
            <a:stretch/>
          </p:blipFill>
          <p:spPr>
            <a:xfrm>
              <a:off x="5029200" y="3505320"/>
              <a:ext cx="21906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3"/>
            <p:cNvSpPr/>
            <p:nvPr/>
          </p:nvSpPr>
          <p:spPr>
            <a:xfrm>
              <a:off x="6923520" y="4114800"/>
              <a:ext cx="115524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柯尔克孜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28600" y="228600"/>
            <a:ext cx="2973240" cy="3276720"/>
            <a:chOff x="228600" y="228600"/>
            <a:chExt cx="2973240" cy="3276720"/>
          </a:xfrm>
        </p:grpSpPr>
        <p:pic>
          <p:nvPicPr>
            <p:cNvPr id="185" name="Picture 3" descr="土族1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26692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4"/>
            <p:cNvSpPr/>
            <p:nvPr/>
          </p:nvSpPr>
          <p:spPr>
            <a:xfrm>
              <a:off x="2534040" y="1371600"/>
              <a:ext cx="667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土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4343400" y="3657600"/>
            <a:ext cx="3430440" cy="3200400"/>
            <a:chOff x="4343400" y="3657600"/>
            <a:chExt cx="3430440" cy="3200400"/>
          </a:xfrm>
        </p:grpSpPr>
        <p:pic>
          <p:nvPicPr>
            <p:cNvPr id="188" name="Picture 6" descr="羌族"/>
            <p:cNvPicPr/>
            <p:nvPr/>
          </p:nvPicPr>
          <p:blipFill>
            <a:blip r:embed="rId2"/>
            <a:stretch/>
          </p:blipFill>
          <p:spPr>
            <a:xfrm>
              <a:off x="4343400" y="3657600"/>
              <a:ext cx="24382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7106040" y="4572000"/>
              <a:ext cx="667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羌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4114800" y="228600"/>
            <a:ext cx="3838680" cy="3733920"/>
            <a:chOff x="4114800" y="228600"/>
            <a:chExt cx="3838680" cy="3733920"/>
          </a:xfrm>
        </p:grpSpPr>
        <p:grpSp>
          <p:nvGrpSpPr>
            <p:cNvPr id="191" name="Group 9"/>
            <p:cNvGrpSpPr/>
            <p:nvPr/>
          </p:nvGrpSpPr>
          <p:grpSpPr>
            <a:xfrm>
              <a:off x="4114800" y="228600"/>
              <a:ext cx="3354480" cy="3733920"/>
              <a:chOff x="4114800" y="228600"/>
              <a:chExt cx="3354480" cy="3733920"/>
            </a:xfrm>
          </p:grpSpPr>
          <p:pic>
            <p:nvPicPr>
              <p:cNvPr id="192" name="Picture 10" descr="达斡尔族1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"/>
                <a:ext cx="2276640" cy="32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11"/>
              <p:cNvSpPr/>
              <p:nvPr/>
            </p:nvSpPr>
            <p:spPr>
              <a:xfrm>
                <a:off x="6801480" y="1066680"/>
                <a:ext cx="667800" cy="28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达     斡尔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94" name="Text Box 12"/>
            <p:cNvSpPr/>
            <p:nvPr/>
          </p:nvSpPr>
          <p:spPr>
            <a:xfrm>
              <a:off x="6886440" y="15573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宋体"/>
                </a:rPr>
                <a:t>wò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457200" y="3733920"/>
            <a:ext cx="3505320" cy="3124080"/>
            <a:chOff x="457200" y="3733920"/>
            <a:chExt cx="3505320" cy="3124080"/>
          </a:xfrm>
        </p:grpSpPr>
        <p:grpSp>
          <p:nvGrpSpPr>
            <p:cNvPr id="196" name="Group 14"/>
            <p:cNvGrpSpPr/>
            <p:nvPr/>
          </p:nvGrpSpPr>
          <p:grpSpPr>
            <a:xfrm>
              <a:off x="457200" y="3733920"/>
              <a:ext cx="3201840" cy="3124080"/>
              <a:chOff x="457200" y="3733920"/>
              <a:chExt cx="3201840" cy="3124080"/>
            </a:xfrm>
          </p:grpSpPr>
          <p:pic>
            <p:nvPicPr>
              <p:cNvPr id="197" name="Picture 15" descr="仫佬族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733920"/>
                <a:ext cx="253368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Text Box 16"/>
              <p:cNvSpPr/>
              <p:nvPr/>
            </p:nvSpPr>
            <p:spPr>
              <a:xfrm>
                <a:off x="2991240" y="4572000"/>
                <a:ext cx="66780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仫佬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17"/>
            <p:cNvSpPr/>
            <p:nvPr/>
          </p:nvSpPr>
          <p:spPr>
            <a:xfrm>
              <a:off x="3048120" y="4023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宋体"/>
                </a:rPr>
                <a:t>mù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228600" y="228600"/>
            <a:ext cx="3201840" cy="3200400"/>
            <a:chOff x="228600" y="228600"/>
            <a:chExt cx="3201840" cy="3200400"/>
          </a:xfrm>
        </p:grpSpPr>
        <p:pic>
          <p:nvPicPr>
            <p:cNvPr id="201" name="Picture 3" descr="布朗族1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4382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4"/>
            <p:cNvSpPr/>
            <p:nvPr/>
          </p:nvSpPr>
          <p:spPr>
            <a:xfrm>
              <a:off x="2762640" y="1143000"/>
              <a:ext cx="6678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布朗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03" name="Group 5"/>
          <p:cNvGrpSpPr/>
          <p:nvPr/>
        </p:nvGrpSpPr>
        <p:grpSpPr>
          <a:xfrm>
            <a:off x="457200" y="3581280"/>
            <a:ext cx="3506760" cy="3048120"/>
            <a:chOff x="457200" y="3581280"/>
            <a:chExt cx="3506760" cy="3048120"/>
          </a:xfrm>
        </p:grpSpPr>
        <p:pic>
          <p:nvPicPr>
            <p:cNvPr id="204" name="Picture 6" descr="毛南族1"/>
            <p:cNvPicPr/>
            <p:nvPr/>
          </p:nvPicPr>
          <p:blipFill>
            <a:blip r:embed="rId2"/>
            <a:stretch/>
          </p:blipFill>
          <p:spPr>
            <a:xfrm>
              <a:off x="457200" y="3581280"/>
              <a:ext cx="27241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7"/>
            <p:cNvSpPr/>
            <p:nvPr/>
          </p:nvSpPr>
          <p:spPr>
            <a:xfrm>
              <a:off x="3296160" y="4343400"/>
              <a:ext cx="667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毛南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06" name="Group 8"/>
          <p:cNvGrpSpPr/>
          <p:nvPr/>
        </p:nvGrpSpPr>
        <p:grpSpPr>
          <a:xfrm>
            <a:off x="4572000" y="152280"/>
            <a:ext cx="4010040" cy="3352680"/>
            <a:chOff x="4572000" y="152280"/>
            <a:chExt cx="4010040" cy="3352680"/>
          </a:xfrm>
        </p:grpSpPr>
        <p:grpSp>
          <p:nvGrpSpPr>
            <p:cNvPr id="207" name="Group 9"/>
            <p:cNvGrpSpPr/>
            <p:nvPr/>
          </p:nvGrpSpPr>
          <p:grpSpPr>
            <a:xfrm>
              <a:off x="4572000" y="152280"/>
              <a:ext cx="3278160" cy="3352680"/>
              <a:chOff x="4572000" y="152280"/>
              <a:chExt cx="3278160" cy="3352680"/>
            </a:xfrm>
          </p:grpSpPr>
          <p:pic>
            <p:nvPicPr>
              <p:cNvPr id="208" name="Picture 10" descr="撒拉族1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152280"/>
                <a:ext cx="229536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11"/>
              <p:cNvSpPr/>
              <p:nvPr/>
            </p:nvSpPr>
            <p:spPr>
              <a:xfrm>
                <a:off x="7182360" y="990360"/>
                <a:ext cx="667800" cy="243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撒拉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Text Box 12"/>
            <p:cNvSpPr/>
            <p:nvPr/>
          </p:nvSpPr>
          <p:spPr>
            <a:xfrm>
              <a:off x="7286760" y="5331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宋体"/>
                </a:rPr>
                <a:t>sā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5029200" y="3809880"/>
            <a:ext cx="3049560" cy="2819520"/>
            <a:chOff x="5029200" y="3809880"/>
            <a:chExt cx="3049560" cy="2819520"/>
          </a:xfrm>
        </p:grpSpPr>
        <p:grpSp>
          <p:nvGrpSpPr>
            <p:cNvPr id="212" name="Group 14"/>
            <p:cNvGrpSpPr/>
            <p:nvPr/>
          </p:nvGrpSpPr>
          <p:grpSpPr>
            <a:xfrm>
              <a:off x="5029200" y="3809880"/>
              <a:ext cx="3049560" cy="2819520"/>
              <a:chOff x="5029200" y="3809880"/>
              <a:chExt cx="3049560" cy="2819520"/>
            </a:xfrm>
          </p:grpSpPr>
          <p:pic>
            <p:nvPicPr>
              <p:cNvPr id="213" name="Picture 15" descr="亿佬族1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809880"/>
                <a:ext cx="231444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16"/>
              <p:cNvSpPr/>
              <p:nvPr/>
            </p:nvSpPr>
            <p:spPr>
              <a:xfrm>
                <a:off x="7410960" y="4419360"/>
                <a:ext cx="667800" cy="22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仡佬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17"/>
            <p:cNvSpPr/>
            <p:nvPr/>
          </p:nvSpPr>
          <p:spPr>
            <a:xfrm>
              <a:off x="7515720" y="38923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宋体"/>
                </a:rPr>
                <a:t>gē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228600" y="228600"/>
            <a:ext cx="2973240" cy="3124080"/>
            <a:chOff x="228600" y="228600"/>
            <a:chExt cx="2973240" cy="3124080"/>
          </a:xfrm>
        </p:grpSpPr>
        <p:pic>
          <p:nvPicPr>
            <p:cNvPr id="217" name="Picture 3" descr="锡伯族1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1528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2534040" y="990720"/>
              <a:ext cx="6678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锡伯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19" name="Group 5"/>
          <p:cNvGrpSpPr/>
          <p:nvPr/>
        </p:nvGrpSpPr>
        <p:grpSpPr>
          <a:xfrm>
            <a:off x="4495680" y="152280"/>
            <a:ext cx="3125880" cy="3124080"/>
            <a:chOff x="4495680" y="152280"/>
            <a:chExt cx="3125880" cy="3124080"/>
          </a:xfrm>
        </p:grpSpPr>
        <p:pic>
          <p:nvPicPr>
            <p:cNvPr id="220" name="Picture 6" descr="景颇族"/>
            <p:cNvPicPr/>
            <p:nvPr/>
          </p:nvPicPr>
          <p:blipFill>
            <a:blip r:embed="rId2"/>
            <a:stretch/>
          </p:blipFill>
          <p:spPr>
            <a:xfrm>
              <a:off x="4495680" y="152280"/>
              <a:ext cx="21906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7"/>
            <p:cNvSpPr/>
            <p:nvPr/>
          </p:nvSpPr>
          <p:spPr>
            <a:xfrm>
              <a:off x="6953760" y="990360"/>
              <a:ext cx="667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阿昌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533520" y="3429000"/>
            <a:ext cx="2973240" cy="3200400"/>
            <a:chOff x="533520" y="3429000"/>
            <a:chExt cx="2973240" cy="3200400"/>
          </a:xfrm>
        </p:grpSpPr>
        <p:pic>
          <p:nvPicPr>
            <p:cNvPr id="223" name="Picture 9" descr="塔吉克族"/>
            <p:cNvPicPr/>
            <p:nvPr/>
          </p:nvPicPr>
          <p:blipFill>
            <a:blip r:embed="rId3"/>
            <a:stretch/>
          </p:blipFill>
          <p:spPr>
            <a:xfrm>
              <a:off x="533520" y="3429000"/>
              <a:ext cx="23144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10"/>
            <p:cNvSpPr/>
            <p:nvPr/>
          </p:nvSpPr>
          <p:spPr>
            <a:xfrm>
              <a:off x="2351520" y="4267080"/>
              <a:ext cx="115524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塔吉克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25" name="Group 11"/>
          <p:cNvGrpSpPr/>
          <p:nvPr/>
        </p:nvGrpSpPr>
        <p:grpSpPr>
          <a:xfrm>
            <a:off x="4724280" y="3505320"/>
            <a:ext cx="3354480" cy="3124080"/>
            <a:chOff x="4724280" y="3505320"/>
            <a:chExt cx="3354480" cy="3124080"/>
          </a:xfrm>
        </p:grpSpPr>
        <p:pic>
          <p:nvPicPr>
            <p:cNvPr id="226" name="Picture 12" descr="普米族1"/>
            <p:cNvPicPr/>
            <p:nvPr/>
          </p:nvPicPr>
          <p:blipFill>
            <a:blip r:embed="rId4"/>
            <a:stretch/>
          </p:blipFill>
          <p:spPr>
            <a:xfrm>
              <a:off x="4724280" y="3505320"/>
              <a:ext cx="260028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3"/>
            <p:cNvSpPr/>
            <p:nvPr/>
          </p:nvSpPr>
          <p:spPr>
            <a:xfrm>
              <a:off x="7410960" y="4343400"/>
              <a:ext cx="667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普米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228600" y="228600"/>
            <a:ext cx="2897280" cy="3886200"/>
            <a:chOff x="228600" y="228600"/>
            <a:chExt cx="2897280" cy="3886200"/>
          </a:xfrm>
        </p:grpSpPr>
        <p:pic>
          <p:nvPicPr>
            <p:cNvPr id="229" name="Picture 3" descr="怒族1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2194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4"/>
            <p:cNvSpPr/>
            <p:nvPr/>
          </p:nvSpPr>
          <p:spPr>
            <a:xfrm>
              <a:off x="2458080" y="1523880"/>
              <a:ext cx="667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怒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31" name="Group 5"/>
          <p:cNvGrpSpPr/>
          <p:nvPr/>
        </p:nvGrpSpPr>
        <p:grpSpPr>
          <a:xfrm>
            <a:off x="685800" y="228600"/>
            <a:ext cx="6630840" cy="6400800"/>
            <a:chOff x="685800" y="228600"/>
            <a:chExt cx="6630840" cy="6400800"/>
          </a:xfrm>
        </p:grpSpPr>
        <p:grpSp>
          <p:nvGrpSpPr>
            <p:cNvPr id="232" name="Group 6"/>
            <p:cNvGrpSpPr/>
            <p:nvPr/>
          </p:nvGrpSpPr>
          <p:grpSpPr>
            <a:xfrm>
              <a:off x="4267080" y="228600"/>
              <a:ext cx="3049560" cy="3733920"/>
              <a:chOff x="4267080" y="228600"/>
              <a:chExt cx="3049560" cy="3733920"/>
            </a:xfrm>
          </p:grpSpPr>
          <p:pic>
            <p:nvPicPr>
              <p:cNvPr id="233" name="Picture 7" descr="乌孜别克族1"/>
              <p:cNvPicPr/>
              <p:nvPr/>
            </p:nvPicPr>
            <p:blipFill>
              <a:blip r:embed="rId2"/>
              <a:stretch/>
            </p:blipFill>
            <p:spPr>
              <a:xfrm>
                <a:off x="4267080" y="228600"/>
                <a:ext cx="2238480" cy="32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8"/>
              <p:cNvSpPr/>
              <p:nvPr/>
            </p:nvSpPr>
            <p:spPr>
              <a:xfrm>
                <a:off x="6648840" y="1066680"/>
                <a:ext cx="667800" cy="28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乌孜别克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pic>
          <p:nvPicPr>
            <p:cNvPr id="235" name="Picture 9" descr="俄罗斯族1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4573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0"/>
            <p:cNvSpPr/>
            <p:nvPr/>
          </p:nvSpPr>
          <p:spPr>
            <a:xfrm>
              <a:off x="2732400" y="4267080"/>
              <a:ext cx="11552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俄罗斯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37" name="Group 11"/>
          <p:cNvGrpSpPr/>
          <p:nvPr/>
        </p:nvGrpSpPr>
        <p:grpSpPr>
          <a:xfrm>
            <a:off x="4876920" y="3581280"/>
            <a:ext cx="3352680" cy="3124080"/>
            <a:chOff x="4876920" y="3581280"/>
            <a:chExt cx="3352680" cy="3124080"/>
          </a:xfrm>
        </p:grpSpPr>
        <p:pic>
          <p:nvPicPr>
            <p:cNvPr id="238" name="Picture 12" descr="鄂温克族1"/>
            <p:cNvPicPr/>
            <p:nvPr/>
          </p:nvPicPr>
          <p:blipFill>
            <a:blip r:embed="rId4"/>
            <a:stretch/>
          </p:blipFill>
          <p:spPr>
            <a:xfrm>
              <a:off x="4876920" y="3581280"/>
              <a:ext cx="260028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3"/>
            <p:cNvSpPr/>
            <p:nvPr/>
          </p:nvSpPr>
          <p:spPr>
            <a:xfrm>
              <a:off x="7074360" y="4267080"/>
              <a:ext cx="11552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鄂温克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228600" y="228600"/>
            <a:ext cx="3049560" cy="3276720"/>
            <a:chOff x="228600" y="228600"/>
            <a:chExt cx="3049560" cy="3276720"/>
          </a:xfrm>
        </p:grpSpPr>
        <p:pic>
          <p:nvPicPr>
            <p:cNvPr id="241" name="Picture 3" descr="德昂族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286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"/>
            <p:cNvSpPr/>
            <p:nvPr/>
          </p:nvSpPr>
          <p:spPr>
            <a:xfrm>
              <a:off x="2610360" y="1066680"/>
              <a:ext cx="6678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德昂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3" name="Group 5"/>
          <p:cNvGrpSpPr/>
          <p:nvPr/>
        </p:nvGrpSpPr>
        <p:grpSpPr>
          <a:xfrm>
            <a:off x="4419720" y="228600"/>
            <a:ext cx="3582360" cy="3352680"/>
            <a:chOff x="4419720" y="228600"/>
            <a:chExt cx="3582360" cy="3352680"/>
          </a:xfrm>
        </p:grpSpPr>
        <p:pic>
          <p:nvPicPr>
            <p:cNvPr id="244" name="Picture 6" descr="保安族1"/>
            <p:cNvPicPr/>
            <p:nvPr/>
          </p:nvPicPr>
          <p:blipFill>
            <a:blip r:embed="rId2"/>
            <a:stretch/>
          </p:blipFill>
          <p:spPr>
            <a:xfrm>
              <a:off x="4419720" y="228600"/>
              <a:ext cx="26953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7"/>
            <p:cNvSpPr/>
            <p:nvPr/>
          </p:nvSpPr>
          <p:spPr>
            <a:xfrm>
              <a:off x="7334280" y="1066680"/>
              <a:ext cx="6678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保安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6" name="Group 8"/>
          <p:cNvGrpSpPr/>
          <p:nvPr/>
        </p:nvGrpSpPr>
        <p:grpSpPr>
          <a:xfrm>
            <a:off x="685800" y="3581280"/>
            <a:ext cx="3125880" cy="3048120"/>
            <a:chOff x="685800" y="3581280"/>
            <a:chExt cx="3125880" cy="3048120"/>
          </a:xfrm>
        </p:grpSpPr>
        <p:pic>
          <p:nvPicPr>
            <p:cNvPr id="247" name="Picture 9" descr="裕固族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3335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0"/>
            <p:cNvSpPr/>
            <p:nvPr/>
          </p:nvSpPr>
          <p:spPr>
            <a:xfrm>
              <a:off x="3143880" y="4343400"/>
              <a:ext cx="667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裕固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9" name="Group 11"/>
          <p:cNvGrpSpPr/>
          <p:nvPr/>
        </p:nvGrpSpPr>
        <p:grpSpPr>
          <a:xfrm>
            <a:off x="5334120" y="3657600"/>
            <a:ext cx="2896560" cy="2895480"/>
            <a:chOff x="5334120" y="3657600"/>
            <a:chExt cx="2896560" cy="2895480"/>
          </a:xfrm>
        </p:grpSpPr>
        <p:pic>
          <p:nvPicPr>
            <p:cNvPr id="250" name="Picture 12" descr="京族1"/>
            <p:cNvPicPr/>
            <p:nvPr/>
          </p:nvPicPr>
          <p:blipFill>
            <a:blip r:embed="rId4"/>
            <a:stretch/>
          </p:blipFill>
          <p:spPr>
            <a:xfrm>
              <a:off x="5334120" y="3657600"/>
              <a:ext cx="228564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3"/>
            <p:cNvSpPr/>
            <p:nvPr/>
          </p:nvSpPr>
          <p:spPr>
            <a:xfrm>
              <a:off x="7562880" y="4572000"/>
              <a:ext cx="6678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京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228600" y="228600"/>
            <a:ext cx="2973240" cy="3505320"/>
            <a:chOff x="228600" y="228600"/>
            <a:chExt cx="2973240" cy="3505320"/>
          </a:xfrm>
        </p:grpSpPr>
        <p:pic>
          <p:nvPicPr>
            <p:cNvPr id="253" name="Picture 3" descr="塔塔尔族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1621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4"/>
            <p:cNvSpPr/>
            <p:nvPr/>
          </p:nvSpPr>
          <p:spPr>
            <a:xfrm>
              <a:off x="2534040" y="1143000"/>
              <a:ext cx="667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塔塔尔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55" name="Group 5"/>
          <p:cNvGrpSpPr/>
          <p:nvPr/>
        </p:nvGrpSpPr>
        <p:grpSpPr>
          <a:xfrm>
            <a:off x="4495680" y="228600"/>
            <a:ext cx="3506760" cy="3352680"/>
            <a:chOff x="4495680" y="228600"/>
            <a:chExt cx="3506760" cy="3352680"/>
          </a:xfrm>
        </p:grpSpPr>
        <p:pic>
          <p:nvPicPr>
            <p:cNvPr id="256" name="Picture 6" descr="独龙族1"/>
            <p:cNvPicPr/>
            <p:nvPr/>
          </p:nvPicPr>
          <p:blipFill>
            <a:blip r:embed="rId2"/>
            <a:stretch/>
          </p:blipFill>
          <p:spPr>
            <a:xfrm>
              <a:off x="4495680" y="228600"/>
              <a:ext cx="27050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7"/>
            <p:cNvSpPr/>
            <p:nvPr/>
          </p:nvSpPr>
          <p:spPr>
            <a:xfrm>
              <a:off x="7334640" y="1143000"/>
              <a:ext cx="6678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独龙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295280" y="3809880"/>
            <a:ext cx="3201840" cy="3048120"/>
            <a:chOff x="1295280" y="3809880"/>
            <a:chExt cx="3201840" cy="3048120"/>
          </a:xfrm>
        </p:grpSpPr>
        <p:pic>
          <p:nvPicPr>
            <p:cNvPr id="259" name="Picture 9" descr="鄂伦春族1"/>
            <p:cNvPicPr/>
            <p:nvPr/>
          </p:nvPicPr>
          <p:blipFill>
            <a:blip r:embed="rId3"/>
            <a:stretch/>
          </p:blipFill>
          <p:spPr>
            <a:xfrm>
              <a:off x="1295280" y="3809880"/>
              <a:ext cx="2305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0"/>
            <p:cNvSpPr/>
            <p:nvPr/>
          </p:nvSpPr>
          <p:spPr>
            <a:xfrm>
              <a:off x="3341880" y="4419360"/>
              <a:ext cx="11552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鄂伦春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1" name="Group 11"/>
          <p:cNvGrpSpPr/>
          <p:nvPr/>
        </p:nvGrpSpPr>
        <p:grpSpPr>
          <a:xfrm>
            <a:off x="5867280" y="3962520"/>
            <a:ext cx="2668680" cy="2743200"/>
            <a:chOff x="5867280" y="3962520"/>
            <a:chExt cx="2668680" cy="2743200"/>
          </a:xfrm>
        </p:grpSpPr>
        <p:pic>
          <p:nvPicPr>
            <p:cNvPr id="262" name="Picture 12" descr="赫哲族1"/>
            <p:cNvPicPr/>
            <p:nvPr/>
          </p:nvPicPr>
          <p:blipFill>
            <a:blip r:embed="rId4"/>
            <a:stretch/>
          </p:blipFill>
          <p:spPr>
            <a:xfrm>
              <a:off x="5867280" y="3962520"/>
              <a:ext cx="20001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3"/>
            <p:cNvSpPr/>
            <p:nvPr/>
          </p:nvSpPr>
          <p:spPr>
            <a:xfrm>
              <a:off x="7380720" y="4267440"/>
              <a:ext cx="11552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赫哲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228600" y="228600"/>
            <a:ext cx="3049560" cy="3352680"/>
            <a:chOff x="228600" y="228600"/>
            <a:chExt cx="3049560" cy="3352680"/>
          </a:xfrm>
        </p:grpSpPr>
        <p:pic>
          <p:nvPicPr>
            <p:cNvPr id="265" name="Picture 3" descr="门巴族1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22953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4"/>
            <p:cNvSpPr/>
            <p:nvPr/>
          </p:nvSpPr>
          <p:spPr>
            <a:xfrm>
              <a:off x="2610360" y="1066680"/>
              <a:ext cx="667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门巴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7" name="Group 5"/>
          <p:cNvGrpSpPr/>
          <p:nvPr/>
        </p:nvGrpSpPr>
        <p:grpSpPr>
          <a:xfrm>
            <a:off x="2057400" y="3733920"/>
            <a:ext cx="3278160" cy="2971800"/>
            <a:chOff x="2057400" y="3733920"/>
            <a:chExt cx="3278160" cy="2971800"/>
          </a:xfrm>
        </p:grpSpPr>
        <p:pic>
          <p:nvPicPr>
            <p:cNvPr id="268" name="Picture 6" descr="基诺族1"/>
            <p:cNvPicPr/>
            <p:nvPr/>
          </p:nvPicPr>
          <p:blipFill>
            <a:blip r:embed="rId2"/>
            <a:stretch/>
          </p:blipFill>
          <p:spPr>
            <a:xfrm>
              <a:off x="2057400" y="3733920"/>
              <a:ext cx="24289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7"/>
            <p:cNvSpPr/>
            <p:nvPr/>
          </p:nvSpPr>
          <p:spPr>
            <a:xfrm>
              <a:off x="4667760" y="4496040"/>
              <a:ext cx="6678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基诺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0" name="Group 8"/>
          <p:cNvGrpSpPr/>
          <p:nvPr/>
        </p:nvGrpSpPr>
        <p:grpSpPr>
          <a:xfrm>
            <a:off x="5334120" y="685800"/>
            <a:ext cx="3352680" cy="3505320"/>
            <a:chOff x="5334120" y="685800"/>
            <a:chExt cx="3352680" cy="3505320"/>
          </a:xfrm>
        </p:grpSpPr>
        <p:grpSp>
          <p:nvGrpSpPr>
            <p:cNvPr id="271" name="Group 9"/>
            <p:cNvGrpSpPr/>
            <p:nvPr/>
          </p:nvGrpSpPr>
          <p:grpSpPr>
            <a:xfrm>
              <a:off x="5334120" y="685800"/>
              <a:ext cx="3201840" cy="3505320"/>
              <a:chOff x="5334120" y="685800"/>
              <a:chExt cx="3201840" cy="3505320"/>
            </a:xfrm>
          </p:grpSpPr>
          <p:pic>
            <p:nvPicPr>
              <p:cNvPr id="272" name="Picture 10" descr="珞巴族"/>
              <p:cNvPicPr/>
              <p:nvPr/>
            </p:nvPicPr>
            <p:blipFill>
              <a:blip r:embed="rId3"/>
              <a:stretch/>
            </p:blipFill>
            <p:spPr>
              <a:xfrm>
                <a:off x="5334120" y="685800"/>
                <a:ext cx="211464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1"/>
              <p:cNvSpPr/>
              <p:nvPr/>
            </p:nvSpPr>
            <p:spPr>
              <a:xfrm>
                <a:off x="7868160" y="1600200"/>
                <a:ext cx="667800" cy="25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珞巴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12"/>
            <p:cNvSpPr/>
            <p:nvPr/>
          </p:nvSpPr>
          <p:spPr>
            <a:xfrm>
              <a:off x="792504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宋体"/>
                </a:rPr>
                <a:t>luò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75" name="文本框 8197"/>
          <p:cNvSpPr/>
          <p:nvPr/>
        </p:nvSpPr>
        <p:spPr>
          <a:xfrm>
            <a:off x="2789280" y="22860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1187280" y="836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看谁记得多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7" name="Group 16"/>
          <p:cNvGrpSpPr/>
          <p:nvPr/>
        </p:nvGrpSpPr>
        <p:grpSpPr>
          <a:xfrm>
            <a:off x="2195640" y="2276640"/>
            <a:ext cx="5184360" cy="3809880"/>
            <a:chOff x="2195640" y="2276640"/>
            <a:chExt cx="5184360" cy="3809880"/>
          </a:xfrm>
        </p:grpSpPr>
        <p:sp>
          <p:nvSpPr>
            <p:cNvPr id="278" name="AutoShape 10"/>
            <p:cNvSpPr/>
            <p:nvPr/>
          </p:nvSpPr>
          <p:spPr>
            <a:xfrm>
              <a:off x="2195640" y="2276640"/>
              <a:ext cx="5184360" cy="380988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3303000" y="2505240"/>
              <a:ext cx="289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我所知道的民族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854080" y="3343320"/>
              <a:ext cx="3949920" cy="360"/>
              <a:chOff x="2854080" y="3343320"/>
              <a:chExt cx="3949920" cy="360"/>
            </a:xfrm>
          </p:grpSpPr>
          <p:sp>
            <p:nvSpPr>
              <p:cNvPr id="281" name="Line 11"/>
              <p:cNvSpPr/>
              <p:nvPr/>
            </p:nvSpPr>
            <p:spPr>
              <a:xfrm>
                <a:off x="2854080" y="3343320"/>
                <a:ext cx="394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2854080" y="3343320"/>
                <a:ext cx="394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854080" y="3952800"/>
              <a:ext cx="3949920" cy="360"/>
              <a:chOff x="2854080" y="3952800"/>
              <a:chExt cx="3949920" cy="360"/>
            </a:xfrm>
          </p:grpSpPr>
          <p:sp>
            <p:nvSpPr>
              <p:cNvPr id="284" name="Line 12"/>
              <p:cNvSpPr/>
              <p:nvPr/>
            </p:nvSpPr>
            <p:spPr>
              <a:xfrm>
                <a:off x="2854080" y="3952800"/>
                <a:ext cx="394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2854080" y="3952800"/>
                <a:ext cx="394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54080" y="4562640"/>
              <a:ext cx="3949920" cy="360"/>
              <a:chOff x="2854080" y="4562640"/>
              <a:chExt cx="3949920" cy="360"/>
            </a:xfrm>
          </p:grpSpPr>
          <p:sp>
            <p:nvSpPr>
              <p:cNvPr id="287" name="Line 13"/>
              <p:cNvSpPr/>
              <p:nvPr/>
            </p:nvSpPr>
            <p:spPr>
              <a:xfrm>
                <a:off x="2854080" y="4562640"/>
                <a:ext cx="394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2854080" y="4562640"/>
                <a:ext cx="394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854080" y="5172120"/>
              <a:ext cx="3949920" cy="360"/>
              <a:chOff x="2854080" y="5172120"/>
              <a:chExt cx="3949920" cy="360"/>
            </a:xfrm>
          </p:grpSpPr>
          <p:sp>
            <p:nvSpPr>
              <p:cNvPr id="290" name="Line 14"/>
              <p:cNvSpPr/>
              <p:nvPr/>
            </p:nvSpPr>
            <p:spPr>
              <a:xfrm>
                <a:off x="2854080" y="5172120"/>
                <a:ext cx="394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2854080" y="5172120"/>
                <a:ext cx="394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854080" y="5781600"/>
              <a:ext cx="3949920" cy="360"/>
              <a:chOff x="2854080" y="5781600"/>
              <a:chExt cx="3949920" cy="360"/>
            </a:xfrm>
          </p:grpSpPr>
          <p:sp>
            <p:nvSpPr>
              <p:cNvPr id="293" name="Line 15"/>
              <p:cNvSpPr/>
              <p:nvPr/>
            </p:nvSpPr>
            <p:spPr>
              <a:xfrm>
                <a:off x="2854080" y="5781600"/>
                <a:ext cx="394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2854080" y="5781600"/>
                <a:ext cx="394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1187280" y="1268280"/>
            <a:ext cx="6624720" cy="4248360"/>
          </a:xfrm>
          <a:prstGeom prst="rect">
            <a:avLst/>
          </a:prstGeom>
          <a:solidFill>
            <a:srgbClr val="d9e2ff"/>
          </a:solidFill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民族区域自治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制度，是指在国家统一领导下，各少数民族聚居的地方实行区域自治，设立自治机关，行使自治权的制度。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4360" y="476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我知道：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55640" y="1268280"/>
            <a:ext cx="734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cc3300"/>
                </a:solidFill>
                <a:latin typeface="宋体"/>
              </a:rPr>
              <a:t>我们中华民族大家庭中有（        ）个民族，其中，（   ）族人数最多，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占中国人口的（      ），</a:t>
            </a:r>
            <a:r>
              <a:rPr b="1" lang="zh-CN" sz="4800" spc="-1" strike="noStrike">
                <a:solidFill>
                  <a:srgbClr val="cc3300"/>
                </a:solidFill>
                <a:latin typeface="宋体"/>
              </a:rPr>
              <a:t>其他民族人数较少，被称为（            ）。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700360" y="198900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五十六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429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汉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000160" y="4941720"/>
            <a:ext cx="41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少数民族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000760" y="342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2%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图片1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1348560" y="1927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新疆维吾尔自治区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345320" y="3747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西藏自治区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 rot="20212800">
            <a:off x="5352840" y="2130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内蒙古自治区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091840" y="5562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ff"/>
                </a:solidFill>
                <a:latin typeface="Arial"/>
                <a:ea typeface="宋体"/>
              </a:rPr>
              <a:t>广西壮族自治区</a:t>
            </a:r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4670640" y="3186360"/>
            <a:ext cx="1140840" cy="763200"/>
            <a:chOff x="4670640" y="3186360"/>
            <a:chExt cx="1140840" cy="763200"/>
          </a:xfrm>
        </p:grpSpPr>
        <p:sp>
          <p:nvSpPr>
            <p:cNvPr id="302" name="Text Box 8"/>
            <p:cNvSpPr/>
            <p:nvPr/>
          </p:nvSpPr>
          <p:spPr>
            <a:xfrm>
              <a:off x="4670640" y="3581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  <a:ea typeface="宋体"/>
                </a:rPr>
                <a:t>宁夏回族自治区</a:t>
              </a:r>
              <a:endParaRPr b="1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3" name="AutoShape 9"/>
            <p:cNvSpPr/>
            <p:nvPr/>
          </p:nvSpPr>
          <p:spPr>
            <a:xfrm rot="14668800">
              <a:off x="4924440" y="3314520"/>
              <a:ext cx="380880" cy="152640"/>
            </a:xfrm>
            <a:prstGeom prst="rightArrow">
              <a:avLst>
                <a:gd name="adj1" fmla="val 50000"/>
                <a:gd name="adj2" fmla="val 62382"/>
              </a:avLst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04" name="Rectangle 10"/>
          <p:cNvSpPr/>
          <p:nvPr/>
        </p:nvSpPr>
        <p:spPr>
          <a:xfrm>
            <a:off x="1066680" y="358128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57200" y="160020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4800600" y="1905120"/>
            <a:ext cx="1905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648320" y="3048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4876920" y="53341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1068840" y="31780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10" name="Picture 5" descr="E:\work\新课标配套课件全集\小学全集\mxy\品德与社会\五年级上（4）\五十六个民族五十六朵花\70_1.png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5661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755640" y="5445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我国有哪五大少数民族自治区？看看它们分布在哪里？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E:\work\新课标配套课件全集\小学全集\mxy\shui03.gif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1676520" y="236232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我国有哪五大少数民族自治区？看看它们分布在哪里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828800" y="3429000"/>
          <a:ext cx="5943600" cy="2743200"/>
        </p:xfrm>
        <a:graphic>
          <a:graphicData uri="http://schemas.openxmlformats.org/drawingml/2006/table">
            <a:tbl>
              <a:tblPr/>
              <a:tblGrid>
                <a:gridCol w="2743200"/>
                <a:gridCol w="3200400"/>
              </a:tblGrid>
              <a:tr h="71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民族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03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224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15" name="Rectangle 39"/>
          <p:cNvSpPr/>
          <p:nvPr/>
        </p:nvSpPr>
        <p:spPr>
          <a:xfrm>
            <a:off x="2446920" y="1752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中华民族大家庭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5"/>
          <p:cNvSpPr txBox="1"/>
          <p:nvPr/>
        </p:nvSpPr>
        <p:spPr>
          <a:xfrm>
            <a:off x="826920" y="1773360"/>
            <a:ext cx="73152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是一家人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1706400" y="1052640"/>
            <a:ext cx="38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说说自己的民族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068840" y="31780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4038480" y="2200320"/>
            <a:ext cx="4496040" cy="802440"/>
          </a:xfrm>
          <a:prstGeom prst="cloudCallout">
            <a:avLst>
              <a:gd name="adj1" fmla="val -44884"/>
              <a:gd name="adj2" fmla="val 35067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你了解自己的民族吗？说一说！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20" name="Picture 6" descr="p34_1"/>
          <p:cNvPicPr/>
          <p:nvPr/>
        </p:nvPicPr>
        <p:blipFill>
          <a:blip r:embed="rId2"/>
          <a:stretch/>
        </p:blipFill>
        <p:spPr>
          <a:xfrm>
            <a:off x="1692360" y="2637000"/>
            <a:ext cx="2185920" cy="38862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324000" y="633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394920" y="60930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Times New Roman"/>
                <a:hlinkClick r:id="rId3"/>
              </a:rPr>
              <a:t>炎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1258920" y="6093000"/>
            <a:ext cx="898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Times New Roman"/>
                <a:hlinkClick r:id="rId4"/>
              </a:rPr>
              <a:t>回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2411280" y="60930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维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277080" y="6093000"/>
            <a:ext cx="394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Times New Roman"/>
                <a:hlinkClick r:id="rId5"/>
              </a:rPr>
              <a:t>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3924360" y="6093000"/>
            <a:ext cx="180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Times New Roman"/>
                <a:hlinkClick r:id="rId6"/>
              </a:rPr>
              <a:t>民族服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868360" y="60930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Times New Roman"/>
                <a:hlinkClick r:id="rId7"/>
              </a:rPr>
              <a:t>民居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745164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6948000" y="60930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Times New Roman"/>
                <a:hlinkClick r:id="rId8"/>
              </a:rPr>
              <a:t>节日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684360" y="11970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说说自己的民族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31" name="Picture 12" descr="E:\work\新课标配套课件全集\小学全集\mxy\品德与社会\五年级上（4）\五十六个民族五十六朵花\72_1.png"/>
          <p:cNvPicPr/>
          <p:nvPr/>
        </p:nvPicPr>
        <p:blipFill>
          <a:blip r:embed="rId1"/>
          <a:stretch/>
        </p:blipFill>
        <p:spPr>
          <a:xfrm>
            <a:off x="1600200" y="2362320"/>
            <a:ext cx="5867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4"/>
          <p:cNvGrpSpPr/>
          <p:nvPr/>
        </p:nvGrpSpPr>
        <p:grpSpPr>
          <a:xfrm>
            <a:off x="3419640" y="2852640"/>
            <a:ext cx="3276000" cy="2895480"/>
            <a:chOff x="3419640" y="2852640"/>
            <a:chExt cx="3276000" cy="2895480"/>
          </a:xfrm>
        </p:grpSpPr>
        <p:pic>
          <p:nvPicPr>
            <p:cNvPr id="333" name="Picture 5" descr="回族"/>
            <p:cNvPicPr/>
            <p:nvPr/>
          </p:nvPicPr>
          <p:blipFill>
            <a:blip r:embed="rId1"/>
            <a:stretch/>
          </p:blipFill>
          <p:spPr>
            <a:xfrm>
              <a:off x="3419640" y="2852640"/>
              <a:ext cx="2466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6"/>
            <p:cNvSpPr/>
            <p:nvPr/>
          </p:nvSpPr>
          <p:spPr>
            <a:xfrm>
              <a:off x="6027840" y="3614760"/>
              <a:ext cx="667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回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35" name="Rectangle 11"/>
          <p:cNvSpPr/>
          <p:nvPr/>
        </p:nvSpPr>
        <p:spPr>
          <a:xfrm>
            <a:off x="1689840" y="836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说说自己的民族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1" descr="F:\zl\维吾尔族载歌载舞2.jpg"/>
          <p:cNvPicPr/>
          <p:nvPr/>
        </p:nvPicPr>
        <p:blipFill>
          <a:blip r:embed="rId1"/>
          <a:stretch/>
        </p:blipFill>
        <p:spPr>
          <a:xfrm>
            <a:off x="2770200" y="1905120"/>
            <a:ext cx="3706920" cy="44193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3"/>
          <p:cNvSpPr/>
          <p:nvPr/>
        </p:nvSpPr>
        <p:spPr>
          <a:xfrm>
            <a:off x="2207160" y="2286000"/>
            <a:ext cx="394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维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吾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尔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载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歌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载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舞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2843280" y="544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藏族　锅庄舞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39" name="Picture 4" descr="F:\zl\藏族锅庄舞1.jpg"/>
          <p:cNvPicPr/>
          <p:nvPr/>
        </p:nvPicPr>
        <p:blipFill>
          <a:blip r:embed="rId1"/>
          <a:stretch/>
        </p:blipFill>
        <p:spPr>
          <a:xfrm>
            <a:off x="2133720" y="1940040"/>
            <a:ext cx="4800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1692360" y="83664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各具特色的民居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41" name="Picture 9" descr="E:\work\新课标配套课件全集\小学全集\mxy\品德与社会\五年级上（4）\五十六个民族五十六朵花\p358.jpg"/>
          <p:cNvPicPr/>
          <p:nvPr/>
        </p:nvPicPr>
        <p:blipFill>
          <a:blip r:embed="rId1"/>
          <a:stretch/>
        </p:blipFill>
        <p:spPr>
          <a:xfrm>
            <a:off x="1763640" y="1773360"/>
            <a:ext cx="5867640" cy="35622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0"/>
          <p:cNvSpPr/>
          <p:nvPr/>
        </p:nvSpPr>
        <p:spPr>
          <a:xfrm>
            <a:off x="4210560" y="573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蒙古包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9640" y="90792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活动：看谁记得多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活动要求：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看各少数民族图片，请同学们快速记忆（不能用笔记录）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小组合作写出知道的少数民族名称，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时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分钟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各小组汇报，看哪组记得多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1763640" y="836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各具特色的民族服饰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7308720" y="321300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苗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服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45" name="Picture 12" descr="E:\work\新课标配套课件全集\小学全集\mxy\品德与社会\五年级上（4）\五十六个民族五十六朵花\4.5-2b.jpg"/>
          <p:cNvPicPr/>
          <p:nvPr/>
        </p:nvPicPr>
        <p:blipFill>
          <a:blip r:embed="rId1"/>
          <a:stretch/>
        </p:blipFill>
        <p:spPr>
          <a:xfrm>
            <a:off x="1908000" y="2133720"/>
            <a:ext cx="2710080" cy="3733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E:\work\新课标配套课件全集\小学全集\mxy\品德与社会\五年级上（4）\五十六个民族五十六朵花\miaozu.jpg"/>
          <p:cNvPicPr/>
          <p:nvPr/>
        </p:nvPicPr>
        <p:blipFill>
          <a:blip r:embed="rId2"/>
          <a:stretch/>
        </p:blipFill>
        <p:spPr>
          <a:xfrm>
            <a:off x="4788000" y="2133720"/>
            <a:ext cx="2340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804000" y="2708280"/>
            <a:ext cx="68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鄂伦春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服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476360" y="9079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各具特色的民族服饰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49" name="Picture 8" descr="E:\work\新课标配套课件全集\小学全集\mxy\品德与社会\五年级上（4）\五十六个民族五十六朵花\minsufengqing02261.jpg"/>
          <p:cNvPicPr/>
          <p:nvPr/>
        </p:nvPicPr>
        <p:blipFill>
          <a:blip r:embed="rId1"/>
          <a:stretch/>
        </p:blipFill>
        <p:spPr>
          <a:xfrm>
            <a:off x="1763640" y="1844640"/>
            <a:ext cx="4927680" cy="3809880"/>
          </a:xfrm>
          <a:prstGeom prst="rect">
            <a:avLst/>
          </a:prstGeom>
          <a:ln w="0">
            <a:noFill/>
          </a:ln>
        </p:spPr>
      </p:pic>
      <p:sp>
        <p:nvSpPr>
          <p:cNvPr id="350" name="文本框 8197"/>
          <p:cNvSpPr/>
          <p:nvPr/>
        </p:nvSpPr>
        <p:spPr>
          <a:xfrm>
            <a:off x="1476360" y="57312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934320" y="330516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白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服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52" name="Picture 6" descr="F:\zl\白族服饰1.jpg"/>
          <p:cNvPicPr/>
          <p:nvPr/>
        </p:nvPicPr>
        <p:blipFill>
          <a:blip r:embed="rId1"/>
          <a:stretch/>
        </p:blipFill>
        <p:spPr>
          <a:xfrm>
            <a:off x="1619280" y="1773360"/>
            <a:ext cx="5029200" cy="36273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7"/>
          <p:cNvSpPr/>
          <p:nvPr/>
        </p:nvSpPr>
        <p:spPr>
          <a:xfrm>
            <a:off x="1042920" y="836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各具特色的民族服饰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6588000" y="2852640"/>
            <a:ext cx="68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蒙古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服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271260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各具特色的民族服饰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56" name="Picture 9" descr="news_200443175944"/>
          <p:cNvPicPr/>
          <p:nvPr/>
        </p:nvPicPr>
        <p:blipFill>
          <a:blip r:embed="rId1"/>
          <a:stretch/>
        </p:blipFill>
        <p:spPr>
          <a:xfrm>
            <a:off x="2916360" y="1557360"/>
            <a:ext cx="35478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291-CC9F-4253-B19D-909C473A848D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58309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各具特色的民族节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o201012171539294658"/>
          <p:cNvPicPr/>
          <p:nvPr/>
        </p:nvPicPr>
        <p:blipFill>
          <a:blip r:embed="rId1"/>
          <a:stretch/>
        </p:blipFill>
        <p:spPr>
          <a:xfrm>
            <a:off x="0" y="1052640"/>
            <a:ext cx="4427640" cy="3744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u=576807761,1588065107&amp;fm=23&amp;gp=0"/>
          <p:cNvPicPr/>
          <p:nvPr/>
        </p:nvPicPr>
        <p:blipFill>
          <a:blip r:embed="rId2"/>
          <a:stretch/>
        </p:blipFill>
        <p:spPr>
          <a:xfrm>
            <a:off x="4427640" y="292428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1208520" y="49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彝族火把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5148360" y="206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5272920" y="1863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傣族泼水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762120" y="3505320"/>
            <a:ext cx="2973240" cy="3124080"/>
            <a:chOff x="762120" y="3505320"/>
            <a:chExt cx="2973240" cy="3124080"/>
          </a:xfrm>
        </p:grpSpPr>
        <p:pic>
          <p:nvPicPr>
            <p:cNvPr id="93" name="Picture 3" descr="藏族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23623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"/>
            <p:cNvSpPr/>
            <p:nvPr/>
          </p:nvSpPr>
          <p:spPr>
            <a:xfrm>
              <a:off x="3067560" y="4419720"/>
              <a:ext cx="6678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藏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95" name="Group 5"/>
          <p:cNvGrpSpPr/>
          <p:nvPr/>
        </p:nvGrpSpPr>
        <p:grpSpPr>
          <a:xfrm>
            <a:off x="5486400" y="3581280"/>
            <a:ext cx="3125880" cy="3048120"/>
            <a:chOff x="5486400" y="3581280"/>
            <a:chExt cx="3125880" cy="3048120"/>
          </a:xfrm>
        </p:grpSpPr>
        <p:pic>
          <p:nvPicPr>
            <p:cNvPr id="96" name="Picture 6" descr="维吾尔族1"/>
            <p:cNvPicPr/>
            <p:nvPr/>
          </p:nvPicPr>
          <p:blipFill>
            <a:blip r:embed="rId2"/>
            <a:stretch/>
          </p:blipFill>
          <p:spPr>
            <a:xfrm>
              <a:off x="5486400" y="3581280"/>
              <a:ext cx="24004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/>
            <p:cNvSpPr/>
            <p:nvPr/>
          </p:nvSpPr>
          <p:spPr>
            <a:xfrm>
              <a:off x="7457040" y="4190760"/>
              <a:ext cx="11552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维吾尔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533520" y="152280"/>
            <a:ext cx="3049560" cy="3124080"/>
            <a:chOff x="533520" y="152280"/>
            <a:chExt cx="3049560" cy="3124080"/>
          </a:xfrm>
        </p:grpSpPr>
        <p:pic>
          <p:nvPicPr>
            <p:cNvPr id="99" name="Picture 9" descr="蒙古"/>
            <p:cNvPicPr/>
            <p:nvPr/>
          </p:nvPicPr>
          <p:blipFill>
            <a:blip r:embed="rId3"/>
            <a:stretch/>
          </p:blipFill>
          <p:spPr>
            <a:xfrm>
              <a:off x="533520" y="152280"/>
              <a:ext cx="2257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2915280" y="1066680"/>
              <a:ext cx="667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蒙古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4952880" y="304920"/>
            <a:ext cx="3276720" cy="2895480"/>
            <a:chOff x="4952880" y="304920"/>
            <a:chExt cx="3276720" cy="2895480"/>
          </a:xfrm>
        </p:grpSpPr>
        <p:pic>
          <p:nvPicPr>
            <p:cNvPr id="102" name="Picture 12" descr="回族"/>
            <p:cNvPicPr/>
            <p:nvPr/>
          </p:nvPicPr>
          <p:blipFill>
            <a:blip r:embed="rId4"/>
            <a:stretch/>
          </p:blipFill>
          <p:spPr>
            <a:xfrm>
              <a:off x="4952880" y="304920"/>
              <a:ext cx="24670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/>
            <p:cNvSpPr/>
            <p:nvPr/>
          </p:nvSpPr>
          <p:spPr>
            <a:xfrm>
              <a:off x="7561800" y="1067040"/>
              <a:ext cx="667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回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6"/>
          <p:cNvSpPr/>
          <p:nvPr/>
        </p:nvSpPr>
        <p:spPr>
          <a:xfrm>
            <a:off x="1447920" y="23972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685800" y="3581280"/>
            <a:ext cx="3049560" cy="3276720"/>
            <a:chOff x="685800" y="3581280"/>
            <a:chExt cx="3049560" cy="3276720"/>
          </a:xfrm>
        </p:grpSpPr>
        <p:pic>
          <p:nvPicPr>
            <p:cNvPr id="106" name="Picture 3" descr="壮族1"/>
            <p:cNvPicPr/>
            <p:nvPr/>
          </p:nvPicPr>
          <p:blipFill>
            <a:blip r:embed="rId1"/>
            <a:stretch/>
          </p:blipFill>
          <p:spPr>
            <a:xfrm>
              <a:off x="685800" y="3581280"/>
              <a:ext cx="23241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"/>
            <p:cNvSpPr/>
            <p:nvPr/>
          </p:nvSpPr>
          <p:spPr>
            <a:xfrm>
              <a:off x="3067560" y="4419360"/>
              <a:ext cx="6678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壮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4800600" y="3581280"/>
            <a:ext cx="3657600" cy="3048120"/>
            <a:chOff x="4800600" y="3581280"/>
            <a:chExt cx="3657600" cy="3048120"/>
          </a:xfrm>
        </p:grpSpPr>
        <p:pic>
          <p:nvPicPr>
            <p:cNvPr id="109" name="Picture 6" descr="布依族"/>
            <p:cNvPicPr/>
            <p:nvPr/>
          </p:nvPicPr>
          <p:blipFill>
            <a:blip r:embed="rId2"/>
            <a:stretch/>
          </p:blipFill>
          <p:spPr>
            <a:xfrm>
              <a:off x="4800600" y="3581280"/>
              <a:ext cx="29052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/>
            <p:cNvSpPr/>
            <p:nvPr/>
          </p:nvSpPr>
          <p:spPr>
            <a:xfrm>
              <a:off x="7302960" y="4419360"/>
              <a:ext cx="11552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布依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228600" y="152280"/>
            <a:ext cx="7635960" cy="3352680"/>
            <a:chOff x="228600" y="152280"/>
            <a:chExt cx="7635960" cy="3352680"/>
          </a:xfrm>
        </p:grpSpPr>
        <p:grpSp>
          <p:nvGrpSpPr>
            <p:cNvPr id="112" name="Group 9"/>
            <p:cNvGrpSpPr/>
            <p:nvPr/>
          </p:nvGrpSpPr>
          <p:grpSpPr>
            <a:xfrm>
              <a:off x="228600" y="152280"/>
              <a:ext cx="7635960" cy="3352680"/>
              <a:chOff x="228600" y="152280"/>
              <a:chExt cx="7635960" cy="3352680"/>
            </a:xfrm>
          </p:grpSpPr>
          <p:grpSp>
            <p:nvGrpSpPr>
              <p:cNvPr id="113" name="Group 10"/>
              <p:cNvGrpSpPr/>
              <p:nvPr/>
            </p:nvGrpSpPr>
            <p:grpSpPr>
              <a:xfrm>
                <a:off x="228600" y="152280"/>
                <a:ext cx="3216240" cy="3276720"/>
                <a:chOff x="228600" y="152280"/>
                <a:chExt cx="3216240" cy="3276720"/>
              </a:xfrm>
            </p:grpSpPr>
            <p:pic>
              <p:nvPicPr>
                <p:cNvPr id="114" name="Picture 11" descr="苗族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600" y="152280"/>
                  <a:ext cx="2438280" cy="327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Text Box 12"/>
                <p:cNvSpPr/>
                <p:nvPr/>
              </p:nvSpPr>
              <p:spPr>
                <a:xfrm>
                  <a:off x="2777040" y="1371600"/>
                  <a:ext cx="667800" cy="152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cc"/>
                      </a:solidFill>
                      <a:latin typeface="Arial"/>
                      <a:ea typeface="宋体"/>
                    </a:rPr>
                    <a:t>苗族</a:t>
                  </a:r>
                  <a:endParaRPr b="1" lang="en-US" sz="3200" spc="-1" strike="noStrike">
                    <a:solidFill>
                      <a:srgbClr val="0000cc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6" name="Picture 13" descr="彝族1"/>
              <p:cNvPicPr/>
              <p:nvPr/>
            </p:nvPicPr>
            <p:blipFill>
              <a:blip r:embed="rId4"/>
              <a:stretch/>
            </p:blipFill>
            <p:spPr>
              <a:xfrm>
                <a:off x="4724280" y="228600"/>
                <a:ext cx="2276640" cy="32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Text Box 14"/>
              <p:cNvSpPr/>
              <p:nvPr/>
            </p:nvSpPr>
            <p:spPr>
              <a:xfrm>
                <a:off x="7196760" y="1295280"/>
                <a:ext cx="667800" cy="22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彝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15"/>
            <p:cNvSpPr/>
            <p:nvPr/>
          </p:nvSpPr>
          <p:spPr>
            <a:xfrm>
              <a:off x="7315200" y="914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宋体"/>
                </a:rPr>
                <a:t>yí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228600" y="152280"/>
            <a:ext cx="3278160" cy="3352680"/>
            <a:chOff x="228600" y="152280"/>
            <a:chExt cx="3278160" cy="3352680"/>
          </a:xfrm>
        </p:grpSpPr>
        <p:pic>
          <p:nvPicPr>
            <p:cNvPr id="120" name="Picture 3" descr="朝鲜族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5239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4"/>
            <p:cNvSpPr/>
            <p:nvPr/>
          </p:nvSpPr>
          <p:spPr>
            <a:xfrm>
              <a:off x="2351520" y="1218960"/>
              <a:ext cx="1155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朝鲜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2" name="Group 5"/>
          <p:cNvGrpSpPr/>
          <p:nvPr/>
        </p:nvGrpSpPr>
        <p:grpSpPr>
          <a:xfrm>
            <a:off x="4876920" y="228600"/>
            <a:ext cx="3125160" cy="3352680"/>
            <a:chOff x="4876920" y="228600"/>
            <a:chExt cx="3125160" cy="3352680"/>
          </a:xfrm>
        </p:grpSpPr>
        <p:pic>
          <p:nvPicPr>
            <p:cNvPr id="123" name="Picture 6" descr="满族1"/>
            <p:cNvPicPr/>
            <p:nvPr/>
          </p:nvPicPr>
          <p:blipFill>
            <a:blip r:embed="rId2"/>
            <a:stretch/>
          </p:blipFill>
          <p:spPr>
            <a:xfrm>
              <a:off x="4876920" y="228600"/>
              <a:ext cx="22572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7334280" y="1295280"/>
              <a:ext cx="667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满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5334120" y="3657600"/>
            <a:ext cx="2971800" cy="2819520"/>
            <a:chOff x="5334120" y="3657600"/>
            <a:chExt cx="2971800" cy="2819520"/>
          </a:xfrm>
        </p:grpSpPr>
        <p:pic>
          <p:nvPicPr>
            <p:cNvPr id="126" name="Picture 9" descr="瑶族"/>
            <p:cNvPicPr/>
            <p:nvPr/>
          </p:nvPicPr>
          <p:blipFill>
            <a:blip r:embed="rId3"/>
            <a:stretch/>
          </p:blipFill>
          <p:spPr>
            <a:xfrm>
              <a:off x="5334120" y="3657600"/>
              <a:ext cx="2171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7638120" y="4495680"/>
              <a:ext cx="6678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瑶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533520" y="3581280"/>
            <a:ext cx="3581280" cy="3048120"/>
            <a:chOff x="533520" y="3581280"/>
            <a:chExt cx="3581280" cy="3048120"/>
          </a:xfrm>
        </p:grpSpPr>
        <p:grpSp>
          <p:nvGrpSpPr>
            <p:cNvPr id="129" name="Group 12"/>
            <p:cNvGrpSpPr/>
            <p:nvPr/>
          </p:nvGrpSpPr>
          <p:grpSpPr>
            <a:xfrm>
              <a:off x="533520" y="3581280"/>
              <a:ext cx="3278160" cy="3048120"/>
              <a:chOff x="533520" y="3581280"/>
              <a:chExt cx="3278160" cy="3048120"/>
            </a:xfrm>
          </p:grpSpPr>
          <p:pic>
            <p:nvPicPr>
              <p:cNvPr id="130" name="Picture 13" descr="侗族"/>
              <p:cNvPicPr/>
              <p:nvPr/>
            </p:nvPicPr>
            <p:blipFill>
              <a:blip r:embed="rId4"/>
              <a:stretch/>
            </p:blipFill>
            <p:spPr>
              <a:xfrm>
                <a:off x="533520" y="3581280"/>
                <a:ext cx="2543040" cy="30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14"/>
              <p:cNvSpPr/>
              <p:nvPr/>
            </p:nvSpPr>
            <p:spPr>
              <a:xfrm>
                <a:off x="3143880" y="4419360"/>
                <a:ext cx="667800" cy="15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侗族</a:t>
                </a:r>
                <a:endParaRPr b="1" lang="en-US" sz="32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32" name="Text Box 15"/>
            <p:cNvSpPr/>
            <p:nvPr/>
          </p:nvSpPr>
          <p:spPr>
            <a:xfrm>
              <a:off x="3124440" y="4022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宋体"/>
                </a:rPr>
                <a:t>dòng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52280" y="152280"/>
            <a:ext cx="3049560" cy="3886200"/>
            <a:chOff x="152280" y="152280"/>
            <a:chExt cx="3049560" cy="3886200"/>
          </a:xfrm>
        </p:grpSpPr>
        <p:pic>
          <p:nvPicPr>
            <p:cNvPr id="134" name="Picture 3" descr="白族1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23526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4"/>
            <p:cNvSpPr/>
            <p:nvPr/>
          </p:nvSpPr>
          <p:spPr>
            <a:xfrm>
              <a:off x="2534040" y="1523880"/>
              <a:ext cx="667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白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4038480" y="152280"/>
            <a:ext cx="3201840" cy="3962520"/>
            <a:chOff x="4038480" y="152280"/>
            <a:chExt cx="3201840" cy="3962520"/>
          </a:xfrm>
        </p:grpSpPr>
        <p:pic>
          <p:nvPicPr>
            <p:cNvPr id="137" name="Picture 6" descr="土家族1"/>
            <p:cNvPicPr/>
            <p:nvPr/>
          </p:nvPicPr>
          <p:blipFill>
            <a:blip r:embed="rId2"/>
            <a:stretch/>
          </p:blipFill>
          <p:spPr>
            <a:xfrm>
              <a:off x="4038480" y="152280"/>
              <a:ext cx="245736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7"/>
            <p:cNvSpPr/>
            <p:nvPr/>
          </p:nvSpPr>
          <p:spPr>
            <a:xfrm>
              <a:off x="6572520" y="1295280"/>
              <a:ext cx="667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土家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39" name="Group 8"/>
          <p:cNvGrpSpPr/>
          <p:nvPr/>
        </p:nvGrpSpPr>
        <p:grpSpPr>
          <a:xfrm>
            <a:off x="609480" y="3809880"/>
            <a:ext cx="3430440" cy="2819520"/>
            <a:chOff x="609480" y="3809880"/>
            <a:chExt cx="3430440" cy="2819520"/>
          </a:xfrm>
        </p:grpSpPr>
        <p:pic>
          <p:nvPicPr>
            <p:cNvPr id="140" name="Picture 9" descr="哈尼族"/>
            <p:cNvPicPr/>
            <p:nvPr/>
          </p:nvPicPr>
          <p:blipFill>
            <a:blip r:embed="rId3"/>
            <a:stretch/>
          </p:blipFill>
          <p:spPr>
            <a:xfrm>
              <a:off x="609480" y="3809880"/>
              <a:ext cx="26100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0"/>
            <p:cNvSpPr/>
            <p:nvPr/>
          </p:nvSpPr>
          <p:spPr>
            <a:xfrm>
              <a:off x="2884680" y="4495680"/>
              <a:ext cx="11552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哈尼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4952880" y="3809880"/>
            <a:ext cx="3049560" cy="2819520"/>
            <a:chOff x="4952880" y="3809880"/>
            <a:chExt cx="3049560" cy="2819520"/>
          </a:xfrm>
        </p:grpSpPr>
        <p:pic>
          <p:nvPicPr>
            <p:cNvPr id="143" name="Picture 12" descr="哈萨克族1"/>
            <p:cNvPicPr/>
            <p:nvPr/>
          </p:nvPicPr>
          <p:blipFill>
            <a:blip r:embed="rId4"/>
            <a:stretch/>
          </p:blipFill>
          <p:spPr>
            <a:xfrm>
              <a:off x="4952880" y="3809880"/>
              <a:ext cx="22669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>
              <a:off x="6847200" y="4495680"/>
              <a:ext cx="115524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哈萨克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28600" y="152280"/>
            <a:ext cx="3049560" cy="3505320"/>
            <a:chOff x="228600" y="152280"/>
            <a:chExt cx="3049560" cy="3505320"/>
          </a:xfrm>
        </p:grpSpPr>
        <p:pic>
          <p:nvPicPr>
            <p:cNvPr id="146" name="Picture 3" descr="傣族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3432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4"/>
            <p:cNvSpPr/>
            <p:nvPr/>
          </p:nvSpPr>
          <p:spPr>
            <a:xfrm>
              <a:off x="2610360" y="1295280"/>
              <a:ext cx="667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傣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4495680" y="152280"/>
            <a:ext cx="3049560" cy="3581280"/>
            <a:chOff x="4495680" y="152280"/>
            <a:chExt cx="3049560" cy="3581280"/>
          </a:xfrm>
        </p:grpSpPr>
        <p:pic>
          <p:nvPicPr>
            <p:cNvPr id="149" name="Picture 6" descr="黎族1"/>
            <p:cNvPicPr/>
            <p:nvPr/>
          </p:nvPicPr>
          <p:blipFill>
            <a:blip r:embed="rId2"/>
            <a:stretch/>
          </p:blipFill>
          <p:spPr>
            <a:xfrm>
              <a:off x="4495680" y="152280"/>
              <a:ext cx="21528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7"/>
            <p:cNvSpPr/>
            <p:nvPr/>
          </p:nvSpPr>
          <p:spPr>
            <a:xfrm>
              <a:off x="6877440" y="1143000"/>
              <a:ext cx="66780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黎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51" name="Group 8"/>
          <p:cNvGrpSpPr/>
          <p:nvPr/>
        </p:nvGrpSpPr>
        <p:grpSpPr>
          <a:xfrm>
            <a:off x="533520" y="3733920"/>
            <a:ext cx="3125160" cy="3124080"/>
            <a:chOff x="533520" y="3733920"/>
            <a:chExt cx="3125160" cy="3124080"/>
          </a:xfrm>
        </p:grpSpPr>
        <p:pic>
          <p:nvPicPr>
            <p:cNvPr id="152" name="Picture 9" descr="傈僳族"/>
            <p:cNvPicPr/>
            <p:nvPr/>
          </p:nvPicPr>
          <p:blipFill>
            <a:blip r:embed="rId3"/>
            <a:stretch/>
          </p:blipFill>
          <p:spPr>
            <a:xfrm>
              <a:off x="533520" y="3733920"/>
              <a:ext cx="2400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0"/>
            <p:cNvSpPr/>
            <p:nvPr/>
          </p:nvSpPr>
          <p:spPr>
            <a:xfrm>
              <a:off x="2503440" y="4572000"/>
              <a:ext cx="115524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傈    僳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54" name="Group 11"/>
          <p:cNvGrpSpPr/>
          <p:nvPr/>
        </p:nvGrpSpPr>
        <p:grpSpPr>
          <a:xfrm>
            <a:off x="4876920" y="3657600"/>
            <a:ext cx="2973240" cy="3200400"/>
            <a:chOff x="4876920" y="3657600"/>
            <a:chExt cx="2973240" cy="3200400"/>
          </a:xfrm>
        </p:grpSpPr>
        <p:pic>
          <p:nvPicPr>
            <p:cNvPr id="155" name="Picture 12" descr="佤族1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22194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3"/>
            <p:cNvSpPr/>
            <p:nvPr/>
          </p:nvSpPr>
          <p:spPr>
            <a:xfrm>
              <a:off x="7182360" y="4572000"/>
              <a:ext cx="667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佤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9718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mù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0481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sù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8600" y="152280"/>
            <a:ext cx="3201840" cy="3124080"/>
            <a:chOff x="228600" y="152280"/>
            <a:chExt cx="3201840" cy="3124080"/>
          </a:xfrm>
        </p:grpSpPr>
        <p:pic>
          <p:nvPicPr>
            <p:cNvPr id="160" name="Picture 3" descr="畲族1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4573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762640" y="1218960"/>
              <a:ext cx="66780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畲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62" name="Group 5"/>
          <p:cNvGrpSpPr/>
          <p:nvPr/>
        </p:nvGrpSpPr>
        <p:grpSpPr>
          <a:xfrm>
            <a:off x="4648320" y="152280"/>
            <a:ext cx="3201840" cy="3276720"/>
            <a:chOff x="4648320" y="152280"/>
            <a:chExt cx="3201840" cy="3276720"/>
          </a:xfrm>
        </p:grpSpPr>
        <p:pic>
          <p:nvPicPr>
            <p:cNvPr id="163" name="Picture 6" descr="高山族"/>
            <p:cNvPicPr/>
            <p:nvPr/>
          </p:nvPicPr>
          <p:blipFill>
            <a:blip r:embed="rId2"/>
            <a:stretch/>
          </p:blipFill>
          <p:spPr>
            <a:xfrm>
              <a:off x="4648320" y="152280"/>
              <a:ext cx="22194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7182360" y="1066680"/>
              <a:ext cx="667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高山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65" name="Group 8"/>
          <p:cNvGrpSpPr/>
          <p:nvPr/>
        </p:nvGrpSpPr>
        <p:grpSpPr>
          <a:xfrm>
            <a:off x="533520" y="3352680"/>
            <a:ext cx="3278160" cy="3657600"/>
            <a:chOff x="533520" y="3352680"/>
            <a:chExt cx="3278160" cy="3657600"/>
          </a:xfrm>
        </p:grpSpPr>
        <p:pic>
          <p:nvPicPr>
            <p:cNvPr id="166" name="Picture 9" descr="拉祜族1"/>
            <p:cNvPicPr/>
            <p:nvPr/>
          </p:nvPicPr>
          <p:blipFill>
            <a:blip r:embed="rId3"/>
            <a:stretch/>
          </p:blipFill>
          <p:spPr>
            <a:xfrm>
              <a:off x="533520" y="3352680"/>
              <a:ext cx="25336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10"/>
            <p:cNvSpPr/>
            <p:nvPr/>
          </p:nvSpPr>
          <p:spPr>
            <a:xfrm>
              <a:off x="3143880" y="4190760"/>
              <a:ext cx="667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拉祜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68" name="Group 11"/>
          <p:cNvGrpSpPr/>
          <p:nvPr/>
        </p:nvGrpSpPr>
        <p:grpSpPr>
          <a:xfrm>
            <a:off x="4952880" y="3581280"/>
            <a:ext cx="2973240" cy="3048120"/>
            <a:chOff x="4952880" y="3581280"/>
            <a:chExt cx="2973240" cy="3048120"/>
          </a:xfrm>
        </p:grpSpPr>
        <p:pic>
          <p:nvPicPr>
            <p:cNvPr id="169" name="Picture 12" descr="水族1"/>
            <p:cNvPicPr/>
            <p:nvPr/>
          </p:nvPicPr>
          <p:blipFill>
            <a:blip r:embed="rId4"/>
            <a:stretch/>
          </p:blipFill>
          <p:spPr>
            <a:xfrm>
              <a:off x="4952880" y="3581280"/>
              <a:ext cx="22478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3"/>
            <p:cNvSpPr/>
            <p:nvPr/>
          </p:nvSpPr>
          <p:spPr>
            <a:xfrm>
              <a:off x="7258320" y="4267080"/>
              <a:ext cx="667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水族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81952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shē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2:58:17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43:07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