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gif" ContentType="image/gif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3.jpeg" ContentType="image/jpeg"/>
  <Override PartName="/ppt/media/image20.jpeg" ContentType="image/jpeg"/>
  <Override PartName="/ppt/media/image1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BBA-5356-48FD-B381-32421688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EA6-5DCA-4BD2-A1FB-8550F1BF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CDF-9C8E-4E08-BA88-2F51B849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DBC-AC4B-45A9-92C9-D3937660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5F45-4159-45EE-A58C-142D260C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1FA5-10CF-4D15-BECE-0A5EFF8D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5192-9A0E-4A20-9316-8A6BC6DD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D033-11A1-40E3-88CF-B452472A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303A4-4212-46C6-9A75-723149FA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1B66-59A9-45AB-87B9-D3F1ECDA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8D03-85D1-45ED-A428-2731DDD0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897-BE1A-48A9-8C8B-F55893F1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47D2-A39E-4855-97CC-64D1E2D8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3E81-91A1-4AE9-982A-1CD1B3B2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8D11-BA4A-4FEE-AED4-8092E563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0F1B-F6BA-4E3E-B8F7-D70E2ED0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3779-8100-4D35-9C24-DB84B91A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101C-494F-4A54-893B-79955577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BC6-3178-4468-ADDE-FF3BAEEB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CF0-B586-4024-B50D-D65F0F0A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D3F7-211D-41BF-BF6C-CE98B031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F0D-2FC2-44C7-8CE3-36AD6F4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ACF-B944-4811-AC41-6CAF1BAF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A84-8EDA-4E92-A55E-5EE93571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40EE-BB2F-4188-BDC4-02E80FB66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E88B-AA82-435E-8A1D-EAC5B571A9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6" descr=""/>
          <p:cNvPicPr/>
          <p:nvPr/>
        </p:nvPicPr>
        <p:blipFill>
          <a:blip r:embed="rId2"/>
          <a:stretch/>
        </p:blipFill>
        <p:spPr>
          <a:xfrm>
            <a:off x="1104840" y="1403280"/>
            <a:ext cx="6842160" cy="223200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地球公转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468360" y="2060640"/>
            <a:ext cx="431640" cy="576360"/>
            <a:chOff x="468360" y="2060640"/>
            <a:chExt cx="431640" cy="576360"/>
          </a:xfrm>
        </p:grpSpPr>
        <p:sp>
          <p:nvSpPr>
            <p:cNvPr id="151" name="Line 5"/>
            <p:cNvSpPr/>
            <p:nvPr/>
          </p:nvSpPr>
          <p:spPr>
            <a:xfrm>
              <a:off x="468360" y="2060640"/>
              <a:ext cx="431640" cy="576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468360" y="2060640"/>
              <a:ext cx="43164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835280" y="2349360"/>
            <a:ext cx="720720" cy="432000"/>
            <a:chOff x="1835280" y="2349360"/>
            <a:chExt cx="720720" cy="432000"/>
          </a:xfrm>
        </p:grpSpPr>
        <p:sp>
          <p:nvSpPr>
            <p:cNvPr id="154" name="Line 6"/>
            <p:cNvSpPr/>
            <p:nvPr/>
          </p:nvSpPr>
          <p:spPr>
            <a:xfrm flipH="1">
              <a:off x="1835280" y="2349360"/>
              <a:ext cx="720720" cy="4320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835280" y="2349360"/>
              <a:ext cx="72072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8"/>
          <p:cNvSpPr/>
          <p:nvPr/>
        </p:nvSpPr>
        <p:spPr>
          <a:xfrm>
            <a:off x="353880" y="162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黑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514600" y="2060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白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0"/>
          <p:cNvSpPr/>
          <p:nvPr/>
        </p:nvSpPr>
        <p:spPr>
          <a:xfrm>
            <a:off x="1176480" y="2421000"/>
            <a:ext cx="226800" cy="1512720"/>
          </a:xfrm>
          <a:custGeom>
            <a:avLst/>
            <a:gdLst/>
            <a:ahLst/>
            <a:rect l="l" t="t" r="r" b="b"/>
            <a:pathLst>
              <a:path w="143" h="953">
                <a:moveTo>
                  <a:pt x="98" y="0"/>
                </a:moveTo>
                <a:cubicBezTo>
                  <a:pt x="49" y="170"/>
                  <a:pt x="0" y="340"/>
                  <a:pt x="7" y="499"/>
                </a:cubicBezTo>
                <a:cubicBezTo>
                  <a:pt x="14" y="658"/>
                  <a:pt x="120" y="885"/>
                  <a:pt x="143" y="953"/>
                </a:cubicBezTo>
              </a:path>
            </a:pathLst>
          </a:custGeom>
          <a:noFill/>
          <a:ln w="5724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106640" y="11664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晨昏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2"/>
          <p:cNvSpPr/>
          <p:nvPr/>
        </p:nvSpPr>
        <p:spPr>
          <a:xfrm>
            <a:off x="3851280" y="728640"/>
            <a:ext cx="1368360" cy="539640"/>
          </a:xfrm>
          <a:custGeom>
            <a:avLst/>
            <a:gdLst/>
            <a:ahLst/>
            <a:rect l="l" t="t" r="r" b="b"/>
            <a:pathLst>
              <a:path w="862" h="340">
                <a:moveTo>
                  <a:pt x="0" y="250"/>
                </a:moveTo>
                <a:cubicBezTo>
                  <a:pt x="64" y="148"/>
                  <a:pt x="129" y="46"/>
                  <a:pt x="227" y="23"/>
                </a:cubicBezTo>
                <a:cubicBezTo>
                  <a:pt x="325" y="0"/>
                  <a:pt x="484" y="60"/>
                  <a:pt x="590" y="113"/>
                </a:cubicBezTo>
                <a:cubicBezTo>
                  <a:pt x="696" y="166"/>
                  <a:pt x="817" y="302"/>
                  <a:pt x="862" y="340"/>
                </a:cubicBezTo>
              </a:path>
            </a:pathLst>
          </a:custGeom>
          <a:noFill/>
          <a:ln w="50760">
            <a:solidFill>
              <a:srgbClr val="000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250920" y="4941720"/>
            <a:ext cx="280836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半球大部分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曝露在阳光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阳光直射在北半球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光照时间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这时是夏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8"/>
          <p:cNvSpPr/>
          <p:nvPr/>
        </p:nvSpPr>
        <p:spPr>
          <a:xfrm>
            <a:off x="5940360" y="4365720"/>
            <a:ext cx="295272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南半球大部分都暴露在阳光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阳光直射在南半球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半球光照时间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以这时南半球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季，北半球是冬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1594440" y="27860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半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442080" y="35067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半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79280" y="3499920"/>
            <a:ext cx="863640" cy="360360"/>
            <a:chOff x="1979280" y="3499920"/>
            <a:chExt cx="863640" cy="360360"/>
          </a:xfrm>
        </p:grpSpPr>
        <p:sp>
          <p:nvSpPr>
            <p:cNvPr id="166" name="Line 22"/>
            <p:cNvSpPr/>
            <p:nvPr/>
          </p:nvSpPr>
          <p:spPr>
            <a:xfrm flipH="1" flipV="1">
              <a:off x="1979280" y="3499920"/>
              <a:ext cx="863640" cy="360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 rot="10800000">
              <a:off x="1979280" y="3499920"/>
              <a:ext cx="86364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 Box 23"/>
          <p:cNvSpPr/>
          <p:nvPr/>
        </p:nvSpPr>
        <p:spPr>
          <a:xfrm>
            <a:off x="2936160" y="3860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赤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20111010120041210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2562120" y="1916280"/>
            <a:ext cx="5016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猜一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季的形成与地球的什么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小女孩1 - 副本"/>
          <p:cNvPicPr/>
          <p:nvPr/>
        </p:nvPicPr>
        <p:blipFill>
          <a:blip r:embed="rId2"/>
          <a:stretch/>
        </p:blipFill>
        <p:spPr>
          <a:xfrm>
            <a:off x="5940360" y="4316400"/>
            <a:ext cx="3203640" cy="25416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12"/>
          <p:cNvSpPr txBox="1"/>
          <p:nvPr/>
        </p:nvSpPr>
        <p:spPr>
          <a:xfrm>
            <a:off x="1187280" y="3789360"/>
            <a:ext cx="705672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自转？   公转？   地轴的倾斜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20090903212529-1805155429"/>
          <p:cNvPicPr/>
          <p:nvPr/>
        </p:nvPicPr>
        <p:blipFill>
          <a:blip r:embed="rId1"/>
          <a:stretch/>
        </p:blipFill>
        <p:spPr>
          <a:xfrm>
            <a:off x="468360" y="1989000"/>
            <a:ext cx="2460600" cy="2951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20090903212529-1805155429"/>
          <p:cNvPicPr/>
          <p:nvPr/>
        </p:nvPicPr>
        <p:blipFill>
          <a:blip r:embed="rId2"/>
          <a:stretch/>
        </p:blipFill>
        <p:spPr>
          <a:xfrm>
            <a:off x="3419640" y="0"/>
            <a:ext cx="2438280" cy="292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20090903212529-1805155429"/>
          <p:cNvPicPr/>
          <p:nvPr/>
        </p:nvPicPr>
        <p:blipFill>
          <a:blip r:embed="rId3"/>
          <a:stretch/>
        </p:blipFill>
        <p:spPr>
          <a:xfrm>
            <a:off x="6372360" y="2133720"/>
            <a:ext cx="2279520" cy="2735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0090903212529-1805155429"/>
          <p:cNvPicPr/>
          <p:nvPr/>
        </p:nvPicPr>
        <p:blipFill>
          <a:blip r:embed="rId4"/>
          <a:stretch/>
        </p:blipFill>
        <p:spPr>
          <a:xfrm>
            <a:off x="3348000" y="4149720"/>
            <a:ext cx="2436840" cy="292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gif008"/>
          <p:cNvPicPr/>
          <p:nvPr/>
        </p:nvPicPr>
        <p:blipFill>
          <a:blip r:embed="rId5"/>
          <a:stretch/>
        </p:blipFill>
        <p:spPr>
          <a:xfrm>
            <a:off x="3851280" y="2421000"/>
            <a:ext cx="1584360" cy="1539720"/>
          </a:xfrm>
          <a:prstGeom prst="rect">
            <a:avLst/>
          </a:prstGeom>
          <a:ln w="0">
            <a:noFill/>
          </a:ln>
        </p:spPr>
      </p:pic>
      <p:sp>
        <p:nvSpPr>
          <p:cNvPr id="180" name="AutoShape 9"/>
          <p:cNvSpPr/>
          <p:nvPr/>
        </p:nvSpPr>
        <p:spPr>
          <a:xfrm rot="16200000">
            <a:off x="2046960" y="1911600"/>
            <a:ext cx="1800360" cy="2519280"/>
          </a:xfrm>
          <a:prstGeom prst="flowChartManualOperation">
            <a:avLst/>
          </a:prstGeom>
          <a:solidFill>
            <a:srgbClr val="ff0000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447840" y="227160"/>
            <a:ext cx="26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轴的倾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954760" y="3573360"/>
            <a:ext cx="31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北半球受光照的范围和时间长短都是一样的。也就是阳光都是直射在南北半球上，昼夜时间是相等的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年四季白天和黑夜的时间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同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2134080" y="112536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四季的形成和地轴的倾斜有关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1403280" y="1989000"/>
            <a:ext cx="576360" cy="287640"/>
          </a:xfrm>
          <a:custGeom>
            <a:avLst/>
            <a:gdLst>
              <a:gd name="textAreaLeft" fmla="*/ 77040 w 576360"/>
              <a:gd name="textAreaRight" fmla="*/ 499320 w 576360"/>
              <a:gd name="textAreaTop" fmla="*/ 50400 h 287640"/>
              <a:gd name="textAreaBottom" fmla="*/ 208800 h 2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3443"/>
                <a:lnTo>
                  <a:pt x="14403" y="21168"/>
                </a:lnTo>
                <a:lnTo>
                  <a:pt x="21600" y="17280"/>
                </a:lnTo>
                <a:lnTo>
                  <a:pt x="14403" y="12528"/>
                </a:lnTo>
                <a:lnTo>
                  <a:pt x="14403" y="14688"/>
                </a:lnTo>
                <a:arcTo wR="21600" hR="7560" stAng="8116557" swAng="232600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5881320" y="1555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地轴不倾斜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地球公转2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648000" y="1555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球的公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6149880" y="9669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地球不公转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会产生什么后果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5919840" y="2641680"/>
            <a:ext cx="297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半球和北半球只会有一个季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如：当北半球是夏季的时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半球是冬季。如果地球不公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半球时候都是夏季，南半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适中都是冬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166680" y="602604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四季的形成与地球的公转有关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824760" y="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</a:rPr>
              <a:t>地球的自转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580000" y="1341360"/>
            <a:ext cx="32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地球不自转的话会产生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地球公转2"/>
          <p:cNvPicPr/>
          <p:nvPr/>
        </p:nvPicPr>
        <p:blipFill>
          <a:blip r:embed="rId1"/>
          <a:stretch/>
        </p:blipFill>
        <p:spPr>
          <a:xfrm>
            <a:off x="0" y="836640"/>
            <a:ext cx="5076720" cy="6021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5343480" y="3160800"/>
            <a:ext cx="34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昼夜的产生需要一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是不影响四季的形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769400" y="5288040"/>
            <a:ext cx="548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四季的形成与地球的自转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无关</a:t>
            </a:r>
            <a:r>
              <a:rPr b="1" lang="zh-CN" sz="4800" spc="-1" strike="noStrike">
                <a:solidFill>
                  <a:srgbClr val="6600ff"/>
                </a:solidFill>
                <a:latin typeface="Arial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200"/>
          <p:cNvSpPr/>
          <p:nvPr/>
        </p:nvSpPr>
        <p:spPr>
          <a:xfrm>
            <a:off x="2575080" y="709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季的形成与什么有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小女孩看花"/>
          <p:cNvPicPr/>
          <p:nvPr/>
        </p:nvPicPr>
        <p:blipFill>
          <a:blip r:embed="rId1"/>
          <a:stretch/>
        </p:blipFill>
        <p:spPr>
          <a:xfrm>
            <a:off x="0" y="3933720"/>
            <a:ext cx="5148360" cy="29242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1185840" y="4827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4039920" y="2492280"/>
            <a:ext cx="275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地球的公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地轴的倾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201202061702324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1830600" y="5493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同样的方法观测南半球被阳光照射的情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会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2436120" y="53737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南半球阳光照射情况与北半球相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季节也相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地球公转2"/>
          <p:cNvPicPr/>
          <p:nvPr/>
        </p:nvPicPr>
        <p:blipFill>
          <a:blip r:embed="rId2"/>
          <a:stretch/>
        </p:blipFill>
        <p:spPr>
          <a:xfrm>
            <a:off x="3600360" y="126828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FB4-94AD-4182-8A8A-16CF0869CB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201110271640463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917640" y="476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35600" y="1413000"/>
            <a:ext cx="3434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四季的形成与地球的公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地轴的倾斜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四季太阳高度不同，同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物体在阳光下影子的长短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一样。太阳斜射，影子长是冬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直射影子短，是夏季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太阳高度适中，影子长短也适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春季和秋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南半球阳光照射情况与北半球相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季节也相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110517075615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1476360" y="9079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一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826920" y="2205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人同日去观花；百友原来是一家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禾火二人相对坐；夕阳底下一对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20110517075615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450800" y="54936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猜一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042800" y="1844640"/>
            <a:ext cx="8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人同日去观花；百友原来是一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禾火二人相对坐；夕阳底下一对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2556000" y="3357720"/>
            <a:ext cx="4033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春夏秋冬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老爷爷"/>
          <p:cNvPicPr/>
          <p:nvPr/>
        </p:nvPicPr>
        <p:blipFill>
          <a:blip r:embed="rId1"/>
          <a:stretch/>
        </p:blipFill>
        <p:spPr>
          <a:xfrm>
            <a:off x="468360" y="1700280"/>
            <a:ext cx="2782800" cy="381636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7"/>
          <p:cNvSpPr/>
          <p:nvPr/>
        </p:nvSpPr>
        <p:spPr>
          <a:xfrm>
            <a:off x="3564000" y="1989000"/>
            <a:ext cx="4895640" cy="2592360"/>
          </a:xfrm>
          <a:prstGeom prst="cloudCallout">
            <a:avLst>
              <a:gd name="adj1" fmla="val -66245"/>
              <a:gd name="adj2" fmla="val 2599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356000" y="2347920"/>
            <a:ext cx="352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们先来看书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8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我国古代人们研究四季的方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9"/>
          <p:cNvSpPr txBox="1"/>
          <p:nvPr/>
        </p:nvSpPr>
        <p:spPr>
          <a:xfrm>
            <a:off x="2411280" y="0"/>
            <a:ext cx="403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立杆测影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146200" y="5373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古代人用来判断季节的依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小男孩3"/>
          <p:cNvPicPr/>
          <p:nvPr/>
        </p:nvPicPr>
        <p:blipFill>
          <a:blip r:embed="rId1"/>
          <a:stretch/>
        </p:blipFill>
        <p:spPr>
          <a:xfrm>
            <a:off x="539640" y="333360"/>
            <a:ext cx="1800360" cy="37432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5"/>
          <p:cNvSpPr/>
          <p:nvPr/>
        </p:nvSpPr>
        <p:spPr>
          <a:xfrm>
            <a:off x="1547640" y="2060640"/>
            <a:ext cx="4032360" cy="2016000"/>
          </a:xfrm>
          <a:prstGeom prst="cloudCallout">
            <a:avLst>
              <a:gd name="adj1" fmla="val -27675"/>
              <a:gd name="adj2" fmla="val -963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176560" y="2347920"/>
            <a:ext cx="239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谁可以看图来给大家描述一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立竿见影这个方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小女孩3"/>
          <p:cNvPicPr/>
          <p:nvPr/>
        </p:nvPicPr>
        <p:blipFill>
          <a:blip r:embed="rId2"/>
          <a:stretch/>
        </p:blipFill>
        <p:spPr>
          <a:xfrm>
            <a:off x="6300720" y="2781360"/>
            <a:ext cx="2282760" cy="32414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8"/>
          <p:cNvSpPr/>
          <p:nvPr/>
        </p:nvSpPr>
        <p:spPr>
          <a:xfrm>
            <a:off x="1042920" y="4149720"/>
            <a:ext cx="5616720" cy="2708280"/>
          </a:xfrm>
          <a:prstGeom prst="cloudCallout">
            <a:avLst>
              <a:gd name="adj1" fmla="val 41013"/>
              <a:gd name="adj2" fmla="val -27958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1619280" y="4653000"/>
            <a:ext cx="42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不同的季节，在地上立一个杆，测量杆在正午时影子的长度，通过测量可以看出春秋季节的影子适中，夏季的影子最短，冬季的影子最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01110121620257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900000" y="2565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讨论：为什么一年中影子长短不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影子长短不同说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8200"/>
          <p:cNvSpPr/>
          <p:nvPr/>
        </p:nvSpPr>
        <p:spPr>
          <a:xfrm>
            <a:off x="1104840" y="54338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小女孩3 - 副本"/>
          <p:cNvPicPr/>
          <p:nvPr/>
        </p:nvPicPr>
        <p:blipFill>
          <a:blip r:embed="rId1"/>
          <a:stretch/>
        </p:blipFill>
        <p:spPr>
          <a:xfrm>
            <a:off x="3419640" y="2708280"/>
            <a:ext cx="1724040" cy="3129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gif008"/>
          <p:cNvPicPr/>
          <p:nvPr/>
        </p:nvPicPr>
        <p:blipFill>
          <a:blip r:embed="rId2"/>
          <a:stretch/>
        </p:blipFill>
        <p:spPr>
          <a:xfrm>
            <a:off x="3924360" y="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gif008"/>
          <p:cNvPicPr/>
          <p:nvPr/>
        </p:nvPicPr>
        <p:blipFill>
          <a:blip r:embed="rId3"/>
          <a:stretch/>
        </p:blipFill>
        <p:spPr>
          <a:xfrm>
            <a:off x="6804000" y="1413000"/>
            <a:ext cx="1371600" cy="1333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gif008"/>
          <p:cNvPicPr/>
          <p:nvPr/>
        </p:nvPicPr>
        <p:blipFill>
          <a:blip r:embed="rId4"/>
          <a:stretch/>
        </p:blipFill>
        <p:spPr>
          <a:xfrm>
            <a:off x="684360" y="1341360"/>
            <a:ext cx="1371600" cy="133344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8"/>
          <p:cNvSpPr/>
          <p:nvPr/>
        </p:nvSpPr>
        <p:spPr>
          <a:xfrm>
            <a:off x="972720" y="6793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449240" y="124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309800" y="2695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79640" y="1341360"/>
            <a:ext cx="7164360" cy="4392720"/>
            <a:chOff x="1979640" y="1341360"/>
            <a:chExt cx="7164360" cy="4392720"/>
          </a:xfrm>
        </p:grpSpPr>
        <p:sp>
          <p:nvSpPr>
            <p:cNvPr id="118" name="Line 12"/>
            <p:cNvSpPr/>
            <p:nvPr/>
          </p:nvSpPr>
          <p:spPr>
            <a:xfrm>
              <a:off x="1979640" y="1341360"/>
              <a:ext cx="7164360" cy="4392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1979640" y="1341360"/>
              <a:ext cx="7164360" cy="439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500720" y="1341360"/>
            <a:ext cx="71280" cy="4392720"/>
            <a:chOff x="4500720" y="1341360"/>
            <a:chExt cx="71280" cy="4392720"/>
          </a:xfrm>
        </p:grpSpPr>
        <p:sp>
          <p:nvSpPr>
            <p:cNvPr id="121" name="Line 13"/>
            <p:cNvSpPr/>
            <p:nvPr/>
          </p:nvSpPr>
          <p:spPr>
            <a:xfrm>
              <a:off x="4500720" y="1341360"/>
              <a:ext cx="71280" cy="43927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500720" y="1341360"/>
              <a:ext cx="71280" cy="439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1413000"/>
            <a:ext cx="6804000" cy="4392360"/>
            <a:chOff x="0" y="1413000"/>
            <a:chExt cx="6804000" cy="4392360"/>
          </a:xfrm>
        </p:grpSpPr>
        <p:sp>
          <p:nvSpPr>
            <p:cNvPr id="124" name="Line 14"/>
            <p:cNvSpPr/>
            <p:nvPr/>
          </p:nvSpPr>
          <p:spPr>
            <a:xfrm flipH="1">
              <a:off x="0" y="1413000"/>
              <a:ext cx="6804000" cy="439236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0" y="1413000"/>
              <a:ext cx="6804000" cy="43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572000" y="5661000"/>
            <a:ext cx="4572000" cy="73080"/>
            <a:chOff x="4572000" y="5661000"/>
            <a:chExt cx="4572000" cy="73080"/>
          </a:xfrm>
        </p:grpSpPr>
        <p:sp>
          <p:nvSpPr>
            <p:cNvPr id="127" name="Line 15"/>
            <p:cNvSpPr/>
            <p:nvPr/>
          </p:nvSpPr>
          <p:spPr>
            <a:xfrm>
              <a:off x="4572000" y="5661000"/>
              <a:ext cx="4572000" cy="730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572000" y="5661000"/>
              <a:ext cx="4572000" cy="7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0" y="5660640"/>
            <a:ext cx="4572000" cy="144360"/>
            <a:chOff x="0" y="5660640"/>
            <a:chExt cx="4572000" cy="144360"/>
          </a:xfrm>
        </p:grpSpPr>
        <p:sp>
          <p:nvSpPr>
            <p:cNvPr id="130" name="Line 16"/>
            <p:cNvSpPr/>
            <p:nvPr/>
          </p:nvSpPr>
          <p:spPr>
            <a:xfrm flipV="1">
              <a:off x="0" y="5660640"/>
              <a:ext cx="4572000" cy="144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 rot="10800000">
              <a:off x="0" y="5660640"/>
              <a:ext cx="457200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Oval 17"/>
          <p:cNvSpPr/>
          <p:nvPr/>
        </p:nvSpPr>
        <p:spPr>
          <a:xfrm>
            <a:off x="3780000" y="5373720"/>
            <a:ext cx="1584000" cy="576360"/>
          </a:xfrm>
          <a:prstGeom prst="ellipse">
            <a:avLst/>
          </a:prstGeom>
          <a:solidFill>
            <a:srgbClr val="0000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2398680" y="594828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早到中，影子逐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短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从中到晚，影子逐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变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201110121620257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826920" y="4292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093040" y="11444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影响了影子的长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971640" y="3789360"/>
            <a:ext cx="568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太阳斜射的时候，影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太阳直射的时候，影子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6588000" y="2205000"/>
            <a:ext cx="2089440" cy="1295280"/>
          </a:xfrm>
          <a:prstGeom prst="wedgeEllipseCallout">
            <a:avLst>
              <a:gd name="adj1" fmla="val -92023"/>
              <a:gd name="adj2" fmla="val -83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的高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01111261756419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611280" y="191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771640" y="220500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于四季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太阳高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，同一个物体在阳光下影子的长短就不一样。太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斜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影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冬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太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直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影子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短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夏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太阳高度适中，影子长短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适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季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826920" y="40464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讨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一年中影子长短不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影子长短不同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1:32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39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