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cashreg.wav" ContentType="audio/x-wav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C8C-4938-449D-86AE-2B11AEAF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D61-DB5B-435B-BA7B-BA26972F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0A6-23B1-4E06-9E9B-F72D3FE0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0B2-EEF3-46A6-A893-B4604854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9DFD-D68B-49E2-9E3A-77908E77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67D3-9C12-4516-B6A0-F188EA47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0B8A-76D0-42D7-BD4B-E67C280F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7105-904A-4AEA-9404-D94901DD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7280-1504-4699-9172-985BCBB5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3338-EAC7-4989-957E-527A06D0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4862-256C-449B-95E3-969718F8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DB1-FED4-4473-9D85-E8EBE157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D5AF-948E-448A-B6EE-F64076E5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EFDD-5AE1-433C-A4E2-0E634D7C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4121-4749-42D0-9091-21FF8208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59A7-DC53-46DA-9441-55DFF03E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CE76-31F0-46C0-8B86-CA7CA9D4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230-A11E-4D62-9D69-A5C54B62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37B-AA71-4FA2-9180-C62AA31C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EA8-4D02-4525-AF11-ECE0A99B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1B1-5C13-4148-B76B-64AEF95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043-3748-4D66-9940-3AFCB62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C8D-47CE-4047-BFC1-4BA28708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831-7840-448A-BCCF-6C09E138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790D-5219-4F77-A832-0C7186246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095B-4AC6-4D48-A5EF-60617E6311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矩形 2" descr=""/>
          <p:cNvPicPr/>
          <p:nvPr/>
        </p:nvPicPr>
        <p:blipFill>
          <a:blip r:embed="rId2"/>
          <a:stretch/>
        </p:blipFill>
        <p:spPr>
          <a:xfrm>
            <a:off x="1103400" y="752400"/>
            <a:ext cx="7099200" cy="7016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FC4F-5422-4583-881B-6B2F610E0A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图片1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429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放区越大的人，人际沟通较佳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也拥有较好的人际关系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" descr="2006728178308259.jpg"/>
          <p:cNvPicPr/>
          <p:nvPr/>
        </p:nvPicPr>
        <p:blipFill>
          <a:blip r:embed="rId1"/>
          <a:stretch/>
        </p:blipFill>
        <p:spPr>
          <a:xfrm>
            <a:off x="5643720" y="0"/>
            <a:ext cx="3500280" cy="5429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硬笔行书简体"/>
                <a:ea typeface="华文楷体"/>
              </a:rPr>
              <a:t>画家的故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197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位画家把自己的画放在画廊上，请人们点评，第一天请人们把败笔之处圈出来，结果一天下来，几乎画的每一个角落都被圈出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家觉得非常沮丧。画家的老师对他说：“不要沮丧，明天依然拿这幅画，让人们将精彩的部分都圈出来。结果一天下来，又是画的每个角落都被圈出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时候这个画家终于明白了，世人的观点难以统一，最关键是要自己有自己的想法，画自己想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4" descr="large_9234e69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611280" y="112536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小测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转还是右转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197"/>
          <p:cNvSpPr/>
          <p:nvPr/>
        </p:nvSpPr>
        <p:spPr>
          <a:xfrm>
            <a:off x="830160" y="203832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4" descr="large_9234e69.jpg"/>
          <p:cNvPicPr/>
          <p:nvPr/>
        </p:nvPicPr>
        <p:blipFill>
          <a:blip r:embed="rId1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14200" y="1071720"/>
            <a:ext cx="82440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顺时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，说明你用的是右脑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逆时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，说明你用的是左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大部分人能同时看见顺时针和逆时针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900000" y="765000"/>
            <a:ext cx="525636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如果你看见这个舞女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内容占位符 3" descr="naojiegou.jpg"/>
          <p:cNvPicPr/>
          <p:nvPr/>
        </p:nvPicPr>
        <p:blipFill>
          <a:blip r:embed="rId1"/>
          <a:stretch/>
        </p:blipFill>
        <p:spPr>
          <a:xfrm>
            <a:off x="860400" y="679320"/>
            <a:ext cx="74977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857840" y="642960"/>
            <a:ext cx="40003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，我不小心把走丢了，需要写一张寻人启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4" descr="11731bce448.jpg"/>
          <p:cNvPicPr/>
          <p:nvPr/>
        </p:nvPicPr>
        <p:blipFill>
          <a:blip r:embed="rId1"/>
          <a:stretch/>
        </p:blipFill>
        <p:spPr>
          <a:xfrm>
            <a:off x="714240" y="714240"/>
            <a:ext cx="3786480" cy="56293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1143000" y="1285920"/>
            <a:ext cx="24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硬笔行书简体"/>
                <a:ea typeface="方正硬笔行书简体"/>
              </a:rPr>
              <a:t>寻人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7" descr="zhiye013.jpg"/>
          <p:cNvPicPr/>
          <p:nvPr/>
        </p:nvPicPr>
        <p:blipFill>
          <a:blip r:embed="rId2"/>
          <a:stretch/>
        </p:blipFill>
        <p:spPr>
          <a:xfrm>
            <a:off x="5486400" y="4076640"/>
            <a:ext cx="3657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字游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3760" y="1341000"/>
            <a:ext cx="8759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自己的一种方法：填充句子“我是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谁？我是一个爱笑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谁？我是一个喜欢帮助别人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谁？我是一个脾气急躁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谁？我是一个兴趣广泛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谁？我是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纸上写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句描述自己的句子，但不用署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形容词检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197"/>
          <p:cNvSpPr/>
          <p:nvPr/>
        </p:nvSpPr>
        <p:spPr>
          <a:xfrm>
            <a:off x="1852560" y="108252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0"/>
            <a:ext cx="93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恒心的   顺从的    冲动的        有谋略的      爱争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冷漠的      害羞的    有主见的    理性的          缺乏想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静的      被动的    有条理的   富有想象力的   善解人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觉的      活跃的    乐观的       追根究底的      有责任心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赖的      友善的     好奇的      好交际的          擅长言辞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助人的      慌乱的     固执的      独立的              刚毅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作的     实际的       富有创意的      爱冒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守的     防御的     情绪化的    有自信心的      爱动脑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真的      聪明的     慷慨的       浮躁的            坦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柔的     周到的     含蓄的       有说服力的     有同情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确的     拘谨的      沉着的       不重实际的       爱反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节约的     悲观的     有野心的     有效率的        喜欢表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真诚的     细心的      急躁的       理想主义的     兴趣广泛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7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5472000" cy="4005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理小知识：周哈里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47640" y="1052640"/>
          <a:ext cx="6851520" cy="4489200"/>
        </p:xfrm>
        <a:graphic>
          <a:graphicData uri="http://schemas.openxmlformats.org/drawingml/2006/table">
            <a:tbl>
              <a:tblPr/>
              <a:tblGrid>
                <a:gridCol w="1365120"/>
                <a:gridCol w="2743200"/>
                <a:gridCol w="2743200"/>
              </a:tblGrid>
              <a:tr h="46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己知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己不知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放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公众我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盲目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背脊我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3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隐藏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逃避我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未知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潜在我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云形标注 8"/>
          <p:cNvSpPr/>
          <p:nvPr/>
        </p:nvSpPr>
        <p:spPr>
          <a:xfrm>
            <a:off x="5506920" y="260280"/>
            <a:ext cx="3637080" cy="1857600"/>
          </a:xfrm>
          <a:prstGeom prst="cloudCallout">
            <a:avLst>
              <a:gd name="adj1" fmla="val -11194"/>
              <a:gd name="adj2" fmla="val 62476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人愿意给我们回馈，以增加我们对自己的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形标注 12"/>
          <p:cNvSpPr/>
          <p:nvPr/>
        </p:nvSpPr>
        <p:spPr>
          <a:xfrm>
            <a:off x="2411280" y="5084640"/>
            <a:ext cx="4030920" cy="1571760"/>
          </a:xfrm>
          <a:prstGeom prst="wedgeEllipseCallout">
            <a:avLst>
              <a:gd name="adj1" fmla="val 2305"/>
              <a:gd name="adj2" fmla="val -97879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愿意增加对他人的坦承程度，使他人可以更了解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2:30:23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1:14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