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5323-3AC3-4DC6-9362-CE54BD32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73BC-AF8E-44F3-A2F4-C9C79DFC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2E7E-FD3D-4D42-91D8-7E290EDB3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FCC5-D3A6-4934-8587-03975200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B7CA-6551-4C18-97C0-169B6D49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E120-C571-4E4C-B8DE-5FF07191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1F08-EF6D-49F7-A57E-81A928A3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CFF6-0165-45D8-8E3E-E9C060ED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9F31-3581-4AB1-B424-EB2B15E8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12DC-CE44-4B0C-9DC6-09D2C74E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98C9-C0DD-4BB4-BEB4-B22B103C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F185-522E-4D03-A93C-03CB0CE8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071B-D5CA-48C4-92FB-E352AD51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B6A6-E5ED-4DF0-92E0-170D351C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ABCA-DCAB-452D-BE3B-DC91584F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71D7-D698-4C25-B7CE-137F0BED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1683-212C-473D-A481-7D4B229DE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524E-F952-4E67-B3EE-57CC56D5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9F87-F44C-4520-AB67-1959CA0C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618C-EAFF-4060-97DD-87DC3315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64A6-D680-4B36-8FBE-B2CE621A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84FB-A1C4-496C-BC01-8EC3EC2A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CBD6-32CA-4EE2-B8F9-5B71FECF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A900-3261-4F40-907B-0183D1D4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E65C-AE6A-4F28-997E-DB2FB551D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5E08-975D-41AB-87BB-D0022F425F7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1751040" y="1789200"/>
            <a:ext cx="579132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我学会了课件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免费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1066680" y="762120"/>
            <a:ext cx="72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Arial"/>
              </a:rPr>
              <a:t>说说自己学会了什么本领</a:t>
            </a:r>
            <a:r>
              <a:rPr b="1" lang="en-US" sz="4000" spc="-1" strike="noStrike">
                <a:solidFill>
                  <a:srgbClr val="ff505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219320" y="32004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学校里你学会了哪些本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回忆一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1219320" y="19810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们很多同学都已经学会了做一些家务活，你学会了做什么家务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1143000" y="40384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他一些生活技能、本领方面的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8088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劳动方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洗衣服、做饭、洗碗、洗菜、生火、包饺子、包粽子、系鞋带、整理房间⋯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学校文艺、体育方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唱歌、跳舞、弹钢琴、跳绳、打乒乓球、下象棋、踢足球⋯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学习方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做实验、观察、打字⋯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生活技能方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游泳、骑自行车、搞小制作、摄影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8197"/>
          <p:cNvSpPr/>
          <p:nvPr/>
        </p:nvSpPr>
        <p:spPr>
          <a:xfrm>
            <a:off x="934920" y="2330280"/>
            <a:ext cx="582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200946844490"/>
          <p:cNvPicPr/>
          <p:nvPr/>
        </p:nvPicPr>
        <p:blipFill>
          <a:blip r:embed="rId1"/>
          <a:stretch/>
        </p:blipFill>
        <p:spPr>
          <a:xfrm>
            <a:off x="0" y="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522311922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3f8601c4e775126baac8650429a2108f"/>
          <p:cNvPicPr/>
          <p:nvPr/>
        </p:nvPicPr>
        <p:blipFill>
          <a:blip r:embed="rId3"/>
          <a:stretch/>
        </p:blipFill>
        <p:spPr>
          <a:xfrm>
            <a:off x="0" y="3505320"/>
            <a:ext cx="4343400" cy="3322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1975896984"/>
          <p:cNvPicPr/>
          <p:nvPr/>
        </p:nvPicPr>
        <p:blipFill>
          <a:blip r:embed="rId4"/>
          <a:stretch/>
        </p:blipFill>
        <p:spPr>
          <a:xfrm>
            <a:off x="4495680" y="3583080"/>
            <a:ext cx="464832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1010296720"/>
          <p:cNvPicPr/>
          <p:nvPr/>
        </p:nvPicPr>
        <p:blipFill>
          <a:blip r:embed="rId1"/>
          <a:stretch/>
        </p:blipFill>
        <p:spPr>
          <a:xfrm>
            <a:off x="0" y="0"/>
            <a:ext cx="4419720" cy="3676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ACIA7IDDIDCG8D7EAH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657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2008111884322906"/>
          <p:cNvPicPr/>
          <p:nvPr/>
        </p:nvPicPr>
        <p:blipFill>
          <a:blip r:embed="rId3"/>
          <a:stretch/>
        </p:blipFill>
        <p:spPr>
          <a:xfrm>
            <a:off x="0" y="3505320"/>
            <a:ext cx="4419720" cy="3352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ea_2009428213547"/>
          <p:cNvPicPr/>
          <p:nvPr/>
        </p:nvPicPr>
        <p:blipFill>
          <a:blip r:embed="rId4"/>
          <a:stretch/>
        </p:blipFill>
        <p:spPr>
          <a:xfrm>
            <a:off x="4343400" y="325764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8197"/>
          <p:cNvSpPr/>
          <p:nvPr/>
        </p:nvSpPr>
        <p:spPr>
          <a:xfrm>
            <a:off x="2684520" y="3341520"/>
            <a:ext cx="58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281952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去追求为“学”而努力的过去：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你学本领过程中遇到什么困难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：为了学会骑自行车，你摔倒过无数次；为了练书法，你累得胳膊都发疼了；为了学会弹琴，你的手都酸了，枯燥的练习，使你几次落泪了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5"/>
          <p:cNvSpPr txBox="1"/>
          <p:nvPr/>
        </p:nvSpPr>
        <p:spPr>
          <a:xfrm>
            <a:off x="914400" y="1295280"/>
            <a:ext cx="3581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打开记忆之门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049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的过程中，遇到困难时，你是怎么想的、怎么做的？谁在你最灰心的时候给了你怎样的帮助、鼓励？他说了些什么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怎么说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又是怎么想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些帮助对你起什么作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自己又是怎么克服困难去学会这一本领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762120" y="533520"/>
            <a:ext cx="22860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体验细节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33C2-28CE-45B9-A91E-DA4E3EBE17E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此外，还要写上自己的真实感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：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学习过程中，面对困难时有了战胜困难的勇气；意志得到了锻炼，变得越来越坚强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：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学会了游泳，磨炼了意志，锻炼了身体，增强了体质；学会了下棋，懂得如何去面对困难，也学会了用耐心和智慧去战胜困难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些点题的话可以在文章中间写，也可以写在文章最后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609480" y="304920"/>
            <a:ext cx="22100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智慧启迪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30T02:58:42Z</dcterms:created>
  <dc:creator>第一PPT模板网-WWW.1PPT.COM</dc:creator>
  <dc:description>第一PPT模板网-WWW.1PPT.COM
</dc:description>
  <cp:keywords>第一PPT模板网-WWW.1PPT.COM</cp:keywords>
  <dc:language>en-US</dc:language>
  <cp:lastModifiedBy>pc</cp:lastModifiedBy>
  <dcterms:modified xsi:type="dcterms:W3CDTF">2016-06-30T08:51:07Z</dcterms:modified>
  <cp:revision>3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