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7C0-6FA6-423A-BE42-EE86C93C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74E-BE79-44F3-BD7F-C9F60ADD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CDB-ADA3-4A24-AA2A-9784B5E1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475-22A9-446A-8618-A91E0D6A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DF14-8699-4865-82AD-C4C74631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6311-E0E5-44B7-BCFF-0136A2EE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2313-E7C1-4131-98E0-B6D3B8B8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A0AE-43E9-4CA3-8EE0-B881FA68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FFC8-B736-4E7E-8EBD-6082D63C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2D7F-1099-4672-BB6C-561F9E7C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E2DD-FDC8-45AF-9D36-07580753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4D5-5B44-49B0-B93F-70769678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72C2-62F0-42CE-8219-BC76A215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0225-ED2B-41B5-A5E0-EE114824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4188-3942-4CAD-BA10-3CF573F9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E8D3-0E16-4743-AD02-5F3029FE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876A-45E8-4501-BA1E-BE76670F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852BE-83BC-4018-8BA0-20BAAF3F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E7ED4-BC28-4046-9E28-57098297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0A0FB-1487-4AEE-8929-00B0F4E7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AC399-0C9C-472E-B364-F76272D4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EA19B-FBC1-4653-ACDE-BEC3F9FD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B6F-3BEA-44E8-9C75-4A42E973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83768-5CAF-46C1-B1DE-BD3F4D97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A710-6FE3-4E4C-B8CB-E0826F37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2780B-0842-4552-863F-D8CDBBBC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9D119-5A2D-4545-B1A7-EB3DF809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3E30A-E98B-4F7E-AD55-D99527FB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1C20-6353-4330-8886-ED023AF9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DBB0C-9879-4D55-AC1A-4E340263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262-7FCE-4BA2-A494-E417235C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A930-099E-4F05-B946-00BA661A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F6D-72CF-4937-917A-1E19190D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7FC-1765-4AC9-BA53-75A10C36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AF4-D39B-4815-91BF-528215B9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2B9-97C7-42A6-9FF8-8A85A3B4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713E-7D2E-4D97-B269-57158A3A38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4714-5196-4127-B828-F3822C12756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1E25-9786-476B-8400-D845AD56B6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875600" y="836640"/>
            <a:ext cx="53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微小世界和我们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" descr=""/>
          <p:cNvPicPr/>
          <p:nvPr/>
        </p:nvPicPr>
        <p:blipFill>
          <a:blip r:embed="rId2"/>
          <a:stretch/>
        </p:blipFill>
        <p:spPr>
          <a:xfrm>
            <a:off x="836640" y="2421000"/>
            <a:ext cx="3765600" cy="23526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" descr=""/>
          <p:cNvPicPr/>
          <p:nvPr/>
        </p:nvPicPr>
        <p:blipFill>
          <a:blip r:embed="rId3"/>
          <a:stretch/>
        </p:blipFill>
        <p:spPr>
          <a:xfrm>
            <a:off x="4788000" y="2421000"/>
            <a:ext cx="3446280" cy="23558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905760" y="2852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微生物的利于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041640" y="1844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307840" y="1268280"/>
            <a:ext cx="11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供食物（做面包、泡菜、酿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208840" y="18446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制造药品（青霉素、胰岛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850360" y="24210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改良和净化土壤（垃圾处理、污水处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970360" y="3933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137560" y="350028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人生病（感冒病毒、非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4292640" y="450864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使食物腐烂变质（面包发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左大括号 9"/>
          <p:cNvSpPr/>
          <p:nvPr/>
        </p:nvSpPr>
        <p:spPr>
          <a:xfrm>
            <a:off x="2484360" y="1989000"/>
            <a:ext cx="432000" cy="2016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2016360"/>
              <a:gd name="textAreaBottom" fmla="*/ 20052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3"/>
                  <a:pt x="10800" y="385"/>
                </a:cubicBezTo>
                <a:lnTo>
                  <a:pt x="10800" y="10578"/>
                </a:lnTo>
                <a:cubicBezTo>
                  <a:pt x="10800" y="10771"/>
                  <a:pt x="5400" y="10963"/>
                  <a:pt x="0" y="10963"/>
                </a:cubicBezTo>
                <a:cubicBezTo>
                  <a:pt x="5400" y="10963"/>
                  <a:pt x="10800" y="11156"/>
                  <a:pt x="10800" y="11348"/>
                </a:cubicBezTo>
                <a:lnTo>
                  <a:pt x="10800" y="21215"/>
                </a:lnTo>
                <a:cubicBezTo>
                  <a:pt x="10800" y="2140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左大括号 11"/>
          <p:cNvSpPr/>
          <p:nvPr/>
        </p:nvSpPr>
        <p:spPr>
          <a:xfrm>
            <a:off x="3348000" y="1484280"/>
            <a:ext cx="216000" cy="12034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203480"/>
              <a:gd name="textAreaBottom" fmla="*/ 1198080 h 120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2"/>
                </a:cubicBezTo>
                <a:lnTo>
                  <a:pt x="10800" y="10478"/>
                </a:lnTo>
                <a:cubicBezTo>
                  <a:pt x="10800" y="10639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2"/>
                </a:cubicBezTo>
                <a:lnTo>
                  <a:pt x="10800" y="21278"/>
                </a:lnTo>
                <a:cubicBezTo>
                  <a:pt x="10800" y="214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左大括号 12"/>
          <p:cNvSpPr/>
          <p:nvPr/>
        </p:nvSpPr>
        <p:spPr>
          <a:xfrm>
            <a:off x="3276720" y="3645000"/>
            <a:ext cx="287280" cy="113004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130040"/>
              <a:gd name="textAreaBottom" fmla="*/ 1122840 h 113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9"/>
                  <a:pt x="10800" y="457"/>
                </a:cubicBezTo>
                <a:lnTo>
                  <a:pt x="10800" y="10343"/>
                </a:lnTo>
                <a:cubicBezTo>
                  <a:pt x="10800" y="10572"/>
                  <a:pt x="5400" y="10800"/>
                  <a:pt x="0" y="10800"/>
                </a:cubicBezTo>
                <a:cubicBezTo>
                  <a:pt x="5400" y="10800"/>
                  <a:pt x="10800" y="11029"/>
                  <a:pt x="10800" y="11257"/>
                </a:cubicBezTo>
                <a:lnTo>
                  <a:pt x="10800" y="21143"/>
                </a:lnTo>
                <a:cubicBezTo>
                  <a:pt x="10800" y="2137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8199"/>
          <p:cNvSpPr/>
          <p:nvPr/>
        </p:nvSpPr>
        <p:spPr>
          <a:xfrm>
            <a:off x="939960" y="746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0000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55640" y="1197000"/>
            <a:ext cx="743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用显微镜观察到了奇妙 的微生物世界后，使人类看到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了战胜传染病的希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微生物对人类既有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有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馒头内部疏松多孔，吃起来口感很好是因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土壤中的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以分解死去的动植物尸体和残体，是它们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变成 植物需要的营养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豆类植物根部的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以吸收并固定大气中的氮，提供给植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物作为 肥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人们利用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在短时间内能大量繁殖的优势，生产大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量 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   用于治疗糖尿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发明，让我们看清了微生物和细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我们周围的垃圾和污水处理也要靠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如果没有它们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球就会变成垃圾的世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在显微镜没有发明以前，人们主要依靠 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五种 感觉器官来观察和认识世界。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305360" y="119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列文虎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3396960" y="1773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4332960" y="1773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6460920" y="2133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馒头当中的酵母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389600" y="24922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的作用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2410560" y="2708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微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3083040" y="3284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根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2363760" y="3933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细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1689840" y="4221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胰岛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3"/>
          <p:cNvSpPr/>
          <p:nvPr/>
        </p:nvSpPr>
        <p:spPr>
          <a:xfrm>
            <a:off x="1185840" y="450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放大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4"/>
          <p:cNvSpPr/>
          <p:nvPr/>
        </p:nvSpPr>
        <p:spPr>
          <a:xfrm>
            <a:off x="2122560" y="450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显微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5"/>
          <p:cNvSpPr/>
          <p:nvPr/>
        </p:nvSpPr>
        <p:spPr>
          <a:xfrm>
            <a:off x="5290200" y="479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微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5628960" y="544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6132960" y="544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8"/>
          <p:cNvSpPr/>
          <p:nvPr/>
        </p:nvSpPr>
        <p:spPr>
          <a:xfrm>
            <a:off x="6732720" y="5445000"/>
            <a:ext cx="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9"/>
          <p:cNvSpPr/>
          <p:nvPr/>
        </p:nvSpPr>
        <p:spPr>
          <a:xfrm>
            <a:off x="7308720" y="544500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0"/>
          <p:cNvSpPr/>
          <p:nvPr/>
        </p:nvSpPr>
        <p:spPr>
          <a:xfrm>
            <a:off x="7789680" y="5445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991080" y="62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2084040" y="1341360"/>
            <a:ext cx="5517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鼻子能感觉物体的（ 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颜色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形状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透明度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气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第一个指出微生物与人类健康关系的人是（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巴斯德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阿基米德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门捷列夫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居里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下面三个放大镜的侧面图，其中放大倍数最大的是（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下列食物的生产中，不需要利用微生物的是（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面包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西瓜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蛋糕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酱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被称为“水稻之父”的科学家是（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达尔文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列文虎克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袁隆平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培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3"/>
          <p:cNvSpPr/>
          <p:nvPr/>
        </p:nvSpPr>
        <p:spPr>
          <a:xfrm>
            <a:off x="1332000" y="3645000"/>
            <a:ext cx="1152360" cy="21564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4"/>
          <p:cNvSpPr/>
          <p:nvPr/>
        </p:nvSpPr>
        <p:spPr>
          <a:xfrm>
            <a:off x="3635280" y="3500280"/>
            <a:ext cx="1295640" cy="433440"/>
          </a:xfrm>
          <a:prstGeom prst="ellipse">
            <a:avLst/>
          </a:pr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5"/>
          <p:cNvSpPr/>
          <p:nvPr/>
        </p:nvSpPr>
        <p:spPr>
          <a:xfrm>
            <a:off x="6012000" y="3429000"/>
            <a:ext cx="1439640" cy="720720"/>
          </a:xfrm>
          <a:prstGeom prst="ellipse">
            <a:avLst/>
          </a:pr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385488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673524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80316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7095600" y="465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5292720" y="5300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8DC0-9C65-4EFB-97CA-B9504B0AAE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1280160" y="90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1992240" y="1773360"/>
            <a:ext cx="4944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微生物对人类并非百利而无一害。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我们蒸馒头时用到的酵母就是一种微生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伤寒、鼠疫、霍乱等传染病都是由一些有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微生物引起的。（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在放大镜和显微镜发明以前，人们只能依靠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身的感觉器官感知世界。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使我们患病的病毒属于微生物，所以所有的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物对我们人类都是有害的。（       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602760" y="51577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7158240" y="1668600"/>
            <a:ext cx="4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 rot="19152600">
            <a:off x="2028240" y="2564640"/>
            <a:ext cx="35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 rot="19357200">
            <a:off x="4547880" y="3357000"/>
            <a:ext cx="35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 rot="19540800">
            <a:off x="6047280" y="4273920"/>
            <a:ext cx="35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2679840" y="1557360"/>
            <a:ext cx="365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显微镜没有发明以前，人们只能用眼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耳、鼻、舌、手五种感觉器官探知时间。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时候，人能观察到的最小动物，就是蚂蚁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昆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2461320" y="35733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放大镜和显微镜的发明，使我们看到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生物、细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4e1f0f1ceb4c9edb.jpg"/>
          <p:cNvPicPr/>
          <p:nvPr/>
        </p:nvPicPr>
        <p:blipFill>
          <a:blip r:embed="rId2"/>
          <a:stretch/>
        </p:blipFill>
        <p:spPr>
          <a:xfrm>
            <a:off x="2921040" y="3573360"/>
            <a:ext cx="3163680" cy="32846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" descr="38c559a6f1460ef0.jpg"/>
          <p:cNvPicPr/>
          <p:nvPr/>
        </p:nvPicPr>
        <p:blipFill>
          <a:blip r:embed="rId3"/>
          <a:stretch/>
        </p:blipFill>
        <p:spPr>
          <a:xfrm>
            <a:off x="3059280" y="0"/>
            <a:ext cx="3097080" cy="35956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3" descr="76ee202e5107c2e2.jpg"/>
          <p:cNvPicPr/>
          <p:nvPr/>
        </p:nvPicPr>
        <p:blipFill>
          <a:blip r:embed="rId4"/>
          <a:stretch/>
        </p:blipFill>
        <p:spPr>
          <a:xfrm>
            <a:off x="6153120" y="0"/>
            <a:ext cx="2990880" cy="35733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4" descr="c9133f38753ba190.jpg"/>
          <p:cNvPicPr/>
          <p:nvPr/>
        </p:nvPicPr>
        <p:blipFill>
          <a:blip r:embed="rId5"/>
          <a:stretch/>
        </p:blipFill>
        <p:spPr>
          <a:xfrm>
            <a:off x="6084720" y="3571920"/>
            <a:ext cx="3059280" cy="32860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" descr="f89b63f2c51a1bbe.jpg"/>
          <p:cNvPicPr/>
          <p:nvPr/>
        </p:nvPicPr>
        <p:blipFill>
          <a:blip r:embed="rId6"/>
          <a:stretch/>
        </p:blipFill>
        <p:spPr>
          <a:xfrm>
            <a:off x="0" y="3573360"/>
            <a:ext cx="2916360" cy="32846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7" descr="c33075def6aebd23.jpg"/>
          <p:cNvPicPr/>
          <p:nvPr/>
        </p:nvPicPr>
        <p:blipFill>
          <a:blip r:embed="rId7"/>
          <a:stretch/>
        </p:blipFill>
        <p:spPr>
          <a:xfrm>
            <a:off x="0" y="0"/>
            <a:ext cx="31161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306840" y="4292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扫描隧道显微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 flipH="1">
            <a:off x="899280" y="2852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384000" y="2781360"/>
            <a:ext cx="171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几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几十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看到动物肢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308640" y="2852640"/>
            <a:ext cx="14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倍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看到细胞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688840" y="501336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万倍（看到物体的精细结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964080" y="191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3609000" y="184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放大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6633000" y="191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微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2509920" y="4292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子显微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1497600" y="620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工具的发展和观察范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右箭头 30"/>
          <p:cNvSpPr/>
          <p:nvPr/>
        </p:nvSpPr>
        <p:spPr>
          <a:xfrm>
            <a:off x="1547640" y="2060640"/>
            <a:ext cx="1584360" cy="1443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右箭头 31"/>
          <p:cNvSpPr/>
          <p:nvPr/>
        </p:nvSpPr>
        <p:spPr>
          <a:xfrm>
            <a:off x="4067280" y="4508640"/>
            <a:ext cx="1584360" cy="1443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右箭头 32"/>
          <p:cNvSpPr/>
          <p:nvPr/>
        </p:nvSpPr>
        <p:spPr>
          <a:xfrm>
            <a:off x="684360" y="4437000"/>
            <a:ext cx="1584000" cy="14436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右箭头 33"/>
          <p:cNvSpPr/>
          <p:nvPr/>
        </p:nvSpPr>
        <p:spPr>
          <a:xfrm>
            <a:off x="4643280" y="2060640"/>
            <a:ext cx="1584360" cy="1443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直接箭头连接符 46"/>
          <p:cNvCxnSpPr/>
          <p:nvPr/>
        </p:nvCxnSpPr>
        <p:spPr>
          <a:xfrm>
            <a:off x="3994560" y="2421000"/>
            <a:ext cx="1080" cy="288000"/>
          </a:xfrm>
          <a:prstGeom prst="straightConnector1">
            <a:avLst/>
          </a:prstGeom>
          <a:ln w="9360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0" name="直接箭头连接符 48"/>
          <p:cNvCxnSpPr/>
          <p:nvPr/>
        </p:nvCxnSpPr>
        <p:spPr>
          <a:xfrm flipH="1">
            <a:off x="6875280" y="2421000"/>
            <a:ext cx="2160" cy="288000"/>
          </a:xfrm>
          <a:prstGeom prst="straightConnector1">
            <a:avLst/>
          </a:prstGeom>
          <a:ln w="9360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1" name="直接箭头连接符 50"/>
          <p:cNvCxnSpPr/>
          <p:nvPr/>
        </p:nvCxnSpPr>
        <p:spPr>
          <a:xfrm flipH="1">
            <a:off x="3274200" y="4797360"/>
            <a:ext cx="2520" cy="216720"/>
          </a:xfrm>
          <a:prstGeom prst="straightConnector1">
            <a:avLst/>
          </a:prstGeom>
          <a:ln w="9360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2" name="直接箭头连接符 93"/>
          <p:cNvCxnSpPr>
            <a:stCxn id="140" idx="2"/>
          </p:cNvCxnSpPr>
          <p:nvPr/>
        </p:nvCxnSpPr>
        <p:spPr>
          <a:xfrm flipH="1">
            <a:off x="1116000" y="2378160"/>
            <a:ext cx="30600" cy="302400"/>
          </a:xfrm>
          <a:prstGeom prst="straightConnector1">
            <a:avLst/>
          </a:prstGeom>
          <a:ln w="9360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2916360" y="206064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763640" y="2492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类征服病菌的道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093840" y="3141720"/>
            <a:ext cx="402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去，伤寒、鼠疫、霍乱等传染疾病到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肆虐，人类对此只能束手待毙，毫无办法。随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微镜的发明和不断改进，科学家陆续发现了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危害人类的细菌和病毒，并从此开始了和它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斗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8199"/>
          <p:cNvSpPr/>
          <p:nvPr/>
        </p:nvSpPr>
        <p:spPr>
          <a:xfrm>
            <a:off x="1863720" y="551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0e7126a7521fad4d.jpg"/>
          <p:cNvPicPr/>
          <p:nvPr/>
        </p:nvPicPr>
        <p:blipFill>
          <a:blip r:embed="rId2"/>
          <a:stretch/>
        </p:blipFill>
        <p:spPr>
          <a:xfrm>
            <a:off x="2268360" y="765000"/>
            <a:ext cx="3159360" cy="27403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1258920" y="2997360"/>
            <a:ext cx="72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人类研究           微小世界的最新成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克隆羊。人们通过生物技术，不仅 能克隆出羊，还可以把岛素基因插到细菌细胞中，利用细菌能在短时间内大量繁殖的优势，生产大量 胰岛素，用于治疗糖疗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3856680" y="2852640"/>
            <a:ext cx="290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举例说明微生物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的生活的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波形 3"/>
          <p:cNvSpPr/>
          <p:nvPr/>
        </p:nvSpPr>
        <p:spPr>
          <a:xfrm>
            <a:off x="1332000" y="1773360"/>
            <a:ext cx="6840360" cy="3816360"/>
          </a:xfrm>
          <a:custGeom>
            <a:avLst/>
            <a:gdLst>
              <a:gd name="textAreaLeft" fmla="*/ 0 w 6840360"/>
              <a:gd name="textAreaRight" fmla="*/ 6840720 w 6840360"/>
              <a:gd name="textAreaTop" fmla="*/ 954000 h 3816360"/>
              <a:gd name="textAreaBottom" fmla="*/ 286236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3d69b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2772000" y="2708280"/>
            <a:ext cx="381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有些微生物能为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提供食物或帮助我们生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云形标注 4"/>
          <p:cNvSpPr/>
          <p:nvPr/>
        </p:nvSpPr>
        <p:spPr>
          <a:xfrm>
            <a:off x="826920" y="836640"/>
            <a:ext cx="7848720" cy="4824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3d69b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2693160" y="2205000"/>
            <a:ext cx="398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我们周围的垃圾处理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污水的处理也要靠微生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如果没有微生物，地球就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成为垃圾的世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7:51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16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