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5.gif" ContentType="image/gif"/>
  <Override PartName="/ppt/media/image3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7.gif" ContentType="image/gif"/>
  <Override PartName="/ppt/media/image6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B6B-06FC-4079-8B29-0132B46A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D66-249F-43E2-A582-A3F0B342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4C7-ECA1-46FD-8F72-64948AFB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AD7-752E-4244-86FC-94113F53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9283-FF68-4FEF-A52C-D92BC617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F772-E936-4ACB-822C-33E5EF40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6112-0FC9-4570-AD0C-56888C21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33B2-3412-43A0-9821-E8A9AF6E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D41A-66B5-4A70-AB68-BF364C16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9257-743B-4620-AF69-03C98502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199C-5DB8-45B2-8479-A94EF754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793-07C7-40B3-AE71-88A43A6C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8063-56F2-404E-8A1D-D6B45806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61B5-D131-46E8-A6C7-6D801F25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04D9-3067-41B2-99D2-C891DAD7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D25E-4F6E-40D3-B467-ED7D9EE4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0743-DAE4-4F12-90CF-34722DD3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DDA9E-8767-44EB-90B9-D4CC8935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DA760-EADC-4F62-858A-D0F5A98D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C4484-560A-4BCA-9600-30D176A6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14203-97CC-46D2-9A89-ADEA97DA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741C9-0D60-4B9D-8022-BB031923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1DFE-D136-4646-BBF6-73DD983D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A50C1-4876-4FAF-A6CC-48ABA830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C7F7F-E01B-4360-BA72-A4C7C486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99EF8-AC73-4BEF-BC94-2D25DCBD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AFF3F-780A-45DA-AA45-82768D86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89A36-67F1-4881-BED0-B8CD645E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7EB10-A04B-4683-9D82-66416EB9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1D260-0599-418C-B27F-0BF96993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56F-8F57-4466-8833-BEFDA8D7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910-AA3D-4840-A942-420B8E97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0138-6C67-41A6-B819-979796D2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AF7-A8F2-45F6-83B6-1EBB9C9C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3FE3-BA7A-4423-97A6-2487709E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289-B1F3-4B03-80C7-F92BE788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461E-F36A-4170-B367-C3D3499C3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4E52-4B04-4F4A-A5EB-3EAFEABFD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5CFA-0801-40EC-BD5B-A94F99B2A11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6"/>
          <p:cNvSpPr txBox="1"/>
          <p:nvPr/>
        </p:nvSpPr>
        <p:spPr>
          <a:xfrm>
            <a:off x="1763640" y="1484280"/>
            <a:ext cx="5473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用残损的手掌语文课件</a:t>
            </a:r>
            <a:r>
              <a:rPr b="0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PPT</a:t>
            </a: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模板下载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6703920" y="3357720"/>
            <a:ext cx="1521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戴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黄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826920" y="476280"/>
            <a:ext cx="6912000" cy="703440"/>
          </a:xfrm>
          <a:prstGeom prst="rect">
            <a:avLst/>
          </a:prstGeom>
          <a:solidFill>
            <a:srgbClr val="ffffff">
              <a:alpha val="51000"/>
            </a:srgbClr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这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黄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的水夹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泥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在指间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隶书"/>
              </a:rPr>
              <a:t>滑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093080" y="1268280"/>
            <a:ext cx="360" cy="648000"/>
            <a:chOff x="7093080" y="1268280"/>
            <a:chExt cx="360" cy="648000"/>
          </a:xfrm>
        </p:grpSpPr>
        <p:sp>
          <p:nvSpPr>
            <p:cNvPr id="205" name="Line 4"/>
            <p:cNvSpPr/>
            <p:nvPr/>
          </p:nvSpPr>
          <p:spPr>
            <a:xfrm>
              <a:off x="7093080" y="1268280"/>
              <a:ext cx="0" cy="6480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7093080" y="1268280"/>
              <a:ext cx="360" cy="6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5"/>
          <p:cNvSpPr/>
          <p:nvPr/>
        </p:nvSpPr>
        <p:spPr>
          <a:xfrm>
            <a:off x="6516720" y="2133720"/>
            <a:ext cx="115092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触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水田"/>
          <p:cNvPicPr/>
          <p:nvPr/>
        </p:nvPicPr>
        <p:blipFill>
          <a:blip r:embed="rId1"/>
          <a:srcRect l="0" t="0" r="0" b="45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539640" y="404640"/>
            <a:ext cx="8064720" cy="125208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江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的水田，你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当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新生的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禾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是那么细，那么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……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现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只有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蓬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9"/>
          <p:cNvGrpSpPr/>
          <p:nvPr/>
        </p:nvGrpSpPr>
        <p:grpSpPr>
          <a:xfrm>
            <a:off x="5110200" y="4581360"/>
            <a:ext cx="3638520" cy="1729080"/>
            <a:chOff x="5110200" y="4581360"/>
            <a:chExt cx="3638520" cy="1729080"/>
          </a:xfrm>
        </p:grpSpPr>
        <p:sp>
          <p:nvSpPr>
            <p:cNvPr id="212" name="AutoShape 7"/>
            <p:cNvSpPr/>
            <p:nvPr/>
          </p:nvSpPr>
          <p:spPr>
            <a:xfrm>
              <a:off x="5110200" y="4581360"/>
              <a:ext cx="3638520" cy="1729080"/>
            </a:xfrm>
            <a:prstGeom prst="wedgeRoundRectCallout">
              <a:avLst>
                <a:gd name="adj1" fmla="val -44504"/>
                <a:gd name="adj2" fmla="val -90773"/>
                <a:gd name="adj3" fmla="val 16667"/>
              </a:avLst>
            </a:prstGeom>
            <a:solidFill>
              <a:srgbClr val="80808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5"/>
            <p:cNvSpPr/>
            <p:nvPr/>
          </p:nvSpPr>
          <p:spPr>
            <a:xfrm>
              <a:off x="5183280" y="4653000"/>
              <a:ext cx="3492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用对比的手法写出衰败的景象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表达出痛苦的内心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荔枝"/>
          <p:cNvPicPr/>
          <p:nvPr/>
        </p:nvPicPr>
        <p:blipFill>
          <a:blip r:embed="rId1">
            <a:lum contrast="6000"/>
          </a:blip>
          <a:srcRect l="0" t="0" r="0" b="13689"/>
          <a:stretch/>
        </p:blipFill>
        <p:spPr>
          <a:xfrm>
            <a:off x="0" y="981000"/>
            <a:ext cx="6948360" cy="5877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684360" y="260280"/>
            <a:ext cx="6227640" cy="70344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岭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的荔枝花寂寞地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憔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7164360" y="1341360"/>
            <a:ext cx="1835280" cy="216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080" y="-3904"/>
                </a:moveTo>
                <a:lnTo>
                  <a:pt x="-897" y="1143"/>
                </a:lnTo>
              </a:path>
              <a:path w="21600" h="21600">
                <a:moveTo>
                  <a:pt x="-897" y="0"/>
                </a:moveTo>
                <a:lnTo>
                  <a:pt x="-8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用拟人的方法写出诗人的痛苦和山河的破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南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1403280" y="620640"/>
            <a:ext cx="7056360" cy="7642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我蘸着南海没有渔船的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苦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4572000" y="2565360"/>
            <a:ext cx="4249800" cy="581400"/>
          </a:xfrm>
          <a:prstGeom prst="rect">
            <a:avLst/>
          </a:prstGeom>
          <a:solidFill>
            <a:srgbClr val="ffffff">
              <a:alpha val="22000"/>
            </a:srgbClr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Times New Roman"/>
                <a:ea typeface="宋体"/>
              </a:rPr>
              <a:t>海水的咸涩味作者称之为“苦水”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996633"/>
                </a:solidFill>
                <a:latin typeface="Times New Roman"/>
                <a:ea typeface="宋体"/>
              </a:rPr>
              <a:t>实则是作者内心的映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667640" y="1628640"/>
            <a:ext cx="360" cy="863640"/>
            <a:chOff x="7667640" y="1628640"/>
            <a:chExt cx="360" cy="863640"/>
          </a:xfrm>
        </p:grpSpPr>
        <p:sp>
          <p:nvSpPr>
            <p:cNvPr id="223" name="Line 5"/>
            <p:cNvSpPr/>
            <p:nvPr/>
          </p:nvSpPr>
          <p:spPr>
            <a:xfrm>
              <a:off x="7667640" y="1628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7667640" y="1628640"/>
              <a:ext cx="36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文本框 8194"/>
          <p:cNvSpPr/>
          <p:nvPr/>
        </p:nvSpPr>
        <p:spPr>
          <a:xfrm>
            <a:off x="684360" y="177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250920" y="981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北方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—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中原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—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江南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—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岭南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—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南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187280" y="1844640"/>
            <a:ext cx="360" cy="647640"/>
            <a:chOff x="1187280" y="1844640"/>
            <a:chExt cx="360" cy="647640"/>
          </a:xfrm>
        </p:grpSpPr>
        <p:sp>
          <p:nvSpPr>
            <p:cNvPr id="229" name="Line 3"/>
            <p:cNvSpPr/>
            <p:nvPr/>
          </p:nvSpPr>
          <p:spPr>
            <a:xfrm>
              <a:off x="1187280" y="1844640"/>
              <a:ext cx="0" cy="64764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1187280" y="1844640"/>
              <a:ext cx="3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4"/>
          <p:cNvSpPr/>
          <p:nvPr/>
        </p:nvSpPr>
        <p:spPr>
          <a:xfrm>
            <a:off x="468360" y="2852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宋体"/>
              </a:rPr>
              <a:t>雪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843280" y="1844640"/>
            <a:ext cx="360" cy="720720"/>
            <a:chOff x="2843280" y="1844640"/>
            <a:chExt cx="360" cy="720720"/>
          </a:xfrm>
        </p:grpSpPr>
        <p:sp>
          <p:nvSpPr>
            <p:cNvPr id="233" name="Line 5"/>
            <p:cNvSpPr/>
            <p:nvPr/>
          </p:nvSpPr>
          <p:spPr>
            <a:xfrm>
              <a:off x="2843280" y="1844640"/>
              <a:ext cx="0" cy="72072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2843280" y="1844640"/>
              <a:ext cx="36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6"/>
          <p:cNvSpPr/>
          <p:nvPr/>
        </p:nvSpPr>
        <p:spPr>
          <a:xfrm>
            <a:off x="2195640" y="2852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宋体"/>
              </a:rPr>
              <a:t>黄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572000" y="1844640"/>
            <a:ext cx="360" cy="792360"/>
            <a:chOff x="4572000" y="1844640"/>
            <a:chExt cx="360" cy="792360"/>
          </a:xfrm>
        </p:grpSpPr>
        <p:sp>
          <p:nvSpPr>
            <p:cNvPr id="237" name="Line 7"/>
            <p:cNvSpPr/>
            <p:nvPr/>
          </p:nvSpPr>
          <p:spPr>
            <a:xfrm>
              <a:off x="4572000" y="1844640"/>
              <a:ext cx="0" cy="79236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4572000" y="1844640"/>
              <a:ext cx="36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8"/>
          <p:cNvSpPr/>
          <p:nvPr/>
        </p:nvSpPr>
        <p:spPr>
          <a:xfrm>
            <a:off x="4067280" y="2997360"/>
            <a:ext cx="122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3851280" y="285264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宋体"/>
              </a:rPr>
              <a:t>水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156360" y="1844640"/>
            <a:ext cx="360" cy="720720"/>
            <a:chOff x="6156360" y="1844640"/>
            <a:chExt cx="360" cy="720720"/>
          </a:xfrm>
        </p:grpSpPr>
        <p:sp>
          <p:nvSpPr>
            <p:cNvPr id="242" name="Line 10"/>
            <p:cNvSpPr/>
            <p:nvPr/>
          </p:nvSpPr>
          <p:spPr>
            <a:xfrm>
              <a:off x="6156360" y="1844640"/>
              <a:ext cx="0" cy="72072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6156360" y="1844640"/>
              <a:ext cx="36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11"/>
          <p:cNvSpPr/>
          <p:nvPr/>
        </p:nvSpPr>
        <p:spPr>
          <a:xfrm>
            <a:off x="5292720" y="2781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宋体"/>
              </a:rPr>
              <a:t>荔枝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7451640" y="27082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宋体"/>
              </a:rPr>
              <a:t>渔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028000" y="1773360"/>
            <a:ext cx="360" cy="792000"/>
            <a:chOff x="8028000" y="1773360"/>
            <a:chExt cx="360" cy="792000"/>
          </a:xfrm>
        </p:grpSpPr>
        <p:sp>
          <p:nvSpPr>
            <p:cNvPr id="247" name="Line 13"/>
            <p:cNvSpPr/>
            <p:nvPr/>
          </p:nvSpPr>
          <p:spPr>
            <a:xfrm>
              <a:off x="8028000" y="1773360"/>
              <a:ext cx="0" cy="79200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8028000" y="1773360"/>
              <a:ext cx="36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14"/>
          <p:cNvSpPr/>
          <p:nvPr/>
        </p:nvSpPr>
        <p:spPr>
          <a:xfrm>
            <a:off x="78480" y="3716280"/>
            <a:ext cx="13993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冷得刺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1734480" y="3716280"/>
            <a:ext cx="13993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水夹泥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4143960" y="3860640"/>
            <a:ext cx="7898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蓬蒿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5944320" y="3716280"/>
            <a:ext cx="789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憔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7744680" y="3716280"/>
            <a:ext cx="789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苦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684360" y="573408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从北到南到处都有侵略者践踏的痕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日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1187280" y="907920"/>
            <a:ext cx="29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辽远的一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3851280" y="90792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—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完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403280" y="2492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解放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3635280" y="1844640"/>
            <a:ext cx="144720" cy="1944720"/>
          </a:xfrm>
          <a:custGeom>
            <a:avLst/>
            <a:gdLst>
              <a:gd name="textAreaLeft" fmla="*/ 92520 w 144720"/>
              <a:gd name="textAreaRight" fmla="*/ 145080 w 14472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3995640" y="1628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温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3995640" y="22050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明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3995640" y="270828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坚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3851280" y="328464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蓬勃生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1042920" y="4797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残损的手轻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2"/>
          <p:cNvSpPr/>
          <p:nvPr/>
        </p:nvSpPr>
        <p:spPr>
          <a:xfrm>
            <a:off x="3995640" y="4581360"/>
            <a:ext cx="71640" cy="1295640"/>
          </a:xfrm>
          <a:custGeom>
            <a:avLst/>
            <a:gdLst>
              <a:gd name="textAreaLeft" fmla="*/ 45720 w 71640"/>
              <a:gd name="textAreaRight" fmla="*/ 72000 w 716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4356000" y="465300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柔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4211640" y="5373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手中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6156360" y="2133720"/>
            <a:ext cx="26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因为只有那里是太阳，是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6300720" y="692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9"/>
          <p:cNvSpPr/>
          <p:nvPr/>
        </p:nvSpPr>
        <p:spPr>
          <a:xfrm>
            <a:off x="6084720" y="404640"/>
            <a:ext cx="2230560" cy="1297080"/>
          </a:xfrm>
          <a:prstGeom prst="cloudCallout">
            <a:avLst>
              <a:gd name="adj1" fmla="val -59180"/>
              <a:gd name="adj2" fmla="val 9320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永恒的中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6300720" y="5084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-232920" y="1700280"/>
            <a:ext cx="1155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用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残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手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43440" y="1557360"/>
            <a:ext cx="11552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摸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这广大的土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1619280" y="1700280"/>
            <a:ext cx="144360" cy="381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692360" y="162864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宋体"/>
              </a:rPr>
              <a:t>沦陷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1763640" y="50133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宋体"/>
              </a:rPr>
              <a:t>解放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8"/>
          <p:cNvSpPr/>
          <p:nvPr/>
        </p:nvSpPr>
        <p:spPr>
          <a:xfrm>
            <a:off x="3276720" y="765000"/>
            <a:ext cx="142920" cy="1901880"/>
          </a:xfrm>
          <a:custGeom>
            <a:avLst/>
            <a:gdLst>
              <a:gd name="textAreaLeft" fmla="*/ 42120 w 142920"/>
              <a:gd name="textAreaRight" fmla="*/ 143280 w 142920"/>
              <a:gd name="textAreaTop" fmla="*/ 79200 h 1901880"/>
              <a:gd name="textAreaBottom" fmla="*/ 1822680 h 19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3962520" y="3808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灰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809880" y="10666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血和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1"/>
          <p:cNvSpPr/>
          <p:nvPr/>
        </p:nvSpPr>
        <p:spPr>
          <a:xfrm>
            <a:off x="3348000" y="4508640"/>
            <a:ext cx="130320" cy="1596960"/>
          </a:xfrm>
          <a:custGeom>
            <a:avLst/>
            <a:gdLst>
              <a:gd name="textAreaLeft" fmla="*/ 38160 w 130320"/>
              <a:gd name="textAreaRight" fmla="*/ 130680 w 130320"/>
              <a:gd name="textAreaTop" fmla="*/ 66240 h 1596960"/>
              <a:gd name="textAreaBottom" fmla="*/ 1530720 h 159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3809880" y="4191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太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3962520" y="48769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5796000" y="620640"/>
            <a:ext cx="3024000" cy="581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表达了对侵略者无比的痛恨，对祖国支离破碎的惨状无比痛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3505320" y="1752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像牲口一样活，像蝼蛄一样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3708360" y="55897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驱逐阴暗，带来苏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5796000" y="4365720"/>
            <a:ext cx="3058920" cy="1556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表达了作者对解放区的无比向往，因为她是民族的希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755640" y="4046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宋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4"/>
          <p:cNvSpPr txBox="1"/>
          <p:nvPr/>
        </p:nvSpPr>
        <p:spPr>
          <a:xfrm>
            <a:off x="2987640" y="2984400"/>
            <a:ext cx="3960720" cy="152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567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语言运用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92" name="Picture 8" descr="墨水写字"/>
          <p:cNvPicPr/>
          <p:nvPr/>
        </p:nvPicPr>
        <p:blipFill>
          <a:blip r:embed="rId3"/>
          <a:stretch/>
        </p:blipFill>
        <p:spPr>
          <a:xfrm>
            <a:off x="1258920" y="836640"/>
            <a:ext cx="1440000" cy="1000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花5"/>
          <p:cNvPicPr/>
          <p:nvPr/>
        </p:nvPicPr>
        <p:blipFill>
          <a:blip r:embed="rId4"/>
          <a:stretch/>
        </p:blipFill>
        <p:spPr>
          <a:xfrm>
            <a:off x="1258920" y="2565360"/>
            <a:ext cx="1857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9"/>
          <p:cNvSpPr/>
          <p:nvPr/>
        </p:nvSpPr>
        <p:spPr>
          <a:xfrm>
            <a:off x="1332000" y="2492280"/>
            <a:ext cx="46083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755640" y="1268280"/>
            <a:ext cx="7345440" cy="2165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自由发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日战争时期，许多仁人志土为了改变祖国受欺辱的命运，不惜以抛头颅、洒热血的代价来奋力抗争。请列举其中你所知道的一些人和事，和大家交流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戴望舒的身上，你要学习他的什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7" dur="2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C1EB-F24D-42F3-ADA5-83AC6D1880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7"/>
          <p:cNvSpPr/>
          <p:nvPr/>
        </p:nvSpPr>
        <p:spPr>
          <a:xfrm>
            <a:off x="363528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作家身影"/>
          <p:cNvPicPr/>
          <p:nvPr/>
        </p:nvPicPr>
        <p:blipFill>
          <a:blip r:embed="rId1"/>
          <a:stretch/>
        </p:blipFill>
        <p:spPr>
          <a:xfrm>
            <a:off x="611280" y="333360"/>
            <a:ext cx="1406520" cy="1996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U209P60T4D109900F49DT20050201174220"/>
          <p:cNvPicPr/>
          <p:nvPr/>
        </p:nvPicPr>
        <p:blipFill>
          <a:blip r:embed="rId2"/>
          <a:stretch/>
        </p:blipFill>
        <p:spPr>
          <a:xfrm>
            <a:off x="2627280" y="404640"/>
            <a:ext cx="3708360" cy="58327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539640" y="1557360"/>
            <a:ext cx="7993080" cy="1556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戴望舒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90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50)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原名戴梦鸥。浙江杭县人。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2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秋人上海大学中文系。诗集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的记忆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望舒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望舒诗稿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灾难的岁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早年诗歌多写个人的孤寂心境，感伤气息较重，因受西方象征派的影响，意象朦胧、含蓄。后期诗歌表现了热爱祖国、憎恨侵略者的强烈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用残损的手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于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，是诗人在侵略者的铁窗下献给祖国的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826920" y="1484280"/>
            <a:ext cx="7345440" cy="2186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头说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人往往把情感寄寓在具体的形象上，使抽象的心绪具有可感性。借鉴这种写法，联系你的生活体验，说几句富有诗意的话，抒发自己的某一种感情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忧伤、喜悦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戴望舒全家照"/>
          <p:cNvPicPr/>
          <p:nvPr/>
        </p:nvPicPr>
        <p:blipFill>
          <a:blip r:embed="rId1"/>
          <a:stretch/>
        </p:blipFill>
        <p:spPr>
          <a:xfrm>
            <a:off x="0" y="0"/>
            <a:ext cx="80773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8293320" y="990720"/>
            <a:ext cx="8506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戴望舒全家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71640" y="1916280"/>
            <a:ext cx="7272360" cy="2297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锦幛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zh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nɡ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        荇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nɡ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藻             蓬蒿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hāo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          灰烬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n)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憔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qi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o c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形容人瘦弱，面色不好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蝼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u yī)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蝼蛄和蚂蚁，用来代表微小的生物，比喻力量薄弱或地位低微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348000" y="981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9900"/>
                </a:solidFill>
                <a:latin typeface="Times New Roman"/>
                <a:ea typeface="华文新魏"/>
              </a:rPr>
              <a:t>语言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2052720" y="2133720"/>
            <a:ext cx="403200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90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品味鉴赏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39" name="Picture 6" descr="花5"/>
          <p:cNvPicPr/>
          <p:nvPr/>
        </p:nvPicPr>
        <p:blipFill>
          <a:blip r:embed="rId3"/>
          <a:stretch/>
        </p:blipFill>
        <p:spPr>
          <a:xfrm>
            <a:off x="6084720" y="3357720"/>
            <a:ext cx="1857600" cy="3238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飞旋的蝴蝶"/>
          <p:cNvPicPr/>
          <p:nvPr/>
        </p:nvPicPr>
        <p:blipFill>
          <a:blip r:embed="rId4"/>
          <a:stretch/>
        </p:blipFill>
        <p:spPr>
          <a:xfrm>
            <a:off x="6443640" y="2637000"/>
            <a:ext cx="1152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用这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残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手掌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2286000" y="3352680"/>
            <a:ext cx="574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摸索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这广大的土地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352680" y="1981080"/>
            <a:ext cx="266724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宋体"/>
              </a:rPr>
              <a:t>饱尝艰难困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514600" y="4419720"/>
            <a:ext cx="2819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1523880"/>
            <a:ext cx="360" cy="381240"/>
            <a:chOff x="4572000" y="1523880"/>
            <a:chExt cx="360" cy="381240"/>
          </a:xfrm>
        </p:grpSpPr>
        <p:sp>
          <p:nvSpPr>
            <p:cNvPr id="147" name="Line 6"/>
            <p:cNvSpPr/>
            <p:nvPr/>
          </p:nvSpPr>
          <p:spPr>
            <a:xfrm>
              <a:off x="4572000" y="1523880"/>
              <a:ext cx="0" cy="38124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4572000" y="152388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971800" y="4114800"/>
            <a:ext cx="360" cy="380880"/>
            <a:chOff x="2971800" y="4114800"/>
            <a:chExt cx="360" cy="380880"/>
          </a:xfrm>
        </p:grpSpPr>
        <p:sp>
          <p:nvSpPr>
            <p:cNvPr id="150" name="Line 7"/>
            <p:cNvSpPr/>
            <p:nvPr/>
          </p:nvSpPr>
          <p:spPr>
            <a:xfrm>
              <a:off x="2971800" y="4114800"/>
              <a:ext cx="0" cy="38088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2971800" y="411480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8"/>
          <p:cNvSpPr/>
          <p:nvPr/>
        </p:nvSpPr>
        <p:spPr>
          <a:xfrm>
            <a:off x="2627280" y="4581360"/>
            <a:ext cx="3624120" cy="1068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宋体"/>
              </a:rPr>
              <a:t>饱含着对祖国诚挚的爱和深深的哀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1828800" y="1066680"/>
            <a:ext cx="304920" cy="2971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233280" y="1268280"/>
            <a:ext cx="1521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cc9900"/>
                </a:solidFill>
                <a:latin typeface="Times New Roman"/>
                <a:ea typeface="华文新魏"/>
              </a:rPr>
              <a:t>统领句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63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用这残损的手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39640" y="1773360"/>
            <a:ext cx="527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摸索这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广大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的土地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666880" y="2666880"/>
            <a:ext cx="360" cy="533520"/>
            <a:chOff x="2666880" y="2666880"/>
            <a:chExt cx="360" cy="533520"/>
          </a:xfrm>
        </p:grpSpPr>
        <p:sp>
          <p:nvSpPr>
            <p:cNvPr id="159" name="Line 4"/>
            <p:cNvSpPr/>
            <p:nvPr/>
          </p:nvSpPr>
          <p:spPr>
            <a:xfrm>
              <a:off x="2666880" y="2666880"/>
              <a:ext cx="0" cy="53352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2666880" y="26668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5"/>
          <p:cNvSpPr/>
          <p:nvPr/>
        </p:nvSpPr>
        <p:spPr>
          <a:xfrm>
            <a:off x="1784880" y="349416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沦陷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657600" y="3352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一角已变成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灰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657600" y="4495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那一角只是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200400" y="349416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2268360" y="551664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国土正遭受日寇蹂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2"/>
          <p:cNvGrpSpPr/>
          <p:nvPr/>
        </p:nvGrpSpPr>
        <p:grpSpPr>
          <a:xfrm>
            <a:off x="5508720" y="620640"/>
            <a:ext cx="3276360" cy="1438200"/>
            <a:chOff x="5508720" y="620640"/>
            <a:chExt cx="3276360" cy="1438200"/>
          </a:xfrm>
        </p:grpSpPr>
        <p:sp>
          <p:nvSpPr>
            <p:cNvPr id="167" name="Text Box 10"/>
            <p:cNvSpPr/>
            <p:nvPr/>
          </p:nvSpPr>
          <p:spPr>
            <a:xfrm>
              <a:off x="5651640" y="692280"/>
              <a:ext cx="3124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手掌是残损的土地是破碎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1"/>
            <p:cNvSpPr/>
            <p:nvPr/>
          </p:nvSpPr>
          <p:spPr>
            <a:xfrm>
              <a:off x="5508720" y="620640"/>
              <a:ext cx="3276360" cy="1438200"/>
            </a:xfrm>
            <a:prstGeom prst="wedgeRoundRectCallout">
              <a:avLst>
                <a:gd name="adj1" fmla="val -48402"/>
                <a:gd name="adj2" fmla="val 115009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8194"/>
          <p:cNvSpPr/>
          <p:nvPr/>
        </p:nvSpPr>
        <p:spPr>
          <a:xfrm>
            <a:off x="324000" y="14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1692360" y="620640"/>
            <a:ext cx="2808360" cy="1656000"/>
            <a:chOff x="1692360" y="620640"/>
            <a:chExt cx="2808360" cy="1656000"/>
          </a:xfrm>
        </p:grpSpPr>
        <p:sp>
          <p:nvSpPr>
            <p:cNvPr id="172" name="AutoShape 15"/>
            <p:cNvSpPr/>
            <p:nvPr/>
          </p:nvSpPr>
          <p:spPr>
            <a:xfrm>
              <a:off x="1692360" y="620640"/>
              <a:ext cx="2808360" cy="1656000"/>
            </a:xfrm>
            <a:prstGeom prst="cloudCallout">
              <a:avLst>
                <a:gd name="adj1" fmla="val -44740"/>
                <a:gd name="adj2" fmla="val 8307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2124000" y="836640"/>
              <a:ext cx="2087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诗人在狱中的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想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6"/>
          <p:cNvSpPr/>
          <p:nvPr/>
        </p:nvSpPr>
        <p:spPr>
          <a:xfrm>
            <a:off x="684360" y="278136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宋体"/>
              </a:rPr>
              <a:t>触摸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484000" y="3068280"/>
            <a:ext cx="686160" cy="360"/>
            <a:chOff x="2484000" y="3068280"/>
            <a:chExt cx="686160" cy="360"/>
          </a:xfrm>
        </p:grpSpPr>
        <p:sp>
          <p:nvSpPr>
            <p:cNvPr id="176" name="Line 7"/>
            <p:cNvSpPr/>
            <p:nvPr/>
          </p:nvSpPr>
          <p:spPr>
            <a:xfrm>
              <a:off x="2484360" y="3068640"/>
              <a:ext cx="68580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 rot="10800000">
              <a:off x="2484000" y="306828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8"/>
          <p:cNvSpPr/>
          <p:nvPr/>
        </p:nvSpPr>
        <p:spPr>
          <a:xfrm>
            <a:off x="3419640" y="2421000"/>
            <a:ext cx="5105160" cy="1068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春天，堤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繁花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如锦幛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嫩柳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枝折断有奇异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芬芳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）我触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荇藻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水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微凉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092720" y="1484280"/>
            <a:ext cx="360" cy="2016000"/>
            <a:chOff x="7092720" y="1484280"/>
            <a:chExt cx="360" cy="2016000"/>
          </a:xfrm>
        </p:grpSpPr>
        <p:sp>
          <p:nvSpPr>
            <p:cNvPr id="180" name="Line 9"/>
            <p:cNvSpPr/>
            <p:nvPr/>
          </p:nvSpPr>
          <p:spPr>
            <a:xfrm flipV="1">
              <a:off x="7093080" y="1484280"/>
              <a:ext cx="0" cy="20160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 rot="10800000">
              <a:off x="7092720" y="1484280"/>
              <a:ext cx="360" cy="20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884720" y="1988640"/>
            <a:ext cx="360" cy="1079640"/>
            <a:chOff x="7884720" y="1988640"/>
            <a:chExt cx="360" cy="1079640"/>
          </a:xfrm>
        </p:grpSpPr>
        <p:sp>
          <p:nvSpPr>
            <p:cNvPr id="183" name="Line 10"/>
            <p:cNvSpPr/>
            <p:nvPr/>
          </p:nvSpPr>
          <p:spPr>
            <a:xfrm flipV="1">
              <a:off x="7885080" y="1988640"/>
              <a:ext cx="0" cy="1079640"/>
            </a:xfrm>
            <a:prstGeom prst="line">
              <a:avLst/>
            </a:prstGeom>
            <a:ln w="936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 rot="10800000">
              <a:off x="7884720" y="1988640"/>
              <a:ext cx="360" cy="10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1"/>
          <p:cNvSpPr/>
          <p:nvPr/>
        </p:nvSpPr>
        <p:spPr>
          <a:xfrm>
            <a:off x="7524720" y="1409760"/>
            <a:ext cx="11527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Times New Roman"/>
                <a:ea typeface="宋体"/>
              </a:rPr>
              <a:t>嗅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6529320" y="907920"/>
            <a:ext cx="106704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Times New Roman"/>
                <a:ea typeface="宋体"/>
              </a:rPr>
              <a:t>触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995640" y="46530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与狱中生活形成对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580000" y="4076640"/>
            <a:ext cx="360" cy="504720"/>
            <a:chOff x="5580000" y="4076640"/>
            <a:chExt cx="360" cy="504720"/>
          </a:xfrm>
        </p:grpSpPr>
        <p:sp>
          <p:nvSpPr>
            <p:cNvPr id="189" name="Line 16"/>
            <p:cNvSpPr/>
            <p:nvPr/>
          </p:nvSpPr>
          <p:spPr>
            <a:xfrm>
              <a:off x="5580000" y="4076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5580000" y="4076640"/>
              <a:ext cx="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长雪景"/>
          <p:cNvPicPr/>
          <p:nvPr/>
        </p:nvPicPr>
        <p:blipFill>
          <a:blip r:embed="rId1"/>
          <a:srcRect l="9842" t="8009" r="10627" b="195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1476360" y="981000"/>
            <a:ext cx="5543640" cy="7034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长白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的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雪峰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到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彻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156360" y="1773360"/>
            <a:ext cx="360" cy="718920"/>
            <a:chOff x="6156360" y="1773360"/>
            <a:chExt cx="360" cy="718920"/>
          </a:xfrm>
        </p:grpSpPr>
        <p:sp>
          <p:nvSpPr>
            <p:cNvPr id="195" name="Line 4"/>
            <p:cNvSpPr/>
            <p:nvPr/>
          </p:nvSpPr>
          <p:spPr>
            <a:xfrm>
              <a:off x="6156360" y="1773360"/>
              <a:ext cx="0" cy="718920"/>
            </a:xfrm>
            <a:prstGeom prst="line">
              <a:avLst/>
            </a:prstGeom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6156360" y="1773360"/>
              <a:ext cx="360" cy="71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6"/>
          <p:cNvSpPr/>
          <p:nvPr/>
        </p:nvSpPr>
        <p:spPr>
          <a:xfrm>
            <a:off x="5651640" y="2637000"/>
            <a:ext cx="10810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感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9"/>
          <p:cNvGrpSpPr/>
          <p:nvPr/>
        </p:nvGrpSpPr>
        <p:grpSpPr>
          <a:xfrm>
            <a:off x="5724360" y="3645000"/>
            <a:ext cx="2881440" cy="2303280"/>
            <a:chOff x="5724360" y="3645000"/>
            <a:chExt cx="2881440" cy="2303280"/>
          </a:xfrm>
        </p:grpSpPr>
        <p:sp>
          <p:nvSpPr>
            <p:cNvPr id="199" name="Text Box 7"/>
            <p:cNvSpPr/>
            <p:nvPr/>
          </p:nvSpPr>
          <p:spPr>
            <a:xfrm>
              <a:off x="6084720" y="3933720"/>
              <a:ext cx="2521080" cy="106884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诗人看到破碎的山河感到心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8"/>
            <p:cNvSpPr/>
            <p:nvPr/>
          </p:nvSpPr>
          <p:spPr>
            <a:xfrm>
              <a:off x="5724360" y="3645000"/>
              <a:ext cx="2881440" cy="2303280"/>
            </a:xfrm>
            <a:prstGeom prst="cloudCallout">
              <a:avLst>
                <a:gd name="adj1" fmla="val -61129"/>
                <a:gd name="adj2" fmla="val -70675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7:54:2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23Z</dcterms:modified>
  <cp:revision>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