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5.jpeg" ContentType="image/jpeg"/>
  <Override PartName="/ppt/media/image16.png" ContentType="image/png"/>
  <Override PartName="/ppt/media/chimes.wav" ContentType="audio/x-wav"/>
  <Override PartName="/ppt/media/image6.jpeg" ContentType="image/jpeg"/>
  <Override PartName="/ppt/media/image13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208-17EE-45EC-9186-F33A1F77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54D-5434-49C3-B63E-01275A95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E7B-3430-42C3-B2A9-E35CC67A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252-095F-461D-81C0-A27D7C2E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4506-4C6C-443B-B19F-33B8270B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7F85-301B-4424-86B8-358FEFC3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EECF-DA9E-427D-9813-8B0B97E9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F62F-2FC7-4703-936D-EA4F776B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4129-D77D-4F41-9B10-47412AB5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94CD-3C50-443F-ABCF-B53AFFC1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E75A-B685-499D-B29E-06CE587D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86C-C0B4-4CD8-9B03-879B55AF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C2F8-5AB7-4C94-9AD5-257BB185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83A7-84FD-416C-930C-6AEB83E1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41F9-C022-4FF9-B679-F239FE13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465A-2044-40A0-A29E-585F1913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42E6-A81C-4E1E-B07B-EE4E5576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242A-6389-4B7E-B8ED-8EB91EC8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8BF7-691F-45FF-BD8E-2BD34F65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B76FF-4537-47F9-9161-5B4CE1F7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607DF-91C3-4D76-A88A-199B2C08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BCD7-2F1A-40E7-AEBE-9AD9B49A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D94-2085-4146-94D8-A26F8614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2390-9A7A-459B-A367-CFBFA1C4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560D-22E3-49F7-AF6E-25E84C84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DB3B0-E58D-4742-9142-ED01C491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9C718-EDBB-44DF-A822-36CA03B5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2770B-D305-4AAA-802E-F9AF19DD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D377-3ADB-43D0-81D3-902D4491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FB82-1D20-41DD-BD09-525FC97E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80B-042C-422D-A4D6-A37B4249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8AD-D2A3-40FF-A45D-B464769F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95B-DE5C-420D-998F-85212E81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C13-F946-45F9-9AF3-E88B7DD4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6C0-1E21-47F9-840B-656F0D2A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969-3AD0-4799-B7C6-F06607C6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7238-1431-4A5A-B7C8-326EC793953B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4768-536B-4869-86D1-8FB050E13F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86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E0B6-7B73-4282-BA82-6D61338CE486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773000"/>
            <a:ext cx="8574120" cy="74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华文行楷"/>
              </a:rPr>
              <a:t>闻一多先生说和做语文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ffffcc"/>
                </a:solidFill>
                <a:latin typeface="Arial"/>
                <a:ea typeface="华文行楷"/>
              </a:rPr>
              <a:t>课件下载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Picture 4" descr="wh-20020717-3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304920" y="1752480"/>
            <a:ext cx="838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他要给我们衰微的民族开一剂救济的文化药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深宵灯火是他的伴侣，因它大开光明之路，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漂白了的四壁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他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成了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何妨一下楼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的主人。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难句解析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04920" y="51055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……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成了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“</a:t>
            </a: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何妨一下楼主人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。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04920" y="21337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</a:t>
            </a: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他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][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给我们衰微的民族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]</a:t>
            </a: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开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一剂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)(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救济的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)(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文化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)</a:t>
            </a: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药方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304920" y="3809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深宵灯火是他的伴侣，因它大开光明之路，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“</a:t>
            </a: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漂白了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”“</a:t>
            </a: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四壁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9" descr="wh-20020717-3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4267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朗读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·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思考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·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研讨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520" y="1904760"/>
            <a:ext cx="640080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中宋"/>
              </a:rPr>
              <a:t>课文前后两部分之间，是用哪些话过渡的？这些话是怎样起到过渡作用的？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画出精辟的语句，说说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华文中宋"/>
              </a:rPr>
              <a:t>闻一多前期和后期思想品格上有什么不同？又有什么地方是相同的？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467480" y="1905120"/>
            <a:ext cx="1447920" cy="82548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隶书"/>
                <a:ea typeface="隶书"/>
              </a:rPr>
              <a:t>着眼局部</a:t>
            </a:r>
            <a:br>
              <a:rPr sz="2400"/>
            </a:br>
            <a:r>
              <a:rPr b="0" lang="zh-CN" sz="2400" spc="-1" strike="noStrike">
                <a:solidFill>
                  <a:srgbClr val="cc6600"/>
                </a:solidFill>
                <a:latin typeface="隶书"/>
                <a:ea typeface="隶书"/>
              </a:rPr>
              <a:t>放眼全篇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467480" y="4038480"/>
            <a:ext cx="1447920" cy="82548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隶书"/>
                <a:ea typeface="隶书"/>
              </a:rPr>
              <a:t>知无不言</a:t>
            </a:r>
            <a:br>
              <a:rPr sz="2400"/>
            </a:br>
            <a:r>
              <a:rPr b="0" lang="zh-CN" sz="2400" spc="-1" strike="noStrike">
                <a:solidFill>
                  <a:srgbClr val="cc6600"/>
                </a:solidFill>
                <a:latin typeface="隶书"/>
                <a:ea typeface="隶书"/>
              </a:rPr>
              <a:t>言必有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1371600" y="29718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总承上文，总起下文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提并论，对比鲜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6" descr="wh-20020717-3"/>
          <p:cNvPicPr/>
          <p:nvPr/>
        </p:nvPicPr>
        <p:blipFill>
          <a:blip r:embed="rId1"/>
          <a:stretch/>
        </p:blipFill>
        <p:spPr>
          <a:xfrm>
            <a:off x="0" y="0"/>
            <a:ext cx="9144000" cy="15811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Arial"/>
                <a:ea typeface="华文新魏"/>
              </a:rPr>
              <a:t>说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华文行楷"/>
              </a:rPr>
              <a:t>和</a:t>
            </a:r>
            <a:r>
              <a:rPr b="0" lang="zh-CN" sz="6000" spc="-1" strike="noStrike">
                <a:solidFill>
                  <a:srgbClr val="cc6600"/>
                </a:solidFill>
                <a:latin typeface="Arial"/>
                <a:ea typeface="华文新魏"/>
              </a:rPr>
              <a:t>做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280" y="1752480"/>
          <a:ext cx="8839080" cy="4656240"/>
        </p:xfrm>
        <a:graphic>
          <a:graphicData uri="http://schemas.openxmlformats.org/drawingml/2006/table">
            <a:tbl>
              <a:tblPr/>
              <a:tblGrid>
                <a:gridCol w="4419720"/>
                <a:gridCol w="2666880"/>
                <a:gridCol w="1752480"/>
              </a:tblGrid>
              <a:tr h="998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Arial"/>
                          <a:ea typeface="黑体"/>
                        </a:rPr>
                        <a:t>作为</a:t>
                      </a: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黑体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Arial"/>
                          <a:ea typeface="黑体"/>
                        </a:rPr>
                        <a:t>学者</a:t>
                      </a: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黑体"/>
                        </a:rPr>
                        <a:t>”</a:t>
                      </a: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Arial"/>
                          <a:ea typeface="黑体"/>
                        </a:rPr>
                        <a:t>的方面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Arial"/>
                          <a:ea typeface="黑体"/>
                        </a:rPr>
                        <a:t>作为</a:t>
                      </a: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黑体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Arial"/>
                          <a:ea typeface="黑体"/>
                        </a:rPr>
                        <a:t>革命家</a:t>
                      </a: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黑体"/>
                        </a:rPr>
                        <a:t>”</a:t>
                      </a: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Arial"/>
                          <a:ea typeface="黑体"/>
                        </a:rPr>
                        <a:t>的方面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做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  <a:ea typeface="华文新魏"/>
                        </a:rPr>
                        <a:t>了再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说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  <a:ea typeface="华文新魏"/>
                        </a:rPr>
                        <a:t>，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做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  <a:ea typeface="华文新魏"/>
                        </a:rPr>
                        <a:t>了不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说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”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说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  <a:ea typeface="华文新魏"/>
                        </a:rPr>
                        <a:t>了就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华文新魏"/>
                        </a:rPr>
                        <a:t>做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华文新魏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  <a:ea typeface="华文新魏"/>
                        </a:rPr>
                        <a:t>，言行一致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row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几年辛苦，著《唐诗杂论》；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十年艰辛，著《楚辞校补》；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著《古典新义》，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何妨一下楼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说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做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向全国人民呼喊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不畏凶险，走在前头，昂首挺胸，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大义赴死。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亲自起稿政治传单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最后一次讲演</a:t>
                      </a: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”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严谨刻苦的治学态度、无私无畏的斗争精神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  澎湃执著的救国热情、言行一致的高尚人格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7" name="Picture 2" descr="wh-20020717-3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81280" y="5181120"/>
            <a:ext cx="5221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你读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懂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了吗？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28800" y="2209680"/>
            <a:ext cx="464832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  <a:ea typeface="方正姚体"/>
              </a:rPr>
              <a:t>了解作者和闻一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  <a:ea typeface="方正姚体"/>
              </a:rPr>
              <a:t>扫清字词句障碍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  <a:ea typeface="方正姚体"/>
              </a:rPr>
              <a:t>理清行文思路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  <a:ea typeface="方正姚体"/>
              </a:rPr>
              <a:t>读出思想、读出感情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90720" y="835920"/>
            <a:ext cx="788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把文章读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懂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7162920" y="6338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Times New Roman"/>
              </a:rPr>
              <a:t>媒体制作、授课：</a:t>
            </a:r>
            <a:r>
              <a:rPr b="1" lang="zh-CN" sz="1600" spc="-1" strike="noStrike">
                <a:solidFill>
                  <a:srgbClr val="5f5f5f"/>
                </a:solidFill>
                <a:latin typeface="Times New Roman"/>
                <a:ea typeface="华文行楷"/>
              </a:rPr>
              <a:t>老王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华文行楷"/>
              </a:rPr>
              <a:t>http://dsww.7i24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闻一多.wav" descr=""/>
          <p:cNvPicPr/>
          <p:nvPr/>
        </p:nvPicPr>
        <p:blipFill>
          <a:blip r:embed="rId2"/>
          <a:stretch/>
        </p:blipFill>
        <p:spPr>
          <a:xfrm>
            <a:off x="845820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7D6E-8ADE-46C4-9987-52225E9ACA9F}" type="slidenum">
              <a:rPr b="0" lang="zh-CN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七子之歌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43200" y="2743200"/>
            <a:ext cx="4038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"/>
                <a:ea typeface="黑体"/>
              </a:rPr>
              <a:t>谢谢同学们</a:t>
            </a:r>
            <a:br>
              <a:rPr sz="4800"/>
            </a:br>
            <a:r>
              <a:rPr b="0" lang="zh-CN" sz="4800" spc="-1" strike="noStrike">
                <a:solidFill>
                  <a:srgbClr val="ffcc00"/>
                </a:solidFill>
                <a:latin typeface="Arial"/>
                <a:ea typeface="黑体"/>
              </a:rPr>
              <a:t>再见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7162920" y="63324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Times New Roman"/>
              </a:rPr>
              <a:t>媒体制作、授课：</a:t>
            </a:r>
            <a:r>
              <a:rPr b="1" lang="zh-CN" sz="1600" spc="-1" strike="noStrike">
                <a:solidFill>
                  <a:srgbClr val="5f5f5f"/>
                </a:solidFill>
                <a:latin typeface="Times New Roman"/>
                <a:ea typeface="华文行楷"/>
              </a:rPr>
              <a:t>老王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华文行楷"/>
              </a:rPr>
              <a:t>http://dsww.7i24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1"/>
          <p:cNvSpPr/>
          <p:nvPr/>
        </p:nvSpPr>
        <p:spPr>
          <a:xfrm>
            <a:off x="7289640" y="2970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页脚占位符 2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Picture 3" descr="臧克家3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376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423760" y="3809880"/>
            <a:ext cx="3567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cc"/>
                </a:solidFill>
                <a:uFillTx/>
                <a:latin typeface="华文行楷"/>
                <a:ea typeface="华文行楷"/>
              </a:rPr>
              <a:t>有的人活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cc"/>
                </a:solidFill>
                <a:uFillTx/>
                <a:latin typeface="华文行楷"/>
                <a:ea typeface="华文行楷"/>
              </a:rPr>
              <a:t>他已经死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cc"/>
                </a:solidFill>
                <a:uFillTx/>
                <a:latin typeface="华文行楷"/>
                <a:ea typeface="华文行楷"/>
              </a:rPr>
              <a:t>有的人死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cc"/>
                </a:solidFill>
                <a:uFillTx/>
                <a:latin typeface="华文行楷"/>
                <a:ea typeface="华文行楷"/>
              </a:rPr>
              <a:t>他还活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ffffcc"/>
                </a:solidFill>
                <a:latin typeface="华文行楷"/>
                <a:ea typeface="华文行楷"/>
              </a:rPr>
              <a:t>臧克家《有的人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5520" y="2437920"/>
            <a:ext cx="304812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臧克家</a:t>
            </a:r>
            <a:br>
              <a:rPr sz="4800"/>
            </a:b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（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1905─200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）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52280" y="2362320"/>
            <a:ext cx="5639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朱自清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从臧克家开始，我们才有了有血有肉的以农村为题材的诗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茅盾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臧克家是当时青年诗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最优秀中间的一个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838080" y="167652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新华社北京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日电（记者曲志红）：我国文坛再失巨擘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99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岁的著名诗人、作家臧克家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日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时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分与世长辞，一轮明月、万家灯火伴他西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304920" y="384012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00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月获首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中国诗人奖──终生成就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03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年获由国际诗人笔会颁发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中国当代诗魂金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0" y="152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笔耕不辍，走过一个世纪——从“农民诗人”，走到“诗坛泰斗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5486040"/>
            <a:ext cx="647712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"/>
                <a:ea typeface="华文行楷"/>
              </a:rPr>
              <a:t>闻一多先生的说和做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04920" y="4724280"/>
            <a:ext cx="1981080" cy="7034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黑体"/>
              </a:rPr>
              <a:t>臧克家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933160" y="0"/>
            <a:ext cx="3210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大师笔下的大师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巨人心中的巨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9" descr="qdxx"/>
          <p:cNvPicPr/>
          <p:nvPr/>
        </p:nvPicPr>
        <p:blipFill>
          <a:blip r:embed="rId1"/>
          <a:stretch/>
        </p:blipFill>
        <p:spPr>
          <a:xfrm>
            <a:off x="152280" y="4572000"/>
            <a:ext cx="4191120" cy="2514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4419720" y="457200"/>
            <a:ext cx="4724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    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臧克家于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1930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年起在青岛大学学习期间，是闻一多先生的高足，经常出入于闻一多的办公室和家中，向老师请教；闻一多也很赏识臧克家，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1932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年回清华任教后写信给臧克家说：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  <a:ea typeface="新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得一知己，可以无憾，在青岛得到你一个人已经够了。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  <a:ea typeface="新宋体"/>
              </a:rPr>
              <a:t>”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可见相知之深。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1933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年臧克家准备出版诗集《烙印》，因当时名不见经传，书店不愿出版他的诗集。闻一多联络王统照等人，替他出资印行《烙印》，又在大型杂志上撰文介绍。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40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年代，两人多有书信往来，如课文中提到的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  <a:ea typeface="新宋体"/>
              </a:rPr>
              <a:t>“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他在给我的信上说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  <a:ea typeface="新宋体"/>
              </a:rPr>
              <a:t>……”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，这是闻一多在接到臧克家赞扬他的信后，于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1944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年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9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月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11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日写的回信；课文中提到的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  <a:ea typeface="新宋体"/>
              </a:rPr>
              <a:t>“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1944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年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10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月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12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日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  <a:ea typeface="新宋体"/>
              </a:rPr>
              <a:t>”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那封信，是答复臧克家欲至联大教书的问询的。闻一多先生遇难后，臧克家于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1946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年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8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月撰写</a:t>
            </a:r>
            <a:r>
              <a:rPr b="1" lang="zh-CN" sz="2000" spc="-1" strike="noStrike">
                <a:solidFill>
                  <a:srgbClr val="ffffff"/>
                </a:solidFill>
                <a:latin typeface="新宋体"/>
                <a:ea typeface="新宋体"/>
              </a:rPr>
              <a:t>《我的先生闻一多》</a:t>
            </a:r>
            <a:r>
              <a:rPr b="0" lang="zh-CN" sz="2000" spc="-1" strike="noStrike">
                <a:solidFill>
                  <a:srgbClr val="ffffcc"/>
                </a:solidFill>
                <a:latin typeface="新宋体"/>
                <a:ea typeface="新宋体"/>
              </a:rPr>
              <a:t>以示悼念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Picture 4" descr="闻一多像1"/>
          <p:cNvPicPr/>
          <p:nvPr/>
        </p:nvPicPr>
        <p:blipFill>
          <a:blip r:embed="rId2"/>
          <a:stretch/>
        </p:blipFill>
        <p:spPr>
          <a:xfrm>
            <a:off x="152280" y="182880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臧克家2"/>
          <p:cNvPicPr/>
          <p:nvPr/>
        </p:nvPicPr>
        <p:blipFill>
          <a:blip r:embed="rId3"/>
          <a:stretch/>
        </p:blipFill>
        <p:spPr>
          <a:xfrm>
            <a:off x="2286000" y="182880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457200" y="3962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闻一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81952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臧克家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55320"/>
            <a:ext cx="449568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华文行楷"/>
                <a:ea typeface="华文行楷"/>
              </a:rPr>
              <a:t>知遇相惜  亦师亦友</a:t>
            </a:r>
            <a:br>
              <a:rPr sz="4000"/>
            </a:b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臧克家和闻一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4419720" y="1447920"/>
            <a:ext cx="4724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新宋体"/>
                <a:ea typeface="新宋体"/>
              </a:rPr>
              <a:t>    </a:t>
            </a:r>
            <a:r>
              <a:rPr b="1" lang="zh-CN" sz="1800" spc="-1" strike="noStrike">
                <a:solidFill>
                  <a:srgbClr val="ffffcc"/>
                </a:solidFill>
                <a:latin typeface="新宋体"/>
                <a:ea typeface="新宋体"/>
              </a:rPr>
              <a:t>1930</a:t>
            </a:r>
            <a:r>
              <a:rPr b="1" lang="zh-CN" sz="1800" spc="-1" strike="noStrike">
                <a:solidFill>
                  <a:srgbClr val="ffffcc"/>
                </a:solidFill>
                <a:latin typeface="新宋体"/>
                <a:ea typeface="新宋体"/>
              </a:rPr>
              <a:t>年，国立青岛大学入学考试成绩发布，一位</a:t>
            </a:r>
            <a:r>
              <a:rPr b="1" lang="zh-CN" sz="1800" spc="-1" strike="noStrike">
                <a:solidFill>
                  <a:srgbClr val="ffffcc"/>
                </a:solidFill>
                <a:latin typeface="新宋体"/>
                <a:ea typeface="新宋体"/>
              </a:rPr>
              <a:t>20</a:t>
            </a:r>
            <a:r>
              <a:rPr b="1" lang="zh-CN" sz="1800" spc="-1" strike="noStrike">
                <a:solidFill>
                  <a:srgbClr val="ffffcc"/>
                </a:solidFill>
                <a:latin typeface="新宋体"/>
                <a:ea typeface="新宋体"/>
              </a:rPr>
              <a:t>多岁的考生数学零分，作文也只写了三句带感慨的新诗：</a:t>
            </a:r>
            <a:r>
              <a:rPr b="1" lang="zh-CN" sz="1800" spc="-1" strike="noStrike">
                <a:solidFill>
                  <a:srgbClr val="ffffcc"/>
                </a:solidFill>
                <a:latin typeface="Times New Roman"/>
                <a:ea typeface="新宋体"/>
              </a:rPr>
              <a:t>“</a:t>
            </a:r>
            <a:r>
              <a:rPr b="1" lang="zh-CN" sz="1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生永远追逐着幻光，但谁把幻光看成幻光，谁便沉入了无底的苦海。</a:t>
            </a:r>
            <a:r>
              <a:rPr b="1" lang="zh-CN" sz="1800" spc="-1" strike="noStrike">
                <a:solidFill>
                  <a:srgbClr val="ffffcc"/>
                </a:solidFill>
                <a:latin typeface="Times New Roman"/>
                <a:ea typeface="新宋体"/>
              </a:rPr>
              <a:t>”</a:t>
            </a:r>
            <a:r>
              <a:rPr b="1" lang="zh-CN" sz="1800" spc="-1" strike="noStrike">
                <a:solidFill>
                  <a:srgbClr val="ffffcc"/>
                </a:solidFill>
                <a:latin typeface="新宋体"/>
                <a:ea typeface="新宋体"/>
              </a:rPr>
              <a:t>按说，这位考生铁定无法录取。不过，问题是他碰上了一位慧眼识货的主考官。这位主考官就是文学院院长</a:t>
            </a:r>
            <a:r>
              <a:rPr b="1" lang="zh-CN" sz="2400" spc="-1" strike="noStrike">
                <a:solidFill>
                  <a:srgbClr val="cc0000"/>
                </a:solidFill>
                <a:latin typeface="新宋体"/>
                <a:ea typeface="新宋体"/>
              </a:rPr>
              <a:t>闻一多</a:t>
            </a:r>
            <a:r>
              <a:rPr b="1" lang="zh-CN" sz="1800" spc="-1" strike="noStrike">
                <a:solidFill>
                  <a:srgbClr val="ffffcc"/>
                </a:solidFill>
                <a:latin typeface="新宋体"/>
                <a:ea typeface="新宋体"/>
              </a:rPr>
              <a:t>先生。闻先生从这三句杂感诗中发现了这位青年身上潜伏的才气，一锤定音破格录取。果不其然，这位青年没有辜负闻先生的期望，很快就发表了一首又一首的新诗，并于</a:t>
            </a:r>
            <a:r>
              <a:rPr b="1" lang="zh-CN" sz="1800" spc="-1" strike="noStrike">
                <a:solidFill>
                  <a:srgbClr val="ffffcc"/>
                </a:solidFill>
                <a:latin typeface="新宋体"/>
                <a:ea typeface="新宋体"/>
              </a:rPr>
              <a:t>1933</a:t>
            </a:r>
            <a:r>
              <a:rPr b="1" lang="zh-CN" sz="1800" spc="-1" strike="noStrike">
                <a:solidFill>
                  <a:srgbClr val="ffffcc"/>
                </a:solidFill>
                <a:latin typeface="新宋体"/>
                <a:ea typeface="新宋体"/>
              </a:rPr>
              <a:t>年出版了轰动一时的诗集</a:t>
            </a:r>
            <a:r>
              <a:rPr b="1" lang="zh-CN" sz="2400" spc="-1" strike="noStrike">
                <a:solidFill>
                  <a:srgbClr val="cc0000"/>
                </a:solidFill>
                <a:latin typeface="新宋体"/>
                <a:ea typeface="新宋体"/>
              </a:rPr>
              <a:t>《烙印》</a:t>
            </a:r>
            <a:r>
              <a:rPr b="1" lang="zh-CN" sz="1800" spc="-1" strike="noStrike">
                <a:solidFill>
                  <a:srgbClr val="ffffcc"/>
                </a:solidFill>
                <a:latin typeface="新宋体"/>
                <a:ea typeface="新宋体"/>
              </a:rPr>
              <a:t>。他，就是后来享誉诗坛的臧克家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闻一多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899~1946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集诗人、学者、民主斗士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重人格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于一身的一生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3" name="Picture 1078" descr="闻一多像1"/>
          <p:cNvPicPr/>
          <p:nvPr/>
        </p:nvPicPr>
        <p:blipFill>
          <a:blip r:embed="rId1"/>
          <a:stretch/>
        </p:blipFill>
        <p:spPr>
          <a:xfrm>
            <a:off x="228600" y="1143000"/>
            <a:ext cx="2362320" cy="289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79" descr="闻一多像2"/>
          <p:cNvPicPr/>
          <p:nvPr/>
        </p:nvPicPr>
        <p:blipFill>
          <a:blip r:embed="rId2"/>
          <a:stretch/>
        </p:blipFill>
        <p:spPr>
          <a:xfrm>
            <a:off x="3276720" y="1143000"/>
            <a:ext cx="2361960" cy="2895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80" descr="闻一多像"/>
          <p:cNvPicPr/>
          <p:nvPr/>
        </p:nvPicPr>
        <p:blipFill>
          <a:blip r:embed="rId3"/>
          <a:stretch/>
        </p:blipFill>
        <p:spPr>
          <a:xfrm>
            <a:off x="6324480" y="1143000"/>
            <a:ext cx="2395800" cy="2895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55"/>
          <p:cNvSpPr/>
          <p:nvPr/>
        </p:nvSpPr>
        <p:spPr>
          <a:xfrm>
            <a:off x="228600" y="4030560"/>
            <a:ext cx="25146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诗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新诗集《红烛》（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23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《死水》（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28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是现代诗坛经典之作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25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在美国留学期间创作了组诗</a:t>
            </a:r>
            <a:r>
              <a:rPr b="0" lang="zh-CN" sz="1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《七子之歌》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表达了深挚的爱国之情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1156"/>
          <p:cNvSpPr/>
          <p:nvPr/>
        </p:nvSpPr>
        <p:spPr>
          <a:xfrm>
            <a:off x="2666880" y="4038480"/>
            <a:ext cx="373392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学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3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年到清华任教后，开始全力专攻古典文学。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术著作有《神话与诗》、</a:t>
            </a:r>
            <a:r>
              <a:rPr b="0" lang="zh-CN" sz="1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《唐诗杂论》、 《楚辞校补》、《古典新义》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他对《周易》、《诗经》、《庄子》、《楚辞》四大古籍的整理研究（后汇成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  <a:ea typeface="楷体_GB2312"/>
              </a:rPr>
              <a:t>新义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），被郭沫若称为：前无古人，后无来者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1158"/>
          <p:cNvSpPr/>
          <p:nvPr/>
        </p:nvSpPr>
        <p:spPr>
          <a:xfrm>
            <a:off x="6324480" y="4038480"/>
            <a:ext cx="28195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革命家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他一身正气，抗战蓄髯八年。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43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以后，面对国民党统治的日益腐朽，</a:t>
            </a:r>
            <a:r>
              <a:rPr b="0" lang="zh-CN" sz="1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拍案而起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走出书斋，投身到反对独裁、争取民主的革命洪流中去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4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，在昆明被国民党特务刺杀身亡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1160"/>
          <p:cNvSpPr/>
          <p:nvPr/>
        </p:nvSpPr>
        <p:spPr>
          <a:xfrm>
            <a:off x="0" y="3962520"/>
            <a:ext cx="9144000" cy="261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闻一多生平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      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闻一多先生（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1899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－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1946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），五四时即参加学生运动。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1922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年赴美国留学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      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1925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年留学回国后，曾先后在</a:t>
            </a:r>
            <a:r>
              <a:rPr b="0" lang="zh-CN" sz="2000" spc="-1" strike="noStrike">
                <a:solidFill>
                  <a:srgbClr val="cc6600"/>
                </a:solidFill>
                <a:latin typeface="华文新魏"/>
                <a:ea typeface="华文新魏"/>
              </a:rPr>
              <a:t>青岛大学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、清华大学等校任教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      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抗战开始后，随清华大学南迁昆明，任西南联合大学教授、中文系主任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      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1946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年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7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月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15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日，他横眉怒对国民党特务的手枪，用鲜血和生命写完了自己历史上最壮丽的一页，时年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47</a:t>
            </a:r>
            <a:r>
              <a:rPr b="0" lang="zh-CN" sz="2000" spc="-1" strike="noStrike">
                <a:solidFill>
                  <a:srgbClr val="969696"/>
                </a:solidFill>
                <a:latin typeface="华文新魏"/>
                <a:ea typeface="华文新魏"/>
              </a:rPr>
              <a:t>岁。</a:t>
            </a:r>
            <a:r>
              <a:rPr b="1" lang="zh-CN" sz="20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文本框 8200"/>
          <p:cNvSpPr/>
          <p:nvPr/>
        </p:nvSpPr>
        <p:spPr>
          <a:xfrm>
            <a:off x="3060720" y="422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4876560"/>
            <a:ext cx="647712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"/>
                <a:ea typeface="华文行楷"/>
              </a:rPr>
              <a:t>闻一多先生的说和做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3886200"/>
            <a:ext cx="1981080" cy="7034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黑体"/>
              </a:rPr>
              <a:t>臧克家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734600" y="0"/>
            <a:ext cx="1409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大师笔下的大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巨人心中的巨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闻一多.wav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5" descr="wh-20020717-3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888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把文章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读懂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438280" y="1981080"/>
            <a:ext cx="609912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  <a:ea typeface="方正姚体"/>
              </a:rPr>
              <a:t>了解作者和闻一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  <a:ea typeface="方正姚体"/>
              </a:rPr>
              <a:t>扫清字词句障碍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  <a:ea typeface="方正姚体"/>
              </a:rPr>
              <a:t>理清行文思路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  <a:ea typeface="方正姚体"/>
              </a:rPr>
              <a:t>读出思想、读出感情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273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黑体"/>
                <a:ea typeface="黑体"/>
              </a:rPr>
              <a:t>字 词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495320" y="228600"/>
            <a:ext cx="2590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漂</a:t>
            </a: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校</a:t>
            </a: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补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赫</a:t>
            </a: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然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何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妨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目不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窥</a:t>
            </a: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锲</a:t>
            </a: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而不舍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兀兀</a:t>
            </a: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穷年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沥</a:t>
            </a: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尽心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群蚁排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迥</a:t>
            </a: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乎不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气冲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斗</a:t>
            </a: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牛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213336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诗兴不作：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作，起。</a:t>
            </a:r>
            <a:r>
              <a:rPr b="1" lang="zh-CN" sz="2400" spc="-1" strike="noStrike">
                <a:solidFill>
                  <a:srgbClr val="ffffcc"/>
                </a:solidFill>
                <a:latin typeface="宋体"/>
              </a:rPr>
              <a:t>诗兴不作，不是不作诗，而是写诗的兴致不起、不发。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宋体"/>
              </a:rPr>
              <a:t>仰之弥高，钻之弥坚：</a:t>
            </a:r>
            <a:r>
              <a:rPr b="1" lang="zh-CN" sz="2400" spc="-1" strike="noStrike">
                <a:solidFill>
                  <a:srgbClr val="ffffcc"/>
                </a:solidFill>
                <a:latin typeface="宋体"/>
              </a:rPr>
              <a:t>出自《论语》，是颜渊赞美孔子的话，意思是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cc"/>
                </a:solidFill>
                <a:latin typeface="宋体"/>
              </a:rPr>
              <a:t>老师之道，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越抬头看，越觉得高；越用力钻研，越觉得深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cc"/>
                </a:solidFill>
                <a:latin typeface="宋体"/>
              </a:rPr>
              <a:t>。弥，更加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7010280" y="304920"/>
            <a:ext cx="129564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方正姚体"/>
              </a:rPr>
              <a:t>piǎ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方正姚体"/>
              </a:rPr>
              <a:t>jià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方正姚体"/>
              </a:rPr>
              <a:t>h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方正姚体"/>
              </a:rPr>
              <a:t>fá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方正姚体"/>
              </a:rPr>
              <a:t>ku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方正姚体"/>
              </a:rPr>
              <a:t>qi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方正姚体"/>
              </a:rPr>
              <a:t>w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方正姚体"/>
              </a:rPr>
              <a:t>lì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方正姚体"/>
              </a:rPr>
              <a:t>yá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方正姚体"/>
              </a:rPr>
              <a:t>jiǒ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方正姚体"/>
              </a:rPr>
              <a:t>dǒ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2" descr="wh-20020717-3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12002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888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把文章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读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懂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90360" y="1941480"/>
            <a:ext cx="754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朗读提示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全神贯注，力求准确。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大声朗读，一气呵成。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遇到难句，略作思考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文本框 8200"/>
          <p:cNvSpPr/>
          <p:nvPr/>
        </p:nvSpPr>
        <p:spPr>
          <a:xfrm>
            <a:off x="2124000" y="5013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2:49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56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