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type.wav" ContentType="audio/x-wav"/>
  <Override PartName="/ppt/media/image6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138B-BD90-412F-92DC-B53A7640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EFCD2-0AAC-4CB4-B88D-9F6B69D8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AD25C-9A7F-4346-9A16-D54E05E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353E-3B3D-4354-BD0B-A5F038FB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F2678-34BF-49A6-B96C-6988C84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F5A4-20D8-4F8B-BF0E-ABD1180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E5733-464B-421C-A522-D63D18B4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0828E-2682-43B6-8A46-39FDA83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490D-07F9-41CD-96B4-E9633472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9A009-B142-41E6-8682-3075B351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A5B61-F2E3-4AB0-9AE3-72113392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B8AC1-B269-47DA-8980-3694A81C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3A33B-E87E-4078-B065-17632642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C69DF-2C06-43E3-B526-E842449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73B81-93FD-4BA0-A3CF-08F6C2A5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DEF1B-9297-4487-A2AD-AED12409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B6E7C-25EF-4B49-9872-2894C05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F4D84-49E9-4EAE-B085-347E2A26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E14F1-D549-4DB9-A873-76D8BCB3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44486-1B83-40F2-80FF-11A5B46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88451-A8ED-40C9-836A-EC4AD88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643E4-6DE0-4241-BE91-4B1EB2E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2EDB5-B654-4D22-B561-D3D0A1F4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C88C9-7174-4CF7-B706-FBA84D1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1719E-EDC0-4E79-BF76-5B0236BA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56149-94FD-40D3-8C33-D0B55F7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BE039-C684-4C64-A148-FE1B1606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5935C-C8BD-4E6C-99C1-6A80D6EF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81B15-1C76-4689-960C-16C0AA5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E0DC7-F632-4861-89D1-2518241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6FF41-6841-4B1E-BABE-833832C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B1343-CB52-4AED-BC73-51E2A94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DB87F-FB8E-4C97-A7E2-33AB5C8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D1550-0D5F-4264-8F24-A527D28E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43795-BACE-402F-960B-39455D79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FE316-9619-4B59-BC23-62EFA134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C8C65-D0DF-434E-87BB-033D3D88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92A17-0804-44DA-9D7F-7EE2B67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4F0FD-1067-49E4-99D2-A18A065E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8BABE-1048-44E1-9D3D-0B8F7CA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A4B88-52AD-4CB4-893A-1E551B67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5FC92-D4A6-4700-B22F-13BCC20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D4DBE-E0F4-4A75-A6C9-9C34CE4F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45CA3-EF08-41FB-8854-370440F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2366D-5EC6-4F3F-97A2-B8FC14DD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C924F-F9F5-4318-9E4E-D11E717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85A63-B0AA-4B44-B6B6-8D9F2ED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72893-C0C4-4102-BE6E-CD2A9519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20736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版权所有 盗版必究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20736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版权所有 盗版必究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1763640" cy="438120"/>
          </a:xfrm>
          <a:prstGeom prst="rect">
            <a:avLst/>
          </a:prstGeom>
          <a:solidFill>
            <a:srgbClr val="f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619280" y="0"/>
            <a:ext cx="7524720" cy="326880"/>
          </a:xfrm>
          <a:prstGeom prst="rect">
            <a:avLst/>
          </a:prstGeom>
          <a:solidFill>
            <a:srgbClr val="f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589800"/>
            <a:ext cx="9144000" cy="268200"/>
          </a:xfrm>
          <a:prstGeom prst="rect">
            <a:avLst/>
          </a:prstGeom>
          <a:solidFill>
            <a:srgbClr val="f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EB8-934D-40C9-A085-5FCCF8EB36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20736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宋体"/>
              </a:rPr>
              <a:t>版权所有 盗版必究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0736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  <a:ea typeface="宋体"/>
              </a:rPr>
              <a:t>版权所有 盗版必究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-361800"/>
            <a:ext cx="1763640" cy="799920"/>
          </a:xfrm>
          <a:prstGeom prst="rect">
            <a:avLst/>
          </a:prstGeom>
          <a:solidFill>
            <a:srgbClr val="f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619280" y="-378000"/>
            <a:ext cx="7524720" cy="655920"/>
          </a:xfrm>
          <a:prstGeom prst="rect">
            <a:avLst/>
          </a:prstGeom>
          <a:solidFill>
            <a:srgbClr val="f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6589800"/>
            <a:ext cx="9144000" cy="306360"/>
          </a:xfrm>
          <a:prstGeom prst="rect">
            <a:avLst/>
          </a:prstGeom>
          <a:solidFill>
            <a:srgbClr val="fd96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6D3F-5A53-4B25-A6B9-63C6AA5032BF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DB0-B37C-45DC-8608-BDA43B0E4D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7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18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0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21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A80B-3164-413F-810B-8CCFC3769A90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2008122122191"/>
          <p:cNvPicPr/>
          <p:nvPr/>
        </p:nvPicPr>
        <p:blipFill>
          <a:blip r:embed="rId1"/>
          <a:stretch/>
        </p:blipFill>
        <p:spPr>
          <a:xfrm>
            <a:off x="395280" y="2421000"/>
            <a:ext cx="4259160" cy="2879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684360" y="1052640"/>
            <a:ext cx="80643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物质变化与我们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5" descr="冰山的构造"/>
          <p:cNvPicPr/>
          <p:nvPr/>
        </p:nvPicPr>
        <p:blipFill>
          <a:blip r:embed="rId2"/>
          <a:stretch/>
        </p:blipFill>
        <p:spPr>
          <a:xfrm>
            <a:off x="4859280" y="2421000"/>
            <a:ext cx="4176720" cy="2889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"/>
          <p:cNvSpPr/>
          <p:nvPr/>
        </p:nvSpPr>
        <p:spPr>
          <a:xfrm>
            <a:off x="3710880" y="533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教科版六年级科学下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文本框 6155"/>
          <p:cNvSpPr/>
          <p:nvPr/>
        </p:nvSpPr>
        <p:spPr>
          <a:xfrm>
            <a:off x="128520" y="61959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2010042715524776"/>
          <p:cNvPicPr/>
          <p:nvPr/>
        </p:nvPicPr>
        <p:blipFill>
          <a:blip r:embed="rId1"/>
          <a:stretch/>
        </p:blipFill>
        <p:spPr>
          <a:xfrm>
            <a:off x="2700360" y="404640"/>
            <a:ext cx="6408720" cy="56898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324000" y="836640"/>
            <a:ext cx="273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cc00"/>
                </a:solidFill>
                <a:latin typeface="Arial"/>
                <a:ea typeface="宋体"/>
              </a:rPr>
              <a:t>水泥</a:t>
            </a:r>
            <a:endParaRPr b="1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8360" y="5661000"/>
            <a:ext cx="820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包含一系列的物理、化学变化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34920" y="404640"/>
            <a:ext cx="3241440" cy="2916000"/>
            <a:chOff x="34920" y="404640"/>
            <a:chExt cx="3241440" cy="2916000"/>
          </a:xfrm>
        </p:grpSpPr>
        <p:pic>
          <p:nvPicPr>
            <p:cNvPr id="362" name="Picture 3" descr=""/>
            <p:cNvPicPr/>
            <p:nvPr/>
          </p:nvPicPr>
          <p:blipFill>
            <a:blip r:embed="rId1"/>
            <a:stretch/>
          </p:blipFill>
          <p:spPr>
            <a:xfrm>
              <a:off x="34920" y="1224000"/>
              <a:ext cx="3241440" cy="20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4"/>
            <p:cNvSpPr/>
            <p:nvPr/>
          </p:nvSpPr>
          <p:spPr>
            <a:xfrm>
              <a:off x="929160" y="404640"/>
              <a:ext cx="212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9900"/>
                  </a:solidFill>
                  <a:latin typeface="Arial"/>
                </a:rPr>
                <a:t>下雨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4572000" y="404640"/>
            <a:ext cx="4679280" cy="2448000"/>
            <a:chOff x="4572000" y="404640"/>
            <a:chExt cx="4679280" cy="2448000"/>
          </a:xfrm>
        </p:grpSpPr>
        <p:pic>
          <p:nvPicPr>
            <p:cNvPr id="365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404640"/>
              <a:ext cx="3519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7"/>
            <p:cNvSpPr/>
            <p:nvPr/>
          </p:nvSpPr>
          <p:spPr>
            <a:xfrm>
              <a:off x="8096040" y="907920"/>
              <a:ext cx="115524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ccff"/>
                  </a:solidFill>
                  <a:latin typeface="Arial"/>
                </a:rPr>
                <a:t>瀑布落下</a:t>
              </a: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8"/>
          <p:cNvGrpSpPr/>
          <p:nvPr/>
        </p:nvGrpSpPr>
        <p:grpSpPr>
          <a:xfrm>
            <a:off x="4573440" y="3213000"/>
            <a:ext cx="4752720" cy="3345480"/>
            <a:chOff x="4573440" y="3213000"/>
            <a:chExt cx="4752720" cy="3345480"/>
          </a:xfrm>
        </p:grpSpPr>
        <p:pic>
          <p:nvPicPr>
            <p:cNvPr id="368" name="Picture 9" descr=""/>
            <p:cNvPicPr/>
            <p:nvPr/>
          </p:nvPicPr>
          <p:blipFill>
            <a:blip r:embed="rId3"/>
            <a:stretch/>
          </p:blipFill>
          <p:spPr>
            <a:xfrm>
              <a:off x="4696920" y="3213000"/>
              <a:ext cx="3024720" cy="26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10"/>
            <p:cNvSpPr/>
            <p:nvPr/>
          </p:nvSpPr>
          <p:spPr>
            <a:xfrm>
              <a:off x="4573440" y="597708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cc00"/>
                  </a:solidFill>
                  <a:latin typeface="Arial"/>
                </a:rPr>
                <a:t>植物光合作用</a:t>
              </a: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Rectangle 11"/>
          <p:cNvSpPr/>
          <p:nvPr/>
        </p:nvSpPr>
        <p:spPr>
          <a:xfrm>
            <a:off x="250920" y="-208080"/>
            <a:ext cx="65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这些变化又是什么变化？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Group 12"/>
          <p:cNvGrpSpPr/>
          <p:nvPr/>
        </p:nvGrpSpPr>
        <p:grpSpPr>
          <a:xfrm>
            <a:off x="108000" y="3718080"/>
            <a:ext cx="6841440" cy="2930760"/>
            <a:chOff x="108000" y="3718080"/>
            <a:chExt cx="6841440" cy="2930760"/>
          </a:xfrm>
        </p:grpSpPr>
        <p:sp>
          <p:nvSpPr>
            <p:cNvPr id="372" name="Text Box 13"/>
            <p:cNvSpPr/>
            <p:nvPr/>
          </p:nvSpPr>
          <p:spPr>
            <a:xfrm>
              <a:off x="806040" y="6067440"/>
              <a:ext cx="61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Arial"/>
                </a:rPr>
                <a:t>木柴燃烧</a:t>
              </a:r>
              <a:endParaRPr b="1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73" name="Picture 14" descr="火柴"/>
            <p:cNvPicPr/>
            <p:nvPr/>
          </p:nvPicPr>
          <p:blipFill>
            <a:blip r:embed="rId4"/>
            <a:stretch/>
          </p:blipFill>
          <p:spPr>
            <a:xfrm>
              <a:off x="108000" y="3718080"/>
              <a:ext cx="3713040" cy="231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Text Box 15"/>
          <p:cNvSpPr/>
          <p:nvPr/>
        </p:nvSpPr>
        <p:spPr>
          <a:xfrm>
            <a:off x="2987640" y="1628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物理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313200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187280" y="981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物质变化与我们的生活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826920" y="1844640"/>
          <a:ext cx="8137440" cy="4608360"/>
        </p:xfrm>
        <a:graphic>
          <a:graphicData uri="http://schemas.openxmlformats.org/drawingml/2006/table">
            <a:tbl>
              <a:tblPr/>
              <a:tblGrid>
                <a:gridCol w="2079720"/>
                <a:gridCol w="2601720"/>
                <a:gridCol w="2086200"/>
                <a:gridCol w="136980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物质的变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伴随的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属什么变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特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加工家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泡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温度计测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玉石加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食物变营养物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烟花爆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燃料燃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生产水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Text Box 48"/>
          <p:cNvSpPr/>
          <p:nvPr/>
        </p:nvSpPr>
        <p:spPr>
          <a:xfrm>
            <a:off x="3059280" y="2421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形态变化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3059280" y="288756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形态变化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059280" y="339264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热胀冷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3059280" y="38955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形态变化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52"/>
          <p:cNvSpPr/>
          <p:nvPr/>
        </p:nvSpPr>
        <p:spPr>
          <a:xfrm>
            <a:off x="2916360" y="440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宋体"/>
              </a:rPr>
              <a:t>咀嚼、消化、吸收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320364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混合、煅烧、研细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5940360" y="2421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物理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5940360" y="4411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化学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7596360" y="292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  <a:ea typeface="宋体"/>
              </a:rPr>
              <a:t>不产生新物质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57"/>
          <p:cNvSpPr/>
          <p:nvPr/>
        </p:nvSpPr>
        <p:spPr>
          <a:xfrm>
            <a:off x="7843320" y="4941720"/>
            <a:ext cx="89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ahom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宋体"/>
              </a:rPr>
              <a:t>产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  <a:ea typeface="宋体"/>
              </a:rPr>
              <a:t>新物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608960" y="4292280"/>
            <a:ext cx="1355760" cy="28440"/>
            <a:chOff x="7608960" y="4292280"/>
            <a:chExt cx="1355760" cy="28440"/>
          </a:xfrm>
        </p:grpSpPr>
        <p:sp>
          <p:nvSpPr>
            <p:cNvPr id="389" name="Line 58"/>
            <p:cNvSpPr/>
            <p:nvPr/>
          </p:nvSpPr>
          <p:spPr>
            <a:xfrm flipV="1">
              <a:off x="7608960" y="4292280"/>
              <a:ext cx="1355760" cy="28440"/>
            </a:xfrm>
            <a:prstGeom prst="line">
              <a:avLst/>
            </a:prstGeom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 rot="10800000">
              <a:off x="7608960" y="4292280"/>
              <a:ext cx="135576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1" name="Text Box 59"/>
          <p:cNvSpPr/>
          <p:nvPr/>
        </p:nvSpPr>
        <p:spPr>
          <a:xfrm>
            <a:off x="4035240" y="486900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体积膨胀、发光、发热等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60"/>
          <p:cNvSpPr/>
          <p:nvPr/>
        </p:nvSpPr>
        <p:spPr>
          <a:xfrm>
            <a:off x="3997080" y="53737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发光、发热、生成气体等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61"/>
          <p:cNvSpPr/>
          <p:nvPr/>
        </p:nvSpPr>
        <p:spPr>
          <a:xfrm>
            <a:off x="594036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物理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62"/>
          <p:cNvSpPr/>
          <p:nvPr/>
        </p:nvSpPr>
        <p:spPr>
          <a:xfrm>
            <a:off x="5940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物理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63"/>
          <p:cNvSpPr/>
          <p:nvPr/>
        </p:nvSpPr>
        <p:spPr>
          <a:xfrm>
            <a:off x="5940360" y="386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物理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64"/>
          <p:cNvSpPr/>
          <p:nvPr/>
        </p:nvSpPr>
        <p:spPr>
          <a:xfrm>
            <a:off x="5651640" y="48434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剧烈化学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65"/>
          <p:cNvSpPr/>
          <p:nvPr/>
        </p:nvSpPr>
        <p:spPr>
          <a:xfrm>
            <a:off x="5867280" y="53006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化学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5902200" y="260280"/>
            <a:ext cx="3062520" cy="1513080"/>
          </a:xfrm>
          <a:prstGeom prst="borderCallout1">
            <a:avLst>
              <a:gd name="adj1" fmla="val 18750"/>
              <a:gd name="adj2" fmla="val -8333"/>
              <a:gd name="adj3" fmla="val 348898"/>
              <a:gd name="adj4" fmla="val -2486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煤、石油化石燃料消耗量的急剧增加，产生大量二氧化碳，导致全球气候变暖、土壤沙漠化、大陆和两极冰川融化，给全球带来巨大压力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6413400" y="5877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宋体"/>
              </a:rPr>
              <a:t>复杂物理、化学变化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5796000" y="1989000"/>
            <a:ext cx="2685960" cy="4129200"/>
            <a:chOff x="5796000" y="1989000"/>
            <a:chExt cx="2685960" cy="4129200"/>
          </a:xfrm>
        </p:grpSpPr>
        <p:pic>
          <p:nvPicPr>
            <p:cNvPr id="401" name="Picture 69" descr="1"/>
            <p:cNvPicPr/>
            <p:nvPr/>
          </p:nvPicPr>
          <p:blipFill>
            <a:blip r:embed="rId1"/>
            <a:stretch/>
          </p:blipFill>
          <p:spPr>
            <a:xfrm>
              <a:off x="5940360" y="1989000"/>
              <a:ext cx="237492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70" descr="11"/>
            <p:cNvPicPr/>
            <p:nvPr/>
          </p:nvPicPr>
          <p:blipFill>
            <a:blip r:embed="rId2"/>
            <a:stretch/>
          </p:blipFill>
          <p:spPr>
            <a:xfrm>
              <a:off x="5796000" y="3789360"/>
              <a:ext cx="2685960" cy="23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71" descr="2"/>
          <p:cNvPicPr/>
          <p:nvPr/>
        </p:nvPicPr>
        <p:blipFill>
          <a:blip r:embed="rId3"/>
          <a:stretch/>
        </p:blipFill>
        <p:spPr>
          <a:xfrm>
            <a:off x="6156360" y="2133720"/>
            <a:ext cx="2473200" cy="3311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2" descr="3"/>
          <p:cNvPicPr/>
          <p:nvPr/>
        </p:nvPicPr>
        <p:blipFill>
          <a:blip r:embed="rId4"/>
          <a:stretch/>
        </p:blipFill>
        <p:spPr>
          <a:xfrm>
            <a:off x="5292720" y="2349360"/>
            <a:ext cx="3600360" cy="2325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3" descr="4"/>
          <p:cNvPicPr/>
          <p:nvPr/>
        </p:nvPicPr>
        <p:blipFill>
          <a:blip r:embed="rId5"/>
          <a:stretch/>
        </p:blipFill>
        <p:spPr>
          <a:xfrm>
            <a:off x="6012000" y="1844640"/>
            <a:ext cx="2949480" cy="4176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4" descr="5"/>
          <p:cNvPicPr/>
          <p:nvPr/>
        </p:nvPicPr>
        <p:blipFill>
          <a:blip r:embed="rId6"/>
          <a:stretch/>
        </p:blipFill>
        <p:spPr>
          <a:xfrm>
            <a:off x="1116000" y="115920"/>
            <a:ext cx="6513480" cy="4071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5" descr="6"/>
          <p:cNvPicPr/>
          <p:nvPr/>
        </p:nvPicPr>
        <p:blipFill>
          <a:blip r:embed="rId7"/>
          <a:stretch/>
        </p:blipFill>
        <p:spPr>
          <a:xfrm>
            <a:off x="1835280" y="333360"/>
            <a:ext cx="4952880" cy="33782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76"/>
          <p:cNvGrpSpPr/>
          <p:nvPr/>
        </p:nvGrpSpPr>
        <p:grpSpPr>
          <a:xfrm>
            <a:off x="0" y="0"/>
            <a:ext cx="8767800" cy="5689440"/>
            <a:chOff x="0" y="0"/>
            <a:chExt cx="8767800" cy="5689440"/>
          </a:xfrm>
        </p:grpSpPr>
        <p:pic>
          <p:nvPicPr>
            <p:cNvPr id="409" name="Picture 77" descr="71"/>
            <p:cNvPicPr/>
            <p:nvPr/>
          </p:nvPicPr>
          <p:blipFill>
            <a:blip r:embed="rId8"/>
            <a:stretch/>
          </p:blipFill>
          <p:spPr>
            <a:xfrm>
              <a:off x="1584360" y="1076400"/>
              <a:ext cx="7183440" cy="46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78" descr="7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2700360" cy="27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79" descr="72"/>
            <p:cNvPicPr/>
            <p:nvPr/>
          </p:nvPicPr>
          <p:blipFill>
            <a:blip r:embed="rId10"/>
            <a:stretch/>
          </p:blipFill>
          <p:spPr>
            <a:xfrm>
              <a:off x="3024360" y="71280"/>
              <a:ext cx="2520720" cy="2106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08000" y="1197000"/>
            <a:ext cx="2233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一、填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4920" y="1844640"/>
            <a:ext cx="91090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打开电灯开关，电灯就会发光发热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木炭燃烧时同时会发光发热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植物进行光合作用时，会产生新鲜的氧气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把淀粉放入水中搅拌，最后淀粉会沉淀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往澄清的石灰水中吹二氧化碳气体，会有白色的沉淀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产生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墨汁滴在清水中，清水变黑了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气球吹大松手后空气会从气球中流出来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变化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2413080" y="47772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物质变化与我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6700320" y="1830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物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6011280" y="23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化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7667640" y="2709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化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7380000" y="36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物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241128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化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60829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物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7308360" y="558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物理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324000" y="119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选择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179280" y="1844640"/>
            <a:ext cx="889344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变化过程中没有新物质生成的是（     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燃放烟花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木材燃烧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盐溶于水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燃煤发电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变化中属于化学变化的是（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将铁熔化后制成锅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给水通电获得氢气和氧气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温度计内水银长度发生变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光被镜子反射回去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变化中属于物理变化的是（      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火药爆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木头燃烧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湿衣服晒干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2556000" y="476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物质变化与我们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958080" y="206064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5800680" y="342900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5877000" y="537372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文本框 8200"/>
          <p:cNvSpPr/>
          <p:nvPr/>
        </p:nvSpPr>
        <p:spPr>
          <a:xfrm>
            <a:off x="1571760" y="1319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324000" y="112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选择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79280" y="1628640"/>
            <a:ext cx="8893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工艺制作过程中包含化学变化的是（     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红纸剪成窗花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泥土烧成瓷器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冰块制成冰雕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木板制成模型飞机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哪种变化与其他三种变化有着本质上的不同的是（      ）。 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火药爆炸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衣服晒干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纸张燃烧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粮食酿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556000" y="40464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物质变化与我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281720" y="184464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047600" y="457848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79280" y="10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选择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79280" y="1766880"/>
            <a:ext cx="88934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化学变化伴随的现象有（               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产生沉淀物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颜色变化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发光发热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生成气体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不属于二氧化碳的性质是（        ）。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无色透明气体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比空气重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灭火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溶于水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容器不能盛放硫酸铜溶液的是（     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塑料容器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铁制容器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木质容器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玻璃容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484360" y="333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物质变化与我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4731840" y="1773360"/>
            <a:ext cx="171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ABCD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6017400" y="328608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6591960" y="501336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380880" y="380880"/>
            <a:ext cx="835344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7093080" y="105264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4"/>
          <p:cNvSpPr/>
          <p:nvPr/>
        </p:nvSpPr>
        <p:spPr>
          <a:xfrm>
            <a:off x="71280" y="66600"/>
            <a:ext cx="1224000" cy="1152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Picture 5" descr="星08"/>
          <p:cNvPicPr/>
          <p:nvPr/>
        </p:nvPicPr>
        <p:blipFill>
          <a:blip r:embed="rId1"/>
          <a:stretch/>
        </p:blipFill>
        <p:spPr>
          <a:xfrm>
            <a:off x="1066680" y="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星08"/>
          <p:cNvPicPr/>
          <p:nvPr/>
        </p:nvPicPr>
        <p:blipFill>
          <a:blip r:embed="rId2"/>
          <a:stretch/>
        </p:blipFill>
        <p:spPr>
          <a:xfrm>
            <a:off x="8259840" y="1825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7"/>
          <p:cNvSpPr/>
          <p:nvPr/>
        </p:nvSpPr>
        <p:spPr>
          <a:xfrm>
            <a:off x="914400" y="327672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变化属于化学变化的是（     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灯泡发光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气液化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光合作用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水晒盐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914400" y="1066680"/>
            <a:ext cx="770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变化属于物理变化的是（     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腐败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钢铁生锈  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瓦斯爆炸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塑料瓶变形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9436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80880" y="42670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5943600" y="1066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79280" y="1628640"/>
            <a:ext cx="88934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物质变化无处不在，跟我们的生活密切相关。（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食物要经过许多化学变化，才能转化为我们身体所需要的营养物质。（    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生产水泥的过程，包含着一系列复杂的物理变化和化学变化。（   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火药是我国古代四大发明之一。（          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304480" y="184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369684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61720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6504840" y="530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556000" y="838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物质变化与我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324000" y="1268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判断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250920" y="1700280"/>
            <a:ext cx="830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空气液化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铜器生绿锈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氧化碳使澄清的石灰水变浑浊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酒精挥发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⑸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火药爆炸 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⑹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灯丝通电后发光放热　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79280" y="907920"/>
            <a:ext cx="92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判断下列变化是物理变化还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419640" y="170028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物理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3924360" y="2349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680400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276720" y="35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物理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492360" y="4292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5796000" y="479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物理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324000" y="476280"/>
            <a:ext cx="90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Impact"/>
              </a:rPr>
              <a:t>我们知道：自然界的物质会发生各种各样的变化，</a:t>
            </a:r>
            <a:r>
              <a:rPr b="1" lang="zh-CN" sz="4000" spc="-1" strike="noStrike">
                <a:solidFill>
                  <a:srgbClr val="ff0066"/>
                </a:solidFill>
                <a:latin typeface="Impact"/>
              </a:rPr>
              <a:t>你能说出生活中物质变化的实例吗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08000" y="234936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已经知道，我们周围的物质总是在发生各种各样的变化，如：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太阳的升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月亮的圆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细胞的分裂、生长和分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物质的溶解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下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木柴燃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植物光合作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瀑布落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电灯发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9900"/>
                </a:solidFill>
                <a:latin typeface="宋体"/>
              </a:rPr>
              <a:t>冰山消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水的电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304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钢铁的熔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351240" y="38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温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变化、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状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生变化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0" y="12747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冰山消融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76720" y="12682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形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发生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0" y="22860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铁丝的形变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348000" y="22827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形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发生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0" y="3200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水的电解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352680" y="3200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质性质发生了变化，产生了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新的物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气体产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3" name="Group 10"/>
          <p:cNvGrpSpPr/>
          <p:nvPr/>
        </p:nvGrpSpPr>
        <p:grpSpPr>
          <a:xfrm>
            <a:off x="684360" y="4076640"/>
            <a:ext cx="5618160" cy="642600"/>
            <a:chOff x="684360" y="4076640"/>
            <a:chExt cx="5618160" cy="642600"/>
          </a:xfrm>
        </p:grpSpPr>
        <p:sp>
          <p:nvSpPr>
            <p:cNvPr id="474" name="Text Box 11"/>
            <p:cNvSpPr/>
            <p:nvPr/>
          </p:nvSpPr>
          <p:spPr>
            <a:xfrm>
              <a:off x="2340000" y="407664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物质变化的证据</a:t>
              </a: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WordArt 12"/>
            <p:cNvSpPr txBox="1"/>
            <p:nvPr/>
          </p:nvSpPr>
          <p:spPr>
            <a:xfrm>
              <a:off x="684360" y="4221000"/>
              <a:ext cx="1393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总结：</a:t>
              </a:r>
              <a:endParaRPr b="1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76" name="Text Box 13"/>
          <p:cNvSpPr/>
          <p:nvPr/>
        </p:nvSpPr>
        <p:spPr>
          <a:xfrm>
            <a:off x="304920" y="4800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成沉淀、颜色改变、气体产生、温度变化、性质变化、发光发热、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PH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变化、状态变化等。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7" name="Picture 14" descr=""/>
          <p:cNvPicPr/>
          <p:nvPr/>
        </p:nvPicPr>
        <p:blipFill>
          <a:blip r:embed="rId1"/>
          <a:stretch/>
        </p:blipFill>
        <p:spPr>
          <a:xfrm>
            <a:off x="6732720" y="1917720"/>
            <a:ext cx="1944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总结一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本节课你都学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1440" y="404640"/>
            <a:ext cx="392292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宋体"/>
              </a:rPr>
              <a:t>制作饮料</a:t>
            </a:r>
            <a:endParaRPr b="1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橙汁饮料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柠檬汽水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Picture 4" descr="2008121620133178048"/>
          <p:cNvPicPr/>
          <p:nvPr/>
        </p:nvPicPr>
        <p:blipFill>
          <a:blip r:embed="rId1"/>
          <a:stretch/>
        </p:blipFill>
        <p:spPr>
          <a:xfrm>
            <a:off x="4140360" y="549360"/>
            <a:ext cx="4824360" cy="590544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8200"/>
          <p:cNvSpPr/>
          <p:nvPr/>
        </p:nvSpPr>
        <p:spPr>
          <a:xfrm>
            <a:off x="264960" y="1646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095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制作饮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68360" y="1844280"/>
            <a:ext cx="8229600" cy="45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新魏"/>
                <a:ea typeface="华文新魏"/>
              </a:rPr>
              <a:t>橙汁饮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99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9900"/>
                </a:solidFill>
                <a:latin typeface="华文新魏"/>
                <a:ea typeface="华文新魏"/>
              </a:rPr>
              <a:t>把一个去皮的橙榨成汁，加入少量的水</a:t>
            </a:r>
            <a:r>
              <a:rPr b="1" lang="en-US" sz="4000" spc="-1" strike="noStrike">
                <a:solidFill>
                  <a:srgbClr val="ff99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9900"/>
                </a:solidFill>
                <a:latin typeface="华文新魏"/>
                <a:ea typeface="华文新魏"/>
              </a:rPr>
              <a:t>配成一杯橙汁饮料。味道还不错，就是有点酸，如果加勺糖，会比商店里买来的橙汁还好喝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56000" y="620640"/>
            <a:ext cx="2808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Arial"/>
                <a:ea typeface="华文新魏"/>
              </a:rPr>
              <a:t>柠檬汽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9440" y="1847880"/>
            <a:ext cx="8856720" cy="45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在一杯水中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加入两勺糖，少量的柠檬酸，再加入一小勺小苏打，做成的饮料会冒气泡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这就是柠檬汽水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7A41-F6F8-4BCF-BDA7-52A14693D7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  <a:ea typeface="华文新魏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2331720"/>
            <a:ext cx="8229600" cy="37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  <a:ea typeface="华文新魏"/>
              </a:rPr>
              <a:t>制作汽水的过程中都发生了什么变化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179280" y="1270080"/>
          <a:ext cx="8734320" cy="4913280"/>
        </p:xfrm>
        <a:graphic>
          <a:graphicData uri="http://schemas.openxmlformats.org/drawingml/2006/table">
            <a:tbl>
              <a:tblPr/>
              <a:tblGrid>
                <a:gridCol w="2184480"/>
                <a:gridCol w="3441600"/>
                <a:gridCol w="1292400"/>
                <a:gridCol w="1815840"/>
              </a:tblGrid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质的变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伴随的现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于什么变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结冰、水蒸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易拉罐压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弯折铁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混合沙和豆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柴、蜡烛燃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加热白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饭淀粉和碘酒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苏打和白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生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硫酸铜和铁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Text Box 47"/>
          <p:cNvSpPr/>
          <p:nvPr/>
        </p:nvSpPr>
        <p:spPr>
          <a:xfrm>
            <a:off x="3060720" y="1701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形态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48"/>
          <p:cNvSpPr/>
          <p:nvPr/>
        </p:nvSpPr>
        <p:spPr>
          <a:xfrm>
            <a:off x="3305520" y="20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形态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305520" y="2492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形态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50"/>
          <p:cNvSpPr/>
          <p:nvPr/>
        </p:nvSpPr>
        <p:spPr>
          <a:xfrm>
            <a:off x="3060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无明显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51"/>
          <p:cNvSpPr/>
          <p:nvPr/>
        </p:nvSpPr>
        <p:spPr>
          <a:xfrm>
            <a:off x="3060720" y="32860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发光、发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994920" y="3718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改变颜色、有焦味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33055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颜色改变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54"/>
          <p:cNvSpPr/>
          <p:nvPr/>
        </p:nvSpPr>
        <p:spPr>
          <a:xfrm>
            <a:off x="3305520" y="4726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产生气体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55"/>
          <p:cNvSpPr/>
          <p:nvPr/>
        </p:nvSpPr>
        <p:spPr>
          <a:xfrm>
            <a:off x="3931560" y="5229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颜色改变、性质改变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56"/>
          <p:cNvSpPr/>
          <p:nvPr/>
        </p:nvSpPr>
        <p:spPr>
          <a:xfrm>
            <a:off x="2556000" y="580536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颜色改变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沉淀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产生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554240" y="256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物理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7554240" y="486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化学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59"/>
          <p:cNvSpPr/>
          <p:nvPr/>
        </p:nvSpPr>
        <p:spPr>
          <a:xfrm>
            <a:off x="5797440" y="2347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不产生新物质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60"/>
          <p:cNvSpPr/>
          <p:nvPr/>
        </p:nvSpPr>
        <p:spPr>
          <a:xfrm>
            <a:off x="5724360" y="4365720"/>
            <a:ext cx="13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产生新物质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61"/>
          <p:cNvSpPr/>
          <p:nvPr/>
        </p:nvSpPr>
        <p:spPr>
          <a:xfrm>
            <a:off x="2124000" y="40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物质变化与我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3429000"/>
            <a:ext cx="1873080" cy="1440"/>
            <a:chOff x="7093080" y="3429000"/>
            <a:chExt cx="1873080" cy="1440"/>
          </a:xfrm>
        </p:grpSpPr>
        <p:sp>
          <p:nvSpPr>
            <p:cNvPr id="291" name="Line 62"/>
            <p:cNvSpPr/>
            <p:nvPr/>
          </p:nvSpPr>
          <p:spPr>
            <a:xfrm>
              <a:off x="7093080" y="3429000"/>
              <a:ext cx="18730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7093080" y="3429000"/>
              <a:ext cx="1873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164360" y="4076640"/>
            <a:ext cx="1873440" cy="1800"/>
            <a:chOff x="7164360" y="4076640"/>
            <a:chExt cx="1873440" cy="1800"/>
          </a:xfrm>
        </p:grpSpPr>
        <p:sp>
          <p:nvSpPr>
            <p:cNvPr id="294" name="Line 63"/>
            <p:cNvSpPr/>
            <p:nvPr/>
          </p:nvSpPr>
          <p:spPr>
            <a:xfrm>
              <a:off x="7164360" y="4076640"/>
              <a:ext cx="187344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7164360" y="4076640"/>
              <a:ext cx="187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79280" y="189000"/>
          <a:ext cx="8785080" cy="6600600"/>
        </p:xfrm>
        <a:graphic>
          <a:graphicData uri="http://schemas.openxmlformats.org/drawingml/2006/table">
            <a:tbl>
              <a:tblPr/>
              <a:tblGrid>
                <a:gridCol w="2736720"/>
                <a:gridCol w="3565800"/>
                <a:gridCol w="1177920"/>
                <a:gridCol w="13046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9900"/>
                          </a:solidFill>
                          <a:latin typeface="Times New Roman"/>
                          <a:ea typeface="宋体"/>
                        </a:rPr>
                        <a:t>物质变化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9900"/>
                          </a:solidFill>
                          <a:latin typeface="Times New Roman"/>
                          <a:ea typeface="宋体"/>
                        </a:rPr>
                        <a:t>伴随的主要现象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宋体"/>
                        </a:rPr>
                        <a:t>特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宋体"/>
                        </a:rPr>
                        <a:t>属于什么变化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水结冰、水蒸发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状态改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cc99"/>
                          </a:solidFill>
                          <a:latin typeface="Times New Roman"/>
                          <a:ea typeface="宋体"/>
                        </a:rPr>
                        <a:t>没有产生新物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cc99"/>
                          </a:solidFill>
                          <a:latin typeface="Times New Roman"/>
                          <a:ea typeface="宋体"/>
                        </a:rPr>
                        <a:t>物理变化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易拉罐压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形状改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弯折铁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形状改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混合沙和豆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Times New Roman"/>
                          <a:ea typeface="宋体"/>
                        </a:rPr>
                        <a:t>基本不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火柴蜡烛燃烧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发光发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产生了新物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9900"/>
                          </a:solidFill>
                          <a:latin typeface="Times New Roman"/>
                          <a:ea typeface="宋体"/>
                        </a:rPr>
                        <a:t>化学变化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加热白糖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颜色改变、有焦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在米饭上滴碘酒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改变颜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小苏打和白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产生气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铁生锈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颜色改变、性质改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硫酸铜容易和铁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颜色改变，沉淀产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12720" y="227664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化学变化？什么是物理变化？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12720" y="34606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理变化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539640" y="50864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化学变化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98764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变化中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没有新物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产生，只有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形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改变。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060720" y="515772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变化中会产生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新的物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7080" y="766800"/>
            <a:ext cx="554364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思考：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-66600" y="66600"/>
            <a:ext cx="1214280" cy="1152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14400" y="8683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质的变化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1049040" y="144792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物理变化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048120" y="1447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没有生成新物质的变化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124080" y="1951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生成新物质的变化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1077480" y="202716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化学变化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607920" y="2438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宋体"/>
              </a:rPr>
              <a:t>（化学变化又叫化学反应。）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457200" y="28954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化学变化中伴随发生的一些现象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12" descr="pic_32585"/>
          <p:cNvPicPr/>
          <p:nvPr/>
        </p:nvPicPr>
        <p:blipFill>
          <a:blip r:embed="rId1"/>
          <a:stretch/>
        </p:blipFill>
        <p:spPr>
          <a:xfrm>
            <a:off x="1447920" y="3429000"/>
            <a:ext cx="5562360" cy="1981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"/>
          <p:cNvSpPr/>
          <p:nvPr/>
        </p:nvSpPr>
        <p:spPr>
          <a:xfrm>
            <a:off x="1447920" y="54259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常见现象： 发光、发热、颜色改变、放出气体、生成沉淀；并且常伴随能量变化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276720" y="1981080"/>
            <a:ext cx="3809880" cy="360"/>
            <a:chOff x="3276720" y="1981080"/>
            <a:chExt cx="3809880" cy="360"/>
          </a:xfrm>
        </p:grpSpPr>
        <p:sp>
          <p:nvSpPr>
            <p:cNvPr id="316" name="Line 14"/>
            <p:cNvSpPr/>
            <p:nvPr/>
          </p:nvSpPr>
          <p:spPr>
            <a:xfrm>
              <a:off x="3276720" y="1981080"/>
              <a:ext cx="380988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276720" y="1981080"/>
              <a:ext cx="38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276720" y="2514600"/>
            <a:ext cx="3200400" cy="360"/>
            <a:chOff x="3276720" y="2514600"/>
            <a:chExt cx="3200400" cy="360"/>
          </a:xfrm>
        </p:grpSpPr>
        <p:sp>
          <p:nvSpPr>
            <p:cNvPr id="319" name="Line 15"/>
            <p:cNvSpPr/>
            <p:nvPr/>
          </p:nvSpPr>
          <p:spPr>
            <a:xfrm>
              <a:off x="3276720" y="2514600"/>
              <a:ext cx="3200400" cy="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276720" y="251460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651640" y="692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Oval 4"/>
          <p:cNvSpPr/>
          <p:nvPr/>
        </p:nvSpPr>
        <p:spPr>
          <a:xfrm>
            <a:off x="7236000" y="476280"/>
            <a:ext cx="122364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828720" y="54936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质的变化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864800" y="1052640"/>
            <a:ext cx="39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物理变化与化学变化的区别与联系：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26920" y="1779480"/>
          <a:ext cx="7315200" cy="2602080"/>
        </p:xfrm>
        <a:graphic>
          <a:graphicData uri="http://schemas.openxmlformats.org/drawingml/2006/table">
            <a:tbl>
              <a:tblPr/>
              <a:tblGrid>
                <a:gridCol w="1066680"/>
                <a:gridCol w="3048120"/>
                <a:gridCol w="3200400"/>
              </a:tblGrid>
              <a:tr h="81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比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物理变化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化学变化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区别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联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7" name="Rectangle 24"/>
          <p:cNvSpPr/>
          <p:nvPr/>
        </p:nvSpPr>
        <p:spPr>
          <a:xfrm>
            <a:off x="249048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无新物质生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5581440" y="256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有新物质生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1908000" y="3357720"/>
            <a:ext cx="64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周围的物质都会发生变化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396720" y="4508640"/>
            <a:ext cx="82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物质变化的种类时，不能只看有无现象，而应该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看是否生成了其他物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些化学变化是没有明显现象的，物理变化也可伴随有明显的现象如通电时发光也放热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3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53964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两者根本区别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53964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两者的联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96720" y="907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物理变化和化学变化的联系和区别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417760" y="2852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变化中有没有新的物质生成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116000" y="566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化学变化一定伴随着物理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116000" y="486900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宋体"/>
              </a:rPr>
              <a:t>物理变化中不一定有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179280" y="2133720"/>
            <a:ext cx="64764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物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变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化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3"/>
          <p:cNvSpPr/>
          <p:nvPr/>
        </p:nvSpPr>
        <p:spPr>
          <a:xfrm rot="5400000">
            <a:off x="2776680" y="3711600"/>
            <a:ext cx="720720" cy="260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4"/>
          <p:cNvSpPr/>
          <p:nvPr/>
        </p:nvSpPr>
        <p:spPr>
          <a:xfrm rot="5400000">
            <a:off x="6100200" y="3268440"/>
            <a:ext cx="1657440" cy="356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生成新物质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5"/>
          <p:cNvSpPr/>
          <p:nvPr/>
        </p:nvSpPr>
        <p:spPr>
          <a:xfrm rot="5400000">
            <a:off x="5828040" y="869040"/>
            <a:ext cx="2085840" cy="34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484360" y="1197000"/>
            <a:ext cx="2158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908000" y="472608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化学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5292720" y="1917720"/>
            <a:ext cx="345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没有生成新物质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9"/>
          <p:cNvSpPr/>
          <p:nvPr/>
        </p:nvSpPr>
        <p:spPr>
          <a:xfrm rot="21540000">
            <a:off x="1844640" y="2039400"/>
            <a:ext cx="2432160" cy="73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物理变化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26560" y="2276640"/>
            <a:ext cx="1008720" cy="793440"/>
            <a:chOff x="826560" y="2276640"/>
            <a:chExt cx="1008720" cy="793440"/>
          </a:xfrm>
        </p:grpSpPr>
        <p:sp>
          <p:nvSpPr>
            <p:cNvPr id="347" name="Line 10"/>
            <p:cNvSpPr/>
            <p:nvPr/>
          </p:nvSpPr>
          <p:spPr>
            <a:xfrm flipV="1">
              <a:off x="826920" y="2276640"/>
              <a:ext cx="1008360" cy="793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 rot="10800000">
              <a:off x="826560" y="2276640"/>
              <a:ext cx="1008360" cy="79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84720" y="2349000"/>
            <a:ext cx="792000" cy="360"/>
            <a:chOff x="4284720" y="2349000"/>
            <a:chExt cx="792000" cy="360"/>
          </a:xfrm>
        </p:grpSpPr>
        <p:sp>
          <p:nvSpPr>
            <p:cNvPr id="350" name="Line 11"/>
            <p:cNvSpPr/>
            <p:nvPr/>
          </p:nvSpPr>
          <p:spPr>
            <a:xfrm>
              <a:off x="4284720" y="234936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10800000">
              <a:off x="4284720" y="234900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26920" y="4365720"/>
            <a:ext cx="1009800" cy="718920"/>
            <a:chOff x="826920" y="4365720"/>
            <a:chExt cx="1009800" cy="718920"/>
          </a:xfrm>
        </p:grpSpPr>
        <p:sp>
          <p:nvSpPr>
            <p:cNvPr id="353" name="Line 12"/>
            <p:cNvSpPr/>
            <p:nvPr/>
          </p:nvSpPr>
          <p:spPr>
            <a:xfrm>
              <a:off x="826920" y="4365720"/>
              <a:ext cx="1009800" cy="718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26920" y="4365720"/>
              <a:ext cx="100980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55640" y="5013000"/>
            <a:ext cx="864000" cy="360"/>
            <a:chOff x="4355640" y="5013000"/>
            <a:chExt cx="864000" cy="360"/>
          </a:xfrm>
        </p:grpSpPr>
        <p:sp>
          <p:nvSpPr>
            <p:cNvPr id="356" name="Line 13"/>
            <p:cNvSpPr/>
            <p:nvPr/>
          </p:nvSpPr>
          <p:spPr>
            <a:xfrm>
              <a:off x="4356000" y="501336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 rot="10800000">
              <a:off x="4355640" y="5013000"/>
              <a:ext cx="86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1:5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29Z</dcterms:modified>
  <cp:revision>1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