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FBA-A168-4F52-A0A2-338FB284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683-13FE-4133-9A06-95141DA7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578-C96F-4F2E-9151-D79B5F57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F7C-0E2E-436D-86DE-634BCBE3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F9BE-DC41-47B9-BE68-DC1A29A6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13AE-BB59-4A4E-AE15-E60F9F0B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F04A-B8BF-4B35-86D2-8D307346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A76D-EA23-4758-AF88-DB09691A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6E7D-6CB2-4EA6-BDAF-1BA18910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D702-74D5-4122-80FF-8A98F51D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6734-226B-4035-8029-CEA5FCD8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69A-7A4B-4265-891D-E54F27D5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CAB9-9D15-420F-8391-5A4CE154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5107-B2A3-4CD3-BD65-50C4F3F3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2E2D-89C0-4AFB-88B2-54DB0E42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A746-C3BF-4141-81DE-7686FC34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041F-C429-44DE-AD84-C06421E7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3B0-2879-4DE6-AF4E-752DFE35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128-1A3F-4A19-80B7-996CD97F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9E6-C446-43A1-AA8C-BF2EBF16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FE7-DB88-4282-9D00-E3286676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5A7-BA34-4DF0-A5AF-B324BFC5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064-0AFE-46D1-8D87-A682CC20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192-2834-451C-86E1-E09A3ECD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F812-3871-4550-BA89-C835A1623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37B3-AADF-43A5-AC47-BE1AAA549E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716040" y="2282760"/>
            <a:ext cx="7843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物质发生了什么变化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PPT</a:t>
            </a:r>
            <a:r>
              <a:rPr b="1" i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课件下载</a:t>
            </a:r>
            <a:endParaRPr b="1" i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1644480" y="577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科版六年级科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R{HUB_SZ~ZRC6`TW8O1MM4O"/>
          <p:cNvPicPr/>
          <p:nvPr/>
        </p:nvPicPr>
        <p:blipFill>
          <a:blip r:embed="rId1"/>
          <a:stretch/>
        </p:blipFill>
        <p:spPr>
          <a:xfrm>
            <a:off x="795240" y="928800"/>
            <a:ext cx="7553520" cy="5000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I0UWZ`2%K9S8~Z$3}$%M[G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50920" y="1773360"/>
            <a:ext cx="2233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588000" y="90792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新的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124000" y="83664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物质发生了什么变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58920" y="2492280"/>
          <a:ext cx="7634160" cy="3606840"/>
        </p:xfrm>
        <a:graphic>
          <a:graphicData uri="http://schemas.openxmlformats.org/drawingml/2006/table">
            <a:tbl>
              <a:tblPr/>
              <a:tblGrid>
                <a:gridCol w="3817800"/>
                <a:gridCol w="3816360"/>
              </a:tblGrid>
              <a:tr h="51840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热白糖实验观察记录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验过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白糖的特点描述记录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热前的白糖观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热中的白糖观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热后的白糖观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的结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把加热后的白糖与加热前的比较，我们发现它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填“有”或“没有”）明显的变化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填“有”或“没有”）新物质产生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371600" y="12952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我们把白糖加热后，白色的糖变为黑色的炭，产生了新物质的变化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化学变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。像沙和豆子混合，没有产生新物质，沙是沙、豆是豆的变化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物理变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@7DFVF55%7FPZ``D6Z[U6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$I%36Z1196`9H3A5~~6LTL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G{ZIC9L)JXS(_8J}SDN}`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EX3Z1Q%U))6]6{TUZ@MH8I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838080" y="54100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有没有新物质产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371600" y="184644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琥珀"/>
              </a:rPr>
              <a:t>蜡烛有哪些变化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8199"/>
          <p:cNvSpPr/>
          <p:nvPr/>
        </p:nvSpPr>
        <p:spPr>
          <a:xfrm>
            <a:off x="1047600" y="338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84360" y="1989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本课要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74720" y="2666880"/>
            <a:ext cx="7812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物质变化可划分为物理变化和化学变化两类，它们的区别在于是不是产生了新的物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一些物质在变化过程中，既发生化学变化又发生物理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124000" y="83664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物质发生了什么变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4000" y="1052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50920" y="2068560"/>
            <a:ext cx="88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把沙和豆子混合轻轻搅拌豆子发生变化了吗？（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没有明显变化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变成了其他物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豆子发芽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用蜡烛火焰加热调羹中的白糖，白糖会（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变成液态的糖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变成水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用蜡烛火焰加热白糖的过程中，白糖会发生（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物理变化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化学变化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物理变化和化学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蜡烛在燃烧的过程中先熔化成蜡烛油。这种变化属于（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物理变化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化学变化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物理变化和化学变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24000" y="83664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物质发生了什么变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236360" y="220500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301080" y="321300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956280" y="422100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172720" y="52293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304920" y="1143000"/>
            <a:ext cx="883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物质的变化是怎样发生的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物质之间相互混合，会发生变化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9250-E6C7-40E5-914A-5457223131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898560" y="1484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连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479240" y="2984400"/>
            <a:ext cx="112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物理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化学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075040" y="685800"/>
            <a:ext cx="51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物质发生了什么变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823000" y="2276640"/>
            <a:ext cx="1860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铁钉生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木头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水结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铁丝弯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大米煮成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食盐溶解于水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771640" y="2707920"/>
            <a:ext cx="2664000" cy="2305080"/>
            <a:chOff x="2771640" y="2707920"/>
            <a:chExt cx="2664000" cy="2305080"/>
          </a:xfrm>
        </p:grpSpPr>
        <p:sp>
          <p:nvSpPr>
            <p:cNvPr id="134" name="Line 6"/>
            <p:cNvSpPr/>
            <p:nvPr/>
          </p:nvSpPr>
          <p:spPr>
            <a:xfrm flipV="1">
              <a:off x="2771640" y="2707920"/>
              <a:ext cx="2664000" cy="230508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 rot="10800000">
              <a:off x="2771640" y="2707920"/>
              <a:ext cx="2664000" cy="23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771280" y="3284640"/>
            <a:ext cx="2737440" cy="1728720"/>
            <a:chOff x="2771280" y="3284640"/>
            <a:chExt cx="2737440" cy="1728720"/>
          </a:xfrm>
        </p:grpSpPr>
        <p:sp>
          <p:nvSpPr>
            <p:cNvPr id="137" name="Line 7"/>
            <p:cNvSpPr/>
            <p:nvPr/>
          </p:nvSpPr>
          <p:spPr>
            <a:xfrm flipV="1">
              <a:off x="2771640" y="3284640"/>
              <a:ext cx="2737080" cy="172872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10800000">
              <a:off x="2771280" y="3284640"/>
              <a:ext cx="2737080" cy="172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00360" y="3141720"/>
            <a:ext cx="2663640" cy="718920"/>
            <a:chOff x="2700360" y="3141720"/>
            <a:chExt cx="2663640" cy="718920"/>
          </a:xfrm>
        </p:grpSpPr>
        <p:sp>
          <p:nvSpPr>
            <p:cNvPr id="140" name="Line 8"/>
            <p:cNvSpPr/>
            <p:nvPr/>
          </p:nvSpPr>
          <p:spPr>
            <a:xfrm>
              <a:off x="2700360" y="3141720"/>
              <a:ext cx="2663640" cy="71892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2700360" y="3141720"/>
              <a:ext cx="2663640" cy="71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29080" y="3141720"/>
            <a:ext cx="2734920" cy="1295280"/>
            <a:chOff x="2629080" y="3141720"/>
            <a:chExt cx="2734920" cy="1295280"/>
          </a:xfrm>
        </p:grpSpPr>
        <p:sp>
          <p:nvSpPr>
            <p:cNvPr id="143" name="Line 9"/>
            <p:cNvSpPr/>
            <p:nvPr/>
          </p:nvSpPr>
          <p:spPr>
            <a:xfrm>
              <a:off x="2629080" y="3141720"/>
              <a:ext cx="2734920" cy="129528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2629080" y="3141720"/>
              <a:ext cx="273492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700360" y="5013360"/>
            <a:ext cx="2663640" cy="360"/>
            <a:chOff x="2700360" y="5013360"/>
            <a:chExt cx="2663640" cy="360"/>
          </a:xfrm>
        </p:grpSpPr>
        <p:sp>
          <p:nvSpPr>
            <p:cNvPr id="146" name="Line 10"/>
            <p:cNvSpPr/>
            <p:nvPr/>
          </p:nvSpPr>
          <p:spPr>
            <a:xfrm>
              <a:off x="2700360" y="5013360"/>
              <a:ext cx="2663640" cy="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700360" y="5013360"/>
              <a:ext cx="26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627280" y="3213000"/>
            <a:ext cx="2808360" cy="2376720"/>
            <a:chOff x="2627280" y="3213000"/>
            <a:chExt cx="2808360" cy="2376720"/>
          </a:xfrm>
        </p:grpSpPr>
        <p:sp>
          <p:nvSpPr>
            <p:cNvPr id="149" name="Line 11"/>
            <p:cNvSpPr/>
            <p:nvPr/>
          </p:nvSpPr>
          <p:spPr>
            <a:xfrm>
              <a:off x="2627280" y="3213000"/>
              <a:ext cx="2808360" cy="237672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627280" y="3213000"/>
              <a:ext cx="2808360" cy="23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3808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琥珀"/>
              </a:rPr>
              <a:t>混合沙和豆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IMG_20140316_182742-1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0" y="1447920"/>
            <a:ext cx="3429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沙和豆子各自的特点（忽略颜色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沙的特点：细小颗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豆子的特点：大颗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50920" y="1773360"/>
            <a:ext cx="2233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781680" y="9111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新的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981080" y="78912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物质发生了什么变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0000" y="2421000"/>
          <a:ext cx="7416720" cy="3746520"/>
        </p:xfrm>
        <a:graphic>
          <a:graphicData uri="http://schemas.openxmlformats.org/drawingml/2006/table">
            <a:tbl>
              <a:tblPr/>
              <a:tblGrid>
                <a:gridCol w="2158920"/>
                <a:gridCol w="2521080"/>
                <a:gridCol w="2736720"/>
              </a:tblGrid>
              <a:tr h="518400">
                <a:tc grid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沙和豆子的混合实验记录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验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沙的特点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豆子的特点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混合前观察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充分混合后观察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筛网分离后观察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得出的结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把分离后的沙和豆子与混合前的沙和豆子比较，我们发现它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填“有”或“没有”）明显的变化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填“有”或“没有”）新物质产生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1295280"/>
            <a:ext cx="7924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琥珀"/>
              </a:rPr>
              <a:t>混合后沙发生变化了吗？豆子发生变化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琥珀"/>
              </a:rPr>
              <a:t>将他们的混合物用筛网分离，与原来的比较发生变化了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38080" y="518148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琥珀"/>
              </a:rPr>
              <a:t>没有明显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8088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琥珀"/>
              </a:rPr>
              <a:t>观察白糖的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4QUH_FA`)3_L])WJI)_@T@V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%E@VL@Y4H%%VWEMR6OE$8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6AL7{E5$D4EY26KBBGF0AO1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8199"/>
          <p:cNvSpPr/>
          <p:nvPr/>
        </p:nvSpPr>
        <p:spPr>
          <a:xfrm>
            <a:off x="1606680" y="222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SR}D@(VDQ%RUP]I7$G(%2F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2:02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27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