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5.jpeg" ContentType="image/jpeg"/>
  <Override PartName="/ppt/media/image1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wmf" ContentType="image/x-wmf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98E8-CD0B-4236-B2C0-1AD14D8CA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F96A-2BE5-4C73-9822-D2A316B5D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1878-0A71-43AA-A1E4-4C5F7D423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998B-EFF9-4780-837C-A71DCDE47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B56E1-367F-49D5-B7BB-4A847FDF4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BF08A-A4AC-4D3C-BA11-63A1C1839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46572-7952-4B35-A193-3907B62C8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E0179-BD5C-4657-81F5-69CE8FA75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25CE8-7989-46F3-9D55-2A01DD52F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B50B7-145B-4B1D-BE28-D0DEFC9E1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71AAC-BE9B-4719-8F04-8B0436875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5F5F-805E-4869-97EB-73D4DE823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EE9B2-7F2E-4134-B481-7D979610B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88B3E-B803-47E5-83AE-EE1F69F94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4521E-327B-48F9-980E-E834AB17E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FBEBC-67EB-40FA-979B-559C64DB2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9C2AE-E737-4DD8-87B6-9CAC54C80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FB1D-80A9-488C-A94C-FCB07649C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BFA4-E1E0-4F0F-A024-F15A3D182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62E1-C63E-47B6-B92E-0906212E7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5430-88BD-4E39-96C8-D624BA471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0B1D-8CF2-4ADC-88E2-504530397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7D76-67B6-47C0-996C-C928D8935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B743-D566-4C20-BBB4-FCBE8D45B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01D32-AF8E-4311-BE35-0049D959DC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E7A98-7250-424A-9866-2B9D155B279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WordArt 2"/>
          <p:cNvSpPr txBox="1"/>
          <p:nvPr/>
        </p:nvSpPr>
        <p:spPr>
          <a:xfrm>
            <a:off x="3274920" y="2925720"/>
            <a:ext cx="460224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我最好的老师</a:t>
            </a:r>
            <a:r>
              <a:rPr b="1" lang="en-US" sz="4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PPT</a:t>
            </a:r>
            <a:r>
              <a:rPr b="1" lang="zh-CN" sz="4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课件下载</a:t>
            </a:r>
            <a:endParaRPr b="1" lang="en-US" sz="40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83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" descr="96_G7TTLjTg0ePB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3"/>
          <p:cNvSpPr/>
          <p:nvPr/>
        </p:nvSpPr>
        <p:spPr>
          <a:xfrm>
            <a:off x="1143000" y="106668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隶书"/>
              </a:rPr>
              <a:t>      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隶书"/>
              </a:rPr>
              <a:t>怀特森先生让我还有我的同学明白了一个重要的道理：不要迷信书本，也不要迷信权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1066680" y="3048120"/>
            <a:ext cx="701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楷体_GB2312"/>
              </a:rPr>
              <a:t>       </a:t>
            </a:r>
            <a:r>
              <a:rPr b="0" lang="zh-CN" sz="3600" spc="-1" strike="noStrike">
                <a:solidFill>
                  <a:srgbClr val="993300"/>
                </a:solidFill>
                <a:latin typeface="Arial"/>
                <a:ea typeface="华文新魏"/>
              </a:rPr>
              <a:t>书本、权威，代表的是已有的、被大多数人认可和接受的知识。句子中的两个“不要迷信”强调的是一种怀疑的精神，强调要通过独立的思考去获取知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文本框 8199"/>
          <p:cNvSpPr/>
          <p:nvPr/>
        </p:nvSpPr>
        <p:spPr>
          <a:xfrm>
            <a:off x="2411280" y="62064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2" descr="105_uPRau6FR220k"/>
          <p:cNvPicPr/>
          <p:nvPr/>
        </p:nvPicPr>
        <p:blipFill>
          <a:blip r:embed="rId1">
            <a:lum bright="4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3"/>
          <p:cNvSpPr/>
          <p:nvPr/>
        </p:nvSpPr>
        <p:spPr>
          <a:xfrm>
            <a:off x="1066680" y="1981080"/>
            <a:ext cx="7239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800" spc="-1" strike="noStrike">
                <a:solidFill>
                  <a:srgbClr val="cc0066"/>
                </a:solidFill>
                <a:latin typeface="Arial"/>
              </a:rPr>
              <a:t>科学需要怀疑，需要“冒险”，需要挑战，只有这样我们才会拥有善于发现、探求真知的能力。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DD2F2-FB04-4C9A-9B71-47E36C60A58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2" descr="dm7le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WordArt 3"/>
          <p:cNvSpPr txBox="1"/>
          <p:nvPr/>
        </p:nvSpPr>
        <p:spPr>
          <a:xfrm rot="5400000">
            <a:off x="190440" y="2019240"/>
            <a:ext cx="3809880" cy="22096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99"/>
                  </a:solidFill>
                  <a:round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隶书"/>
              </a:rPr>
              <a:t>再见</a:t>
            </a:r>
            <a:endParaRPr b="0" lang="en-US" sz="1800" spc="1" strike="noStrike">
              <a:ln w="12600">
                <a:solidFill>
                  <a:srgbClr val="000099"/>
                </a:solidFill>
                <a:round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"/>
                            </p:stCondLst>
                            <p:childTnLst>
                              <p:par>
                                <p:cTn id="140" dur="indefinite" nodeType="afterEffect" fill="hold" presetClass="emph" presetID="23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4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4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4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4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矩形 5"/>
          <p:cNvSpPr/>
          <p:nvPr/>
        </p:nvSpPr>
        <p:spPr>
          <a:xfrm>
            <a:off x="2124000" y="90792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6089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20040902153239_03_1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" descr="003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Text Box 3"/>
          <p:cNvSpPr/>
          <p:nvPr/>
        </p:nvSpPr>
        <p:spPr>
          <a:xfrm>
            <a:off x="1371600" y="1523880"/>
            <a:ext cx="67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8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8080"/>
                </a:solidFill>
                <a:latin typeface="黑体"/>
                <a:ea typeface="黑体"/>
              </a:rPr>
              <a:t>同学们，请大家回忆一下。从小学一年级起，到目前为止，一共有多少位老师教过你们？在诸多老师中，又有哪些是令你终身难忘的呢？ 今天，我们来认识一位特别的老师，来学习</a:t>
            </a:r>
            <a:r>
              <a:rPr b="1" lang="en-US" sz="3600" spc="-1" strike="noStrike">
                <a:solidFill>
                  <a:srgbClr val="008080"/>
                </a:solidFill>
                <a:latin typeface="Arial"/>
                <a:ea typeface="黑体"/>
              </a:rPr>
              <a:t>——</a:t>
            </a:r>
            <a:r>
              <a:rPr b="1" lang="en-US" sz="3600" spc="-1" strike="noStrike">
                <a:solidFill>
                  <a:srgbClr val="008080"/>
                </a:solidFill>
                <a:latin typeface="黑体"/>
                <a:ea typeface="黑体"/>
              </a:rPr>
              <a:t>《</a:t>
            </a:r>
            <a:r>
              <a:rPr b="1" lang="zh-CN" sz="3600" spc="-1" strike="noStrike">
                <a:solidFill>
                  <a:srgbClr val="008080"/>
                </a:solidFill>
                <a:latin typeface="黑体"/>
                <a:ea typeface="黑体"/>
              </a:rPr>
              <a:t>我最好的老师</a:t>
            </a:r>
            <a:r>
              <a:rPr b="1" lang="en-US" sz="3600" spc="-1" strike="noStrike">
                <a:solidFill>
                  <a:srgbClr val="008080"/>
                </a:solidFill>
                <a:latin typeface="黑体"/>
                <a:ea typeface="黑体"/>
              </a:rPr>
              <a:t>》</a:t>
            </a:r>
            <a:r>
              <a:rPr b="1" lang="zh-CN" sz="3600" spc="-1" strike="noStrike">
                <a:solidFill>
                  <a:srgbClr val="008080"/>
                </a:solidFill>
                <a:latin typeface="黑体"/>
                <a:ea typeface="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063ck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MCj02389810000[1]"/>
          <p:cNvPicPr/>
          <p:nvPr/>
        </p:nvPicPr>
        <p:blipFill>
          <a:blip r:embed="rId2"/>
          <a:stretch/>
        </p:blipFill>
        <p:spPr>
          <a:xfrm>
            <a:off x="7086600" y="5410080"/>
            <a:ext cx="1798560" cy="1254240"/>
          </a:xfrm>
          <a:prstGeom prst="rect">
            <a:avLst/>
          </a:prstGeom>
          <a:ln w="0">
            <a:noFill/>
          </a:ln>
        </p:spPr>
      </p:pic>
      <p:sp>
        <p:nvSpPr>
          <p:cNvPr id="97" name="Text Box 4"/>
          <p:cNvSpPr/>
          <p:nvPr/>
        </p:nvSpPr>
        <p:spPr>
          <a:xfrm>
            <a:off x="1295280" y="1523880"/>
            <a:ext cx="71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课文主要讲了一件什么事？“我”最好的老师是一位怎么样的老师？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2514600" y="457200"/>
            <a:ext cx="3962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33399"/>
                </a:solidFill>
                <a:latin typeface="Arial"/>
                <a:ea typeface="黑体"/>
              </a:rPr>
              <a:t>整体感知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6" descr="20049159866"/>
          <p:cNvPicPr/>
          <p:nvPr/>
        </p:nvPicPr>
        <p:blipFill>
          <a:blip r:embed="rId3"/>
          <a:stretch/>
        </p:blipFill>
        <p:spPr>
          <a:xfrm>
            <a:off x="228600" y="152280"/>
            <a:ext cx="1523880" cy="243864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7"/>
          <p:cNvSpPr/>
          <p:nvPr/>
        </p:nvSpPr>
        <p:spPr>
          <a:xfrm>
            <a:off x="1523880" y="2895480"/>
            <a:ext cx="6782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（课文讲述了</a:t>
            </a:r>
            <a:r>
              <a:rPr b="1" lang="zh-CN" sz="3200" spc="-1" strike="noStrike">
                <a:solidFill>
                  <a:srgbClr val="6600ff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我</a:t>
            </a:r>
            <a:r>
              <a:rPr b="1" lang="zh-CN" sz="3200" spc="-1" strike="noStrike">
                <a:solidFill>
                  <a:srgbClr val="6600ff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六年级时的科学课老师怀特森先生的故事。他是一个很有个性的人，教学方法独特，他用出乎意料的方法让我还有我的同学明白了一个重要的道理：不迷信书本、也不要不迷信权威。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文本框 8199"/>
          <p:cNvSpPr/>
          <p:nvPr/>
        </p:nvSpPr>
        <p:spPr>
          <a:xfrm>
            <a:off x="234000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4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5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" descr="40_KJEbcEkIvJJm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609480" y="1218960"/>
            <a:ext cx="792504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出人意料：超出人们的意料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侃侃而谈：理直气壮、从容不迫地说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目瞪口呆：形容因吃惊或害怕而发愣的样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破绽：比喻说话做事时露出的漏洞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饶有趣味：饶：丰富，多；指很有趣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WordArt 4"/>
          <p:cNvSpPr txBox="1"/>
          <p:nvPr/>
        </p:nvSpPr>
        <p:spPr>
          <a:xfrm>
            <a:off x="3505320" y="457200"/>
            <a:ext cx="1828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词语理解</a:t>
            </a:r>
            <a:endParaRPr b="0" lang="en-US" sz="1800" spc="1" strike="noStrike">
              <a:ln w="12600">
                <a:solidFill>
                  <a:srgbClr val="3333cc"/>
                </a:solidFill>
                <a:round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" dur="2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9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2" descr="pp2007030111314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228600" y="1828800"/>
            <a:ext cx="8610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6600cc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）一次测验，我们按照课堂笔记回答的每一道题，都被画上了红叉叉，我们都得了零分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6600cc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）老师讲课的信息都是错误的，我们做的课堂笔记也是错误的信息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6600cc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）课堂上传看的猫猬兽的头盖骨也只是普通的猫的颅骨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6600cc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）希望我们多去发现问题，大胆提出来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6600cc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）科学课对于我们来说就成了一种“冒险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609480" y="415800"/>
            <a:ext cx="80773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ff00ff"/>
                </a:solidFill>
                <a:latin typeface="宋体"/>
              </a:rPr>
              <a:t>作者用哪些事实说明怀特森先生是我最好的老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"/>
                            </p:stCondLst>
                            <p:childTnLst>
                              <p:par>
                                <p:cTn id="74" dur="indefinite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"/>
                            </p:stCondLst>
                            <p:childTnLst>
                              <p:par>
                                <p:cTn id="79" dur="indefinite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1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3"/>
                            </p:stCondLst>
                            <p:childTnLst>
                              <p:par>
                                <p:cTn id="83" dur="indefinite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4"/>
                            </p:stCondLst>
                            <p:childTnLst>
                              <p:par>
                                <p:cTn id="89" dur="indefinite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9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2" descr="78930892"/>
          <p:cNvPicPr/>
          <p:nvPr/>
        </p:nvPicPr>
        <p:blipFill>
          <a:blip r:embed="rId1">
            <a:lum bright="4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3"/>
          <p:cNvSpPr/>
          <p:nvPr/>
        </p:nvSpPr>
        <p:spPr>
          <a:xfrm>
            <a:off x="990720" y="91440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隶书"/>
              </a:rPr>
              <a:t>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隶书"/>
              </a:rPr>
              <a:t>①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他说，每一个人都应该具有独立思考和独立判断事物真伪的能力，同时也应该具有怀疑的能力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990720" y="304812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  <a:ea typeface="楷体_GB2312"/>
              </a:rPr>
              <a:t>        </a:t>
            </a:r>
            <a:r>
              <a:rPr b="0" lang="zh-CN" sz="3600" spc="-1" strike="noStrike">
                <a:solidFill>
                  <a:srgbClr val="993300"/>
                </a:solidFill>
                <a:latin typeface="Arial"/>
                <a:ea typeface="华文新魏"/>
              </a:rPr>
              <a:t>这是怀特森老师通过这一堂关于“猫猬兽”的课，想要告诉学生的一个道理。一个人不能人云亦云，不能轻信老师和专家的说法，要敢于怀疑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8T14:24:09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51:16Z</dcterms:modified>
  <cp:revision>6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