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363-B31F-4A3A-9343-BF3682A8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15A-750D-45E8-B30F-9D519913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DDD-3805-47CE-9AF9-78241FEF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9DE-5BE2-4482-BC16-DDE902DA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29F0-6AC1-44F6-B82F-FE74ECFF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23B3-7D84-458A-88DA-285AF42C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4D50-4D76-4776-919B-3965C57C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170C-C07F-49C1-A16C-B3ADA7E8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4A48-9D70-432E-BB25-B698DB96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FD58-52C3-4110-A447-E34024BA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3774-DEB5-46AA-913B-D8376EB1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CF7-CDC9-4ADE-8AEA-448B715A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6ECE-18A6-4046-AF1C-2194973E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F922-248F-40E3-AEFB-BBD95D95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DC04-A296-4A48-A3EF-0FB390D5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6FD0-5CE4-4CE0-917B-4EA3E20D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FC5B-52D4-4E00-89ED-764B0B1F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D63-25E5-4F70-93EB-EE774318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44F-8BBB-47D8-A5AB-23745419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AE1-55B4-4277-9B9D-DED54279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48F-E2A8-49B6-9ACF-B963824F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9A3-C0F9-43D5-AA57-224F93E7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DBA-AB78-4A1D-928C-C54C043A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A30-E26A-4F48-BA04-4870A6E9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7EA4-F427-4D2D-9909-EA2A12BD6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C0DE-0099-46BC-B59C-2528E50FC1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new_p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131840" y="1500120"/>
            <a:ext cx="688032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第四课  老师伴我成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宋体"/>
              </a:rPr>
              <a:t>我知我师我爱我师课件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4360" y="5296680"/>
            <a:ext cx="7488000" cy="703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老师的职业是什么？老师对于我们的成长意味着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172320" y="260280"/>
            <a:ext cx="1582920" cy="794880"/>
          </a:xfrm>
          <a:prstGeom prst="rect">
            <a:avLst/>
          </a:prstGeom>
          <a:gradFill rotWithShape="0">
            <a:gsLst>
              <a:gs pos="0">
                <a:srgbClr val="33cccc">
                  <a:alpha val="40000"/>
                </a:srgbClr>
              </a:gs>
              <a:gs pos="100000">
                <a:srgbClr val="185e5e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00"/>
                </a:solidFill>
                <a:latin typeface="Verdana"/>
                <a:ea typeface="黑体"/>
              </a:rPr>
              <a:t>探究题目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84360" y="1268280"/>
            <a:ext cx="7704000" cy="13122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在知识学习中，计算机多媒体与网络信息技术能够取代老师的作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4360" y="3141720"/>
            <a:ext cx="7600680" cy="703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在未来社会里，教师职业及至学校会消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250920" y="333360"/>
            <a:ext cx="867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墨西哥许多教育界人士都对这种教学方法非常看好。他们认为，电视教学可能成为今后墨西哥初中教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级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级）最有效的手段。一个教室仅需一台电视机，一个年级只需要一两名导师，就能上课了，而在传统的中学，一个年级可能需要几十名老师，此外还要建各种实验室、体育馆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起传统的教学方式，“电视中学”大大降低了成本。据悉，一个接受传统教育的墨西哥中学生一年花费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美元，而上“电视中学”的花费仅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美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并非所有人认同这种教学方式。墨西哥中学教育专家桑托斯说，在全国性的标准化考试中，许多“电视中学”的学生成绩都不太理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的“电视中学”考生未能通过全国性的毕业考试，而传统的中学学生不及格率仅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。农村地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级的“电视生”在阅读测试时，成绩还不如城里的小学二年级学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8"/>
          <p:cNvSpPr txBox="1"/>
          <p:nvPr/>
        </p:nvSpPr>
        <p:spPr>
          <a:xfrm>
            <a:off x="324000" y="3284640"/>
            <a:ext cx="720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弊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WordArt 9"/>
          <p:cNvSpPr txBox="1"/>
          <p:nvPr/>
        </p:nvSpPr>
        <p:spPr>
          <a:xfrm>
            <a:off x="0" y="0"/>
            <a:ext cx="720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利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2592360" y="533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666880" y="76212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179280" y="189000"/>
            <a:ext cx="649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教师的作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402920" y="1197000"/>
            <a:ext cx="576720" cy="487440"/>
            <a:chOff x="1402920" y="1197000"/>
            <a:chExt cx="576720" cy="487440"/>
          </a:xfrm>
        </p:grpSpPr>
        <p:sp>
          <p:nvSpPr>
            <p:cNvPr id="119" name="Line 12"/>
            <p:cNvSpPr/>
            <p:nvPr/>
          </p:nvSpPr>
          <p:spPr>
            <a:xfrm flipV="1">
              <a:off x="1403280" y="1197000"/>
              <a:ext cx="576360" cy="487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10800000">
              <a:off x="1402920" y="1197000"/>
              <a:ext cx="576360" cy="48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403280" y="2060640"/>
            <a:ext cx="576360" cy="503280"/>
            <a:chOff x="1403280" y="2060640"/>
            <a:chExt cx="576360" cy="503280"/>
          </a:xfrm>
        </p:grpSpPr>
        <p:sp>
          <p:nvSpPr>
            <p:cNvPr id="122" name="Line 13"/>
            <p:cNvSpPr/>
            <p:nvPr/>
          </p:nvSpPr>
          <p:spPr>
            <a:xfrm>
              <a:off x="1403280" y="206064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403280" y="2060640"/>
              <a:ext cx="576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14"/>
          <p:cNvSpPr/>
          <p:nvPr/>
        </p:nvSpPr>
        <p:spPr>
          <a:xfrm>
            <a:off x="2050920" y="47772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拓知识视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教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1979640" y="2060640"/>
            <a:ext cx="16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做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育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本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3635280" y="693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----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3635280" y="2276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----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4932360" y="477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传承人类文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500364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塑造灵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516360" y="1196640"/>
            <a:ext cx="817560" cy="485640"/>
            <a:chOff x="6516360" y="1196640"/>
            <a:chExt cx="817560" cy="485640"/>
          </a:xfrm>
        </p:grpSpPr>
        <p:sp>
          <p:nvSpPr>
            <p:cNvPr id="131" name="Line 20"/>
            <p:cNvSpPr/>
            <p:nvPr/>
          </p:nvSpPr>
          <p:spPr>
            <a:xfrm flipH="1" flipV="1">
              <a:off x="6516360" y="1196640"/>
              <a:ext cx="817560" cy="485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 rot="10800000">
              <a:off x="6516360" y="1196640"/>
              <a:ext cx="817560" cy="48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516720" y="1844640"/>
            <a:ext cx="745920" cy="576360"/>
            <a:chOff x="6516720" y="1844640"/>
            <a:chExt cx="745920" cy="576360"/>
          </a:xfrm>
        </p:grpSpPr>
        <p:sp>
          <p:nvSpPr>
            <p:cNvPr id="134" name="Line 21"/>
            <p:cNvSpPr/>
            <p:nvPr/>
          </p:nvSpPr>
          <p:spPr>
            <a:xfrm flipH="1">
              <a:off x="6516720" y="1844640"/>
              <a:ext cx="745920" cy="57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6516720" y="1844640"/>
              <a:ext cx="74592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22"/>
          <p:cNvSpPr/>
          <p:nvPr/>
        </p:nvSpPr>
        <p:spPr>
          <a:xfrm>
            <a:off x="7451640" y="112392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造就祖国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826920" y="3813840"/>
            <a:ext cx="7777440" cy="55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老师是人类文明的传播者。是老师，教给我们做人的道理，帮助我们掌握科学文化知识和技能。老师被誉为人类灵魂的工程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755640" y="5096520"/>
            <a:ext cx="7846920" cy="55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老师教给我们的是思考问题的方法、让人产生探求知识的愿望。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611280" y="5806440"/>
            <a:ext cx="8102520" cy="56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教育是人与人之间心灵的沟通，是人的精神的生长和充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826920" y="3933720"/>
            <a:ext cx="806472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老师的育人作用在我们的成长过程中发挥着不可替代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6048360" cy="7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．培养人格的老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0920" y="1773000"/>
            <a:ext cx="7993080" cy="44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老师的工作不仅仅只是传授知识。只有人格才能影响人格，只有情感才能唤醒情感。老师的巨大力量在于做出榜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8198"/>
          <p:cNvSpPr/>
          <p:nvPr/>
        </p:nvSpPr>
        <p:spPr>
          <a:xfrm>
            <a:off x="884160" y="16095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1258920" y="62064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隶书"/>
              </a:rPr>
              <a:t>二、评吾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39640" y="1844640"/>
            <a:ext cx="8280360" cy="28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活动：如何评价老师的工作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考：教师工作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教师有什么样的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2740320"/>
            <a:ext cx="763272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有人说，老师是清闲的，有两个假期；有人说，老师是优雅的，一切都显得从容不迫；还有人说，老师是充满闲情逸致的，有霎时间看书读报。而我要说，老师，您辛苦了！忘不了清晨老师陪我们早读，忘不了操场上的风吹日晒，忘不了您诲人不倦的专注神情，也忘不了您灯下认真备课的身影。您认真备好每一堂课，您，我们敬爱的老师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959360" y="5877000"/>
            <a:ext cx="166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认为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5977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．高尚的人格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00360" y="2133360"/>
            <a:ext cx="388908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捧着颗心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不带去半根草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陶行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010534"/>
          <p:cNvPicPr/>
          <p:nvPr/>
        </p:nvPicPr>
        <p:blipFill>
          <a:blip r:embed="rId1"/>
          <a:srcRect l="-1030" t="0" r="0" b="0"/>
          <a:stretch/>
        </p:blipFill>
        <p:spPr>
          <a:xfrm>
            <a:off x="395280" y="1989000"/>
            <a:ext cx="3849840" cy="36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280" y="619200"/>
            <a:ext cx="5761080" cy="79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．夸夸我们的老师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对你影响最深的老师是哪位？把他的才能、品德和你的感受说出来与大家分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制作一张表达对老师的赞美和感激之情的卡片，交由老师收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你心目中的好老师应该是什么样的？在班级开设一处师生关系论坛把你的看法写出来贴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2627280" y="1557360"/>
            <a:ext cx="4176720" cy="360"/>
            <a:chOff x="2627280" y="1557360"/>
            <a:chExt cx="4176720" cy="360"/>
          </a:xfrm>
        </p:grpSpPr>
        <p:sp>
          <p:nvSpPr>
            <p:cNvPr id="154" name="Line 4"/>
            <p:cNvSpPr/>
            <p:nvPr/>
          </p:nvSpPr>
          <p:spPr>
            <a:xfrm>
              <a:off x="2627280" y="155736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627280" y="155736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627280" y="1557360"/>
            <a:ext cx="4176720" cy="360"/>
            <a:chOff x="2627280" y="1557360"/>
            <a:chExt cx="4176720" cy="360"/>
          </a:xfrm>
        </p:grpSpPr>
        <p:sp>
          <p:nvSpPr>
            <p:cNvPr id="157" name="Line 5"/>
            <p:cNvSpPr/>
            <p:nvPr/>
          </p:nvSpPr>
          <p:spPr>
            <a:xfrm>
              <a:off x="2627280" y="1557360"/>
              <a:ext cx="417672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2627280" y="155736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0"/>
          <p:cNvSpPr/>
          <p:nvPr/>
        </p:nvSpPr>
        <p:spPr>
          <a:xfrm>
            <a:off x="3203640" y="620640"/>
            <a:ext cx="2336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隶书"/>
              </a:rPr>
              <a:t>赞吾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258920" y="1700280"/>
            <a:ext cx="55627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隶书"/>
              </a:rPr>
              <a:t>一枝粉笔两袖清风，三尺讲台四季晴雨，加上五脏六腑七嘴八舌九思十想，教必有方，滴滴汗水诚滋桃李满天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隶书"/>
              </a:rPr>
              <a:t>十卷诗赋九章勾股，八索文思七纬地理，连同六艺五经四书三字两雅一心，诲人不倦，点点心血勤育英才泽神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2" descr="chuangyibiankuang2_02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2057400" y="492120"/>
            <a:ext cx="5181480" cy="64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三尺讲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是您一生的轨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白粉笔耕耘着黑土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诠释着您生命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华夏儿女一代一代地延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是父母给予生命生生不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您传乘着知识和文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显示出人生的真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您修好了长长的助跑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让祖国展翅飞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宇宙太空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已留下我们耀眼的足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谢谢您啊！老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651640" y="33336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诗歌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1476360" y="227664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隶书"/>
              </a:rPr>
              <a:t>一、知吾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539640" y="40464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隶书"/>
              </a:rPr>
              <a:t>三、爱吾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971640" y="2852640"/>
            <a:ext cx="35049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隶书"/>
              </a:rPr>
              <a:t>爱师必先尊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762120" y="2057400"/>
            <a:ext cx="7554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问：从程门立雪的故事中，你读懂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762120" y="3733920"/>
            <a:ext cx="7086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问：你还知道其他尊师故事或成语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990720" y="45720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隶书"/>
              </a:rPr>
              <a:t>毛泽东尊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990720" y="5410080"/>
            <a:ext cx="56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隶书"/>
              </a:rPr>
              <a:t>桃李不言，下自成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2004121511115859383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20602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395280" y="1052640"/>
            <a:ext cx="78501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次教师节学校的庆祝活动规模空前，还有抽奖活动助兴。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抽奖得凭运气，但有些东西靠运气是永远也得不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如：教师的社会地位、学生对教师、对知识的真诚和尊重，还有，学生在教师节送给教师的礼物中所包含的一种传统。礼物可以小到一盒手绢，但也让我有意外的惊喜与长久的感动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33520" y="2286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感受韩国的教师节（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15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1600200" y="533520"/>
            <a:ext cx="6781680" cy="178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活动、情景再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老师，谢谢你的帮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219320" y="2819520"/>
            <a:ext cx="7086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你在日常生活中受到过老师的帮助吗？当时老师是怎样帮助你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8198"/>
          <p:cNvSpPr/>
          <p:nvPr/>
        </p:nvSpPr>
        <p:spPr>
          <a:xfrm>
            <a:off x="1219320" y="2484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1220760" y="1560600"/>
            <a:ext cx="8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219320" y="1197000"/>
            <a:ext cx="58672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情境一：你已经很努力了，但成果不是马上就看得见的，相信只要你能坚持，你一定会取得进步的。（学习成绩不理想）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219320" y="3429000"/>
            <a:ext cx="586728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情境二：体育运动很好，老师也很喜欢，你看</a:t>
            </a:r>
            <a:r>
              <a:rPr b="1" lang="en-US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NBA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的各大球星不但球打得好，人人还都是大学生。运动重要，文化基础也很重要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（上课看体育杂志</a:t>
            </a:r>
            <a:r>
              <a:rPr b="1" lang="en-US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/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将大量精力花在打篮球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1220760" y="1560600"/>
            <a:ext cx="8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752480" y="1295280"/>
            <a:ext cx="58676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隶书"/>
                <a:ea typeface="华文隶书"/>
              </a:rPr>
              <a:t>情境三：老师，我的爸妈只关心我的成绩，不是要我上这个补习班，就是那个兴趣班，我很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476360" y="2924280"/>
            <a:ext cx="5340240" cy="311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良师诤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当我们失败时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华文隶书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当我们成功时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华文隶书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当我们犯错误时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华文隶书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当我们骄傲时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华文隶书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1D4D-08DB-4977-98F3-41C0F6FF93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花1"/>
          <p:cNvPicPr/>
          <p:nvPr/>
        </p:nvPicPr>
        <p:blipFill>
          <a:blip r:embed="rId1"/>
          <a:stretch/>
        </p:blipFill>
        <p:spPr>
          <a:xfrm>
            <a:off x="0" y="0"/>
            <a:ext cx="9325080" cy="6669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"/>
          <p:cNvSpPr/>
          <p:nvPr/>
        </p:nvSpPr>
        <p:spPr>
          <a:xfrm>
            <a:off x="1403280" y="177336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诗词歌赋，颂不完对您的崇敬！加减乘除，算不尽您的无私奉献！您用知识的甘泉，浇开我们智慧的花朵；您用心灵的甘露，润育我们情操的美果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chuangyibiankuang2_03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1908000" y="1197000"/>
            <a:ext cx="5761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我给老师画个像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你心目中老师像什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（蜡烛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……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）并说明理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8198"/>
          <p:cNvSpPr/>
          <p:nvPr/>
        </p:nvSpPr>
        <p:spPr>
          <a:xfrm>
            <a:off x="2268360" y="8618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476360" y="1197000"/>
            <a:ext cx="60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  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小活动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猜一猜</a:t>
            </a: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:   </a:t>
            </a: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对教师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称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4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0"/>
            <a:ext cx="9144000" cy="56397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最广泛流行的敬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老师（最悠久的职业，无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        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伦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最历史悠长的尊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先生（对德高望重的老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最富哲理的称谓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-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人类灵魂的工程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最质朴无华的褒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园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最真情感人的爱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慈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最纯挚的称谓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----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春蚕最温馨动人的称谓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蜡烛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最生动形象的默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春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最具中国特色的称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孺子牛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最高评价的专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人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2004121511115859383"/>
          <p:cNvPicPr/>
          <p:nvPr/>
        </p:nvPicPr>
        <p:blipFill>
          <a:blip r:embed="rId1"/>
          <a:stretch/>
        </p:blipFill>
        <p:spPr>
          <a:xfrm>
            <a:off x="0" y="5178600"/>
            <a:ext cx="9144000" cy="1679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952720" cy="2319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518472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日常生活中的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3640" y="1125000"/>
            <a:ext cx="521964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　初中生小辉在日记中写道：“过去语文老师对我好，我愿意听他的课，学习有信心，有奔头，不好好学习起码对不起老师。可是一场误会中错怪了我，让我既怕他又怨他。从此，他讲课我不爱听、也不注意听，语文成绩直线下降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39640" y="4652280"/>
            <a:ext cx="5688000" cy="849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你有过类似的经历和感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770480" y="5589720"/>
            <a:ext cx="40820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师生关系对我们的成长有什么影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05672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黑体"/>
              </a:rPr>
              <a:t>了解你的老师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黑体"/>
              </a:rPr>
              <a:t>教师访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55640" y="15606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老师姓名：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565440" y="1557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年龄：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508720" y="155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任教学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826920" y="2276640"/>
            <a:ext cx="5761080" cy="42894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他（她）这样看待学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他（她）对班级的评价和期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他（她）这样看待所教学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他（她）的兴趣与爱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他（她）最爱读的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5545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黑体"/>
              </a:rPr>
              <a:t>２．信息时代的老师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000" y="1557360"/>
            <a:ext cx="4174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随着信息技术的突飞猛进，现代社会中人们获得知识的途径日益多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pic1.www.rbc.cn/pconline/UP200903/UP20090314/UP20090314252642183104.jpg"/>
          <p:cNvPicPr/>
          <p:nvPr/>
        </p:nvPicPr>
        <p:blipFill>
          <a:blip r:embed="rId1"/>
          <a:stretch/>
        </p:blipFill>
        <p:spPr>
          <a:xfrm>
            <a:off x="4778280" y="1989000"/>
            <a:ext cx="3908520" cy="201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250920" y="1341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周一早上，在墨西哥中部特拉斯卡拉州的阿特利胡埃奇亚小镇上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的曼纽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达米安正聚精会神地看着电视。别以为他是逃学或请假在家，和其他十多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级学生一样，他正穿着蓝色校服，安安静静地坐在教室里上课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课看电视，这在墨西哥可不是什么新鲜事儿，该国有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名的中学生在上课时看电视。电视机扮演着重要角色，它们取代了传统意义上的老师，担任了主要的教学任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电视教学的学校，通过全国性的电视台向学生播放不同科目的课程。“电视老师”一天要给学生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门课，每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每门课之后，学生在导师的带领下做书面练习，并复习学过的内容。现在这种教育方式遍及墨西哥，五分之一的初中生上的是“电视中学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324000" y="260280"/>
            <a:ext cx="8229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材料：墨西哥学生喜欢上了“电视中学”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3:04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35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