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oin.wav" ContentType="audio/x-wav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breeze.wav" ContentType="audio/x-wav"/>
  <Override PartName="/ppt/media/chimes.wav" ContentType="audio/x-wav"/>
  <Override PartName="/ppt/media/image1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1.jpeg" ContentType="image/jpeg"/>
  <Override PartName="/ppt/media/camera.wav" ContentType="audio/x-wav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cashreg.wav" ContentType="audio/x-wav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07E-B9F0-488E-B5BF-1DD31CF7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BF3-F84A-4D56-868D-CEEE5AC5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FF0-B059-4803-9EF8-26C9D7A2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7C0-3D7B-4F73-837D-B28DADAD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DE69-65C1-4DB5-A4D7-B2237B04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0F51-E114-4255-8D0C-C761F618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57AA-F94C-45BB-88C5-868F32D7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4AC6-BFA8-4563-A5B7-AF81B26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097D-C6A0-42DB-8775-CF3A845D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7A5-EE39-4D5C-A9B9-1310EBFA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20BA-7EB4-4E23-9CD6-12A3435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86F-B624-4692-BAD4-089B0D99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9902-54E5-4CEF-BE74-722198B5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48E2-AC68-44BC-8A0C-88543298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06C0-F003-45B4-83F5-560E8DF0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45CD-7794-4916-BC09-231C938A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415B-46A6-40E3-BBF0-45E53B3F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BD4-5A63-4961-A8A1-CAB01BF7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C94-B86C-41E9-B6FA-65941045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282-7A7F-4863-91A6-564BC388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396-AE0C-4F27-8437-0E6D1943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3FA-4C27-4107-BE90-C20B54DC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CE-0CF1-4179-8840-30047F1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2E8-0A7F-412B-871D-C3EEF8F4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7194-F524-4E96-9B81-F6A96E9BC6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505A-6D14-4E57-B389-1CC6A837BE0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739D-9D5C-45D3-AE27-C84F6B65D2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" descr=""/>
          <p:cNvPicPr/>
          <p:nvPr/>
        </p:nvPicPr>
        <p:blipFill>
          <a:blip r:embed="rId1"/>
          <a:stretch/>
        </p:blipFill>
        <p:spPr>
          <a:xfrm>
            <a:off x="1330200" y="2708280"/>
            <a:ext cx="6415200" cy="3071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417680" y="148428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小窗口大世界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836440" y="549360"/>
            <a:ext cx="32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四年级品德与社会下册    通信与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u=3913359381,1990033107&amp;fm=15&amp;gp=0.jpg"/>
          <p:cNvPicPr/>
          <p:nvPr/>
        </p:nvPicPr>
        <p:blipFill>
          <a:blip r:embed="rId1"/>
          <a:stretch/>
        </p:blipFill>
        <p:spPr>
          <a:xfrm>
            <a:off x="785880" y="2786040"/>
            <a:ext cx="1643040" cy="1928880"/>
          </a:xfrm>
          <a:prstGeom prst="rect">
            <a:avLst/>
          </a:prstGeom>
          <a:ln w="0">
            <a:noFill/>
          </a:ln>
        </p:spPr>
      </p:pic>
      <p:sp>
        <p:nvSpPr>
          <p:cNvPr id="113" name="椭圆 2"/>
          <p:cNvSpPr/>
          <p:nvPr/>
        </p:nvSpPr>
        <p:spPr>
          <a:xfrm>
            <a:off x="2571840" y="2428920"/>
            <a:ext cx="28584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4"/>
          <p:cNvSpPr/>
          <p:nvPr/>
        </p:nvSpPr>
        <p:spPr>
          <a:xfrm>
            <a:off x="3071880" y="2000160"/>
            <a:ext cx="561960" cy="295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6"/>
          <p:cNvSpPr/>
          <p:nvPr/>
        </p:nvSpPr>
        <p:spPr>
          <a:xfrm>
            <a:off x="3714840" y="571680"/>
            <a:ext cx="2500200" cy="122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大众媒体与我们的生活息息相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五角星 7"/>
          <p:cNvSpPr/>
          <p:nvPr/>
        </p:nvSpPr>
        <p:spPr>
          <a:xfrm>
            <a:off x="4000680" y="2857680"/>
            <a:ext cx="285480" cy="285480"/>
          </a:xfrm>
          <a:custGeom>
            <a:avLst/>
            <a:gdLst/>
            <a:ahLst/>
            <a:rect l="l" t="t" r="r" b="b"/>
            <a:pathLst>
              <a:path w="285750" h="285750">
                <a:moveTo>
                  <a:pt x="0" y="109146"/>
                </a:moveTo>
                <a:lnTo>
                  <a:pt x="109147" y="109147"/>
                </a:lnTo>
                <a:lnTo>
                  <a:pt x="142875" y="0"/>
                </a:lnTo>
                <a:lnTo>
                  <a:pt x="176602" y="109147"/>
                </a:lnTo>
                <a:lnTo>
                  <a:pt x="285749" y="109146"/>
                </a:lnTo>
                <a:lnTo>
                  <a:pt x="197447" y="176602"/>
                </a:lnTo>
                <a:lnTo>
                  <a:pt x="231176" y="285749"/>
                </a:lnTo>
                <a:lnTo>
                  <a:pt x="142875" y="218292"/>
                </a:lnTo>
                <a:lnTo>
                  <a:pt x="54573" y="285749"/>
                </a:lnTo>
                <a:lnTo>
                  <a:pt x="88302" y="176602"/>
                </a:lnTo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五角星 8"/>
          <p:cNvSpPr/>
          <p:nvPr/>
        </p:nvSpPr>
        <p:spPr>
          <a:xfrm>
            <a:off x="4000680" y="3429000"/>
            <a:ext cx="214200" cy="214200"/>
          </a:xfrm>
          <a:custGeom>
            <a:avLst/>
            <a:gdLst/>
            <a:ahLst/>
            <a:rect l="l" t="t" r="r" b="b"/>
            <a:pathLst>
              <a:path w="214312" h="214312">
                <a:moveTo>
                  <a:pt x="0" y="81859"/>
                </a:moveTo>
                <a:lnTo>
                  <a:pt x="81860" y="81860"/>
                </a:lnTo>
                <a:lnTo>
                  <a:pt x="107156" y="0"/>
                </a:lnTo>
                <a:lnTo>
                  <a:pt x="132451" y="81860"/>
                </a:lnTo>
                <a:lnTo>
                  <a:pt x="214312" y="81859"/>
                </a:lnTo>
                <a:lnTo>
                  <a:pt x="148085" y="132451"/>
                </a:lnTo>
                <a:lnTo>
                  <a:pt x="173382" y="214311"/>
                </a:lnTo>
                <a:lnTo>
                  <a:pt x="107156" y="163719"/>
                </a:lnTo>
                <a:lnTo>
                  <a:pt x="40930" y="214311"/>
                </a:lnTo>
                <a:lnTo>
                  <a:pt x="66226" y="13245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五角星 9"/>
          <p:cNvSpPr/>
          <p:nvPr/>
        </p:nvSpPr>
        <p:spPr>
          <a:xfrm>
            <a:off x="4000680" y="4000680"/>
            <a:ext cx="214200" cy="214200"/>
          </a:xfrm>
          <a:custGeom>
            <a:avLst/>
            <a:gdLst/>
            <a:ahLst/>
            <a:rect l="l" t="t" r="r" b="b"/>
            <a:pathLst>
              <a:path w="214312" h="214312">
                <a:moveTo>
                  <a:pt x="0" y="81859"/>
                </a:moveTo>
                <a:lnTo>
                  <a:pt x="81860" y="81860"/>
                </a:lnTo>
                <a:lnTo>
                  <a:pt x="107156" y="0"/>
                </a:lnTo>
                <a:lnTo>
                  <a:pt x="132451" y="81860"/>
                </a:lnTo>
                <a:lnTo>
                  <a:pt x="214312" y="81859"/>
                </a:lnTo>
                <a:lnTo>
                  <a:pt x="148085" y="132451"/>
                </a:lnTo>
                <a:lnTo>
                  <a:pt x="173382" y="214311"/>
                </a:lnTo>
                <a:lnTo>
                  <a:pt x="107156" y="163719"/>
                </a:lnTo>
                <a:lnTo>
                  <a:pt x="40930" y="214311"/>
                </a:lnTo>
                <a:lnTo>
                  <a:pt x="66226" y="13245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五角星 10"/>
          <p:cNvSpPr/>
          <p:nvPr/>
        </p:nvSpPr>
        <p:spPr>
          <a:xfrm>
            <a:off x="4000680" y="4572000"/>
            <a:ext cx="214200" cy="214200"/>
          </a:xfrm>
          <a:custGeom>
            <a:avLst/>
            <a:gdLst/>
            <a:ahLst/>
            <a:rect l="l" t="t" r="r" b="b"/>
            <a:pathLst>
              <a:path w="214312" h="214312">
                <a:moveTo>
                  <a:pt x="0" y="81859"/>
                </a:moveTo>
                <a:lnTo>
                  <a:pt x="81860" y="81860"/>
                </a:lnTo>
                <a:lnTo>
                  <a:pt x="107156" y="0"/>
                </a:lnTo>
                <a:lnTo>
                  <a:pt x="132451" y="81860"/>
                </a:lnTo>
                <a:lnTo>
                  <a:pt x="214312" y="81859"/>
                </a:lnTo>
                <a:lnTo>
                  <a:pt x="148085" y="132451"/>
                </a:lnTo>
                <a:lnTo>
                  <a:pt x="173382" y="214311"/>
                </a:lnTo>
                <a:lnTo>
                  <a:pt x="107156" y="163719"/>
                </a:lnTo>
                <a:lnTo>
                  <a:pt x="40930" y="214311"/>
                </a:lnTo>
                <a:lnTo>
                  <a:pt x="66226" y="132451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4500720" y="2857680"/>
            <a:ext cx="27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获得各种各样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4500720" y="342900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开阔视野，增长见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4500720" y="400068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满足娱乐需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4643280" y="45007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陶冶情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700" spc="-1" strike="noStrike">
                <a:solidFill>
                  <a:srgbClr val="000000"/>
                </a:solidFill>
                <a:latin typeface="方正舒体"/>
                <a:ea typeface="方正舒体"/>
              </a:rPr>
              <a:t>小窗口大学问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2040" y="242100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恭喜你本手机用户</a:t>
            </a:r>
            <a:r>
              <a:rPr b="0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你的手机号参加本公司抽奖活动获得二等奖</a:t>
            </a:r>
            <a:r>
              <a:rPr b="0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详情请咨询</a:t>
            </a:r>
            <a:r>
              <a:rPr b="0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00068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2" descr="u=2474186532,3232980879&amp;fm=0&amp;gp=0.jpg"/>
          <p:cNvPicPr/>
          <p:nvPr/>
        </p:nvPicPr>
        <p:blipFill>
          <a:blip r:embed="rId1"/>
          <a:stretch/>
        </p:blipFill>
        <p:spPr>
          <a:xfrm>
            <a:off x="3348000" y="1484280"/>
            <a:ext cx="2095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u=2749928243,3448694835&amp;fm=51&amp;gp=0.jpg"/>
          <p:cNvPicPr/>
          <p:nvPr/>
        </p:nvPicPr>
        <p:blipFill>
          <a:blip r:embed="rId1"/>
          <a:stretch/>
        </p:blipFill>
        <p:spPr>
          <a:xfrm>
            <a:off x="1332000" y="1987560"/>
            <a:ext cx="278604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4403880" y="191628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华文琥珀"/>
                <a:ea typeface="华文琥珀"/>
              </a:rPr>
              <a:t>小明：有的文章说苹果皮可以吃，有的文章说苹果皮不能吃，究竟该怎么办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9D89-19BB-4379-9A3B-1938800585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928800" y="178596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华文琥珀"/>
                <a:ea typeface="华文琥珀"/>
              </a:rPr>
              <a:t>     </a:t>
            </a:r>
            <a:r>
              <a:rPr b="0" lang="zh-CN" sz="4000" spc="-1" strike="noStrike">
                <a:solidFill>
                  <a:srgbClr val="00b050"/>
                </a:solidFill>
                <a:latin typeface="华文琥珀"/>
                <a:ea typeface="华文琥珀"/>
              </a:rPr>
              <a:t>利用信息，选择信息，注意分辨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3" descr="u=3867775307,1571392762&amp;fm=51&amp;gp=0.jpg"/>
          <p:cNvPicPr/>
          <p:nvPr/>
        </p:nvPicPr>
        <p:blipFill>
          <a:blip r:embed="rId1"/>
          <a:stretch/>
        </p:blipFill>
        <p:spPr>
          <a:xfrm>
            <a:off x="4357800" y="2857680"/>
            <a:ext cx="20001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u=1989085225,3325616319&amp;fm=52&amp;gp=0.jpg"/>
          <p:cNvPicPr/>
          <p:nvPr/>
        </p:nvPicPr>
        <p:blipFill>
          <a:blip r:embed="rId1"/>
          <a:stretch/>
        </p:blipFill>
        <p:spPr>
          <a:xfrm>
            <a:off x="1908000" y="4149720"/>
            <a:ext cx="2453040" cy="17845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u=3522257215,3078555696&amp;fm=52&amp;gp=0.jpg"/>
          <p:cNvPicPr/>
          <p:nvPr/>
        </p:nvPicPr>
        <p:blipFill>
          <a:blip r:embed="rId2"/>
          <a:stretch/>
        </p:blipFill>
        <p:spPr>
          <a:xfrm>
            <a:off x="4902120" y="4135320"/>
            <a:ext cx="2381400" cy="1710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" descr="u=1041681079,4054260642&amp;fm=51&amp;gp=0.jpg"/>
          <p:cNvPicPr/>
          <p:nvPr/>
        </p:nvPicPr>
        <p:blipFill>
          <a:blip r:embed="rId3"/>
          <a:stretch/>
        </p:blipFill>
        <p:spPr>
          <a:xfrm>
            <a:off x="893880" y="1568520"/>
            <a:ext cx="1647720" cy="1958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116160" y="1589040"/>
            <a:ext cx="41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172c4"/>
                </a:solidFill>
                <a:latin typeface="华文细黑"/>
                <a:ea typeface="华文细黑"/>
              </a:rPr>
              <a:t>    </a:t>
            </a:r>
            <a:r>
              <a:rPr b="0" lang="zh-CN" sz="2400" spc="-1" strike="noStrike">
                <a:solidFill>
                  <a:srgbClr val="3172c4"/>
                </a:solidFill>
                <a:latin typeface="华文细黑"/>
                <a:ea typeface="华文细黑"/>
              </a:rPr>
              <a:t>小红的爸爸想找一份工作，那么想请同学帮帮他，他可以从哪些渠道来了解一些招聘信息，从而顺利的找到工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u=551239365,3475638928&amp;fm=0&amp;gp=0"/>
          <p:cNvPicPr/>
          <p:nvPr/>
        </p:nvPicPr>
        <p:blipFill>
          <a:blip r:embed="rId1"/>
          <a:stretch/>
        </p:blipFill>
        <p:spPr>
          <a:xfrm>
            <a:off x="5021280" y="1482840"/>
            <a:ext cx="2376360" cy="146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u=1371372045,367131822&amp;fm=0&amp;gp=0"/>
          <p:cNvPicPr/>
          <p:nvPr/>
        </p:nvPicPr>
        <p:blipFill>
          <a:blip r:embed="rId2"/>
          <a:stretch/>
        </p:blipFill>
        <p:spPr>
          <a:xfrm>
            <a:off x="1230480" y="4219560"/>
            <a:ext cx="1544400" cy="162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u=2698852380,2127459566&amp;fm=0&amp;gp=0"/>
          <p:cNvPicPr/>
          <p:nvPr/>
        </p:nvPicPr>
        <p:blipFill>
          <a:blip r:embed="rId3"/>
          <a:stretch/>
        </p:blipFill>
        <p:spPr>
          <a:xfrm>
            <a:off x="6659640" y="4290840"/>
            <a:ext cx="1008000" cy="1478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1300000098342122830399168187"/>
          <p:cNvPicPr/>
          <p:nvPr/>
        </p:nvPicPr>
        <p:blipFill>
          <a:blip r:embed="rId4"/>
          <a:stretch/>
        </p:blipFill>
        <p:spPr>
          <a:xfrm>
            <a:off x="844560" y="1625760"/>
            <a:ext cx="2276640" cy="179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u=740956599,3249734311&amp;fm=0&amp;gp=0"/>
          <p:cNvPicPr/>
          <p:nvPr/>
        </p:nvPicPr>
        <p:blipFill>
          <a:blip r:embed="rId5"/>
          <a:stretch/>
        </p:blipFill>
        <p:spPr>
          <a:xfrm>
            <a:off x="3516480" y="3147840"/>
            <a:ext cx="1439640" cy="99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u=1692194983,3044534389&amp;fm=0&amp;gp=0"/>
          <p:cNvPicPr/>
          <p:nvPr/>
        </p:nvPicPr>
        <p:blipFill>
          <a:blip r:embed="rId6"/>
          <a:stretch/>
        </p:blipFill>
        <p:spPr>
          <a:xfrm>
            <a:off x="4587840" y="464832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4"/>
          <p:cNvSpPr/>
          <p:nvPr/>
        </p:nvSpPr>
        <p:spPr>
          <a:xfrm>
            <a:off x="1908000" y="4581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03"/>
          <p:cNvPicPr/>
          <p:nvPr/>
        </p:nvPicPr>
        <p:blipFill>
          <a:blip r:embed="rId1"/>
          <a:stretch/>
        </p:blipFill>
        <p:spPr>
          <a:xfrm>
            <a:off x="900000" y="620640"/>
            <a:ext cx="2422800" cy="6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小博士"/>
          <p:cNvPicPr/>
          <p:nvPr/>
        </p:nvPicPr>
        <p:blipFill>
          <a:blip r:embed="rId2"/>
          <a:stretch/>
        </p:blipFill>
        <p:spPr>
          <a:xfrm>
            <a:off x="1573200" y="2590920"/>
            <a:ext cx="2236680" cy="3581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886200" y="1523880"/>
            <a:ext cx="3962520" cy="2210040"/>
          </a:xfrm>
          <a:prstGeom prst="cloudCallout">
            <a:avLst>
              <a:gd name="adj1" fmla="val -43189"/>
              <a:gd name="adj2" fmla="val 6688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本、报纸、电视、广播、计算机等被称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众传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187280" y="1413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同学们还知道哪些信息渠道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20100425184758-2135858067"/>
          <p:cNvPicPr/>
          <p:nvPr/>
        </p:nvPicPr>
        <p:blipFill>
          <a:blip r:embed="rId1"/>
          <a:stretch/>
        </p:blipFill>
        <p:spPr>
          <a:xfrm>
            <a:off x="2050920" y="2492280"/>
            <a:ext cx="340992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59280" y="2781360"/>
            <a:ext cx="1366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ff66ff"/>
                </a:solidFill>
                <a:latin typeface="Calibri"/>
                <a:ea typeface="宋体"/>
              </a:rPr>
              <a:t>？</a:t>
            </a:r>
            <a:endParaRPr b="0" lang="en-US" sz="1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media.jpg"/>
          <p:cNvPicPr/>
          <p:nvPr/>
        </p:nvPicPr>
        <p:blipFill>
          <a:blip r:embed="rId1"/>
          <a:stretch/>
        </p:blipFill>
        <p:spPr>
          <a:xfrm>
            <a:off x="4714920" y="1857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" descr="u=488613015,3782361279&amp;fm=0&amp;gp=0.jpg"/>
          <p:cNvPicPr/>
          <p:nvPr/>
        </p:nvPicPr>
        <p:blipFill>
          <a:blip r:embed="rId2"/>
          <a:stretch/>
        </p:blipFill>
        <p:spPr>
          <a:xfrm>
            <a:off x="1571760" y="162864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" descr="u=2474186532,3232980879&amp;fm=0&amp;gp=0.jpg"/>
          <p:cNvPicPr/>
          <p:nvPr/>
        </p:nvPicPr>
        <p:blipFill>
          <a:blip r:embed="rId3"/>
          <a:stretch/>
        </p:blipFill>
        <p:spPr>
          <a:xfrm>
            <a:off x="1571760" y="4000680"/>
            <a:ext cx="2571480" cy="1928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5286240" y="464328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6072120" cy="3786120"/>
        </p:xfrm>
        <a:graphic>
          <a:graphicData uri="http://schemas.openxmlformats.org/drawingml/2006/table">
            <a:tbl>
              <a:tblPr/>
              <a:tblGrid>
                <a:gridCol w="1089000"/>
                <a:gridCol w="838080"/>
                <a:gridCol w="965520"/>
                <a:gridCol w="1388880"/>
                <a:gridCol w="1790640"/>
              </a:tblGrid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调查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职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喜欢的大众传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原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我最喜欢的电视节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43040" y="3357360"/>
            <a:ext cx="6200640" cy="17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现场调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042920" y="1773360"/>
          <a:ext cx="6715080" cy="4214520"/>
        </p:xfrm>
        <a:graphic>
          <a:graphicData uri="http://schemas.openxmlformats.org/drawingml/2006/table">
            <a:tbl>
              <a:tblPr/>
              <a:tblGrid>
                <a:gridCol w="671400"/>
                <a:gridCol w="671760"/>
                <a:gridCol w="671400"/>
                <a:gridCol w="671400"/>
                <a:gridCol w="671760"/>
                <a:gridCol w="671400"/>
                <a:gridCol w="671400"/>
                <a:gridCol w="671760"/>
                <a:gridCol w="671400"/>
                <a:gridCol w="6714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节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新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节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动画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动物世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大风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电视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广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星光大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走进科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其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Calibri"/>
                          <a:ea typeface="宋体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0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