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8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4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C49A-981E-435A-9B9A-45099D9BB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98E2-79D4-4DE8-9208-F1312C65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9147-C629-4071-85DF-460695547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1918-D30B-4A77-B4F8-7B5045102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3D94-8BAA-46FC-A471-60521CAA1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E548-B5B1-48A0-ABEE-6A3B75FC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6E2F-DDFB-4304-8D5A-F959AFD5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164F-9731-44C3-91A8-D98112BE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5005A-2D0B-40CA-B7CD-3A3FF4B7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9EC0-96B0-4507-9503-DA240D0C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6ACB-4CA9-43E6-8B36-C64E8DEF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02B5-AF82-4EC4-8ED3-F6B1C958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6D41-BE85-4862-A43F-44BCEFEC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3FF6-A37F-41E2-8C01-43717BFC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0ED4-96F3-45AB-AEA2-B8C640D2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A2CC-2190-42E1-9895-4361283E2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0E95-F3C3-44C5-B1F2-3DEC68B4C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2C58-EACC-410E-AEB7-702F0B4B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D884-1925-4D06-ABF4-73B867AA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0804-ACA6-4807-867A-A9652F44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B8DD-F25D-4B12-A02A-12912A50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47DE-8515-44CB-A0F0-DCD92CA6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BC6D-13DE-4740-A3A9-96078E92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B8B1-AACD-4745-BD3A-90F07171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0411-B30C-40A0-A4D6-9D71806EB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C3A9-A6CD-42BB-8C42-E02F7C2E888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3.jpe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s29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6"/>
          <p:cNvSpPr txBox="1"/>
          <p:nvPr/>
        </p:nvSpPr>
        <p:spPr>
          <a:xfrm>
            <a:off x="606600" y="1654200"/>
            <a:ext cx="715320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8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76320">
                  <a:solidFill>
                    <a:srgbClr val="ffff00"/>
                  </a:solidFill>
                  <a:round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乡愁语文课件</a:t>
            </a:r>
            <a:r>
              <a:rPr b="0" lang="en-US" sz="4000" spc="1" strike="noStrike">
                <a:ln w="76320">
                  <a:solidFill>
                    <a:srgbClr val="ffff00"/>
                  </a:solidFill>
                  <a:round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0" lang="zh-CN" sz="4000" spc="1" strike="noStrike">
                <a:ln w="76320">
                  <a:solidFill>
                    <a:srgbClr val="ffff00"/>
                  </a:solidFill>
                  <a:round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模板打包下载</a:t>
            </a:r>
            <a:endParaRPr b="0" lang="en-US" sz="4000" spc="1" strike="noStrike">
              <a:ln w="76320">
                <a:solidFill>
                  <a:srgbClr val="ffff00"/>
                </a:solidFill>
                <a:round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348000" y="350028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华文中宋"/>
              </a:rPr>
              <a:t>余 </a:t>
            </a:r>
            <a:r>
              <a:rPr b="0" lang="zh-CN" sz="4800" spc="-1" strike="noStrike">
                <a:solidFill>
                  <a:srgbClr val="333399"/>
                </a:solidFill>
                <a:latin typeface="Arial"/>
              </a:rPr>
              <a:t>光 </a:t>
            </a: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华文中宋"/>
              </a:rPr>
              <a:t>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450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m24900"/>
          <p:cNvPicPr/>
          <p:nvPr/>
        </p:nvPicPr>
        <p:blipFill>
          <a:blip r:embed="rId1"/>
          <a:stretch/>
        </p:blipFill>
        <p:spPr>
          <a:xfrm>
            <a:off x="826920" y="1268280"/>
            <a:ext cx="7561440" cy="2305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m24901"/>
          <p:cNvPicPr/>
          <p:nvPr/>
        </p:nvPicPr>
        <p:blipFill>
          <a:blip r:embed="rId2"/>
          <a:stretch/>
        </p:blipFill>
        <p:spPr>
          <a:xfrm>
            <a:off x="755640" y="3789360"/>
            <a:ext cx="7632720" cy="2160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m24893"/>
          <p:cNvPicPr/>
          <p:nvPr/>
        </p:nvPicPr>
        <p:blipFill>
          <a:blip r:embed="rId3"/>
          <a:stretch/>
        </p:blipFill>
        <p:spPr>
          <a:xfrm>
            <a:off x="395280" y="333360"/>
            <a:ext cx="3456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BJ_0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m24893"/>
          <p:cNvPicPr/>
          <p:nvPr/>
        </p:nvPicPr>
        <p:blipFill>
          <a:blip r:embed="rId2"/>
          <a:stretch/>
        </p:blipFill>
        <p:spPr>
          <a:xfrm>
            <a:off x="395280" y="333360"/>
            <a:ext cx="3456000" cy="792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1042920" y="1700280"/>
            <a:ext cx="65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93366"/>
                </a:solidFill>
                <a:latin typeface="Arial"/>
                <a:ea typeface="华文新魏"/>
              </a:rPr>
              <a:t>后来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971640" y="270828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93366"/>
                </a:solidFill>
                <a:latin typeface="Arial"/>
                <a:ea typeface="华文新魏"/>
              </a:rPr>
              <a:t>乡愁是一方矮矮的坟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042920" y="3789360"/>
            <a:ext cx="48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93366"/>
                </a:solidFill>
                <a:latin typeface="Arial"/>
                <a:ea typeface="华文新魏"/>
              </a:rPr>
              <a:t>我在外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1116000" y="4724280"/>
            <a:ext cx="41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93366"/>
                </a:solidFill>
                <a:latin typeface="Arial"/>
                <a:ea typeface="华文新魏"/>
              </a:rPr>
              <a:t>母亲在里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m24045"/>
          <p:cNvPicPr/>
          <p:nvPr/>
        </p:nvPicPr>
        <p:blipFill>
          <a:blip r:embed="rId1"/>
          <a:stretch/>
        </p:blipFill>
        <p:spPr>
          <a:xfrm>
            <a:off x="755640" y="1341360"/>
            <a:ext cx="7129440" cy="1943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m24906"/>
          <p:cNvPicPr/>
          <p:nvPr/>
        </p:nvPicPr>
        <p:blipFill>
          <a:blip r:embed="rId2"/>
          <a:stretch/>
        </p:blipFill>
        <p:spPr>
          <a:xfrm>
            <a:off x="900000" y="3429000"/>
            <a:ext cx="7056720" cy="2521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m24893"/>
          <p:cNvPicPr/>
          <p:nvPr/>
        </p:nvPicPr>
        <p:blipFill>
          <a:blip r:embed="rId3"/>
          <a:stretch/>
        </p:blipFill>
        <p:spPr>
          <a:xfrm>
            <a:off x="395280" y="333360"/>
            <a:ext cx="3456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3" descr="foggyruby"/>
          <p:cNvPicPr/>
          <p:nvPr/>
        </p:nvPicPr>
        <p:blipFill>
          <a:blip r:embed="rId1"/>
          <a:srcRect l="0" t="0" r="0" b="3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m24893"/>
          <p:cNvPicPr/>
          <p:nvPr/>
        </p:nvPicPr>
        <p:blipFill>
          <a:blip r:embed="rId2"/>
          <a:stretch/>
        </p:blipFill>
        <p:spPr>
          <a:xfrm>
            <a:off x="324000" y="404640"/>
            <a:ext cx="3456000" cy="7923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8"/>
          <p:cNvSpPr/>
          <p:nvPr/>
        </p:nvSpPr>
        <p:spPr>
          <a:xfrm>
            <a:off x="1258920" y="1916280"/>
            <a:ext cx="43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而现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1187280" y="3068640"/>
            <a:ext cx="70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乡愁是一湾浅浅的海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1258920" y="4076640"/>
            <a:ext cx="53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我在这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1116000" y="5229360"/>
            <a:ext cx="55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大陆在那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m24908"/>
          <p:cNvPicPr/>
          <p:nvPr/>
        </p:nvPicPr>
        <p:blipFill>
          <a:blip r:embed="rId1"/>
          <a:stretch/>
        </p:blipFill>
        <p:spPr>
          <a:xfrm>
            <a:off x="755640" y="1268280"/>
            <a:ext cx="7416720" cy="2114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m24907"/>
          <p:cNvPicPr/>
          <p:nvPr/>
        </p:nvPicPr>
        <p:blipFill>
          <a:blip r:embed="rId2"/>
          <a:stretch/>
        </p:blipFill>
        <p:spPr>
          <a:xfrm>
            <a:off x="900000" y="3716280"/>
            <a:ext cx="7344000" cy="2371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m24893"/>
          <p:cNvPicPr/>
          <p:nvPr/>
        </p:nvPicPr>
        <p:blipFill>
          <a:blip r:embed="rId3"/>
          <a:stretch/>
        </p:blipFill>
        <p:spPr>
          <a:xfrm>
            <a:off x="395280" y="333360"/>
            <a:ext cx="3456000" cy="792000"/>
          </a:xfrm>
          <a:prstGeom prst="rect">
            <a:avLst/>
          </a:prstGeom>
          <a:ln w="0">
            <a:noFill/>
          </a:ln>
        </p:spPr>
      </p:pic>
      <p:sp>
        <p:nvSpPr>
          <p:cNvPr id="137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2340000" y="620640"/>
            <a:ext cx="33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华文中宋"/>
              </a:rPr>
              <a:t>拓展练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183280" y="765000"/>
            <a:ext cx="24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仿句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684360" y="170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这首诗作者通过邮票、船票、坟墓、海霞寄托了浓浓的思乡之情，除了这些事务外，还有许多东西能触动我们的心灵，引起我们的思想情绪。请同学们结合自己的理解，用具体的事务为“乡愁”打个比方好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324000" y="5229360"/>
            <a:ext cx="8351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例：乡愁是一枚青橄榄，苦苦的、涩涩的，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有一番滋味在心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2050920" y="76500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各领风骚话说“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愁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68360" y="1773360"/>
            <a:ext cx="799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愁，有乡愁、离愁、国愁、也有家愁，古往今来，愁是许多文人笔下的主题，请同学们根据你的积累，说一句含有“愁”的古诗词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611280" y="3933720"/>
            <a:ext cx="7705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例∶剪不断，理还乱，是离愁，别有一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滋味上心头。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李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B00A-8196-463D-9C8A-92EEB8B3CE2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0" y="260280"/>
            <a:ext cx="5329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拓展迁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395280" y="1052640"/>
            <a:ext cx="8207280" cy="51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阅读下面句子，然后仿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生命是张没价值的白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乡愁是一枚小小的邮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乡愁是一张窄窄的船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仿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希望是                 痛苦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幸福是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友谊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欢乐是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母爱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484360" y="5013360"/>
            <a:ext cx="1727280" cy="360"/>
            <a:chOff x="2484360" y="5013360"/>
            <a:chExt cx="1727280" cy="360"/>
          </a:xfrm>
        </p:grpSpPr>
        <p:sp>
          <p:nvSpPr>
            <p:cNvPr id="152" name="Line 8"/>
            <p:cNvSpPr/>
            <p:nvPr/>
          </p:nvSpPr>
          <p:spPr>
            <a:xfrm>
              <a:off x="2484360" y="501336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2484360" y="5013360"/>
              <a:ext cx="1727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2411280" y="5589720"/>
            <a:ext cx="1800360" cy="360"/>
            <a:chOff x="2411280" y="5589720"/>
            <a:chExt cx="1800360" cy="360"/>
          </a:xfrm>
        </p:grpSpPr>
        <p:sp>
          <p:nvSpPr>
            <p:cNvPr id="155" name="Line 9"/>
            <p:cNvSpPr/>
            <p:nvPr/>
          </p:nvSpPr>
          <p:spPr>
            <a:xfrm>
              <a:off x="2411280" y="5589720"/>
              <a:ext cx="180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2411280" y="5589720"/>
              <a:ext cx="180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411280" y="6093000"/>
            <a:ext cx="1727280" cy="360"/>
            <a:chOff x="2411280" y="6093000"/>
            <a:chExt cx="1727280" cy="360"/>
          </a:xfrm>
        </p:grpSpPr>
        <p:sp>
          <p:nvSpPr>
            <p:cNvPr id="158" name="Line 10"/>
            <p:cNvSpPr/>
            <p:nvPr/>
          </p:nvSpPr>
          <p:spPr>
            <a:xfrm>
              <a:off x="2411280" y="609300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411280" y="6093000"/>
              <a:ext cx="1727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796000" y="5013360"/>
            <a:ext cx="2089080" cy="360"/>
            <a:chOff x="5796000" y="5013360"/>
            <a:chExt cx="2089080" cy="360"/>
          </a:xfrm>
        </p:grpSpPr>
        <p:sp>
          <p:nvSpPr>
            <p:cNvPr id="161" name="Line 11"/>
            <p:cNvSpPr/>
            <p:nvPr/>
          </p:nvSpPr>
          <p:spPr>
            <a:xfrm>
              <a:off x="5796000" y="5013360"/>
              <a:ext cx="2089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5796000" y="5013360"/>
              <a:ext cx="208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796000" y="5589720"/>
            <a:ext cx="2160720" cy="360"/>
            <a:chOff x="5796000" y="5589720"/>
            <a:chExt cx="2160720" cy="360"/>
          </a:xfrm>
        </p:grpSpPr>
        <p:sp>
          <p:nvSpPr>
            <p:cNvPr id="164" name="Line 12"/>
            <p:cNvSpPr/>
            <p:nvPr/>
          </p:nvSpPr>
          <p:spPr>
            <a:xfrm>
              <a:off x="5796000" y="558972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5796000" y="5589720"/>
              <a:ext cx="216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796000" y="6093000"/>
            <a:ext cx="2089080" cy="360"/>
            <a:chOff x="5796000" y="6093000"/>
            <a:chExt cx="2089080" cy="360"/>
          </a:xfrm>
        </p:grpSpPr>
        <p:sp>
          <p:nvSpPr>
            <p:cNvPr id="167" name="Line 13"/>
            <p:cNvSpPr/>
            <p:nvPr/>
          </p:nvSpPr>
          <p:spPr>
            <a:xfrm>
              <a:off x="5796000" y="6093000"/>
              <a:ext cx="2089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5796000" y="6093000"/>
              <a:ext cx="208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2771640" y="33336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中宋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24000" y="1341360"/>
            <a:ext cx="8280360" cy="47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思想目标</a:t>
            </a: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: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感悟文章所抒发的感情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赞美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国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热爱祖国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知识目标</a:t>
            </a: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: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正确流利有感情地朗读诗文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体感知诗文的思想内容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能力目标</a:t>
            </a: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: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学习诗中借助时空变化来层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推进情感的抒情方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m24885"/>
          <p:cNvPicPr/>
          <p:nvPr/>
        </p:nvPicPr>
        <p:blipFill>
          <a:blip r:embed="rId1">
            <a:lum contrast="-20000"/>
          </a:blip>
          <a:stretch/>
        </p:blipFill>
        <p:spPr>
          <a:xfrm>
            <a:off x="3851280" y="404640"/>
            <a:ext cx="5041800" cy="4969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89" name="Picture 9" descr="m24893"/>
          <p:cNvPicPr/>
          <p:nvPr/>
        </p:nvPicPr>
        <p:blipFill>
          <a:blip r:embed="rId2"/>
          <a:stretch/>
        </p:blipFill>
        <p:spPr>
          <a:xfrm>
            <a:off x="5003640" y="5734080"/>
            <a:ext cx="3456000" cy="719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whwqy1215-12"/>
          <p:cNvPicPr/>
          <p:nvPr/>
        </p:nvPicPr>
        <p:blipFill>
          <a:blip r:embed="rId3"/>
          <a:stretch/>
        </p:blipFill>
        <p:spPr>
          <a:xfrm>
            <a:off x="0" y="333360"/>
            <a:ext cx="3809880" cy="5079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作家身影四字"/>
          <p:cNvPicPr/>
          <p:nvPr/>
        </p:nvPicPr>
        <p:blipFill>
          <a:blip r:embed="rId4"/>
          <a:stretch/>
        </p:blipFill>
        <p:spPr>
          <a:xfrm>
            <a:off x="324000" y="5157720"/>
            <a:ext cx="12585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BJ_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m24893"/>
          <p:cNvPicPr/>
          <p:nvPr/>
        </p:nvPicPr>
        <p:blipFill>
          <a:blip r:embed="rId2"/>
          <a:stretch/>
        </p:blipFill>
        <p:spPr>
          <a:xfrm>
            <a:off x="539640" y="549360"/>
            <a:ext cx="3456000" cy="792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m24888"/>
          <p:cNvPicPr/>
          <p:nvPr/>
        </p:nvPicPr>
        <p:blipFill>
          <a:blip r:embed="rId3">
            <a:lum contrast="-20000"/>
          </a:blip>
          <a:stretch/>
        </p:blipFill>
        <p:spPr>
          <a:xfrm>
            <a:off x="826920" y="1773360"/>
            <a:ext cx="7561440" cy="3240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826920" y="907920"/>
            <a:ext cx="80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小时候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乡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是一枚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小小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的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邮票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我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在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这头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母亲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在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那头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长大后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乡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是一张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窄窄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的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船票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我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在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这头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新娘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在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那头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762120" y="12952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3492360" y="260280"/>
            <a:ext cx="187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乡   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1042920" y="1052640"/>
            <a:ext cx="727416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后来啊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乡愁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是一方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矮矮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的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坟墓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我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在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外头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母亲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在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里头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而现在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乡愁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是一湾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浅浅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的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海峡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我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在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这头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大陆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在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那头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BJ_052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2004"/>
          <p:cNvPicPr/>
          <p:nvPr/>
        </p:nvPicPr>
        <p:blipFill>
          <a:blip r:embed="rId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m24893"/>
          <p:cNvPicPr/>
          <p:nvPr/>
        </p:nvPicPr>
        <p:blipFill>
          <a:blip r:embed="rId3"/>
          <a:stretch/>
        </p:blipFill>
        <p:spPr>
          <a:xfrm>
            <a:off x="395280" y="333360"/>
            <a:ext cx="3456000" cy="792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8"/>
          <p:cNvSpPr/>
          <p:nvPr/>
        </p:nvSpPr>
        <p:spPr>
          <a:xfrm>
            <a:off x="1116000" y="1773360"/>
            <a:ext cx="48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华文新魏"/>
              </a:rPr>
              <a:t>小时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042920" y="2708280"/>
            <a:ext cx="70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华文新魏"/>
              </a:rPr>
              <a:t>乡愁是一枚小小的邮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1042920" y="371628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华文新魏"/>
              </a:rPr>
              <a:t>我在这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1042920" y="458136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华文新魏"/>
              </a:rPr>
              <a:t>母亲在那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028" descr="m24896"/>
          <p:cNvPicPr/>
          <p:nvPr/>
        </p:nvPicPr>
        <p:blipFill>
          <a:blip r:embed="rId1"/>
          <a:stretch/>
        </p:blipFill>
        <p:spPr>
          <a:xfrm>
            <a:off x="611280" y="1341360"/>
            <a:ext cx="7920000" cy="2303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29" descr="m24893"/>
          <p:cNvPicPr/>
          <p:nvPr/>
        </p:nvPicPr>
        <p:blipFill>
          <a:blip r:embed="rId2"/>
          <a:stretch/>
        </p:blipFill>
        <p:spPr>
          <a:xfrm>
            <a:off x="395280" y="333360"/>
            <a:ext cx="3456000" cy="792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30" descr="m24897"/>
          <p:cNvPicPr/>
          <p:nvPr/>
        </p:nvPicPr>
        <p:blipFill>
          <a:blip r:embed="rId3"/>
          <a:stretch/>
        </p:blipFill>
        <p:spPr>
          <a:xfrm>
            <a:off x="611280" y="3716280"/>
            <a:ext cx="79912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BJ_0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m24893"/>
          <p:cNvPicPr/>
          <p:nvPr/>
        </p:nvPicPr>
        <p:blipFill>
          <a:blip r:embed="rId2"/>
          <a:stretch/>
        </p:blipFill>
        <p:spPr>
          <a:xfrm>
            <a:off x="395280" y="333360"/>
            <a:ext cx="3456000" cy="792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7"/>
          <p:cNvSpPr/>
          <p:nvPr/>
        </p:nvSpPr>
        <p:spPr>
          <a:xfrm>
            <a:off x="1042920" y="162864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华文新魏"/>
              </a:rPr>
              <a:t>长大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971640" y="2492280"/>
            <a:ext cx="70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华文新魏"/>
              </a:rPr>
              <a:t>乡愁是一张窄窄的船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1116000" y="364500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华文新魏"/>
              </a:rPr>
              <a:t>我在这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187280" y="4724280"/>
            <a:ext cx="49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华文新魏"/>
              </a:rPr>
              <a:t>新娘在那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8194"/>
          <p:cNvSpPr/>
          <p:nvPr/>
        </p:nvSpPr>
        <p:spPr>
          <a:xfrm>
            <a:off x="2700360" y="1125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23:59:1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2:41Z</dcterms:modified>
  <cp:revision>2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