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9.jpeg" ContentType="image/jpe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A97C-7F65-4CFD-923F-2AD28300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06C8-8567-4BAC-8FB0-82FEEBFB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9C0E-11B5-488A-B5D6-F3E7AF9A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256E-515F-4C37-BAF0-C3D7466E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A76A-1334-4334-9FA4-E46C0159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62A7-CB7E-4C5E-97C7-793C0B7E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DB65-9F66-4859-A389-774A0B02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DD26-82CD-41EC-AC58-7A411F8E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CFFC-8AC0-49FF-874E-B6F69A3F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A47E-9E90-47FB-8897-2A93C146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9108-C662-4BD1-9330-FF55F9A6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1F8C-81D2-4806-9AA5-388FA932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0D23-8ACD-40AA-87F9-2EFFA7A8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A0FD-AF20-4A0A-87E7-89747F47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FDBE-C761-4CCD-AB19-F2B5F719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4B18-ABB3-490F-B53A-8584CCA0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85F0-96FA-400C-9C94-11C94293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9AC5-C37E-4893-BE76-A2372A9E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0B76-7679-41D2-A201-FE4AF2BC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D05-8BB3-410A-86ED-360673C2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FDB8-A313-4467-9608-00AE1F49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A167-094C-4EDB-9DF6-BE925093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EE5-0E7F-4B8C-AF00-619B7444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31F2-A943-4120-A4ED-669E0ADD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0A66-D626-42B8-962E-2B2614F06F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8E32-B678-417B-81FC-4DEA0108DF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5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995400" y="984240"/>
            <a:ext cx="70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1111"/>
                </a:solidFill>
                <a:latin typeface="楷体_GB2312"/>
                <a:ea typeface="楷体_GB2312"/>
              </a:rPr>
              <a:t>义务教育教科书 物理 九年级 全册 第二十一章 信息的传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240" y="184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现代顺风耳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电话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1187280" y="3098880"/>
            <a:ext cx="5973840" cy="308124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ject 2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4759560" cy="52578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6084720" y="1052640"/>
            <a:ext cx="266724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听筒结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听筒里有一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永磁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它的两个磁极上套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螺线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磁极前有薄铁片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作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040" y="15235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听筒内有一个磁铁，磁铁上绕有线圈，前面有一个薄铁膜片。由于磁铁的吸引，薄铁膜片有些弯向磁极，在电话接通时，听筒和对方话筒相当于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串联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一个电路中，当从话筒传来按说话声音振动而强弱变化的电流时，磁铁对膜片的吸引力发生了强弱变化，使膜片振动起来，在空气中形成声波，就可以听到对方讲话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电信号            声信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2666880" y="5410080"/>
            <a:ext cx="1067040" cy="228600"/>
          </a:xfrm>
          <a:prstGeom prst="rightArrow">
            <a:avLst>
              <a:gd name="adj1" fmla="val 50000"/>
              <a:gd name="adj2" fmla="val 116628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电话的原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工作原理：话筒把声信号变成变化的电流，电流沿着导线把信息传到远方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在另一段，电流使听筒的膜片振动，携带信息的电流又变成了声音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468360" y="2138400"/>
            <a:ext cx="5040360" cy="32972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4"/>
          <p:cNvSpPr/>
          <p:nvPr/>
        </p:nvSpPr>
        <p:spPr>
          <a:xfrm>
            <a:off x="1214280" y="1509840"/>
            <a:ext cx="2000520" cy="563040"/>
          </a:xfrm>
          <a:prstGeom prst="flowChartProcess">
            <a:avLst/>
          </a:prstGeom>
          <a:gradFill rotWithShape="0">
            <a:gsLst>
              <a:gs pos="0">
                <a:srgbClr val="a3eda3"/>
              </a:gs>
              <a:gs pos="100000">
                <a:srgbClr val="e6fae6"/>
              </a:gs>
            </a:gsLst>
            <a:lin ang="5400000"/>
          </a:gradFill>
          <a:ln w="9360">
            <a:solidFill>
              <a:srgbClr val="009900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女孩说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3786120" y="1438200"/>
            <a:ext cx="2643120" cy="563040"/>
          </a:xfrm>
          <a:prstGeom prst="flowChartProcess">
            <a:avLst/>
          </a:prstGeom>
          <a:gradFill rotWithShape="0">
            <a:gsLst>
              <a:gs pos="0">
                <a:srgbClr val="a3eda3"/>
              </a:gs>
              <a:gs pos="100000">
                <a:srgbClr val="e6fae6"/>
              </a:gs>
            </a:gsLst>
            <a:lin ang="5400000"/>
          </a:gradFill>
          <a:ln w="9360">
            <a:solidFill>
              <a:srgbClr val="009900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话筒膜片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5435640" y="2276640"/>
            <a:ext cx="2643120" cy="563040"/>
          </a:xfrm>
          <a:prstGeom prst="flowChartProcess">
            <a:avLst/>
          </a:prstGeom>
          <a:gradFill rotWithShape="0">
            <a:gsLst>
              <a:gs pos="0">
                <a:srgbClr val="a3eda3"/>
              </a:gs>
              <a:gs pos="100000">
                <a:srgbClr val="e6fae6"/>
              </a:gs>
            </a:gsLst>
            <a:lin ang="5400000"/>
          </a:gradFill>
          <a:ln w="9360">
            <a:solidFill>
              <a:srgbClr val="009900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炭盒电阻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5429160" y="3438360"/>
            <a:ext cx="2643120" cy="563040"/>
          </a:xfrm>
          <a:prstGeom prst="flowChartProcess">
            <a:avLst/>
          </a:prstGeom>
          <a:gradFill rotWithShape="0">
            <a:gsLst>
              <a:gs pos="0">
                <a:srgbClr val="a3eda3"/>
              </a:gs>
              <a:gs pos="100000">
                <a:srgbClr val="e6fae6"/>
              </a:gs>
            </a:gsLst>
            <a:lin ang="5400000"/>
          </a:gradFill>
          <a:ln w="9360">
            <a:solidFill>
              <a:srgbClr val="009900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回路电流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0"/>
          <p:cNvSpPr/>
          <p:nvPr/>
        </p:nvSpPr>
        <p:spPr>
          <a:xfrm flipH="1" rot="16200000">
            <a:off x="6697800" y="5335560"/>
            <a:ext cx="428400" cy="216000"/>
          </a:xfrm>
          <a:prstGeom prst="rightArrow">
            <a:avLst>
              <a:gd name="adj1" fmla="val 50000"/>
              <a:gd name="adj2" fmla="val 49556"/>
            </a:avLst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5357880" y="4581360"/>
            <a:ext cx="2786040" cy="563040"/>
          </a:xfrm>
          <a:prstGeom prst="flowChartProcess">
            <a:avLst/>
          </a:prstGeom>
          <a:gradFill rotWithShape="0">
            <a:gsLst>
              <a:gs pos="0">
                <a:srgbClr val="a3eda3"/>
              </a:gs>
              <a:gs pos="100000">
                <a:srgbClr val="e6fae6"/>
              </a:gs>
            </a:gsLst>
            <a:lin ang="5400000"/>
          </a:gradFill>
          <a:ln w="9360">
            <a:solidFill>
              <a:srgbClr val="009900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磁性强弱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5286240" y="5724360"/>
            <a:ext cx="2857680" cy="563040"/>
          </a:xfrm>
          <a:prstGeom prst="flowChartProcess">
            <a:avLst/>
          </a:prstGeom>
          <a:gradFill rotWithShape="0">
            <a:gsLst>
              <a:gs pos="0">
                <a:srgbClr val="a3eda3"/>
              </a:gs>
              <a:gs pos="100000">
                <a:srgbClr val="e6fae6"/>
              </a:gs>
            </a:gsLst>
            <a:lin ang="5400000"/>
          </a:gradFill>
          <a:ln w="9360">
            <a:solidFill>
              <a:srgbClr val="009900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听筒膜片振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1428840" y="5796000"/>
            <a:ext cx="2643120" cy="563040"/>
          </a:xfrm>
          <a:prstGeom prst="flowChartProcess">
            <a:avLst/>
          </a:prstGeom>
          <a:gradFill rotWithShape="0">
            <a:gsLst>
              <a:gs pos="0">
                <a:srgbClr val="a3eda3"/>
              </a:gs>
              <a:gs pos="100000">
                <a:srgbClr val="e6fae6"/>
              </a:gs>
            </a:gsLst>
            <a:lin ang="5400000"/>
          </a:gradFill>
          <a:ln w="9360">
            <a:solidFill>
              <a:srgbClr val="009900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男孩听到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5"/>
          <p:cNvSpPr/>
          <p:nvPr/>
        </p:nvSpPr>
        <p:spPr>
          <a:xfrm flipH="1" rot="5400000">
            <a:off x="6643800" y="3121200"/>
            <a:ext cx="428400" cy="180720"/>
          </a:xfrm>
          <a:prstGeom prst="leftArrow">
            <a:avLst>
              <a:gd name="adj1" fmla="val 50000"/>
              <a:gd name="adj2" fmla="val 74046"/>
            </a:avLst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6"/>
          <p:cNvSpPr/>
          <p:nvPr/>
        </p:nvSpPr>
        <p:spPr>
          <a:xfrm flipH="1">
            <a:off x="3239280" y="1700280"/>
            <a:ext cx="476280" cy="181080"/>
          </a:xfrm>
          <a:prstGeom prst="leftArrow">
            <a:avLst>
              <a:gd name="adj1" fmla="val 50000"/>
              <a:gd name="adj2" fmla="val 79686"/>
            </a:avLst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5"/>
          <p:cNvSpPr/>
          <p:nvPr/>
        </p:nvSpPr>
        <p:spPr>
          <a:xfrm rot="16200000">
            <a:off x="6697440" y="4255560"/>
            <a:ext cx="428760" cy="216000"/>
          </a:xfrm>
          <a:prstGeom prst="leftArrow">
            <a:avLst>
              <a:gd name="adj1" fmla="val 50000"/>
              <a:gd name="adj2" fmla="val 62004"/>
            </a:avLst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6"/>
          <p:cNvSpPr/>
          <p:nvPr/>
        </p:nvSpPr>
        <p:spPr>
          <a:xfrm flipH="1" rot="10800000">
            <a:off x="4356000" y="6021360"/>
            <a:ext cx="595440" cy="216000"/>
          </a:xfrm>
          <a:prstGeom prst="leftArrow">
            <a:avLst>
              <a:gd name="adj1" fmla="val 50000"/>
              <a:gd name="adj2" fmla="val 65432"/>
            </a:avLst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角上箭头 23"/>
          <p:cNvSpPr/>
          <p:nvPr/>
        </p:nvSpPr>
        <p:spPr>
          <a:xfrm flipV="1">
            <a:off x="6588000" y="1738440"/>
            <a:ext cx="432000" cy="358560"/>
          </a:xfrm>
          <a:custGeom>
            <a:avLst/>
            <a:gdLst/>
            <a:ahLst/>
            <a:rect l="l" t="t" r="r" b="b"/>
            <a:pathLst>
              <a:path w="714375" h="642937">
                <a:moveTo>
                  <a:pt x="0" y="482203"/>
                </a:moveTo>
                <a:lnTo>
                  <a:pt x="473274" y="482203"/>
                </a:lnTo>
                <a:lnTo>
                  <a:pt x="473274" y="160734"/>
                </a:lnTo>
                <a:lnTo>
                  <a:pt x="392907" y="160734"/>
                </a:lnTo>
                <a:lnTo>
                  <a:pt x="553641" y="0"/>
                </a:lnTo>
                <a:lnTo>
                  <a:pt x="714375" y="160734"/>
                </a:lnTo>
                <a:lnTo>
                  <a:pt x="634008" y="160734"/>
                </a:lnTo>
                <a:lnTo>
                  <a:pt x="634008" y="642937"/>
                </a:lnTo>
                <a:lnTo>
                  <a:pt x="0" y="642937"/>
                </a:lnTo>
                <a:lnTo>
                  <a:pt x="0" y="482203"/>
                </a:lnTo>
                <a:close/>
              </a:path>
            </a:pathLst>
          </a:cu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31640" y="749160"/>
            <a:ext cx="4319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电流把信息传到远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8199"/>
          <p:cNvSpPr/>
          <p:nvPr/>
        </p:nvSpPr>
        <p:spPr>
          <a:xfrm>
            <a:off x="2303640" y="414360"/>
            <a:ext cx="45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电话"/>
          <p:cNvPicPr/>
          <p:nvPr/>
        </p:nvPicPr>
        <p:blipFill>
          <a:blip r:embed="rId1"/>
          <a:stretch/>
        </p:blipFill>
        <p:spPr>
          <a:xfrm>
            <a:off x="2627280" y="2813040"/>
            <a:ext cx="5715000" cy="40449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304920" y="1015920"/>
            <a:ext cx="44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最简单的电话的组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4920" y="1752480"/>
            <a:ext cx="462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２、老式电话的工作原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329000" y="100980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话筒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5508720" y="100980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听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0" y="2492280"/>
            <a:ext cx="29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１）对话筒讲话时，膜片时紧时松地压迫碳粒，使电阻时大时小，从而使流过碳粒的电流时小时大，这样，话筒把声信号变成电信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5076720" y="177336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２）通过电话线，传入听筒的电流流过电磁铁。电流时大时小，电磁铁对膜片的吸引力也时大时小，使膜片发生不同的振动，在空气中形成声波。这样，听筒把电信号变成声信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7596360" y="476280"/>
            <a:ext cx="1152360" cy="865080"/>
          </a:xfrm>
          <a:prstGeom prst="smileyFace">
            <a:avLst>
              <a:gd name="adj" fmla="val 4653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10"/>
          <p:cNvSpPr txBox="1"/>
          <p:nvPr/>
        </p:nvSpPr>
        <p:spPr>
          <a:xfrm>
            <a:off x="468360" y="189000"/>
            <a:ext cx="5183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一、电流把信息传到远方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E:\教科研、论文资料\人教版教学参考编制\21图\21图\21-1-4a.jpg"/>
          <p:cNvPicPr/>
          <p:nvPr/>
        </p:nvPicPr>
        <p:blipFill>
          <a:blip r:embed="rId1"/>
          <a:stretch/>
        </p:blipFill>
        <p:spPr>
          <a:xfrm>
            <a:off x="647640" y="3084480"/>
            <a:ext cx="3929040" cy="3003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E:\教科研、论文资料\人教版教学参考编制\21图\21图\21-1-4b.jpg"/>
          <p:cNvPicPr/>
          <p:nvPr/>
        </p:nvPicPr>
        <p:blipFill>
          <a:blip r:embed="rId2"/>
          <a:stretch/>
        </p:blipFill>
        <p:spPr>
          <a:xfrm>
            <a:off x="4824360" y="3052800"/>
            <a:ext cx="3564000" cy="29685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5"/>
          <p:cNvSpPr/>
          <p:nvPr/>
        </p:nvSpPr>
        <p:spPr>
          <a:xfrm>
            <a:off x="433440" y="1846440"/>
            <a:ext cx="7091280" cy="1238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要多少条电话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怎样才能减少电话线的数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1402920" y="3522240"/>
            <a:ext cx="2197440" cy="2124360"/>
            <a:chOff x="1402920" y="3522240"/>
            <a:chExt cx="2197440" cy="2124360"/>
          </a:xfrm>
        </p:grpSpPr>
        <p:grpSp>
          <p:nvGrpSpPr>
            <p:cNvPr id="157" name=""/>
            <p:cNvGrpSpPr/>
            <p:nvPr/>
          </p:nvGrpSpPr>
          <p:grpSpPr>
            <a:xfrm>
              <a:off x="1403280" y="4170240"/>
              <a:ext cx="2160720" cy="36720"/>
              <a:chOff x="1403280" y="4170240"/>
              <a:chExt cx="2160720" cy="36720"/>
            </a:xfrm>
          </p:grpSpPr>
          <p:sp>
            <p:nvSpPr>
              <p:cNvPr id="158" name="Line 6"/>
              <p:cNvSpPr/>
              <p:nvPr/>
            </p:nvSpPr>
            <p:spPr>
              <a:xfrm>
                <a:off x="1403280" y="4170240"/>
                <a:ext cx="2160720" cy="3672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1403280" y="4170240"/>
                <a:ext cx="2160720" cy="3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1403280" y="4170240"/>
              <a:ext cx="1728720" cy="1403280"/>
              <a:chOff x="1403280" y="4170240"/>
              <a:chExt cx="1728720" cy="1403280"/>
            </a:xfrm>
          </p:grpSpPr>
          <p:sp>
            <p:nvSpPr>
              <p:cNvPr id="161" name="Line 7"/>
              <p:cNvSpPr/>
              <p:nvPr/>
            </p:nvSpPr>
            <p:spPr>
              <a:xfrm>
                <a:off x="1403280" y="4170240"/>
                <a:ext cx="1728720" cy="140328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1403280" y="4170240"/>
                <a:ext cx="1728720" cy="14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1439640" y="4133880"/>
              <a:ext cx="36720" cy="1439640"/>
              <a:chOff x="1439640" y="4133880"/>
              <a:chExt cx="36720" cy="1439640"/>
            </a:xfrm>
          </p:grpSpPr>
          <p:sp>
            <p:nvSpPr>
              <p:cNvPr id="164" name="Line 8"/>
              <p:cNvSpPr/>
              <p:nvPr/>
            </p:nvSpPr>
            <p:spPr>
              <a:xfrm>
                <a:off x="1439640" y="4133880"/>
                <a:ext cx="36720" cy="1439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1439640" y="4133880"/>
                <a:ext cx="36720" cy="143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402920" y="3522240"/>
              <a:ext cx="1081440" cy="647640"/>
              <a:chOff x="1402920" y="3522240"/>
              <a:chExt cx="1081440" cy="647640"/>
            </a:xfrm>
          </p:grpSpPr>
          <p:sp>
            <p:nvSpPr>
              <p:cNvPr id="167" name="Line 9"/>
              <p:cNvSpPr/>
              <p:nvPr/>
            </p:nvSpPr>
            <p:spPr>
              <a:xfrm flipV="1">
                <a:off x="1403280" y="3522240"/>
                <a:ext cx="1081080" cy="647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 rot="10800000">
                <a:off x="1402920" y="3522240"/>
                <a:ext cx="1081080" cy="64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1476360" y="5538600"/>
              <a:ext cx="1655640" cy="34920"/>
              <a:chOff x="1476360" y="5538600"/>
              <a:chExt cx="1655640" cy="34920"/>
            </a:xfrm>
          </p:grpSpPr>
          <p:sp>
            <p:nvSpPr>
              <p:cNvPr id="170" name="Line 10"/>
              <p:cNvSpPr/>
              <p:nvPr/>
            </p:nvSpPr>
            <p:spPr>
              <a:xfrm>
                <a:off x="1476360" y="5538600"/>
                <a:ext cx="1655640" cy="3492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>
                <a:off x="1476360" y="5538600"/>
                <a:ext cx="1655640" cy="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2484360" y="3522600"/>
              <a:ext cx="611280" cy="2050920"/>
              <a:chOff x="2484360" y="3522600"/>
              <a:chExt cx="611280" cy="2050920"/>
            </a:xfrm>
          </p:grpSpPr>
          <p:sp>
            <p:nvSpPr>
              <p:cNvPr id="173" name="Line 11"/>
              <p:cNvSpPr/>
              <p:nvPr/>
            </p:nvSpPr>
            <p:spPr>
              <a:xfrm>
                <a:off x="2484360" y="3522600"/>
                <a:ext cx="611280" cy="205092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2484360" y="3522600"/>
                <a:ext cx="611280" cy="20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095280" y="4206960"/>
              <a:ext cx="468720" cy="1439640"/>
              <a:chOff x="3095280" y="4206960"/>
              <a:chExt cx="468720" cy="1439640"/>
            </a:xfrm>
          </p:grpSpPr>
          <p:sp>
            <p:nvSpPr>
              <p:cNvPr id="176" name="Line 12"/>
              <p:cNvSpPr/>
              <p:nvPr/>
            </p:nvSpPr>
            <p:spPr>
              <a:xfrm flipH="1">
                <a:off x="3095280" y="4206960"/>
                <a:ext cx="468360" cy="1439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>
                <a:off x="3095640" y="4206960"/>
                <a:ext cx="468360" cy="143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476360" y="4206960"/>
              <a:ext cx="2124000" cy="1331640"/>
              <a:chOff x="1476360" y="4206960"/>
              <a:chExt cx="2124000" cy="1331640"/>
            </a:xfrm>
          </p:grpSpPr>
          <p:sp>
            <p:nvSpPr>
              <p:cNvPr id="179" name="Line 13"/>
              <p:cNvSpPr/>
              <p:nvPr/>
            </p:nvSpPr>
            <p:spPr>
              <a:xfrm flipH="1">
                <a:off x="1476360" y="4206960"/>
                <a:ext cx="2124000" cy="1331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1476360" y="4206960"/>
                <a:ext cx="2124000" cy="13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484000" y="3522240"/>
              <a:ext cx="1079640" cy="684360"/>
              <a:chOff x="2484000" y="3522240"/>
              <a:chExt cx="1079640" cy="684360"/>
            </a:xfrm>
          </p:grpSpPr>
          <p:sp>
            <p:nvSpPr>
              <p:cNvPr id="182" name="Line 14"/>
              <p:cNvSpPr/>
              <p:nvPr/>
            </p:nvSpPr>
            <p:spPr>
              <a:xfrm flipH="1" flipV="1">
                <a:off x="2484000" y="3522240"/>
                <a:ext cx="1079640" cy="68436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 rot="10800000">
                <a:off x="2484000" y="3522240"/>
                <a:ext cx="1079640" cy="68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476360" y="3522600"/>
              <a:ext cx="1008000" cy="2016000"/>
              <a:chOff x="1476360" y="3522600"/>
              <a:chExt cx="1008000" cy="2016000"/>
            </a:xfrm>
          </p:grpSpPr>
          <p:sp>
            <p:nvSpPr>
              <p:cNvPr id="185" name="Line 15"/>
              <p:cNvSpPr/>
              <p:nvPr/>
            </p:nvSpPr>
            <p:spPr>
              <a:xfrm flipV="1">
                <a:off x="1476360" y="3522600"/>
                <a:ext cx="1008000" cy="201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 rot="10800000">
                <a:off x="1476360" y="3522600"/>
                <a:ext cx="1008000" cy="20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Group 16"/>
          <p:cNvGrpSpPr/>
          <p:nvPr/>
        </p:nvGrpSpPr>
        <p:grpSpPr>
          <a:xfrm>
            <a:off x="5651640" y="3557520"/>
            <a:ext cx="2197080" cy="1944720"/>
            <a:chOff x="5651640" y="3557520"/>
            <a:chExt cx="2197080" cy="1944720"/>
          </a:xfrm>
        </p:grpSpPr>
        <p:grpSp>
          <p:nvGrpSpPr>
            <p:cNvPr id="188" name=""/>
            <p:cNvGrpSpPr/>
            <p:nvPr/>
          </p:nvGrpSpPr>
          <p:grpSpPr>
            <a:xfrm>
              <a:off x="6732720" y="3557520"/>
              <a:ext cx="360" cy="936720"/>
              <a:chOff x="6732720" y="3557520"/>
              <a:chExt cx="360" cy="936720"/>
            </a:xfrm>
          </p:grpSpPr>
          <p:sp>
            <p:nvSpPr>
              <p:cNvPr id="189" name="Line 17"/>
              <p:cNvSpPr/>
              <p:nvPr/>
            </p:nvSpPr>
            <p:spPr>
              <a:xfrm>
                <a:off x="6732720" y="3557520"/>
                <a:ext cx="0" cy="93672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>
                <a:off x="6732720" y="3557520"/>
                <a:ext cx="360" cy="93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6732720" y="4494240"/>
              <a:ext cx="576360" cy="1008000"/>
              <a:chOff x="6732720" y="4494240"/>
              <a:chExt cx="576360" cy="1008000"/>
            </a:xfrm>
          </p:grpSpPr>
          <p:sp>
            <p:nvSpPr>
              <p:cNvPr id="192" name="Line 18"/>
              <p:cNvSpPr/>
              <p:nvPr/>
            </p:nvSpPr>
            <p:spPr>
              <a:xfrm>
                <a:off x="6732720" y="4494240"/>
                <a:ext cx="576360" cy="1008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 txBox="1"/>
              <p:nvPr/>
            </p:nvSpPr>
            <p:spPr>
              <a:xfrm>
                <a:off x="6732720" y="4494240"/>
                <a:ext cx="576360" cy="10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5724360" y="4494240"/>
              <a:ext cx="972000" cy="863640"/>
              <a:chOff x="5724360" y="4494240"/>
              <a:chExt cx="972000" cy="863640"/>
            </a:xfrm>
          </p:grpSpPr>
          <p:sp>
            <p:nvSpPr>
              <p:cNvPr id="195" name="Line 19"/>
              <p:cNvSpPr/>
              <p:nvPr/>
            </p:nvSpPr>
            <p:spPr>
              <a:xfrm flipH="1">
                <a:off x="5724360" y="4494240"/>
                <a:ext cx="971640" cy="863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>
                <a:off x="5724720" y="4494240"/>
                <a:ext cx="971640" cy="86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6732720" y="4098960"/>
              <a:ext cx="1116000" cy="358560"/>
              <a:chOff x="6732720" y="4098960"/>
              <a:chExt cx="1116000" cy="358560"/>
            </a:xfrm>
          </p:grpSpPr>
          <p:sp>
            <p:nvSpPr>
              <p:cNvPr id="198" name="Line 20"/>
              <p:cNvSpPr/>
              <p:nvPr/>
            </p:nvSpPr>
            <p:spPr>
              <a:xfrm flipH="1">
                <a:off x="6732720" y="4098960"/>
                <a:ext cx="1116000" cy="35856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 txBox="1"/>
              <p:nvPr/>
            </p:nvSpPr>
            <p:spPr>
              <a:xfrm>
                <a:off x="6732720" y="4098960"/>
                <a:ext cx="1116000" cy="358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651640" y="4133880"/>
              <a:ext cx="1044720" cy="323640"/>
              <a:chOff x="5651640" y="4133880"/>
              <a:chExt cx="1044720" cy="323640"/>
            </a:xfrm>
          </p:grpSpPr>
          <p:sp>
            <p:nvSpPr>
              <p:cNvPr id="201" name="Line 21"/>
              <p:cNvSpPr/>
              <p:nvPr/>
            </p:nvSpPr>
            <p:spPr>
              <a:xfrm>
                <a:off x="5651640" y="4133880"/>
                <a:ext cx="1044720" cy="323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5651640" y="4133880"/>
                <a:ext cx="1044720" cy="3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3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04" name="矩形 4"/>
          <p:cNvSpPr/>
          <p:nvPr/>
        </p:nvSpPr>
        <p:spPr>
          <a:xfrm>
            <a:off x="431640" y="411120"/>
            <a:ext cx="500400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、电话交换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4"/>
          <p:cNvSpPr/>
          <p:nvPr/>
        </p:nvSpPr>
        <p:spPr>
          <a:xfrm>
            <a:off x="431640" y="1268280"/>
            <a:ext cx="3276720" cy="520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想一想 画一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2066760" y="6073920"/>
            <a:ext cx="5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Arial"/>
              </a:rPr>
              <a:t>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6372360" y="6021360"/>
            <a:ext cx="5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Arial"/>
              </a:rPr>
              <a:t>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814760" y="2708280"/>
            <a:ext cx="46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电话交换机的交换方式有几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78000" y="3645000"/>
            <a:ext cx="87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两种，第一种是人工交换，是依靠话务员手工操作进行接线和拆线，利用人工接转电话，效率低，而且劳动强度大。第二种是电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自动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交换，电话自动交换机可通过电磁继器进行接线，现代的程控电话机利用了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电子计算机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控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468360" y="26028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电话交换机的作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87280" y="1125360"/>
            <a:ext cx="885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）减少电话线的数量，提高线路的利用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）便于通话时接通，通话完毕拆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电话交换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原理：一个地区的固定电话都接到了本地区同一台交换机上，每部电话都编上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号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即电话号码）接到交换机上使用时，交换机把需要通话的两部电话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接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通话完毕将线路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断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城市之间通话通过交换机连接，两个不同的交换机的用户也就能互相通话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E:\教科研、论文资料\人教版教学参考编制\21图\21图\21-1-5.jpg"/>
          <p:cNvPicPr/>
          <p:nvPr/>
        </p:nvPicPr>
        <p:blipFill>
          <a:blip r:embed="rId1"/>
          <a:stretch/>
        </p:blipFill>
        <p:spPr>
          <a:xfrm>
            <a:off x="431640" y="1376280"/>
            <a:ext cx="8170920" cy="4359240"/>
          </a:xfrm>
          <a:prstGeom prst="rect">
            <a:avLst/>
          </a:prstGeom>
          <a:ln w="0">
            <a:noFill/>
          </a:ln>
        </p:spPr>
      </p:pic>
      <p:sp>
        <p:nvSpPr>
          <p:cNvPr id="215" name="TextBox 2"/>
          <p:cNvSpPr/>
          <p:nvPr/>
        </p:nvSpPr>
        <p:spPr>
          <a:xfrm>
            <a:off x="431640" y="749160"/>
            <a:ext cx="68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明电话交换机， 提高线路效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2735280" y="5805360"/>
            <a:ext cx="31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Arial"/>
              </a:rPr>
              <a:t>电话交换机工作示意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E:\教科研、论文资料\人教版教学参考编制\21图\21图\21-1-6.jpg"/>
          <p:cNvPicPr/>
          <p:nvPr/>
        </p:nvPicPr>
        <p:blipFill>
          <a:blip r:embed="rId1"/>
          <a:stretch/>
        </p:blipFill>
        <p:spPr>
          <a:xfrm>
            <a:off x="2484360" y="1521000"/>
            <a:ext cx="4003920" cy="50400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"/>
          <p:cNvSpPr/>
          <p:nvPr/>
        </p:nvSpPr>
        <p:spPr>
          <a:xfrm>
            <a:off x="431640" y="663480"/>
            <a:ext cx="565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程控电话交换机和操作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gcs"/>
          <p:cNvPicPr/>
          <p:nvPr/>
        </p:nvPicPr>
        <p:blipFill>
          <a:blip r:embed="rId1"/>
          <a:stretch/>
        </p:blipFill>
        <p:spPr>
          <a:xfrm>
            <a:off x="431640" y="3537000"/>
            <a:ext cx="4034160" cy="29336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142920" y="657360"/>
            <a:ext cx="50007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古代传递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55440" y="1268280"/>
            <a:ext cx="8853480" cy="237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飞鸽传书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政府配置的驿站、民间代捎书信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以特殊声音，如钟声，鼓声，鞭炮声等传递信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以灯光，火光，如孔明灯，烽火等传递信息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E:\教科研、论文资料\人教版教学参考编制\21图\21图\21-1a.jpg"/>
          <p:cNvPicPr/>
          <p:nvPr/>
        </p:nvPicPr>
        <p:blipFill>
          <a:blip r:embed="rId2"/>
          <a:stretch/>
        </p:blipFill>
        <p:spPr>
          <a:xfrm>
            <a:off x="3635280" y="3933720"/>
            <a:ext cx="5040360" cy="2517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1224000" y="5985000"/>
            <a:ext cx="199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宋体"/>
              </a:rPr>
              <a:t>飞鸽传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497720" y="5985000"/>
            <a:ext cx="16462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宋体"/>
              </a:rPr>
              <a:t>家书抵万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3816360" y="6021360"/>
            <a:ext cx="1763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宋体"/>
              </a:rPr>
              <a:t>烽火戏诸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431640" y="126828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模拟信号和数字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  电话信号分为模拟信号和数字信号两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431640" y="224172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模拟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以电话信号为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话筒将声音转换成信号电流时，电流的频率、振幅变化的情况跟声音的频率、振幅变化的情况完全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431640" y="4221000"/>
            <a:ext cx="8280720" cy="2089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25" name="矩形 4"/>
          <p:cNvSpPr/>
          <p:nvPr/>
        </p:nvSpPr>
        <p:spPr>
          <a:xfrm>
            <a:off x="431640" y="411120"/>
            <a:ext cx="58690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、模拟通信和数字通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"/>
                            </p:stCondLst>
                            <p:childTnLst>
                              <p:par>
                                <p:cTn id="2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3"/>
          <p:cNvSpPr/>
          <p:nvPr/>
        </p:nvSpPr>
        <p:spPr>
          <a:xfrm>
            <a:off x="431640" y="80028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数字信号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　　以电报信号为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点“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· 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画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”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组合代表各种数字，一定的数字组合代表一个汉字。即用不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符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不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组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示信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2158920" y="2673360"/>
            <a:ext cx="4103640" cy="2016000"/>
            <a:chOff x="2158920" y="2673360"/>
            <a:chExt cx="4103640" cy="2016000"/>
          </a:xfrm>
        </p:grpSpPr>
        <p:sp>
          <p:nvSpPr>
            <p:cNvPr id="228" name="Rectangle 4"/>
            <p:cNvSpPr/>
            <p:nvPr/>
          </p:nvSpPr>
          <p:spPr>
            <a:xfrm>
              <a:off x="2158920" y="2673360"/>
              <a:ext cx="4103640" cy="2016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5"/>
            <p:cNvSpPr/>
            <p:nvPr/>
          </p:nvSpPr>
          <p:spPr>
            <a:xfrm>
              <a:off x="2255040" y="2725200"/>
              <a:ext cx="3958200" cy="19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  ·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－－－－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·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－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  ··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－－－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···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  ···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－－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·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·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  ····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－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·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  ·····                        E ·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……                        …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Rectangle 6"/>
          <p:cNvSpPr/>
          <p:nvPr/>
        </p:nvSpPr>
        <p:spPr>
          <a:xfrm>
            <a:off x="431640" y="5008680"/>
            <a:ext cx="81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发声、发光的长短，电压、电流的有无，数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磁体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极等不同符号信息都可组成数字信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3"/>
          <p:cNvSpPr/>
          <p:nvPr/>
        </p:nvSpPr>
        <p:spPr>
          <a:xfrm>
            <a:off x="431640" y="4076640"/>
            <a:ext cx="3492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模拟通信的缺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易受干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放大失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形成噪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4503600" y="4076640"/>
            <a:ext cx="40291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字通信的优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信号失真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便于存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传输数据处理简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31640" y="3392640"/>
            <a:ext cx="69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比较两种信号传输的优缺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431640" y="663480"/>
            <a:ext cx="504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模拟信号和数字信号的传输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431640" y="23842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数字信号通信除了传输语音信号，还能传输文字、图片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信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431640" y="1268280"/>
            <a:ext cx="82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模拟信号通信只能用来传输语音信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信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3"/>
          <p:cNvSpPr/>
          <p:nvPr/>
        </p:nvSpPr>
        <p:spPr>
          <a:xfrm>
            <a:off x="431640" y="749160"/>
            <a:ext cx="34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模拟信号手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611280" y="1376280"/>
            <a:ext cx="2879640" cy="3927960"/>
            <a:chOff x="611280" y="1376280"/>
            <a:chExt cx="2879640" cy="3927960"/>
          </a:xfrm>
        </p:grpSpPr>
        <p:pic>
          <p:nvPicPr>
            <p:cNvPr id="241" name="Picture 2" descr="模拟信号手机简史"/>
            <p:cNvPicPr/>
            <p:nvPr/>
          </p:nvPicPr>
          <p:blipFill>
            <a:blip r:embed="rId1"/>
            <a:stretch/>
          </p:blipFill>
          <p:spPr>
            <a:xfrm>
              <a:off x="684360" y="1376280"/>
              <a:ext cx="2533680" cy="35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3"/>
            <p:cNvSpPr/>
            <p:nvPr/>
          </p:nvSpPr>
          <p:spPr>
            <a:xfrm>
              <a:off x="611280" y="490536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f497d"/>
                  </a:solidFill>
                  <a:latin typeface="Times New Roman"/>
                </a:rPr>
                <a:t>第一代</a:t>
              </a:r>
              <a:r>
                <a:rPr b="1" lang="zh-CN" sz="2000" spc="-1" strike="noStrike">
                  <a:solidFill>
                    <a:srgbClr val="1f497d"/>
                  </a:solidFill>
                  <a:latin typeface="宋体"/>
                </a:rPr>
                <a:t>“</a:t>
              </a:r>
              <a:r>
                <a:rPr b="1" lang="zh-CN" sz="2000" spc="-1" strike="noStrike">
                  <a:solidFill>
                    <a:srgbClr val="1f497d"/>
                  </a:solidFill>
                  <a:latin typeface="Times New Roman"/>
                </a:rPr>
                <a:t>大哥大</a:t>
              </a:r>
              <a:r>
                <a:rPr b="1" lang="zh-CN" sz="2000" spc="-1" strike="noStrike">
                  <a:solidFill>
                    <a:srgbClr val="1f497d"/>
                  </a:solidFill>
                  <a:latin typeface="宋体"/>
                </a:rPr>
                <a:t>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3"/>
          <p:cNvSpPr/>
          <p:nvPr/>
        </p:nvSpPr>
        <p:spPr>
          <a:xfrm>
            <a:off x="5508720" y="238428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Times New Roman"/>
              </a:rPr>
              <a:t>数字信号手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9" descr="http://img.hexun.com/2010-08-06/124511236.jpg"/>
          <p:cNvPicPr/>
          <p:nvPr/>
        </p:nvPicPr>
        <p:blipFill>
          <a:blip r:embed="rId2"/>
          <a:stretch/>
        </p:blipFill>
        <p:spPr>
          <a:xfrm>
            <a:off x="4500720" y="2960640"/>
            <a:ext cx="4406760" cy="3305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46" name="文本框 8199"/>
          <p:cNvSpPr/>
          <p:nvPr/>
        </p:nvSpPr>
        <p:spPr>
          <a:xfrm>
            <a:off x="2989440" y="749160"/>
            <a:ext cx="45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来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28240" y="990720"/>
            <a:ext cx="89154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电话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国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年发明的  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最简单的电话机是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组成的，其中把声信号变成电信号的是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，把电信号变成声信号的是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,   _____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里有一个永磁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一部电话机通常要和多部电话机通话，为了提高线路的利用率，人们发明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程控电话交换机有许多功能，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,_____,______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按信号传递方式电话机可分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,______ ,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对应的通信方式分别是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__________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叫做模拟信号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________________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叫做数字信号，你家的电话是使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信号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272320" y="990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3809880" y="990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贝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5029200" y="1066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8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4114800" y="1523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话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52578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听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65760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话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4572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听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28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听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396252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4024440" y="3200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电话交换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5715000" y="3886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来电显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6781680" y="38862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遇忙回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7848720" y="38862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三方通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7"/>
          <p:cNvSpPr/>
          <p:nvPr/>
        </p:nvSpPr>
        <p:spPr>
          <a:xfrm>
            <a:off x="5334120" y="43434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数字电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8"/>
          <p:cNvSpPr/>
          <p:nvPr/>
        </p:nvSpPr>
        <p:spPr>
          <a:xfrm>
            <a:off x="6553080" y="43434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模拟电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9"/>
          <p:cNvSpPr/>
          <p:nvPr/>
        </p:nvSpPr>
        <p:spPr>
          <a:xfrm>
            <a:off x="5076720" y="4724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数字通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0"/>
          <p:cNvSpPr/>
          <p:nvPr/>
        </p:nvSpPr>
        <p:spPr>
          <a:xfrm>
            <a:off x="6516720" y="4724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模拟通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2340000" y="51577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模仿着要传送信息的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3"/>
          <p:cNvSpPr/>
          <p:nvPr/>
        </p:nvSpPr>
        <p:spPr>
          <a:xfrm>
            <a:off x="304920" y="5715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用不同符号的不同组合表示的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2666880" y="6095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数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4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4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3"/>
          <p:cNvSpPr/>
          <p:nvPr/>
        </p:nvSpPr>
        <p:spPr>
          <a:xfrm>
            <a:off x="1258920" y="134136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395280" y="571680"/>
            <a:ext cx="818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们在打电话时经常遇到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占线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因为什么原因而引起的呢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1187280" y="2276640"/>
            <a:ext cx="6140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对方电话没扣好或对方在通话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有人在给自己家打电话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电话机交换机忙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5825-2E94-43B4-8604-ADFD419D4F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3"/>
          <p:cNvSpPr/>
          <p:nvPr/>
        </p:nvSpPr>
        <p:spPr>
          <a:xfrm>
            <a:off x="971640" y="765000"/>
            <a:ext cx="75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隶书"/>
                <a:ea typeface="隶书"/>
              </a:rPr>
              <a:t>8.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吉林人给天津人打电话，信号传递过程是怎样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971640" y="2700360"/>
            <a:ext cx="72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隶书"/>
              </a:rPr>
              <a:t>　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　从吉林人的电话机通过电话线接到吉林的交换机上，在从吉林的交换机上通过电话线传到天津的交换机上，又从天津的交换机上传到天津人的电话机上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31640" y="704880"/>
            <a:ext cx="5000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代传递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31640" y="1268280"/>
            <a:ext cx="8136000" cy="237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c000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有线通信：电话、电报、电视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无线通信：收音机、对讲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数字化通信：互联网、数字电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纸张通信：书信、报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21-1b"/>
          <p:cNvPicPr/>
          <p:nvPr/>
        </p:nvPicPr>
        <p:blipFill>
          <a:blip r:embed="rId1"/>
          <a:stretch/>
        </p:blipFill>
        <p:spPr>
          <a:xfrm>
            <a:off x="611280" y="3933720"/>
            <a:ext cx="3419280" cy="2637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21-1d"/>
          <p:cNvPicPr/>
          <p:nvPr/>
        </p:nvPicPr>
        <p:blipFill>
          <a:blip r:embed="rId2"/>
          <a:stretch/>
        </p:blipFill>
        <p:spPr>
          <a:xfrm>
            <a:off x="4103640" y="3968640"/>
            <a:ext cx="4113360" cy="2506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755640" y="3716280"/>
            <a:ext cx="2951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7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贝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发明了电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a3.att.hudong.com/06/70/16300000044935126719707151745.jpg"/>
          <p:cNvPicPr/>
          <p:nvPr/>
        </p:nvPicPr>
        <p:blipFill>
          <a:blip r:embed="rId1"/>
          <a:stretch/>
        </p:blipFill>
        <p:spPr>
          <a:xfrm>
            <a:off x="576360" y="1557360"/>
            <a:ext cx="3421080" cy="2146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E:\教科研、论文资料\人教版教学参考编制\21图\21图\21-1-1.jpg"/>
          <p:cNvPicPr/>
          <p:nvPr/>
        </p:nvPicPr>
        <p:blipFill>
          <a:blip r:embed="rId2"/>
          <a:stretch/>
        </p:blipFill>
        <p:spPr>
          <a:xfrm>
            <a:off x="4356000" y="2384280"/>
            <a:ext cx="4276800" cy="35038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4319640" y="5877000"/>
            <a:ext cx="428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9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，贝尔在纽约至芝加哥的电话开通仪式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523880" y="9907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一、电话的组成及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1523880" y="2590920"/>
            <a:ext cx="685800" cy="2057400"/>
          </a:xfrm>
          <a:custGeom>
            <a:avLst/>
            <a:gdLst>
              <a:gd name="textAreaLeft" fmla="*/ 438120 w 685800"/>
              <a:gd name="textAreaRight" fmla="*/ 686160 w 6858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505320" y="251460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将声信号转化成电信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505320" y="42670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将电信号转化为声信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286000" y="23623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话筒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286000" y="4191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听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E:\教科研、论文资料\人教版教学参考编制\21图\21图\21-1-2.jpg"/>
          <p:cNvPicPr/>
          <p:nvPr/>
        </p:nvPicPr>
        <p:blipFill>
          <a:blip r:embed="rId1"/>
          <a:stretch/>
        </p:blipFill>
        <p:spPr>
          <a:xfrm>
            <a:off x="1440000" y="2023920"/>
            <a:ext cx="6267240" cy="3892680"/>
          </a:xfrm>
          <a:prstGeom prst="rect">
            <a:avLst/>
          </a:prstGeom>
          <a:ln w="0">
            <a:noFill/>
          </a:ln>
        </p:spPr>
      </p:pic>
      <p:sp>
        <p:nvSpPr>
          <p:cNvPr id="111" name="矩形 7"/>
          <p:cNvSpPr/>
          <p:nvPr/>
        </p:nvSpPr>
        <p:spPr>
          <a:xfrm>
            <a:off x="431640" y="1268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　　女孩说话的声音是如何传到男孩耳朵中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4257720" cy="53341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5435640" y="907920"/>
            <a:ext cx="3124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一）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话筒结构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话筒里有一个金属盒，里面装满碳粒，上面盖有一个膜片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作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当对着话筒讲话时，膜片时紧时松的压迫碳粒，它们的电阻随之变化，流过碳粒的电流就会相应改变，于是就形成了随声音变化的电流信号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声信号            电信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2895480" y="4191120"/>
            <a:ext cx="1067040" cy="228600"/>
          </a:xfrm>
          <a:prstGeom prst="rightArrow">
            <a:avLst>
              <a:gd name="adj1" fmla="val 50000"/>
              <a:gd name="adj2" fmla="val 116628"/>
            </a:avLst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21-1-3"/>
          <p:cNvPicPr/>
          <p:nvPr/>
        </p:nvPicPr>
        <p:blipFill>
          <a:blip r:embed="rId1"/>
          <a:stretch/>
        </p:blipFill>
        <p:spPr>
          <a:xfrm>
            <a:off x="1476360" y="1046160"/>
            <a:ext cx="6048360" cy="5616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4T06:21:3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6:45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