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10.jpeg" ContentType="image/jpeg"/>
  <Override PartName="/ppt/media/image2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7166-1F2E-4897-91A8-110E5185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921-E708-42C5-B51A-40A55A0E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D643-074B-46F1-8028-089DD3D1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4A03-9845-4E9A-B853-6E203625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017F-6D03-416C-A77C-263673E2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73D0-A238-404C-A724-02C984CE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D058-EF63-41C9-BF6C-ED4E01CA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2EA8-6270-4BD8-9270-29974C4F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B4B1-5C7D-4DCC-983A-33381727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1862-C532-40C4-AB83-B694F290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B7C4-7F0C-442B-9A63-89EF4CCA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61D2-86F2-449B-8727-02302D2A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D780-FF9F-4AA7-A478-453AD2B6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B1C1-4D95-4074-9524-F1805D54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1AC4-1B94-4CFB-A04A-76AF5666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B54A-0142-4BB5-BCE0-D51A6456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31C4-E036-46F2-AE06-92B85588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FF84-29D6-4F3E-9617-4264F177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5AE3-27A5-41B0-9DCC-627F4457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8D2-FBE5-478F-8BFA-F24D14BB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1FA2-1D4E-4875-A484-4ABCAA63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103B-54ED-4E91-98E1-8A7CF229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6CDA-7190-407A-99FE-B5BEA91E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1581-0E1A-44E9-9550-A48E7755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929D-907A-4484-9EAF-59E9D5EF75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0DE0-B12F-40DE-8FD4-1488DBBCCF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t.qq.com/a/20070405/000258.htm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sxqsn.cn/html/hlzdy/ktmhView/2007031593028.html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16277.com/pic/200704/252746.html" TargetMode="External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ovie.msn.com.cn/my/679977/photo/index-4.html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tuhuan.com/Article/Photo1/13848_8.html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www.filmslib.com/persons/70106/photo/13060.aspx" TargetMode="External"/><Relationship Id="rId6" Type="http://schemas.openxmlformats.org/officeDocument/2006/relationships/image" Target="../media/image24.jpeg"/><Relationship Id="rId7" Type="http://schemas.openxmlformats.org/officeDocument/2006/relationships/hyperlink" Target="http://www.yc01.cn/mingxin.asp" TargetMode="External"/><Relationship Id="rId8" Type="http://schemas.openxmlformats.org/officeDocument/2006/relationships/image" Target="../media/image25.jpeg"/><Relationship Id="rId9" Type="http://schemas.openxmlformats.org/officeDocument/2006/relationships/hyperlink" Target="http://www.eeppt.com/moban/" TargetMode="Externa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hebtv.com/2003/ca12410.htm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www.99read.com/shopstreet/music_detail.aspx?gdsid=116804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7330.com/fjad/Design/ShowArticle.asp?ArticleID=269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tengyunjiawu.com/view/1662/88/55221/4.html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elouke.com/web/x08.htm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blog.scol.com.cn/lskxq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www.tyloo.com/steinway/product_438.html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aike.baidu.com/pic/1/11831005358653841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sdwenlian.cn/yingxie/dianyingjie/index.htm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ovie.happytheme.com/Img_7521_40009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2everfresh.com/movie/1464.html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ov678.com/movie/view-movie-126.html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900link.com/pro/38/389119.html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423720" y="1424160"/>
            <a:ext cx="830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宋体"/>
                <a:ea typeface="宋体"/>
              </a:rPr>
              <a:t>现代音乐和电影课件</a:t>
            </a:r>
            <a:r>
              <a:rPr b="0" lang="en-US" sz="4000" spc="-1" strike="noStrike">
                <a:solidFill>
                  <a:srgbClr val="0099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9900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952560" y="2781360"/>
            <a:ext cx="3917880" cy="25700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" descr=""/>
          <p:cNvPicPr/>
          <p:nvPr/>
        </p:nvPicPr>
        <p:blipFill>
          <a:blip r:embed="rId2"/>
          <a:stretch/>
        </p:blipFill>
        <p:spPr>
          <a:xfrm>
            <a:off x="4211640" y="3500280"/>
            <a:ext cx="3919680" cy="2629080"/>
          </a:xfrm>
          <a:prstGeom prst="rect">
            <a:avLst/>
          </a:prstGeom>
          <a:ln w="0">
            <a:noFill/>
          </a:ln>
        </p:spPr>
      </p:pic>
      <p:sp>
        <p:nvSpPr>
          <p:cNvPr id="85" name="矩形 4"/>
          <p:cNvSpPr/>
          <p:nvPr/>
        </p:nvSpPr>
        <p:spPr>
          <a:xfrm>
            <a:off x="2895840" y="755640"/>
            <a:ext cx="32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八单元   现代科学技术和文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5508720" y="5445000"/>
            <a:ext cx="2158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187280" y="5445000"/>
            <a:ext cx="2232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《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怪物史莱克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35971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76280"/>
            <a:ext cx="3450960" cy="4680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116591285690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1700280"/>
            <a:ext cx="4321080" cy="32414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5580000" y="5516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《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海底总动员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95280" y="1341360"/>
            <a:ext cx="8280360" cy="41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11280" y="1341360"/>
            <a:ext cx="784836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99"/>
                </a:solidFill>
                <a:latin typeface="宋体"/>
                <a:ea typeface="宋体"/>
              </a:rPr>
              <a:t>西部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99"/>
                </a:solidFill>
                <a:latin typeface="宋体"/>
                <a:ea typeface="宋体"/>
              </a:rPr>
              <a:t>也被称作牛仔片，它与喜剧片相比较特征十分明显：可以看得到地平线的茫荒的原野，具有传奇色彩的牛仔形象和跃马驰骋持枪格斗的激烈场面等。西部片作为好莱坞电影特殊的类型片，其深层的符号和象征：是关于美国人开发西部的史诗般的神化，影片多来源于西部文学和民间传说，并将文学语言的想象幅度与电影画面的幻觉幅度结合起来。西部片的神化，并不是再现历史的真实写照，而是创造着一种理想的道德规范，去反映美国人的民族性格和精神倾向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2007419725463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12000" y="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900000" y="3716280"/>
            <a:ext cx="712800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971640" y="3860640"/>
            <a:ext cx="6913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出谋划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宋体"/>
              </a:rPr>
              <a:t>面对好莱坞称霸世界影坛的局面和其推行的“全球化策略”，你能对振兴中国电影提出一些有益的建议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01e2201c-6b2e-4e49-aa6d-03da19b9879f_160X1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1125360"/>
            <a:ext cx="1441440" cy="1872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200610422122147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1125360"/>
            <a:ext cx="1344600" cy="1873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2007071004403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87280" y="1125360"/>
            <a:ext cx="1368720" cy="1873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杨紫琼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88000" y="1125360"/>
            <a:ext cx="1452600" cy="187344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8197"/>
          <p:cNvSpPr/>
          <p:nvPr/>
        </p:nvSpPr>
        <p:spPr>
          <a:xfrm>
            <a:off x="900000" y="3260880"/>
            <a:ext cx="582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755640" y="1341360"/>
            <a:ext cx="676908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826920" y="1413000"/>
            <a:ext cx="66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宋体"/>
              </a:rPr>
              <a:t>课后探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宋体"/>
              </a:rPr>
              <a:t>从爵士乐到好莱坞电影再到迪斯尼乐园，我们都感受到美国文化的巨大影响。你能联系学过的历史知识说说美国文化强大的原因吗？对我们有哪些启示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1195290823483000"/>
          <p:cNvPicPr/>
          <p:nvPr/>
        </p:nvPicPr>
        <p:blipFill>
          <a:blip r:embed="rId1"/>
          <a:stretch/>
        </p:blipFill>
        <p:spPr>
          <a:xfrm>
            <a:off x="5508720" y="3983040"/>
            <a:ext cx="2519280" cy="1717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hwyxt20030613haolaiwu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6360" y="3987720"/>
            <a:ext cx="2374920" cy="1736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116804bi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4005360"/>
            <a:ext cx="230508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BF9E-F619-40D7-8ACB-1B50E88BAD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685800" y="4572000"/>
            <a:ext cx="79246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1195290823483000"/>
          <p:cNvPicPr/>
          <p:nvPr/>
        </p:nvPicPr>
        <p:blipFill>
          <a:blip r:embed="rId1"/>
          <a:stretch/>
        </p:blipFill>
        <p:spPr>
          <a:xfrm>
            <a:off x="1143000" y="228600"/>
            <a:ext cx="6477120" cy="4105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838080" y="464832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955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年，富于想象力和创造精神的美国动画片大师沃尔特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·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迪斯尼在加利福尼亚州创办了第一座现代化的游乐园，取名迪斯尼乐园（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Disneyland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，正式全名为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Disneyland Park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）。这不仅是第一个迪斯尼乐园，同时也是世界上第一个现代意义上的主题公园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1187280" y="404640"/>
            <a:ext cx="27370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116000" y="47628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爵士乐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200608071454417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060640"/>
            <a:ext cx="2190600" cy="3313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3635280" y="407664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3132000" y="2060640"/>
            <a:ext cx="56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源自美国黑人的爵士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世纪末发祥于美国南部路易斯安那州的新奥尔良市，至今已有百年历史。从最早期的“拉格泰姆”和“布鲁斯”到颇具规模的新奥尔良爵士乐；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代著名的以集体即兴演奏为主的“迪克西兰”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代以伴舞为主要职能的“摇摆乐”；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代追求高超的以和弦演奏为基础做即兴演奏的“比波普”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代风格迥异的“比波普”和“酷”以及随后的“自由”派；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代“摇滚”和爵士乐的融合，“合成”的出现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代“新经典主义”的诞生；直至今天，每一种爵士风格都活跃在舞台上。具有强烈持久生命力的爵士乐经过百年的演变和融合，早已突破了地域、种族和国界的局限，成为一种世界性的音乐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755640" y="2060640"/>
            <a:ext cx="8136000" cy="36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333399"/>
                </a:solidFill>
                <a:latin typeface="Arial"/>
                <a:ea typeface="宋体"/>
              </a:rPr>
              <a:t>快速阅读上述材料并根据课本找出以下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1</a:t>
            </a:r>
            <a:r>
              <a:rPr b="1" i="1" lang="zh-CN" sz="1800" spc="-1" strike="noStrike">
                <a:solidFill>
                  <a:srgbClr val="333399"/>
                </a:solidFill>
                <a:latin typeface="Arial"/>
                <a:ea typeface="宋体"/>
              </a:rPr>
              <a:t>、爵士乐起源于哪里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2</a:t>
            </a:r>
            <a:r>
              <a:rPr b="1" i="1" lang="zh-CN" sz="1800" spc="-1" strike="noStrike">
                <a:solidFill>
                  <a:srgbClr val="333399"/>
                </a:solidFill>
                <a:latin typeface="Arial"/>
                <a:ea typeface="宋体"/>
              </a:rPr>
              <a:t>、爵士乐发展的基本脉络是怎样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3</a:t>
            </a:r>
            <a:r>
              <a:rPr b="1" i="1" lang="zh-CN" sz="1800" spc="-1" strike="noStrike">
                <a:solidFill>
                  <a:srgbClr val="333399"/>
                </a:solidFill>
                <a:latin typeface="Arial"/>
                <a:ea typeface="宋体"/>
              </a:rPr>
              <a:t>、爵士乐最主要的演奏特点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4</a:t>
            </a:r>
            <a:r>
              <a:rPr b="1" i="1" lang="zh-CN" sz="1800" spc="-1" strike="noStrike">
                <a:solidFill>
                  <a:srgbClr val="333399"/>
                </a:solidFill>
                <a:latin typeface="Arial"/>
                <a:ea typeface="宋体"/>
              </a:rPr>
              <a:t>、爵士乐对世界音乐有什么影响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0" descr="115798295898377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6000" y="0"/>
            <a:ext cx="1908000" cy="112536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8197"/>
          <p:cNvSpPr/>
          <p:nvPr/>
        </p:nvSpPr>
        <p:spPr>
          <a:xfrm>
            <a:off x="1332000" y="1628640"/>
            <a:ext cx="58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187280" y="476280"/>
            <a:ext cx="2665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爵士乐赏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qp-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700280"/>
            <a:ext cx="2950920" cy="424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200772684229_208172_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1700280"/>
            <a:ext cx="3446280" cy="4176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20070929103146_2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0"/>
            <a:ext cx="1258920" cy="12682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1"/>
          <p:cNvSpPr/>
          <p:nvPr/>
        </p:nvSpPr>
        <p:spPr>
          <a:xfrm>
            <a:off x="252360" y="1486080"/>
            <a:ext cx="8496360" cy="446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i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布鲁斯”（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Blues)</a:t>
            </a:r>
            <a:r>
              <a:rPr b="1" i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，是爵士乐初期的一种重要形式，为爵士音乐的旋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i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基础，源自非洲，由非洲的黑人带到美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1</a:t>
            </a:r>
            <a:r>
              <a:rPr b="1" i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、大家听到的爵士乐片段中文曲名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《</a:t>
            </a:r>
            <a:r>
              <a:rPr b="1" i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蓝色狂想曲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》</a:t>
            </a:r>
            <a:r>
              <a:rPr b="1" i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      </a:t>
            </a:r>
            <a:r>
              <a:rPr b="1" i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从音乐旋律来听，根据你的英语知识你觉得有没有更准确的翻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2</a:t>
            </a:r>
            <a:r>
              <a:rPr b="1" i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、请大家根据所学知识判断“布鲁斯”音乐的历史背景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3</a:t>
            </a:r>
            <a:r>
              <a:rPr b="1" i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、你能否试着谈谈黑人在演唱时的内心情感是怎样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258920" y="692280"/>
            <a:ext cx="28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58920" y="76500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Arial"/>
              </a:rPr>
              <a:t>好莱坞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276720" y="2421000"/>
            <a:ext cx="52689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好莱坞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ollywoo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，位于美国加利福尼亚州洛杉矶市的西北郊区。原为一僻静村庄，因具备拍摄电影外景的各种条件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0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年后美国各地的制片商陆续向此处集中。美国八大影片公司均创办于此。遂逐渐成为美国电影制片业的中心，因此，习惯上把“好莱坞”作为“美国电影业”的同义语。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好莱坞谱写了世界电影史上的最重要部分，电影真正成为影响世界的艺术是从好莱坞开始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11831005358653841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040" y="2781360"/>
            <a:ext cx="2592360" cy="1854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奥斯卡奖杯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45560" y="0"/>
            <a:ext cx="11984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826920" y="907920"/>
            <a:ext cx="216072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大师推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400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1341360"/>
            <a:ext cx="2735280" cy="45244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1"/>
          <p:cNvSpPr/>
          <p:nvPr/>
        </p:nvSpPr>
        <p:spPr>
          <a:xfrm>
            <a:off x="324000" y="1916280"/>
            <a:ext cx="5472000" cy="38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华文新魏"/>
              </a:rPr>
              <a:t>查尔斯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·</a:t>
            </a:r>
            <a:r>
              <a:rPr b="1" lang="zh-CN" sz="1800" spc="-1" strike="noStrike">
                <a:solidFill>
                  <a:srgbClr val="333399"/>
                </a:solidFill>
                <a:latin typeface="华文新魏"/>
              </a:rPr>
              <a:t>斯潘塞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·</a:t>
            </a:r>
            <a:r>
              <a:rPr b="1" lang="zh-CN" sz="1800" spc="-1" strike="noStrike">
                <a:solidFill>
                  <a:srgbClr val="333399"/>
                </a:solidFill>
                <a:latin typeface="华文新魏"/>
              </a:rPr>
              <a:t>卓别林爵士（</a:t>
            </a:r>
            <a:r>
              <a:rPr b="1" lang="en-US" sz="1800" spc="-1" strike="noStrike">
                <a:solidFill>
                  <a:srgbClr val="333399"/>
                </a:solidFill>
                <a:latin typeface="华文新魏"/>
              </a:rPr>
              <a:t>1889-1977</a:t>
            </a:r>
            <a:r>
              <a:rPr b="1" lang="zh-CN" sz="1800" spc="-1" strike="noStrike">
                <a:solidFill>
                  <a:srgbClr val="333399"/>
                </a:solidFill>
                <a:latin typeface="华文新魏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华文新魏"/>
              </a:rPr>
              <a:t>英国电影演员，导演，制片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华文新魏"/>
              </a:rPr>
              <a:t>一生共拍摄</a:t>
            </a:r>
            <a:r>
              <a:rPr b="1" lang="en-US" sz="1800" spc="-1" strike="noStrike">
                <a:solidFill>
                  <a:srgbClr val="333399"/>
                </a:solidFill>
                <a:latin typeface="华文新魏"/>
              </a:rPr>
              <a:t>80</a:t>
            </a:r>
            <a:r>
              <a:rPr b="1" lang="zh-CN" sz="1800" spc="-1" strike="noStrike">
                <a:solidFill>
                  <a:srgbClr val="333399"/>
                </a:solidFill>
                <a:latin typeface="华文新魏"/>
              </a:rPr>
              <a:t>余部喜剧片，其中在电影史上著名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华文新魏"/>
              </a:rPr>
              <a:t>影片有</a:t>
            </a:r>
            <a:r>
              <a:rPr b="1" lang="en-US" sz="1800" spc="-1" strike="noStrike">
                <a:solidFill>
                  <a:srgbClr val="333399"/>
                </a:solidFill>
                <a:latin typeface="华文新魏"/>
              </a:rPr>
              <a:t>《</a:t>
            </a:r>
            <a:r>
              <a:rPr b="1" lang="zh-CN" sz="1800" spc="-1" strike="noStrike">
                <a:solidFill>
                  <a:srgbClr val="333399"/>
                </a:solidFill>
                <a:latin typeface="华文新魏"/>
              </a:rPr>
              <a:t>淘金记</a:t>
            </a:r>
            <a:r>
              <a:rPr b="1" lang="en-US" sz="1800" spc="-1" strike="noStrike">
                <a:solidFill>
                  <a:srgbClr val="333399"/>
                </a:solidFill>
                <a:latin typeface="华文新魏"/>
              </a:rPr>
              <a:t>》《</a:t>
            </a:r>
            <a:r>
              <a:rPr b="1" lang="zh-CN" sz="1800" spc="-1" strike="noStrike">
                <a:solidFill>
                  <a:srgbClr val="333399"/>
                </a:solidFill>
                <a:latin typeface="华文新魏"/>
              </a:rPr>
              <a:t>城市之光</a:t>
            </a:r>
            <a:r>
              <a:rPr b="1" lang="en-US" sz="1800" spc="-1" strike="noStrike">
                <a:solidFill>
                  <a:srgbClr val="333399"/>
                </a:solidFill>
                <a:latin typeface="华文新魏"/>
              </a:rPr>
              <a:t>》《</a:t>
            </a:r>
            <a:r>
              <a:rPr b="1" lang="zh-CN" sz="1800" spc="-1" strike="noStrike">
                <a:solidFill>
                  <a:srgbClr val="333399"/>
                </a:solidFill>
                <a:latin typeface="华文新魏"/>
              </a:rPr>
              <a:t>摩登时代</a:t>
            </a:r>
            <a:r>
              <a:rPr b="1" lang="en-US" sz="1800" spc="-1" strike="noStrike">
                <a:solidFill>
                  <a:srgbClr val="333399"/>
                </a:solidFill>
                <a:latin typeface="华文新魏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华文新魏"/>
              </a:rPr>
              <a:t>《</a:t>
            </a:r>
            <a:r>
              <a:rPr b="1" lang="zh-CN" sz="1800" spc="-1" strike="noStrike">
                <a:solidFill>
                  <a:srgbClr val="ff3300"/>
                </a:solidFill>
                <a:latin typeface="华文新魏"/>
              </a:rPr>
              <a:t>大独裁者</a:t>
            </a:r>
            <a:r>
              <a:rPr b="1" lang="en-US" sz="1800" spc="-1" strike="noStrike">
                <a:solidFill>
                  <a:srgbClr val="ff3300"/>
                </a:solidFill>
                <a:latin typeface="华文新魏"/>
              </a:rPr>
              <a:t>》</a:t>
            </a:r>
            <a:r>
              <a:rPr b="1" lang="en-US" sz="1800" spc="-1" strike="noStrike">
                <a:solidFill>
                  <a:srgbClr val="333399"/>
                </a:solidFill>
                <a:latin typeface="华文新魏"/>
              </a:rPr>
              <a:t>《</a:t>
            </a:r>
            <a:r>
              <a:rPr b="1" lang="zh-CN" sz="1800" spc="-1" strike="noStrike">
                <a:solidFill>
                  <a:srgbClr val="333399"/>
                </a:solidFill>
                <a:latin typeface="华文新魏"/>
              </a:rPr>
              <a:t>凡尔杜先生</a:t>
            </a:r>
            <a:r>
              <a:rPr b="1" lang="en-US" sz="1800" spc="-1" strike="noStrike">
                <a:solidFill>
                  <a:srgbClr val="333399"/>
                </a:solidFill>
                <a:latin typeface="华文新魏"/>
              </a:rPr>
              <a:t>》《</a:t>
            </a:r>
            <a:r>
              <a:rPr b="1" lang="zh-CN" sz="1800" spc="-1" strike="noStrike">
                <a:solidFill>
                  <a:srgbClr val="333399"/>
                </a:solidFill>
                <a:latin typeface="华文新魏"/>
              </a:rPr>
              <a:t>舞台生涯</a:t>
            </a:r>
            <a:r>
              <a:rPr b="1" lang="en-US" sz="1800" spc="-1" strike="noStrike">
                <a:solidFill>
                  <a:srgbClr val="333399"/>
                </a:solidFill>
                <a:latin typeface="华文新魏"/>
              </a:rPr>
              <a:t>》</a:t>
            </a:r>
            <a:r>
              <a:rPr b="1" lang="zh-CN" sz="1800" spc="-1" strike="noStrike">
                <a:solidFill>
                  <a:srgbClr val="333399"/>
                </a:solidFill>
                <a:latin typeface="华文新魏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华文新魏"/>
              </a:rPr>
              <a:t>这些影片反映了卓别林从一个普通的人道主义者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华文新魏"/>
              </a:rPr>
              <a:t>一位伟大的批判现实主义艺术大师的过程。卓别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华文新魏"/>
              </a:rPr>
              <a:t>以其精湛的表演艺术，对下层劳动者寄予深切同情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华文新魏"/>
              </a:rPr>
              <a:t>对资本主义社会的种种弊端进行辛辣的讽刺，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华文新魏"/>
              </a:rPr>
              <a:t>西斯头子希特勒进行了无情的鞭笞。</a:t>
            </a:r>
            <a:r>
              <a:rPr b="1" lang="en-US" sz="1800" spc="-1" strike="noStrike">
                <a:solidFill>
                  <a:srgbClr val="333399"/>
                </a:solidFill>
                <a:latin typeface="华文新魏"/>
              </a:rPr>
              <a:t>1972</a:t>
            </a:r>
            <a:r>
              <a:rPr b="1" lang="zh-CN" sz="1800" spc="-1" strike="noStrike">
                <a:solidFill>
                  <a:srgbClr val="333399"/>
                </a:solidFill>
                <a:latin typeface="华文新魏"/>
              </a:rPr>
              <a:t>年，美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华文新魏"/>
              </a:rPr>
              <a:t>隆重邀请卓别林回到好莱坞，授予他</a:t>
            </a:r>
            <a:r>
              <a:rPr b="1" lang="zh-CN" sz="1800" spc="-1" strike="noStrike">
                <a:solidFill>
                  <a:srgbClr val="ff3300"/>
                </a:solidFill>
                <a:latin typeface="华文新魏"/>
              </a:rPr>
              <a:t>奥斯卡终身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华文新魏"/>
              </a:rPr>
              <a:t>就奖</a:t>
            </a:r>
            <a:r>
              <a:rPr b="1" lang="zh-CN" sz="1800" spc="-1" strike="noStrike">
                <a:solidFill>
                  <a:srgbClr val="333399"/>
                </a:solidFill>
                <a:latin typeface="华文新魏"/>
              </a:rPr>
              <a:t>，称他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333399"/>
                </a:solidFill>
                <a:latin typeface="华文新魏"/>
              </a:rPr>
              <a:t>在本世纪为电影艺术作出不可估量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华文新魏"/>
              </a:rPr>
              <a:t>贡献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1800" spc="-1" strike="noStrike">
                <a:solidFill>
                  <a:srgbClr val="333399"/>
                </a:solidFill>
                <a:latin typeface="华文新魏"/>
              </a:rPr>
              <a:t>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13"/>
          <p:cNvSpPr/>
          <p:nvPr/>
        </p:nvSpPr>
        <p:spPr>
          <a:xfrm>
            <a:off x="4572000" y="333360"/>
            <a:ext cx="4321080" cy="42480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4356000" y="5013360"/>
            <a:ext cx="4680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U397P1T1D4339878F21DT20040916192227"/>
          <p:cNvPicPr/>
          <p:nvPr/>
        </p:nvPicPr>
        <p:blipFill>
          <a:blip r:embed="rId1"/>
          <a:stretch/>
        </p:blipFill>
        <p:spPr>
          <a:xfrm>
            <a:off x="324000" y="333360"/>
            <a:ext cx="4001760" cy="60483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9"/>
          <p:cNvSpPr/>
          <p:nvPr/>
        </p:nvSpPr>
        <p:spPr>
          <a:xfrm>
            <a:off x="5435640" y="981000"/>
            <a:ext cx="2592360" cy="345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战争片</a:t>
            </a:r>
            <a:br>
              <a:rPr sz="1800"/>
            </a:b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动作片</a:t>
            </a:r>
            <a:br>
              <a:rPr sz="1800"/>
            </a:b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惊悚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剧情片</a:t>
            </a:r>
            <a:br>
              <a:rPr sz="1800"/>
            </a:b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科幻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喜剧片</a:t>
            </a:r>
            <a:br>
              <a:rPr sz="1800"/>
            </a:b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灾难片 </a:t>
            </a:r>
            <a:br>
              <a:rPr sz="1800"/>
            </a:b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歌舞片</a:t>
            </a:r>
            <a:br>
              <a:rPr sz="1800"/>
            </a:b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卡通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魔幻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爱情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西部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4356000" y="5013360"/>
            <a:ext cx="46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、说出你最喜欢的电影类型和看过的最喜欢的好莱坞电影名称，并简单说明理由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、小游戏：请大家判断以下电影的类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5796000" y="40464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好莱坞电影主要类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8"/>
          <p:cNvSpPr/>
          <p:nvPr/>
        </p:nvSpPr>
        <p:spPr>
          <a:xfrm>
            <a:off x="4284720" y="5084640"/>
            <a:ext cx="38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971640" y="5157720"/>
            <a:ext cx="244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20071126200614"/>
          <p:cNvPicPr/>
          <p:nvPr/>
        </p:nvPicPr>
        <p:blipFill>
          <a:blip r:embed="rId1"/>
          <a:stretch/>
        </p:blipFill>
        <p:spPr>
          <a:xfrm>
            <a:off x="755640" y="620640"/>
            <a:ext cx="2751120" cy="41958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826920" y="5228640"/>
            <a:ext cx="252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蝙蝠侠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：黑骑士 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》</a:t>
            </a:r>
            <a:br>
              <a:rPr sz="20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20071126192832"/>
          <p:cNvPicPr/>
          <p:nvPr/>
        </p:nvPicPr>
        <p:blipFill>
          <a:blip r:embed="rId2"/>
          <a:stretch/>
        </p:blipFill>
        <p:spPr>
          <a:xfrm>
            <a:off x="4140360" y="1341360"/>
            <a:ext cx="3889080" cy="33116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3"/>
          <p:cNvSpPr/>
          <p:nvPr/>
        </p:nvSpPr>
        <p:spPr>
          <a:xfrm>
            <a:off x="4284720" y="515664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哈利波特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：混血王子的背叛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8197"/>
          <p:cNvSpPr/>
          <p:nvPr/>
        </p:nvSpPr>
        <p:spPr>
          <a:xfrm>
            <a:off x="2276640" y="184320"/>
            <a:ext cx="58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5580000" y="5157720"/>
            <a:ext cx="1871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宋体"/>
                <a:ea typeface="宋体"/>
              </a:rPr>
              <a:t>《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  <a:ea typeface="宋体"/>
              </a:rPr>
              <a:t>第一滴血</a:t>
            </a:r>
            <a:r>
              <a:rPr b="1" lang="en-US" sz="2000" spc="-1" strike="noStrike">
                <a:solidFill>
                  <a:srgbClr val="333399"/>
                </a:solidFill>
                <a:latin typeface="宋体"/>
                <a:ea typeface="宋体"/>
              </a:rPr>
              <a:t>4</a:t>
            </a:r>
            <a:r>
              <a:rPr b="1" lang="en-US" sz="2000" spc="-1" strike="noStrike">
                <a:solidFill>
                  <a:srgbClr val="333399"/>
                </a:solidFill>
                <a:latin typeface="宋体"/>
                <a:ea typeface="宋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332000" y="5157720"/>
            <a:ext cx="20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2007718124957813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549360"/>
            <a:ext cx="3065400" cy="4174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1332000" y="5229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《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宋体"/>
              </a:rPr>
              <a:t>拯救大兵瑞恩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20071126195259"/>
          <p:cNvPicPr/>
          <p:nvPr/>
        </p:nvPicPr>
        <p:blipFill>
          <a:blip r:embed="rId3"/>
          <a:stretch/>
        </p:blipFill>
        <p:spPr>
          <a:xfrm>
            <a:off x="5148360" y="549360"/>
            <a:ext cx="28065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8"/>
          <p:cNvSpPr/>
          <p:nvPr/>
        </p:nvSpPr>
        <p:spPr>
          <a:xfrm>
            <a:off x="6084720" y="5589720"/>
            <a:ext cx="1727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1403280" y="5516640"/>
            <a:ext cx="201636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2007-09-10_0304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41300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fc51516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620640"/>
            <a:ext cx="3270240" cy="4464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5"/>
          <p:cNvSpPr/>
          <p:nvPr/>
        </p:nvSpPr>
        <p:spPr>
          <a:xfrm>
            <a:off x="1403280" y="551664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《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泰坦尼克号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6084720" y="558972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《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罗马假日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3:34:49Z</dcterms:created>
  <dc:creator>第一PPT模板网-WWW.1PPT.COM</dc:creator>
  <dc:description>第一PPT模板网-WWW.1PPT.COM
</dc:description>
  <cp:keywords>第一PPT模板网-WWW.1PPT.COM</cp:keywords>
  <dc:language>en-US</dc:language>
  <cp:lastModifiedBy>pc</cp:lastModifiedBy>
  <dcterms:modified xsi:type="dcterms:W3CDTF">2016-06-30T08:56:44Z</dcterms:modified>
  <cp:revision>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