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chimes.wav" ContentType="audio/x-wav"/>
  <Override PartName="/ppt/media/image16.png" ContentType="image/png"/>
  <Override PartName="/ppt/media/image9.gif" ContentType="image/gif"/>
  <Override PartName="/ppt/media/explode.wav" ContentType="audio/x-wav"/>
  <Override PartName="/ppt/media/image10.gif" ContentType="image/gif"/>
  <Override PartName="/ppt/media/image8.wmf" ContentType="image/x-wmf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13.jpeg" ContentType="image/jpeg"/>
  <Override PartName="/ppt/media/image4.png" ContentType="image/png"/>
  <Override PartName="/ppt/media/image20.jpeg" ContentType="image/jpeg"/>
  <Override PartName="/ppt/media/image12.png" ContentType="image/png"/>
  <Override PartName="/ppt/media/image5.png" ContentType="image/png"/>
  <Override PartName="/ppt/media/image15.png" ContentType="image/png"/>
  <Override PartName="/ppt/media/image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133-63B1-42A5-BC2C-86347143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1A0-F6B0-4A93-9274-06CAE0B3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BA5-E0CF-4FB8-931B-5FB54CEC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C4D-71A8-4020-9605-B0503DD6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B9BA-7179-412F-8748-869357A0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BA2F-A7DF-4459-A778-62C3DC70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3859-6323-4924-869D-DA80746A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7670-3068-4D23-998E-7EFED27C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976D-7F27-4760-8CCA-5B6CCF09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3A5D-35BB-474F-864C-41C105B2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4C64-696C-41F4-8577-F6443C7A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F32-D11F-498F-8D6F-D034B171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9964-ACA0-4372-B980-8A9CB7D4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3C51-5F98-4D87-B836-DD2A857F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3ABE-AA7E-485C-BB46-FEC2209B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5A6A-78F0-436A-9D0B-EB9C7850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A959-59A8-41EF-8FA8-40118DFB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705-8C6D-4BED-93AB-0DCD2ECD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13BB-A44D-4675-B406-86FFFC3E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CBD-14FA-4C1D-8162-3190C12F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BCE-ABAC-41C9-9D28-A43FE145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A40-2E53-497C-93D6-26074ADC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A28-1482-4A89-87A6-03EB5877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92C-9370-4569-97B3-694FFF6D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B446-9183-4AD9-BC75-EE30CDAE8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0CD4-FE25-4F1F-B435-326E92C599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720720" y="1184400"/>
            <a:ext cx="770400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学会调控情绪课件</a:t>
            </a:r>
            <a:r>
              <a:rPr b="1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PPT</a:t>
            </a: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免费下载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5"/>
          <a:stretch/>
        </p:blipFill>
        <p:spPr>
          <a:xfrm>
            <a:off x="1908000" y="2924280"/>
            <a:ext cx="5040360" cy="282888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47280" y="2133720"/>
            <a:ext cx="59770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如果用积极乐观的态度看待事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我们就会产生健康的积极情绪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如果我们用悲观的态度看待事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我们就会产生有害的情绪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4"/>
          <p:cNvSpPr/>
          <p:nvPr/>
        </p:nvSpPr>
        <p:spPr>
          <a:xfrm flipV="1">
            <a:off x="324000" y="333000"/>
            <a:ext cx="4941720" cy="1303200"/>
          </a:xfrm>
          <a:prstGeom prst="wedgeRoundRectCallout">
            <a:avLst>
              <a:gd name="adj1" fmla="val 62171"/>
              <a:gd name="adj2" fmla="val -49027"/>
              <a:gd name="adj3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你还能例举出其他类似的事例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50920" y="2421000"/>
            <a:ext cx="201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炎炎夏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上完体育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干舌燥的回到教室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矿泉水只剩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半瓶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2197080" y="2565360"/>
            <a:ext cx="287280" cy="28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556000" y="2349360"/>
            <a:ext cx="374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积极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14"/>
          <p:cNvPicPr/>
          <p:nvPr/>
        </p:nvPicPr>
        <p:blipFill>
          <a:blip r:embed="rId1"/>
          <a:stretch/>
        </p:blipFill>
        <p:spPr>
          <a:xfrm>
            <a:off x="5796000" y="26028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5"/>
          <p:cNvSpPr/>
          <p:nvPr/>
        </p:nvSpPr>
        <p:spPr>
          <a:xfrm>
            <a:off x="2556000" y="450864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极态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484360" y="299736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还有半瓶水可以享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2627280" y="49878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倒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半瓶水哪里够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651640" y="2924280"/>
            <a:ext cx="1584360" cy="360"/>
            <a:chOff x="5651640" y="2924280"/>
            <a:chExt cx="1584360" cy="360"/>
          </a:xfrm>
        </p:grpSpPr>
        <p:sp>
          <p:nvSpPr>
            <p:cNvPr id="113" name="Line 18"/>
            <p:cNvSpPr/>
            <p:nvPr/>
          </p:nvSpPr>
          <p:spPr>
            <a:xfrm>
              <a:off x="5651640" y="2924280"/>
              <a:ext cx="1584360" cy="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5651640" y="292428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WordArt 19"/>
          <p:cNvSpPr txBox="1"/>
          <p:nvPr/>
        </p:nvSpPr>
        <p:spPr>
          <a:xfrm>
            <a:off x="5724360" y="4282920"/>
            <a:ext cx="1440000" cy="4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产生的情绪</a:t>
            </a:r>
            <a:endParaRPr b="1" lang="en-US" sz="1800" spc="-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651640" y="4797360"/>
            <a:ext cx="1584360" cy="360"/>
            <a:chOff x="5651640" y="4797360"/>
            <a:chExt cx="1584360" cy="360"/>
          </a:xfrm>
        </p:grpSpPr>
        <p:sp>
          <p:nvSpPr>
            <p:cNvPr id="117" name="Line 20"/>
            <p:cNvSpPr/>
            <p:nvPr/>
          </p:nvSpPr>
          <p:spPr>
            <a:xfrm>
              <a:off x="5651640" y="4797360"/>
              <a:ext cx="1584360" cy="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5651640" y="479736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WordArt 21"/>
          <p:cNvSpPr txBox="1"/>
          <p:nvPr/>
        </p:nvSpPr>
        <p:spPr>
          <a:xfrm>
            <a:off x="5724360" y="2411280"/>
            <a:ext cx="1440000" cy="4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产生的情绪</a:t>
            </a:r>
            <a:endParaRPr b="1" lang="en-US" sz="1800" spc="-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WordArt 22"/>
          <p:cNvSpPr txBox="1"/>
          <p:nvPr/>
        </p:nvSpPr>
        <p:spPr>
          <a:xfrm>
            <a:off x="7308720" y="2492280"/>
            <a:ext cx="158436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愉快 满足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WordArt 23"/>
          <p:cNvSpPr txBox="1"/>
          <p:nvPr/>
        </p:nvSpPr>
        <p:spPr>
          <a:xfrm>
            <a:off x="7250040" y="4581360"/>
            <a:ext cx="16430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气愤 难受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42560" y="1844280"/>
            <a:ext cx="77770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片段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小明和小军到市场去买衣服，当拿了找回的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元钱和衣服走离不远时，小军感觉找回的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元钱有点不对劲，于是到附近验了验，结果真的是假币。小军顿时火冒三丈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755640" y="333360"/>
            <a:ext cx="309564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情景设想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260280"/>
            <a:ext cx="849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片段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下课了，李华一边往门外走一边想终于可以放松一下了，心里也不由的开心起来。哪知自己的脚突然被撞了一下，身体失去平衡差点跌了个嘴啃泥，李华气得回头望去，班上的调皮鬼王辉正朝着他坏笑呢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08000" y="2349000"/>
            <a:ext cx="5329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通过以上两个例子，你能总结出初中学生的情绪的特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0920" y="2133360"/>
            <a:ext cx="76960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于初中阶段的学生，情绪丰富而强烈，可是情绪的起伏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变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稳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而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容易冲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如果我们随意放任自己的情绪有时还会影响同学之间的友好与团结，甚至使人违反校纪，触犯法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omb"/>
          <p:cNvPicPr/>
          <p:nvPr/>
        </p:nvPicPr>
        <p:blipFill>
          <a:blip r:embed="rId1"/>
          <a:stretch/>
        </p:blipFill>
        <p:spPr>
          <a:xfrm>
            <a:off x="7086600" y="5105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3"/>
          <p:cNvPicPr/>
          <p:nvPr/>
        </p:nvPicPr>
        <p:blipFill>
          <a:blip r:embed="rId2"/>
          <a:stretch/>
        </p:blipFill>
        <p:spPr>
          <a:xfrm>
            <a:off x="0" y="189000"/>
            <a:ext cx="914400" cy="419040"/>
          </a:xfrm>
          <a:prstGeom prst="rect">
            <a:avLst/>
          </a:prstGeom>
          <a:ln w="0">
            <a:noFill/>
          </a:ln>
        </p:spPr>
      </p:pic>
      <p:sp>
        <p:nvSpPr>
          <p:cNvPr id="129" name="WordArt 8"/>
          <p:cNvSpPr txBox="1"/>
          <p:nvPr/>
        </p:nvSpPr>
        <p:spPr>
          <a:xfrm>
            <a:off x="900000" y="62064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二、情绪必须加以调适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0" name="文本框 8199"/>
          <p:cNvSpPr/>
          <p:nvPr/>
        </p:nvSpPr>
        <p:spPr>
          <a:xfrm>
            <a:off x="755640" y="1557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356000" y="2924280"/>
            <a:ext cx="43308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每种方法的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含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每种方法的具体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做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539640" y="1413000"/>
            <a:ext cx="554508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方正准圆简体"/>
              </a:rPr>
              <a:t>自习</a:t>
            </a:r>
            <a:r>
              <a:rPr b="1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方正准圆简体"/>
              </a:rPr>
              <a:t>:P33-35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方正准圆简体"/>
              </a:rPr>
              <a:t>调节情绪的方法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方正准圆简体"/>
              <a:ea typeface="方正准圆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RY_033"/>
          <p:cNvPicPr/>
          <p:nvPr/>
        </p:nvPicPr>
        <p:blipFill>
          <a:blip r:embed="rId1"/>
          <a:stretch/>
        </p:blipFill>
        <p:spPr>
          <a:xfrm>
            <a:off x="228600" y="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3"/>
          <p:cNvSpPr txBox="1"/>
          <p:nvPr/>
        </p:nvSpPr>
        <p:spPr>
          <a:xfrm rot="5400000">
            <a:off x="151560" y="2514600"/>
            <a:ext cx="25146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5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快乐钥匙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24000" y="5013360"/>
            <a:ext cx="761760" cy="1547640"/>
            <a:chOff x="324000" y="5013360"/>
            <a:chExt cx="761760" cy="1547640"/>
          </a:xfrm>
        </p:grpSpPr>
        <p:sp>
          <p:nvSpPr>
            <p:cNvPr id="137" name="Oval 5"/>
            <p:cNvSpPr/>
            <p:nvPr/>
          </p:nvSpPr>
          <p:spPr>
            <a:xfrm>
              <a:off x="399960" y="5089320"/>
              <a:ext cx="533160" cy="533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6"/>
            <p:cNvGrpSpPr/>
            <p:nvPr/>
          </p:nvGrpSpPr>
          <p:grpSpPr>
            <a:xfrm>
              <a:off x="324000" y="5013360"/>
              <a:ext cx="761760" cy="1547640"/>
              <a:chOff x="324000" y="5013360"/>
              <a:chExt cx="761760" cy="1547640"/>
            </a:xfrm>
          </p:grpSpPr>
          <p:sp>
            <p:nvSpPr>
              <p:cNvPr id="139" name="Text Box 7"/>
              <p:cNvSpPr/>
              <p:nvPr/>
            </p:nvSpPr>
            <p:spPr>
              <a:xfrm>
                <a:off x="324000" y="5798880"/>
                <a:ext cx="7617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8"/>
              <p:cNvSpPr/>
              <p:nvPr/>
            </p:nvSpPr>
            <p:spPr>
              <a:xfrm>
                <a:off x="579240" y="5013360"/>
                <a:ext cx="1839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1" name="Picture 9" descr="RM_0164"/>
          <p:cNvPicPr/>
          <p:nvPr/>
        </p:nvPicPr>
        <p:blipFill>
          <a:blip r:embed="rId2"/>
          <a:stretch/>
        </p:blipFill>
        <p:spPr>
          <a:xfrm>
            <a:off x="512928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2411280" y="83664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理智控制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2916360" y="3500280"/>
            <a:ext cx="315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2556000" y="1844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注意转移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059280" y="3141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2556000" y="3213000"/>
            <a:ext cx="3671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幽默化解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1547640" y="4581360"/>
            <a:ext cx="576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积极的自我暗示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调控情绪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理智调控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注意力转移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幽默化解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积极的自我暗示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遇到下列情况时，是如何调控自己的情绪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和同学吵了一架，很生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为自己做错了事而懊恼不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被别人误解，心里很委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担心自己赢不了明天的羽毛球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028"/>
          <p:cNvPicPr/>
          <p:nvPr/>
        </p:nvPicPr>
        <p:blipFill>
          <a:blip r:embed="rId1"/>
          <a:stretch/>
        </p:blipFill>
        <p:spPr>
          <a:xfrm>
            <a:off x="0" y="4162320"/>
            <a:ext cx="2484360" cy="2695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411280" y="1700280"/>
            <a:ext cx="6499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　我们每个人都有丰富多样的情绪，并且每一种情绪都会对我们产生不同的影响。但是这并不意味着我们会成为情绪的“奴隶”，相反我们每个人都能够成为自己情绪的主人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 rot="248400">
            <a:off x="177480" y="496800"/>
            <a:ext cx="6697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54000"/>
                </a:gradFill>
                <a:latin typeface="宋体"/>
              </a:rPr>
              <a:t>情绪是可以调适的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54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4000" y="1700280"/>
            <a:ext cx="9001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华文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与同学发生矛盾，我会从对方角度去考虑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我不开心时，会找朋友去打球或看电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遇到困难时，我会告诫自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界上没有什么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克服的困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我心情郁闷的时候，会选择去郊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我受到委屈时，会痛快地哭一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3"/>
          <p:cNvSpPr txBox="1"/>
          <p:nvPr/>
        </p:nvSpPr>
        <p:spPr>
          <a:xfrm>
            <a:off x="755640" y="189000"/>
            <a:ext cx="7561440" cy="11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判断下面所用的各是什么方法？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4"/>
          <p:cNvSpPr/>
          <p:nvPr/>
        </p:nvSpPr>
        <p:spPr>
          <a:xfrm>
            <a:off x="395280" y="1197000"/>
            <a:ext cx="5977080" cy="2879640"/>
          </a:xfrm>
          <a:prstGeom prst="wedgeRoundRectCallout">
            <a:avLst>
              <a:gd name="adj1" fmla="val 15976"/>
              <a:gd name="adj2" fmla="val 6637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你还知道哪些调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情绪的方法</a:t>
            </a:r>
            <a:r>
              <a:rPr b="1" lang="en-US" sz="4800" spc="-1" strike="noStrike">
                <a:solidFill>
                  <a:srgbClr val="000000"/>
                </a:solidFill>
                <a:latin typeface="幼圆"/>
                <a:ea typeface="幼圆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579640" y="2923920"/>
            <a:ext cx="26132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自我解嘲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260280"/>
            <a:ext cx="813420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一次，革命老前辈何长工讲起他的往事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的腿受过伤，一长一短，有人叫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瘸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我回答：是啊，我这一辈子走的都是不平坦的路。腿一长一短也有好处，跳舞时转圈，一条腿做轴心，比两条腿转圈灵活的多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95280" y="3716280"/>
            <a:ext cx="822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冼星海在国难当头时，满腔激愤，于是他把自己对帝国主义者的憎恨和脑海中的音乐灵感结合起来，写成了撼人心魄的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黄河大合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振奋起全中国人民同仇敌忾的民族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796000" y="5805360"/>
            <a:ext cx="25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情绪升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26560" y="1916280"/>
            <a:ext cx="74170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李亮今天考试没发挥好，心理很不好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放学后他生气地把椅子摔得震天响，并在教室里大喊大叫。同学们批评他，他却说：“这是我的事情，谁也管不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1332000" y="765000"/>
            <a:ext cx="60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他这样发泄情绪合适吗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5"/>
          <p:cNvSpPr txBox="1"/>
          <p:nvPr/>
        </p:nvSpPr>
        <p:spPr>
          <a:xfrm>
            <a:off x="684360" y="907920"/>
            <a:ext cx="2592360" cy="10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小组讨论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826920" y="2349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华文新魏"/>
              </a:rPr>
              <a:t>※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你判断某种情绪发泄方法是否合适的标准有哪些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402920" y="1413000"/>
            <a:ext cx="6923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良情绪需要宣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同的人有不同的方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但是一定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在道德和法律允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的范围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进行，并且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伤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自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身心健康，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伤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他人和集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利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合理宣泄情绪的方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11280" y="1773360"/>
            <a:ext cx="820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哭泣宣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3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Arial"/>
                <a:ea typeface="华文新魏"/>
              </a:rPr>
              <a:t>倾诉宣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运动宣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  <a:ea typeface="华文新魏"/>
              </a:rPr>
              <a:t>书写宣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95280" y="227628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配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杯友谊、二匙善良、三碟宽容、四碗理解、五杯关怀、六勺希望、七袋诚挚、八罐信任、九份努力、十分尊重，外加一桶笑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3"/>
          <p:cNvSpPr txBox="1"/>
          <p:nvPr/>
        </p:nvSpPr>
        <p:spPr>
          <a:xfrm>
            <a:off x="1258920" y="1052640"/>
            <a:ext cx="3529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快乐大餐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68" name="Picture 4" descr="27_4200_72"/>
          <p:cNvPicPr/>
          <p:nvPr/>
        </p:nvPicPr>
        <p:blipFill>
          <a:blip r:embed="rId1"/>
          <a:stretch/>
        </p:blipFill>
        <p:spPr>
          <a:xfrm>
            <a:off x="250920" y="6021360"/>
            <a:ext cx="8642160" cy="585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27_4200_72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585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调制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取关怀和诚挚，与信任充分搅拌，然后加入努力、善良、宽容、理解和尊重，添上友谊和希望，洒上大量笑声，同阳光一起烘烤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3"/>
          <p:cNvSpPr txBox="1"/>
          <p:nvPr/>
        </p:nvSpPr>
        <p:spPr>
          <a:xfrm>
            <a:off x="1187280" y="260280"/>
            <a:ext cx="324180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快乐大餐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72" name="WordArt 4" descr=""/>
          <p:cNvPicPr/>
          <p:nvPr/>
        </p:nvPicPr>
        <p:blipFill>
          <a:blip r:embed="rId1"/>
          <a:stretch/>
        </p:blipFill>
        <p:spPr>
          <a:xfrm>
            <a:off x="539640" y="4862520"/>
            <a:ext cx="8282160" cy="140328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5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243036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3E38-1257-497A-9735-C6C2A45D2D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6"/>
          <p:cNvSpPr/>
          <p:nvPr/>
        </p:nvSpPr>
        <p:spPr>
          <a:xfrm>
            <a:off x="539640" y="981000"/>
            <a:ext cx="7488360" cy="1224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cap="rnd" w="9360">
            <a:solidFill>
              <a:srgbClr val="cc33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5280" y="1268280"/>
            <a:ext cx="8748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请看书上</a:t>
            </a:r>
            <a:r>
              <a:rPr b="0" lang="en-US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32</a:t>
            </a: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页老奶奶的事例</a:t>
            </a:r>
            <a:r>
              <a:rPr b="0" lang="en-US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并思考</a:t>
            </a:r>
            <a:r>
              <a:rPr b="0" lang="en-US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方正美黑简体"/>
                <a:ea typeface="方正美黑简体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方正准圆简体"/>
                <a:ea typeface="方正准圆简体"/>
              </a:rPr>
              <a:t>起初她为何如此忧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准圆简体"/>
                <a:ea typeface="方正准圆简体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方正准圆简体"/>
                <a:ea typeface="方正准圆简体"/>
              </a:rPr>
              <a:t>后来她为何如此开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842920" y="2204640"/>
            <a:ext cx="482436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课后完成</a:t>
            </a:r>
            <a:r>
              <a:rPr b="1" lang="en-US" sz="6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同步</a:t>
            </a:r>
            <a:r>
              <a:rPr b="1" lang="en-US" sz="6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》</a:t>
            </a:r>
            <a:r>
              <a:rPr b="1" lang="en-US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258920" y="333360"/>
            <a:ext cx="2809800" cy="10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举一反三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155600" y="1027080"/>
            <a:ext cx="481824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0" bIns="46800" anchor="ctr">
            <a:no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老奶奶忧愁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雨天－－－小女儿 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洗  衣 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宋体"/>
              </a:rPr>
              <a:t>晴天－－－大女儿 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宋体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宋体"/>
              </a:rPr>
              <a:t>雨 伞 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a"/>
          <p:cNvPicPr/>
          <p:nvPr/>
        </p:nvPicPr>
        <p:blipFill>
          <a:blip r:embed="rId1"/>
          <a:stretch/>
        </p:blipFill>
        <p:spPr>
          <a:xfrm>
            <a:off x="6595920" y="352440"/>
            <a:ext cx="224820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971640" y="907920"/>
            <a:ext cx="5905440" cy="47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老奶奶乐呵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雨天－－－大女儿 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雨  伞  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晴天－－－小女儿 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                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洗  衣  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"/>
          <p:cNvPicPr/>
          <p:nvPr/>
        </p:nvPicPr>
        <p:blipFill>
          <a:blip r:embed="rId1"/>
          <a:stretch/>
        </p:blipFill>
        <p:spPr>
          <a:xfrm>
            <a:off x="6492960" y="495360"/>
            <a:ext cx="2089080" cy="21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冰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3"/>
          <p:cNvSpPr txBox="1"/>
          <p:nvPr/>
        </p:nvSpPr>
        <p:spPr>
          <a:xfrm>
            <a:off x="304920" y="152280"/>
            <a:ext cx="2179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故事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87280" y="255852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古希腊哲学家苏格拉底原先和几个朋友住在一间只有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平方的房子，有人认为他居住的条件太差了，他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朋友们住在一起，随时可以和他们交流感情，是值得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高兴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的事啊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几年后，他一个人住，又有人说他太寂寞了，他又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有很多书啊，一本书就是一个老师，我和那么多老师在一起，怎么会不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高兴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冰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304920" y="152280"/>
            <a:ext cx="2179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故事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55640" y="1268280"/>
            <a:ext cx="78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之后，他住楼房的一楼，有人认为一楼的环境差，他却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你不知道啊 ，一楼方便啊，进门就到家，朋友来也方便，还可以在空地上种花，种菜什么的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后来，他又搬到顶楼，有人说住顶楼没好处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好处多啊，每天爬楼锻炼身体啊，顶楼光线也好。头顶上没干扰，白天晚上都安静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99640" y="907560"/>
            <a:ext cx="7859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  <a:ea typeface="黑体"/>
              </a:rPr>
              <a:t>为什么面对居住环境的改变，别人总认为不好，而苏格拉底却总觉得很好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  <a:ea typeface="黑体"/>
              </a:rPr>
              <a:t>这两个事例告诉我们怎样的道理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小风铃"/>
          <p:cNvPicPr/>
          <p:nvPr/>
        </p:nvPicPr>
        <p:blipFill>
          <a:blip r:embed="rId1"/>
          <a:stretch/>
        </p:blipFill>
        <p:spPr>
          <a:xfrm>
            <a:off x="7451640" y="5589720"/>
            <a:ext cx="115272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692360" y="11113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对待事物的心态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、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态度不同，由此产生的情绪就会不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10:58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12Z</dcterms:modified>
  <cp:revision>6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