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3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1.gif" ContentType="image/gif"/>
  <Override PartName="/ppt/media/image1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AAC-FF72-4268-AC92-F3E53056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FB4-A4B6-4EE4-9548-B4AE4BD5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1D800-706D-454C-8DC6-2CA4EA9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2B7D3-02F7-4015-87F4-8FE89132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B3B5D-99D5-46B9-A7E1-0F4B7E00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2FA54-6236-4B61-BD8A-E0CD3EB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F5C21-189A-4063-B985-6D5627F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CFFDA-06A6-402A-93B4-28EAD7F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B8BA6-49BE-45E8-943D-4946E3AD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980C3-8E52-4F6F-814B-14EE3A50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C88A8-9A67-4B43-871A-96779435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D4595-37EB-49F8-BFE0-045601A6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98C-7EA9-4F5D-B207-DCA1271A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C4963-3520-4BA1-9DD3-0A269F1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CB58D-E7C7-4986-8E06-23A1E3A9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A8C4E-7438-45C6-8DD0-CA10824B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D5980-345B-4598-A9B7-7C8E118B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B881B-F5B1-480D-A23A-FE87BC70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34E98-FC11-4B34-9280-93439AC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F0FA0-7053-489B-BB96-0BAA3750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4D91A-AEE7-4A63-8D42-4E10BDF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FF8AB-3E8F-4B82-84F2-D0F961EB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19A05-5C07-4475-AF38-B601BCB4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63A-03A2-4AD6-8312-3E18A2CF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DDF93-FA8D-4B8B-ABDC-8897841B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EED6C-3AD6-4D87-8D63-747AEA3F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7BF81-13AE-4D58-B092-5257510C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C10B6-E135-4D39-9075-489AB615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93D9B-C8DA-42CA-8BC1-1EE7DC17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10254-DD4C-41AB-8CC8-09AC2F40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044D9-5FCB-49D2-AAFB-09625F7A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AC0CC-7381-4A4C-99E2-83B1678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875AE-89D2-46F6-B854-85F5F2C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C3513-7A3B-4453-8C10-13E2CD0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12D3-2D71-4974-86A0-169AAC34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2180D-CEE7-4DAC-82F0-055945DE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29895-3677-48E9-B867-DF88BF00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59989-4834-4977-AE60-FCA9B4B3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ACA29-F642-485F-9D54-9A49B617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81A1B-7F4B-446E-AB4B-CD80914B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641AA-5B39-4DB4-A00D-C5EBB504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6BAEF-7408-4ECE-98E6-A2B770F3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D3BA0-3E6E-4821-9ECE-A85412DD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75EF6-599E-4D6C-BBA1-A07AA3B5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2A36B-233B-4EE1-9E80-49EEA12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8B61-4099-4AB1-998E-278D3CB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0CEF1-EB05-47A7-84B6-DA791CF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E8B35-796C-4ED2-807A-6BF25AD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71E03-2E3A-4F28-8808-445BE34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2338F-1454-4FA6-B917-B217E761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9B3E3-27A5-4A32-99E2-4D199E75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2CCFF-5A0F-4D7B-B47C-9A7C5E1E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C392F-9C07-4721-9D5B-5862108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25DDA-8A6C-4DAC-8A8E-BF9C370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D29E0-DB5B-4F42-B90F-E51D9038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E0888-D6CE-4C34-B2AF-A25D39CE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5FC3-136B-4DAB-9A24-7AAE9260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B145E-14EE-45BC-BF5E-4FCC07FA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2E5A8-0751-4AE4-AC6C-E2BA2B3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98CC2-BF8D-4CD9-A4BF-0256EC49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92B2B-3A6C-4C9E-88BF-97BC03C7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02E09-17B2-4358-BA44-BBA48BA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C08A8-BB4A-48CD-AABA-58071633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E3883-6A65-401A-8039-F852AF99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D062-EDBD-4791-B286-E241AE04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99A9-70DD-4D55-85AB-5EA61FE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BFCD-4AD9-4C56-A104-2D09C1A9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A206-3C25-4064-9078-4E3D8EC5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94C-2F44-44D3-99B1-10FF10B8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5BEA-242D-445F-A3D4-CDB1686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0E4E-4915-40BA-90A7-7160028A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A459-3E5A-48D5-A239-9756D462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EA91-91B8-4F5A-A62B-2B55A899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8476-4208-4327-9502-A3FFC26F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098C-9204-48EB-B075-AB8375B4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6D0B-EE23-46BB-B127-085BD086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3F0A-58CE-47B3-AB6A-DBF2133D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3BCD-C1AA-4C29-9C98-292BF3DE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5B49-8D75-4D9F-A163-F9B33E3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F50-DCE1-45EC-A76F-ED60A06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37CD-1B0C-433B-83A7-1B6E1118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6226-6CC7-4032-A97B-A4DBF3A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9DB4-47FA-402E-9E4C-B31D5F7F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C374-B2FF-4A70-A502-AF61B9E3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8EE9-63C9-4479-904E-A090232D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062E-461A-41A9-91C6-5734D017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9FE8-561A-404D-8106-F8E7E999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1E42-99B5-4C62-B7FF-49C49217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1303-BA8B-4190-ABAB-0A49F54D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B316-0DD0-42A7-B361-6DDA8FD7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CB2-5B55-4D97-B7BF-B2E25609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F9A1-929E-4300-8AA1-B8D6EE81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F8A8-A992-4D79-8A6A-589C1FB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D770-BE82-4387-9E74-8AC732E7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863C-E623-432B-9567-F749F19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608AD-B49F-42D9-96CC-7BED074E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0D061-800E-47A6-8B68-80DCED0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7B87-7838-49A1-9CF3-2BC4A50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B7EF-B463-4132-A22A-06528CA7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A3E2-FB10-421D-9C45-DF5F9CD3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6DCE-DE7A-4F4D-9740-0411A648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F3D-52B2-4D16-B979-966688C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A1E8-045A-4C98-977A-807E7B7E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6215-236F-4B41-8F1F-C31D4BF0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00AF-9A66-4E1F-AC2D-3093459E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5A273-70E4-4081-A892-BA1D9A41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0B04-AEA2-4462-9418-A7EA7390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EC81-77B8-4ED8-BFA1-29FF9346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02B18-0024-4F6F-9E66-F6FDABA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3AE07-A01F-4102-B71C-E02ED10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7E827-55DE-4883-9DB5-C86C6C5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4DF5-EF1D-4E94-A609-D82FBE96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7A4-8911-4EB4-BDAD-A6A46B8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5E67-E658-4998-AE3C-2CFF8B42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35A0B-286C-4F9D-AA28-E52EED23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1DD8-0EF7-42D3-BD81-C904C879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B1F2-56D2-4CD8-8873-DA9645C7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34CF-F7CA-4AE6-BD60-7C4D2FE3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9C51-D65D-421C-840B-CF2527E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E48DE-8A32-446C-A5C0-FB498ED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5E620-D84D-44A1-BF49-1143867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2A236-992D-475B-B4A5-5A1CAFB9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A0F29-99DB-4748-8AF2-B16FE02C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087-7DCA-49D6-9804-FB090D0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8240-E1D4-4B75-A468-43565D6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605DC-D38F-44F6-9C63-61E09A0C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EA419-22A6-4543-B0F0-7F02E400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64570-D25E-4016-9337-0746B442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DEEC-1FD0-42D9-BDDC-A2EC9CB3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A741-1425-4FB3-8411-C7AA8FE4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1A492-3CBB-4FF1-97F3-D557D357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ABCC2-A3C2-434A-ACEF-4447AB3E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B377-8C64-4A33-889F-682B4DB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45A6-8106-452B-9CF9-1925A91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BB1-8B33-4319-B6BC-085D85CE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5A7A9-EA22-4FD6-BF34-B467CF2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0B90-7848-49FB-BD21-C219614A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CA243-AF1A-45F7-9E13-5F2D7FE7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D1AD1-ADA7-4789-A898-DE6E0A8E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082F0-683B-4793-9C7F-AEDDA278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31434-774D-44DF-9099-67301E51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12C98-BA0E-416D-8DBF-141DFF5A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79743-0BC5-45E2-8159-302B184E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18A96-8488-457F-B8DA-7AC59504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C17E5-485D-4249-94D6-3110734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3D7-8EA6-4449-B766-4B2B049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E2E4C-91C4-4F43-95B0-D64B2E8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B352C-6017-4831-989C-4E223D0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3E476-602E-4917-A9F2-D1335A1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B110-C61B-4372-A351-220284DA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5CA2D-2804-464B-986C-C4A78097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1EA7D-747C-4780-8EE7-9ADE59C1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2C23F-7557-4DA1-911F-41D47632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42AB5-9EAD-4D85-9E00-2D0E4CA2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436FB-0CF7-44D3-AF27-108F5F83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04909-0CD9-4D08-AF89-F10EBC9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6BA0-1C90-4803-BA4A-7E517CAD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图片2"/>
          <p:cNvPicPr/>
          <p:nvPr/>
        </p:nvPicPr>
        <p:blipFill>
          <a:blip r:embed="rId3"/>
          <a:stretch/>
        </p:blipFill>
        <p:spPr>
          <a:xfrm>
            <a:off x="0" y="0"/>
            <a:ext cx="9144000" cy="738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6B3-D871-4FE0-AFA1-7D49E054D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C328-2289-4D2D-BEE2-99A91D88B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D73E-ED94-46D2-B7AA-FBBB2DBBC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D100-0A59-46E0-85A3-65AF8391F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955F-B45A-403C-91A1-97D49CE316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0562-BA55-4E8C-BCE3-FC859F10E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0BD7-BF08-4D19-B792-AF4A64149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1750-3BA2-46B7-9BDF-9E299B11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C3C9-F09A-4E97-BEAA-785EC7AAF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2517-660C-45D8-BFC9-447B9950D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3933-2254-4CF0-9D3A-64BB8C5D4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B687-18B2-41F8-9502-57E0D127C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9,6,&#24187;&#28783;&#29255; 6" TargetMode="External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70,7,&#30422;&#33576;&#30340;&#25925;&#20107;" TargetMode="External"/><Relationship Id="rId2" Type="http://schemas.openxmlformats.org/officeDocument/2006/relationships/hyperlink" Target="270,7,&#30422;&#33576;&#30340;&#25925;&#20107;" TargetMode="External"/><Relationship Id="rId3" Type="http://schemas.openxmlformats.org/officeDocument/2006/relationships/hyperlink" Target="270,7,&#30422;&#33576;&#30340;&#25925;&#20107;" TargetMode="External"/><Relationship Id="rId4" Type="http://schemas.openxmlformats.org/officeDocument/2006/relationships/hyperlink" Target="271,8,&#33521;&#22269;&#39318;&#30456;&#22827;&#20154;&#35874;&#20029;&#30340;&#25925;&#20107;" TargetMode="External"/><Relationship Id="rId5" Type="http://schemas.openxmlformats.org/officeDocument/2006/relationships/hyperlink" Target="272,9,&#29369;&#22826;&#20154;&#30340;&#25925;&#20107;" TargetMode="External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9,6,&#24187;&#28783;&#29255; 6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9,6,&#24187;&#28783;&#29255; 6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7"/>
          <p:cNvSpPr txBox="1"/>
          <p:nvPr/>
        </p:nvSpPr>
        <p:spPr>
          <a:xfrm>
            <a:off x="1258920" y="2565360"/>
            <a:ext cx="6408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206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会合理消费课件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206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206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打包下载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00206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矩形 2"/>
          <p:cNvSpPr/>
          <p:nvPr/>
        </p:nvSpPr>
        <p:spPr>
          <a:xfrm>
            <a:off x="3092040" y="1141560"/>
            <a:ext cx="27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七课　关注经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1"/>
              </a:rPr>
              <a:t>犹太人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7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，美国政府为清理翻新自由女神像扔下的大堆废料，向社会广泛招标。但好几个月过去了，没人应标，因为在纽约，垃圾处理有严格规定，弄不好会被环保组织起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时，一个犹太人正在法国旅行。听到这个消息，他立即终止休假，飞往纽约。看过自由女神像下堆积如山的铜块、螺丝和木料后，他未提任何条件，当即与政府部门签下了协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4"/>
          <p:cNvSpPr txBox="1"/>
          <p:nvPr/>
        </p:nvSpPr>
        <p:spPr>
          <a:xfrm>
            <a:off x="324000" y="189000"/>
            <a:ext cx="2243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理财故事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楷体"/>
              </a:rPr>
              <a:t>说说自己、家人或朋友的成功消费经历或消费心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10920" y="2852640"/>
            <a:ext cx="676908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说明这次消费的原因、消费过程 、消费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并用一句话概括他（她）消费的成功之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4"/>
          <p:cNvSpPr txBox="1"/>
          <p:nvPr/>
        </p:nvSpPr>
        <p:spPr>
          <a:xfrm>
            <a:off x="324000" y="189000"/>
            <a:ext cx="2243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理我财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2" name="文本框 8199"/>
          <p:cNvSpPr/>
          <p:nvPr/>
        </p:nvSpPr>
        <p:spPr>
          <a:xfrm>
            <a:off x="1409760" y="822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8"/>
          <p:cNvSpPr/>
          <p:nvPr/>
        </p:nvSpPr>
        <p:spPr>
          <a:xfrm>
            <a:off x="539640" y="4365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http://www.pep.com.cn/images/200503/pic_273286.jpg"/>
          <p:cNvPicPr/>
          <p:nvPr/>
        </p:nvPicPr>
        <p:blipFill>
          <a:blip r:embed="rId1"/>
          <a:stretch/>
        </p:blipFill>
        <p:spPr>
          <a:xfrm>
            <a:off x="270000" y="1268280"/>
            <a:ext cx="3528720" cy="352764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5"/>
          <p:cNvSpPr/>
          <p:nvPr/>
        </p:nvSpPr>
        <p:spPr>
          <a:xfrm>
            <a:off x="4140360" y="143964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购买食品时，你注意过这个标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4067280" y="2592000"/>
            <a:ext cx="46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完的电池你是如何处理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140360" y="3887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购买过度包装的商品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3451680" y="508428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说说你理解的绿色消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10"/>
          <p:cNvSpPr txBox="1"/>
          <p:nvPr/>
        </p:nvSpPr>
        <p:spPr>
          <a:xfrm>
            <a:off x="250920" y="26028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的消费是绿色的吗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8"/>
          <p:cNvSpPr/>
          <p:nvPr/>
        </p:nvSpPr>
        <p:spPr>
          <a:xfrm>
            <a:off x="1835280" y="4762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保护环境，绿色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900000" y="1268280"/>
            <a:ext cx="71992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0b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1810bc"/>
                </a:solidFill>
                <a:latin typeface="黑体"/>
                <a:ea typeface="黑体"/>
              </a:rPr>
              <a:t>绿色消费是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保护消费者健康和节约资源</a:t>
            </a:r>
            <a:r>
              <a:rPr b="1" lang="zh-CN" sz="2800" spc="-1" strike="noStrike">
                <a:solidFill>
                  <a:srgbClr val="1810bc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主旨</a:t>
            </a:r>
            <a:r>
              <a:rPr b="1" lang="zh-CN" sz="2800" spc="-1" strike="noStrike">
                <a:solidFill>
                  <a:srgbClr val="1810bc"/>
                </a:solidFill>
                <a:latin typeface="黑体"/>
                <a:ea typeface="黑体"/>
              </a:rPr>
              <a:t>，符合人的健康和环境保护标准的各种消费行为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0b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核心</a:t>
            </a:r>
            <a:r>
              <a:rPr b="1" lang="zh-CN" sz="2800" spc="-1" strike="noStrike">
                <a:solidFill>
                  <a:srgbClr val="1810bc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1810bc"/>
                </a:solidFill>
                <a:latin typeface="Times New Roman"/>
                <a:ea typeface="黑体"/>
              </a:rPr>
              <a:t>——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持续消费</a:t>
            </a:r>
            <a:r>
              <a:rPr b="1" lang="zh-CN" sz="2800" spc="-1" strike="noStrike">
                <a:solidFill>
                  <a:srgbClr val="1810b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1810bc"/>
                </a:solidFill>
                <a:latin typeface="黑体"/>
                <a:ea typeface="黑体"/>
              </a:rPr>
              <a:t>。人们形象地把绿色消费概括为</a:t>
            </a:r>
            <a:r>
              <a:rPr b="1" lang="zh-CN" sz="2800" spc="-1" strike="noStrike">
                <a:solidFill>
                  <a:srgbClr val="1810bc"/>
                </a:solidFill>
                <a:latin typeface="Times New Roman"/>
                <a:ea typeface="黑体"/>
              </a:rPr>
              <a:t>“</a:t>
            </a:r>
            <a:r>
              <a:rPr b="1" lang="en-US" sz="2800" spc="-1" strike="noStrike">
                <a:solidFill>
                  <a:srgbClr val="1810bc"/>
                </a:solidFill>
                <a:latin typeface="黑体"/>
                <a:ea typeface="黑体"/>
              </a:rPr>
              <a:t>5R</a:t>
            </a:r>
            <a:r>
              <a:rPr b="1" lang="en-US" sz="2800" spc="-1" strike="noStrike">
                <a:solidFill>
                  <a:srgbClr val="1810b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1810b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2004715111723248"/>
          <p:cNvPicPr/>
          <p:nvPr/>
        </p:nvPicPr>
        <p:blipFill>
          <a:blip r:embed="rId1"/>
          <a:stretch/>
        </p:blipFill>
        <p:spPr>
          <a:xfrm>
            <a:off x="235080" y="33804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1"/>
          <p:cNvSpPr/>
          <p:nvPr/>
        </p:nvSpPr>
        <p:spPr>
          <a:xfrm>
            <a:off x="1258920" y="3716280"/>
            <a:ext cx="6049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u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约资源 、减少污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evalu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消费、环保选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复使用、多次利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cy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垃圾分类、循环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scuewildlif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救助物种、保护自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61128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生以小组为单位，制定消费宝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提示：可以从消费原则、消费前的准备、消费中的行为、消费对环境的影响等方面考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组代表在全班交流本组的消费宝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4"/>
          <p:cNvSpPr txBox="1"/>
          <p:nvPr/>
        </p:nvSpPr>
        <p:spPr>
          <a:xfrm>
            <a:off x="324000" y="189000"/>
            <a:ext cx="2243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消费宝典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6" name="Picture 5" descr="dance03"/>
          <p:cNvPicPr/>
          <p:nvPr/>
        </p:nvPicPr>
        <p:blipFill>
          <a:blip r:embed="rId1"/>
          <a:stretch/>
        </p:blipFill>
        <p:spPr>
          <a:xfrm>
            <a:off x="324000" y="3500280"/>
            <a:ext cx="2371680" cy="2819520"/>
          </a:xfrm>
          <a:prstGeom prst="rect">
            <a:avLst/>
          </a:prstGeom>
          <a:ln w="0">
            <a:noFill/>
          </a:ln>
        </p:spPr>
      </p:pic>
      <p:sp>
        <p:nvSpPr>
          <p:cNvPr id="597" name="AutoShape 6"/>
          <p:cNvSpPr/>
          <p:nvPr/>
        </p:nvSpPr>
        <p:spPr>
          <a:xfrm>
            <a:off x="2268360" y="4292640"/>
            <a:ext cx="4248360" cy="2160720"/>
          </a:xfrm>
          <a:prstGeom prst="cloudCallout">
            <a:avLst>
              <a:gd name="adj1" fmla="val -48768"/>
              <a:gd name="adj2" fmla="val -493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2987640" y="4581360"/>
            <a:ext cx="266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我的消费宝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971640" y="950760"/>
            <a:ext cx="81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费前，作预算，把钱花在关键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费中，不超支，经济适用是首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理智，不攀比，金钱绝对不浪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保点，节俭点，绿色消费更美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" descr="dance03"/>
          <p:cNvPicPr/>
          <p:nvPr/>
        </p:nvPicPr>
        <p:blipFill>
          <a:blip r:embed="rId1"/>
          <a:stretch/>
        </p:blipFill>
        <p:spPr>
          <a:xfrm>
            <a:off x="324000" y="3500280"/>
            <a:ext cx="2371680" cy="281952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4"/>
          <p:cNvSpPr/>
          <p:nvPr/>
        </p:nvSpPr>
        <p:spPr>
          <a:xfrm>
            <a:off x="2268360" y="4292640"/>
            <a:ext cx="4248360" cy="2160720"/>
          </a:xfrm>
          <a:prstGeom prst="cloudCallout">
            <a:avLst>
              <a:gd name="adj1" fmla="val -48768"/>
              <a:gd name="adj2" fmla="val -493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2987640" y="4581360"/>
            <a:ext cx="266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我的消费宝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6"/>
          <p:cNvSpPr txBox="1"/>
          <p:nvPr/>
        </p:nvSpPr>
        <p:spPr>
          <a:xfrm>
            <a:off x="324000" y="189000"/>
            <a:ext cx="2243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消费宝典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消费烦恼我出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看中了一件比较贵的衣服，但暂时没有支付能力，你会怎么办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很多同学都拥有了某件名牌商品，他们劝你也买，你会怎么办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班上“人情消费”之风盛行，同学都在节日或朋友过生日时互送礼物，你不堪重负。你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消费烦恼还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学生提出其他自己面临的消费烦恼，全班共同解决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WordArt 4"/>
          <p:cNvSpPr txBox="1"/>
          <p:nvPr/>
        </p:nvSpPr>
        <p:spPr>
          <a:xfrm>
            <a:off x="395280" y="26028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消费高手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8"/>
          <p:cNvSpPr/>
          <p:nvPr/>
        </p:nvSpPr>
        <p:spPr>
          <a:xfrm>
            <a:off x="7621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611280" y="4221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0b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过于节俭会使人们的消费需求得不到满足，生活质量得不到提高，不利于推动社会生产规模扩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0"/>
          <p:cNvGrpSpPr/>
          <p:nvPr/>
        </p:nvGrpSpPr>
        <p:grpSpPr>
          <a:xfrm>
            <a:off x="755640" y="3213000"/>
            <a:ext cx="7924320" cy="703440"/>
            <a:chOff x="755640" y="3213000"/>
            <a:chExt cx="7924320" cy="703440"/>
          </a:xfrm>
        </p:grpSpPr>
        <p:sp>
          <p:nvSpPr>
            <p:cNvPr id="610" name="Rectangle 11"/>
            <p:cNvSpPr/>
            <p:nvPr/>
          </p:nvSpPr>
          <p:spPr>
            <a:xfrm>
              <a:off x="6264720" y="3213000"/>
              <a:ext cx="241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抑制消费</a:t>
              </a:r>
              <a:r>
                <a:rPr b="1" lang="zh-CN" sz="40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2"/>
            <p:cNvSpPr/>
            <p:nvPr/>
          </p:nvSpPr>
          <p:spPr>
            <a:xfrm>
              <a:off x="755640" y="3213000"/>
              <a:ext cx="4905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、量入为出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适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4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4906080" y="3457440"/>
              <a:ext cx="1131840" cy="254160"/>
              <a:chOff x="4906080" y="3457440"/>
              <a:chExt cx="1131840" cy="25416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4906080" y="3457440"/>
                <a:ext cx="1131840" cy="360"/>
                <a:chOff x="4906080" y="3457440"/>
                <a:chExt cx="1131840" cy="360"/>
              </a:xfrm>
            </p:grpSpPr>
            <p:sp>
              <p:nvSpPr>
                <p:cNvPr id="614" name="Line 14"/>
                <p:cNvSpPr/>
                <p:nvPr/>
              </p:nvSpPr>
              <p:spPr>
                <a:xfrm>
                  <a:off x="4906080" y="3457440"/>
                  <a:ext cx="11318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 txBox="1"/>
                <p:nvPr/>
              </p:nvSpPr>
              <p:spPr>
                <a:xfrm>
                  <a:off x="4906080" y="3457440"/>
                  <a:ext cx="113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4906080" y="3711240"/>
                <a:ext cx="1131840" cy="360"/>
                <a:chOff x="4906080" y="3711240"/>
                <a:chExt cx="1131840" cy="360"/>
              </a:xfrm>
            </p:grpSpPr>
            <p:sp>
              <p:nvSpPr>
                <p:cNvPr id="617" name="Line 15"/>
                <p:cNvSpPr/>
                <p:nvPr/>
              </p:nvSpPr>
              <p:spPr>
                <a:xfrm>
                  <a:off x="4906080" y="3711240"/>
                  <a:ext cx="11318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4906080" y="3711240"/>
                  <a:ext cx="113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9" name=""/>
          <p:cNvGrpSpPr/>
          <p:nvPr/>
        </p:nvGrpSpPr>
        <p:grpSpPr>
          <a:xfrm>
            <a:off x="5003640" y="3141720"/>
            <a:ext cx="914400" cy="914400"/>
            <a:chOff x="5003640" y="3141720"/>
            <a:chExt cx="914400" cy="914400"/>
          </a:xfrm>
        </p:grpSpPr>
        <p:sp>
          <p:nvSpPr>
            <p:cNvPr id="620" name="Line 16"/>
            <p:cNvSpPr/>
            <p:nvPr/>
          </p:nvSpPr>
          <p:spPr>
            <a:xfrm flipH="1">
              <a:off x="5003640" y="314172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5003640" y="314172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17"/>
          <p:cNvSpPr/>
          <p:nvPr/>
        </p:nvSpPr>
        <p:spPr>
          <a:xfrm>
            <a:off x="684360" y="1197000"/>
            <a:ext cx="655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、适度消费与贷款消费矛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8"/>
          <p:cNvSpPr/>
          <p:nvPr/>
        </p:nvSpPr>
        <p:spPr>
          <a:xfrm>
            <a:off x="539640" y="1989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这里的收入包括当前的收入水平，也包括对未来收入的预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WordArt 19"/>
          <p:cNvSpPr txBox="1"/>
          <p:nvPr/>
        </p:nvSpPr>
        <p:spPr>
          <a:xfrm>
            <a:off x="250920" y="26028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两难判断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2438280" y="1981080"/>
            <a:ext cx="6324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10bc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历史</a:t>
            </a:r>
            <a:r>
              <a:rPr b="1" lang="zh-CN" sz="3200" spc="-1" strike="noStrike">
                <a:solidFill>
                  <a:srgbClr val="1810bc"/>
                </a:solidFill>
                <a:latin typeface="黑体"/>
                <a:ea typeface="黑体"/>
              </a:rPr>
              <a:t>来说，勤俭节约、艰苦奋斗是我国的传统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3" descr="02"/>
          <p:cNvPicPr/>
          <p:nvPr/>
        </p:nvPicPr>
        <p:blipFill>
          <a:blip r:embed="rId2"/>
          <a:stretch/>
        </p:blipFill>
        <p:spPr>
          <a:xfrm>
            <a:off x="380880" y="1981080"/>
            <a:ext cx="1886040" cy="426744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4"/>
          <p:cNvSpPr/>
          <p:nvPr/>
        </p:nvSpPr>
        <p:spPr>
          <a:xfrm>
            <a:off x="2438280" y="327492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10bc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国情</a:t>
            </a:r>
            <a:r>
              <a:rPr b="1" lang="zh-CN" sz="3200" spc="-1" strike="noStrike">
                <a:solidFill>
                  <a:srgbClr val="1810bc"/>
                </a:solidFill>
                <a:latin typeface="黑体"/>
                <a:ea typeface="黑体"/>
              </a:rPr>
              <a:t>来说，我国是一个发展中国家，面临人口、资源的压力，要提倡勤俭节约、艰苦奋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438280" y="5149800"/>
            <a:ext cx="632484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10bc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个人成长</a:t>
            </a:r>
            <a:r>
              <a:rPr b="1" lang="zh-CN" sz="3200" spc="-1" strike="noStrike">
                <a:solidFill>
                  <a:srgbClr val="1810bc"/>
                </a:solidFill>
                <a:latin typeface="黑体"/>
                <a:ea typeface="黑体"/>
              </a:rPr>
              <a:t>来说，勤俭节约、艰苦奋斗是克服因难、成就事业的条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6" descr="03"/>
          <p:cNvPicPr/>
          <p:nvPr/>
        </p:nvPicPr>
        <p:blipFill>
          <a:blip r:embed="rId5"/>
          <a:stretch/>
        </p:blipFill>
        <p:spPr>
          <a:xfrm>
            <a:off x="395280" y="1981080"/>
            <a:ext cx="1876320" cy="4267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05"/>
          <p:cNvPicPr/>
          <p:nvPr/>
        </p:nvPicPr>
        <p:blipFill>
          <a:blip r:embed="rId6"/>
          <a:stretch/>
        </p:blipFill>
        <p:spPr>
          <a:xfrm>
            <a:off x="385920" y="1981080"/>
            <a:ext cx="1885680" cy="4267440"/>
          </a:xfrm>
          <a:prstGeom prst="rect">
            <a:avLst/>
          </a:prstGeom>
          <a:ln w="0">
            <a:noFill/>
          </a:ln>
        </p:spPr>
      </p:pic>
      <p:sp>
        <p:nvSpPr>
          <p:cNvPr id="631" name="WordArt 8"/>
          <p:cNvSpPr txBox="1"/>
          <p:nvPr/>
        </p:nvSpPr>
        <p:spPr>
          <a:xfrm>
            <a:off x="380880" y="457200"/>
            <a:ext cx="2095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说我说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819520" y="3049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现在生活水平提高了，为什么国家还要倡导“勤俭节约，艰苦奋斗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57200" y="1600200"/>
            <a:ext cx="8075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假设你在学期末获得了学校颁发的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奖学金，你会怎么花这笔钱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根据我们的消费宝典制定更合理的零花钱消费方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4"/>
          <p:cNvSpPr txBox="1"/>
          <p:nvPr/>
        </p:nvSpPr>
        <p:spPr>
          <a:xfrm>
            <a:off x="900000" y="47628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走进生活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35" name="Picture 5" descr="dance03"/>
          <p:cNvPicPr/>
          <p:nvPr/>
        </p:nvPicPr>
        <p:blipFill>
          <a:blip r:embed="rId1"/>
          <a:stretch/>
        </p:blipFill>
        <p:spPr>
          <a:xfrm>
            <a:off x="324000" y="3500280"/>
            <a:ext cx="2371680" cy="281952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6"/>
          <p:cNvSpPr/>
          <p:nvPr/>
        </p:nvSpPr>
        <p:spPr>
          <a:xfrm>
            <a:off x="2268360" y="4292640"/>
            <a:ext cx="4248360" cy="2160720"/>
          </a:xfrm>
          <a:prstGeom prst="cloudCallout">
            <a:avLst>
              <a:gd name="adj1" fmla="val -48768"/>
              <a:gd name="adj2" fmla="val -493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2771640" y="4581360"/>
            <a:ext cx="3095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是个难题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今朝有酒今朝醉"/>
          <p:cNvPicPr/>
          <p:nvPr/>
        </p:nvPicPr>
        <p:blipFill>
          <a:blip r:embed="rId1"/>
          <a:stretch/>
        </p:blipFill>
        <p:spPr>
          <a:xfrm>
            <a:off x="0" y="3143160"/>
            <a:ext cx="4952880" cy="371484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3"/>
          <p:cNvGrpSpPr/>
          <p:nvPr/>
        </p:nvGrpSpPr>
        <p:grpSpPr>
          <a:xfrm>
            <a:off x="5334120" y="0"/>
            <a:ext cx="3504600" cy="4191120"/>
            <a:chOff x="5334120" y="0"/>
            <a:chExt cx="3504600" cy="4191120"/>
          </a:xfrm>
        </p:grpSpPr>
        <p:pic>
          <p:nvPicPr>
            <p:cNvPr id="539" name="Picture 4" descr="aa"/>
            <p:cNvPicPr/>
            <p:nvPr/>
          </p:nvPicPr>
          <p:blipFill>
            <a:blip r:embed="rId2"/>
            <a:srcRect l="4056" t="4176" r="4002" b="6104"/>
            <a:stretch/>
          </p:blipFill>
          <p:spPr>
            <a:xfrm>
              <a:off x="5334120" y="0"/>
              <a:ext cx="350460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 Box 5"/>
            <p:cNvSpPr/>
            <p:nvPr/>
          </p:nvSpPr>
          <p:spPr>
            <a:xfrm>
              <a:off x="5528160" y="591480"/>
              <a:ext cx="1147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0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6"/>
          <p:cNvSpPr/>
          <p:nvPr/>
        </p:nvSpPr>
        <p:spPr>
          <a:xfrm>
            <a:off x="5076720" y="4176720"/>
            <a:ext cx="406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月光族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工资月月光，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不剩一分，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只许负债，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不可盈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7"/>
          <p:cNvGrpSpPr/>
          <p:nvPr/>
        </p:nvGrpSpPr>
        <p:grpSpPr>
          <a:xfrm>
            <a:off x="0" y="0"/>
            <a:ext cx="4876920" cy="3124080"/>
            <a:chOff x="0" y="0"/>
            <a:chExt cx="4876920" cy="3124080"/>
          </a:xfrm>
        </p:grpSpPr>
        <p:pic>
          <p:nvPicPr>
            <p:cNvPr id="543" name="Picture 8" descr="花洒女人：花钱狂人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9"/>
            <p:cNvSpPr/>
            <p:nvPr/>
          </p:nvSpPr>
          <p:spPr>
            <a:xfrm>
              <a:off x="0" y="2209680"/>
              <a:ext cx="18288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"/>
            <p:cNvSpPr/>
            <p:nvPr/>
          </p:nvSpPr>
          <p:spPr>
            <a:xfrm>
              <a:off x="1523880" y="2666880"/>
              <a:ext cx="6858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8F92-1C4F-470A-9951-400517CCA9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8"/>
          <p:cNvSpPr/>
          <p:nvPr/>
        </p:nvSpPr>
        <p:spPr>
          <a:xfrm>
            <a:off x="1403280" y="1484280"/>
            <a:ext cx="653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树立正确的消费观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成为理智的消费者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实现人与社会和谐发展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en041223029"/>
          <p:cNvPicPr/>
          <p:nvPr/>
        </p:nvPicPr>
        <p:blipFill>
          <a:blip r:embed="rId1"/>
          <a:srcRect l="260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3"/>
          <p:cNvSpPr/>
          <p:nvPr/>
        </p:nvSpPr>
        <p:spPr>
          <a:xfrm>
            <a:off x="3419640" y="3284640"/>
            <a:ext cx="374472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□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细黑"/>
              </a:rPr>
              <a:t>群策群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996600"/>
                </a:solidFill>
                <a:latin typeface="Arial"/>
                <a:ea typeface="华文仿宋"/>
              </a:rPr>
              <a:t>如何拒做月光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304920" y="162864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、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假期间，你和你的家庭有哪些消费活动？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在消费过程中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1956240" y="2637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费选择越来越多样化，消费水平不断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395280" y="4797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费观念在发生变化，更加注重通过消费提升生活品质，追求更加健康文明的生活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10"/>
          <p:cNvSpPr txBox="1"/>
          <p:nvPr/>
        </p:nvSpPr>
        <p:spPr>
          <a:xfrm>
            <a:off x="228600" y="2286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消费面面观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324000" y="3284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在日常生活中，你有没有发现其它新的消费热点？这些消费方式分别满足了人们哪些需要？人们消费方式的变化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未标题-2 拷贝"/>
          <p:cNvPicPr/>
          <p:nvPr/>
        </p:nvPicPr>
        <p:blipFill>
          <a:blip r:embed="rId1"/>
          <a:stretch/>
        </p:blipFill>
        <p:spPr>
          <a:xfrm>
            <a:off x="5737320" y="3813120"/>
            <a:ext cx="3406680" cy="2435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2004511194941734"/>
          <p:cNvPicPr/>
          <p:nvPr/>
        </p:nvPicPr>
        <p:blipFill>
          <a:blip r:embed="rId2"/>
          <a:stretch/>
        </p:blipFill>
        <p:spPr>
          <a:xfrm>
            <a:off x="5943600" y="838080"/>
            <a:ext cx="2971800" cy="27925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4"/>
          <p:cNvSpPr/>
          <p:nvPr/>
        </p:nvSpPr>
        <p:spPr>
          <a:xfrm>
            <a:off x="250920" y="981000"/>
            <a:ext cx="62881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你每个月的零花钱约是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(      )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你的零花钱一般是这样安排的：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零食：    约（     ）元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学习用品：约（     ）元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买书：    约（   ） 元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购买日常生活用品：约（    ）元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上网 ：   约（   ）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其他：    约（     ）元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节余：    约（     ）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节余的钱你是怎么安排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你觉得自己对零花钱的安排是否合理？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有没有需要改进的地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95280" y="260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中学生的零花钱使用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6"/>
          <p:cNvSpPr txBox="1"/>
          <p:nvPr/>
        </p:nvSpPr>
        <p:spPr>
          <a:xfrm>
            <a:off x="6095880" y="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问卷调查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24000" y="133992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影响你选择商品的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主要因素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广告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同学推荐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推销人员的解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自己的需要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……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你在购买商品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主要看重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产品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质量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价格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品牌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外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……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你在购买商品时多半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自己作主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同学参谋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听取父母意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看什么流行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……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250920" y="4842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是如何选择商品的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WordArt 4"/>
          <p:cNvSpPr txBox="1"/>
          <p:nvPr/>
        </p:nvSpPr>
        <p:spPr>
          <a:xfrm>
            <a:off x="6095880" y="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问卷调查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61" name="文本框 8199"/>
          <p:cNvSpPr/>
          <p:nvPr/>
        </p:nvSpPr>
        <p:spPr>
          <a:xfrm>
            <a:off x="1035000" y="1004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分析比尔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盖茨、英国首相布莱尔的妻子谢丽和一个犹太人消费、理财的成功之处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4"/>
          <p:cNvSpPr txBox="1"/>
          <p:nvPr/>
        </p:nvSpPr>
        <p:spPr>
          <a:xfrm>
            <a:off x="324000" y="189000"/>
            <a:ext cx="2243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理财故事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1876320" y="2171160"/>
            <a:ext cx="1371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1"/>
              </a:rPr>
              <a:t>比尔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2"/>
              </a:rPr>
              <a:t>·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3"/>
              </a:rPr>
              <a:t>盖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159440" y="2204280"/>
            <a:ext cx="20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─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钱要花得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1403280" y="3422880"/>
            <a:ext cx="2808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4"/>
              </a:rPr>
              <a:t>英国首相布莱尔的妻子谢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4735800" y="3499560"/>
            <a:ext cx="20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─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钱要花得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2288880" y="4835160"/>
            <a:ext cx="692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5"/>
              </a:rPr>
              <a:t>一个犹太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4227120" y="4867920"/>
            <a:ext cx="20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─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钱要花得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1"/>
              </a:rPr>
              <a:t>盖茨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盖茨和一位朋友同车前往希尔顿饭店开会，由于来晚了，一时找不到车位。他的朋友建议把车停在饭店的贵宾车位，“噢，这可要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元，可不是个好价钱。”盖茨不同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来付。”他的朋友说。“这可不是好主意，”盖茨坚持道，“他们超值收费。”由于盖茨的坚持，汽车最终没停放在贵宾车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WordArt 4"/>
          <p:cNvSpPr txBox="1"/>
          <p:nvPr/>
        </p:nvSpPr>
        <p:spPr>
          <a:xfrm>
            <a:off x="324000" y="189000"/>
            <a:ext cx="2243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理财故事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1"/>
              </a:rPr>
              <a:t>英国首相夫人谢丽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许多普通人一样，英国首相夫人谢丽也喜欢在网上购买自己喜欢的物品。有一次，一双很精致漂亮的凉鞋吸引了她的注意力。卖这双凉鞋的女士称，凉鞋非常漂亮，很适合在社交场合穿。这些话很快引来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名有意购买者，在商场同样的凉鞋至少也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镑。最后，经过一番激烈的讨价还价，谢丽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镑买下了这双漂亮的凉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WordArt 4"/>
          <p:cNvSpPr txBox="1"/>
          <p:nvPr/>
        </p:nvSpPr>
        <p:spPr>
          <a:xfrm>
            <a:off x="324000" y="189000"/>
            <a:ext cx="2243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理财故事</a:t>
            </a:r>
            <a:endParaRPr b="1" lang="en-US" sz="4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24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02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