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B26-781D-4107-A4E4-91A81667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B96-0767-4F71-A8C4-8C57221E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9CE-0FE3-478C-B502-34F091B4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CD6-86C3-4ECF-9AEA-FF065062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BB14-5E21-43DE-8733-765A212F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6189-DFBA-440E-B063-9E53EC63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E070-A028-4961-89F0-B64963B0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DEAA-D775-4A96-98C6-58CFF652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C850-2F8C-46C4-88A7-2F61DE97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5C35-8F66-460E-BEE2-4DB03954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CA14-E6D7-4DC7-B6E5-A0DF396C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B2E-FF56-4C35-B581-04F82C20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8150-E0A3-4AD1-8D4B-ECF7F37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2608-9CC9-49B9-AE5F-0E8253B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E76C-D0D6-4A9C-87D0-86B42F34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11F2-A44F-41DA-B685-E58962A7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5671-AC4C-4212-8A34-3FD30559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650A-00EA-44D1-BAAA-0B76AB2E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DA9C-CFD8-45E5-B5B3-2300A60A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46B2-FDEC-4EED-9FAF-77FE2C56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25562-7CD8-43AC-81CC-E67ADC71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5AA5-86A6-4DCE-BA99-5D1972A1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78A-E639-44FE-8766-38F941BB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E2EB-C08E-417F-B157-3E3B58DC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0A89-C663-4764-BC08-FE586304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A79C-F1D1-44B4-B108-B2272D1C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5BE0-EACB-4D2A-BFC8-9AB616A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A19B-7283-4C17-9629-FCCC5D5D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525E-21EB-48F0-A5C5-C2E99DAF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29A8D-4001-43EA-B6AF-F4712BCE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E6C-834F-4F9C-85D4-1B1A3FA6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E24-44C7-41E7-8071-B572F144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5B3-E03F-4622-9DC7-C8510354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925-BDAF-452C-B639-CA5EE903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51D-D595-45B8-AC11-5F3B52D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6CD-E10A-48ED-8240-9895D532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EC06-5E2F-467D-B5CF-25E2854B71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BC8-FA98-402D-93FB-076EF02098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7B4F-79B8-4B98-BFF7-B759298BA2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未标题-2"/>
          <p:cNvPicPr/>
          <p:nvPr/>
        </p:nvPicPr>
        <p:blipFill>
          <a:blip r:embed="rId2"/>
          <a:stretch/>
        </p:blipFill>
        <p:spPr>
          <a:xfrm>
            <a:off x="1370160" y="1563840"/>
            <a:ext cx="6945120" cy="9349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4"/>
          <p:cNvSpPr txBox="1"/>
          <p:nvPr/>
        </p:nvSpPr>
        <p:spPr>
          <a:xfrm>
            <a:off x="1671480" y="765000"/>
            <a:ext cx="56898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第一单元  你我同行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2336040" y="24987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学会和谐相处</a:t>
            </a:r>
            <a:r>
              <a:rPr b="1" lang="en-US" sz="4000" spc="-1" strike="noStrike">
                <a:solidFill>
                  <a:srgbClr val="ff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39640" y="4508640"/>
            <a:ext cx="8064720" cy="581400"/>
          </a:xfrm>
          <a:prstGeom prst="rect">
            <a:avLst/>
          </a:prstGeom>
          <a:solidFill>
            <a:srgbClr val="ccff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探究三：小光的爸爸看到这封信后会怎样做？你觉得用写信的方式解决与父母、长辈之间的矛盾可行吗？除此之外，我们还可以用什么方法？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QQ截图未命名"/>
          <p:cNvPicPr/>
          <p:nvPr/>
        </p:nvPicPr>
        <p:blipFill>
          <a:blip r:embed="rId1"/>
          <a:stretch/>
        </p:blipFill>
        <p:spPr>
          <a:xfrm>
            <a:off x="1403280" y="189000"/>
            <a:ext cx="633564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684360" y="191772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当与父母、长辈意见不一致或发生矛盾的时候，要学会用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"/>
              </a:rPr>
              <a:t>平和的态度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表述自己的想法，努力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"/>
              </a:rPr>
              <a:t>进行沟通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，以增进相互之间的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"/>
              </a:rPr>
              <a:t>了解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。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324000" y="404640"/>
            <a:ext cx="7345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三十六计之—— 平和沟通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54" name="WordArt 3"/>
          <p:cNvSpPr txBox="1"/>
          <p:nvPr/>
        </p:nvSpPr>
        <p:spPr>
          <a:xfrm>
            <a:off x="108000" y="333360"/>
            <a:ext cx="4857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古训今鉴：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5" name="文本框 8200"/>
          <p:cNvSpPr/>
          <p:nvPr/>
        </p:nvSpPr>
        <p:spPr>
          <a:xfrm>
            <a:off x="531720" y="12826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21308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WordArt 3" descr=""/>
          <p:cNvPicPr/>
          <p:nvPr/>
        </p:nvPicPr>
        <p:blipFill>
          <a:blip r:embed="rId2"/>
          <a:stretch/>
        </p:blipFill>
        <p:spPr>
          <a:xfrm>
            <a:off x="222120" y="184320"/>
            <a:ext cx="2986200" cy="64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F0CF-BAC5-41D7-A531-80B31213CC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WordArt 2" descr=""/>
          <p:cNvPicPr/>
          <p:nvPr/>
        </p:nvPicPr>
        <p:blipFill>
          <a:blip r:embed="rId1"/>
          <a:stretch/>
        </p:blipFill>
        <p:spPr>
          <a:xfrm>
            <a:off x="527040" y="1041480"/>
            <a:ext cx="835812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396720" y="189000"/>
            <a:ext cx="6985080" cy="71892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活动一 与他人相处的黄金规则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p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71640" y="4797360"/>
            <a:ext cx="7632720" cy="727560"/>
          </a:xfrm>
          <a:prstGeom prst="rect">
            <a:avLst/>
          </a:prstGeom>
          <a:solidFill>
            <a:srgbClr val="ccff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在与周围人交往时，有没有令你或你让别人感到不愉快或不舒服的经历？谈一谈当时的感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QQ截图未命名"/>
          <p:cNvPicPr/>
          <p:nvPr/>
        </p:nvPicPr>
        <p:blipFill>
          <a:blip r:embed="rId1"/>
          <a:stretch/>
        </p:blipFill>
        <p:spPr>
          <a:xfrm>
            <a:off x="1187280" y="836640"/>
            <a:ext cx="70977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4360" y="996840"/>
          <a:ext cx="7772400" cy="4857840"/>
        </p:xfrm>
        <a:graphic>
          <a:graphicData uri="http://schemas.openxmlformats.org/drawingml/2006/table">
            <a:tbl>
              <a:tblPr/>
              <a:tblGrid>
                <a:gridCol w="3657600"/>
                <a:gridCol w="4114800"/>
              </a:tblGrid>
              <a:tr h="982800">
                <a:tc>
                  <a:txBody>
                    <a:bodyPr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"/>
                          <a:ea typeface="楷体"/>
                        </a:rPr>
                        <a:t>我不希望别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>
                    <a:lnL w="18720">
                      <a:solidFill>
                        <a:srgbClr val="33cc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cc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"/>
                          <a:ea typeface="楷体"/>
                        </a:rPr>
                        <a:t>我就不应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cccc"/>
                      </a:solidFill>
                    </a:lnR>
                    <a:lnT w="18720">
                      <a:solidFill>
                        <a:srgbClr val="33cc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8040">
                <a:tc>
                  <a:txBody>
                    <a:bodyPr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"/>
                        </a:rPr>
                        <a:t>对我食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>
                    <a:lnL w="18720">
                      <a:solidFill>
                        <a:srgbClr val="33cc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cc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7680">
                <a:tc>
                  <a:txBody>
                    <a:bodyPr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"/>
                        </a:rPr>
                        <a:t>给我起外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>
                    <a:lnL w="18720">
                      <a:solidFill>
                        <a:srgbClr val="33cc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cc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4640">
                <a:tc>
                  <a:txBody>
                    <a:bodyPr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"/>
                        </a:rPr>
                        <a:t>在我伤心的时候嘲笑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>
                    <a:lnL w="18720">
                      <a:solidFill>
                        <a:srgbClr val="33cc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cc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08080">
                <a:tc>
                  <a:txBody>
                    <a:bodyPr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"/>
                        </a:rPr>
                        <a:t>把我告诉他（她）的秘密告诉别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>
                    <a:lnL w="18720">
                      <a:solidFill>
                        <a:srgbClr val="33cc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cc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6600">
                <a:tc>
                  <a:txBody>
                    <a:bodyPr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>
                    <a:lnL w="18720">
                      <a:solidFill>
                        <a:srgbClr val="33cc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cccc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r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cc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cccc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2" name="Text Box 29"/>
          <p:cNvSpPr/>
          <p:nvPr/>
        </p:nvSpPr>
        <p:spPr>
          <a:xfrm>
            <a:off x="1116000" y="5518080"/>
            <a:ext cx="6781680" cy="1191240"/>
          </a:xfrm>
          <a:prstGeom prst="rect">
            <a:avLst/>
          </a:prstGeom>
          <a:solidFill>
            <a:srgbClr val="ccff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"/>
              </a:rPr>
              <a:t>我们应该如何与人交往，与人交往时应遵循怎样的准则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30"/>
          <p:cNvSpPr txBox="1"/>
          <p:nvPr/>
        </p:nvSpPr>
        <p:spPr>
          <a:xfrm>
            <a:off x="254160" y="262080"/>
            <a:ext cx="4390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一说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"/>
          <p:cNvSpPr/>
          <p:nvPr/>
        </p:nvSpPr>
        <p:spPr>
          <a:xfrm>
            <a:off x="176364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WordArt 2"/>
          <p:cNvSpPr txBox="1"/>
          <p:nvPr/>
        </p:nvSpPr>
        <p:spPr>
          <a:xfrm>
            <a:off x="179280" y="263520"/>
            <a:ext cx="842508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三十六计之—— 己所不欲，勿施于人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3780000" y="1701720"/>
            <a:ext cx="4970160" cy="431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4"/>
          <a:stretch/>
        </p:blipFill>
        <p:spPr>
          <a:xfrm>
            <a:off x="179280" y="1484280"/>
            <a:ext cx="3457800" cy="51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324000" y="262080"/>
            <a:ext cx="7345080" cy="71892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活动二 发生冲突怎么办？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QQ截图未命名"/>
          <p:cNvPicPr/>
          <p:nvPr/>
        </p:nvPicPr>
        <p:blipFill>
          <a:blip r:embed="rId1"/>
          <a:stretch/>
        </p:blipFill>
        <p:spPr>
          <a:xfrm>
            <a:off x="1332000" y="1123920"/>
            <a:ext cx="61196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24000" y="1484280"/>
          <a:ext cx="8569080" cy="5264280"/>
        </p:xfrm>
        <a:graphic>
          <a:graphicData uri="http://schemas.openxmlformats.org/drawingml/2006/table">
            <a:tbl>
              <a:tblPr/>
              <a:tblGrid>
                <a:gridCol w="3077640"/>
                <a:gridCol w="2730600"/>
                <a:gridCol w="276084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江周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子豪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257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冲突发生后他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自的心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2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其他同学会怎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看待他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96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他们希望对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怎样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106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你认为他们怎样做才能继续成为朋友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1" name="Text Box 28"/>
          <p:cNvSpPr/>
          <p:nvPr/>
        </p:nvSpPr>
        <p:spPr>
          <a:xfrm>
            <a:off x="539640" y="117360"/>
            <a:ext cx="8137800" cy="1281960"/>
          </a:xfrm>
          <a:prstGeom prst="rect">
            <a:avLst/>
          </a:prstGeom>
          <a:solidFill>
            <a:srgbClr val="ccff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微软雅黑"/>
              </a:rPr>
              <a:t>探究一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样的经历，你有过吗？你的心情会怎样？如果你是江周或子豪，你会怎么想，怎么做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5564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"/>
                <a:ea typeface="楷体"/>
              </a:rPr>
              <a:t>探究二：联系生活，思考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、我与最好的朋友发生冲突该怎么办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、我热心帮助同学，管理班级，却遭到同学非议该怎么办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612720" y="206064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在生活中，我们会经历许多意想不到的事情，只有对人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"/>
              </a:rPr>
              <a:t>友善、宽容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，与人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"/>
              </a:rPr>
              <a:t>和谐相处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，才会更加快乐；发生冲突时，只要我们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"/>
              </a:rPr>
              <a:t>换个角度想一想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，讲究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"/>
              </a:rPr>
              <a:t>说话的技巧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，采用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"/>
              </a:rPr>
              <a:t>恰当的方法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"/>
              </a:rPr>
              <a:t>，就能化解矛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3"/>
          <p:cNvSpPr txBox="1"/>
          <p:nvPr/>
        </p:nvSpPr>
        <p:spPr>
          <a:xfrm>
            <a:off x="324000" y="404640"/>
            <a:ext cx="705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三十六计之—— 换位思考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612720" y="260280"/>
            <a:ext cx="7431120" cy="51768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活动三 有话好好说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24000" y="4870440"/>
            <a:ext cx="8569080" cy="807120"/>
          </a:xfrm>
          <a:prstGeom prst="rect">
            <a:avLst/>
          </a:prstGeom>
          <a:solidFill>
            <a:srgbClr val="ccff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在生活中，你喜欢以什么方式与长辈交往？不喜欢那种方式？谈谈你的感受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2-2"/>
          <p:cNvPicPr/>
          <p:nvPr/>
        </p:nvPicPr>
        <p:blipFill>
          <a:blip r:embed="rId1"/>
          <a:stretch/>
        </p:blipFill>
        <p:spPr>
          <a:xfrm>
            <a:off x="1044720" y="836640"/>
            <a:ext cx="698472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8:14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08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