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52.jpeg" ContentType="image/jpeg"/>
  <Override PartName="/ppt/media/image51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57.jpeg" ContentType="image/jpeg"/>
  <Override PartName="/ppt/media/image60.gif" ContentType="image/gif"/>
  <Override PartName="/ppt/media/image44.gif" ContentType="image/gif"/>
  <Override PartName="/ppt/media/image47.png" ContentType="image/pn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3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71.png" ContentType="image/png"/>
  <Override PartName="/ppt/media/image6.jpeg" ContentType="image/jpeg"/>
  <Override PartName="/ppt/media/image62.png" ContentType="image/png"/>
  <Override PartName="/ppt/media/image15.jpeg" ContentType="image/jpeg"/>
  <Override PartName="/ppt/media/image78.jpeg" ContentType="image/jpeg"/>
  <Override PartName="/ppt/media/image76.jpeg" ContentType="image/jpeg"/>
  <Override PartName="/ppt/media/image75.jpeg" ContentType="image/jpeg"/>
  <Override PartName="/ppt/media/image73.jpeg" ContentType="image/jpeg"/>
  <Override PartName="/ppt/media/image72.jpeg" ContentType="image/jpeg"/>
  <Override PartName="/ppt/media/image77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28.png" ContentType="image/png"/>
  <Override PartName="/ppt/media/image68.png" ContentType="image/png"/>
  <Override PartName="/ppt/media/image67.jpeg" ContentType="image/jpeg"/>
  <Override PartName="/ppt/media/image69.png" ContentType="image/png"/>
  <Override PartName="/ppt/media/image25.jpeg" ContentType="image/jpeg"/>
  <Override PartName="/ppt/media/image32.png" ContentType="image/pn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8.png" ContentType="image/png"/>
  <Override PartName="/ppt/media/image2.gif" ContentType="image/gif"/>
  <Override PartName="/ppt/media/image39.jpeg" ContentType="image/jpeg"/>
  <Override PartName="/ppt/media/image12.jpeg" ContentType="image/jpeg"/>
  <Override PartName="/ppt/media/image34.png" ContentType="image/png"/>
  <Override PartName="/ppt/media/image7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6.jpeg" ContentType="image/jpeg"/>
  <Override PartName="/ppt/media/image61.png" ContentType="image/png"/>
  <Override PartName="/ppt/media/image5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11.jpeg" ContentType="image/jpeg"/>
  <Override PartName="/ppt/media/image30.png" ContentType="image/png"/>
  <Override PartName="/ppt/media/image31.jpeg" ContentType="image/jpeg"/>
  <Override PartName="/ppt/media/image33.jpeg" ContentType="image/jpeg"/>
  <Override PartName="/ppt/media/image36.jpeg" ContentType="image/jpeg"/>
  <Override PartName="/ppt/media/image3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855-F1A9-4059-BCC8-1B44F714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15B-E115-4DD6-819C-F7751CA4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8AD-C748-4CC3-8193-172390A4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885-9FB5-4E8C-A8D7-4C0AE748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9A82-4596-49B6-B9F2-F973BE9B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6460-BF43-4BC0-B6F7-271693E5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790A-6B00-4360-8A78-F19AF3E5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E034-1307-40D4-BDA0-DE751701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C8FE-1D5E-4303-A5AE-5EC08050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C3B7-F4D7-418B-9C39-1371EFBF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E217-37C4-4029-B5C1-3618746B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CEB-3932-4D19-8EB9-55E84E23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9A3A-D26C-4B03-8610-1520AC17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308B-E5B3-4022-ACC6-FDD1ECFD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BF62-0D2E-4101-8252-3EDDED81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CE91-3755-4E76-9D73-935B6307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1D0F-C335-410E-ACE0-56956302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92C-628E-4E56-A06E-88D53626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B1E-781B-4365-A5DA-17F28301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07D-64AB-44C7-B04B-1497D1E2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192-113E-44F2-B1AC-833187BA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6D7-2DE7-4BF8-8E3F-FBE0F0B0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45D-416A-4C46-88F6-1C2E62F0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D64-D41C-4BDE-9E97-DBD678F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4342-A643-4959-84C9-7FF7C86E1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E8C0-A318-4DF0-8784-D6738F7374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&#26519;&#21017;&#24464;&#34382;&#38376;&#38144;&#28895;.wmv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hyperlink" Target="jsp6s010408001&#31105;&#27602;.wmv" TargetMode="External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44.gif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jsp6s010408002%20&#37207;&#37202;&#37247;&#24808;&#21095;.wmv" TargetMode="External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60.gif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hyperlink" Target="jsp6s010408003&#23569;&#24180;&#20043;&#27527;.wmv" TargetMode="External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hyperlink" Target="jsp6s010408004&#19987;&#23478;&#35848;&#27785;&#36855;&#32593;&#32476;&#28216;&#25103;&#30340;&#21407;&#22240;.wmv" TargetMode="External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6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2103480" y="901800"/>
            <a:ext cx="47815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第一单元 走向文明</a:t>
            </a:r>
            <a:endParaRPr b="1" lang="en-US" sz="4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1560600" y="2205000"/>
            <a:ext cx="574812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778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学会拒绝课件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杜冷丁"/>
          <p:cNvPicPr/>
          <p:nvPr/>
        </p:nvPicPr>
        <p:blipFill>
          <a:blip r:embed="rId2"/>
          <a:stretch/>
        </p:blipFill>
        <p:spPr>
          <a:xfrm>
            <a:off x="755640" y="763560"/>
            <a:ext cx="3816360" cy="1873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可卡因粉"/>
          <p:cNvPicPr/>
          <p:nvPr/>
        </p:nvPicPr>
        <p:blipFill>
          <a:blip r:embed="rId3"/>
          <a:stretch/>
        </p:blipFill>
        <p:spPr>
          <a:xfrm>
            <a:off x="755640" y="4673520"/>
            <a:ext cx="3816360" cy="1803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吗啡"/>
          <p:cNvPicPr/>
          <p:nvPr/>
        </p:nvPicPr>
        <p:blipFill>
          <a:blip r:embed="rId4"/>
          <a:stretch/>
        </p:blipFill>
        <p:spPr>
          <a:xfrm>
            <a:off x="755640" y="2708280"/>
            <a:ext cx="3816360" cy="1942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5791320" y="9907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杜冷丁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943600" y="29718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吗啡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5867280" y="50292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卡因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6"/>
          <p:cNvSpPr/>
          <p:nvPr/>
        </p:nvSpPr>
        <p:spPr>
          <a:xfrm>
            <a:off x="76320" y="0"/>
            <a:ext cx="281916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52280" y="166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一 远离毒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37" name="Picture 8" descr="KJ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050920" y="1341360"/>
            <a:ext cx="5256360" cy="3936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8" name="Text Box 9"/>
          <p:cNvSpPr/>
          <p:nvPr/>
        </p:nvSpPr>
        <p:spPr>
          <a:xfrm>
            <a:off x="3484440" y="5553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点击播放课件）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38080" y="58672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危害"/>
          <p:cNvPicPr/>
          <p:nvPr/>
        </p:nvPicPr>
        <p:blipFill>
          <a:blip r:embed="rId2"/>
          <a:stretch/>
        </p:blipFill>
        <p:spPr>
          <a:xfrm>
            <a:off x="533520" y="1752480"/>
            <a:ext cx="8076960" cy="1589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罂粟"/>
          <p:cNvPicPr/>
          <p:nvPr/>
        </p:nvPicPr>
        <p:blipFill>
          <a:blip r:embed="rId3"/>
          <a:stretch/>
        </p:blipFill>
        <p:spPr>
          <a:xfrm>
            <a:off x="6324480" y="3733920"/>
            <a:ext cx="2143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半透明条——蓝"/>
          <p:cNvPicPr/>
          <p:nvPr/>
        </p:nvPicPr>
        <p:blipFill>
          <a:blip r:embed="rId2"/>
          <a:stretch/>
        </p:blipFill>
        <p:spPr>
          <a:xfrm>
            <a:off x="685800" y="2590920"/>
            <a:ext cx="7728120" cy="1563480"/>
          </a:xfrm>
          <a:prstGeom prst="rect">
            <a:avLst/>
          </a:prstGeom>
          <a:ln w="0">
            <a:noFill/>
          </a:ln>
        </p:spPr>
      </p:pic>
      <p:sp>
        <p:nvSpPr>
          <p:cNvPr id="145" name="WordArt 6"/>
          <p:cNvSpPr txBox="1"/>
          <p:nvPr/>
        </p:nvSpPr>
        <p:spPr>
          <a:xfrm>
            <a:off x="990720" y="2971800"/>
            <a:ext cx="7238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solidFill>
                    <a:srgbClr val="808080"/>
                  </a:solidFill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一、摧残身心健康，传染多种疾病 </a:t>
            </a:r>
            <a:endParaRPr b="1" lang="en-US" sz="2400" spc="-1" strike="noStrike">
              <a:ln w="0">
                <a:solidFill>
                  <a:srgbClr val="808080"/>
                </a:solidFill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590920" y="1676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危害个人，摧残身体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042920" y="2924280"/>
            <a:ext cx="71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，男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吸毒三年后，由原来一个健康小伙子变成现在这样人不人鬼不鬼的样子，非常痛苦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1"/>
          <p:cNvPicPr/>
          <p:nvPr/>
        </p:nvPicPr>
        <p:blipFill>
          <a:blip r:embed="rId2"/>
          <a:stretch/>
        </p:blipFill>
        <p:spPr>
          <a:xfrm>
            <a:off x="685800" y="533520"/>
            <a:ext cx="765828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半透明条——绿"/>
          <p:cNvPicPr/>
          <p:nvPr/>
        </p:nvPicPr>
        <p:blipFill>
          <a:blip r:embed="rId2"/>
          <a:stretch/>
        </p:blipFill>
        <p:spPr>
          <a:xfrm>
            <a:off x="533520" y="2438280"/>
            <a:ext cx="8153280" cy="1619280"/>
          </a:xfrm>
          <a:prstGeom prst="rect">
            <a:avLst/>
          </a:prstGeom>
          <a:ln w="0">
            <a:noFill/>
          </a:ln>
        </p:spPr>
      </p:pic>
      <p:sp>
        <p:nvSpPr>
          <p:cNvPr id="153" name="WordArt 6"/>
          <p:cNvSpPr txBox="1"/>
          <p:nvPr/>
        </p:nvSpPr>
        <p:spPr>
          <a:xfrm>
            <a:off x="838080" y="2971800"/>
            <a:ext cx="7467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solidFill>
                    <a:srgbClr val="808080"/>
                  </a:solidFill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二、消耗巨额财富，导致家破人亡</a:t>
            </a:r>
            <a:endParaRPr b="1" lang="en-US" sz="2400" spc="-1" strike="noStrike">
              <a:ln w="0">
                <a:solidFill>
                  <a:srgbClr val="808080"/>
                </a:solidFill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826920" y="2924280"/>
            <a:ext cx="753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陕西省宝鸡县无业人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8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开始吸毒，为吸毒盗窃诈骗，并把家产变卖一空。父母、儿子与他断绝关系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9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因吸毒引起心理变态，凶残地将多次规劝他戒毒的妻子杀死，并将妻子碎尸扔进池塘中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14600" y="1600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危害家庭，毁灭家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2"/>
          <p:cNvPicPr/>
          <p:nvPr/>
        </p:nvPicPr>
        <p:blipFill>
          <a:blip r:embed="rId2"/>
          <a:stretch/>
        </p:blipFill>
        <p:spPr>
          <a:xfrm>
            <a:off x="838080" y="457200"/>
            <a:ext cx="750600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半透明条——紫"/>
          <p:cNvPicPr/>
          <p:nvPr/>
        </p:nvPicPr>
        <p:blipFill>
          <a:blip r:embed="rId2"/>
          <a:stretch/>
        </p:blipFill>
        <p:spPr>
          <a:xfrm>
            <a:off x="914400" y="2438280"/>
            <a:ext cx="7696080" cy="1557360"/>
          </a:xfrm>
          <a:prstGeom prst="rect">
            <a:avLst/>
          </a:prstGeom>
          <a:ln w="0">
            <a:noFill/>
          </a:ln>
        </p:spPr>
      </p:pic>
      <p:sp>
        <p:nvSpPr>
          <p:cNvPr id="161" name="WordArt 6"/>
          <p:cNvSpPr txBox="1"/>
          <p:nvPr/>
        </p:nvSpPr>
        <p:spPr>
          <a:xfrm>
            <a:off x="2286000" y="2743200"/>
            <a:ext cx="4952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solidFill>
                    <a:srgbClr val="808080"/>
                  </a:solidFill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三、引发违法犯罪</a:t>
            </a:r>
            <a:endParaRPr b="1" lang="en-US" sz="2400" spc="-1" strike="noStrike">
              <a:ln w="0">
                <a:solidFill>
                  <a:srgbClr val="808080"/>
                </a:solidFill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1_副本"/>
          <p:cNvPicPr/>
          <p:nvPr/>
        </p:nvPicPr>
        <p:blipFill>
          <a:blip r:embed="rId2"/>
          <a:stretch/>
        </p:blipFill>
        <p:spPr>
          <a:xfrm>
            <a:off x="0" y="0"/>
            <a:ext cx="2209680" cy="10065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1"/>
          <p:cNvSpPr/>
          <p:nvPr/>
        </p:nvSpPr>
        <p:spPr>
          <a:xfrm>
            <a:off x="0" y="990720"/>
            <a:ext cx="281952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6320" y="1157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一 远离毒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24000" y="4076640"/>
            <a:ext cx="8640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女孩的经历给你最深的感受是什么？为什么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毒一口，落入虎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三个月的强制戒毒，能使她最终摆脱毒品吗？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3"/>
          <a:stretch/>
        </p:blipFill>
        <p:spPr>
          <a:xfrm>
            <a:off x="2987640" y="1413000"/>
            <a:ext cx="3448080" cy="2154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2" name="Text Box 18"/>
          <p:cNvSpPr/>
          <p:nvPr/>
        </p:nvSpPr>
        <p:spPr>
          <a:xfrm>
            <a:off x="2700360" y="37101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（动画：一个花季少女的独白）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324000" y="501336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一日吸毒，长期想毒，终身戒毒！这位花季少女在好奇心的驱使下染上毒瘾。她的一生，因为毒品被彻底改变了，而三个月的强制戒毒后，也难以保证这位女孩不再吸毒。许多青少年就像她的经历，没能经受住诱惑，导致后悔终生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838080" y="2971800"/>
            <a:ext cx="747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福州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，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因无钱吸毒，与同伙一起持枪拦抢出租车。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内打死、撞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打伤、撞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撞坏各种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辆，给社会带来严重危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514600" y="17524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危害社会，滋生犯罪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3"/>
          <p:cNvPicPr/>
          <p:nvPr/>
        </p:nvPicPr>
        <p:blipFill>
          <a:blip r:embed="rId2"/>
          <a:stretch/>
        </p:blipFill>
        <p:spPr>
          <a:xfrm>
            <a:off x="762120" y="533520"/>
            <a:ext cx="773424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2666880" y="7621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危害国家，有史可鉴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703440" y="1600200"/>
            <a:ext cx="76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近代，我国深受英国鸦片的毒害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38—183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运进我国的鸦片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箱，使国人的身心遭到严重摧残，造成我国白银大量外流。以林则徐为代表的有识之士开展了禁烟运动。接着爆发了因毒品引发的鸦片战争。清政府腐败无能，最后妥协投降。此后，清朝政府在英、法等列强逼迫下，签订了一系列不平等条约。从此，我国沦为半殖民地半封建社会，惨遭列强的掠夺和侵略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年之久，被割地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万平方千米，赔款折合白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两之多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0" name="文本框 8199"/>
          <p:cNvSpPr/>
          <p:nvPr/>
        </p:nvSpPr>
        <p:spPr>
          <a:xfrm>
            <a:off x="1268280" y="4269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林则徐虎门销烟[(000805)10-49-55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549360"/>
            <a:ext cx="4783320" cy="2755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73" name="Text Box 6"/>
          <p:cNvSpPr/>
          <p:nvPr/>
        </p:nvSpPr>
        <p:spPr>
          <a:xfrm>
            <a:off x="2916360" y="35002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视频：林则徐虎门销烟）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867280" y="6416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点击图片播放视频）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971640" y="400536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了有关毒品危害的资料，你有什么感受？毒品还给人们带来哪些危害，你能举例说说吗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1403280" y="5516640"/>
            <a:ext cx="53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毒品的危害有目共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6"/>
          <p:cNvSpPr/>
          <p:nvPr/>
        </p:nvSpPr>
        <p:spPr>
          <a:xfrm>
            <a:off x="76320" y="0"/>
            <a:ext cx="281916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52280" y="166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一 远离毒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81" name="Picture 8" descr="暴风截屏200911101419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981000"/>
            <a:ext cx="3902040" cy="2849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82" name="Text Box 9"/>
          <p:cNvSpPr/>
          <p:nvPr/>
        </p:nvSpPr>
        <p:spPr>
          <a:xfrm>
            <a:off x="3203640" y="39337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点击图片播放视频）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39640" y="4365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政府和人民为防止毒品侵害，作了哪些努力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468360" y="501336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为防止毒品侵害，我国政府和人民乃至世界各国政府和人民都做了大量的工作。许多人进行了不懈地努力，有的人甚至献出了宝贵的生命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9"/>
          <p:cNvSpPr/>
          <p:nvPr/>
        </p:nvSpPr>
        <p:spPr>
          <a:xfrm>
            <a:off x="3629160" y="54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点击播放课件）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88" name="Picture 11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268360" y="1197000"/>
            <a:ext cx="5183280" cy="39006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12"/>
          <p:cNvSpPr/>
          <p:nvPr/>
        </p:nvSpPr>
        <p:spPr>
          <a:xfrm>
            <a:off x="76320" y="0"/>
            <a:ext cx="434340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152280" y="1666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二 远离毒品行动手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远离毒品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92" name="WordArt 7"/>
          <p:cNvSpPr txBox="1"/>
          <p:nvPr/>
        </p:nvSpPr>
        <p:spPr>
          <a:xfrm>
            <a:off x="1143000" y="2743200"/>
            <a:ext cx="67057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黑体"/>
              </a:rPr>
              <a:t>远离毒品行动</a:t>
            </a:r>
            <a:endParaRPr b="1" lang="en-US" sz="40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0" descr="背景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22"/>
          <p:cNvSpPr/>
          <p:nvPr/>
        </p:nvSpPr>
        <p:spPr>
          <a:xfrm>
            <a:off x="2340000" y="587700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不与不三不四的人交往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5" name="Picture 28" descr="02"/>
          <p:cNvPicPr/>
          <p:nvPr/>
        </p:nvPicPr>
        <p:blipFill>
          <a:blip r:embed="rId2"/>
          <a:stretch/>
        </p:blipFill>
        <p:spPr>
          <a:xfrm>
            <a:off x="1116000" y="404640"/>
            <a:ext cx="705636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背景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611280" y="5516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不听信毒品能治病、能解脱烦恼和痛苦、能给人带来快乐的各种花言巧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98" name="Picture 9" descr="03"/>
          <p:cNvPicPr/>
          <p:nvPr/>
        </p:nvPicPr>
        <p:blipFill>
          <a:blip r:embed="rId2"/>
          <a:stretch/>
        </p:blipFill>
        <p:spPr>
          <a:xfrm>
            <a:off x="1332000" y="476280"/>
            <a:ext cx="669744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背景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468360" y="4941720"/>
            <a:ext cx="81360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不随便吸食别人给的东西，不吸食摇头丸、</a:t>
            </a:r>
            <a:r>
              <a:rPr b="1" lang="en-US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K</a:t>
            </a: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粉的兴奋剂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粉，吸食方式为鼻吸或溶于饮料后饮用，能兴奋心血管，吸食过量可致死，具有一定的精神依赖性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01" name="Picture 10" descr="01"/>
          <p:cNvPicPr/>
          <p:nvPr/>
        </p:nvPicPr>
        <p:blipFill>
          <a:blip r:embed="rId2"/>
          <a:stretch/>
        </p:blipFill>
        <p:spPr>
          <a:xfrm>
            <a:off x="1547640" y="333360"/>
            <a:ext cx="6193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6"/>
          <p:cNvSpPr/>
          <p:nvPr/>
        </p:nvSpPr>
        <p:spPr>
          <a:xfrm>
            <a:off x="76320" y="0"/>
            <a:ext cx="281916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52280" y="166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一 远离毒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8" name="Picture 8" descr="KJ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484360" y="981000"/>
            <a:ext cx="4605480" cy="345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9" name="Text Box 10"/>
          <p:cNvSpPr/>
          <p:nvPr/>
        </p:nvSpPr>
        <p:spPr>
          <a:xfrm>
            <a:off x="755640" y="4869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起来了解一下有关毒品的小资料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6"/>
          <p:cNvSpPr/>
          <p:nvPr/>
        </p:nvSpPr>
        <p:spPr>
          <a:xfrm>
            <a:off x="76320" y="0"/>
            <a:ext cx="434340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52280" y="1666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二 远离毒品行动手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06" name="Picture 9" descr="草地"/>
          <p:cNvPicPr/>
          <p:nvPr/>
        </p:nvPicPr>
        <p:blipFill>
          <a:blip r:embed="rId3"/>
          <a:stretch/>
        </p:blipFill>
        <p:spPr>
          <a:xfrm>
            <a:off x="0" y="6316560"/>
            <a:ext cx="9296280" cy="6177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8"/>
          <p:cNvSpPr/>
          <p:nvPr/>
        </p:nvSpPr>
        <p:spPr>
          <a:xfrm>
            <a:off x="684360" y="1700280"/>
            <a:ext cx="76197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学生，为防止毒品侵害，可以做些什么呢？一起来制定一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离毒品行动手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755640" y="335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宋体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楷体_GB2312"/>
              </a:rPr>
              <a:t>青少年是民族的希望、国家的未来，在成长的道路上有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楷体_GB2312"/>
              </a:rPr>
              <a:t>阳光灿烂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楷体_GB2312"/>
              </a:rPr>
              <a:t>，也有形形色色的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楷体_GB2312"/>
              </a:rPr>
              <a:t>陷阱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楷体_GB2312"/>
              </a:rPr>
              <a:t>，一旦误入歧途，会给自己的人生造成重大损失，还会影响到家庭幸福。让我们用毅力和理智绕过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楷体_GB2312"/>
              </a:rPr>
              <a:t>陷阱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  <a:ea typeface="楷体_GB2312"/>
              </a:rPr>
              <a:t>、远离毒品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第2课时"/>
          <p:cNvPicPr/>
          <p:nvPr/>
        </p:nvPicPr>
        <p:blipFill>
          <a:blip r:embed="rId3"/>
          <a:stretch/>
        </p:blipFill>
        <p:spPr>
          <a:xfrm>
            <a:off x="0" y="0"/>
            <a:ext cx="2057400" cy="99072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7"/>
          <p:cNvSpPr/>
          <p:nvPr/>
        </p:nvSpPr>
        <p:spPr>
          <a:xfrm>
            <a:off x="76320" y="914400"/>
            <a:ext cx="396216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52280" y="1081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一 吸烟危害知多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14" name="Picture 9" descr="KJ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2340000" y="1773360"/>
            <a:ext cx="4081320" cy="3044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15" name="Text Box 10"/>
          <p:cNvSpPr/>
          <p:nvPr/>
        </p:nvSpPr>
        <p:spPr>
          <a:xfrm>
            <a:off x="3203640" y="48690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点击播放课件）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24000" y="5300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们平时的生活中，你们都听到过这样的一些顺口溜。象这样有关烟酒的俗语你还听说过哪些？这些俗语反映了一些什么社会现象？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标题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小标题"/>
          <p:cNvPicPr/>
          <p:nvPr/>
        </p:nvPicPr>
        <p:blipFill>
          <a:blip r:embed="rId2"/>
          <a:stretch/>
        </p:blipFill>
        <p:spPr>
          <a:xfrm>
            <a:off x="0" y="685800"/>
            <a:ext cx="9677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背景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2"/>
          <p:cNvPicPr/>
          <p:nvPr/>
        </p:nvPicPr>
        <p:blipFill>
          <a:blip r:embed="rId2"/>
          <a:stretch/>
        </p:blipFill>
        <p:spPr>
          <a:xfrm>
            <a:off x="3962520" y="762120"/>
            <a:ext cx="4495680" cy="52578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1297440" y="1600200"/>
            <a:ext cx="2325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胜似活神仙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饭后一根烟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背景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1"/>
          <p:cNvPicPr/>
          <p:nvPr/>
        </p:nvPicPr>
        <p:blipFill>
          <a:blip r:embed="rId2"/>
          <a:stretch/>
        </p:blipFill>
        <p:spPr>
          <a:xfrm>
            <a:off x="762120" y="990720"/>
            <a:ext cx="4495680" cy="47242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5886360" y="1219320"/>
            <a:ext cx="152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酒逢知己千杯少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背景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4"/>
          <p:cNvPicPr/>
          <p:nvPr/>
        </p:nvPicPr>
        <p:blipFill>
          <a:blip r:embed="rId2"/>
          <a:stretch/>
        </p:blipFill>
        <p:spPr>
          <a:xfrm>
            <a:off x="838080" y="838080"/>
            <a:ext cx="3276720" cy="5029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5"/>
          <p:cNvPicPr/>
          <p:nvPr/>
        </p:nvPicPr>
        <p:blipFill>
          <a:blip r:embed="rId3"/>
          <a:stretch/>
        </p:blipFill>
        <p:spPr>
          <a:xfrm>
            <a:off x="4343400" y="91440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7"/>
          <p:cNvSpPr/>
          <p:nvPr/>
        </p:nvSpPr>
        <p:spPr>
          <a:xfrm>
            <a:off x="5508000" y="43434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吸烟不喝酒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枉到世上走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背景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5"/>
          <p:cNvSpPr/>
          <p:nvPr/>
        </p:nvSpPr>
        <p:spPr>
          <a:xfrm>
            <a:off x="5148360" y="692280"/>
            <a:ext cx="352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烟草有害且成瘾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严重危害人身心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31" name="Picture 6" descr="烟"/>
          <p:cNvPicPr/>
          <p:nvPr/>
        </p:nvPicPr>
        <p:blipFill>
          <a:blip r:embed="rId2"/>
          <a:stretch/>
        </p:blipFill>
        <p:spPr>
          <a:xfrm>
            <a:off x="755640" y="765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酒"/>
          <p:cNvPicPr/>
          <p:nvPr/>
        </p:nvPicPr>
        <p:blipFill>
          <a:blip r:embed="rId3"/>
          <a:stretch/>
        </p:blipFill>
        <p:spPr>
          <a:xfrm>
            <a:off x="5364000" y="1916280"/>
            <a:ext cx="2455920" cy="3168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971640" y="3645000"/>
            <a:ext cx="410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少量饮酒健康友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过量酒精机体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11280" y="48690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从这些俗语中我们看到，人们对烟酒充满了感情，认为烟酒给自己带来了快乐，生活中离不开烟和酒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>
            <a:off x="76320" y="76320"/>
            <a:ext cx="396216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52280" y="243000"/>
            <a:ext cx="405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一 吸烟危害知多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971640" y="4149720"/>
            <a:ext cx="75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统计数据中，你们发现了什么？有什么想说的吗？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11280" y="1341360"/>
          <a:ext cx="7129440" cy="2674800"/>
        </p:xfrm>
        <a:graphic>
          <a:graphicData uri="http://schemas.openxmlformats.org/drawingml/2006/table">
            <a:tbl>
              <a:tblPr/>
              <a:tblGrid>
                <a:gridCol w="3565440"/>
                <a:gridCol w="35640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楷体_GB2312"/>
                        </a:rPr>
                        <a:t>调查内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Times New Roman"/>
                          <a:ea typeface="楷体_GB2312"/>
                        </a:rPr>
                        <a:t>统计人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楷体_GB2312"/>
                        </a:rPr>
                        <a:t>家里有人抽烟吗？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楷体_GB2312"/>
                        </a:rPr>
                        <a:t>你喜欢家人抽烟吗？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楷体_GB2312"/>
                        </a:rPr>
                        <a:t>你阻止过家人吸烟吗？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楷体_GB2312"/>
                        </a:rPr>
                        <a:t>家人有成功戒烟的吗？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Text Box 33"/>
          <p:cNvSpPr/>
          <p:nvPr/>
        </p:nvSpPr>
        <p:spPr>
          <a:xfrm>
            <a:off x="3492360" y="762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小调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Text Box 35"/>
          <p:cNvSpPr/>
          <p:nvPr/>
        </p:nvSpPr>
        <p:spPr>
          <a:xfrm>
            <a:off x="324000" y="4653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在我国，特别是在农村，吸烟、喝酒是非常普遍的社会现象。我国是烟草销售大国。据调查，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年中国的烟民达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.6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亿。被动吸烟者高达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5.4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亿。其中，青少年吸烟者高达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万。烟民逐渐年轻化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6"/>
          <p:cNvSpPr/>
          <p:nvPr/>
        </p:nvSpPr>
        <p:spPr>
          <a:xfrm>
            <a:off x="0" y="0"/>
            <a:ext cx="396252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76320" y="1666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一 吸烟危害知多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533520" y="138744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谈谈你对吸烟的危害有了哪些新的认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6019920" y="64612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请分别点击图片）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4952880" y="41911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0" name="Picture 16" descr="1"/>
          <p:cNvPicPr/>
          <p:nvPr/>
        </p:nvPicPr>
        <p:blipFill>
          <a:blip r:embed="rId3"/>
          <a:stretch/>
        </p:blipFill>
        <p:spPr>
          <a:xfrm>
            <a:off x="5076720" y="2778120"/>
            <a:ext cx="3443400" cy="2666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251" name="Picture 19" descr=""/>
          <p:cNvPicPr/>
          <p:nvPr/>
        </p:nvPicPr>
        <p:blipFill>
          <a:blip r:embed="rId4"/>
          <a:stretch/>
        </p:blipFill>
        <p:spPr>
          <a:xfrm>
            <a:off x="468360" y="2781360"/>
            <a:ext cx="4211640" cy="2584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52" name="Text Box 20"/>
          <p:cNvSpPr/>
          <p:nvPr/>
        </p:nvSpPr>
        <p:spPr>
          <a:xfrm>
            <a:off x="684360" y="55897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（动画：吸烟对人体的影响）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116000" y="1268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香烟燃烧时的烟雾中主要含有尼古丁、焦油、一氧化碳及烟碱等有害物质。一支香烟里面的尼古丁，可以毒死一只小白鼠。焦油是一种致癌物质，</a:t>
            </a: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％的焦油沉淀在人体的肺部，损害人的呼吸功能。一氧化碳会使大脑、心脏等多种器官产生损伤。还有烟碱，它会使我们的牙齿变黑变黄，在它经过的口腔、气管、支气管、肺部都会留下印迹。在日积月累中，人们的身体慢慢地被侵蚀，健康受到很大影响！所以拒绝香烟诱惑，才是明智选择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5" name="AutoShape 6"/>
          <p:cNvSpPr/>
          <p:nvPr/>
        </p:nvSpPr>
        <p:spPr>
          <a:xfrm>
            <a:off x="0" y="0"/>
            <a:ext cx="396252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76320" y="1666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一 吸烟危害知多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毒品介绍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5"/>
          <p:cNvSpPr txBox="1"/>
          <p:nvPr/>
        </p:nvSpPr>
        <p:spPr>
          <a:xfrm>
            <a:off x="1828800" y="2590920"/>
            <a:ext cx="5562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幼圆"/>
              </a:rPr>
              <a:t>毒品介绍</a:t>
            </a:r>
            <a:endParaRPr b="1" i="1" lang="en-US" sz="5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5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6"/>
          <p:cNvSpPr/>
          <p:nvPr/>
        </p:nvSpPr>
        <p:spPr>
          <a:xfrm>
            <a:off x="76320" y="0"/>
            <a:ext cx="396216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52280" y="152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二 酗酒危害大家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60" name="Picture 8" descr="酒后驾车2副本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1125360"/>
            <a:ext cx="4157640" cy="3114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61" name="Text Box 9"/>
          <p:cNvSpPr/>
          <p:nvPr/>
        </p:nvSpPr>
        <p:spPr>
          <a:xfrm>
            <a:off x="3200400" y="44956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点击图片播放视频）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685800" y="502920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了这个短片，有什么感触吗？像这样的悲剧你还听说过吗？你有哪些拒绝饮酒的好方法吗？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6"/>
          <p:cNvSpPr/>
          <p:nvPr/>
        </p:nvSpPr>
        <p:spPr>
          <a:xfrm>
            <a:off x="76320" y="0"/>
            <a:ext cx="396216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152280" y="152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二 酗酒危害大家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684360" y="98100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酗酒带来的后果是严重的。据世界卫生组织调查显示，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％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％的交通事故与酒后驾车有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68360" y="2637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度饮酒，为什么会带来这么严重的后果呢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468360" y="3500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酒里面都含有酒精，它对机体组织和器官有直接毒害作用，对酒精最敏感的是肝脏，肝脏持续受毒害将会导致酒精肝、肝硬化，直接威胁宝贵的生命。它还会毒害中枢神经系统，让人不断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出错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。酗酒的危害很大！对于烟、对于酒，我们都应该勇敢而理智地说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不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6"/>
          <p:cNvSpPr/>
          <p:nvPr/>
        </p:nvSpPr>
        <p:spPr>
          <a:xfrm>
            <a:off x="76320" y="0"/>
            <a:ext cx="396216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52280" y="152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三 做个小小宣传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73" name="Picture 8" descr="3"/>
          <p:cNvPicPr/>
          <p:nvPr/>
        </p:nvPicPr>
        <p:blipFill>
          <a:blip r:embed="rId3"/>
          <a:stretch/>
        </p:blipFill>
        <p:spPr>
          <a:xfrm>
            <a:off x="1476360" y="3573360"/>
            <a:ext cx="2743200" cy="25545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5副本"/>
          <p:cNvPicPr/>
          <p:nvPr/>
        </p:nvPicPr>
        <p:blipFill>
          <a:blip r:embed="rId4"/>
          <a:stretch/>
        </p:blipFill>
        <p:spPr>
          <a:xfrm>
            <a:off x="4572000" y="3716280"/>
            <a:ext cx="2743200" cy="2521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1"/>
          <p:cNvSpPr/>
          <p:nvPr/>
        </p:nvSpPr>
        <p:spPr>
          <a:xfrm>
            <a:off x="609480" y="1066680"/>
            <a:ext cx="80773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我们生活中的实际情况，制定一个你认为可行的戒烟、戒酒、禁毒宣传活动方案，如：写一写戒烟、戒酒、禁毒的宣传标语；画一画戒烟、戒酒、禁毒的宣传画；写一篇戒烟、戒酒、禁毒的演讲稿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76" name="Picture 13" descr="草地"/>
          <p:cNvPicPr/>
          <p:nvPr/>
        </p:nvPicPr>
        <p:blipFill>
          <a:blip r:embed="rId5"/>
          <a:stretch/>
        </p:blipFill>
        <p:spPr>
          <a:xfrm>
            <a:off x="0" y="6316560"/>
            <a:ext cx="929628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第3课时"/>
          <p:cNvPicPr/>
          <p:nvPr/>
        </p:nvPicPr>
        <p:blipFill>
          <a:blip r:embed="rId3"/>
          <a:stretch/>
        </p:blipFill>
        <p:spPr>
          <a:xfrm>
            <a:off x="11160" y="0"/>
            <a:ext cx="2122560" cy="104472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7"/>
          <p:cNvSpPr/>
          <p:nvPr/>
        </p:nvSpPr>
        <p:spPr>
          <a:xfrm>
            <a:off x="76320" y="990720"/>
            <a:ext cx="365760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228600" y="1143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一 感受网络魅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108000" y="4292640"/>
            <a:ext cx="8640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自己经常光顾的网站有哪些？最吸引你的是哪些内容？你喜欢在网上做哪些事情？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83" name="Picture 13" descr=""/>
          <p:cNvPicPr/>
          <p:nvPr/>
        </p:nvPicPr>
        <p:blipFill>
          <a:blip r:embed="rId4"/>
          <a:stretch/>
        </p:blipFill>
        <p:spPr>
          <a:xfrm>
            <a:off x="3203640" y="1773360"/>
            <a:ext cx="3211560" cy="22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4" name="Text Box 14"/>
          <p:cNvSpPr/>
          <p:nvPr/>
        </p:nvSpPr>
        <p:spPr>
          <a:xfrm>
            <a:off x="2916360" y="407664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_GB2312"/>
              </a:rPr>
              <a:t>（动画：学生上网情况介绍）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179280" y="544500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丰富多彩的网络世界，方便快捷，可以帮我们节约时间，还丰富着我们的课余生活。让我们有着不同的收获，体会着各自的乐趣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6"/>
          <p:cNvSpPr/>
          <p:nvPr/>
        </p:nvSpPr>
        <p:spPr>
          <a:xfrm>
            <a:off x="76320" y="76320"/>
            <a:ext cx="358128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152280" y="228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二 小心网络陷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90" name="Picture 8" descr="暴风截屏2009111109562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907920"/>
            <a:ext cx="3600720" cy="2606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Text Box 9"/>
          <p:cNvSpPr/>
          <p:nvPr/>
        </p:nvSpPr>
        <p:spPr>
          <a:xfrm>
            <a:off x="6400800" y="299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点击图片播放视频）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468360" y="35733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知道哪些这样的事例？交流课前调查的沉迷网络游戏伤害自己及他人的事例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39640" y="436572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生命并不会像游戏中虚拟的人物可以重生，更不能像开关机那样可以重启。无法区分现实生活和虚拟世界的张潇艺落入了网络陷阱，生命的轨迹在</a:t>
            </a:r>
            <a:r>
              <a:rPr b="1" lang="en-US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岁这一年里戛然而止，而他留给父母的却是无法抚平的痛苦与思念。同样，也留给我们许多沉甸甸的思考。残酷的现实再次提醒大家，正确对待游戏，小心游戏陷阱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6"/>
          <p:cNvSpPr/>
          <p:nvPr/>
        </p:nvSpPr>
        <p:spPr>
          <a:xfrm>
            <a:off x="152280" y="76320"/>
            <a:ext cx="358164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228600" y="22860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二 小心网络陷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042920" y="43657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这些人沉迷网络游戏的原因是什么？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042920" y="4987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有哪些原因是可以自己控制的？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3276720" y="3895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点击图片播放视频）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01" name="Picture 14" descr="暴风截屏200912171107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981000"/>
            <a:ext cx="3733920" cy="2865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02" name="Text Box 15"/>
          <p:cNvSpPr/>
          <p:nvPr/>
        </p:nvSpPr>
        <p:spPr>
          <a:xfrm>
            <a:off x="395280" y="5516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迷恋网络的原因有多种，在这么多原因中，我们唯一可以控制的，就是提高自己的自控能力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152280" y="76320"/>
            <a:ext cx="358164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228600" y="228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二 小心网络陷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07" name="Picture 9" descr="动画副本"/>
          <p:cNvPicPr/>
          <p:nvPr/>
        </p:nvPicPr>
        <p:blipFill>
          <a:blip r:embed="rId3"/>
          <a:stretch/>
        </p:blipFill>
        <p:spPr>
          <a:xfrm>
            <a:off x="2484360" y="2349360"/>
            <a:ext cx="4167360" cy="301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08" name="Text Box 10"/>
          <p:cNvSpPr/>
          <p:nvPr/>
        </p:nvSpPr>
        <p:spPr>
          <a:xfrm>
            <a:off x="3052800" y="56991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点击图片播放课件）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2075040" y="105264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让我们再来了解一下其他的一些网络陷阱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6"/>
          <p:cNvSpPr/>
          <p:nvPr/>
        </p:nvSpPr>
        <p:spPr>
          <a:xfrm>
            <a:off x="76320" y="0"/>
            <a:ext cx="320040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52280" y="152280"/>
            <a:ext cx="34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三 我的金点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14" name="Picture 8" descr="绿色校园网吧副本"/>
          <p:cNvPicPr/>
          <p:nvPr/>
        </p:nvPicPr>
        <p:blipFill>
          <a:blip r:embed="rId3"/>
          <a:stretch/>
        </p:blipFill>
        <p:spPr>
          <a:xfrm>
            <a:off x="2340000" y="836640"/>
            <a:ext cx="4678200" cy="3386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15" name="Text Box 10"/>
          <p:cNvSpPr/>
          <p:nvPr/>
        </p:nvSpPr>
        <p:spPr>
          <a:xfrm>
            <a:off x="1042920" y="4437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楷体_GB2312"/>
              </a:rPr>
              <a:t>怎样避免网络陷阱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提出你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金点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468360" y="5013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我们时刻提醒自己，控制上网时间、培养健康的兴趣爱好、在生活中多交朋友，用正确、健康的方式上网，合理地运用网络来服务我们的生活。相信我们的生活会因网络变得更精彩！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学会拒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76320" y="0"/>
            <a:ext cx="3200400" cy="83808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152280" y="166680"/>
            <a:ext cx="34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活动三 我的金点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21" name="Picture 8" descr="KJ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268360" y="1052640"/>
            <a:ext cx="4762800" cy="35654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9"/>
          <p:cNvSpPr/>
          <p:nvPr/>
        </p:nvSpPr>
        <p:spPr>
          <a:xfrm>
            <a:off x="3635280" y="479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点击播放课件）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1751040" y="580536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听听儿歌，学习避免网络陷阱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儿歌"/>
          <p:cNvPicPr/>
          <p:nvPr/>
        </p:nvPicPr>
        <p:blipFill>
          <a:blip r:embed="rId2"/>
          <a:stretch/>
        </p:blipFill>
        <p:spPr>
          <a:xfrm>
            <a:off x="1981080" y="933480"/>
            <a:ext cx="8153640" cy="4076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2"/>
          <p:cNvPicPr/>
          <p:nvPr/>
        </p:nvPicPr>
        <p:blipFill>
          <a:blip r:embed="rId3"/>
          <a:stretch/>
        </p:blipFill>
        <p:spPr>
          <a:xfrm>
            <a:off x="0" y="3143160"/>
            <a:ext cx="37497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8"/>
          <p:cNvSpPr/>
          <p:nvPr/>
        </p:nvSpPr>
        <p:spPr>
          <a:xfrm>
            <a:off x="6156360" y="1800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0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鸦片"/>
          <p:cNvPicPr/>
          <p:nvPr/>
        </p:nvPicPr>
        <p:blipFill>
          <a:blip r:embed="rId2"/>
          <a:stretch/>
        </p:blipFill>
        <p:spPr>
          <a:xfrm>
            <a:off x="4800600" y="457200"/>
            <a:ext cx="3733920" cy="2665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4号海洛因"/>
          <p:cNvPicPr/>
          <p:nvPr/>
        </p:nvPicPr>
        <p:blipFill>
          <a:blip r:embed="rId3"/>
          <a:stretch/>
        </p:blipFill>
        <p:spPr>
          <a:xfrm>
            <a:off x="4800600" y="3352680"/>
            <a:ext cx="3733920" cy="2787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533520" y="609480"/>
            <a:ext cx="41148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毒品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毒品是指鸦片、海洛因、吗啡、大麻、冰毒等能够使人上瘾的麻醉药品和精神药品，毒品的种类很多，吸入后，有的使人致幻，有的镇静催眠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毒品对人的神经系统有极大的破坏作用，尤其像吗啡、海洛因、冰毒等，对人的伤害最为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网络陷阱2"/>
          <p:cNvPicPr/>
          <p:nvPr/>
        </p:nvPicPr>
        <p:blipFill>
          <a:blip r:embed="rId2"/>
          <a:stretch/>
        </p:blipFill>
        <p:spPr>
          <a:xfrm>
            <a:off x="457200" y="31240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6"/>
          <p:cNvSpPr/>
          <p:nvPr/>
        </p:nvSpPr>
        <p:spPr>
          <a:xfrm>
            <a:off x="2895480" y="1905120"/>
            <a:ext cx="5334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小小窗，有名堂；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莫乱开，不上当。</a:t>
            </a:r>
            <a:r>
              <a:rPr b="1" lang="zh-CN" sz="36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KJ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5"/>
          <p:cNvSpPr/>
          <p:nvPr/>
        </p:nvSpPr>
        <p:spPr>
          <a:xfrm>
            <a:off x="2133720" y="914400"/>
            <a:ext cx="4800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  <a:ea typeface="楷体_GB2312"/>
              </a:rPr>
              <a:t>网站不要随便点，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  <a:ea typeface="楷体_GB2312"/>
              </a:rPr>
              <a:t>网友不要随便见，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  <a:ea typeface="楷体_GB2312"/>
              </a:rPr>
              <a:t>东西不要随便买，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  <a:ea typeface="楷体_GB2312"/>
              </a:rPr>
              <a:t>卡号不要随便填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332" name="Picture 6" descr="网络陷阱"/>
          <p:cNvPicPr/>
          <p:nvPr/>
        </p:nvPicPr>
        <p:blipFill>
          <a:blip r:embed="rId2"/>
          <a:stretch/>
        </p:blipFill>
        <p:spPr>
          <a:xfrm>
            <a:off x="3962520" y="3828960"/>
            <a:ext cx="473220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4" descr="学会拒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吸烟前后的肺部对比"/>
          <p:cNvPicPr/>
          <p:nvPr/>
        </p:nvPicPr>
        <p:blipFill>
          <a:blip r:embed="rId2"/>
          <a:stretch/>
        </p:blipFill>
        <p:spPr>
          <a:xfrm>
            <a:off x="660240" y="3429000"/>
            <a:ext cx="3911760" cy="293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吸烟前后肺部比较"/>
          <p:cNvPicPr/>
          <p:nvPr/>
        </p:nvPicPr>
        <p:blipFill>
          <a:blip r:embed="rId3"/>
          <a:stretch/>
        </p:blipFill>
        <p:spPr>
          <a:xfrm>
            <a:off x="1981080" y="228600"/>
            <a:ext cx="5191200" cy="2876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吸烟者肺部癌变图"/>
          <p:cNvPicPr/>
          <p:nvPr/>
        </p:nvPicPr>
        <p:blipFill>
          <a:blip r:embed="rId4"/>
          <a:stretch/>
        </p:blipFill>
        <p:spPr>
          <a:xfrm>
            <a:off x="5334120" y="3429000"/>
            <a:ext cx="2971800" cy="2887560"/>
          </a:xfrm>
          <a:prstGeom prst="rect">
            <a:avLst/>
          </a:prstGeom>
          <a:ln w="0">
            <a:noFill/>
          </a:ln>
        </p:spPr>
      </p:pic>
      <p:sp>
        <p:nvSpPr>
          <p:cNvPr id="339" name="文本框 8199"/>
          <p:cNvSpPr/>
          <p:nvPr/>
        </p:nvSpPr>
        <p:spPr>
          <a:xfrm>
            <a:off x="660240" y="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互联网管理条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校园绿色网吧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5"/>
          <p:cNvSpPr/>
          <p:nvPr/>
        </p:nvSpPr>
        <p:spPr>
          <a:xfrm>
            <a:off x="5292720" y="5805360"/>
            <a:ext cx="3851280" cy="1052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3" name="AutoShape 6"/>
          <p:cNvSpPr/>
          <p:nvPr/>
        </p:nvSpPr>
        <p:spPr>
          <a:xfrm>
            <a:off x="6323040" y="6285600"/>
            <a:ext cx="2820960" cy="576720"/>
          </a:xfrm>
          <a:prstGeom prst="roundRect">
            <a:avLst>
              <a:gd name="adj" fmla="val 16667"/>
            </a:avLst>
          </a:prstGeom>
          <a:solidFill>
            <a:srgbClr val="cccc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校园绿色网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5AE8-8C5F-49BC-8A03-35CF27B71C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5" descr="学生在校园网吧上网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6"/>
          <p:cNvSpPr/>
          <p:nvPr/>
        </p:nvSpPr>
        <p:spPr>
          <a:xfrm>
            <a:off x="5170320" y="6285600"/>
            <a:ext cx="3973680" cy="576720"/>
          </a:xfrm>
          <a:prstGeom prst="roundRect">
            <a:avLst>
              <a:gd name="adj" fmla="val 16667"/>
            </a:avLst>
          </a:prstGeom>
          <a:solidFill>
            <a:srgbClr val="cccc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学生在校园网吧上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冰毒1号"/>
          <p:cNvPicPr/>
          <p:nvPr/>
        </p:nvPicPr>
        <p:blipFill>
          <a:blip r:embed="rId2"/>
          <a:stretch/>
        </p:blipFill>
        <p:spPr>
          <a:xfrm>
            <a:off x="380880" y="1447920"/>
            <a:ext cx="4114800" cy="472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冰毒"/>
          <p:cNvPicPr/>
          <p:nvPr/>
        </p:nvPicPr>
        <p:blipFill>
          <a:blip r:embed="rId3"/>
          <a:stretch/>
        </p:blipFill>
        <p:spPr>
          <a:xfrm>
            <a:off x="4648320" y="144792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3809880" y="30492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冰毒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不同纯度的海洛因"/>
          <p:cNvPicPr/>
          <p:nvPr/>
        </p:nvPicPr>
        <p:blipFill>
          <a:blip r:embed="rId2"/>
          <a:stretch/>
        </p:blipFill>
        <p:spPr>
          <a:xfrm>
            <a:off x="468360" y="1052640"/>
            <a:ext cx="4114800" cy="296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海洛因"/>
          <p:cNvPicPr/>
          <p:nvPr/>
        </p:nvPicPr>
        <p:blipFill>
          <a:blip r:embed="rId3"/>
          <a:stretch/>
        </p:blipFill>
        <p:spPr>
          <a:xfrm>
            <a:off x="4343400" y="3360600"/>
            <a:ext cx="4330800" cy="30290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4876920" y="1371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同纯度的海洛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838080" y="45720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成品海洛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成品大麻"/>
          <p:cNvPicPr/>
          <p:nvPr/>
        </p:nvPicPr>
        <p:blipFill>
          <a:blip r:embed="rId2"/>
          <a:stretch/>
        </p:blipFill>
        <p:spPr>
          <a:xfrm>
            <a:off x="468360" y="836640"/>
            <a:ext cx="403848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大麻"/>
          <p:cNvPicPr/>
          <p:nvPr/>
        </p:nvPicPr>
        <p:blipFill>
          <a:blip r:embed="rId3"/>
          <a:stretch/>
        </p:blipFill>
        <p:spPr>
          <a:xfrm>
            <a:off x="468360" y="3962520"/>
            <a:ext cx="4038480" cy="289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成长中的大麻"/>
          <p:cNvPicPr/>
          <p:nvPr/>
        </p:nvPicPr>
        <p:blipFill>
          <a:blip r:embed="rId4"/>
          <a:stretch/>
        </p:blipFill>
        <p:spPr>
          <a:xfrm>
            <a:off x="4716360" y="836640"/>
            <a:ext cx="4191120" cy="38862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867280" y="48006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大麻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高档摇头丸"/>
          <p:cNvPicPr/>
          <p:nvPr/>
        </p:nvPicPr>
        <p:blipFill>
          <a:blip r:embed="rId2"/>
          <a:stretch/>
        </p:blipFill>
        <p:spPr>
          <a:xfrm>
            <a:off x="4495680" y="3352680"/>
            <a:ext cx="4267440" cy="304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公安缴获的摇头丸"/>
          <p:cNvPicPr/>
          <p:nvPr/>
        </p:nvPicPr>
        <p:blipFill>
          <a:blip r:embed="rId3"/>
          <a:stretch/>
        </p:blipFill>
        <p:spPr>
          <a:xfrm>
            <a:off x="4495680" y="228600"/>
            <a:ext cx="4267440" cy="3048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摇头丸"/>
          <p:cNvPicPr/>
          <p:nvPr/>
        </p:nvPicPr>
        <p:blipFill>
          <a:blip r:embed="rId4"/>
          <a:stretch/>
        </p:blipFill>
        <p:spPr>
          <a:xfrm>
            <a:off x="457200" y="3352680"/>
            <a:ext cx="396252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1219320" y="1295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摇头丸</a:t>
            </a:r>
            <a:endParaRPr b="1" lang="en-US" sz="4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05:37:33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48:10Z</dcterms:modified>
  <cp:revision>270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