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9.png" ContentType="image/png"/>
  <Override PartName="/ppt/media/image17.png" ContentType="image/png"/>
  <Override PartName="/ppt/media/image14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2.jpeg" ContentType="image/jpeg"/>
  <Override PartName="/ppt/media/chimes.wav" ContentType="audio/x-wav"/>
  <Override PartName="/ppt/media/image16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whoosh.wav" ContentType="audio/x-wav"/>
  <Override PartName="/ppt/media/projctor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076-0887-4075-9156-781C3B2A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6A6-D2D5-4822-90C9-2CE8B836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16F-0BAE-470D-98DA-1B97F07A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E97-74F5-422B-A207-F4FF1F4D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7BE3-8B6C-468E-AFA0-3B76FDA0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A5A1-37F4-47AD-8498-B84FC66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548A-3DEF-4F59-BD73-1FA717A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C6BE-0C9B-4E95-B63F-3DA12F0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D4F8-EECD-457F-BE2D-1814373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69C-A63D-439E-806C-150D05A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1751-9BC8-456A-AD47-0063549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7BC-4BED-46A4-9ABE-549BC0D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E89B-45C7-44E1-949E-22DE47B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A18C-C85C-46C5-A8D4-9525137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F1A0-CB27-433A-A8AF-09FB5CEA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D8C3-9FA1-42E2-855A-CF55A976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4F8-62C2-42F3-9E79-62C81455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23C3-F6AD-474B-825C-6B9AFF15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257E-4165-4EE3-B8E3-0AA6CF4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3CB5-AA2C-407B-83CD-A2B80B95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2A11-B84D-47E9-A606-EB587A77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249F-CD58-4BD0-B8DB-3F5BDC90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AD9-627F-40FC-B155-BFDB9348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466E-A084-43D6-BAD0-716C16E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DDB4-0CCE-4CDB-AC01-9CDAD39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780D-B7EA-441A-8E6A-F0FBF88E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729A-5F37-46DC-87FA-0910DA2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DC05-7F35-4F70-9DAB-AD2400CC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61C5-F3A2-4CC7-B7BB-9659DFA2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48BE-6C2E-4CA4-BBDB-0F814BF1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27A-C175-4DC0-8473-AE2E986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5DB-D15D-49D9-B5C5-7685758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D5E-AA1E-4538-80DE-0F32CC7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0A5-AEFA-42CE-98EF-FA6DECB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0C6-7345-476D-8333-4AE2E86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CA9-9868-44EE-952F-945CC0F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0D4D-35C0-4496-93FF-226777F87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457-F51C-45D4-ADE1-1F6783C27C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394-16A0-40FD-99F6-C44110A59F74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1500120" y="442908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835280" y="1773360"/>
            <a:ext cx="511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交线的垂线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198360" y="5089680"/>
            <a:ext cx="5078520" cy="337320"/>
          </a:xfrm>
          <a:prstGeom prst="rect">
            <a:avLst/>
          </a:prstGeom>
          <a:noFill/>
          <a:ln w="9360">
            <a:solidFill>
              <a:srgbClr val="9c9b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0e5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90e5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56[1]"/>
          <p:cNvPicPr/>
          <p:nvPr/>
        </p:nvPicPr>
        <p:blipFill>
          <a:blip r:embed="rId1"/>
          <a:stretch/>
        </p:blipFill>
        <p:spPr>
          <a:xfrm>
            <a:off x="-1476360" y="-11764800"/>
            <a:ext cx="12385800" cy="288036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12">
            <a:hlinkClick r:id="rId2"/>
          </p:cNvPr>
          <p:cNvSpPr/>
          <p:nvPr/>
        </p:nvSpPr>
        <p:spPr>
          <a:xfrm>
            <a:off x="6804000" y="3213000"/>
            <a:ext cx="144360" cy="1224000"/>
          </a:xfrm>
          <a:custGeom>
            <a:avLst/>
            <a:gdLst/>
            <a:ahLst/>
            <a:rect l="l" t="t" r="r" b="b"/>
            <a:pathLst>
              <a:path w="91" h="771">
                <a:moveTo>
                  <a:pt x="0" y="0"/>
                </a:moveTo>
                <a:cubicBezTo>
                  <a:pt x="38" y="321"/>
                  <a:pt x="76" y="643"/>
                  <a:pt x="91" y="771"/>
                </a:cubicBezTo>
                <a:cubicBezTo>
                  <a:pt x="91" y="771"/>
                  <a:pt x="0" y="0"/>
                  <a:pt x="0" y="0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4572000" y="836640"/>
            <a:ext cx="1584360" cy="1584360"/>
            <a:chOff x="4572000" y="836640"/>
            <a:chExt cx="1584360" cy="1584360"/>
          </a:xfrm>
        </p:grpSpPr>
        <p:sp>
          <p:nvSpPr>
            <p:cNvPr id="338" name="Line 2"/>
            <p:cNvSpPr/>
            <p:nvPr/>
          </p:nvSpPr>
          <p:spPr>
            <a:xfrm>
              <a:off x="4572000" y="836640"/>
              <a:ext cx="158436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572000" y="836640"/>
              <a:ext cx="1584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572000" y="836640"/>
            <a:ext cx="2808360" cy="1584360"/>
            <a:chOff x="4572000" y="836640"/>
            <a:chExt cx="2808360" cy="1584360"/>
          </a:xfrm>
        </p:grpSpPr>
        <p:sp>
          <p:nvSpPr>
            <p:cNvPr id="341" name="Line 3"/>
            <p:cNvSpPr/>
            <p:nvPr/>
          </p:nvSpPr>
          <p:spPr>
            <a:xfrm>
              <a:off x="4572000" y="836640"/>
              <a:ext cx="280836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572000" y="836640"/>
              <a:ext cx="2808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67280" y="836640"/>
            <a:ext cx="504720" cy="1511280"/>
            <a:chOff x="4067280" y="836640"/>
            <a:chExt cx="504720" cy="1511280"/>
          </a:xfrm>
        </p:grpSpPr>
        <p:sp>
          <p:nvSpPr>
            <p:cNvPr id="344" name="Line 4"/>
            <p:cNvSpPr/>
            <p:nvPr/>
          </p:nvSpPr>
          <p:spPr>
            <a:xfrm flipH="1">
              <a:off x="4067280" y="836640"/>
              <a:ext cx="504720" cy="151128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067280" y="836640"/>
              <a:ext cx="50472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59280" y="836640"/>
            <a:ext cx="1512720" cy="1584360"/>
            <a:chOff x="3059280" y="836640"/>
            <a:chExt cx="1512720" cy="1584360"/>
          </a:xfrm>
        </p:grpSpPr>
        <p:sp>
          <p:nvSpPr>
            <p:cNvPr id="347" name="Line 5"/>
            <p:cNvSpPr/>
            <p:nvPr/>
          </p:nvSpPr>
          <p:spPr>
            <a:xfrm flipH="1">
              <a:off x="3059280" y="836640"/>
              <a:ext cx="151272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059280" y="836640"/>
              <a:ext cx="151272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49" name="Text Box 6"/>
          <p:cNvSpPr/>
          <p:nvPr/>
        </p:nvSpPr>
        <p:spPr>
          <a:xfrm>
            <a:off x="466560" y="321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连接直线外一点与直线上各点的所有线段中，垂线段最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925640" y="3762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垂线段最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95280" y="5229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直线外一点到这条直线的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黑体"/>
              </a:rPr>
              <a:t>垂线段的长度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，叫做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点到直线的距离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835280" y="2420640"/>
            <a:ext cx="5976720" cy="360"/>
            <a:chOff x="1835280" y="2420640"/>
            <a:chExt cx="5976720" cy="360"/>
          </a:xfrm>
        </p:grpSpPr>
        <p:sp>
          <p:nvSpPr>
            <p:cNvPr id="353" name="Line 9"/>
            <p:cNvSpPr/>
            <p:nvPr/>
          </p:nvSpPr>
          <p:spPr>
            <a:xfrm>
              <a:off x="1835280" y="2421000"/>
              <a:ext cx="5976720" cy="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10800000">
              <a:off x="1835280" y="242028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474720" y="809640"/>
            <a:ext cx="1067040" cy="1600200"/>
            <a:chOff x="3474720" y="809640"/>
            <a:chExt cx="1067040" cy="1600200"/>
          </a:xfrm>
        </p:grpSpPr>
        <p:sp>
          <p:nvSpPr>
            <p:cNvPr id="356" name="Line 10"/>
            <p:cNvSpPr/>
            <p:nvPr/>
          </p:nvSpPr>
          <p:spPr>
            <a:xfrm flipH="1">
              <a:off x="3474720" y="809640"/>
              <a:ext cx="106668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475080" y="809640"/>
              <a:ext cx="106668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41760" y="809640"/>
            <a:ext cx="360" cy="1600200"/>
            <a:chOff x="4541760" y="809640"/>
            <a:chExt cx="360" cy="1600200"/>
          </a:xfrm>
        </p:grpSpPr>
        <p:sp>
          <p:nvSpPr>
            <p:cNvPr id="359" name="Line 11"/>
            <p:cNvSpPr/>
            <p:nvPr/>
          </p:nvSpPr>
          <p:spPr>
            <a:xfrm>
              <a:off x="4541760" y="809640"/>
              <a:ext cx="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4541760" y="80964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41760" y="809640"/>
            <a:ext cx="1067040" cy="1600200"/>
            <a:chOff x="4541760" y="809640"/>
            <a:chExt cx="1067040" cy="1600200"/>
          </a:xfrm>
        </p:grpSpPr>
        <p:sp>
          <p:nvSpPr>
            <p:cNvPr id="362" name="Line 12"/>
            <p:cNvSpPr/>
            <p:nvPr/>
          </p:nvSpPr>
          <p:spPr>
            <a:xfrm>
              <a:off x="4541760" y="809640"/>
              <a:ext cx="106704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541760" y="809640"/>
              <a:ext cx="10670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4541760" y="2070000"/>
            <a:ext cx="381600" cy="339840"/>
            <a:chOff x="4541760" y="2070000"/>
            <a:chExt cx="381600" cy="339840"/>
          </a:xfrm>
        </p:grpSpPr>
        <p:grpSp>
          <p:nvGrpSpPr>
            <p:cNvPr id="365" name=""/>
            <p:cNvGrpSpPr/>
            <p:nvPr/>
          </p:nvGrpSpPr>
          <p:grpSpPr>
            <a:xfrm>
              <a:off x="4541760" y="2070000"/>
              <a:ext cx="381240" cy="360"/>
              <a:chOff x="4541760" y="2070000"/>
              <a:chExt cx="381240" cy="360"/>
            </a:xfrm>
          </p:grpSpPr>
          <p:sp>
            <p:nvSpPr>
              <p:cNvPr id="366" name="Line 14"/>
              <p:cNvSpPr/>
              <p:nvPr/>
            </p:nvSpPr>
            <p:spPr>
              <a:xfrm>
                <a:off x="4541760" y="2070000"/>
                <a:ext cx="381240" cy="0"/>
              </a:xfrm>
              <a:prstGeom prst="line">
                <a:avLst/>
              </a:prstGeom>
              <a:ln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4541760" y="20700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923000" y="2070000"/>
              <a:ext cx="360" cy="339840"/>
              <a:chOff x="4923000" y="2070000"/>
              <a:chExt cx="360" cy="339840"/>
            </a:xfrm>
          </p:grpSpPr>
          <p:sp>
            <p:nvSpPr>
              <p:cNvPr id="369" name="Line 15"/>
              <p:cNvSpPr/>
              <p:nvPr/>
            </p:nvSpPr>
            <p:spPr>
              <a:xfrm>
                <a:off x="4923000" y="2070000"/>
                <a:ext cx="0" cy="339840"/>
              </a:xfrm>
              <a:prstGeom prst="line">
                <a:avLst/>
              </a:prstGeom>
              <a:ln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4923000" y="2070000"/>
                <a:ext cx="360" cy="33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4541760" y="809640"/>
            <a:ext cx="2438640" cy="1600200"/>
            <a:chOff x="4541760" y="809640"/>
            <a:chExt cx="2438640" cy="1600200"/>
          </a:xfrm>
        </p:grpSpPr>
        <p:sp>
          <p:nvSpPr>
            <p:cNvPr id="372" name="Line 16"/>
            <p:cNvSpPr/>
            <p:nvPr/>
          </p:nvSpPr>
          <p:spPr>
            <a:xfrm>
              <a:off x="4541760" y="809640"/>
              <a:ext cx="243864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541760" y="80964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74" name="Group 17"/>
          <p:cNvGrpSpPr/>
          <p:nvPr/>
        </p:nvGrpSpPr>
        <p:grpSpPr>
          <a:xfrm>
            <a:off x="2987640" y="115920"/>
            <a:ext cx="5254200" cy="2943720"/>
            <a:chOff x="2987640" y="115920"/>
            <a:chExt cx="5254200" cy="2943720"/>
          </a:xfrm>
        </p:grpSpPr>
        <p:grpSp>
          <p:nvGrpSpPr>
            <p:cNvPr id="375" name="Group 18"/>
            <p:cNvGrpSpPr/>
            <p:nvPr/>
          </p:nvGrpSpPr>
          <p:grpSpPr>
            <a:xfrm>
              <a:off x="3246480" y="115920"/>
              <a:ext cx="4995360" cy="2943720"/>
              <a:chOff x="3246480" y="115920"/>
              <a:chExt cx="4995360" cy="2943720"/>
            </a:xfrm>
          </p:grpSpPr>
          <p:sp>
            <p:nvSpPr>
              <p:cNvPr id="376" name="Rectangle 19"/>
              <p:cNvSpPr/>
              <p:nvPr/>
            </p:nvSpPr>
            <p:spPr>
              <a:xfrm>
                <a:off x="4487760" y="11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P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7" name="Rectangle 20"/>
              <p:cNvSpPr/>
              <p:nvPr/>
            </p:nvSpPr>
            <p:spPr>
              <a:xfrm>
                <a:off x="3246480" y="2333520"/>
                <a:ext cx="58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8" name="Rectangle 21"/>
              <p:cNvSpPr/>
              <p:nvPr/>
            </p:nvSpPr>
            <p:spPr>
              <a:xfrm>
                <a:off x="427824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9" name="Rectangle 22"/>
              <p:cNvSpPr/>
              <p:nvPr/>
            </p:nvSpPr>
            <p:spPr>
              <a:xfrm>
                <a:off x="541944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0" name="Rectangle 23"/>
              <p:cNvSpPr/>
              <p:nvPr/>
            </p:nvSpPr>
            <p:spPr>
              <a:xfrm>
                <a:off x="7785360" y="2130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b4107"/>
                    </a:solidFill>
                    <a:latin typeface="Times New Roman"/>
                    <a:ea typeface="宋体"/>
                  </a:rPr>
                  <a:t>m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1" name="Text Box 24"/>
              <p:cNvSpPr/>
              <p:nvPr/>
            </p:nvSpPr>
            <p:spPr>
              <a:xfrm>
                <a:off x="6523200" y="23335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D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5"/>
            <p:cNvGrpSpPr/>
            <p:nvPr/>
          </p:nvGrpSpPr>
          <p:grpSpPr>
            <a:xfrm>
              <a:off x="2987640" y="765000"/>
              <a:ext cx="4464000" cy="1727280"/>
              <a:chOff x="2987640" y="765000"/>
              <a:chExt cx="4464000" cy="1727280"/>
            </a:xfrm>
          </p:grpSpPr>
          <p:sp>
            <p:nvSpPr>
              <p:cNvPr id="383" name="Oval 26"/>
              <p:cNvSpPr/>
              <p:nvPr/>
            </p:nvSpPr>
            <p:spPr>
              <a:xfrm>
                <a:off x="4500720" y="765000"/>
                <a:ext cx="144360" cy="14472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4" name="Oval 27"/>
              <p:cNvSpPr/>
              <p:nvPr/>
            </p:nvSpPr>
            <p:spPr>
              <a:xfrm>
                <a:off x="608328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5" name="Oval 28"/>
              <p:cNvSpPr/>
              <p:nvPr/>
            </p:nvSpPr>
            <p:spPr>
              <a:xfrm>
                <a:off x="3419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6" name="Oval 29"/>
              <p:cNvSpPr/>
              <p:nvPr/>
            </p:nvSpPr>
            <p:spPr>
              <a:xfrm>
                <a:off x="449892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7" name="Oval 30"/>
              <p:cNvSpPr/>
              <p:nvPr/>
            </p:nvSpPr>
            <p:spPr>
              <a:xfrm>
                <a:off x="558000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8" name="Oval 31"/>
              <p:cNvSpPr/>
              <p:nvPr/>
            </p:nvSpPr>
            <p:spPr>
              <a:xfrm>
                <a:off x="6875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9" name="Oval 32"/>
              <p:cNvSpPr/>
              <p:nvPr/>
            </p:nvSpPr>
            <p:spPr>
              <a:xfrm>
                <a:off x="2987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0" name="Oval 33"/>
              <p:cNvSpPr/>
              <p:nvPr/>
            </p:nvSpPr>
            <p:spPr>
              <a:xfrm>
                <a:off x="730728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1" name="Oval 34"/>
              <p:cNvSpPr/>
              <p:nvPr/>
            </p:nvSpPr>
            <p:spPr>
              <a:xfrm>
                <a:off x="3995640" y="2347920"/>
                <a:ext cx="14472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Rectangle 35"/>
          <p:cNvSpPr/>
          <p:nvPr/>
        </p:nvSpPr>
        <p:spPr>
          <a:xfrm>
            <a:off x="5435640" y="5235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段的长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148464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简单说成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垂线段最短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4" name="Picture 37" descr="4[24]"/>
          <p:cNvPicPr/>
          <p:nvPr/>
        </p:nvPicPr>
        <p:blipFill>
          <a:blip r:embed="rId1"/>
          <a:stretch/>
        </p:blipFill>
        <p:spPr>
          <a:xfrm>
            <a:off x="76320" y="228600"/>
            <a:ext cx="23619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360360" y="1844640"/>
            <a:ext cx="83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已知点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与点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距离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直线可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. 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. 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. 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无数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7632720" y="1844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95280" y="50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选择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2700360" y="4383000"/>
            <a:ext cx="3454200" cy="360"/>
            <a:chOff x="2700360" y="4383000"/>
            <a:chExt cx="3454200" cy="360"/>
          </a:xfrm>
        </p:grpSpPr>
        <p:sp>
          <p:nvSpPr>
            <p:cNvPr id="399" name="Line 2"/>
            <p:cNvSpPr/>
            <p:nvPr/>
          </p:nvSpPr>
          <p:spPr>
            <a:xfrm>
              <a:off x="2700360" y="4383000"/>
              <a:ext cx="345420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2700360" y="4383000"/>
              <a:ext cx="345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1" name="Text Box 3"/>
          <p:cNvSpPr/>
          <p:nvPr/>
        </p:nvSpPr>
        <p:spPr>
          <a:xfrm>
            <a:off x="3924360" y="4437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2" name="Group 4"/>
          <p:cNvGrpSpPr/>
          <p:nvPr/>
        </p:nvGrpSpPr>
        <p:grpSpPr>
          <a:xfrm>
            <a:off x="4249800" y="4230720"/>
            <a:ext cx="152640" cy="152280"/>
            <a:chOff x="4249800" y="4230720"/>
            <a:chExt cx="152640" cy="152280"/>
          </a:xfrm>
        </p:grpSpPr>
        <p:grpSp>
          <p:nvGrpSpPr>
            <p:cNvPr id="403" name=""/>
            <p:cNvGrpSpPr/>
            <p:nvPr/>
          </p:nvGrpSpPr>
          <p:grpSpPr>
            <a:xfrm>
              <a:off x="4249800" y="4230720"/>
              <a:ext cx="152280" cy="360"/>
              <a:chOff x="4249800" y="4230720"/>
              <a:chExt cx="152280" cy="360"/>
            </a:xfrm>
          </p:grpSpPr>
          <p:sp>
            <p:nvSpPr>
              <p:cNvPr id="404" name="Line 5"/>
              <p:cNvSpPr/>
              <p:nvPr/>
            </p:nvSpPr>
            <p:spPr>
              <a:xfrm>
                <a:off x="4249800" y="4230720"/>
                <a:ext cx="15228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4249800" y="4230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402080" y="4230720"/>
              <a:ext cx="360" cy="152280"/>
              <a:chOff x="4402080" y="4230720"/>
              <a:chExt cx="360" cy="152280"/>
            </a:xfrm>
          </p:grpSpPr>
          <p:sp>
            <p:nvSpPr>
              <p:cNvPr id="407" name="Line 6"/>
              <p:cNvSpPr/>
              <p:nvPr/>
            </p:nvSpPr>
            <p:spPr>
              <a:xfrm>
                <a:off x="4402080" y="4230720"/>
                <a:ext cx="0" cy="15228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4402080" y="4230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Rectangle 7"/>
          <p:cNvSpPr/>
          <p:nvPr/>
        </p:nvSpPr>
        <p:spPr>
          <a:xfrm>
            <a:off x="533520" y="907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如图，怎样测量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A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到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直线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m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的距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249800" y="3011400"/>
            <a:ext cx="360" cy="1371600"/>
            <a:chOff x="4249800" y="3011400"/>
            <a:chExt cx="360" cy="1371600"/>
          </a:xfrm>
        </p:grpSpPr>
        <p:sp>
          <p:nvSpPr>
            <p:cNvPr id="411" name="Line 8"/>
            <p:cNvSpPr/>
            <p:nvPr/>
          </p:nvSpPr>
          <p:spPr>
            <a:xfrm>
              <a:off x="4249800" y="3011400"/>
              <a:ext cx="0" cy="1371600"/>
            </a:xfrm>
            <a:prstGeom prst="line">
              <a:avLst/>
            </a:prstGeom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249800" y="30114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3639960" y="2630520"/>
            <a:ext cx="685440" cy="459720"/>
            <a:chOff x="3639960" y="2630520"/>
            <a:chExt cx="685440" cy="459720"/>
          </a:xfrm>
        </p:grpSpPr>
        <p:sp>
          <p:nvSpPr>
            <p:cNvPr id="414" name="Text Box 10"/>
            <p:cNvSpPr/>
            <p:nvPr/>
          </p:nvSpPr>
          <p:spPr>
            <a:xfrm>
              <a:off x="3639960" y="263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66"/>
                  </a:solidFill>
                  <a:latin typeface="Tahoma"/>
                  <a:ea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 flipH="1" flipV="1">
              <a:off x="4172760" y="2859120"/>
              <a:ext cx="152280" cy="152640"/>
            </a:xfrm>
            <a:prstGeom prst="ellipse">
              <a:avLst/>
            </a:prstGeom>
            <a:solidFill>
              <a:srgbClr val="fb4107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6" name="Text Box 12"/>
          <p:cNvSpPr/>
          <p:nvPr/>
        </p:nvSpPr>
        <p:spPr>
          <a:xfrm>
            <a:off x="5684760" y="38210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新宋体"/>
              </a:rPr>
              <a:t>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533520" y="501336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过点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画出直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m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垂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,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垂足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539640" y="5695920"/>
            <a:ext cx="626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用直尺量出垂线段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241880" y="-1251000"/>
            <a:ext cx="1194840" cy="6019920"/>
            <a:chOff x="4241880" y="-1251000"/>
            <a:chExt cx="1194840" cy="6019920"/>
          </a:xfrm>
        </p:grpSpPr>
        <p:grpSp>
          <p:nvGrpSpPr>
            <p:cNvPr id="420" name="Group 16"/>
            <p:cNvGrpSpPr/>
            <p:nvPr/>
          </p:nvGrpSpPr>
          <p:grpSpPr>
            <a:xfrm>
              <a:off x="4241880" y="-1251000"/>
              <a:ext cx="1194840" cy="6019920"/>
              <a:chOff x="4241880" y="-1251000"/>
              <a:chExt cx="1194840" cy="6019920"/>
            </a:xfrm>
          </p:grpSpPr>
          <p:sp>
            <p:nvSpPr>
              <p:cNvPr id="421" name="Rectangle 17"/>
              <p:cNvSpPr/>
              <p:nvPr/>
            </p:nvSpPr>
            <p:spPr>
              <a:xfrm rot="16200000">
                <a:off x="1860480" y="122544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4260960" y="4387320"/>
                <a:ext cx="685800" cy="360"/>
                <a:chOff x="4260960" y="4387320"/>
                <a:chExt cx="685800" cy="360"/>
              </a:xfrm>
            </p:grpSpPr>
            <p:sp>
              <p:nvSpPr>
                <p:cNvPr id="423" name="Line 18"/>
                <p:cNvSpPr/>
                <p:nvPr/>
              </p:nvSpPr>
              <p:spPr>
                <a:xfrm>
                  <a:off x="4260960" y="43876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 rot="16200000">
                  <a:off x="4603680" y="40446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4260960" y="2787120"/>
                <a:ext cx="685800" cy="360"/>
                <a:chOff x="4260960" y="2787120"/>
                <a:chExt cx="685800" cy="360"/>
              </a:xfrm>
            </p:grpSpPr>
            <p:sp>
              <p:nvSpPr>
                <p:cNvPr id="426" name="Line 19"/>
                <p:cNvSpPr/>
                <p:nvPr/>
              </p:nvSpPr>
              <p:spPr>
                <a:xfrm>
                  <a:off x="4260960" y="27874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 rot="16200000">
                  <a:off x="4603680" y="24444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260960" y="1034640"/>
                <a:ext cx="685800" cy="360"/>
                <a:chOff x="4260960" y="1034640"/>
                <a:chExt cx="685800" cy="360"/>
              </a:xfrm>
            </p:grpSpPr>
            <p:sp>
              <p:nvSpPr>
                <p:cNvPr id="429" name="Line 20"/>
                <p:cNvSpPr/>
                <p:nvPr/>
              </p:nvSpPr>
              <p:spPr>
                <a:xfrm>
                  <a:off x="4260960" y="10350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6200000">
                  <a:off x="4603680" y="6919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260960" y="3587400"/>
                <a:ext cx="457200" cy="360"/>
                <a:chOff x="4260960" y="3587400"/>
                <a:chExt cx="457200" cy="360"/>
              </a:xfrm>
            </p:grpSpPr>
            <p:sp>
              <p:nvSpPr>
                <p:cNvPr id="432" name="Line 21"/>
                <p:cNvSpPr/>
                <p:nvPr/>
              </p:nvSpPr>
              <p:spPr>
                <a:xfrm>
                  <a:off x="4260960" y="3587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 rot="16200000">
                  <a:off x="4489200" y="33588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4260960" y="1949040"/>
                <a:ext cx="457200" cy="360"/>
                <a:chOff x="4260960" y="1949040"/>
                <a:chExt cx="457200" cy="360"/>
              </a:xfrm>
            </p:grpSpPr>
            <p:sp>
              <p:nvSpPr>
                <p:cNvPr id="435" name="Line 22"/>
                <p:cNvSpPr/>
                <p:nvPr/>
              </p:nvSpPr>
              <p:spPr>
                <a:xfrm>
                  <a:off x="4260960" y="19494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 rot="16200000">
                  <a:off x="4489200" y="172044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260960" y="196560"/>
                <a:ext cx="457200" cy="360"/>
                <a:chOff x="4260960" y="196560"/>
                <a:chExt cx="457200" cy="360"/>
              </a:xfrm>
            </p:grpSpPr>
            <p:sp>
              <p:nvSpPr>
                <p:cNvPr id="438" name="Line 23"/>
                <p:cNvSpPr/>
                <p:nvPr/>
              </p:nvSpPr>
              <p:spPr>
                <a:xfrm>
                  <a:off x="4260960" y="1969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 rot="16200000">
                  <a:off x="4489200" y="-316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241880" y="-641880"/>
                <a:ext cx="685800" cy="360"/>
                <a:chOff x="4241880" y="-641880"/>
                <a:chExt cx="685800" cy="360"/>
              </a:xfrm>
            </p:grpSpPr>
            <p:sp>
              <p:nvSpPr>
                <p:cNvPr id="441" name="Line 24"/>
                <p:cNvSpPr/>
                <p:nvPr/>
              </p:nvSpPr>
              <p:spPr>
                <a:xfrm>
                  <a:off x="4241880" y="-6415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 rot="16200000">
                  <a:off x="4584600" y="-9846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Text Box 25"/>
              <p:cNvSpPr/>
              <p:nvPr/>
            </p:nvSpPr>
            <p:spPr>
              <a:xfrm rot="16200000">
                <a:off x="4550400" y="383796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4" name="Text Box 26"/>
              <p:cNvSpPr/>
              <p:nvPr/>
            </p:nvSpPr>
            <p:spPr>
              <a:xfrm rot="16200000">
                <a:off x="4581720" y="71352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5" name="Text Box 27"/>
              <p:cNvSpPr/>
              <p:nvPr/>
            </p:nvSpPr>
            <p:spPr>
              <a:xfrm rot="16200000">
                <a:off x="4582080" y="-103896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46" name="Group 28"/>
              <p:cNvGrpSpPr/>
              <p:nvPr/>
            </p:nvGrpSpPr>
            <p:grpSpPr>
              <a:xfrm>
                <a:off x="4260960" y="3777840"/>
                <a:ext cx="380880" cy="457560"/>
                <a:chOff x="4260960" y="3777840"/>
                <a:chExt cx="380880" cy="45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4260960" y="4235040"/>
                  <a:ext cx="380880" cy="360"/>
                  <a:chOff x="4260960" y="4235040"/>
                  <a:chExt cx="380880" cy="360"/>
                </a:xfrm>
              </p:grpSpPr>
              <p:sp>
                <p:nvSpPr>
                  <p:cNvPr id="448" name="Line 29"/>
                  <p:cNvSpPr/>
                  <p:nvPr/>
                </p:nvSpPr>
                <p:spPr>
                  <a:xfrm>
                    <a:off x="4260960" y="4235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 txBox="1"/>
                  <p:nvPr/>
                </p:nvSpPr>
                <p:spPr>
                  <a:xfrm rot="16200000">
                    <a:off x="4451040" y="4044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4260960" y="4063680"/>
                  <a:ext cx="380880" cy="360"/>
                  <a:chOff x="4260960" y="4063680"/>
                  <a:chExt cx="380880" cy="360"/>
                </a:xfrm>
              </p:grpSpPr>
              <p:sp>
                <p:nvSpPr>
                  <p:cNvPr id="451" name="Line 30"/>
                  <p:cNvSpPr/>
                  <p:nvPr/>
                </p:nvSpPr>
                <p:spPr>
                  <a:xfrm>
                    <a:off x="4260960" y="4064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 txBox="1"/>
                  <p:nvPr/>
                </p:nvSpPr>
                <p:spPr>
                  <a:xfrm rot="16200000">
                    <a:off x="4451040" y="38732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4260960" y="3930120"/>
                  <a:ext cx="380880" cy="360"/>
                  <a:chOff x="4260960" y="3930120"/>
                  <a:chExt cx="380880" cy="360"/>
                </a:xfrm>
              </p:grpSpPr>
              <p:sp>
                <p:nvSpPr>
                  <p:cNvPr id="454" name="Line 31"/>
                  <p:cNvSpPr/>
                  <p:nvPr/>
                </p:nvSpPr>
                <p:spPr>
                  <a:xfrm>
                    <a:off x="4260960" y="39304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 txBox="1"/>
                  <p:nvPr/>
                </p:nvSpPr>
                <p:spPr>
                  <a:xfrm rot="16200000">
                    <a:off x="4451040" y="3739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4260960" y="3777840"/>
                  <a:ext cx="380880" cy="360"/>
                  <a:chOff x="4260960" y="3777840"/>
                  <a:chExt cx="380880" cy="360"/>
                </a:xfrm>
              </p:grpSpPr>
              <p:sp>
                <p:nvSpPr>
                  <p:cNvPr id="457" name="Line 32"/>
                  <p:cNvSpPr/>
                  <p:nvPr/>
                </p:nvSpPr>
                <p:spPr>
                  <a:xfrm>
                    <a:off x="4260960" y="3778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 txBox="1"/>
                  <p:nvPr/>
                </p:nvSpPr>
                <p:spPr>
                  <a:xfrm rot="16200000">
                    <a:off x="4451040" y="3587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" name="Group 33"/>
              <p:cNvGrpSpPr/>
              <p:nvPr/>
            </p:nvGrpSpPr>
            <p:grpSpPr>
              <a:xfrm>
                <a:off x="4280040" y="2977560"/>
                <a:ext cx="380880" cy="457560"/>
                <a:chOff x="4280040" y="2977560"/>
                <a:chExt cx="380880" cy="4575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4280040" y="3434760"/>
                  <a:ext cx="380880" cy="360"/>
                  <a:chOff x="4280040" y="3434760"/>
                  <a:chExt cx="380880" cy="360"/>
                </a:xfrm>
              </p:grpSpPr>
              <p:sp>
                <p:nvSpPr>
                  <p:cNvPr id="461" name="Line 34"/>
                  <p:cNvSpPr/>
                  <p:nvPr/>
                </p:nvSpPr>
                <p:spPr>
                  <a:xfrm>
                    <a:off x="4280040" y="3435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 txBox="1"/>
                  <p:nvPr/>
                </p:nvSpPr>
                <p:spPr>
                  <a:xfrm rot="16200000">
                    <a:off x="4470120" y="3244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4280040" y="3263400"/>
                  <a:ext cx="380880" cy="360"/>
                  <a:chOff x="4280040" y="3263400"/>
                  <a:chExt cx="380880" cy="360"/>
                </a:xfrm>
              </p:grpSpPr>
              <p:sp>
                <p:nvSpPr>
                  <p:cNvPr id="464" name="Line 35"/>
                  <p:cNvSpPr/>
                  <p:nvPr/>
                </p:nvSpPr>
                <p:spPr>
                  <a:xfrm>
                    <a:off x="4280040" y="3263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 txBox="1"/>
                  <p:nvPr/>
                </p:nvSpPr>
                <p:spPr>
                  <a:xfrm rot="16200000">
                    <a:off x="4470120" y="3072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280040" y="3129840"/>
                  <a:ext cx="380880" cy="360"/>
                  <a:chOff x="4280040" y="3129840"/>
                  <a:chExt cx="380880" cy="360"/>
                </a:xfrm>
              </p:grpSpPr>
              <p:sp>
                <p:nvSpPr>
                  <p:cNvPr id="467" name="Line 36"/>
                  <p:cNvSpPr/>
                  <p:nvPr/>
                </p:nvSpPr>
                <p:spPr>
                  <a:xfrm>
                    <a:off x="4280040" y="313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 txBox="1"/>
                  <p:nvPr/>
                </p:nvSpPr>
                <p:spPr>
                  <a:xfrm rot="16200000">
                    <a:off x="4470120" y="293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4280040" y="2977560"/>
                  <a:ext cx="380880" cy="360"/>
                  <a:chOff x="4280040" y="2977560"/>
                  <a:chExt cx="380880" cy="360"/>
                </a:xfrm>
              </p:grpSpPr>
              <p:sp>
                <p:nvSpPr>
                  <p:cNvPr id="470" name="Line 37"/>
                  <p:cNvSpPr/>
                  <p:nvPr/>
                </p:nvSpPr>
                <p:spPr>
                  <a:xfrm>
                    <a:off x="4280040" y="2977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 txBox="1"/>
                  <p:nvPr/>
                </p:nvSpPr>
                <p:spPr>
                  <a:xfrm rot="16200000">
                    <a:off x="4470120" y="2787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8"/>
              <p:cNvGrpSpPr/>
              <p:nvPr/>
            </p:nvGrpSpPr>
            <p:grpSpPr>
              <a:xfrm>
                <a:off x="4260960" y="2158560"/>
                <a:ext cx="380880" cy="457560"/>
                <a:chOff x="4260960" y="2158560"/>
                <a:chExt cx="380880" cy="45756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4260960" y="2615760"/>
                  <a:ext cx="380880" cy="360"/>
                  <a:chOff x="4260960" y="2615760"/>
                  <a:chExt cx="380880" cy="360"/>
                </a:xfrm>
              </p:grpSpPr>
              <p:sp>
                <p:nvSpPr>
                  <p:cNvPr id="474" name="Line 39"/>
                  <p:cNvSpPr/>
                  <p:nvPr/>
                </p:nvSpPr>
                <p:spPr>
                  <a:xfrm>
                    <a:off x="4260960" y="2616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 txBox="1"/>
                  <p:nvPr/>
                </p:nvSpPr>
                <p:spPr>
                  <a:xfrm rot="16200000">
                    <a:off x="4451040" y="2425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4260960" y="2444400"/>
                  <a:ext cx="380880" cy="360"/>
                  <a:chOff x="4260960" y="2444400"/>
                  <a:chExt cx="380880" cy="360"/>
                </a:xfrm>
              </p:grpSpPr>
              <p:sp>
                <p:nvSpPr>
                  <p:cNvPr id="477" name="Line 40"/>
                  <p:cNvSpPr/>
                  <p:nvPr/>
                </p:nvSpPr>
                <p:spPr>
                  <a:xfrm>
                    <a:off x="4260960" y="2444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 txBox="1"/>
                  <p:nvPr/>
                </p:nvSpPr>
                <p:spPr>
                  <a:xfrm rot="16200000">
                    <a:off x="4451040" y="2253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4260960" y="2310840"/>
                  <a:ext cx="380880" cy="360"/>
                  <a:chOff x="4260960" y="2310840"/>
                  <a:chExt cx="380880" cy="360"/>
                </a:xfrm>
              </p:grpSpPr>
              <p:sp>
                <p:nvSpPr>
                  <p:cNvPr id="480" name="Line 41"/>
                  <p:cNvSpPr/>
                  <p:nvPr/>
                </p:nvSpPr>
                <p:spPr>
                  <a:xfrm>
                    <a:off x="4260960" y="2311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 txBox="1"/>
                  <p:nvPr/>
                </p:nvSpPr>
                <p:spPr>
                  <a:xfrm rot="16200000">
                    <a:off x="4451040" y="2120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4260960" y="2158560"/>
                  <a:ext cx="380880" cy="360"/>
                  <a:chOff x="4260960" y="2158560"/>
                  <a:chExt cx="380880" cy="360"/>
                </a:xfrm>
              </p:grpSpPr>
              <p:sp>
                <p:nvSpPr>
                  <p:cNvPr id="483" name="Line 42"/>
                  <p:cNvSpPr/>
                  <p:nvPr/>
                </p:nvSpPr>
                <p:spPr>
                  <a:xfrm>
                    <a:off x="4260960" y="2158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 rot="16200000">
                    <a:off x="4451040" y="1968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Group 43"/>
              <p:cNvGrpSpPr/>
              <p:nvPr/>
            </p:nvGrpSpPr>
            <p:grpSpPr>
              <a:xfrm>
                <a:off x="4280040" y="-317880"/>
                <a:ext cx="380880" cy="457560"/>
                <a:chOff x="4280040" y="-317880"/>
                <a:chExt cx="380880" cy="45756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4280040" y="139320"/>
                  <a:ext cx="380880" cy="360"/>
                  <a:chOff x="4280040" y="139320"/>
                  <a:chExt cx="380880" cy="360"/>
                </a:xfrm>
              </p:grpSpPr>
              <p:sp>
                <p:nvSpPr>
                  <p:cNvPr id="487" name="Line 44"/>
                  <p:cNvSpPr/>
                  <p:nvPr/>
                </p:nvSpPr>
                <p:spPr>
                  <a:xfrm>
                    <a:off x="4280040" y="139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 txBox="1"/>
                  <p:nvPr/>
                </p:nvSpPr>
                <p:spPr>
                  <a:xfrm rot="16200000">
                    <a:off x="4470120" y="-50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4280040" y="-32040"/>
                  <a:ext cx="380880" cy="360"/>
                  <a:chOff x="4280040" y="-32040"/>
                  <a:chExt cx="380880" cy="360"/>
                </a:xfrm>
              </p:grpSpPr>
              <p:sp>
                <p:nvSpPr>
                  <p:cNvPr id="490" name="Line 45"/>
                  <p:cNvSpPr/>
                  <p:nvPr/>
                </p:nvSpPr>
                <p:spPr>
                  <a:xfrm>
                    <a:off x="4280040" y="-31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 txBox="1"/>
                  <p:nvPr/>
                </p:nvSpPr>
                <p:spPr>
                  <a:xfrm rot="16200000">
                    <a:off x="4470120" y="-222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4280040" y="-165600"/>
                  <a:ext cx="380880" cy="360"/>
                  <a:chOff x="4280040" y="-165600"/>
                  <a:chExt cx="380880" cy="360"/>
                </a:xfrm>
              </p:grpSpPr>
              <p:sp>
                <p:nvSpPr>
                  <p:cNvPr id="493" name="Line 46"/>
                  <p:cNvSpPr/>
                  <p:nvPr/>
                </p:nvSpPr>
                <p:spPr>
                  <a:xfrm>
                    <a:off x="4280040" y="-165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 txBox="1"/>
                  <p:nvPr/>
                </p:nvSpPr>
                <p:spPr>
                  <a:xfrm rot="16200000">
                    <a:off x="4470120" y="-355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4280040" y="-317880"/>
                  <a:ext cx="380880" cy="360"/>
                  <a:chOff x="4280040" y="-317880"/>
                  <a:chExt cx="380880" cy="360"/>
                </a:xfrm>
              </p:grpSpPr>
              <p:sp>
                <p:nvSpPr>
                  <p:cNvPr id="496" name="Line 47"/>
                  <p:cNvSpPr/>
                  <p:nvPr/>
                </p:nvSpPr>
                <p:spPr>
                  <a:xfrm>
                    <a:off x="4280040" y="-3175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 txBox="1"/>
                  <p:nvPr/>
                </p:nvSpPr>
                <p:spPr>
                  <a:xfrm rot="16200000">
                    <a:off x="4470120" y="-507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Group 48"/>
              <p:cNvGrpSpPr/>
              <p:nvPr/>
            </p:nvGrpSpPr>
            <p:grpSpPr>
              <a:xfrm>
                <a:off x="4280040" y="387000"/>
                <a:ext cx="380880" cy="457560"/>
                <a:chOff x="4280040" y="387000"/>
                <a:chExt cx="380880" cy="45756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4280040" y="844200"/>
                  <a:ext cx="380880" cy="360"/>
                  <a:chOff x="4280040" y="844200"/>
                  <a:chExt cx="380880" cy="360"/>
                </a:xfrm>
              </p:grpSpPr>
              <p:sp>
                <p:nvSpPr>
                  <p:cNvPr id="500" name="Line 49"/>
                  <p:cNvSpPr/>
                  <p:nvPr/>
                </p:nvSpPr>
                <p:spPr>
                  <a:xfrm>
                    <a:off x="4280040" y="844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 txBox="1"/>
                  <p:nvPr/>
                </p:nvSpPr>
                <p:spPr>
                  <a:xfrm rot="16200000">
                    <a:off x="4470120" y="653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4280040" y="672840"/>
                  <a:ext cx="380880" cy="360"/>
                  <a:chOff x="4280040" y="672840"/>
                  <a:chExt cx="380880" cy="360"/>
                </a:xfrm>
              </p:grpSpPr>
              <p:sp>
                <p:nvSpPr>
                  <p:cNvPr id="503" name="Line 50"/>
                  <p:cNvSpPr/>
                  <p:nvPr/>
                </p:nvSpPr>
                <p:spPr>
                  <a:xfrm>
                    <a:off x="4280040" y="673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 txBox="1"/>
                  <p:nvPr/>
                </p:nvSpPr>
                <p:spPr>
                  <a:xfrm rot="16200000">
                    <a:off x="4470120" y="482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4280040" y="539280"/>
                  <a:ext cx="380880" cy="360"/>
                  <a:chOff x="4280040" y="539280"/>
                  <a:chExt cx="380880" cy="360"/>
                </a:xfrm>
              </p:grpSpPr>
              <p:sp>
                <p:nvSpPr>
                  <p:cNvPr id="506" name="Line 51"/>
                  <p:cNvSpPr/>
                  <p:nvPr/>
                </p:nvSpPr>
                <p:spPr>
                  <a:xfrm>
                    <a:off x="4280040" y="539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 txBox="1"/>
                  <p:nvPr/>
                </p:nvSpPr>
                <p:spPr>
                  <a:xfrm rot="16200000">
                    <a:off x="4470120" y="3488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280040" y="387000"/>
                  <a:ext cx="380880" cy="360"/>
                  <a:chOff x="4280040" y="387000"/>
                  <a:chExt cx="380880" cy="360"/>
                </a:xfrm>
              </p:grpSpPr>
              <p:sp>
                <p:nvSpPr>
                  <p:cNvPr id="509" name="Line 52"/>
                  <p:cNvSpPr/>
                  <p:nvPr/>
                </p:nvSpPr>
                <p:spPr>
                  <a:xfrm>
                    <a:off x="4280040" y="38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 txBox="1"/>
                  <p:nvPr/>
                </p:nvSpPr>
                <p:spPr>
                  <a:xfrm rot="16200000">
                    <a:off x="4470120" y="1965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Group 53"/>
              <p:cNvGrpSpPr/>
              <p:nvPr/>
            </p:nvGrpSpPr>
            <p:grpSpPr>
              <a:xfrm>
                <a:off x="4280040" y="1263240"/>
                <a:ext cx="380880" cy="457560"/>
                <a:chOff x="4280040" y="1263240"/>
                <a:chExt cx="380880" cy="4575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4280040" y="1720440"/>
                  <a:ext cx="380880" cy="360"/>
                  <a:chOff x="4280040" y="1720440"/>
                  <a:chExt cx="380880" cy="360"/>
                </a:xfrm>
              </p:grpSpPr>
              <p:sp>
                <p:nvSpPr>
                  <p:cNvPr id="513" name="Line 54"/>
                  <p:cNvSpPr/>
                  <p:nvPr/>
                </p:nvSpPr>
                <p:spPr>
                  <a:xfrm>
                    <a:off x="4280040" y="1720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 txBox="1"/>
                  <p:nvPr/>
                </p:nvSpPr>
                <p:spPr>
                  <a:xfrm rot="16200000">
                    <a:off x="4470120" y="1530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4280040" y="1549080"/>
                  <a:ext cx="380880" cy="360"/>
                  <a:chOff x="4280040" y="1549080"/>
                  <a:chExt cx="380880" cy="360"/>
                </a:xfrm>
              </p:grpSpPr>
              <p:sp>
                <p:nvSpPr>
                  <p:cNvPr id="516" name="Line 55"/>
                  <p:cNvSpPr/>
                  <p:nvPr/>
                </p:nvSpPr>
                <p:spPr>
                  <a:xfrm>
                    <a:off x="4280040" y="1549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 txBox="1"/>
                  <p:nvPr/>
                </p:nvSpPr>
                <p:spPr>
                  <a:xfrm rot="16200000">
                    <a:off x="4470120" y="1358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4280040" y="1415520"/>
                  <a:ext cx="380880" cy="360"/>
                  <a:chOff x="4280040" y="1415520"/>
                  <a:chExt cx="380880" cy="360"/>
                </a:xfrm>
              </p:grpSpPr>
              <p:sp>
                <p:nvSpPr>
                  <p:cNvPr id="519" name="Line 56"/>
                  <p:cNvSpPr/>
                  <p:nvPr/>
                </p:nvSpPr>
                <p:spPr>
                  <a:xfrm>
                    <a:off x="4280040" y="14158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 txBox="1"/>
                  <p:nvPr/>
                </p:nvSpPr>
                <p:spPr>
                  <a:xfrm rot="16200000">
                    <a:off x="4470120" y="1225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4280040" y="1263240"/>
                  <a:ext cx="380880" cy="360"/>
                  <a:chOff x="4280040" y="1263240"/>
                  <a:chExt cx="380880" cy="360"/>
                </a:xfrm>
              </p:grpSpPr>
              <p:sp>
                <p:nvSpPr>
                  <p:cNvPr id="522" name="Line 57"/>
                  <p:cNvSpPr/>
                  <p:nvPr/>
                </p:nvSpPr>
                <p:spPr>
                  <a:xfrm>
                    <a:off x="4280040" y="1263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 rot="16200000">
                    <a:off x="4470120" y="10728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Rectangle 58"/>
              <p:cNvSpPr/>
              <p:nvPr/>
            </p:nvSpPr>
            <p:spPr>
              <a:xfrm rot="16200000">
                <a:off x="4203720" y="-39348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25" name="Group 59"/>
              <p:cNvGrpSpPr/>
              <p:nvPr/>
            </p:nvGrpSpPr>
            <p:grpSpPr>
              <a:xfrm>
                <a:off x="4260960" y="-451440"/>
                <a:ext cx="380880" cy="457560"/>
                <a:chOff x="4260960" y="-451440"/>
                <a:chExt cx="380880" cy="45756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4260960" y="5760"/>
                  <a:ext cx="380880" cy="360"/>
                  <a:chOff x="4260960" y="5760"/>
                  <a:chExt cx="380880" cy="360"/>
                </a:xfrm>
              </p:grpSpPr>
              <p:sp>
                <p:nvSpPr>
                  <p:cNvPr id="527" name="Line 60"/>
                  <p:cNvSpPr/>
                  <p:nvPr/>
                </p:nvSpPr>
                <p:spPr>
                  <a:xfrm>
                    <a:off x="4260960" y="6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 txBox="1"/>
                  <p:nvPr/>
                </p:nvSpPr>
                <p:spPr>
                  <a:xfrm rot="16200000">
                    <a:off x="4451040" y="-184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4260960" y="-165600"/>
                  <a:ext cx="380880" cy="360"/>
                  <a:chOff x="4260960" y="-165600"/>
                  <a:chExt cx="380880" cy="360"/>
                </a:xfrm>
              </p:grpSpPr>
              <p:sp>
                <p:nvSpPr>
                  <p:cNvPr id="530" name="Line 61"/>
                  <p:cNvSpPr/>
                  <p:nvPr/>
                </p:nvSpPr>
                <p:spPr>
                  <a:xfrm>
                    <a:off x="4260960" y="-165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 txBox="1"/>
                  <p:nvPr/>
                </p:nvSpPr>
                <p:spPr>
                  <a:xfrm rot="16200000">
                    <a:off x="4451040" y="-355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4260960" y="-299160"/>
                  <a:ext cx="380880" cy="360"/>
                  <a:chOff x="4260960" y="-299160"/>
                  <a:chExt cx="380880" cy="360"/>
                </a:xfrm>
              </p:grpSpPr>
              <p:sp>
                <p:nvSpPr>
                  <p:cNvPr id="533" name="Line 62"/>
                  <p:cNvSpPr/>
                  <p:nvPr/>
                </p:nvSpPr>
                <p:spPr>
                  <a:xfrm>
                    <a:off x="4260960" y="-298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 txBox="1"/>
                  <p:nvPr/>
                </p:nvSpPr>
                <p:spPr>
                  <a:xfrm rot="16200000">
                    <a:off x="4451040" y="-4892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4260960" y="-451440"/>
                  <a:ext cx="380880" cy="360"/>
                  <a:chOff x="4260960" y="-451440"/>
                  <a:chExt cx="380880" cy="360"/>
                </a:xfrm>
              </p:grpSpPr>
              <p:sp>
                <p:nvSpPr>
                  <p:cNvPr id="536" name="Line 63"/>
                  <p:cNvSpPr/>
                  <p:nvPr/>
                </p:nvSpPr>
                <p:spPr>
                  <a:xfrm>
                    <a:off x="4260960" y="-4510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 txBox="1"/>
                  <p:nvPr/>
                </p:nvSpPr>
                <p:spPr>
                  <a:xfrm rot="16200000">
                    <a:off x="4451040" y="-6415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38" name="Text Box 64"/>
            <p:cNvSpPr/>
            <p:nvPr/>
          </p:nvSpPr>
          <p:spPr>
            <a:xfrm rot="16200000">
              <a:off x="4582080" y="246636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3720960" y="4214880"/>
            <a:ext cx="1066680" cy="1447560"/>
            <a:chOff x="3720960" y="4214880"/>
            <a:chExt cx="1066680" cy="1447560"/>
          </a:xfrm>
        </p:grpSpPr>
        <p:grpSp>
          <p:nvGrpSpPr>
            <p:cNvPr id="540" name=""/>
            <p:cNvGrpSpPr/>
            <p:nvPr/>
          </p:nvGrpSpPr>
          <p:grpSpPr>
            <a:xfrm>
              <a:off x="4425480" y="4367160"/>
              <a:ext cx="360" cy="1295280"/>
              <a:chOff x="4425480" y="4367160"/>
              <a:chExt cx="360" cy="1295280"/>
            </a:xfrm>
          </p:grpSpPr>
          <p:sp>
            <p:nvSpPr>
              <p:cNvPr id="541" name="Line 3"/>
              <p:cNvSpPr/>
              <p:nvPr/>
            </p:nvSpPr>
            <p:spPr>
              <a:xfrm flipV="1">
                <a:off x="4425840" y="4367160"/>
                <a:ext cx="0" cy="1295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425480" y="4367160"/>
                <a:ext cx="36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4"/>
            <p:cNvGrpSpPr/>
            <p:nvPr/>
          </p:nvGrpSpPr>
          <p:grpSpPr>
            <a:xfrm>
              <a:off x="3720960" y="4214880"/>
              <a:ext cx="1066680" cy="916920"/>
              <a:chOff x="3720960" y="4214880"/>
              <a:chExt cx="1066680" cy="916920"/>
            </a:xfrm>
          </p:grpSpPr>
          <p:grpSp>
            <p:nvGrpSpPr>
              <p:cNvPr id="544" name="Group 5"/>
              <p:cNvGrpSpPr/>
              <p:nvPr/>
            </p:nvGrpSpPr>
            <p:grpSpPr>
              <a:xfrm>
                <a:off x="4415760" y="4453920"/>
                <a:ext cx="306360" cy="303840"/>
                <a:chOff x="4415760" y="4453920"/>
                <a:chExt cx="306360" cy="30384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4699080" y="4453920"/>
                  <a:ext cx="23040" cy="303840"/>
                  <a:chOff x="4699080" y="4453920"/>
                  <a:chExt cx="23040" cy="303840"/>
                </a:xfrm>
              </p:grpSpPr>
              <p:sp>
                <p:nvSpPr>
                  <p:cNvPr id="546" name="Line 6"/>
                  <p:cNvSpPr/>
                  <p:nvPr/>
                </p:nvSpPr>
                <p:spPr>
                  <a:xfrm flipH="1">
                    <a:off x="4699800" y="4453920"/>
                    <a:ext cx="22320" cy="30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 txBox="1"/>
                  <p:nvPr/>
                </p:nvSpPr>
                <p:spPr>
                  <a:xfrm rot="5654400">
                    <a:off x="4558320" y="460548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4415760" y="4717080"/>
                  <a:ext cx="304200" cy="23040"/>
                  <a:chOff x="4415760" y="4717080"/>
                  <a:chExt cx="304200" cy="23040"/>
                </a:xfrm>
              </p:grpSpPr>
              <p:sp>
                <p:nvSpPr>
                  <p:cNvPr id="549" name="Line 7"/>
                  <p:cNvSpPr/>
                  <p:nvPr/>
                </p:nvSpPr>
                <p:spPr>
                  <a:xfrm flipH="1" flipV="1">
                    <a:off x="4416120" y="4717440"/>
                    <a:ext cx="3038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 txBox="1"/>
                  <p:nvPr/>
                </p:nvSpPr>
                <p:spPr>
                  <a:xfrm rot="5654400">
                    <a:off x="4567680" y="457596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1" name="Text Box 8"/>
              <p:cNvSpPr/>
              <p:nvPr/>
            </p:nvSpPr>
            <p:spPr>
              <a:xfrm>
                <a:off x="3720960" y="4214880"/>
                <a:ext cx="1066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9"/>
          <p:cNvGrpSpPr/>
          <p:nvPr/>
        </p:nvGrpSpPr>
        <p:grpSpPr>
          <a:xfrm>
            <a:off x="901800" y="3376440"/>
            <a:ext cx="7696080" cy="1067040"/>
            <a:chOff x="901800" y="3376440"/>
            <a:chExt cx="7696080" cy="1067040"/>
          </a:xfrm>
        </p:grpSpPr>
        <p:sp>
          <p:nvSpPr>
            <p:cNvPr id="553" name="Rectangle 10"/>
            <p:cNvSpPr/>
            <p:nvPr/>
          </p:nvSpPr>
          <p:spPr>
            <a:xfrm>
              <a:off x="901800" y="4290840"/>
              <a:ext cx="7696080" cy="152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Rectangle 11"/>
            <p:cNvSpPr/>
            <p:nvPr/>
          </p:nvSpPr>
          <p:spPr>
            <a:xfrm>
              <a:off x="12826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Rectangle 12"/>
            <p:cNvSpPr/>
            <p:nvPr/>
          </p:nvSpPr>
          <p:spPr>
            <a:xfrm>
              <a:off x="50929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Rectangle 13"/>
            <p:cNvSpPr/>
            <p:nvPr/>
          </p:nvSpPr>
          <p:spPr>
            <a:xfrm>
              <a:off x="44830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Rectangle 14"/>
            <p:cNvSpPr/>
            <p:nvPr/>
          </p:nvSpPr>
          <p:spPr>
            <a:xfrm>
              <a:off x="38736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Rectangle 15"/>
            <p:cNvSpPr/>
            <p:nvPr/>
          </p:nvSpPr>
          <p:spPr>
            <a:xfrm>
              <a:off x="32641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9" name="Rectangle 16"/>
            <p:cNvSpPr/>
            <p:nvPr/>
          </p:nvSpPr>
          <p:spPr>
            <a:xfrm>
              <a:off x="26542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Rectangle 17"/>
            <p:cNvSpPr/>
            <p:nvPr/>
          </p:nvSpPr>
          <p:spPr>
            <a:xfrm>
              <a:off x="19684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81406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Rectangle 19"/>
            <p:cNvSpPr/>
            <p:nvPr/>
          </p:nvSpPr>
          <p:spPr>
            <a:xfrm>
              <a:off x="75312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Rectangle 20"/>
            <p:cNvSpPr/>
            <p:nvPr/>
          </p:nvSpPr>
          <p:spPr>
            <a:xfrm>
              <a:off x="69217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4" name="Rectangle 21"/>
            <p:cNvSpPr/>
            <p:nvPr/>
          </p:nvSpPr>
          <p:spPr>
            <a:xfrm>
              <a:off x="63118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5" name="Rectangle 22"/>
            <p:cNvSpPr/>
            <p:nvPr/>
          </p:nvSpPr>
          <p:spPr>
            <a:xfrm>
              <a:off x="57024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6" name="Rectangle 23"/>
            <p:cNvSpPr/>
            <p:nvPr/>
          </p:nvSpPr>
          <p:spPr>
            <a:xfrm>
              <a:off x="901800" y="3376440"/>
              <a:ext cx="7696080" cy="152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7" name="Oval 24"/>
          <p:cNvSpPr/>
          <p:nvPr/>
        </p:nvSpPr>
        <p:spPr>
          <a:xfrm>
            <a:off x="6769080" y="223344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Oval 25"/>
          <p:cNvSpPr/>
          <p:nvPr/>
        </p:nvSpPr>
        <p:spPr>
          <a:xfrm>
            <a:off x="4254480" y="551016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6083280" y="1700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3720960" y="528156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483080" y="2386080"/>
            <a:ext cx="2362320" cy="3200400"/>
            <a:chOff x="4483080" y="2386080"/>
            <a:chExt cx="2362320" cy="3200400"/>
          </a:xfrm>
        </p:grpSpPr>
        <p:sp>
          <p:nvSpPr>
            <p:cNvPr id="572" name="Line 28"/>
            <p:cNvSpPr/>
            <p:nvPr/>
          </p:nvSpPr>
          <p:spPr>
            <a:xfrm flipH="1">
              <a:off x="4483080" y="2386080"/>
              <a:ext cx="2362320" cy="32004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4483080" y="2386080"/>
              <a:ext cx="236232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74" name="Group 29"/>
          <p:cNvGrpSpPr/>
          <p:nvPr/>
        </p:nvGrpSpPr>
        <p:grpSpPr>
          <a:xfrm>
            <a:off x="4191840" y="1218960"/>
            <a:ext cx="4535280" cy="5451480"/>
            <a:chOff x="4191840" y="1218960"/>
            <a:chExt cx="4535280" cy="5451480"/>
          </a:xfrm>
        </p:grpSpPr>
        <p:grpSp>
          <p:nvGrpSpPr>
            <p:cNvPr id="575" name="Group 30"/>
            <p:cNvGrpSpPr/>
            <p:nvPr/>
          </p:nvGrpSpPr>
          <p:grpSpPr>
            <a:xfrm>
              <a:off x="4191840" y="1218960"/>
              <a:ext cx="4535280" cy="5451480"/>
              <a:chOff x="4191840" y="1218960"/>
              <a:chExt cx="4535280" cy="5451480"/>
            </a:xfrm>
          </p:grpSpPr>
          <p:sp>
            <p:nvSpPr>
              <p:cNvPr id="576" name="Rectangle 31"/>
              <p:cNvSpPr/>
              <p:nvPr/>
            </p:nvSpPr>
            <p:spPr>
              <a:xfrm rot="18397800">
                <a:off x="3451680" y="337284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4419360" y="5682240"/>
                <a:ext cx="550440" cy="409680"/>
                <a:chOff x="4419360" y="5682240"/>
                <a:chExt cx="550440" cy="409680"/>
              </a:xfrm>
            </p:grpSpPr>
            <p:sp>
              <p:nvSpPr>
                <p:cNvPr id="578" name="Line 32"/>
                <p:cNvSpPr/>
                <p:nvPr/>
              </p:nvSpPr>
              <p:spPr>
                <a:xfrm>
                  <a:off x="4419360" y="5682600"/>
                  <a:ext cx="550440" cy="40932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 rot="18397800">
                  <a:off x="4694400" y="55440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74080" y="4398120"/>
                <a:ext cx="550440" cy="409680"/>
                <a:chOff x="5374080" y="4398120"/>
                <a:chExt cx="550440" cy="409680"/>
              </a:xfrm>
            </p:grpSpPr>
            <p:sp>
              <p:nvSpPr>
                <p:cNvPr id="581" name="Line 33"/>
                <p:cNvSpPr/>
                <p:nvPr/>
              </p:nvSpPr>
              <p:spPr>
                <a:xfrm>
                  <a:off x="5374080" y="4398480"/>
                  <a:ext cx="550440" cy="40932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 txBox="1"/>
                <p:nvPr/>
              </p:nvSpPr>
              <p:spPr>
                <a:xfrm rot="18397800">
                  <a:off x="5649120" y="42598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6419880" y="2991960"/>
                <a:ext cx="550440" cy="409680"/>
                <a:chOff x="6419880" y="2991960"/>
                <a:chExt cx="550440" cy="409680"/>
              </a:xfrm>
            </p:grpSpPr>
            <p:sp>
              <p:nvSpPr>
                <p:cNvPr id="584" name="Line 34"/>
                <p:cNvSpPr/>
                <p:nvPr/>
              </p:nvSpPr>
              <p:spPr>
                <a:xfrm>
                  <a:off x="6419880" y="2992320"/>
                  <a:ext cx="550440" cy="40896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8397800">
                  <a:off x="6694920" y="28537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896720" y="5040360"/>
                <a:ext cx="367200" cy="273240"/>
                <a:chOff x="4896720" y="5040360"/>
                <a:chExt cx="367200" cy="273240"/>
              </a:xfrm>
            </p:grpSpPr>
            <p:sp>
              <p:nvSpPr>
                <p:cNvPr id="587" name="Line 35"/>
                <p:cNvSpPr/>
                <p:nvPr/>
              </p:nvSpPr>
              <p:spPr>
                <a:xfrm>
                  <a:off x="4896720" y="5040720"/>
                  <a:ext cx="36684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 rot="18397800">
                  <a:off x="5079960" y="49482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874120" y="3725640"/>
                <a:ext cx="367200" cy="273240"/>
                <a:chOff x="5874120" y="3725640"/>
                <a:chExt cx="367200" cy="273240"/>
              </a:xfrm>
            </p:grpSpPr>
            <p:sp>
              <p:nvSpPr>
                <p:cNvPr id="590" name="Line 36"/>
                <p:cNvSpPr/>
                <p:nvPr/>
              </p:nvSpPr>
              <p:spPr>
                <a:xfrm>
                  <a:off x="5874120" y="3726000"/>
                  <a:ext cx="36720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 rot="18397800">
                  <a:off x="6057360" y="36334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919920" y="2319120"/>
                <a:ext cx="367200" cy="273240"/>
                <a:chOff x="6919920" y="2319120"/>
                <a:chExt cx="367200" cy="273240"/>
              </a:xfrm>
            </p:grpSpPr>
            <p:sp>
              <p:nvSpPr>
                <p:cNvPr id="593" name="Line 37"/>
                <p:cNvSpPr/>
                <p:nvPr/>
              </p:nvSpPr>
              <p:spPr>
                <a:xfrm>
                  <a:off x="6919920" y="2319480"/>
                  <a:ext cx="36684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 rot="18397800">
                  <a:off x="7103160" y="222696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7404840" y="1635120"/>
                <a:ext cx="550440" cy="409680"/>
                <a:chOff x="7404840" y="1635120"/>
                <a:chExt cx="550440" cy="409680"/>
              </a:xfrm>
            </p:grpSpPr>
            <p:sp>
              <p:nvSpPr>
                <p:cNvPr id="596" name="Line 38"/>
                <p:cNvSpPr/>
                <p:nvPr/>
              </p:nvSpPr>
              <p:spPr>
                <a:xfrm>
                  <a:off x="7404840" y="1635480"/>
                  <a:ext cx="550440" cy="40896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 rot="18397800">
                  <a:off x="7679880" y="14968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Text Box 39"/>
              <p:cNvSpPr/>
              <p:nvPr/>
            </p:nvSpPr>
            <p:spPr>
              <a:xfrm rot="18397800">
                <a:off x="4682520" y="566892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9" name="Text Box 40"/>
              <p:cNvSpPr/>
              <p:nvPr/>
            </p:nvSpPr>
            <p:spPr>
              <a:xfrm rot="18397800">
                <a:off x="6571800" y="318024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0" name="Text Box 41"/>
              <p:cNvSpPr/>
              <p:nvPr/>
            </p:nvSpPr>
            <p:spPr>
              <a:xfrm rot="18397800">
                <a:off x="7617600" y="177408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01" name="Group 42"/>
              <p:cNvGrpSpPr/>
              <p:nvPr/>
            </p:nvGrpSpPr>
            <p:grpSpPr>
              <a:xfrm>
                <a:off x="4510440" y="5193360"/>
                <a:ext cx="578520" cy="594360"/>
                <a:chOff x="4510440" y="5193360"/>
                <a:chExt cx="578520" cy="59436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4510440" y="5560200"/>
                  <a:ext cx="306000" cy="227520"/>
                  <a:chOff x="4510440" y="5560200"/>
                  <a:chExt cx="306000" cy="227520"/>
                </a:xfrm>
              </p:grpSpPr>
              <p:sp>
                <p:nvSpPr>
                  <p:cNvPr id="603" name="Line 43"/>
                  <p:cNvSpPr/>
                  <p:nvPr/>
                </p:nvSpPr>
                <p:spPr>
                  <a:xfrm>
                    <a:off x="4510440" y="55605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 txBox="1"/>
                  <p:nvPr/>
                </p:nvSpPr>
                <p:spPr>
                  <a:xfrm rot="18397800">
                    <a:off x="4663080" y="54835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4612680" y="5422680"/>
                  <a:ext cx="306000" cy="227520"/>
                  <a:chOff x="4612680" y="5422680"/>
                  <a:chExt cx="306000" cy="227520"/>
                </a:xfrm>
              </p:grpSpPr>
              <p:sp>
                <p:nvSpPr>
                  <p:cNvPr id="606" name="Line 44"/>
                  <p:cNvSpPr/>
                  <p:nvPr/>
                </p:nvSpPr>
                <p:spPr>
                  <a:xfrm>
                    <a:off x="4612680" y="5423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 txBox="1"/>
                  <p:nvPr/>
                </p:nvSpPr>
                <p:spPr>
                  <a:xfrm rot="18397800">
                    <a:off x="4765320" y="5346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4692240" y="5315400"/>
                  <a:ext cx="306000" cy="227520"/>
                  <a:chOff x="4692240" y="5315400"/>
                  <a:chExt cx="306000" cy="227520"/>
                </a:xfrm>
              </p:grpSpPr>
              <p:sp>
                <p:nvSpPr>
                  <p:cNvPr id="609" name="Line 45"/>
                  <p:cNvSpPr/>
                  <p:nvPr/>
                </p:nvSpPr>
                <p:spPr>
                  <a:xfrm>
                    <a:off x="4692240" y="53157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 txBox="1"/>
                  <p:nvPr/>
                </p:nvSpPr>
                <p:spPr>
                  <a:xfrm rot="18397800">
                    <a:off x="4844880" y="52387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4782960" y="5193360"/>
                  <a:ext cx="306000" cy="227520"/>
                  <a:chOff x="4782960" y="5193360"/>
                  <a:chExt cx="306000" cy="227520"/>
                </a:xfrm>
              </p:grpSpPr>
              <p:sp>
                <p:nvSpPr>
                  <p:cNvPr id="612" name="Line 46"/>
                  <p:cNvSpPr/>
                  <p:nvPr/>
                </p:nvSpPr>
                <p:spPr>
                  <a:xfrm>
                    <a:off x="4782960" y="51937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 txBox="1"/>
                  <p:nvPr/>
                </p:nvSpPr>
                <p:spPr>
                  <a:xfrm rot="18397800">
                    <a:off x="4935600" y="5116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4" name="Group 47"/>
              <p:cNvGrpSpPr/>
              <p:nvPr/>
            </p:nvGrpSpPr>
            <p:grpSpPr>
              <a:xfrm>
                <a:off x="5003280" y="4562280"/>
                <a:ext cx="578520" cy="594720"/>
                <a:chOff x="5003280" y="4562280"/>
                <a:chExt cx="578520" cy="59472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5003280" y="4929120"/>
                  <a:ext cx="306000" cy="227880"/>
                  <a:chOff x="5003280" y="4929120"/>
                  <a:chExt cx="306000" cy="227880"/>
                </a:xfrm>
              </p:grpSpPr>
              <p:sp>
                <p:nvSpPr>
                  <p:cNvPr id="616" name="Line 48"/>
                  <p:cNvSpPr/>
                  <p:nvPr/>
                </p:nvSpPr>
                <p:spPr>
                  <a:xfrm>
                    <a:off x="5003280" y="492948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 rot="18397800">
                    <a:off x="5155920" y="4852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5105520" y="4791600"/>
                  <a:ext cx="306000" cy="227880"/>
                  <a:chOff x="5105520" y="4791600"/>
                  <a:chExt cx="306000" cy="227880"/>
                </a:xfrm>
              </p:grpSpPr>
              <p:sp>
                <p:nvSpPr>
                  <p:cNvPr id="619" name="Line 49"/>
                  <p:cNvSpPr/>
                  <p:nvPr/>
                </p:nvSpPr>
                <p:spPr>
                  <a:xfrm>
                    <a:off x="5105520" y="479196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 rot="18397800">
                    <a:off x="5258160" y="4714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5185080" y="4684680"/>
                  <a:ext cx="306000" cy="227520"/>
                  <a:chOff x="5185080" y="4684680"/>
                  <a:chExt cx="306000" cy="227520"/>
                </a:xfrm>
              </p:grpSpPr>
              <p:sp>
                <p:nvSpPr>
                  <p:cNvPr id="622" name="Line 50"/>
                  <p:cNvSpPr/>
                  <p:nvPr/>
                </p:nvSpPr>
                <p:spPr>
                  <a:xfrm>
                    <a:off x="5185080" y="4685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 txBox="1"/>
                  <p:nvPr/>
                </p:nvSpPr>
                <p:spPr>
                  <a:xfrm rot="18397800">
                    <a:off x="5337720" y="4608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5275800" y="4562280"/>
                  <a:ext cx="306000" cy="227880"/>
                  <a:chOff x="5275800" y="4562280"/>
                  <a:chExt cx="306000" cy="227880"/>
                </a:xfrm>
              </p:grpSpPr>
              <p:sp>
                <p:nvSpPr>
                  <p:cNvPr id="625" name="Line 51"/>
                  <p:cNvSpPr/>
                  <p:nvPr/>
                </p:nvSpPr>
                <p:spPr>
                  <a:xfrm>
                    <a:off x="5275800" y="456264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 txBox="1"/>
                  <p:nvPr/>
                </p:nvSpPr>
                <p:spPr>
                  <a:xfrm rot="18397800">
                    <a:off x="5428440" y="4485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Group 52"/>
              <p:cNvGrpSpPr/>
              <p:nvPr/>
            </p:nvGrpSpPr>
            <p:grpSpPr>
              <a:xfrm>
                <a:off x="5476320" y="3893760"/>
                <a:ext cx="578880" cy="594360"/>
                <a:chOff x="5476320" y="3893760"/>
                <a:chExt cx="578880" cy="59436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5476320" y="4260600"/>
                  <a:ext cx="306000" cy="227520"/>
                  <a:chOff x="5476320" y="4260600"/>
                  <a:chExt cx="306000" cy="227520"/>
                </a:xfrm>
              </p:grpSpPr>
              <p:sp>
                <p:nvSpPr>
                  <p:cNvPr id="629" name="Line 53"/>
                  <p:cNvSpPr/>
                  <p:nvPr/>
                </p:nvSpPr>
                <p:spPr>
                  <a:xfrm>
                    <a:off x="5476320" y="42609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 txBox="1"/>
                  <p:nvPr/>
                </p:nvSpPr>
                <p:spPr>
                  <a:xfrm rot="18397800">
                    <a:off x="5628960" y="4183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578560" y="4123080"/>
                  <a:ext cx="306000" cy="227520"/>
                  <a:chOff x="5578560" y="4123080"/>
                  <a:chExt cx="306000" cy="227520"/>
                </a:xfrm>
              </p:grpSpPr>
              <p:sp>
                <p:nvSpPr>
                  <p:cNvPr id="632" name="Line 54"/>
                  <p:cNvSpPr/>
                  <p:nvPr/>
                </p:nvSpPr>
                <p:spPr>
                  <a:xfrm>
                    <a:off x="5578560" y="41234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 txBox="1"/>
                  <p:nvPr/>
                </p:nvSpPr>
                <p:spPr>
                  <a:xfrm rot="18397800">
                    <a:off x="5731200" y="4046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5658480" y="4015800"/>
                  <a:ext cx="306000" cy="227880"/>
                  <a:chOff x="5658480" y="4015800"/>
                  <a:chExt cx="306000" cy="227880"/>
                </a:xfrm>
              </p:grpSpPr>
              <p:sp>
                <p:nvSpPr>
                  <p:cNvPr id="635" name="Line 55"/>
                  <p:cNvSpPr/>
                  <p:nvPr/>
                </p:nvSpPr>
                <p:spPr>
                  <a:xfrm>
                    <a:off x="5658480" y="401616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 rot="18397800">
                    <a:off x="5811120" y="3939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5749200" y="3893760"/>
                  <a:ext cx="306000" cy="227520"/>
                  <a:chOff x="5749200" y="3893760"/>
                  <a:chExt cx="306000" cy="227520"/>
                </a:xfrm>
              </p:grpSpPr>
              <p:sp>
                <p:nvSpPr>
                  <p:cNvPr id="638" name="Line 56"/>
                  <p:cNvSpPr/>
                  <p:nvPr/>
                </p:nvSpPr>
                <p:spPr>
                  <a:xfrm>
                    <a:off x="5749200" y="38941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 txBox="1"/>
                  <p:nvPr/>
                </p:nvSpPr>
                <p:spPr>
                  <a:xfrm rot="18397800">
                    <a:off x="5901840" y="3817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Group 57"/>
              <p:cNvGrpSpPr/>
              <p:nvPr/>
            </p:nvGrpSpPr>
            <p:grpSpPr>
              <a:xfrm>
                <a:off x="6969240" y="1917720"/>
                <a:ext cx="578880" cy="594720"/>
                <a:chOff x="6969240" y="1917720"/>
                <a:chExt cx="578880" cy="594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6969240" y="2284560"/>
                  <a:ext cx="306000" cy="227880"/>
                  <a:chOff x="6969240" y="2284560"/>
                  <a:chExt cx="306000" cy="227880"/>
                </a:xfrm>
              </p:grpSpPr>
              <p:sp>
                <p:nvSpPr>
                  <p:cNvPr id="642" name="Line 58"/>
                  <p:cNvSpPr/>
                  <p:nvPr/>
                </p:nvSpPr>
                <p:spPr>
                  <a:xfrm>
                    <a:off x="6969240" y="228492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 txBox="1"/>
                  <p:nvPr/>
                </p:nvSpPr>
                <p:spPr>
                  <a:xfrm rot="18397800">
                    <a:off x="7121880" y="2207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7071480" y="2147040"/>
                  <a:ext cx="306000" cy="227880"/>
                  <a:chOff x="7071480" y="2147040"/>
                  <a:chExt cx="306000" cy="227880"/>
                </a:xfrm>
              </p:grpSpPr>
              <p:sp>
                <p:nvSpPr>
                  <p:cNvPr id="645" name="Line 59"/>
                  <p:cNvSpPr/>
                  <p:nvPr/>
                </p:nvSpPr>
                <p:spPr>
                  <a:xfrm>
                    <a:off x="7071480" y="214740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 txBox="1"/>
                  <p:nvPr/>
                </p:nvSpPr>
                <p:spPr>
                  <a:xfrm rot="18397800">
                    <a:off x="7224120" y="20703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7151400" y="2040120"/>
                  <a:ext cx="306000" cy="227520"/>
                  <a:chOff x="7151400" y="2040120"/>
                  <a:chExt cx="306000" cy="227520"/>
                </a:xfrm>
              </p:grpSpPr>
              <p:sp>
                <p:nvSpPr>
                  <p:cNvPr id="648" name="Line 60"/>
                  <p:cNvSpPr/>
                  <p:nvPr/>
                </p:nvSpPr>
                <p:spPr>
                  <a:xfrm>
                    <a:off x="7151400" y="20404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 txBox="1"/>
                  <p:nvPr/>
                </p:nvSpPr>
                <p:spPr>
                  <a:xfrm rot="18397800">
                    <a:off x="7304040" y="1963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7242120" y="1917720"/>
                  <a:ext cx="306000" cy="227520"/>
                  <a:chOff x="7242120" y="1917720"/>
                  <a:chExt cx="306000" cy="227520"/>
                </a:xfrm>
              </p:grpSpPr>
              <p:sp>
                <p:nvSpPr>
                  <p:cNvPr id="651" name="Line 61"/>
                  <p:cNvSpPr/>
                  <p:nvPr/>
                </p:nvSpPr>
                <p:spPr>
                  <a:xfrm>
                    <a:off x="7242120" y="19180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 txBox="1"/>
                  <p:nvPr/>
                </p:nvSpPr>
                <p:spPr>
                  <a:xfrm rot="18397800">
                    <a:off x="7394760" y="1841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Group 62"/>
              <p:cNvGrpSpPr/>
              <p:nvPr/>
            </p:nvGrpSpPr>
            <p:grpSpPr>
              <a:xfrm>
                <a:off x="6548760" y="2483280"/>
                <a:ext cx="578880" cy="594720"/>
                <a:chOff x="6548760" y="2483280"/>
                <a:chExt cx="578880" cy="594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6548760" y="2850480"/>
                  <a:ext cx="306000" cy="227520"/>
                  <a:chOff x="6548760" y="2850480"/>
                  <a:chExt cx="306000" cy="227520"/>
                </a:xfrm>
              </p:grpSpPr>
              <p:sp>
                <p:nvSpPr>
                  <p:cNvPr id="655" name="Line 63"/>
                  <p:cNvSpPr/>
                  <p:nvPr/>
                </p:nvSpPr>
                <p:spPr>
                  <a:xfrm>
                    <a:off x="6548760" y="28508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 rot="18397800">
                    <a:off x="6701400" y="27738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651000" y="2712960"/>
                  <a:ext cx="306000" cy="227520"/>
                  <a:chOff x="6651000" y="2712960"/>
                  <a:chExt cx="306000" cy="227520"/>
                </a:xfrm>
              </p:grpSpPr>
              <p:sp>
                <p:nvSpPr>
                  <p:cNvPr id="658" name="Line 64"/>
                  <p:cNvSpPr/>
                  <p:nvPr/>
                </p:nvSpPr>
                <p:spPr>
                  <a:xfrm>
                    <a:off x="6651000" y="27133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 txBox="1"/>
                  <p:nvPr/>
                </p:nvSpPr>
                <p:spPr>
                  <a:xfrm rot="18397800">
                    <a:off x="6803640" y="26362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6730560" y="2605680"/>
                  <a:ext cx="306000" cy="227520"/>
                  <a:chOff x="6730560" y="2605680"/>
                  <a:chExt cx="306000" cy="227520"/>
                </a:xfrm>
              </p:grpSpPr>
              <p:sp>
                <p:nvSpPr>
                  <p:cNvPr id="661" name="Line 65"/>
                  <p:cNvSpPr/>
                  <p:nvPr/>
                </p:nvSpPr>
                <p:spPr>
                  <a:xfrm>
                    <a:off x="6730560" y="2606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 rot="18397800">
                    <a:off x="6883200" y="2529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6821640" y="2483280"/>
                  <a:ext cx="306000" cy="227880"/>
                  <a:chOff x="6821640" y="2483280"/>
                  <a:chExt cx="306000" cy="227880"/>
                </a:xfrm>
              </p:grpSpPr>
              <p:sp>
                <p:nvSpPr>
                  <p:cNvPr id="664" name="Line 66"/>
                  <p:cNvSpPr/>
                  <p:nvPr/>
                </p:nvSpPr>
                <p:spPr>
                  <a:xfrm>
                    <a:off x="6821640" y="248364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 txBox="1"/>
                  <p:nvPr/>
                </p:nvSpPr>
                <p:spPr>
                  <a:xfrm rot="18397800">
                    <a:off x="6974280" y="2406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Group 67"/>
              <p:cNvGrpSpPr/>
              <p:nvPr/>
            </p:nvGrpSpPr>
            <p:grpSpPr>
              <a:xfrm>
                <a:off x="6026040" y="3186720"/>
                <a:ext cx="578520" cy="594360"/>
                <a:chOff x="6026040" y="3186720"/>
                <a:chExt cx="578520" cy="59436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6026040" y="3553560"/>
                  <a:ext cx="306000" cy="227520"/>
                  <a:chOff x="6026040" y="3553560"/>
                  <a:chExt cx="306000" cy="227520"/>
                </a:xfrm>
              </p:grpSpPr>
              <p:sp>
                <p:nvSpPr>
                  <p:cNvPr id="668" name="Line 68"/>
                  <p:cNvSpPr/>
                  <p:nvPr/>
                </p:nvSpPr>
                <p:spPr>
                  <a:xfrm>
                    <a:off x="6026040" y="35539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 txBox="1"/>
                  <p:nvPr/>
                </p:nvSpPr>
                <p:spPr>
                  <a:xfrm rot="18397800">
                    <a:off x="6178680" y="3476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128280" y="3416040"/>
                  <a:ext cx="306000" cy="227520"/>
                  <a:chOff x="6128280" y="3416040"/>
                  <a:chExt cx="306000" cy="227520"/>
                </a:xfrm>
              </p:grpSpPr>
              <p:sp>
                <p:nvSpPr>
                  <p:cNvPr id="671" name="Line 69"/>
                  <p:cNvSpPr/>
                  <p:nvPr/>
                </p:nvSpPr>
                <p:spPr>
                  <a:xfrm>
                    <a:off x="6128280" y="341640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 txBox="1"/>
                  <p:nvPr/>
                </p:nvSpPr>
                <p:spPr>
                  <a:xfrm rot="18397800">
                    <a:off x="6280920" y="33393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207840" y="3308760"/>
                  <a:ext cx="306000" cy="227520"/>
                  <a:chOff x="6207840" y="3308760"/>
                  <a:chExt cx="306000" cy="227520"/>
                </a:xfrm>
              </p:grpSpPr>
              <p:sp>
                <p:nvSpPr>
                  <p:cNvPr id="674" name="Line 70"/>
                  <p:cNvSpPr/>
                  <p:nvPr/>
                </p:nvSpPr>
                <p:spPr>
                  <a:xfrm>
                    <a:off x="6207840" y="33091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 txBox="1"/>
                  <p:nvPr/>
                </p:nvSpPr>
                <p:spPr>
                  <a:xfrm rot="18397800">
                    <a:off x="6360480" y="3232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6298560" y="3186720"/>
                  <a:ext cx="306000" cy="227520"/>
                  <a:chOff x="6298560" y="3186720"/>
                  <a:chExt cx="306000" cy="227520"/>
                </a:xfrm>
              </p:grpSpPr>
              <p:sp>
                <p:nvSpPr>
                  <p:cNvPr id="677" name="Line 71"/>
                  <p:cNvSpPr/>
                  <p:nvPr/>
                </p:nvSpPr>
                <p:spPr>
                  <a:xfrm>
                    <a:off x="6298560" y="3187080"/>
                    <a:ext cx="30600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 txBox="1"/>
                  <p:nvPr/>
                </p:nvSpPr>
                <p:spPr>
                  <a:xfrm rot="18397800">
                    <a:off x="6451200" y="3110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9" name="Rectangle 72"/>
              <p:cNvSpPr/>
              <p:nvPr/>
            </p:nvSpPr>
            <p:spPr>
              <a:xfrm rot="18397800">
                <a:off x="7029720" y="194796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80" name="Group 73"/>
              <p:cNvGrpSpPr/>
              <p:nvPr/>
            </p:nvGrpSpPr>
            <p:grpSpPr>
              <a:xfrm>
                <a:off x="7033680" y="1799280"/>
                <a:ext cx="578880" cy="594360"/>
                <a:chOff x="7033680" y="1799280"/>
                <a:chExt cx="578880" cy="59436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7033680" y="2166120"/>
                  <a:ext cx="306000" cy="227520"/>
                  <a:chOff x="7033680" y="2166120"/>
                  <a:chExt cx="306000" cy="227520"/>
                </a:xfrm>
              </p:grpSpPr>
              <p:sp>
                <p:nvSpPr>
                  <p:cNvPr id="682" name="Line 74"/>
                  <p:cNvSpPr/>
                  <p:nvPr/>
                </p:nvSpPr>
                <p:spPr>
                  <a:xfrm>
                    <a:off x="7033680" y="21664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8397800">
                    <a:off x="7186320" y="2089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7135920" y="2028600"/>
                  <a:ext cx="306000" cy="227520"/>
                  <a:chOff x="7135920" y="2028600"/>
                  <a:chExt cx="306000" cy="227520"/>
                </a:xfrm>
              </p:grpSpPr>
              <p:sp>
                <p:nvSpPr>
                  <p:cNvPr id="685" name="Line 75"/>
                  <p:cNvSpPr/>
                  <p:nvPr/>
                </p:nvSpPr>
                <p:spPr>
                  <a:xfrm>
                    <a:off x="7135920" y="20289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8397800">
                    <a:off x="7288560" y="1951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7215480" y="1921320"/>
                  <a:ext cx="306000" cy="227880"/>
                  <a:chOff x="7215480" y="1921320"/>
                  <a:chExt cx="306000" cy="227880"/>
                </a:xfrm>
              </p:grpSpPr>
              <p:sp>
                <p:nvSpPr>
                  <p:cNvPr id="688" name="Line 76"/>
                  <p:cNvSpPr/>
                  <p:nvPr/>
                </p:nvSpPr>
                <p:spPr>
                  <a:xfrm>
                    <a:off x="7215480" y="192168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 txBox="1"/>
                  <p:nvPr/>
                </p:nvSpPr>
                <p:spPr>
                  <a:xfrm rot="18397800">
                    <a:off x="7368120" y="1844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7306560" y="1799280"/>
                  <a:ext cx="306000" cy="227520"/>
                  <a:chOff x="7306560" y="1799280"/>
                  <a:chExt cx="306000" cy="227520"/>
                </a:xfrm>
              </p:grpSpPr>
              <p:sp>
                <p:nvSpPr>
                  <p:cNvPr id="691" name="Line 77"/>
                  <p:cNvSpPr/>
                  <p:nvPr/>
                </p:nvSpPr>
                <p:spPr>
                  <a:xfrm>
                    <a:off x="7306560" y="17996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 txBox="1"/>
                  <p:nvPr/>
                </p:nvSpPr>
                <p:spPr>
                  <a:xfrm rot="18397800">
                    <a:off x="7459200" y="1722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93" name="Text Box 78"/>
            <p:cNvSpPr/>
            <p:nvPr/>
          </p:nvSpPr>
          <p:spPr>
            <a:xfrm rot="18397800">
              <a:off x="5526360" y="458712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94" name="Group 79"/>
          <p:cNvGrpSpPr/>
          <p:nvPr/>
        </p:nvGrpSpPr>
        <p:grpSpPr>
          <a:xfrm>
            <a:off x="4356000" y="73080"/>
            <a:ext cx="1194840" cy="6019920"/>
            <a:chOff x="4356000" y="73080"/>
            <a:chExt cx="1194840" cy="6019920"/>
          </a:xfrm>
        </p:grpSpPr>
        <p:grpSp>
          <p:nvGrpSpPr>
            <p:cNvPr id="695" name="Group 80"/>
            <p:cNvGrpSpPr/>
            <p:nvPr/>
          </p:nvGrpSpPr>
          <p:grpSpPr>
            <a:xfrm>
              <a:off x="4356000" y="73080"/>
              <a:ext cx="1194840" cy="6019920"/>
              <a:chOff x="4356000" y="73080"/>
              <a:chExt cx="1194840" cy="6019920"/>
            </a:xfrm>
          </p:grpSpPr>
          <p:sp>
            <p:nvSpPr>
              <p:cNvPr id="696" name="Rectangle 81"/>
              <p:cNvSpPr/>
              <p:nvPr/>
            </p:nvSpPr>
            <p:spPr>
              <a:xfrm rot="16200000">
                <a:off x="1974600" y="254952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4375080" y="5711400"/>
                <a:ext cx="685800" cy="360"/>
                <a:chOff x="4375080" y="5711400"/>
                <a:chExt cx="685800" cy="360"/>
              </a:xfrm>
            </p:grpSpPr>
            <p:sp>
              <p:nvSpPr>
                <p:cNvPr id="698" name="Line 82"/>
                <p:cNvSpPr/>
                <p:nvPr/>
              </p:nvSpPr>
              <p:spPr>
                <a:xfrm>
                  <a:off x="4375080" y="57117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 txBox="1"/>
                <p:nvPr/>
              </p:nvSpPr>
              <p:spPr>
                <a:xfrm rot="16200000">
                  <a:off x="4717800" y="53686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4375080" y="4111200"/>
                <a:ext cx="685800" cy="360"/>
                <a:chOff x="4375080" y="4111200"/>
                <a:chExt cx="685800" cy="360"/>
              </a:xfrm>
            </p:grpSpPr>
            <p:sp>
              <p:nvSpPr>
                <p:cNvPr id="701" name="Line 83"/>
                <p:cNvSpPr/>
                <p:nvPr/>
              </p:nvSpPr>
              <p:spPr>
                <a:xfrm>
                  <a:off x="4375080" y="41115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 txBox="1"/>
                <p:nvPr/>
              </p:nvSpPr>
              <p:spPr>
                <a:xfrm rot="16200000">
                  <a:off x="4717800" y="3768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375080" y="2358720"/>
                <a:ext cx="685800" cy="360"/>
                <a:chOff x="4375080" y="2358720"/>
                <a:chExt cx="685800" cy="360"/>
              </a:xfrm>
            </p:grpSpPr>
            <p:sp>
              <p:nvSpPr>
                <p:cNvPr id="704" name="Line 84"/>
                <p:cNvSpPr/>
                <p:nvPr/>
              </p:nvSpPr>
              <p:spPr>
                <a:xfrm>
                  <a:off x="4375080" y="2359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 txBox="1"/>
                <p:nvPr/>
              </p:nvSpPr>
              <p:spPr>
                <a:xfrm rot="16200000">
                  <a:off x="4717800" y="20160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375080" y="4911480"/>
                <a:ext cx="457200" cy="360"/>
                <a:chOff x="4375080" y="4911480"/>
                <a:chExt cx="457200" cy="360"/>
              </a:xfrm>
            </p:grpSpPr>
            <p:sp>
              <p:nvSpPr>
                <p:cNvPr id="707" name="Line 85"/>
                <p:cNvSpPr/>
                <p:nvPr/>
              </p:nvSpPr>
              <p:spPr>
                <a:xfrm>
                  <a:off x="4375080" y="49118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 txBox="1"/>
                <p:nvPr/>
              </p:nvSpPr>
              <p:spPr>
                <a:xfrm rot="16200000">
                  <a:off x="4603320" y="46828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375080" y="3273120"/>
                <a:ext cx="457200" cy="360"/>
                <a:chOff x="4375080" y="3273120"/>
                <a:chExt cx="457200" cy="360"/>
              </a:xfrm>
            </p:grpSpPr>
            <p:sp>
              <p:nvSpPr>
                <p:cNvPr id="710" name="Line 86"/>
                <p:cNvSpPr/>
                <p:nvPr/>
              </p:nvSpPr>
              <p:spPr>
                <a:xfrm>
                  <a:off x="4375080" y="3273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 txBox="1"/>
                <p:nvPr/>
              </p:nvSpPr>
              <p:spPr>
                <a:xfrm rot="16200000">
                  <a:off x="4603320" y="304452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375080" y="1520640"/>
                <a:ext cx="457200" cy="360"/>
                <a:chOff x="4375080" y="1520640"/>
                <a:chExt cx="457200" cy="360"/>
              </a:xfrm>
            </p:grpSpPr>
            <p:sp>
              <p:nvSpPr>
                <p:cNvPr id="713" name="Line 87"/>
                <p:cNvSpPr/>
                <p:nvPr/>
              </p:nvSpPr>
              <p:spPr>
                <a:xfrm>
                  <a:off x="4375080" y="1521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 txBox="1"/>
                <p:nvPr/>
              </p:nvSpPr>
              <p:spPr>
                <a:xfrm rot="16200000">
                  <a:off x="4603320" y="129204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356000" y="682200"/>
                <a:ext cx="685800" cy="360"/>
                <a:chOff x="4356000" y="682200"/>
                <a:chExt cx="685800" cy="360"/>
              </a:xfrm>
            </p:grpSpPr>
            <p:sp>
              <p:nvSpPr>
                <p:cNvPr id="716" name="Line 88"/>
                <p:cNvSpPr/>
                <p:nvPr/>
              </p:nvSpPr>
              <p:spPr>
                <a:xfrm>
                  <a:off x="4356000" y="6825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 txBox="1"/>
                <p:nvPr/>
              </p:nvSpPr>
              <p:spPr>
                <a:xfrm rot="16200000">
                  <a:off x="4698720" y="339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89"/>
              <p:cNvSpPr/>
              <p:nvPr/>
            </p:nvSpPr>
            <p:spPr>
              <a:xfrm rot="16200000">
                <a:off x="4664520" y="516204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9" name="Text Box 90"/>
              <p:cNvSpPr/>
              <p:nvPr/>
            </p:nvSpPr>
            <p:spPr>
              <a:xfrm rot="16200000">
                <a:off x="4695840" y="203760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0" name="Text Box 91"/>
              <p:cNvSpPr/>
              <p:nvPr/>
            </p:nvSpPr>
            <p:spPr>
              <a:xfrm rot="16200000">
                <a:off x="4696200" y="28512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721" name="Group 92"/>
              <p:cNvGrpSpPr/>
              <p:nvPr/>
            </p:nvGrpSpPr>
            <p:grpSpPr>
              <a:xfrm>
                <a:off x="4375080" y="5101920"/>
                <a:ext cx="380880" cy="457560"/>
                <a:chOff x="4375080" y="5101920"/>
                <a:chExt cx="380880" cy="45756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4375080" y="5559120"/>
                  <a:ext cx="380880" cy="360"/>
                  <a:chOff x="4375080" y="5559120"/>
                  <a:chExt cx="380880" cy="360"/>
                </a:xfrm>
              </p:grpSpPr>
              <p:sp>
                <p:nvSpPr>
                  <p:cNvPr id="723" name="Line 93"/>
                  <p:cNvSpPr/>
                  <p:nvPr/>
                </p:nvSpPr>
                <p:spPr>
                  <a:xfrm>
                    <a:off x="4375080" y="55594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 txBox="1"/>
                  <p:nvPr/>
                </p:nvSpPr>
                <p:spPr>
                  <a:xfrm rot="16200000">
                    <a:off x="4565160" y="5368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4375080" y="5387760"/>
                  <a:ext cx="380880" cy="360"/>
                  <a:chOff x="4375080" y="5387760"/>
                  <a:chExt cx="380880" cy="360"/>
                </a:xfrm>
              </p:grpSpPr>
              <p:sp>
                <p:nvSpPr>
                  <p:cNvPr id="726" name="Line 94"/>
                  <p:cNvSpPr/>
                  <p:nvPr/>
                </p:nvSpPr>
                <p:spPr>
                  <a:xfrm>
                    <a:off x="4375080" y="5388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 txBox="1"/>
                  <p:nvPr/>
                </p:nvSpPr>
                <p:spPr>
                  <a:xfrm rot="16200000">
                    <a:off x="4565160" y="5197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4375080" y="5254200"/>
                  <a:ext cx="380880" cy="360"/>
                  <a:chOff x="4375080" y="5254200"/>
                  <a:chExt cx="380880" cy="360"/>
                </a:xfrm>
              </p:grpSpPr>
              <p:sp>
                <p:nvSpPr>
                  <p:cNvPr id="729" name="Line 95"/>
                  <p:cNvSpPr/>
                  <p:nvPr/>
                </p:nvSpPr>
                <p:spPr>
                  <a:xfrm>
                    <a:off x="4375080" y="5254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 txBox="1"/>
                  <p:nvPr/>
                </p:nvSpPr>
                <p:spPr>
                  <a:xfrm rot="16200000">
                    <a:off x="4565160" y="5063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4375080" y="5101920"/>
                  <a:ext cx="380880" cy="360"/>
                  <a:chOff x="4375080" y="5101920"/>
                  <a:chExt cx="380880" cy="360"/>
                </a:xfrm>
              </p:grpSpPr>
              <p:sp>
                <p:nvSpPr>
                  <p:cNvPr id="732" name="Line 96"/>
                  <p:cNvSpPr/>
                  <p:nvPr/>
                </p:nvSpPr>
                <p:spPr>
                  <a:xfrm>
                    <a:off x="4375080" y="5102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 txBox="1"/>
                  <p:nvPr/>
                </p:nvSpPr>
                <p:spPr>
                  <a:xfrm rot="16200000">
                    <a:off x="4565160" y="4911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97"/>
              <p:cNvGrpSpPr/>
              <p:nvPr/>
            </p:nvGrpSpPr>
            <p:grpSpPr>
              <a:xfrm>
                <a:off x="4394160" y="4301640"/>
                <a:ext cx="380880" cy="457560"/>
                <a:chOff x="4394160" y="4301640"/>
                <a:chExt cx="380880" cy="4575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4394160" y="4758840"/>
                  <a:ext cx="380880" cy="360"/>
                  <a:chOff x="4394160" y="4758840"/>
                  <a:chExt cx="380880" cy="360"/>
                </a:xfrm>
              </p:grpSpPr>
              <p:sp>
                <p:nvSpPr>
                  <p:cNvPr id="736" name="Line 98"/>
                  <p:cNvSpPr/>
                  <p:nvPr/>
                </p:nvSpPr>
                <p:spPr>
                  <a:xfrm>
                    <a:off x="4394160" y="4759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 txBox="1"/>
                  <p:nvPr/>
                </p:nvSpPr>
                <p:spPr>
                  <a:xfrm rot="16200000">
                    <a:off x="4584240" y="4568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4394160" y="4587480"/>
                  <a:ext cx="380880" cy="360"/>
                  <a:chOff x="4394160" y="4587480"/>
                  <a:chExt cx="380880" cy="360"/>
                </a:xfrm>
              </p:grpSpPr>
              <p:sp>
                <p:nvSpPr>
                  <p:cNvPr id="739" name="Line 99"/>
                  <p:cNvSpPr/>
                  <p:nvPr/>
                </p:nvSpPr>
                <p:spPr>
                  <a:xfrm>
                    <a:off x="4394160" y="4587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 txBox="1"/>
                  <p:nvPr/>
                </p:nvSpPr>
                <p:spPr>
                  <a:xfrm rot="16200000">
                    <a:off x="4584240" y="4397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394160" y="4453920"/>
                  <a:ext cx="380880" cy="360"/>
                  <a:chOff x="4394160" y="4453920"/>
                  <a:chExt cx="380880" cy="360"/>
                </a:xfrm>
              </p:grpSpPr>
              <p:sp>
                <p:nvSpPr>
                  <p:cNvPr id="742" name="Line 100"/>
                  <p:cNvSpPr/>
                  <p:nvPr/>
                </p:nvSpPr>
                <p:spPr>
                  <a:xfrm>
                    <a:off x="4394160" y="4454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 txBox="1"/>
                  <p:nvPr/>
                </p:nvSpPr>
                <p:spPr>
                  <a:xfrm rot="16200000">
                    <a:off x="4584240" y="4263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4394160" y="4301640"/>
                  <a:ext cx="380880" cy="360"/>
                  <a:chOff x="4394160" y="4301640"/>
                  <a:chExt cx="380880" cy="360"/>
                </a:xfrm>
              </p:grpSpPr>
              <p:sp>
                <p:nvSpPr>
                  <p:cNvPr id="745" name="Line 101"/>
                  <p:cNvSpPr/>
                  <p:nvPr/>
                </p:nvSpPr>
                <p:spPr>
                  <a:xfrm>
                    <a:off x="4394160" y="4302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 txBox="1"/>
                  <p:nvPr/>
                </p:nvSpPr>
                <p:spPr>
                  <a:xfrm rot="16200000">
                    <a:off x="4584240" y="4111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7" name="Group 102"/>
              <p:cNvGrpSpPr/>
              <p:nvPr/>
            </p:nvGrpSpPr>
            <p:grpSpPr>
              <a:xfrm>
                <a:off x="4375080" y="3482640"/>
                <a:ext cx="380880" cy="457560"/>
                <a:chOff x="4375080" y="3482640"/>
                <a:chExt cx="380880" cy="45756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4375080" y="3939840"/>
                  <a:ext cx="380880" cy="360"/>
                  <a:chOff x="4375080" y="3939840"/>
                  <a:chExt cx="380880" cy="360"/>
                </a:xfrm>
              </p:grpSpPr>
              <p:sp>
                <p:nvSpPr>
                  <p:cNvPr id="749" name="Line 103"/>
                  <p:cNvSpPr/>
                  <p:nvPr/>
                </p:nvSpPr>
                <p:spPr>
                  <a:xfrm>
                    <a:off x="4375080" y="394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 txBox="1"/>
                  <p:nvPr/>
                </p:nvSpPr>
                <p:spPr>
                  <a:xfrm rot="16200000">
                    <a:off x="4565160" y="374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4375080" y="3768480"/>
                  <a:ext cx="380880" cy="360"/>
                  <a:chOff x="4375080" y="3768480"/>
                  <a:chExt cx="380880" cy="360"/>
                </a:xfrm>
              </p:grpSpPr>
              <p:sp>
                <p:nvSpPr>
                  <p:cNvPr id="752" name="Line 104"/>
                  <p:cNvSpPr/>
                  <p:nvPr/>
                </p:nvSpPr>
                <p:spPr>
                  <a:xfrm>
                    <a:off x="4375080" y="376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 rot="16200000">
                    <a:off x="4565160" y="357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4375080" y="3634920"/>
                  <a:ext cx="380880" cy="360"/>
                  <a:chOff x="4375080" y="3634920"/>
                  <a:chExt cx="380880" cy="360"/>
                </a:xfrm>
              </p:grpSpPr>
              <p:sp>
                <p:nvSpPr>
                  <p:cNvPr id="755" name="Line 105"/>
                  <p:cNvSpPr/>
                  <p:nvPr/>
                </p:nvSpPr>
                <p:spPr>
                  <a:xfrm>
                    <a:off x="4375080" y="3635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 txBox="1"/>
                  <p:nvPr/>
                </p:nvSpPr>
                <p:spPr>
                  <a:xfrm rot="16200000">
                    <a:off x="4565160" y="3444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375080" y="3482640"/>
                  <a:ext cx="380880" cy="360"/>
                  <a:chOff x="4375080" y="3482640"/>
                  <a:chExt cx="380880" cy="360"/>
                </a:xfrm>
              </p:grpSpPr>
              <p:sp>
                <p:nvSpPr>
                  <p:cNvPr id="758" name="Line 106"/>
                  <p:cNvSpPr/>
                  <p:nvPr/>
                </p:nvSpPr>
                <p:spPr>
                  <a:xfrm>
                    <a:off x="4375080" y="3483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 txBox="1"/>
                  <p:nvPr/>
                </p:nvSpPr>
                <p:spPr>
                  <a:xfrm rot="16200000">
                    <a:off x="4565160" y="3292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0" name="Group 107"/>
              <p:cNvGrpSpPr/>
              <p:nvPr/>
            </p:nvGrpSpPr>
            <p:grpSpPr>
              <a:xfrm>
                <a:off x="4394160" y="1006200"/>
                <a:ext cx="380880" cy="457560"/>
                <a:chOff x="4394160" y="1006200"/>
                <a:chExt cx="380880" cy="4575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4394160" y="1463400"/>
                  <a:ext cx="380880" cy="360"/>
                  <a:chOff x="4394160" y="1463400"/>
                  <a:chExt cx="380880" cy="360"/>
                </a:xfrm>
              </p:grpSpPr>
              <p:sp>
                <p:nvSpPr>
                  <p:cNvPr id="762" name="Line 108"/>
                  <p:cNvSpPr/>
                  <p:nvPr/>
                </p:nvSpPr>
                <p:spPr>
                  <a:xfrm>
                    <a:off x="4394160" y="1463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 txBox="1"/>
                  <p:nvPr/>
                </p:nvSpPr>
                <p:spPr>
                  <a:xfrm rot="16200000">
                    <a:off x="4584240" y="1272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394160" y="1292040"/>
                  <a:ext cx="380880" cy="360"/>
                  <a:chOff x="4394160" y="1292040"/>
                  <a:chExt cx="380880" cy="360"/>
                </a:xfrm>
              </p:grpSpPr>
              <p:sp>
                <p:nvSpPr>
                  <p:cNvPr id="765" name="Line 109"/>
                  <p:cNvSpPr/>
                  <p:nvPr/>
                </p:nvSpPr>
                <p:spPr>
                  <a:xfrm>
                    <a:off x="4394160" y="1292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 txBox="1"/>
                  <p:nvPr/>
                </p:nvSpPr>
                <p:spPr>
                  <a:xfrm rot="16200000">
                    <a:off x="4584240" y="1101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4394160" y="1158480"/>
                  <a:ext cx="380880" cy="360"/>
                  <a:chOff x="4394160" y="1158480"/>
                  <a:chExt cx="380880" cy="360"/>
                </a:xfrm>
              </p:grpSpPr>
              <p:sp>
                <p:nvSpPr>
                  <p:cNvPr id="768" name="Line 110"/>
                  <p:cNvSpPr/>
                  <p:nvPr/>
                </p:nvSpPr>
                <p:spPr>
                  <a:xfrm>
                    <a:off x="4394160" y="115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 txBox="1"/>
                  <p:nvPr/>
                </p:nvSpPr>
                <p:spPr>
                  <a:xfrm rot="16200000">
                    <a:off x="4584240" y="96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4394160" y="1006200"/>
                  <a:ext cx="380880" cy="360"/>
                  <a:chOff x="4394160" y="1006200"/>
                  <a:chExt cx="380880" cy="360"/>
                </a:xfrm>
              </p:grpSpPr>
              <p:sp>
                <p:nvSpPr>
                  <p:cNvPr id="771" name="Line 111"/>
                  <p:cNvSpPr/>
                  <p:nvPr/>
                </p:nvSpPr>
                <p:spPr>
                  <a:xfrm>
                    <a:off x="4394160" y="1006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 txBox="1"/>
                  <p:nvPr/>
                </p:nvSpPr>
                <p:spPr>
                  <a:xfrm rot="16200000">
                    <a:off x="4584240" y="815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3" name="Group 112"/>
              <p:cNvGrpSpPr/>
              <p:nvPr/>
            </p:nvGrpSpPr>
            <p:grpSpPr>
              <a:xfrm>
                <a:off x="4394160" y="1711080"/>
                <a:ext cx="380880" cy="457560"/>
                <a:chOff x="4394160" y="1711080"/>
                <a:chExt cx="380880" cy="457560"/>
              </a:xfrm>
            </p:grpSpPr>
            <p:grpSp>
              <p:nvGrpSpPr>
                <p:cNvPr id="774" name=""/>
                <p:cNvGrpSpPr/>
                <p:nvPr/>
              </p:nvGrpSpPr>
              <p:grpSpPr>
                <a:xfrm>
                  <a:off x="4394160" y="2168280"/>
                  <a:ext cx="380880" cy="360"/>
                  <a:chOff x="4394160" y="2168280"/>
                  <a:chExt cx="380880" cy="360"/>
                </a:xfrm>
              </p:grpSpPr>
              <p:sp>
                <p:nvSpPr>
                  <p:cNvPr id="775" name="Line 113"/>
                  <p:cNvSpPr/>
                  <p:nvPr/>
                </p:nvSpPr>
                <p:spPr>
                  <a:xfrm>
                    <a:off x="4394160" y="2168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 txBox="1"/>
                  <p:nvPr/>
                </p:nvSpPr>
                <p:spPr>
                  <a:xfrm rot="16200000">
                    <a:off x="4584240" y="19778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4394160" y="1996920"/>
                  <a:ext cx="380880" cy="360"/>
                  <a:chOff x="4394160" y="1996920"/>
                  <a:chExt cx="380880" cy="360"/>
                </a:xfrm>
              </p:grpSpPr>
              <p:sp>
                <p:nvSpPr>
                  <p:cNvPr id="778" name="Line 114"/>
                  <p:cNvSpPr/>
                  <p:nvPr/>
                </p:nvSpPr>
                <p:spPr>
                  <a:xfrm>
                    <a:off x="4394160" y="1997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 txBox="1"/>
                  <p:nvPr/>
                </p:nvSpPr>
                <p:spPr>
                  <a:xfrm rot="16200000">
                    <a:off x="4584240" y="1806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4394160" y="1863360"/>
                  <a:ext cx="380880" cy="360"/>
                  <a:chOff x="4394160" y="1863360"/>
                  <a:chExt cx="380880" cy="360"/>
                </a:xfrm>
              </p:grpSpPr>
              <p:sp>
                <p:nvSpPr>
                  <p:cNvPr id="781" name="Line 115"/>
                  <p:cNvSpPr/>
                  <p:nvPr/>
                </p:nvSpPr>
                <p:spPr>
                  <a:xfrm>
                    <a:off x="4394160" y="1863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 txBox="1"/>
                  <p:nvPr/>
                </p:nvSpPr>
                <p:spPr>
                  <a:xfrm rot="16200000">
                    <a:off x="4584240" y="1672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4394160" y="1711080"/>
                  <a:ext cx="380880" cy="360"/>
                  <a:chOff x="4394160" y="1711080"/>
                  <a:chExt cx="380880" cy="360"/>
                </a:xfrm>
              </p:grpSpPr>
              <p:sp>
                <p:nvSpPr>
                  <p:cNvPr id="784" name="Line 116"/>
                  <p:cNvSpPr/>
                  <p:nvPr/>
                </p:nvSpPr>
                <p:spPr>
                  <a:xfrm>
                    <a:off x="4394160" y="171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 txBox="1"/>
                  <p:nvPr/>
                </p:nvSpPr>
                <p:spPr>
                  <a:xfrm rot="16200000">
                    <a:off x="4584240" y="1520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6" name="Group 117"/>
              <p:cNvGrpSpPr/>
              <p:nvPr/>
            </p:nvGrpSpPr>
            <p:grpSpPr>
              <a:xfrm>
                <a:off x="4394160" y="2587320"/>
                <a:ext cx="380880" cy="457560"/>
                <a:chOff x="4394160" y="2587320"/>
                <a:chExt cx="380880" cy="45756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4394160" y="3044520"/>
                  <a:ext cx="380880" cy="360"/>
                  <a:chOff x="4394160" y="3044520"/>
                  <a:chExt cx="380880" cy="360"/>
                </a:xfrm>
              </p:grpSpPr>
              <p:sp>
                <p:nvSpPr>
                  <p:cNvPr id="788" name="Line 118"/>
                  <p:cNvSpPr/>
                  <p:nvPr/>
                </p:nvSpPr>
                <p:spPr>
                  <a:xfrm>
                    <a:off x="4394160" y="30448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 txBox="1"/>
                  <p:nvPr/>
                </p:nvSpPr>
                <p:spPr>
                  <a:xfrm rot="16200000">
                    <a:off x="4584240" y="2854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4394160" y="2873160"/>
                  <a:ext cx="380880" cy="360"/>
                  <a:chOff x="4394160" y="2873160"/>
                  <a:chExt cx="380880" cy="360"/>
                </a:xfrm>
              </p:grpSpPr>
              <p:sp>
                <p:nvSpPr>
                  <p:cNvPr id="791" name="Line 119"/>
                  <p:cNvSpPr/>
                  <p:nvPr/>
                </p:nvSpPr>
                <p:spPr>
                  <a:xfrm>
                    <a:off x="4394160" y="28735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 txBox="1"/>
                  <p:nvPr/>
                </p:nvSpPr>
                <p:spPr>
                  <a:xfrm rot="16200000">
                    <a:off x="4584240" y="26827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4394160" y="2739600"/>
                  <a:ext cx="380880" cy="360"/>
                  <a:chOff x="4394160" y="2739600"/>
                  <a:chExt cx="380880" cy="360"/>
                </a:xfrm>
              </p:grpSpPr>
              <p:sp>
                <p:nvSpPr>
                  <p:cNvPr id="794" name="Line 120"/>
                  <p:cNvSpPr/>
                  <p:nvPr/>
                </p:nvSpPr>
                <p:spPr>
                  <a:xfrm>
                    <a:off x="4394160" y="27399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 txBox="1"/>
                  <p:nvPr/>
                </p:nvSpPr>
                <p:spPr>
                  <a:xfrm rot="16200000">
                    <a:off x="4584240" y="25491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4394160" y="2587320"/>
                  <a:ext cx="380880" cy="360"/>
                  <a:chOff x="4394160" y="2587320"/>
                  <a:chExt cx="380880" cy="360"/>
                </a:xfrm>
              </p:grpSpPr>
              <p:sp>
                <p:nvSpPr>
                  <p:cNvPr id="797" name="Line 121"/>
                  <p:cNvSpPr/>
                  <p:nvPr/>
                </p:nvSpPr>
                <p:spPr>
                  <a:xfrm>
                    <a:off x="4394160" y="2587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 txBox="1"/>
                  <p:nvPr/>
                </p:nvSpPr>
                <p:spPr>
                  <a:xfrm rot="16200000">
                    <a:off x="4584240" y="2396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Rectangle 122"/>
              <p:cNvSpPr/>
              <p:nvPr/>
            </p:nvSpPr>
            <p:spPr>
              <a:xfrm rot="16200000">
                <a:off x="4317840" y="93024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00" name="Group 123"/>
              <p:cNvGrpSpPr/>
              <p:nvPr/>
            </p:nvGrpSpPr>
            <p:grpSpPr>
              <a:xfrm>
                <a:off x="4375080" y="872640"/>
                <a:ext cx="380880" cy="457560"/>
                <a:chOff x="4375080" y="872640"/>
                <a:chExt cx="380880" cy="4575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4375080" y="1329840"/>
                  <a:ext cx="380880" cy="360"/>
                  <a:chOff x="4375080" y="1329840"/>
                  <a:chExt cx="380880" cy="360"/>
                </a:xfrm>
              </p:grpSpPr>
              <p:sp>
                <p:nvSpPr>
                  <p:cNvPr id="802" name="Line 124"/>
                  <p:cNvSpPr/>
                  <p:nvPr/>
                </p:nvSpPr>
                <p:spPr>
                  <a:xfrm>
                    <a:off x="4375080" y="133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 txBox="1"/>
                  <p:nvPr/>
                </p:nvSpPr>
                <p:spPr>
                  <a:xfrm rot="16200000">
                    <a:off x="4565160" y="113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4375080" y="1158480"/>
                  <a:ext cx="380880" cy="360"/>
                  <a:chOff x="4375080" y="1158480"/>
                  <a:chExt cx="380880" cy="360"/>
                </a:xfrm>
              </p:grpSpPr>
              <p:sp>
                <p:nvSpPr>
                  <p:cNvPr id="805" name="Line 125"/>
                  <p:cNvSpPr/>
                  <p:nvPr/>
                </p:nvSpPr>
                <p:spPr>
                  <a:xfrm>
                    <a:off x="4375080" y="115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 txBox="1"/>
                  <p:nvPr/>
                </p:nvSpPr>
                <p:spPr>
                  <a:xfrm rot="16200000">
                    <a:off x="4565160" y="96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4375080" y="1024920"/>
                  <a:ext cx="380880" cy="360"/>
                  <a:chOff x="4375080" y="1024920"/>
                  <a:chExt cx="380880" cy="360"/>
                </a:xfrm>
              </p:grpSpPr>
              <p:sp>
                <p:nvSpPr>
                  <p:cNvPr id="808" name="Line 126"/>
                  <p:cNvSpPr/>
                  <p:nvPr/>
                </p:nvSpPr>
                <p:spPr>
                  <a:xfrm>
                    <a:off x="4375080" y="1025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 txBox="1"/>
                  <p:nvPr/>
                </p:nvSpPr>
                <p:spPr>
                  <a:xfrm rot="16200000">
                    <a:off x="4565160" y="834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4375080" y="872640"/>
                  <a:ext cx="380880" cy="360"/>
                  <a:chOff x="4375080" y="872640"/>
                  <a:chExt cx="380880" cy="360"/>
                </a:xfrm>
              </p:grpSpPr>
              <p:sp>
                <p:nvSpPr>
                  <p:cNvPr id="811" name="Line 127"/>
                  <p:cNvSpPr/>
                  <p:nvPr/>
                </p:nvSpPr>
                <p:spPr>
                  <a:xfrm>
                    <a:off x="4375080" y="873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 txBox="1"/>
                  <p:nvPr/>
                </p:nvSpPr>
                <p:spPr>
                  <a:xfrm rot="16200000">
                    <a:off x="4565160" y="682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3" name="Text Box 128"/>
            <p:cNvSpPr/>
            <p:nvPr/>
          </p:nvSpPr>
          <p:spPr>
            <a:xfrm rot="16200000">
              <a:off x="4696200" y="379044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14" name="Group 129"/>
          <p:cNvGrpSpPr/>
          <p:nvPr/>
        </p:nvGrpSpPr>
        <p:grpSpPr>
          <a:xfrm>
            <a:off x="1739880" y="4595760"/>
            <a:ext cx="2514600" cy="916920"/>
            <a:chOff x="1739880" y="4595760"/>
            <a:chExt cx="2514600" cy="916920"/>
          </a:xfrm>
        </p:grpSpPr>
        <p:sp>
          <p:nvSpPr>
            <p:cNvPr id="815" name="Text Box 130"/>
            <p:cNvSpPr/>
            <p:nvPr/>
          </p:nvSpPr>
          <p:spPr>
            <a:xfrm>
              <a:off x="1739880" y="459576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730240" y="5129280"/>
              <a:ext cx="1524240" cy="360"/>
              <a:chOff x="2730240" y="5129280"/>
              <a:chExt cx="1524240" cy="360"/>
            </a:xfrm>
          </p:grpSpPr>
          <p:sp>
            <p:nvSpPr>
              <p:cNvPr id="817" name="Line 131"/>
              <p:cNvSpPr/>
              <p:nvPr/>
            </p:nvSpPr>
            <p:spPr>
              <a:xfrm flipH="1">
                <a:off x="2730240" y="5129280"/>
                <a:ext cx="152388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2730600" y="51292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Group 132"/>
          <p:cNvGrpSpPr/>
          <p:nvPr/>
        </p:nvGrpSpPr>
        <p:grpSpPr>
          <a:xfrm>
            <a:off x="6388200" y="2806560"/>
            <a:ext cx="3200400" cy="990360"/>
            <a:chOff x="6388200" y="2806560"/>
            <a:chExt cx="3200400" cy="990360"/>
          </a:xfrm>
        </p:grpSpPr>
        <p:grpSp>
          <p:nvGrpSpPr>
            <p:cNvPr id="820" name=""/>
            <p:cNvGrpSpPr/>
            <p:nvPr/>
          </p:nvGrpSpPr>
          <p:grpSpPr>
            <a:xfrm>
              <a:off x="6388200" y="3416040"/>
              <a:ext cx="1371600" cy="380880"/>
              <a:chOff x="6388200" y="3416040"/>
              <a:chExt cx="1371600" cy="380880"/>
            </a:xfrm>
          </p:grpSpPr>
          <p:sp>
            <p:nvSpPr>
              <p:cNvPr id="821" name="Line 133"/>
              <p:cNvSpPr/>
              <p:nvPr/>
            </p:nvSpPr>
            <p:spPr>
              <a:xfrm flipV="1">
                <a:off x="6388200" y="3416040"/>
                <a:ext cx="137160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 rot="10800000">
                <a:off x="6388200" y="3416040"/>
                <a:ext cx="13716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23" name="Text Box 134"/>
            <p:cNvSpPr/>
            <p:nvPr/>
          </p:nvSpPr>
          <p:spPr>
            <a:xfrm>
              <a:off x="7759800" y="2806560"/>
              <a:ext cx="182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25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4" name="Text Box 135"/>
          <p:cNvSpPr/>
          <p:nvPr/>
        </p:nvSpPr>
        <p:spPr>
          <a:xfrm>
            <a:off x="825480" y="44460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Rectangle 136"/>
          <p:cNvSpPr/>
          <p:nvPr/>
        </p:nvSpPr>
        <p:spPr>
          <a:xfrm>
            <a:off x="755640" y="725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如图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量出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村庄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货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距离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货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到铁道的距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355640" y="4437000"/>
            <a:ext cx="360" cy="1224000"/>
            <a:chOff x="4355640" y="4437000"/>
            <a:chExt cx="360" cy="1224000"/>
          </a:xfrm>
        </p:grpSpPr>
        <p:sp>
          <p:nvSpPr>
            <p:cNvPr id="827" name="Line 137"/>
            <p:cNvSpPr/>
            <p:nvPr/>
          </p:nvSpPr>
          <p:spPr>
            <a:xfrm flipV="1">
              <a:off x="4356000" y="4437000"/>
              <a:ext cx="0" cy="12240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 rot="10800000">
              <a:off x="4355640" y="4437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9" name="文本框 8200"/>
          <p:cNvSpPr/>
          <p:nvPr/>
        </p:nvSpPr>
        <p:spPr>
          <a:xfrm>
            <a:off x="627120" y="1996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3780000" y="4869000"/>
            <a:ext cx="6247800" cy="1195200"/>
            <a:chOff x="3780000" y="4869000"/>
            <a:chExt cx="6247800" cy="1195200"/>
          </a:xfrm>
        </p:grpSpPr>
        <p:sp>
          <p:nvSpPr>
            <p:cNvPr id="831" name="Rectangle 3"/>
            <p:cNvSpPr/>
            <p:nvPr/>
          </p:nvSpPr>
          <p:spPr>
            <a:xfrm>
              <a:off x="3780000" y="4888080"/>
              <a:ext cx="594324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4160880" y="4888080"/>
              <a:ext cx="360" cy="685800"/>
              <a:chOff x="4160880" y="4888080"/>
              <a:chExt cx="360" cy="685800"/>
            </a:xfrm>
          </p:grpSpPr>
          <p:sp>
            <p:nvSpPr>
              <p:cNvPr id="833" name="Line 4"/>
              <p:cNvSpPr/>
              <p:nvPr/>
            </p:nvSpPr>
            <p:spPr>
              <a:xfrm>
                <a:off x="4160880" y="488808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160880" y="488808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761080" y="4888080"/>
              <a:ext cx="360" cy="666720"/>
              <a:chOff x="5761080" y="4888080"/>
              <a:chExt cx="360" cy="666720"/>
            </a:xfrm>
          </p:grpSpPr>
          <p:sp>
            <p:nvSpPr>
              <p:cNvPr id="836" name="Line 5"/>
              <p:cNvSpPr/>
              <p:nvPr/>
            </p:nvSpPr>
            <p:spPr>
              <a:xfrm>
                <a:off x="5761080" y="4888080"/>
                <a:ext cx="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5761080" y="488808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7513560" y="4888080"/>
              <a:ext cx="360" cy="685800"/>
              <a:chOff x="7513560" y="4888080"/>
              <a:chExt cx="360" cy="685800"/>
            </a:xfrm>
          </p:grpSpPr>
          <p:sp>
            <p:nvSpPr>
              <p:cNvPr id="839" name="Line 6"/>
              <p:cNvSpPr/>
              <p:nvPr/>
            </p:nvSpPr>
            <p:spPr>
              <a:xfrm>
                <a:off x="7513560" y="488808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7513560" y="488808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960800" y="4888080"/>
              <a:ext cx="360" cy="457200"/>
              <a:chOff x="4960800" y="4888080"/>
              <a:chExt cx="360" cy="457200"/>
            </a:xfrm>
          </p:grpSpPr>
          <p:sp>
            <p:nvSpPr>
              <p:cNvPr id="842" name="Line 7"/>
              <p:cNvSpPr/>
              <p:nvPr/>
            </p:nvSpPr>
            <p:spPr>
              <a:xfrm>
                <a:off x="496080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496080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99160" y="4888080"/>
              <a:ext cx="360" cy="457200"/>
              <a:chOff x="6599160" y="4888080"/>
              <a:chExt cx="360" cy="457200"/>
            </a:xfrm>
          </p:grpSpPr>
          <p:sp>
            <p:nvSpPr>
              <p:cNvPr id="845" name="Line 8"/>
              <p:cNvSpPr/>
              <p:nvPr/>
            </p:nvSpPr>
            <p:spPr>
              <a:xfrm>
                <a:off x="659916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59916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8351640" y="4888080"/>
              <a:ext cx="360" cy="457200"/>
              <a:chOff x="8351640" y="4888080"/>
              <a:chExt cx="360" cy="457200"/>
            </a:xfrm>
          </p:grpSpPr>
          <p:sp>
            <p:nvSpPr>
              <p:cNvPr id="848" name="Line 9"/>
              <p:cNvSpPr/>
              <p:nvPr/>
            </p:nvSpPr>
            <p:spPr>
              <a:xfrm>
                <a:off x="835164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835164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9190080" y="4869000"/>
              <a:ext cx="360" cy="685800"/>
              <a:chOff x="9190080" y="4869000"/>
              <a:chExt cx="360" cy="685800"/>
            </a:xfrm>
          </p:grpSpPr>
          <p:sp>
            <p:nvSpPr>
              <p:cNvPr id="851" name="Line 10"/>
              <p:cNvSpPr/>
              <p:nvPr/>
            </p:nvSpPr>
            <p:spPr>
              <a:xfrm>
                <a:off x="9190080" y="486900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9190080" y="48690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53" name="Text Box 11"/>
            <p:cNvSpPr/>
            <p:nvPr/>
          </p:nvSpPr>
          <p:spPr>
            <a:xfrm>
              <a:off x="3780000" y="53895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Text Box 12"/>
            <p:cNvSpPr/>
            <p:nvPr/>
          </p:nvSpPr>
          <p:spPr>
            <a:xfrm>
              <a:off x="6904080" y="542160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Text Box 13"/>
            <p:cNvSpPr/>
            <p:nvPr/>
          </p:nvSpPr>
          <p:spPr>
            <a:xfrm>
              <a:off x="8580240" y="54216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56" name="Group 14"/>
            <p:cNvGrpSpPr/>
            <p:nvPr/>
          </p:nvGrpSpPr>
          <p:grpSpPr>
            <a:xfrm>
              <a:off x="4313160" y="4888080"/>
              <a:ext cx="457200" cy="380880"/>
              <a:chOff x="4313160" y="4888080"/>
              <a:chExt cx="457200" cy="38088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4313160" y="4888080"/>
                <a:ext cx="360" cy="380880"/>
                <a:chOff x="4313160" y="4888080"/>
                <a:chExt cx="360" cy="380880"/>
              </a:xfrm>
            </p:grpSpPr>
            <p:sp>
              <p:nvSpPr>
                <p:cNvPr id="858" name="Line 15"/>
                <p:cNvSpPr/>
                <p:nvPr/>
              </p:nvSpPr>
              <p:spPr>
                <a:xfrm>
                  <a:off x="431316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>
                  <a:off x="431316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4484160" y="4888080"/>
                <a:ext cx="360" cy="380880"/>
                <a:chOff x="4484160" y="4888080"/>
                <a:chExt cx="360" cy="380880"/>
              </a:xfrm>
            </p:grpSpPr>
            <p:sp>
              <p:nvSpPr>
                <p:cNvPr id="861" name="Line 16"/>
                <p:cNvSpPr/>
                <p:nvPr/>
              </p:nvSpPr>
              <p:spPr>
                <a:xfrm>
                  <a:off x="448416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>
                  <a:off x="448416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4617720" y="4888080"/>
                <a:ext cx="360" cy="380880"/>
                <a:chOff x="4617720" y="4888080"/>
                <a:chExt cx="360" cy="380880"/>
              </a:xfrm>
            </p:grpSpPr>
            <p:sp>
              <p:nvSpPr>
                <p:cNvPr id="864" name="Line 17"/>
                <p:cNvSpPr/>
                <p:nvPr/>
              </p:nvSpPr>
              <p:spPr>
                <a:xfrm>
                  <a:off x="461772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 txBox="1"/>
                <p:nvPr/>
              </p:nvSpPr>
              <p:spPr>
                <a:xfrm>
                  <a:off x="461772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4770000" y="4888080"/>
                <a:ext cx="360" cy="380880"/>
                <a:chOff x="4770000" y="4888080"/>
                <a:chExt cx="360" cy="380880"/>
              </a:xfrm>
            </p:grpSpPr>
            <p:sp>
              <p:nvSpPr>
                <p:cNvPr id="867" name="Line 18"/>
                <p:cNvSpPr/>
                <p:nvPr/>
              </p:nvSpPr>
              <p:spPr>
                <a:xfrm>
                  <a:off x="4770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4770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Group 19"/>
            <p:cNvGrpSpPr/>
            <p:nvPr/>
          </p:nvGrpSpPr>
          <p:grpSpPr>
            <a:xfrm>
              <a:off x="5113440" y="4907160"/>
              <a:ext cx="457200" cy="380880"/>
              <a:chOff x="5113440" y="4907160"/>
              <a:chExt cx="457200" cy="38088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5113440" y="4907160"/>
                <a:ext cx="360" cy="380880"/>
                <a:chOff x="5113440" y="4907160"/>
                <a:chExt cx="360" cy="380880"/>
              </a:xfrm>
            </p:grpSpPr>
            <p:sp>
              <p:nvSpPr>
                <p:cNvPr id="871" name="Line 20"/>
                <p:cNvSpPr/>
                <p:nvPr/>
              </p:nvSpPr>
              <p:spPr>
                <a:xfrm>
                  <a:off x="5113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 txBox="1"/>
                <p:nvPr/>
              </p:nvSpPr>
              <p:spPr>
                <a:xfrm>
                  <a:off x="5113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5284440" y="4907160"/>
                <a:ext cx="360" cy="380880"/>
                <a:chOff x="5284440" y="4907160"/>
                <a:chExt cx="360" cy="380880"/>
              </a:xfrm>
            </p:grpSpPr>
            <p:sp>
              <p:nvSpPr>
                <p:cNvPr id="874" name="Line 21"/>
                <p:cNvSpPr/>
                <p:nvPr/>
              </p:nvSpPr>
              <p:spPr>
                <a:xfrm>
                  <a:off x="5284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 txBox="1"/>
                <p:nvPr/>
              </p:nvSpPr>
              <p:spPr>
                <a:xfrm>
                  <a:off x="5284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5418000" y="4907160"/>
                <a:ext cx="360" cy="380880"/>
                <a:chOff x="5418000" y="4907160"/>
                <a:chExt cx="360" cy="380880"/>
              </a:xfrm>
            </p:grpSpPr>
            <p:sp>
              <p:nvSpPr>
                <p:cNvPr id="877" name="Line 22"/>
                <p:cNvSpPr/>
                <p:nvPr/>
              </p:nvSpPr>
              <p:spPr>
                <a:xfrm>
                  <a:off x="5418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 txBox="1"/>
                <p:nvPr/>
              </p:nvSpPr>
              <p:spPr>
                <a:xfrm>
                  <a:off x="5418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5570280" y="4907160"/>
                <a:ext cx="360" cy="380880"/>
                <a:chOff x="5570280" y="4907160"/>
                <a:chExt cx="360" cy="380880"/>
              </a:xfrm>
            </p:grpSpPr>
            <p:sp>
              <p:nvSpPr>
                <p:cNvPr id="880" name="Line 23"/>
                <p:cNvSpPr/>
                <p:nvPr/>
              </p:nvSpPr>
              <p:spPr>
                <a:xfrm>
                  <a:off x="55702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 txBox="1"/>
                <p:nvPr/>
              </p:nvSpPr>
              <p:spPr>
                <a:xfrm>
                  <a:off x="55702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24"/>
            <p:cNvGrpSpPr/>
            <p:nvPr/>
          </p:nvGrpSpPr>
          <p:grpSpPr>
            <a:xfrm>
              <a:off x="5932440" y="4888080"/>
              <a:ext cx="457200" cy="380880"/>
              <a:chOff x="5932440" y="4888080"/>
              <a:chExt cx="457200" cy="38088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5932440" y="4888080"/>
                <a:ext cx="360" cy="380880"/>
                <a:chOff x="5932440" y="4888080"/>
                <a:chExt cx="360" cy="380880"/>
              </a:xfrm>
            </p:grpSpPr>
            <p:sp>
              <p:nvSpPr>
                <p:cNvPr id="884" name="Line 25"/>
                <p:cNvSpPr/>
                <p:nvPr/>
              </p:nvSpPr>
              <p:spPr>
                <a:xfrm>
                  <a:off x="5932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 txBox="1"/>
                <p:nvPr/>
              </p:nvSpPr>
              <p:spPr>
                <a:xfrm>
                  <a:off x="5932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6103440" y="4888080"/>
                <a:ext cx="360" cy="380880"/>
                <a:chOff x="6103440" y="4888080"/>
                <a:chExt cx="360" cy="380880"/>
              </a:xfrm>
            </p:grpSpPr>
            <p:sp>
              <p:nvSpPr>
                <p:cNvPr id="887" name="Line 26"/>
                <p:cNvSpPr/>
                <p:nvPr/>
              </p:nvSpPr>
              <p:spPr>
                <a:xfrm>
                  <a:off x="6103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>
                  <a:off x="6103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237000" y="4888080"/>
                <a:ext cx="360" cy="380880"/>
                <a:chOff x="6237000" y="4888080"/>
                <a:chExt cx="360" cy="380880"/>
              </a:xfrm>
            </p:grpSpPr>
            <p:sp>
              <p:nvSpPr>
                <p:cNvPr id="890" name="Line 27"/>
                <p:cNvSpPr/>
                <p:nvPr/>
              </p:nvSpPr>
              <p:spPr>
                <a:xfrm>
                  <a:off x="6237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>
                  <a:off x="6237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389280" y="4888080"/>
                <a:ext cx="360" cy="380880"/>
                <a:chOff x="6389280" y="4888080"/>
                <a:chExt cx="360" cy="380880"/>
              </a:xfrm>
            </p:grpSpPr>
            <p:sp>
              <p:nvSpPr>
                <p:cNvPr id="893" name="Line 28"/>
                <p:cNvSpPr/>
                <p:nvPr/>
              </p:nvSpPr>
              <p:spPr>
                <a:xfrm>
                  <a:off x="638928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 txBox="1"/>
                <p:nvPr/>
              </p:nvSpPr>
              <p:spPr>
                <a:xfrm>
                  <a:off x="638928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29"/>
            <p:cNvGrpSpPr/>
            <p:nvPr/>
          </p:nvGrpSpPr>
          <p:grpSpPr>
            <a:xfrm>
              <a:off x="8408880" y="4907160"/>
              <a:ext cx="457200" cy="380880"/>
              <a:chOff x="8408880" y="4907160"/>
              <a:chExt cx="457200" cy="38088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8408880" y="4907160"/>
                <a:ext cx="360" cy="380880"/>
                <a:chOff x="8408880" y="4907160"/>
                <a:chExt cx="360" cy="380880"/>
              </a:xfrm>
            </p:grpSpPr>
            <p:sp>
              <p:nvSpPr>
                <p:cNvPr id="897" name="Line 30"/>
                <p:cNvSpPr/>
                <p:nvPr/>
              </p:nvSpPr>
              <p:spPr>
                <a:xfrm>
                  <a:off x="84088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>
                  <a:off x="84088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8579880" y="4907160"/>
                <a:ext cx="360" cy="380880"/>
                <a:chOff x="8579880" y="4907160"/>
                <a:chExt cx="360" cy="380880"/>
              </a:xfrm>
            </p:grpSpPr>
            <p:sp>
              <p:nvSpPr>
                <p:cNvPr id="900" name="Line 31"/>
                <p:cNvSpPr/>
                <p:nvPr/>
              </p:nvSpPr>
              <p:spPr>
                <a:xfrm>
                  <a:off x="85798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 txBox="1"/>
                <p:nvPr/>
              </p:nvSpPr>
              <p:spPr>
                <a:xfrm>
                  <a:off x="85798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8713440" y="4907160"/>
                <a:ext cx="360" cy="380880"/>
                <a:chOff x="8713440" y="4907160"/>
                <a:chExt cx="360" cy="380880"/>
              </a:xfrm>
            </p:grpSpPr>
            <p:sp>
              <p:nvSpPr>
                <p:cNvPr id="903" name="Line 32"/>
                <p:cNvSpPr/>
                <p:nvPr/>
              </p:nvSpPr>
              <p:spPr>
                <a:xfrm>
                  <a:off x="8713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 txBox="1"/>
                <p:nvPr/>
              </p:nvSpPr>
              <p:spPr>
                <a:xfrm>
                  <a:off x="8713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8865720" y="4907160"/>
                <a:ext cx="360" cy="380880"/>
                <a:chOff x="8865720" y="4907160"/>
                <a:chExt cx="360" cy="380880"/>
              </a:xfrm>
            </p:grpSpPr>
            <p:sp>
              <p:nvSpPr>
                <p:cNvPr id="906" name="Line 33"/>
                <p:cNvSpPr/>
                <p:nvPr/>
              </p:nvSpPr>
              <p:spPr>
                <a:xfrm>
                  <a:off x="886572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 txBox="1"/>
                <p:nvPr/>
              </p:nvSpPr>
              <p:spPr>
                <a:xfrm>
                  <a:off x="886572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8" name="Group 34"/>
            <p:cNvGrpSpPr/>
            <p:nvPr/>
          </p:nvGrpSpPr>
          <p:grpSpPr>
            <a:xfrm>
              <a:off x="7704000" y="4907160"/>
              <a:ext cx="457200" cy="380880"/>
              <a:chOff x="7704000" y="4907160"/>
              <a:chExt cx="457200" cy="38088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7704000" y="4907160"/>
                <a:ext cx="360" cy="380880"/>
                <a:chOff x="7704000" y="4907160"/>
                <a:chExt cx="360" cy="380880"/>
              </a:xfrm>
            </p:grpSpPr>
            <p:sp>
              <p:nvSpPr>
                <p:cNvPr id="910" name="Line 35"/>
                <p:cNvSpPr/>
                <p:nvPr/>
              </p:nvSpPr>
              <p:spPr>
                <a:xfrm>
                  <a:off x="7704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 txBox="1"/>
                <p:nvPr/>
              </p:nvSpPr>
              <p:spPr>
                <a:xfrm>
                  <a:off x="7704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7875000" y="4907160"/>
                <a:ext cx="360" cy="380880"/>
                <a:chOff x="7875000" y="4907160"/>
                <a:chExt cx="360" cy="380880"/>
              </a:xfrm>
            </p:grpSpPr>
            <p:sp>
              <p:nvSpPr>
                <p:cNvPr id="913" name="Line 36"/>
                <p:cNvSpPr/>
                <p:nvPr/>
              </p:nvSpPr>
              <p:spPr>
                <a:xfrm>
                  <a:off x="7875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 txBox="1"/>
                <p:nvPr/>
              </p:nvSpPr>
              <p:spPr>
                <a:xfrm>
                  <a:off x="7875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8008560" y="4907160"/>
                <a:ext cx="360" cy="380880"/>
                <a:chOff x="8008560" y="4907160"/>
                <a:chExt cx="360" cy="380880"/>
              </a:xfrm>
            </p:grpSpPr>
            <p:sp>
              <p:nvSpPr>
                <p:cNvPr id="916" name="Line 37"/>
                <p:cNvSpPr/>
                <p:nvPr/>
              </p:nvSpPr>
              <p:spPr>
                <a:xfrm>
                  <a:off x="80085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 txBox="1"/>
                <p:nvPr/>
              </p:nvSpPr>
              <p:spPr>
                <a:xfrm>
                  <a:off x="80085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8160840" y="4907160"/>
                <a:ext cx="360" cy="380880"/>
                <a:chOff x="8160840" y="4907160"/>
                <a:chExt cx="360" cy="380880"/>
              </a:xfrm>
            </p:grpSpPr>
            <p:sp>
              <p:nvSpPr>
                <p:cNvPr id="919" name="Line 38"/>
                <p:cNvSpPr/>
                <p:nvPr/>
              </p:nvSpPr>
              <p:spPr>
                <a:xfrm>
                  <a:off x="81608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 txBox="1"/>
                <p:nvPr/>
              </p:nvSpPr>
              <p:spPr>
                <a:xfrm>
                  <a:off x="81608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1" name="Group 39"/>
            <p:cNvGrpSpPr/>
            <p:nvPr/>
          </p:nvGrpSpPr>
          <p:grpSpPr>
            <a:xfrm>
              <a:off x="6827760" y="4907160"/>
              <a:ext cx="457200" cy="380880"/>
              <a:chOff x="6827760" y="4907160"/>
              <a:chExt cx="457200" cy="38088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6827760" y="4907160"/>
                <a:ext cx="360" cy="380880"/>
                <a:chOff x="6827760" y="4907160"/>
                <a:chExt cx="360" cy="380880"/>
              </a:xfrm>
            </p:grpSpPr>
            <p:sp>
              <p:nvSpPr>
                <p:cNvPr id="923" name="Line 40"/>
                <p:cNvSpPr/>
                <p:nvPr/>
              </p:nvSpPr>
              <p:spPr>
                <a:xfrm>
                  <a:off x="68277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 txBox="1"/>
                <p:nvPr/>
              </p:nvSpPr>
              <p:spPr>
                <a:xfrm>
                  <a:off x="68277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6998760" y="4907160"/>
                <a:ext cx="360" cy="380880"/>
                <a:chOff x="6998760" y="4907160"/>
                <a:chExt cx="360" cy="380880"/>
              </a:xfrm>
            </p:grpSpPr>
            <p:sp>
              <p:nvSpPr>
                <p:cNvPr id="926" name="Line 41"/>
                <p:cNvSpPr/>
                <p:nvPr/>
              </p:nvSpPr>
              <p:spPr>
                <a:xfrm>
                  <a:off x="69987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 txBox="1"/>
                <p:nvPr/>
              </p:nvSpPr>
              <p:spPr>
                <a:xfrm>
                  <a:off x="69987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7132320" y="4907160"/>
                <a:ext cx="360" cy="380880"/>
                <a:chOff x="7132320" y="4907160"/>
                <a:chExt cx="360" cy="380880"/>
              </a:xfrm>
            </p:grpSpPr>
            <p:sp>
              <p:nvSpPr>
                <p:cNvPr id="929" name="Line 42"/>
                <p:cNvSpPr/>
                <p:nvPr/>
              </p:nvSpPr>
              <p:spPr>
                <a:xfrm>
                  <a:off x="713232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713232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284600" y="4907160"/>
                <a:ext cx="360" cy="380880"/>
                <a:chOff x="7284600" y="4907160"/>
                <a:chExt cx="360" cy="380880"/>
              </a:xfrm>
            </p:grpSpPr>
            <p:sp>
              <p:nvSpPr>
                <p:cNvPr id="932" name="Line 43"/>
                <p:cNvSpPr/>
                <p:nvPr/>
              </p:nvSpPr>
              <p:spPr>
                <a:xfrm>
                  <a:off x="72846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 txBox="1"/>
                <p:nvPr/>
              </p:nvSpPr>
              <p:spPr>
                <a:xfrm>
                  <a:off x="72846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Rectangle 44"/>
            <p:cNvSpPr/>
            <p:nvPr/>
          </p:nvSpPr>
          <p:spPr>
            <a:xfrm>
              <a:off x="8408880" y="4907160"/>
              <a:ext cx="60912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35" name="Group 45"/>
            <p:cNvGrpSpPr/>
            <p:nvPr/>
          </p:nvGrpSpPr>
          <p:grpSpPr>
            <a:xfrm>
              <a:off x="8542440" y="4888080"/>
              <a:ext cx="457200" cy="380880"/>
              <a:chOff x="8542440" y="4888080"/>
              <a:chExt cx="457200" cy="38088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8542440" y="4888080"/>
                <a:ext cx="360" cy="380880"/>
                <a:chOff x="8542440" y="4888080"/>
                <a:chExt cx="360" cy="380880"/>
              </a:xfrm>
            </p:grpSpPr>
            <p:sp>
              <p:nvSpPr>
                <p:cNvPr id="937" name="Line 46"/>
                <p:cNvSpPr/>
                <p:nvPr/>
              </p:nvSpPr>
              <p:spPr>
                <a:xfrm>
                  <a:off x="8542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 txBox="1"/>
                <p:nvPr/>
              </p:nvSpPr>
              <p:spPr>
                <a:xfrm>
                  <a:off x="8542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8713440" y="4888080"/>
                <a:ext cx="360" cy="380880"/>
                <a:chOff x="8713440" y="4888080"/>
                <a:chExt cx="360" cy="380880"/>
              </a:xfrm>
            </p:grpSpPr>
            <p:sp>
              <p:nvSpPr>
                <p:cNvPr id="940" name="Line 47"/>
                <p:cNvSpPr/>
                <p:nvPr/>
              </p:nvSpPr>
              <p:spPr>
                <a:xfrm>
                  <a:off x="8713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 txBox="1"/>
                <p:nvPr/>
              </p:nvSpPr>
              <p:spPr>
                <a:xfrm>
                  <a:off x="8713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8847000" y="4888080"/>
                <a:ext cx="360" cy="380880"/>
                <a:chOff x="8847000" y="4888080"/>
                <a:chExt cx="360" cy="380880"/>
              </a:xfrm>
            </p:grpSpPr>
            <p:sp>
              <p:nvSpPr>
                <p:cNvPr id="943" name="Line 48"/>
                <p:cNvSpPr/>
                <p:nvPr/>
              </p:nvSpPr>
              <p:spPr>
                <a:xfrm>
                  <a:off x="8847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 txBox="1"/>
                <p:nvPr/>
              </p:nvSpPr>
              <p:spPr>
                <a:xfrm>
                  <a:off x="8847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8999280" y="4888080"/>
                <a:ext cx="360" cy="380880"/>
                <a:chOff x="8999280" y="4888080"/>
                <a:chExt cx="360" cy="380880"/>
              </a:xfrm>
            </p:grpSpPr>
            <p:sp>
              <p:nvSpPr>
                <p:cNvPr id="946" name="Line 49"/>
                <p:cNvSpPr/>
                <p:nvPr/>
              </p:nvSpPr>
              <p:spPr>
                <a:xfrm>
                  <a:off x="899928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 txBox="1"/>
                <p:nvPr/>
              </p:nvSpPr>
              <p:spPr>
                <a:xfrm>
                  <a:off x="899928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8" name="Text Box 50"/>
            <p:cNvSpPr/>
            <p:nvPr/>
          </p:nvSpPr>
          <p:spPr>
            <a:xfrm>
              <a:off x="5151240" y="542160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49" name="Text Box 51"/>
          <p:cNvSpPr/>
          <p:nvPr/>
        </p:nvSpPr>
        <p:spPr>
          <a:xfrm>
            <a:off x="539640" y="620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如图，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)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画出线段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BC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中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连结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；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)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比较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到直线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距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50" name="Group 52"/>
          <p:cNvGrpSpPr/>
          <p:nvPr/>
        </p:nvGrpSpPr>
        <p:grpSpPr>
          <a:xfrm>
            <a:off x="4177800" y="2809800"/>
            <a:ext cx="2743560" cy="2057760"/>
            <a:chOff x="4177800" y="2809800"/>
            <a:chExt cx="2743560" cy="2057760"/>
          </a:xfrm>
        </p:grpSpPr>
        <p:grpSp>
          <p:nvGrpSpPr>
            <p:cNvPr id="951" name=""/>
            <p:cNvGrpSpPr/>
            <p:nvPr/>
          </p:nvGrpSpPr>
          <p:grpSpPr>
            <a:xfrm>
              <a:off x="4178160" y="4867200"/>
              <a:ext cx="2743200" cy="360"/>
              <a:chOff x="4178160" y="4867200"/>
              <a:chExt cx="2743200" cy="360"/>
            </a:xfrm>
          </p:grpSpPr>
          <p:sp>
            <p:nvSpPr>
              <p:cNvPr id="952" name="Line 53"/>
              <p:cNvSpPr/>
              <p:nvPr/>
            </p:nvSpPr>
            <p:spPr>
              <a:xfrm>
                <a:off x="4178160" y="4867200"/>
                <a:ext cx="274320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4178160" y="4867200"/>
                <a:ext cx="274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177800" y="2885760"/>
              <a:ext cx="1676880" cy="1981440"/>
              <a:chOff x="4177800" y="2885760"/>
              <a:chExt cx="1676880" cy="1981440"/>
            </a:xfrm>
          </p:grpSpPr>
          <p:sp>
            <p:nvSpPr>
              <p:cNvPr id="955" name="Line 54"/>
              <p:cNvSpPr/>
              <p:nvPr/>
            </p:nvSpPr>
            <p:spPr>
              <a:xfrm flipH="1">
                <a:off x="4177800" y="2885760"/>
                <a:ext cx="1676520" cy="198144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4178160" y="2885760"/>
                <a:ext cx="1676520" cy="198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5854680" y="2809800"/>
              <a:ext cx="1066680" cy="2057400"/>
              <a:chOff x="5854680" y="2809800"/>
              <a:chExt cx="1066680" cy="2057400"/>
            </a:xfrm>
          </p:grpSpPr>
          <p:sp>
            <p:nvSpPr>
              <p:cNvPr id="958" name="Line 55"/>
              <p:cNvSpPr/>
              <p:nvPr/>
            </p:nvSpPr>
            <p:spPr>
              <a:xfrm>
                <a:off x="5854680" y="2809800"/>
                <a:ext cx="1066680" cy="205740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5854680" y="2809800"/>
                <a:ext cx="106668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Text Box 56"/>
          <p:cNvSpPr/>
          <p:nvPr/>
        </p:nvSpPr>
        <p:spPr>
          <a:xfrm>
            <a:off x="5092560" y="22766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1" name="Text Box 57"/>
          <p:cNvSpPr/>
          <p:nvPr/>
        </p:nvSpPr>
        <p:spPr>
          <a:xfrm>
            <a:off x="3416400" y="47149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2" name="Text Box 58"/>
          <p:cNvSpPr/>
          <p:nvPr/>
        </p:nvSpPr>
        <p:spPr>
          <a:xfrm>
            <a:off x="7074000" y="4486320"/>
            <a:ext cx="81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3" name="Group 59"/>
          <p:cNvGrpSpPr/>
          <p:nvPr/>
        </p:nvGrpSpPr>
        <p:grpSpPr>
          <a:xfrm>
            <a:off x="5435640" y="4714920"/>
            <a:ext cx="2019240" cy="993240"/>
            <a:chOff x="5435640" y="4714920"/>
            <a:chExt cx="2019240" cy="993240"/>
          </a:xfrm>
        </p:grpSpPr>
        <p:sp>
          <p:nvSpPr>
            <p:cNvPr id="964" name="Oval 60"/>
            <p:cNvSpPr/>
            <p:nvPr/>
          </p:nvSpPr>
          <p:spPr>
            <a:xfrm>
              <a:off x="5435640" y="4714920"/>
              <a:ext cx="228600" cy="2286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Text Box 61"/>
            <p:cNvSpPr/>
            <p:nvPr/>
          </p:nvSpPr>
          <p:spPr>
            <a:xfrm>
              <a:off x="5473800" y="4791240"/>
              <a:ext cx="19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49400" y="2809800"/>
            <a:ext cx="305280" cy="2057400"/>
            <a:chOff x="5549400" y="2809800"/>
            <a:chExt cx="305280" cy="2057400"/>
          </a:xfrm>
        </p:grpSpPr>
        <p:sp>
          <p:nvSpPr>
            <p:cNvPr id="967" name="Line 62"/>
            <p:cNvSpPr/>
            <p:nvPr/>
          </p:nvSpPr>
          <p:spPr>
            <a:xfrm flipH="1">
              <a:off x="5549400" y="2809800"/>
              <a:ext cx="304920" cy="20574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5549760" y="2809800"/>
              <a:ext cx="3049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320800" y="4791240"/>
            <a:ext cx="228960" cy="1523880"/>
            <a:chOff x="5320800" y="4791240"/>
            <a:chExt cx="228960" cy="1523880"/>
          </a:xfrm>
        </p:grpSpPr>
        <p:sp>
          <p:nvSpPr>
            <p:cNvPr id="970" name="Line 63"/>
            <p:cNvSpPr/>
            <p:nvPr/>
          </p:nvSpPr>
          <p:spPr>
            <a:xfrm flipH="1">
              <a:off x="5320800" y="4791240"/>
              <a:ext cx="228600" cy="1523880"/>
            </a:xfrm>
            <a:prstGeom prst="line">
              <a:avLst/>
            </a:prstGeom>
            <a:ln w="7632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5321160" y="4791240"/>
              <a:ext cx="22860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178160" y="4867200"/>
            <a:ext cx="1295640" cy="228600"/>
            <a:chOff x="4178160" y="4867200"/>
            <a:chExt cx="1295640" cy="228600"/>
          </a:xfrm>
        </p:grpSpPr>
        <p:sp>
          <p:nvSpPr>
            <p:cNvPr id="973" name="Line 64"/>
            <p:cNvSpPr/>
            <p:nvPr/>
          </p:nvSpPr>
          <p:spPr>
            <a:xfrm>
              <a:off x="4178160" y="4867200"/>
              <a:ext cx="1295640" cy="2286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4178160" y="48672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65"/>
          <p:cNvGrpSpPr/>
          <p:nvPr/>
        </p:nvGrpSpPr>
        <p:grpSpPr>
          <a:xfrm>
            <a:off x="5203440" y="5053680"/>
            <a:ext cx="299160" cy="335160"/>
            <a:chOff x="5203440" y="5053680"/>
            <a:chExt cx="299160" cy="335160"/>
          </a:xfrm>
        </p:grpSpPr>
        <p:grpSp>
          <p:nvGrpSpPr>
            <p:cNvPr id="976" name=""/>
            <p:cNvGrpSpPr/>
            <p:nvPr/>
          </p:nvGrpSpPr>
          <p:grpSpPr>
            <a:xfrm>
              <a:off x="5203440" y="5330520"/>
              <a:ext cx="299160" cy="58320"/>
              <a:chOff x="5203440" y="5330520"/>
              <a:chExt cx="299160" cy="58320"/>
            </a:xfrm>
          </p:grpSpPr>
          <p:sp>
            <p:nvSpPr>
              <p:cNvPr id="977" name="Line 66"/>
              <p:cNvSpPr/>
              <p:nvPr/>
            </p:nvSpPr>
            <p:spPr>
              <a:xfrm flipH="1" flipV="1">
                <a:off x="5203440" y="5330880"/>
                <a:ext cx="299160" cy="579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 rot="11456400">
                <a:off x="5200560" y="535932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218200" y="5053680"/>
              <a:ext cx="58320" cy="299520"/>
              <a:chOff x="5218200" y="5053680"/>
              <a:chExt cx="58320" cy="299520"/>
            </a:xfrm>
          </p:grpSpPr>
          <p:sp>
            <p:nvSpPr>
              <p:cNvPr id="980" name="Line 67"/>
              <p:cNvSpPr/>
              <p:nvPr/>
            </p:nvSpPr>
            <p:spPr>
              <a:xfrm flipV="1">
                <a:off x="5218560" y="5053680"/>
                <a:ext cx="57960" cy="2995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 rot="11456400">
                <a:off x="5247000" y="5050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Group 68"/>
          <p:cNvGrpSpPr/>
          <p:nvPr/>
        </p:nvGrpSpPr>
        <p:grpSpPr>
          <a:xfrm>
            <a:off x="5658120" y="4304160"/>
            <a:ext cx="297720" cy="340560"/>
            <a:chOff x="5658120" y="4304160"/>
            <a:chExt cx="297720" cy="340560"/>
          </a:xfrm>
        </p:grpSpPr>
        <p:grpSp>
          <p:nvGrpSpPr>
            <p:cNvPr id="983" name=""/>
            <p:cNvGrpSpPr/>
            <p:nvPr/>
          </p:nvGrpSpPr>
          <p:grpSpPr>
            <a:xfrm>
              <a:off x="5658120" y="4304160"/>
              <a:ext cx="297720" cy="65520"/>
              <a:chOff x="5658120" y="4304160"/>
              <a:chExt cx="297720" cy="65520"/>
            </a:xfrm>
          </p:grpSpPr>
          <p:sp>
            <p:nvSpPr>
              <p:cNvPr id="984" name="Line 69"/>
              <p:cNvSpPr/>
              <p:nvPr/>
            </p:nvSpPr>
            <p:spPr>
              <a:xfrm>
                <a:off x="5658120" y="4304160"/>
                <a:ext cx="297720" cy="65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 rot="741000">
                <a:off x="5654520" y="43365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5875920" y="4347000"/>
              <a:ext cx="65520" cy="297720"/>
              <a:chOff x="5875920" y="4347000"/>
              <a:chExt cx="65520" cy="297720"/>
            </a:xfrm>
          </p:grpSpPr>
          <p:sp>
            <p:nvSpPr>
              <p:cNvPr id="987" name="Line 70"/>
              <p:cNvSpPr/>
              <p:nvPr/>
            </p:nvSpPr>
            <p:spPr>
              <a:xfrm flipH="1">
                <a:off x="5875920" y="4347000"/>
                <a:ext cx="65160" cy="297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741000">
                <a:off x="5908320" y="43434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5622480" y="4535640"/>
            <a:ext cx="1295640" cy="304560"/>
            <a:chOff x="5622480" y="4535640"/>
            <a:chExt cx="1295640" cy="304560"/>
          </a:xfrm>
        </p:grpSpPr>
        <p:sp>
          <p:nvSpPr>
            <p:cNvPr id="990" name="Line 71"/>
            <p:cNvSpPr/>
            <p:nvPr/>
          </p:nvSpPr>
          <p:spPr>
            <a:xfrm flipH="1" flipV="1">
              <a:off x="5622480" y="4535640"/>
              <a:ext cx="1295640" cy="30456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5622480" y="4535640"/>
              <a:ext cx="1295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2" name="Text Box 72"/>
          <p:cNvSpPr/>
          <p:nvPr/>
        </p:nvSpPr>
        <p:spPr>
          <a:xfrm>
            <a:off x="4711680" y="5095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 Box 73"/>
          <p:cNvSpPr/>
          <p:nvPr/>
        </p:nvSpPr>
        <p:spPr>
          <a:xfrm>
            <a:off x="4940280" y="38005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4" name="Group 74"/>
          <p:cNvGrpSpPr/>
          <p:nvPr/>
        </p:nvGrpSpPr>
        <p:grpSpPr>
          <a:xfrm>
            <a:off x="3575160" y="4825800"/>
            <a:ext cx="6255000" cy="2287440"/>
            <a:chOff x="3575160" y="4825800"/>
            <a:chExt cx="6255000" cy="2287440"/>
          </a:xfrm>
        </p:grpSpPr>
        <p:sp>
          <p:nvSpPr>
            <p:cNvPr id="995" name="Rectangle 75"/>
            <p:cNvSpPr/>
            <p:nvPr/>
          </p:nvSpPr>
          <p:spPr>
            <a:xfrm rot="625800">
              <a:off x="3629520" y="5354280"/>
              <a:ext cx="594324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4032360" y="4894560"/>
              <a:ext cx="124560" cy="674640"/>
              <a:chOff x="4032360" y="4894560"/>
              <a:chExt cx="124560" cy="674640"/>
            </a:xfrm>
          </p:grpSpPr>
          <p:sp>
            <p:nvSpPr>
              <p:cNvPr id="997" name="Line 76"/>
              <p:cNvSpPr/>
              <p:nvPr/>
            </p:nvSpPr>
            <p:spPr>
              <a:xfrm flipH="1">
                <a:off x="4032720" y="4894560"/>
                <a:ext cx="123840" cy="674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 rot="625800">
                <a:off x="4094280" y="48888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5609880" y="5184360"/>
              <a:ext cx="120960" cy="655920"/>
              <a:chOff x="5609880" y="5184360"/>
              <a:chExt cx="120960" cy="655920"/>
            </a:xfrm>
          </p:grpSpPr>
          <p:sp>
            <p:nvSpPr>
              <p:cNvPr id="1000" name="Line 77"/>
              <p:cNvSpPr/>
              <p:nvPr/>
            </p:nvSpPr>
            <p:spPr>
              <a:xfrm flipH="1">
                <a:off x="5609880" y="5184360"/>
                <a:ext cx="120600" cy="65556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 rot="625800">
                <a:off x="5670000" y="517860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7329960" y="5501520"/>
              <a:ext cx="124560" cy="674640"/>
              <a:chOff x="7329960" y="5501520"/>
              <a:chExt cx="124560" cy="674640"/>
            </a:xfrm>
          </p:grpSpPr>
          <p:sp>
            <p:nvSpPr>
              <p:cNvPr id="1003" name="Line 78"/>
              <p:cNvSpPr/>
              <p:nvPr/>
            </p:nvSpPr>
            <p:spPr>
              <a:xfrm flipH="1">
                <a:off x="7329960" y="5501520"/>
                <a:ext cx="124200" cy="674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 rot="625800">
                <a:off x="7391880" y="549576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860720" y="5039280"/>
              <a:ext cx="83160" cy="449640"/>
              <a:chOff x="4860720" y="5039280"/>
              <a:chExt cx="83160" cy="449640"/>
            </a:xfrm>
          </p:grpSpPr>
          <p:sp>
            <p:nvSpPr>
              <p:cNvPr id="1006" name="Line 79"/>
              <p:cNvSpPr/>
              <p:nvPr/>
            </p:nvSpPr>
            <p:spPr>
              <a:xfrm flipH="1">
                <a:off x="4860720" y="503928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 rot="625800">
                <a:off x="4902120" y="5035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6472080" y="5335920"/>
              <a:ext cx="83160" cy="449640"/>
              <a:chOff x="6472080" y="5335920"/>
              <a:chExt cx="83160" cy="449640"/>
            </a:xfrm>
          </p:grpSpPr>
          <p:sp>
            <p:nvSpPr>
              <p:cNvPr id="1009" name="Line 80"/>
              <p:cNvSpPr/>
              <p:nvPr/>
            </p:nvSpPr>
            <p:spPr>
              <a:xfrm flipH="1">
                <a:off x="6472080" y="533592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 rot="625800">
                <a:off x="6513480" y="5331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8195400" y="5653080"/>
              <a:ext cx="83160" cy="449640"/>
              <a:chOff x="8195400" y="5653080"/>
              <a:chExt cx="83160" cy="449640"/>
            </a:xfrm>
          </p:grpSpPr>
          <p:sp>
            <p:nvSpPr>
              <p:cNvPr id="1012" name="Line 81"/>
              <p:cNvSpPr/>
              <p:nvPr/>
            </p:nvSpPr>
            <p:spPr>
              <a:xfrm flipH="1">
                <a:off x="8195400" y="565308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 rot="625800">
                <a:off x="8236800" y="56491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8982000" y="5786280"/>
              <a:ext cx="124560" cy="674640"/>
              <a:chOff x="8982000" y="5786280"/>
              <a:chExt cx="124560" cy="674640"/>
            </a:xfrm>
          </p:grpSpPr>
          <p:sp>
            <p:nvSpPr>
              <p:cNvPr id="1015" name="Line 82"/>
              <p:cNvSpPr/>
              <p:nvPr/>
            </p:nvSpPr>
            <p:spPr>
              <a:xfrm flipH="1">
                <a:off x="8982000" y="5786280"/>
                <a:ext cx="124200" cy="67428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 rot="625800">
                <a:off x="9043920" y="57805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017" name="Text Box 83"/>
            <p:cNvSpPr/>
            <p:nvPr/>
          </p:nvSpPr>
          <p:spPr>
            <a:xfrm rot="625800">
              <a:off x="3624120" y="540972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Text Box 84"/>
            <p:cNvSpPr/>
            <p:nvPr/>
          </p:nvSpPr>
          <p:spPr>
            <a:xfrm rot="625800">
              <a:off x="6688080" y="6034680"/>
              <a:ext cx="13712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Text Box 85"/>
            <p:cNvSpPr/>
            <p:nvPr/>
          </p:nvSpPr>
          <p:spPr>
            <a:xfrm rot="625800">
              <a:off x="8336160" y="6345000"/>
              <a:ext cx="1447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20" name="Group 86"/>
            <p:cNvGrpSpPr/>
            <p:nvPr/>
          </p:nvGrpSpPr>
          <p:grpSpPr>
            <a:xfrm>
              <a:off x="4237200" y="4922280"/>
              <a:ext cx="519120" cy="457200"/>
              <a:chOff x="4237200" y="4922280"/>
              <a:chExt cx="519120" cy="45720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4237200" y="4922280"/>
                <a:ext cx="69480" cy="374760"/>
                <a:chOff x="4237200" y="4922280"/>
                <a:chExt cx="69480" cy="374760"/>
              </a:xfrm>
            </p:grpSpPr>
            <p:sp>
              <p:nvSpPr>
                <p:cNvPr id="1022" name="Line 87"/>
                <p:cNvSpPr/>
                <p:nvPr/>
              </p:nvSpPr>
              <p:spPr>
                <a:xfrm flipH="1">
                  <a:off x="4237560" y="49222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 rot="625800">
                  <a:off x="4271760" y="49190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405680" y="4953240"/>
                <a:ext cx="69480" cy="374760"/>
                <a:chOff x="4405680" y="4953240"/>
                <a:chExt cx="69480" cy="374760"/>
              </a:xfrm>
            </p:grpSpPr>
            <p:sp>
              <p:nvSpPr>
                <p:cNvPr id="1025" name="Line 88"/>
                <p:cNvSpPr/>
                <p:nvPr/>
              </p:nvSpPr>
              <p:spPr>
                <a:xfrm flipH="1">
                  <a:off x="4405680" y="4953240"/>
                  <a:ext cx="6912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625800">
                  <a:off x="4440240" y="4950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536720" y="4977360"/>
                <a:ext cx="69480" cy="374760"/>
                <a:chOff x="4536720" y="4977360"/>
                <a:chExt cx="69480" cy="374760"/>
              </a:xfrm>
            </p:grpSpPr>
            <p:sp>
              <p:nvSpPr>
                <p:cNvPr id="1028" name="Line 89"/>
                <p:cNvSpPr/>
                <p:nvPr/>
              </p:nvSpPr>
              <p:spPr>
                <a:xfrm flipH="1">
                  <a:off x="4537080" y="497736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625800">
                  <a:off x="4571280" y="4974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686840" y="5004720"/>
                <a:ext cx="69480" cy="374760"/>
                <a:chOff x="4686840" y="5004720"/>
                <a:chExt cx="69480" cy="374760"/>
              </a:xfrm>
            </p:grpSpPr>
            <p:sp>
              <p:nvSpPr>
                <p:cNvPr id="1031" name="Line 90"/>
                <p:cNvSpPr/>
                <p:nvPr/>
              </p:nvSpPr>
              <p:spPr>
                <a:xfrm flipH="1">
                  <a:off x="4686840" y="500472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625800">
                  <a:off x="4721400" y="5001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3" name="Group 91"/>
            <p:cNvGrpSpPr/>
            <p:nvPr/>
          </p:nvGrpSpPr>
          <p:grpSpPr>
            <a:xfrm>
              <a:off x="5020920" y="5085720"/>
              <a:ext cx="518760" cy="457560"/>
              <a:chOff x="5020920" y="5085720"/>
              <a:chExt cx="518760" cy="457560"/>
            </a:xfrm>
          </p:grpSpPr>
          <p:grpSp>
            <p:nvGrpSpPr>
              <p:cNvPr id="1034" name=""/>
              <p:cNvGrpSpPr/>
              <p:nvPr/>
            </p:nvGrpSpPr>
            <p:grpSpPr>
              <a:xfrm>
                <a:off x="5020920" y="5085720"/>
                <a:ext cx="69480" cy="374760"/>
                <a:chOff x="5020920" y="5085720"/>
                <a:chExt cx="69480" cy="374760"/>
              </a:xfrm>
            </p:grpSpPr>
            <p:sp>
              <p:nvSpPr>
                <p:cNvPr id="1035" name="Line 92"/>
                <p:cNvSpPr/>
                <p:nvPr/>
              </p:nvSpPr>
              <p:spPr>
                <a:xfrm flipH="1">
                  <a:off x="5021280" y="508572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 rot="625800">
                  <a:off x="5055480" y="5082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189040" y="5116680"/>
                <a:ext cx="69480" cy="374760"/>
                <a:chOff x="5189040" y="5116680"/>
                <a:chExt cx="69480" cy="374760"/>
              </a:xfrm>
            </p:grpSpPr>
            <p:sp>
              <p:nvSpPr>
                <p:cNvPr id="1038" name="Line 93"/>
                <p:cNvSpPr/>
                <p:nvPr/>
              </p:nvSpPr>
              <p:spPr>
                <a:xfrm flipH="1">
                  <a:off x="5189400" y="511668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 txBox="1"/>
                <p:nvPr/>
              </p:nvSpPr>
              <p:spPr>
                <a:xfrm rot="625800">
                  <a:off x="5223600" y="5113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320440" y="5140800"/>
                <a:ext cx="69480" cy="374760"/>
                <a:chOff x="5320440" y="5140800"/>
                <a:chExt cx="69480" cy="374760"/>
              </a:xfrm>
            </p:grpSpPr>
            <p:sp>
              <p:nvSpPr>
                <p:cNvPr id="1041" name="Line 94"/>
                <p:cNvSpPr/>
                <p:nvPr/>
              </p:nvSpPr>
              <p:spPr>
                <a:xfrm flipH="1">
                  <a:off x="5320800" y="51408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 txBox="1"/>
                <p:nvPr/>
              </p:nvSpPr>
              <p:spPr>
                <a:xfrm rot="625800">
                  <a:off x="5355000" y="51375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5470200" y="5168520"/>
                <a:ext cx="69480" cy="374760"/>
                <a:chOff x="5470200" y="5168520"/>
                <a:chExt cx="69480" cy="374760"/>
              </a:xfrm>
            </p:grpSpPr>
            <p:sp>
              <p:nvSpPr>
                <p:cNvPr id="1044" name="Line 95"/>
                <p:cNvSpPr/>
                <p:nvPr/>
              </p:nvSpPr>
              <p:spPr>
                <a:xfrm flipH="1">
                  <a:off x="5470560" y="51685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 txBox="1"/>
                <p:nvPr/>
              </p:nvSpPr>
              <p:spPr>
                <a:xfrm rot="625800">
                  <a:off x="5504760" y="51652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6" name="Group 96"/>
            <p:cNvGrpSpPr/>
            <p:nvPr/>
          </p:nvGrpSpPr>
          <p:grpSpPr>
            <a:xfrm>
              <a:off x="5829840" y="5215320"/>
              <a:ext cx="518760" cy="457560"/>
              <a:chOff x="5829840" y="5215320"/>
              <a:chExt cx="518760" cy="4575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5829840" y="5215320"/>
                <a:ext cx="69480" cy="374760"/>
                <a:chOff x="5829840" y="5215320"/>
                <a:chExt cx="69480" cy="374760"/>
              </a:xfrm>
            </p:grpSpPr>
            <p:sp>
              <p:nvSpPr>
                <p:cNvPr id="1048" name="Line 97"/>
                <p:cNvSpPr/>
                <p:nvPr/>
              </p:nvSpPr>
              <p:spPr>
                <a:xfrm flipH="1">
                  <a:off x="5830200" y="52153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 txBox="1"/>
                <p:nvPr/>
              </p:nvSpPr>
              <p:spPr>
                <a:xfrm rot="625800">
                  <a:off x="5864400" y="5212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5997960" y="5246280"/>
                <a:ext cx="69480" cy="374760"/>
                <a:chOff x="5997960" y="5246280"/>
                <a:chExt cx="69480" cy="374760"/>
              </a:xfrm>
            </p:grpSpPr>
            <p:sp>
              <p:nvSpPr>
                <p:cNvPr id="1051" name="Line 98"/>
                <p:cNvSpPr/>
                <p:nvPr/>
              </p:nvSpPr>
              <p:spPr>
                <a:xfrm flipH="1">
                  <a:off x="5998320" y="52462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 txBox="1"/>
                <p:nvPr/>
              </p:nvSpPr>
              <p:spPr>
                <a:xfrm rot="625800">
                  <a:off x="6032520" y="52430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6129360" y="5270400"/>
                <a:ext cx="69480" cy="374760"/>
                <a:chOff x="6129360" y="5270400"/>
                <a:chExt cx="69480" cy="374760"/>
              </a:xfrm>
            </p:grpSpPr>
            <p:sp>
              <p:nvSpPr>
                <p:cNvPr id="1054" name="Line 99"/>
                <p:cNvSpPr/>
                <p:nvPr/>
              </p:nvSpPr>
              <p:spPr>
                <a:xfrm flipH="1">
                  <a:off x="6129720" y="52704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 txBox="1"/>
                <p:nvPr/>
              </p:nvSpPr>
              <p:spPr>
                <a:xfrm rot="625800">
                  <a:off x="6163920" y="526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6279120" y="5298120"/>
                <a:ext cx="69480" cy="374760"/>
                <a:chOff x="6279120" y="5298120"/>
                <a:chExt cx="69480" cy="374760"/>
              </a:xfrm>
            </p:grpSpPr>
            <p:sp>
              <p:nvSpPr>
                <p:cNvPr id="1057" name="Line 100"/>
                <p:cNvSpPr/>
                <p:nvPr/>
              </p:nvSpPr>
              <p:spPr>
                <a:xfrm flipH="1">
                  <a:off x="6279480" y="52981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 txBox="1"/>
                <p:nvPr/>
              </p:nvSpPr>
              <p:spPr>
                <a:xfrm rot="625800">
                  <a:off x="6313680" y="52948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9" name="Group 101"/>
            <p:cNvGrpSpPr/>
            <p:nvPr/>
          </p:nvGrpSpPr>
          <p:grpSpPr>
            <a:xfrm>
              <a:off x="8262000" y="5682240"/>
              <a:ext cx="518760" cy="457560"/>
              <a:chOff x="8262000" y="5682240"/>
              <a:chExt cx="518760" cy="4575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262000" y="5682240"/>
                <a:ext cx="69480" cy="374760"/>
                <a:chOff x="8262000" y="5682240"/>
                <a:chExt cx="69480" cy="374760"/>
              </a:xfrm>
            </p:grpSpPr>
            <p:sp>
              <p:nvSpPr>
                <p:cNvPr id="1061" name="Line 102"/>
                <p:cNvSpPr/>
                <p:nvPr/>
              </p:nvSpPr>
              <p:spPr>
                <a:xfrm flipH="1">
                  <a:off x="8262000" y="568224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 rot="625800">
                  <a:off x="8296560" y="5679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8430120" y="5713200"/>
                <a:ext cx="69480" cy="374760"/>
                <a:chOff x="8430120" y="5713200"/>
                <a:chExt cx="69480" cy="374760"/>
              </a:xfrm>
            </p:grpSpPr>
            <p:sp>
              <p:nvSpPr>
                <p:cNvPr id="1064" name="Line 103"/>
                <p:cNvSpPr/>
                <p:nvPr/>
              </p:nvSpPr>
              <p:spPr>
                <a:xfrm flipH="1">
                  <a:off x="8430480" y="57132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 txBox="1"/>
                <p:nvPr/>
              </p:nvSpPr>
              <p:spPr>
                <a:xfrm rot="625800">
                  <a:off x="8464680" y="5709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8561520" y="5737680"/>
                <a:ext cx="69480" cy="374760"/>
                <a:chOff x="8561520" y="5737680"/>
                <a:chExt cx="69480" cy="374760"/>
              </a:xfrm>
            </p:grpSpPr>
            <p:sp>
              <p:nvSpPr>
                <p:cNvPr id="1067" name="Line 104"/>
                <p:cNvSpPr/>
                <p:nvPr/>
              </p:nvSpPr>
              <p:spPr>
                <a:xfrm flipH="1">
                  <a:off x="8561520" y="5737680"/>
                  <a:ext cx="6912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 rot="625800">
                  <a:off x="8596080" y="5734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8711280" y="5765040"/>
                <a:ext cx="69480" cy="374760"/>
                <a:chOff x="8711280" y="5765040"/>
                <a:chExt cx="69480" cy="374760"/>
              </a:xfrm>
            </p:grpSpPr>
            <p:sp>
              <p:nvSpPr>
                <p:cNvPr id="1070" name="Line 105"/>
                <p:cNvSpPr/>
                <p:nvPr/>
              </p:nvSpPr>
              <p:spPr>
                <a:xfrm flipH="1">
                  <a:off x="8711280" y="576504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 rot="625800">
                  <a:off x="8745840" y="5761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Group 106"/>
            <p:cNvGrpSpPr/>
            <p:nvPr/>
          </p:nvGrpSpPr>
          <p:grpSpPr>
            <a:xfrm>
              <a:off x="7568640" y="5554800"/>
              <a:ext cx="518760" cy="457560"/>
              <a:chOff x="7568640" y="5554800"/>
              <a:chExt cx="518760" cy="45756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68640" y="5554800"/>
                <a:ext cx="69480" cy="374760"/>
                <a:chOff x="7568640" y="5554800"/>
                <a:chExt cx="69480" cy="374760"/>
              </a:xfrm>
            </p:grpSpPr>
            <p:sp>
              <p:nvSpPr>
                <p:cNvPr id="1074" name="Line 107"/>
                <p:cNvSpPr/>
                <p:nvPr/>
              </p:nvSpPr>
              <p:spPr>
                <a:xfrm flipH="1">
                  <a:off x="7569000" y="555480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 txBox="1"/>
                <p:nvPr/>
              </p:nvSpPr>
              <p:spPr>
                <a:xfrm rot="625800">
                  <a:off x="7603200" y="55515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7736760" y="5585760"/>
                <a:ext cx="69480" cy="374760"/>
                <a:chOff x="7736760" y="5585760"/>
                <a:chExt cx="69480" cy="374760"/>
              </a:xfrm>
            </p:grpSpPr>
            <p:sp>
              <p:nvSpPr>
                <p:cNvPr id="1077" name="Line 108"/>
                <p:cNvSpPr/>
                <p:nvPr/>
              </p:nvSpPr>
              <p:spPr>
                <a:xfrm flipH="1">
                  <a:off x="7737120" y="558576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 txBox="1"/>
                <p:nvPr/>
              </p:nvSpPr>
              <p:spPr>
                <a:xfrm rot="625800">
                  <a:off x="7771320" y="55825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7868160" y="5609880"/>
                <a:ext cx="69480" cy="374760"/>
                <a:chOff x="7868160" y="5609880"/>
                <a:chExt cx="69480" cy="374760"/>
              </a:xfrm>
            </p:grpSpPr>
            <p:sp>
              <p:nvSpPr>
                <p:cNvPr id="1080" name="Line 109"/>
                <p:cNvSpPr/>
                <p:nvPr/>
              </p:nvSpPr>
              <p:spPr>
                <a:xfrm flipH="1">
                  <a:off x="7868520" y="560988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 txBox="1"/>
                <p:nvPr/>
              </p:nvSpPr>
              <p:spPr>
                <a:xfrm rot="625800">
                  <a:off x="7902720" y="5606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8017920" y="5637600"/>
                <a:ext cx="69480" cy="374760"/>
                <a:chOff x="8017920" y="5637600"/>
                <a:chExt cx="69480" cy="374760"/>
              </a:xfrm>
            </p:grpSpPr>
            <p:sp>
              <p:nvSpPr>
                <p:cNvPr id="1083" name="Line 110"/>
                <p:cNvSpPr/>
                <p:nvPr/>
              </p:nvSpPr>
              <p:spPr>
                <a:xfrm flipH="1">
                  <a:off x="8018280" y="563760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 txBox="1"/>
                <p:nvPr/>
              </p:nvSpPr>
              <p:spPr>
                <a:xfrm rot="625800">
                  <a:off x="8052480" y="56343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5" name="Group 111"/>
            <p:cNvGrpSpPr/>
            <p:nvPr/>
          </p:nvGrpSpPr>
          <p:grpSpPr>
            <a:xfrm>
              <a:off x="6706800" y="5396040"/>
              <a:ext cx="518760" cy="457560"/>
              <a:chOff x="6706800" y="5396040"/>
              <a:chExt cx="518760" cy="45756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6706800" y="5396040"/>
                <a:ext cx="69480" cy="374760"/>
                <a:chOff x="6706800" y="5396040"/>
                <a:chExt cx="69480" cy="374760"/>
              </a:xfrm>
            </p:grpSpPr>
            <p:sp>
              <p:nvSpPr>
                <p:cNvPr id="1087" name="Line 112"/>
                <p:cNvSpPr/>
                <p:nvPr/>
              </p:nvSpPr>
              <p:spPr>
                <a:xfrm flipH="1">
                  <a:off x="6707160" y="53960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 rot="625800">
                  <a:off x="6741360" y="5392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875280" y="5427000"/>
                <a:ext cx="69480" cy="374760"/>
                <a:chOff x="6875280" y="5427000"/>
                <a:chExt cx="69480" cy="374760"/>
              </a:xfrm>
            </p:grpSpPr>
            <p:sp>
              <p:nvSpPr>
                <p:cNvPr id="1090" name="Line 113"/>
                <p:cNvSpPr/>
                <p:nvPr/>
              </p:nvSpPr>
              <p:spPr>
                <a:xfrm flipH="1">
                  <a:off x="6875280" y="542700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 rot="625800">
                  <a:off x="6909840" y="5423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7006320" y="5451120"/>
                <a:ext cx="69480" cy="374760"/>
                <a:chOff x="7006320" y="5451120"/>
                <a:chExt cx="69480" cy="374760"/>
              </a:xfrm>
            </p:grpSpPr>
            <p:sp>
              <p:nvSpPr>
                <p:cNvPr id="1093" name="Line 114"/>
                <p:cNvSpPr/>
                <p:nvPr/>
              </p:nvSpPr>
              <p:spPr>
                <a:xfrm flipH="1">
                  <a:off x="7006680" y="545112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 rot="625800">
                  <a:off x="7040880" y="54478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7156080" y="5478840"/>
                <a:ext cx="69480" cy="374760"/>
                <a:chOff x="7156080" y="5478840"/>
                <a:chExt cx="69480" cy="374760"/>
              </a:xfrm>
            </p:grpSpPr>
            <p:sp>
              <p:nvSpPr>
                <p:cNvPr id="1096" name="Line 115"/>
                <p:cNvSpPr/>
                <p:nvPr/>
              </p:nvSpPr>
              <p:spPr>
                <a:xfrm flipH="1">
                  <a:off x="7156440" y="54788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 rot="625800">
                  <a:off x="7190640" y="54756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Rectangle 116"/>
            <p:cNvSpPr/>
            <p:nvPr/>
          </p:nvSpPr>
          <p:spPr>
            <a:xfrm rot="625800">
              <a:off x="8284680" y="5733360"/>
              <a:ext cx="60912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99" name="Group 117"/>
            <p:cNvGrpSpPr/>
            <p:nvPr/>
          </p:nvGrpSpPr>
          <p:grpSpPr>
            <a:xfrm>
              <a:off x="8396640" y="5687640"/>
              <a:ext cx="518760" cy="457560"/>
              <a:chOff x="8396640" y="5687640"/>
              <a:chExt cx="518760" cy="45756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8396640" y="5687640"/>
                <a:ext cx="69480" cy="374760"/>
                <a:chOff x="8396640" y="5687640"/>
                <a:chExt cx="69480" cy="374760"/>
              </a:xfrm>
            </p:grpSpPr>
            <p:sp>
              <p:nvSpPr>
                <p:cNvPr id="1101" name="Line 118"/>
                <p:cNvSpPr/>
                <p:nvPr/>
              </p:nvSpPr>
              <p:spPr>
                <a:xfrm flipH="1">
                  <a:off x="8397000" y="56876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 rot="625800">
                  <a:off x="8431200" y="56844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8565120" y="5718600"/>
                <a:ext cx="69480" cy="374760"/>
                <a:chOff x="8565120" y="5718600"/>
                <a:chExt cx="69480" cy="374760"/>
              </a:xfrm>
            </p:grpSpPr>
            <p:sp>
              <p:nvSpPr>
                <p:cNvPr id="1104" name="Line 119"/>
                <p:cNvSpPr/>
                <p:nvPr/>
              </p:nvSpPr>
              <p:spPr>
                <a:xfrm flipH="1">
                  <a:off x="8565120" y="571860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 txBox="1"/>
                <p:nvPr/>
              </p:nvSpPr>
              <p:spPr>
                <a:xfrm rot="625800">
                  <a:off x="8599680" y="57153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8696160" y="5743080"/>
                <a:ext cx="69480" cy="374760"/>
                <a:chOff x="8696160" y="5743080"/>
                <a:chExt cx="69480" cy="374760"/>
              </a:xfrm>
            </p:grpSpPr>
            <p:sp>
              <p:nvSpPr>
                <p:cNvPr id="1107" name="Line 120"/>
                <p:cNvSpPr/>
                <p:nvPr/>
              </p:nvSpPr>
              <p:spPr>
                <a:xfrm flipH="1">
                  <a:off x="8696520" y="57430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 txBox="1"/>
                <p:nvPr/>
              </p:nvSpPr>
              <p:spPr>
                <a:xfrm rot="625800">
                  <a:off x="8730720" y="57398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8845920" y="5770440"/>
                <a:ext cx="69480" cy="374760"/>
                <a:chOff x="8845920" y="5770440"/>
                <a:chExt cx="69480" cy="374760"/>
              </a:xfrm>
            </p:grpSpPr>
            <p:sp>
              <p:nvSpPr>
                <p:cNvPr id="1110" name="Line 121"/>
                <p:cNvSpPr/>
                <p:nvPr/>
              </p:nvSpPr>
              <p:spPr>
                <a:xfrm flipH="1">
                  <a:off x="8846280" y="57704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 rot="625800">
                  <a:off x="8880480" y="5767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Text Box 122"/>
            <p:cNvSpPr/>
            <p:nvPr/>
          </p:nvSpPr>
          <p:spPr>
            <a:xfrm rot="625800">
              <a:off x="4964400" y="5717520"/>
              <a:ext cx="13712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13" name="Group 123"/>
          <p:cNvGrpSpPr/>
          <p:nvPr/>
        </p:nvGrpSpPr>
        <p:grpSpPr>
          <a:xfrm>
            <a:off x="4942440" y="4457880"/>
            <a:ext cx="6216480" cy="2613240"/>
            <a:chOff x="4942440" y="4457880"/>
            <a:chExt cx="6216480" cy="2613240"/>
          </a:xfrm>
        </p:grpSpPr>
        <p:sp>
          <p:nvSpPr>
            <p:cNvPr id="1114" name="Rectangle 124"/>
            <p:cNvSpPr/>
            <p:nvPr/>
          </p:nvSpPr>
          <p:spPr>
            <a:xfrm rot="816600">
              <a:off x="4993200" y="5140800"/>
              <a:ext cx="594360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5420520" y="4547520"/>
              <a:ext cx="162000" cy="666720"/>
              <a:chOff x="5420520" y="4547520"/>
              <a:chExt cx="162000" cy="666720"/>
            </a:xfrm>
          </p:grpSpPr>
          <p:sp>
            <p:nvSpPr>
              <p:cNvPr id="1116" name="Line 125"/>
              <p:cNvSpPr/>
              <p:nvPr/>
            </p:nvSpPr>
            <p:spPr>
              <a:xfrm flipH="1">
                <a:off x="5420520" y="4547520"/>
                <a:ext cx="16164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 rot="816600">
                <a:off x="5501160" y="45378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6980400" y="4924080"/>
              <a:ext cx="157320" cy="648000"/>
              <a:chOff x="6980400" y="4924080"/>
              <a:chExt cx="157320" cy="648000"/>
            </a:xfrm>
          </p:grpSpPr>
          <p:sp>
            <p:nvSpPr>
              <p:cNvPr id="1119" name="Line 126"/>
              <p:cNvSpPr/>
              <p:nvPr/>
            </p:nvSpPr>
            <p:spPr>
              <a:xfrm flipH="1">
                <a:off x="6980400" y="4924080"/>
                <a:ext cx="156960" cy="6480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 txBox="1"/>
              <p:nvPr/>
            </p:nvSpPr>
            <p:spPr>
              <a:xfrm rot="816600">
                <a:off x="7058880" y="491472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8679240" y="5336640"/>
              <a:ext cx="161640" cy="666720"/>
              <a:chOff x="8679240" y="5336640"/>
              <a:chExt cx="161640" cy="666720"/>
            </a:xfrm>
          </p:grpSpPr>
          <p:sp>
            <p:nvSpPr>
              <p:cNvPr id="1122" name="Line 127"/>
              <p:cNvSpPr/>
              <p:nvPr/>
            </p:nvSpPr>
            <p:spPr>
              <a:xfrm flipH="1">
                <a:off x="8679240" y="5336640"/>
                <a:ext cx="161280" cy="66636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 txBox="1"/>
              <p:nvPr/>
            </p:nvSpPr>
            <p:spPr>
              <a:xfrm rot="816600">
                <a:off x="8759520" y="53269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6251760" y="4735800"/>
              <a:ext cx="108000" cy="444600"/>
              <a:chOff x="6251760" y="4735800"/>
              <a:chExt cx="108000" cy="444600"/>
            </a:xfrm>
          </p:grpSpPr>
          <p:sp>
            <p:nvSpPr>
              <p:cNvPr id="1125" name="Line 128"/>
              <p:cNvSpPr/>
              <p:nvPr/>
            </p:nvSpPr>
            <p:spPr>
              <a:xfrm flipH="1">
                <a:off x="6251760" y="4735800"/>
                <a:ext cx="107640" cy="4442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 txBox="1"/>
              <p:nvPr/>
            </p:nvSpPr>
            <p:spPr>
              <a:xfrm rot="816600">
                <a:off x="6305400" y="4729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844040" y="5121360"/>
              <a:ext cx="108000" cy="444600"/>
              <a:chOff x="7844040" y="5121360"/>
              <a:chExt cx="108000" cy="444600"/>
            </a:xfrm>
          </p:grpSpPr>
          <p:sp>
            <p:nvSpPr>
              <p:cNvPr id="1128" name="Line 129"/>
              <p:cNvSpPr/>
              <p:nvPr/>
            </p:nvSpPr>
            <p:spPr>
              <a:xfrm flipH="1">
                <a:off x="7844400" y="5121360"/>
                <a:ext cx="107280" cy="4442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 txBox="1"/>
              <p:nvPr/>
            </p:nvSpPr>
            <p:spPr>
              <a:xfrm rot="816600">
                <a:off x="7897680" y="5114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9547560" y="5533560"/>
              <a:ext cx="108000" cy="444600"/>
              <a:chOff x="9547560" y="5533560"/>
              <a:chExt cx="108000" cy="444600"/>
            </a:xfrm>
          </p:grpSpPr>
          <p:sp>
            <p:nvSpPr>
              <p:cNvPr id="1131" name="Line 130"/>
              <p:cNvSpPr/>
              <p:nvPr/>
            </p:nvSpPr>
            <p:spPr>
              <a:xfrm flipH="1">
                <a:off x="9547560" y="5533560"/>
                <a:ext cx="107640" cy="4446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 txBox="1"/>
              <p:nvPr/>
            </p:nvSpPr>
            <p:spPr>
              <a:xfrm rot="816600">
                <a:off x="9601200" y="5527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10313280" y="5712480"/>
              <a:ext cx="161640" cy="666720"/>
              <a:chOff x="10313280" y="5712480"/>
              <a:chExt cx="161640" cy="666720"/>
            </a:xfrm>
          </p:grpSpPr>
          <p:sp>
            <p:nvSpPr>
              <p:cNvPr id="1134" name="Line 131"/>
              <p:cNvSpPr/>
              <p:nvPr/>
            </p:nvSpPr>
            <p:spPr>
              <a:xfrm flipH="1">
                <a:off x="10313280" y="5712480"/>
                <a:ext cx="16128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 txBox="1"/>
              <p:nvPr/>
            </p:nvSpPr>
            <p:spPr>
              <a:xfrm rot="816600">
                <a:off x="10393560" y="570276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136" name="Text Box 132"/>
            <p:cNvSpPr/>
            <p:nvPr/>
          </p:nvSpPr>
          <p:spPr>
            <a:xfrm rot="816600">
              <a:off x="5002920" y="5061600"/>
              <a:ext cx="10670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7" name="Text Box 133"/>
            <p:cNvSpPr/>
            <p:nvPr/>
          </p:nvSpPr>
          <p:spPr>
            <a:xfrm rot="816600">
              <a:off x="8027640" y="5864040"/>
              <a:ext cx="13716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8" name="Text Box 134"/>
            <p:cNvSpPr/>
            <p:nvPr/>
          </p:nvSpPr>
          <p:spPr>
            <a:xfrm rot="816600">
              <a:off x="9655560" y="6267240"/>
              <a:ext cx="14479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39" name="Group 135"/>
            <p:cNvGrpSpPr/>
            <p:nvPr/>
          </p:nvGrpSpPr>
          <p:grpSpPr>
            <a:xfrm>
              <a:off x="5640480" y="4583520"/>
              <a:ext cx="534240" cy="478080"/>
              <a:chOff x="5640480" y="4583520"/>
              <a:chExt cx="534240" cy="47808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5640480" y="4583520"/>
                <a:ext cx="90000" cy="370440"/>
                <a:chOff x="5640480" y="4583520"/>
                <a:chExt cx="90000" cy="370440"/>
              </a:xfrm>
            </p:grpSpPr>
            <p:sp>
              <p:nvSpPr>
                <p:cNvPr id="1141" name="Line 136"/>
                <p:cNvSpPr/>
                <p:nvPr/>
              </p:nvSpPr>
              <p:spPr>
                <a:xfrm flipH="1">
                  <a:off x="5640480" y="45835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 rot="816600">
                  <a:off x="5685120" y="4578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5806800" y="4623840"/>
                <a:ext cx="90000" cy="370440"/>
                <a:chOff x="5806800" y="4623840"/>
                <a:chExt cx="90000" cy="370440"/>
              </a:xfrm>
            </p:grpSpPr>
            <p:sp>
              <p:nvSpPr>
                <p:cNvPr id="1144" name="Line 137"/>
                <p:cNvSpPr/>
                <p:nvPr/>
              </p:nvSpPr>
              <p:spPr>
                <a:xfrm flipH="1">
                  <a:off x="5806800" y="46238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 txBox="1"/>
                <p:nvPr/>
              </p:nvSpPr>
              <p:spPr>
                <a:xfrm rot="816600">
                  <a:off x="5851440" y="4618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5936760" y="4655160"/>
                <a:ext cx="90000" cy="370440"/>
                <a:chOff x="5936760" y="4655160"/>
                <a:chExt cx="90000" cy="370440"/>
              </a:xfrm>
            </p:grpSpPr>
            <p:sp>
              <p:nvSpPr>
                <p:cNvPr id="1147" name="Line 138"/>
                <p:cNvSpPr/>
                <p:nvPr/>
              </p:nvSpPr>
              <p:spPr>
                <a:xfrm flipH="1">
                  <a:off x="5936760" y="4655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 txBox="1"/>
                <p:nvPr/>
              </p:nvSpPr>
              <p:spPr>
                <a:xfrm rot="816600">
                  <a:off x="5981400" y="4649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084720" y="4691160"/>
                <a:ext cx="90000" cy="370440"/>
                <a:chOff x="6084720" y="4691160"/>
                <a:chExt cx="90000" cy="370440"/>
              </a:xfrm>
            </p:grpSpPr>
            <p:sp>
              <p:nvSpPr>
                <p:cNvPr id="1150" name="Line 139"/>
                <p:cNvSpPr/>
                <p:nvPr/>
              </p:nvSpPr>
              <p:spPr>
                <a:xfrm flipH="1">
                  <a:off x="6084720" y="4691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 rot="816600">
                  <a:off x="6129360" y="4685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40"/>
            <p:cNvGrpSpPr/>
            <p:nvPr/>
          </p:nvGrpSpPr>
          <p:grpSpPr>
            <a:xfrm>
              <a:off x="6413760" y="4790160"/>
              <a:ext cx="534240" cy="478080"/>
              <a:chOff x="6413760" y="4790160"/>
              <a:chExt cx="534240" cy="47808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6413760" y="4790160"/>
                <a:ext cx="90000" cy="370440"/>
                <a:chOff x="6413760" y="4790160"/>
                <a:chExt cx="90000" cy="370440"/>
              </a:xfrm>
            </p:grpSpPr>
            <p:sp>
              <p:nvSpPr>
                <p:cNvPr id="1154" name="Line 141"/>
                <p:cNvSpPr/>
                <p:nvPr/>
              </p:nvSpPr>
              <p:spPr>
                <a:xfrm flipH="1">
                  <a:off x="6413760" y="479016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 rot="816600">
                  <a:off x="6458400" y="4784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6580080" y="4830480"/>
                <a:ext cx="90000" cy="370440"/>
                <a:chOff x="6580080" y="4830480"/>
                <a:chExt cx="90000" cy="370440"/>
              </a:xfrm>
            </p:grpSpPr>
            <p:sp>
              <p:nvSpPr>
                <p:cNvPr id="1157" name="Line 142"/>
                <p:cNvSpPr/>
                <p:nvPr/>
              </p:nvSpPr>
              <p:spPr>
                <a:xfrm flipH="1">
                  <a:off x="6580440" y="4830480"/>
                  <a:ext cx="8928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 rot="816600">
                  <a:off x="6624720" y="4825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710040" y="4862160"/>
                <a:ext cx="90000" cy="370440"/>
                <a:chOff x="6710040" y="4862160"/>
                <a:chExt cx="90000" cy="370440"/>
              </a:xfrm>
            </p:grpSpPr>
            <p:sp>
              <p:nvSpPr>
                <p:cNvPr id="1160" name="Line 143"/>
                <p:cNvSpPr/>
                <p:nvPr/>
              </p:nvSpPr>
              <p:spPr>
                <a:xfrm flipH="1">
                  <a:off x="6710040" y="4862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 rot="816600">
                  <a:off x="6754680" y="4856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6858000" y="4897800"/>
                <a:ext cx="90000" cy="370440"/>
                <a:chOff x="6858000" y="4897800"/>
                <a:chExt cx="90000" cy="370440"/>
              </a:xfrm>
            </p:grpSpPr>
            <p:sp>
              <p:nvSpPr>
                <p:cNvPr id="1163" name="Line 144"/>
                <p:cNvSpPr/>
                <p:nvPr/>
              </p:nvSpPr>
              <p:spPr>
                <a:xfrm flipH="1">
                  <a:off x="6858000" y="489780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 txBox="1"/>
                <p:nvPr/>
              </p:nvSpPr>
              <p:spPr>
                <a:xfrm rot="816600">
                  <a:off x="6902640" y="48924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5" name="Group 145"/>
            <p:cNvGrpSpPr/>
            <p:nvPr/>
          </p:nvGrpSpPr>
          <p:grpSpPr>
            <a:xfrm>
              <a:off x="7214040" y="4964400"/>
              <a:ext cx="534600" cy="478080"/>
              <a:chOff x="7214040" y="4964400"/>
              <a:chExt cx="534600" cy="47808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7214040" y="4964400"/>
                <a:ext cx="90000" cy="370440"/>
                <a:chOff x="7214040" y="4964400"/>
                <a:chExt cx="90000" cy="370440"/>
              </a:xfrm>
            </p:grpSpPr>
            <p:sp>
              <p:nvSpPr>
                <p:cNvPr id="1167" name="Line 146"/>
                <p:cNvSpPr/>
                <p:nvPr/>
              </p:nvSpPr>
              <p:spPr>
                <a:xfrm flipH="1">
                  <a:off x="7214040" y="49644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 rot="816600">
                  <a:off x="7258680" y="4959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380720" y="5004720"/>
                <a:ext cx="90000" cy="370440"/>
                <a:chOff x="7380720" y="5004720"/>
                <a:chExt cx="90000" cy="370440"/>
              </a:xfrm>
            </p:grpSpPr>
            <p:sp>
              <p:nvSpPr>
                <p:cNvPr id="1170" name="Line 147"/>
                <p:cNvSpPr/>
                <p:nvPr/>
              </p:nvSpPr>
              <p:spPr>
                <a:xfrm flipH="1">
                  <a:off x="7380720" y="50047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 rot="816600">
                  <a:off x="7425360" y="49993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7510680" y="5036400"/>
                <a:ext cx="90000" cy="370440"/>
                <a:chOff x="7510680" y="5036400"/>
                <a:chExt cx="90000" cy="370440"/>
              </a:xfrm>
            </p:grpSpPr>
            <p:sp>
              <p:nvSpPr>
                <p:cNvPr id="1173" name="Line 148"/>
                <p:cNvSpPr/>
                <p:nvPr/>
              </p:nvSpPr>
              <p:spPr>
                <a:xfrm flipH="1">
                  <a:off x="7510680" y="50364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 rot="816600">
                  <a:off x="7555320" y="5031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7658640" y="5072040"/>
                <a:ext cx="90000" cy="370440"/>
                <a:chOff x="7658640" y="5072040"/>
                <a:chExt cx="90000" cy="370440"/>
              </a:xfrm>
            </p:grpSpPr>
            <p:sp>
              <p:nvSpPr>
                <p:cNvPr id="1176" name="Line 149"/>
                <p:cNvSpPr/>
                <p:nvPr/>
              </p:nvSpPr>
              <p:spPr>
                <a:xfrm flipH="1">
                  <a:off x="7658640" y="50720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 rot="816600">
                  <a:off x="7703280" y="5066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Group 150"/>
            <p:cNvGrpSpPr/>
            <p:nvPr/>
          </p:nvGrpSpPr>
          <p:grpSpPr>
            <a:xfrm>
              <a:off x="9616680" y="5565600"/>
              <a:ext cx="534240" cy="478080"/>
              <a:chOff x="9616680" y="5565600"/>
              <a:chExt cx="534240" cy="47808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9616680" y="5565600"/>
                <a:ext cx="90000" cy="370440"/>
                <a:chOff x="9616680" y="5565600"/>
                <a:chExt cx="90000" cy="370440"/>
              </a:xfrm>
            </p:grpSpPr>
            <p:sp>
              <p:nvSpPr>
                <p:cNvPr id="1180" name="Line 151"/>
                <p:cNvSpPr/>
                <p:nvPr/>
              </p:nvSpPr>
              <p:spPr>
                <a:xfrm flipH="1">
                  <a:off x="9616680" y="556560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 txBox="1"/>
                <p:nvPr/>
              </p:nvSpPr>
              <p:spPr>
                <a:xfrm rot="816600">
                  <a:off x="9661320" y="5560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9783000" y="5605920"/>
                <a:ext cx="90000" cy="370440"/>
                <a:chOff x="9783000" y="5605920"/>
                <a:chExt cx="90000" cy="370440"/>
              </a:xfrm>
            </p:grpSpPr>
            <p:sp>
              <p:nvSpPr>
                <p:cNvPr id="1183" name="Line 152"/>
                <p:cNvSpPr/>
                <p:nvPr/>
              </p:nvSpPr>
              <p:spPr>
                <a:xfrm flipH="1">
                  <a:off x="9783000" y="560592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 txBox="1"/>
                <p:nvPr/>
              </p:nvSpPr>
              <p:spPr>
                <a:xfrm rot="816600">
                  <a:off x="9827640" y="56005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9912960" y="5637600"/>
                <a:ext cx="90000" cy="370440"/>
                <a:chOff x="9912960" y="5637600"/>
                <a:chExt cx="90000" cy="370440"/>
              </a:xfrm>
            </p:grpSpPr>
            <p:sp>
              <p:nvSpPr>
                <p:cNvPr id="1186" name="Line 153"/>
                <p:cNvSpPr/>
                <p:nvPr/>
              </p:nvSpPr>
              <p:spPr>
                <a:xfrm flipH="1">
                  <a:off x="9912960" y="56376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 txBox="1"/>
                <p:nvPr/>
              </p:nvSpPr>
              <p:spPr>
                <a:xfrm rot="816600">
                  <a:off x="9957600" y="5632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10060920" y="5673240"/>
                <a:ext cx="90000" cy="370440"/>
                <a:chOff x="10060920" y="5673240"/>
                <a:chExt cx="90000" cy="370440"/>
              </a:xfrm>
            </p:grpSpPr>
            <p:sp>
              <p:nvSpPr>
                <p:cNvPr id="1189" name="Line 154"/>
                <p:cNvSpPr/>
                <p:nvPr/>
              </p:nvSpPr>
              <p:spPr>
                <a:xfrm flipH="1">
                  <a:off x="10060920" y="567324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 txBox="1"/>
                <p:nvPr/>
              </p:nvSpPr>
              <p:spPr>
                <a:xfrm rot="816600">
                  <a:off x="10105560" y="56678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1" name="Group 155"/>
            <p:cNvGrpSpPr/>
            <p:nvPr/>
          </p:nvGrpSpPr>
          <p:grpSpPr>
            <a:xfrm>
              <a:off x="8931600" y="5400000"/>
              <a:ext cx="534240" cy="478080"/>
              <a:chOff x="8931600" y="5400000"/>
              <a:chExt cx="534240" cy="47808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931600" y="5400000"/>
                <a:ext cx="90000" cy="370440"/>
                <a:chOff x="8931600" y="5400000"/>
                <a:chExt cx="90000" cy="370440"/>
              </a:xfrm>
            </p:grpSpPr>
            <p:sp>
              <p:nvSpPr>
                <p:cNvPr id="1193" name="Line 156"/>
                <p:cNvSpPr/>
                <p:nvPr/>
              </p:nvSpPr>
              <p:spPr>
                <a:xfrm flipH="1">
                  <a:off x="8931600" y="54000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 txBox="1"/>
                <p:nvPr/>
              </p:nvSpPr>
              <p:spPr>
                <a:xfrm rot="816600">
                  <a:off x="8976240" y="53946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9097920" y="5440320"/>
                <a:ext cx="90000" cy="370440"/>
                <a:chOff x="9097920" y="5440320"/>
                <a:chExt cx="90000" cy="370440"/>
              </a:xfrm>
            </p:grpSpPr>
            <p:sp>
              <p:nvSpPr>
                <p:cNvPr id="1196" name="Line 157"/>
                <p:cNvSpPr/>
                <p:nvPr/>
              </p:nvSpPr>
              <p:spPr>
                <a:xfrm flipH="1">
                  <a:off x="9097920" y="54403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 txBox="1"/>
                <p:nvPr/>
              </p:nvSpPr>
              <p:spPr>
                <a:xfrm rot="816600">
                  <a:off x="9142560" y="54349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9227880" y="5471640"/>
                <a:ext cx="90000" cy="370440"/>
                <a:chOff x="9227880" y="5471640"/>
                <a:chExt cx="90000" cy="370440"/>
              </a:xfrm>
            </p:grpSpPr>
            <p:sp>
              <p:nvSpPr>
                <p:cNvPr id="1199" name="Line 158"/>
                <p:cNvSpPr/>
                <p:nvPr/>
              </p:nvSpPr>
              <p:spPr>
                <a:xfrm flipH="1">
                  <a:off x="9227880" y="54716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 rot="816600">
                  <a:off x="9272520" y="54662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9375840" y="5507640"/>
                <a:ext cx="90000" cy="370440"/>
                <a:chOff x="9375840" y="5507640"/>
                <a:chExt cx="90000" cy="370440"/>
              </a:xfrm>
            </p:grpSpPr>
            <p:sp>
              <p:nvSpPr>
                <p:cNvPr id="1202" name="Line 159"/>
                <p:cNvSpPr/>
                <p:nvPr/>
              </p:nvSpPr>
              <p:spPr>
                <a:xfrm flipH="1">
                  <a:off x="9375840" y="55076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 txBox="1"/>
                <p:nvPr/>
              </p:nvSpPr>
              <p:spPr>
                <a:xfrm rot="816600">
                  <a:off x="9420480" y="55022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160"/>
            <p:cNvGrpSpPr/>
            <p:nvPr/>
          </p:nvGrpSpPr>
          <p:grpSpPr>
            <a:xfrm>
              <a:off x="8079840" y="5193720"/>
              <a:ext cx="534240" cy="478080"/>
              <a:chOff x="8079840" y="5193720"/>
              <a:chExt cx="534240" cy="47808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8079840" y="5193720"/>
                <a:ext cx="90000" cy="370440"/>
                <a:chOff x="8079840" y="5193720"/>
                <a:chExt cx="90000" cy="370440"/>
              </a:xfrm>
            </p:grpSpPr>
            <p:sp>
              <p:nvSpPr>
                <p:cNvPr id="1206" name="Line 161"/>
                <p:cNvSpPr/>
                <p:nvPr/>
              </p:nvSpPr>
              <p:spPr>
                <a:xfrm flipH="1">
                  <a:off x="8079840" y="51937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 txBox="1"/>
                <p:nvPr/>
              </p:nvSpPr>
              <p:spPr>
                <a:xfrm rot="816600">
                  <a:off x="8124480" y="51883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8246520" y="5234040"/>
                <a:ext cx="90000" cy="370440"/>
                <a:chOff x="8246520" y="5234040"/>
                <a:chExt cx="90000" cy="370440"/>
              </a:xfrm>
            </p:grpSpPr>
            <p:sp>
              <p:nvSpPr>
                <p:cNvPr id="1209" name="Line 162"/>
                <p:cNvSpPr/>
                <p:nvPr/>
              </p:nvSpPr>
              <p:spPr>
                <a:xfrm flipH="1">
                  <a:off x="8246520" y="52340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 txBox="1"/>
                <p:nvPr/>
              </p:nvSpPr>
              <p:spPr>
                <a:xfrm rot="816600">
                  <a:off x="8291160" y="5228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8376120" y="5265360"/>
                <a:ext cx="90000" cy="370440"/>
                <a:chOff x="8376120" y="5265360"/>
                <a:chExt cx="90000" cy="370440"/>
              </a:xfrm>
            </p:grpSpPr>
            <p:sp>
              <p:nvSpPr>
                <p:cNvPr id="1212" name="Line 163"/>
                <p:cNvSpPr/>
                <p:nvPr/>
              </p:nvSpPr>
              <p:spPr>
                <a:xfrm flipH="1">
                  <a:off x="8376120" y="526536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 txBox="1"/>
                <p:nvPr/>
              </p:nvSpPr>
              <p:spPr>
                <a:xfrm rot="816600">
                  <a:off x="8420760" y="5259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8524080" y="5301360"/>
                <a:ext cx="90000" cy="370440"/>
                <a:chOff x="8524080" y="5301360"/>
                <a:chExt cx="90000" cy="370440"/>
              </a:xfrm>
            </p:grpSpPr>
            <p:sp>
              <p:nvSpPr>
                <p:cNvPr id="1215" name="Line 164"/>
                <p:cNvSpPr/>
                <p:nvPr/>
              </p:nvSpPr>
              <p:spPr>
                <a:xfrm flipH="1">
                  <a:off x="8524440" y="5301360"/>
                  <a:ext cx="8928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 txBox="1"/>
                <p:nvPr/>
              </p:nvSpPr>
              <p:spPr>
                <a:xfrm rot="816600">
                  <a:off x="8568720" y="5295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7" name="Rectangle 165"/>
            <p:cNvSpPr/>
            <p:nvPr/>
          </p:nvSpPr>
          <p:spPr>
            <a:xfrm rot="816600">
              <a:off x="9643680" y="5630760"/>
              <a:ext cx="6094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18" name="Group 166"/>
            <p:cNvGrpSpPr/>
            <p:nvPr/>
          </p:nvGrpSpPr>
          <p:grpSpPr>
            <a:xfrm>
              <a:off x="9750960" y="5578560"/>
              <a:ext cx="534240" cy="478080"/>
              <a:chOff x="9750960" y="5578560"/>
              <a:chExt cx="534240" cy="47808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9750960" y="5578560"/>
                <a:ext cx="90000" cy="370440"/>
                <a:chOff x="9750960" y="5578560"/>
                <a:chExt cx="90000" cy="370440"/>
              </a:xfrm>
            </p:grpSpPr>
            <p:sp>
              <p:nvSpPr>
                <p:cNvPr id="1220" name="Line 167"/>
                <p:cNvSpPr/>
                <p:nvPr/>
              </p:nvSpPr>
              <p:spPr>
                <a:xfrm flipH="1">
                  <a:off x="9750960" y="55785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 txBox="1"/>
                <p:nvPr/>
              </p:nvSpPr>
              <p:spPr>
                <a:xfrm rot="816600">
                  <a:off x="9795600" y="5573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9917280" y="5618880"/>
                <a:ext cx="90000" cy="370440"/>
                <a:chOff x="9917280" y="5618880"/>
                <a:chExt cx="90000" cy="370440"/>
              </a:xfrm>
            </p:grpSpPr>
            <p:sp>
              <p:nvSpPr>
                <p:cNvPr id="1223" name="Line 168"/>
                <p:cNvSpPr/>
                <p:nvPr/>
              </p:nvSpPr>
              <p:spPr>
                <a:xfrm flipH="1">
                  <a:off x="9917640" y="5618880"/>
                  <a:ext cx="8928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 txBox="1"/>
                <p:nvPr/>
              </p:nvSpPr>
              <p:spPr>
                <a:xfrm rot="816600">
                  <a:off x="9961920" y="5613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10047240" y="5650560"/>
                <a:ext cx="90000" cy="370440"/>
                <a:chOff x="10047240" y="5650560"/>
                <a:chExt cx="90000" cy="370440"/>
              </a:xfrm>
            </p:grpSpPr>
            <p:sp>
              <p:nvSpPr>
                <p:cNvPr id="1226" name="Line 169"/>
                <p:cNvSpPr/>
                <p:nvPr/>
              </p:nvSpPr>
              <p:spPr>
                <a:xfrm flipH="1">
                  <a:off x="10047240" y="56505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 txBox="1"/>
                <p:nvPr/>
              </p:nvSpPr>
              <p:spPr>
                <a:xfrm rot="816600">
                  <a:off x="10091880" y="5645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10195200" y="5686200"/>
                <a:ext cx="90000" cy="370440"/>
                <a:chOff x="10195200" y="5686200"/>
                <a:chExt cx="90000" cy="370440"/>
              </a:xfrm>
            </p:grpSpPr>
            <p:sp>
              <p:nvSpPr>
                <p:cNvPr id="1229" name="Line 170"/>
                <p:cNvSpPr/>
                <p:nvPr/>
              </p:nvSpPr>
              <p:spPr>
                <a:xfrm flipH="1">
                  <a:off x="10195200" y="56862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 txBox="1"/>
                <p:nvPr/>
              </p:nvSpPr>
              <p:spPr>
                <a:xfrm rot="816600">
                  <a:off x="10239840" y="5680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1" name="Text Box 171"/>
            <p:cNvSpPr/>
            <p:nvPr/>
          </p:nvSpPr>
          <p:spPr>
            <a:xfrm rot="816600">
              <a:off x="6324120" y="5451480"/>
              <a:ext cx="13716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32" name="Group 172"/>
          <p:cNvGrpSpPr/>
          <p:nvPr/>
        </p:nvGrpSpPr>
        <p:grpSpPr>
          <a:xfrm>
            <a:off x="2959200" y="2886120"/>
            <a:ext cx="1828800" cy="2057400"/>
            <a:chOff x="2959200" y="2886120"/>
            <a:chExt cx="1828800" cy="2057400"/>
          </a:xfrm>
        </p:grpSpPr>
        <p:sp>
          <p:nvSpPr>
            <p:cNvPr id="1233" name="Text Box 173"/>
            <p:cNvSpPr/>
            <p:nvPr/>
          </p:nvSpPr>
          <p:spPr>
            <a:xfrm>
              <a:off x="2959200" y="288612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9c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3873600" y="3648240"/>
              <a:ext cx="914400" cy="1295280"/>
              <a:chOff x="3873600" y="3648240"/>
              <a:chExt cx="914400" cy="1295280"/>
            </a:xfrm>
          </p:grpSpPr>
          <p:sp>
            <p:nvSpPr>
              <p:cNvPr id="1235" name="Line 174"/>
              <p:cNvSpPr/>
              <p:nvPr/>
            </p:nvSpPr>
            <p:spPr>
              <a:xfrm flipH="1" flipV="1">
                <a:off x="3873600" y="3648240"/>
                <a:ext cx="914400" cy="129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 rot="10800000">
                <a:off x="3873600" y="3648240"/>
                <a:ext cx="9144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237" name="Group 175"/>
          <p:cNvGrpSpPr/>
          <p:nvPr/>
        </p:nvGrpSpPr>
        <p:grpSpPr>
          <a:xfrm>
            <a:off x="6235560" y="3343320"/>
            <a:ext cx="2209680" cy="1295280"/>
            <a:chOff x="6235560" y="3343320"/>
            <a:chExt cx="2209680" cy="1295280"/>
          </a:xfrm>
        </p:grpSpPr>
        <p:sp>
          <p:nvSpPr>
            <p:cNvPr id="1238" name="Text Box 176"/>
            <p:cNvSpPr/>
            <p:nvPr/>
          </p:nvSpPr>
          <p:spPr>
            <a:xfrm>
              <a:off x="6921360" y="334332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9c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6235560" y="3876840"/>
              <a:ext cx="761760" cy="761760"/>
              <a:chOff x="6235560" y="3876840"/>
              <a:chExt cx="761760" cy="761760"/>
            </a:xfrm>
          </p:grpSpPr>
          <p:sp>
            <p:nvSpPr>
              <p:cNvPr id="1240" name="Line 177"/>
              <p:cNvSpPr/>
              <p:nvPr/>
            </p:nvSpPr>
            <p:spPr>
              <a:xfrm flipV="1">
                <a:off x="6235560" y="3876840"/>
                <a:ext cx="76176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 rot="10800000">
                <a:off x="6235560" y="3876840"/>
                <a:ext cx="7617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242" name="Text Box 178"/>
          <p:cNvSpPr/>
          <p:nvPr/>
        </p:nvSpPr>
        <p:spPr>
          <a:xfrm>
            <a:off x="291960" y="4029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P=CQ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Text Box 2"/>
          <p:cNvSpPr/>
          <p:nvPr/>
        </p:nvSpPr>
        <p:spPr>
          <a:xfrm>
            <a:off x="228600" y="646200"/>
            <a:ext cx="85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如图，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分别在直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上，用三角板画图，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)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画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交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)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的距离是线段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长，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)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距离是线段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4" name="Text Box 3"/>
          <p:cNvSpPr/>
          <p:nvPr/>
        </p:nvSpPr>
        <p:spPr>
          <a:xfrm>
            <a:off x="558000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5435640" y="2838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F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1725480" y="3765600"/>
            <a:ext cx="2667240" cy="457200"/>
            <a:chOff x="1725480" y="3765600"/>
            <a:chExt cx="2667240" cy="457200"/>
          </a:xfrm>
        </p:grpSpPr>
        <p:sp>
          <p:nvSpPr>
            <p:cNvPr id="1247" name="Line 5"/>
            <p:cNvSpPr/>
            <p:nvPr/>
          </p:nvSpPr>
          <p:spPr>
            <a:xfrm>
              <a:off x="1725480" y="3765600"/>
              <a:ext cx="2667240" cy="4572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>
              <a:off x="1725480" y="3765600"/>
              <a:ext cx="2667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877760" y="5441760"/>
            <a:ext cx="2514960" cy="609480"/>
            <a:chOff x="1877760" y="5441760"/>
            <a:chExt cx="2514960" cy="609480"/>
          </a:xfrm>
        </p:grpSpPr>
        <p:sp>
          <p:nvSpPr>
            <p:cNvPr id="1250" name="Line 6"/>
            <p:cNvSpPr/>
            <p:nvPr/>
          </p:nvSpPr>
          <p:spPr>
            <a:xfrm flipV="1">
              <a:off x="1878120" y="5441760"/>
              <a:ext cx="2514600" cy="60948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 rot="10800000">
              <a:off x="1877760" y="5441760"/>
              <a:ext cx="2514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52" name="Text Box 7"/>
          <p:cNvSpPr/>
          <p:nvPr/>
        </p:nvSpPr>
        <p:spPr>
          <a:xfrm>
            <a:off x="1192320" y="34606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3" name="Text Box 8"/>
          <p:cNvSpPr/>
          <p:nvPr/>
        </p:nvSpPr>
        <p:spPr>
          <a:xfrm>
            <a:off x="4392720" y="3841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4" name="Text Box 9"/>
          <p:cNvSpPr/>
          <p:nvPr/>
        </p:nvSpPr>
        <p:spPr>
          <a:xfrm>
            <a:off x="1116000" y="58071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5" name="Text Box 10"/>
          <p:cNvSpPr/>
          <p:nvPr/>
        </p:nvSpPr>
        <p:spPr>
          <a:xfrm>
            <a:off x="4392720" y="51973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6" name="Text Box 11"/>
          <p:cNvSpPr/>
          <p:nvPr/>
        </p:nvSpPr>
        <p:spPr>
          <a:xfrm>
            <a:off x="2639880" y="3308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7" name="Text Box 12"/>
          <p:cNvSpPr/>
          <p:nvPr/>
        </p:nvSpPr>
        <p:spPr>
          <a:xfrm>
            <a:off x="2335320" y="5883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8" name="Oval 13"/>
          <p:cNvSpPr/>
          <p:nvPr/>
        </p:nvSpPr>
        <p:spPr>
          <a:xfrm>
            <a:off x="3173400" y="3917880"/>
            <a:ext cx="22860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9" name="Oval 14"/>
          <p:cNvSpPr/>
          <p:nvPr/>
        </p:nvSpPr>
        <p:spPr>
          <a:xfrm>
            <a:off x="2487600" y="5746680"/>
            <a:ext cx="22860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0" name="Group 15"/>
          <p:cNvGrpSpPr/>
          <p:nvPr/>
        </p:nvGrpSpPr>
        <p:grpSpPr>
          <a:xfrm>
            <a:off x="3147840" y="3252960"/>
            <a:ext cx="1676160" cy="3200400"/>
            <a:chOff x="3147840" y="3252960"/>
            <a:chExt cx="1676160" cy="3200400"/>
          </a:xfrm>
        </p:grpSpPr>
        <p:sp>
          <p:nvSpPr>
            <p:cNvPr id="1261" name="Text Box 16"/>
            <p:cNvSpPr/>
            <p:nvPr/>
          </p:nvSpPr>
          <p:spPr>
            <a:xfrm>
              <a:off x="3833640" y="546264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3147840" y="3252960"/>
              <a:ext cx="838080" cy="3200400"/>
              <a:chOff x="3147840" y="3252960"/>
              <a:chExt cx="838080" cy="3200400"/>
            </a:xfrm>
          </p:grpSpPr>
          <p:sp>
            <p:nvSpPr>
              <p:cNvPr id="1263" name="Line 17"/>
              <p:cNvSpPr/>
              <p:nvPr/>
            </p:nvSpPr>
            <p:spPr>
              <a:xfrm>
                <a:off x="3147840" y="3252960"/>
                <a:ext cx="838080" cy="3200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 txBox="1"/>
              <p:nvPr/>
            </p:nvSpPr>
            <p:spPr>
              <a:xfrm>
                <a:off x="3147840" y="3252960"/>
                <a:ext cx="838080" cy="320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18"/>
            <p:cNvGrpSpPr/>
            <p:nvPr/>
          </p:nvGrpSpPr>
          <p:grpSpPr>
            <a:xfrm>
              <a:off x="3659760" y="5212800"/>
              <a:ext cx="331920" cy="300240"/>
              <a:chOff x="3659760" y="5212800"/>
              <a:chExt cx="331920" cy="30024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3659760" y="5228280"/>
                <a:ext cx="299880" cy="54360"/>
                <a:chOff x="3659760" y="5228280"/>
                <a:chExt cx="299880" cy="54360"/>
              </a:xfrm>
            </p:grpSpPr>
            <p:sp>
              <p:nvSpPr>
                <p:cNvPr id="1267" name="Line 19"/>
                <p:cNvSpPr/>
                <p:nvPr/>
              </p:nvSpPr>
              <p:spPr>
                <a:xfrm flipV="1">
                  <a:off x="3659760" y="5228280"/>
                  <a:ext cx="299880" cy="54000"/>
                </a:xfrm>
                <a:prstGeom prst="line">
                  <a:avLst/>
                </a:prstGeom>
                <a:ln w="76320">
                  <a:solidFill>
                    <a:srgbClr val="cc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 txBox="1"/>
                <p:nvPr/>
              </p:nvSpPr>
              <p:spPr>
                <a:xfrm rot="20986200">
                  <a:off x="3657240" y="525492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37320" y="5212800"/>
                <a:ext cx="54360" cy="300240"/>
                <a:chOff x="3937320" y="5212800"/>
                <a:chExt cx="54360" cy="300240"/>
              </a:xfrm>
            </p:grpSpPr>
            <p:sp>
              <p:nvSpPr>
                <p:cNvPr id="1270" name="Line 20"/>
                <p:cNvSpPr/>
                <p:nvPr/>
              </p:nvSpPr>
              <p:spPr>
                <a:xfrm>
                  <a:off x="3937320" y="5212800"/>
                  <a:ext cx="54000" cy="300240"/>
                </a:xfrm>
                <a:prstGeom prst="line">
                  <a:avLst/>
                </a:prstGeom>
                <a:ln w="76320">
                  <a:solidFill>
                    <a:srgbClr val="cc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 txBox="1"/>
                <p:nvPr/>
              </p:nvSpPr>
              <p:spPr>
                <a:xfrm rot="20986200">
                  <a:off x="3964320" y="52102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2" name=""/>
          <p:cNvGrpSpPr/>
          <p:nvPr/>
        </p:nvGrpSpPr>
        <p:grpSpPr>
          <a:xfrm>
            <a:off x="2639520" y="3994200"/>
            <a:ext cx="686160" cy="1828800"/>
            <a:chOff x="2639520" y="3994200"/>
            <a:chExt cx="686160" cy="1828800"/>
          </a:xfrm>
        </p:grpSpPr>
        <p:sp>
          <p:nvSpPr>
            <p:cNvPr id="1273" name="Line 21"/>
            <p:cNvSpPr/>
            <p:nvPr/>
          </p:nvSpPr>
          <p:spPr>
            <a:xfrm flipH="1">
              <a:off x="2639520" y="3994200"/>
              <a:ext cx="685800" cy="18288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639880" y="399420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75" name="Text Box 22"/>
          <p:cNvSpPr/>
          <p:nvPr/>
        </p:nvSpPr>
        <p:spPr>
          <a:xfrm>
            <a:off x="4925880" y="414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∴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F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为所求垂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6" name="Picture 2" descr="http://berl.tjjy.net/Resource/CZ/CZSX/JAJC/CYJH/D2/0020_MATH0016_5.gif"/>
          <p:cNvPicPr/>
          <p:nvPr/>
        </p:nvPicPr>
        <p:blipFill>
          <a:blip r:embed="rId1"/>
          <a:stretch/>
        </p:blipFill>
        <p:spPr>
          <a:xfrm>
            <a:off x="2133720" y="2895480"/>
            <a:ext cx="4343400" cy="2908440"/>
          </a:xfrm>
          <a:prstGeom prst="rect">
            <a:avLst/>
          </a:prstGeom>
          <a:ln w="0">
            <a:noFill/>
          </a:ln>
        </p:spPr>
      </p:pic>
      <p:sp>
        <p:nvSpPr>
          <p:cNvPr id="1277" name="Text Box 3"/>
          <p:cNvSpPr/>
          <p:nvPr/>
        </p:nvSpPr>
        <p:spPr>
          <a:xfrm>
            <a:off x="53352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   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-2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试用直尺或三角板量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距离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到大河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距离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124080" y="3200400"/>
            <a:ext cx="2210040" cy="1676520"/>
            <a:chOff x="3124080" y="3200400"/>
            <a:chExt cx="2210040" cy="1676520"/>
          </a:xfrm>
        </p:grpSpPr>
        <p:sp>
          <p:nvSpPr>
            <p:cNvPr id="1279" name="Line 4"/>
            <p:cNvSpPr/>
            <p:nvPr/>
          </p:nvSpPr>
          <p:spPr>
            <a:xfrm>
              <a:off x="3124080" y="3200400"/>
              <a:ext cx="2210040" cy="167652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124080" y="3200400"/>
              <a:ext cx="221004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81" name="Group 5"/>
          <p:cNvGrpSpPr/>
          <p:nvPr/>
        </p:nvGrpSpPr>
        <p:grpSpPr>
          <a:xfrm>
            <a:off x="3124080" y="3200400"/>
            <a:ext cx="2362320" cy="1675800"/>
            <a:chOff x="3124080" y="3200400"/>
            <a:chExt cx="2362320" cy="1675800"/>
          </a:xfrm>
        </p:grpSpPr>
        <p:grpSp>
          <p:nvGrpSpPr>
            <p:cNvPr id="1282" name=""/>
            <p:cNvGrpSpPr/>
            <p:nvPr/>
          </p:nvGrpSpPr>
          <p:grpSpPr>
            <a:xfrm>
              <a:off x="3124080" y="3200400"/>
              <a:ext cx="360" cy="609480"/>
              <a:chOff x="3124080" y="3200400"/>
              <a:chExt cx="360" cy="609480"/>
            </a:xfrm>
          </p:grpSpPr>
          <p:sp>
            <p:nvSpPr>
              <p:cNvPr id="1283" name="Line 6"/>
              <p:cNvSpPr/>
              <p:nvPr/>
            </p:nvSpPr>
            <p:spPr>
              <a:xfrm>
                <a:off x="3124080" y="320040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3124080" y="32004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285" name="Group 7"/>
            <p:cNvGrpSpPr/>
            <p:nvPr/>
          </p:nvGrpSpPr>
          <p:grpSpPr>
            <a:xfrm>
              <a:off x="3124080" y="3657600"/>
              <a:ext cx="2362320" cy="1218600"/>
              <a:chOff x="3124080" y="3657600"/>
              <a:chExt cx="2362320" cy="121860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5333400" y="3809520"/>
                <a:ext cx="360" cy="1066680"/>
                <a:chOff x="5333400" y="3809520"/>
                <a:chExt cx="360" cy="1066680"/>
              </a:xfrm>
            </p:grpSpPr>
            <p:sp>
              <p:nvSpPr>
                <p:cNvPr id="1287" name="Line 8"/>
                <p:cNvSpPr/>
                <p:nvPr/>
              </p:nvSpPr>
              <p:spPr>
                <a:xfrm flipV="1">
                  <a:off x="5333760" y="3809520"/>
                  <a:ext cx="0" cy="1066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 rot="10800000">
                  <a:off x="5333400" y="3809520"/>
                  <a:ext cx="3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Group 9"/>
              <p:cNvGrpSpPr/>
              <p:nvPr/>
            </p:nvGrpSpPr>
            <p:grpSpPr>
              <a:xfrm>
                <a:off x="3124080" y="3657600"/>
                <a:ext cx="152640" cy="152280"/>
                <a:chOff x="3124080" y="3657600"/>
                <a:chExt cx="152640" cy="15228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3124080" y="3657600"/>
                  <a:ext cx="152280" cy="360"/>
                  <a:chOff x="3124080" y="3657600"/>
                  <a:chExt cx="152280" cy="360"/>
                </a:xfrm>
              </p:grpSpPr>
              <p:sp>
                <p:nvSpPr>
                  <p:cNvPr id="1291" name="Line 10"/>
                  <p:cNvSpPr/>
                  <p:nvPr/>
                </p:nvSpPr>
                <p:spPr>
                  <a:xfrm>
                    <a:off x="3124080" y="365760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 txBox="1"/>
                  <p:nvPr/>
                </p:nvSpPr>
                <p:spPr>
                  <a:xfrm>
                    <a:off x="3124080" y="365760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3276360" y="3657600"/>
                  <a:ext cx="360" cy="152280"/>
                  <a:chOff x="3276360" y="3657600"/>
                  <a:chExt cx="360" cy="152280"/>
                </a:xfrm>
              </p:grpSpPr>
              <p:sp>
                <p:nvSpPr>
                  <p:cNvPr id="1294" name="Line 11"/>
                  <p:cNvSpPr/>
                  <p:nvPr/>
                </p:nvSpPr>
                <p:spPr>
                  <a:xfrm>
                    <a:off x="3276360" y="36576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 txBox="1"/>
                  <p:nvPr/>
                </p:nvSpPr>
                <p:spPr>
                  <a:xfrm>
                    <a:off x="3276360" y="365760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Group 12"/>
              <p:cNvGrpSpPr/>
              <p:nvPr/>
            </p:nvGrpSpPr>
            <p:grpSpPr>
              <a:xfrm>
                <a:off x="5333760" y="3809520"/>
                <a:ext cx="152640" cy="152280"/>
                <a:chOff x="5333760" y="3809520"/>
                <a:chExt cx="152640" cy="15228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5333760" y="3961440"/>
                  <a:ext cx="152280" cy="360"/>
                  <a:chOff x="5333760" y="3961440"/>
                  <a:chExt cx="152280" cy="360"/>
                </a:xfrm>
              </p:grpSpPr>
              <p:sp>
                <p:nvSpPr>
                  <p:cNvPr id="1298" name="Line 13"/>
                  <p:cNvSpPr/>
                  <p:nvPr/>
                </p:nvSpPr>
                <p:spPr>
                  <a:xfrm>
                    <a:off x="5333760" y="396180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 txBox="1"/>
                  <p:nvPr/>
                </p:nvSpPr>
                <p:spPr>
                  <a:xfrm rot="10800000">
                    <a:off x="5333760" y="396144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5486040" y="3809520"/>
                  <a:ext cx="360" cy="152280"/>
                  <a:chOff x="5486040" y="3809520"/>
                  <a:chExt cx="360" cy="152280"/>
                </a:xfrm>
              </p:grpSpPr>
              <p:sp>
                <p:nvSpPr>
                  <p:cNvPr id="1301" name="Line 14"/>
                  <p:cNvSpPr/>
                  <p:nvPr/>
                </p:nvSpPr>
                <p:spPr>
                  <a:xfrm flipV="1">
                    <a:off x="5486040" y="380952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 txBox="1"/>
                  <p:nvPr/>
                </p:nvSpPr>
                <p:spPr>
                  <a:xfrm rot="10800000">
                    <a:off x="5486040" y="380952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9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307800" y="198900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华文中宋"/>
              </a:rPr>
              <a:t>如图：在铁路旁边有一张庄，现在要建一火车站，为了使张庄人乘火车最方便（即距离最近），请你在铁路上选一点来建火车站，并说明理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4" name="Group 3"/>
          <p:cNvGrpSpPr/>
          <p:nvPr/>
        </p:nvGrpSpPr>
        <p:grpSpPr>
          <a:xfrm>
            <a:off x="5646960" y="2591280"/>
            <a:ext cx="3006000" cy="3216600"/>
            <a:chOff x="5646960" y="2591280"/>
            <a:chExt cx="3006000" cy="3216600"/>
          </a:xfrm>
        </p:grpSpPr>
        <p:grpSp>
          <p:nvGrpSpPr>
            <p:cNvPr id="1305" name="Group 4"/>
            <p:cNvGrpSpPr/>
            <p:nvPr/>
          </p:nvGrpSpPr>
          <p:grpSpPr>
            <a:xfrm>
              <a:off x="5646960" y="2591280"/>
              <a:ext cx="3006000" cy="3216600"/>
              <a:chOff x="5646960" y="2591280"/>
              <a:chExt cx="3006000" cy="321660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5646960" y="2591280"/>
                <a:ext cx="2910600" cy="2926440"/>
                <a:chOff x="5646960" y="2591280"/>
                <a:chExt cx="2910600" cy="2926440"/>
              </a:xfrm>
            </p:grpSpPr>
            <p:sp>
              <p:nvSpPr>
                <p:cNvPr id="1307" name="Line 5"/>
                <p:cNvSpPr/>
                <p:nvPr/>
              </p:nvSpPr>
              <p:spPr>
                <a:xfrm flipH="1">
                  <a:off x="5647320" y="3013200"/>
                  <a:ext cx="2910240" cy="2082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 txBox="1"/>
                <p:nvPr/>
              </p:nvSpPr>
              <p:spPr>
                <a:xfrm rot="578400">
                  <a:off x="5841720" y="2784240"/>
                  <a:ext cx="2520720" cy="25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747040" y="2902320"/>
                <a:ext cx="2905920" cy="2905560"/>
                <a:chOff x="5747040" y="2902320"/>
                <a:chExt cx="2905920" cy="2905560"/>
              </a:xfrm>
            </p:grpSpPr>
            <p:sp>
              <p:nvSpPr>
                <p:cNvPr id="1310" name="Line 6"/>
                <p:cNvSpPr/>
                <p:nvPr/>
              </p:nvSpPr>
              <p:spPr>
                <a:xfrm flipH="1">
                  <a:off x="5747040" y="3324240"/>
                  <a:ext cx="2905920" cy="2062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 txBox="1"/>
                <p:nvPr/>
              </p:nvSpPr>
              <p:spPr>
                <a:xfrm rot="578400">
                  <a:off x="5940000" y="3095280"/>
                  <a:ext cx="2519280" cy="25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6090480" y="4725360"/>
                <a:ext cx="131760" cy="367560"/>
                <a:chOff x="6090480" y="4725360"/>
                <a:chExt cx="131760" cy="367560"/>
              </a:xfrm>
            </p:grpSpPr>
            <p:sp>
              <p:nvSpPr>
                <p:cNvPr id="1313" name="Line 7"/>
                <p:cNvSpPr/>
                <p:nvPr/>
              </p:nvSpPr>
              <p:spPr>
                <a:xfrm>
                  <a:off x="6150600" y="4725360"/>
                  <a:ext cx="1152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 txBox="1"/>
                <p:nvPr/>
              </p:nvSpPr>
              <p:spPr>
                <a:xfrm rot="577800">
                  <a:off x="6119640" y="4728600"/>
                  <a:ext cx="7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7750800" y="3546000"/>
                <a:ext cx="132120" cy="367560"/>
                <a:chOff x="7750800" y="3546000"/>
                <a:chExt cx="132120" cy="367560"/>
              </a:xfrm>
            </p:grpSpPr>
            <p:sp>
              <p:nvSpPr>
                <p:cNvPr id="1316" name="Line 8"/>
                <p:cNvSpPr/>
                <p:nvPr/>
              </p:nvSpPr>
              <p:spPr>
                <a:xfrm>
                  <a:off x="7810920" y="354600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 txBox="1"/>
                <p:nvPr/>
              </p:nvSpPr>
              <p:spPr>
                <a:xfrm rot="577800">
                  <a:off x="7779960" y="354924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7417080" y="3780720"/>
                <a:ext cx="132480" cy="367920"/>
                <a:chOff x="7417080" y="3780720"/>
                <a:chExt cx="132480" cy="367920"/>
              </a:xfrm>
            </p:grpSpPr>
            <p:sp>
              <p:nvSpPr>
                <p:cNvPr id="1319" name="Line 9"/>
                <p:cNvSpPr/>
                <p:nvPr/>
              </p:nvSpPr>
              <p:spPr>
                <a:xfrm>
                  <a:off x="7477560" y="3780720"/>
                  <a:ext cx="11880" cy="367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 txBox="1"/>
                <p:nvPr/>
              </p:nvSpPr>
              <p:spPr>
                <a:xfrm rot="577800">
                  <a:off x="7446600" y="3783960"/>
                  <a:ext cx="7308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7088760" y="4015800"/>
                <a:ext cx="132120" cy="367560"/>
                <a:chOff x="7088760" y="4015800"/>
                <a:chExt cx="132120" cy="367560"/>
              </a:xfrm>
            </p:grpSpPr>
            <p:sp>
              <p:nvSpPr>
                <p:cNvPr id="1322" name="Line 10"/>
                <p:cNvSpPr/>
                <p:nvPr/>
              </p:nvSpPr>
              <p:spPr>
                <a:xfrm>
                  <a:off x="7148880" y="401580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 txBox="1"/>
                <p:nvPr/>
              </p:nvSpPr>
              <p:spPr>
                <a:xfrm rot="577800">
                  <a:off x="7117920" y="401904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6755400" y="4252320"/>
                <a:ext cx="132120" cy="367560"/>
                <a:chOff x="6755400" y="4252320"/>
                <a:chExt cx="132120" cy="367560"/>
              </a:xfrm>
            </p:grpSpPr>
            <p:sp>
              <p:nvSpPr>
                <p:cNvPr id="1325" name="Line 11"/>
                <p:cNvSpPr/>
                <p:nvPr/>
              </p:nvSpPr>
              <p:spPr>
                <a:xfrm>
                  <a:off x="6815520" y="425232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 txBox="1"/>
                <p:nvPr/>
              </p:nvSpPr>
              <p:spPr>
                <a:xfrm rot="577800">
                  <a:off x="6784560" y="425556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6423840" y="4488840"/>
                <a:ext cx="131760" cy="367560"/>
                <a:chOff x="6423840" y="4488840"/>
                <a:chExt cx="131760" cy="367560"/>
              </a:xfrm>
            </p:grpSpPr>
            <p:sp>
              <p:nvSpPr>
                <p:cNvPr id="1328" name="Line 12"/>
                <p:cNvSpPr/>
                <p:nvPr/>
              </p:nvSpPr>
              <p:spPr>
                <a:xfrm>
                  <a:off x="6483960" y="4488840"/>
                  <a:ext cx="1152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 txBox="1"/>
                <p:nvPr/>
              </p:nvSpPr>
              <p:spPr>
                <a:xfrm rot="577800">
                  <a:off x="6453000" y="4492080"/>
                  <a:ext cx="7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084160" y="3309480"/>
                <a:ext cx="132120" cy="367560"/>
                <a:chOff x="8084160" y="3309480"/>
                <a:chExt cx="132120" cy="367560"/>
              </a:xfrm>
            </p:grpSpPr>
            <p:sp>
              <p:nvSpPr>
                <p:cNvPr id="1331" name="Line 13"/>
                <p:cNvSpPr/>
                <p:nvPr/>
              </p:nvSpPr>
              <p:spPr>
                <a:xfrm>
                  <a:off x="8144280" y="330948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 txBox="1"/>
                <p:nvPr/>
              </p:nvSpPr>
              <p:spPr>
                <a:xfrm rot="577800">
                  <a:off x="8113320" y="331272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3" name="Oval 14"/>
            <p:cNvSpPr/>
            <p:nvPr/>
          </p:nvSpPr>
          <p:spPr>
            <a:xfrm rot="577800">
              <a:off x="6746760" y="2658960"/>
              <a:ext cx="16380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34" name="Text Box 15"/>
          <p:cNvSpPr/>
          <p:nvPr/>
        </p:nvSpPr>
        <p:spPr>
          <a:xfrm>
            <a:off x="6327720" y="218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张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2484360" y="476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华文中宋"/>
              </a:rPr>
              <a:t>拓展应用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华文中宋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6" name="Group 17"/>
          <p:cNvGrpSpPr/>
          <p:nvPr/>
        </p:nvGrpSpPr>
        <p:grpSpPr>
          <a:xfrm>
            <a:off x="6783840" y="2740320"/>
            <a:ext cx="890280" cy="1472040"/>
            <a:chOff x="6783840" y="2740320"/>
            <a:chExt cx="890280" cy="1472040"/>
          </a:xfrm>
        </p:grpSpPr>
        <p:sp>
          <p:nvSpPr>
            <p:cNvPr id="1337" name="Rectangle 18"/>
            <p:cNvSpPr/>
            <p:nvPr/>
          </p:nvSpPr>
          <p:spPr>
            <a:xfrm rot="19489800">
              <a:off x="7161120" y="2650680"/>
              <a:ext cx="7632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8" name="Rectangle 19"/>
            <p:cNvSpPr/>
            <p:nvPr/>
          </p:nvSpPr>
          <p:spPr>
            <a:xfrm rot="3225000">
              <a:off x="6914520" y="3447360"/>
              <a:ext cx="6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572"/>
                  </a:solidFill>
                  <a:latin typeface="Times New Roman"/>
                  <a:ea typeface="华文中宋"/>
                </a:rPr>
                <a:t>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39" name="Text Box 20"/>
          <p:cNvSpPr/>
          <p:nvPr/>
        </p:nvSpPr>
        <p:spPr>
          <a:xfrm>
            <a:off x="1332000" y="5516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垂线段最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0" name="Text Box 21"/>
          <p:cNvSpPr/>
          <p:nvPr/>
        </p:nvSpPr>
        <p:spPr>
          <a:xfrm>
            <a:off x="7308720" y="3573360"/>
            <a:ext cx="8636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拓 展 应 用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2" name="Rectangle 3"/>
          <p:cNvSpPr/>
          <p:nvPr/>
        </p:nvSpPr>
        <p:spPr>
          <a:xfrm rot="18114600">
            <a:off x="1914120" y="5689440"/>
            <a:ext cx="1316160" cy="74880"/>
          </a:xfrm>
          <a:prstGeom prst="rect">
            <a:avLst/>
          </a:prstGeom>
          <a:solidFill>
            <a:srgbClr val="a6eef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228600" y="974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如图：要把水渠中的水引到水池</a:t>
            </a:r>
            <a:r>
              <a:rPr b="1" i="1" lang="en-US" sz="4000" spc="-1" strike="noStrike">
                <a:solidFill>
                  <a:srgbClr val="040000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中，在渠岸的什么地方开沟，水沟的长度才能最短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请画出图来，并说明理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44" name="Group 5"/>
          <p:cNvGrpSpPr/>
          <p:nvPr/>
        </p:nvGrpSpPr>
        <p:grpSpPr>
          <a:xfrm>
            <a:off x="2050920" y="4014720"/>
            <a:ext cx="3097440" cy="2376720"/>
            <a:chOff x="2050920" y="4014720"/>
            <a:chExt cx="3097440" cy="2376720"/>
          </a:xfrm>
        </p:grpSpPr>
        <p:sp>
          <p:nvSpPr>
            <p:cNvPr id="1345" name="Oval 6"/>
            <p:cNvSpPr/>
            <p:nvPr/>
          </p:nvSpPr>
          <p:spPr>
            <a:xfrm>
              <a:off x="2124000" y="6246720"/>
              <a:ext cx="144360" cy="14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46" name="Group 7"/>
            <p:cNvGrpSpPr/>
            <p:nvPr/>
          </p:nvGrpSpPr>
          <p:grpSpPr>
            <a:xfrm>
              <a:off x="2050920" y="4014720"/>
              <a:ext cx="3097440" cy="2160720"/>
              <a:chOff x="2050920" y="4014720"/>
              <a:chExt cx="3097440" cy="216072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2050920" y="4662360"/>
                <a:ext cx="2665440" cy="1513080"/>
                <a:chOff x="2050920" y="4662360"/>
                <a:chExt cx="2665440" cy="1513080"/>
              </a:xfrm>
            </p:grpSpPr>
            <p:sp>
              <p:nvSpPr>
                <p:cNvPr id="1348" name="Line 8"/>
                <p:cNvSpPr/>
                <p:nvPr/>
              </p:nvSpPr>
              <p:spPr>
                <a:xfrm>
                  <a:off x="2050920" y="4662360"/>
                  <a:ext cx="2665440" cy="151308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 txBox="1"/>
                <p:nvPr/>
              </p:nvSpPr>
              <p:spPr>
                <a:xfrm>
                  <a:off x="2050920" y="4662360"/>
                  <a:ext cx="2665440" cy="15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2556000" y="4014720"/>
                <a:ext cx="2592360" cy="1440000"/>
                <a:chOff x="2556000" y="4014720"/>
                <a:chExt cx="2592360" cy="1440000"/>
              </a:xfrm>
            </p:grpSpPr>
            <p:sp>
              <p:nvSpPr>
                <p:cNvPr id="1351" name="Line 9"/>
                <p:cNvSpPr/>
                <p:nvPr/>
              </p:nvSpPr>
              <p:spPr>
                <a:xfrm>
                  <a:off x="2556000" y="4014720"/>
                  <a:ext cx="2592360" cy="144000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 txBox="1"/>
                <p:nvPr/>
              </p:nvSpPr>
              <p:spPr>
                <a:xfrm>
                  <a:off x="2556000" y="4014720"/>
                  <a:ext cx="2592360" cy="14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Freeform 10"/>
              <p:cNvSpPr/>
              <p:nvPr/>
            </p:nvSpPr>
            <p:spPr>
              <a:xfrm>
                <a:off x="2627280" y="4157640"/>
                <a:ext cx="2278080" cy="1319400"/>
              </a:xfrm>
              <a:custGeom>
                <a:avLst/>
                <a:gdLst/>
                <a:ahLst/>
                <a:rect l="l" t="t" r="r" b="b"/>
                <a:pathLst>
                  <a:path w="1739" h="1005">
                    <a:moveTo>
                      <a:pt x="0" y="0"/>
                    </a:moveTo>
                    <a:cubicBezTo>
                      <a:pt x="11" y="32"/>
                      <a:pt x="19" y="75"/>
                      <a:pt x="45" y="101"/>
                    </a:cubicBezTo>
                    <a:cubicBezTo>
                      <a:pt x="106" y="162"/>
                      <a:pt x="229" y="162"/>
                      <a:pt x="305" y="169"/>
                    </a:cubicBezTo>
                    <a:cubicBezTo>
                      <a:pt x="336" y="190"/>
                      <a:pt x="384" y="261"/>
                      <a:pt x="395" y="293"/>
                    </a:cubicBezTo>
                    <a:cubicBezTo>
                      <a:pt x="404" y="319"/>
                      <a:pt x="409" y="340"/>
                      <a:pt x="429" y="361"/>
                    </a:cubicBezTo>
                    <a:cubicBezTo>
                      <a:pt x="491" y="424"/>
                      <a:pt x="632" y="413"/>
                      <a:pt x="700" y="418"/>
                    </a:cubicBezTo>
                    <a:cubicBezTo>
                      <a:pt x="725" y="426"/>
                      <a:pt x="749" y="430"/>
                      <a:pt x="768" y="452"/>
                    </a:cubicBezTo>
                    <a:cubicBezTo>
                      <a:pt x="825" y="517"/>
                      <a:pt x="805" y="566"/>
                      <a:pt x="870" y="610"/>
                    </a:cubicBezTo>
                    <a:cubicBezTo>
                      <a:pt x="905" y="719"/>
                      <a:pt x="1142" y="686"/>
                      <a:pt x="1197" y="689"/>
                    </a:cubicBezTo>
                    <a:cubicBezTo>
                      <a:pt x="1304" y="724"/>
                      <a:pt x="1316" y="913"/>
                      <a:pt x="1423" y="948"/>
                    </a:cubicBezTo>
                    <a:cubicBezTo>
                      <a:pt x="1491" y="994"/>
                      <a:pt x="1425" y="960"/>
                      <a:pt x="1547" y="960"/>
                    </a:cubicBezTo>
                    <a:cubicBezTo>
                      <a:pt x="1592" y="960"/>
                      <a:pt x="1638" y="967"/>
                      <a:pt x="1683" y="971"/>
                    </a:cubicBezTo>
                    <a:cubicBezTo>
                      <a:pt x="1727" y="985"/>
                      <a:pt x="1709" y="973"/>
                      <a:pt x="1739" y="1005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4" name="Freeform 11"/>
              <p:cNvSpPr/>
              <p:nvPr/>
            </p:nvSpPr>
            <p:spPr>
              <a:xfrm>
                <a:off x="2484360" y="4375080"/>
                <a:ext cx="2374920" cy="1366920"/>
              </a:xfrm>
              <a:custGeom>
                <a:avLst/>
                <a:gdLst/>
                <a:ahLst/>
                <a:rect l="l" t="t" r="r" b="b"/>
                <a:pathLst>
                  <a:path w="1603" h="1005">
                    <a:moveTo>
                      <a:pt x="0" y="0"/>
                    </a:moveTo>
                    <a:cubicBezTo>
                      <a:pt x="7" y="11"/>
                      <a:pt x="13" y="24"/>
                      <a:pt x="22" y="34"/>
                    </a:cubicBezTo>
                    <a:cubicBezTo>
                      <a:pt x="32" y="44"/>
                      <a:pt x="48" y="46"/>
                      <a:pt x="56" y="57"/>
                    </a:cubicBezTo>
                    <a:cubicBezTo>
                      <a:pt x="116" y="133"/>
                      <a:pt x="6" y="52"/>
                      <a:pt x="101" y="113"/>
                    </a:cubicBezTo>
                    <a:cubicBezTo>
                      <a:pt x="172" y="218"/>
                      <a:pt x="235" y="195"/>
                      <a:pt x="361" y="204"/>
                    </a:cubicBezTo>
                    <a:cubicBezTo>
                      <a:pt x="376" y="226"/>
                      <a:pt x="397" y="246"/>
                      <a:pt x="406" y="271"/>
                    </a:cubicBezTo>
                    <a:cubicBezTo>
                      <a:pt x="433" y="352"/>
                      <a:pt x="409" y="326"/>
                      <a:pt x="463" y="362"/>
                    </a:cubicBezTo>
                    <a:cubicBezTo>
                      <a:pt x="490" y="445"/>
                      <a:pt x="573" y="434"/>
                      <a:pt x="643" y="452"/>
                    </a:cubicBezTo>
                    <a:cubicBezTo>
                      <a:pt x="666" y="458"/>
                      <a:pt x="688" y="467"/>
                      <a:pt x="711" y="475"/>
                    </a:cubicBezTo>
                    <a:cubicBezTo>
                      <a:pt x="722" y="479"/>
                      <a:pt x="745" y="486"/>
                      <a:pt x="745" y="486"/>
                    </a:cubicBezTo>
                    <a:cubicBezTo>
                      <a:pt x="756" y="494"/>
                      <a:pt x="770" y="498"/>
                      <a:pt x="779" y="509"/>
                    </a:cubicBezTo>
                    <a:cubicBezTo>
                      <a:pt x="825" y="567"/>
                      <a:pt x="747" y="519"/>
                      <a:pt x="813" y="576"/>
                    </a:cubicBezTo>
                    <a:cubicBezTo>
                      <a:pt x="864" y="620"/>
                      <a:pt x="946" y="677"/>
                      <a:pt x="1016" y="689"/>
                    </a:cubicBezTo>
                    <a:cubicBezTo>
                      <a:pt x="1058" y="696"/>
                      <a:pt x="1089" y="700"/>
                      <a:pt x="1129" y="712"/>
                    </a:cubicBezTo>
                    <a:cubicBezTo>
                      <a:pt x="1152" y="719"/>
                      <a:pt x="1197" y="734"/>
                      <a:pt x="1197" y="734"/>
                    </a:cubicBezTo>
                    <a:cubicBezTo>
                      <a:pt x="1212" y="757"/>
                      <a:pt x="1227" y="779"/>
                      <a:pt x="1242" y="802"/>
                    </a:cubicBezTo>
                    <a:cubicBezTo>
                      <a:pt x="1257" y="825"/>
                      <a:pt x="1310" y="847"/>
                      <a:pt x="1310" y="847"/>
                    </a:cubicBezTo>
                    <a:cubicBezTo>
                      <a:pt x="1349" y="908"/>
                      <a:pt x="1310" y="861"/>
                      <a:pt x="1366" y="893"/>
                    </a:cubicBezTo>
                    <a:cubicBezTo>
                      <a:pt x="1390" y="906"/>
                      <a:pt x="1408" y="930"/>
                      <a:pt x="1434" y="938"/>
                    </a:cubicBezTo>
                    <a:cubicBezTo>
                      <a:pt x="1457" y="945"/>
                      <a:pt x="1479" y="952"/>
                      <a:pt x="1502" y="960"/>
                    </a:cubicBezTo>
                    <a:cubicBezTo>
                      <a:pt x="1513" y="964"/>
                      <a:pt x="1525" y="968"/>
                      <a:pt x="1536" y="972"/>
                    </a:cubicBezTo>
                    <a:cubicBezTo>
                      <a:pt x="1556" y="979"/>
                      <a:pt x="1603" y="979"/>
                      <a:pt x="1603" y="1005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5" name="Freeform 12"/>
              <p:cNvSpPr/>
              <p:nvPr/>
            </p:nvSpPr>
            <p:spPr>
              <a:xfrm>
                <a:off x="2340000" y="4654440"/>
                <a:ext cx="2592360" cy="1376640"/>
              </a:xfrm>
              <a:custGeom>
                <a:avLst/>
                <a:gdLst/>
                <a:ahLst/>
                <a:rect l="l" t="t" r="r" b="b"/>
                <a:pathLst>
                  <a:path w="1542" h="826">
                    <a:moveTo>
                      <a:pt x="6" y="0"/>
                    </a:moveTo>
                    <a:cubicBezTo>
                      <a:pt x="27" y="65"/>
                      <a:pt x="0" y="6"/>
                      <a:pt x="51" y="57"/>
                    </a:cubicBezTo>
                    <a:cubicBezTo>
                      <a:pt x="126" y="132"/>
                      <a:pt x="15" y="51"/>
                      <a:pt x="107" y="113"/>
                    </a:cubicBezTo>
                    <a:cubicBezTo>
                      <a:pt x="152" y="179"/>
                      <a:pt x="180" y="156"/>
                      <a:pt x="265" y="147"/>
                    </a:cubicBezTo>
                    <a:cubicBezTo>
                      <a:pt x="303" y="151"/>
                      <a:pt x="341" y="149"/>
                      <a:pt x="378" y="158"/>
                    </a:cubicBezTo>
                    <a:cubicBezTo>
                      <a:pt x="424" y="169"/>
                      <a:pt x="406" y="185"/>
                      <a:pt x="423" y="215"/>
                    </a:cubicBezTo>
                    <a:cubicBezTo>
                      <a:pt x="464" y="287"/>
                      <a:pt x="449" y="275"/>
                      <a:pt x="502" y="294"/>
                    </a:cubicBezTo>
                    <a:cubicBezTo>
                      <a:pt x="551" y="366"/>
                      <a:pt x="625" y="373"/>
                      <a:pt x="706" y="384"/>
                    </a:cubicBezTo>
                    <a:cubicBezTo>
                      <a:pt x="771" y="405"/>
                      <a:pt x="778" y="440"/>
                      <a:pt x="830" y="474"/>
                    </a:cubicBezTo>
                    <a:cubicBezTo>
                      <a:pt x="851" y="539"/>
                      <a:pt x="824" y="480"/>
                      <a:pt x="875" y="531"/>
                    </a:cubicBezTo>
                    <a:cubicBezTo>
                      <a:pt x="885" y="541"/>
                      <a:pt x="888" y="555"/>
                      <a:pt x="898" y="565"/>
                    </a:cubicBezTo>
                    <a:cubicBezTo>
                      <a:pt x="962" y="628"/>
                      <a:pt x="1098" y="616"/>
                      <a:pt x="1169" y="621"/>
                    </a:cubicBezTo>
                    <a:cubicBezTo>
                      <a:pt x="1206" y="646"/>
                      <a:pt x="1222" y="676"/>
                      <a:pt x="1259" y="700"/>
                    </a:cubicBezTo>
                    <a:cubicBezTo>
                      <a:pt x="1267" y="711"/>
                      <a:pt x="1272" y="725"/>
                      <a:pt x="1282" y="734"/>
                    </a:cubicBezTo>
                    <a:cubicBezTo>
                      <a:pt x="1303" y="752"/>
                      <a:pt x="1350" y="779"/>
                      <a:pt x="1350" y="779"/>
                    </a:cubicBezTo>
                    <a:cubicBezTo>
                      <a:pt x="1357" y="790"/>
                      <a:pt x="1359" y="811"/>
                      <a:pt x="1372" y="813"/>
                    </a:cubicBezTo>
                    <a:cubicBezTo>
                      <a:pt x="1449" y="826"/>
                      <a:pt x="1477" y="791"/>
                      <a:pt x="1542" y="791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Text Box 13"/>
          <p:cNvSpPr/>
          <p:nvPr/>
        </p:nvSpPr>
        <p:spPr>
          <a:xfrm>
            <a:off x="1219320" y="59277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Rectangle 14"/>
          <p:cNvSpPr/>
          <p:nvPr/>
        </p:nvSpPr>
        <p:spPr>
          <a:xfrm rot="17998800">
            <a:off x="2179440" y="430992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Times New Roman"/>
              </a:rPr>
              <a:t>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8" name="Picture 15" descr="4[24]"/>
          <p:cNvPicPr/>
          <p:nvPr/>
        </p:nvPicPr>
        <p:blipFill>
          <a:blip r:embed="rId1"/>
          <a:stretch/>
        </p:blipFill>
        <p:spPr>
          <a:xfrm>
            <a:off x="76320" y="228600"/>
            <a:ext cx="2286000" cy="6174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16" descr="4[20]"/>
          <p:cNvPicPr/>
          <p:nvPr/>
        </p:nvPicPr>
        <p:blipFill>
          <a:blip r:embed="rId2"/>
          <a:stretch/>
        </p:blipFill>
        <p:spPr>
          <a:xfrm>
            <a:off x="4419720" y="304920"/>
            <a:ext cx="4419360" cy="549000"/>
          </a:xfrm>
          <a:prstGeom prst="rect">
            <a:avLst/>
          </a:prstGeom>
          <a:ln w="0">
            <a:noFill/>
          </a:ln>
        </p:spPr>
      </p:pic>
      <p:sp>
        <p:nvSpPr>
          <p:cNvPr id="1360" name="Text Box 17"/>
          <p:cNvSpPr/>
          <p:nvPr/>
        </p:nvSpPr>
        <p:spPr>
          <a:xfrm>
            <a:off x="4643280" y="4076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垂线段最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2556000" y="4869000"/>
            <a:ext cx="12952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9640" y="2276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结论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过一点有且只有一条直线与已知直线垂直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58920" y="1628640"/>
            <a:ext cx="5329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能作一条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而且只能作一条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5493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问题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过已知直线 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上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或外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的一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 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作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可以作几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9640" y="4365720"/>
            <a:ext cx="79200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注意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过一点画已知线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就是画这条线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在直线的垂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75560" y="3429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思考：如何画线段和射线的垂线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Text Box 2"/>
          <p:cNvSpPr/>
          <p:nvPr/>
        </p:nvSpPr>
        <p:spPr>
          <a:xfrm>
            <a:off x="250920" y="1177920"/>
            <a:ext cx="571500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  <a:ea typeface="华文中宋"/>
              </a:rPr>
              <a:t>立定跳远中，体育老师是如何测量运动员的成绩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63" name="Group 3"/>
          <p:cNvGrpSpPr/>
          <p:nvPr/>
        </p:nvGrpSpPr>
        <p:grpSpPr>
          <a:xfrm>
            <a:off x="1676160" y="4213080"/>
            <a:ext cx="3200760" cy="153000"/>
            <a:chOff x="1676160" y="4213080"/>
            <a:chExt cx="3200760" cy="153000"/>
          </a:xfrm>
        </p:grpSpPr>
        <p:grpSp>
          <p:nvGrpSpPr>
            <p:cNvPr id="1364" name=""/>
            <p:cNvGrpSpPr/>
            <p:nvPr/>
          </p:nvGrpSpPr>
          <p:grpSpPr>
            <a:xfrm>
              <a:off x="1676520" y="4213080"/>
              <a:ext cx="3200400" cy="360"/>
              <a:chOff x="1676520" y="4213080"/>
              <a:chExt cx="3200400" cy="360"/>
            </a:xfrm>
          </p:grpSpPr>
          <p:sp>
            <p:nvSpPr>
              <p:cNvPr id="1365" name="Line 4"/>
              <p:cNvSpPr/>
              <p:nvPr/>
            </p:nvSpPr>
            <p:spPr>
              <a:xfrm flipH="1">
                <a:off x="1676520" y="4213080"/>
                <a:ext cx="3200400" cy="0"/>
              </a:xfrm>
              <a:prstGeom prst="line">
                <a:avLst/>
              </a:prstGeom>
              <a:ln w="5724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 txBox="1"/>
              <p:nvPr/>
            </p:nvSpPr>
            <p:spPr>
              <a:xfrm>
                <a:off x="1676520" y="421308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5"/>
            <p:cNvGrpSpPr/>
            <p:nvPr/>
          </p:nvGrpSpPr>
          <p:grpSpPr>
            <a:xfrm>
              <a:off x="1676160" y="4213080"/>
              <a:ext cx="153000" cy="153000"/>
              <a:chOff x="1676160" y="4213080"/>
              <a:chExt cx="153000" cy="15300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1828800" y="4213080"/>
                <a:ext cx="360" cy="152640"/>
                <a:chOff x="1828800" y="4213080"/>
                <a:chExt cx="360" cy="152640"/>
              </a:xfrm>
            </p:grpSpPr>
            <p:sp>
              <p:nvSpPr>
                <p:cNvPr id="1369" name="Line 6"/>
                <p:cNvSpPr/>
                <p:nvPr/>
              </p:nvSpPr>
              <p:spPr>
                <a:xfrm>
                  <a:off x="1828800" y="421308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>
                  <a:off x="1828800" y="42130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676160" y="4365720"/>
                <a:ext cx="152640" cy="360"/>
                <a:chOff x="1676160" y="4365720"/>
                <a:chExt cx="152640" cy="360"/>
              </a:xfrm>
            </p:grpSpPr>
            <p:sp>
              <p:nvSpPr>
                <p:cNvPr id="1372" name="Line 7"/>
                <p:cNvSpPr/>
                <p:nvPr/>
              </p:nvSpPr>
              <p:spPr>
                <a:xfrm flipH="1">
                  <a:off x="1676160" y="436572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 txBox="1"/>
                <p:nvPr/>
              </p:nvSpPr>
              <p:spPr>
                <a:xfrm>
                  <a:off x="1676520" y="43657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4" name="AutoShape 8"/>
          <p:cNvSpPr/>
          <p:nvPr/>
        </p:nvSpPr>
        <p:spPr>
          <a:xfrm>
            <a:off x="4506840" y="2430360"/>
            <a:ext cx="3810240" cy="1143000"/>
          </a:xfrm>
          <a:prstGeom prst="wedgeRoundRectCallout">
            <a:avLst>
              <a:gd name="adj1" fmla="val -46666"/>
              <a:gd name="adj2" fmla="val 92222"/>
              <a:gd name="adj3" fmla="val 16667"/>
            </a:avLst>
          </a:prstGeom>
          <a:noFill/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体育老师实际上测量的是</a:t>
            </a:r>
            <a:r>
              <a:rPr b="1" lang="zh-CN" sz="2800" spc="-1" strike="noStrike">
                <a:solidFill>
                  <a:srgbClr val="007572"/>
                </a:solidFill>
                <a:latin typeface="Tahoma"/>
              </a:rPr>
              <a:t>点到直线的距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5" name="Text Box 9"/>
          <p:cNvSpPr/>
          <p:nvPr/>
        </p:nvSpPr>
        <p:spPr>
          <a:xfrm>
            <a:off x="668988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76" name="Group 10"/>
          <p:cNvGrpSpPr/>
          <p:nvPr/>
        </p:nvGrpSpPr>
        <p:grpSpPr>
          <a:xfrm>
            <a:off x="1119240" y="2852640"/>
            <a:ext cx="6595920" cy="3733920"/>
            <a:chOff x="1119240" y="2852640"/>
            <a:chExt cx="6595920" cy="3733920"/>
          </a:xfrm>
        </p:grpSpPr>
        <p:grpSp>
          <p:nvGrpSpPr>
            <p:cNvPr id="1377" name=""/>
            <p:cNvGrpSpPr/>
            <p:nvPr/>
          </p:nvGrpSpPr>
          <p:grpSpPr>
            <a:xfrm>
              <a:off x="1695600" y="3081240"/>
              <a:ext cx="360" cy="3505320"/>
              <a:chOff x="1695600" y="3081240"/>
              <a:chExt cx="360" cy="3505320"/>
            </a:xfrm>
          </p:grpSpPr>
          <p:sp>
            <p:nvSpPr>
              <p:cNvPr id="1378" name="Line 11"/>
              <p:cNvSpPr/>
              <p:nvPr/>
            </p:nvSpPr>
            <p:spPr>
              <a:xfrm>
                <a:off x="1695600" y="3081240"/>
                <a:ext cx="0" cy="3505320"/>
              </a:xfrm>
              <a:prstGeom prst="line">
                <a:avLst/>
              </a:prstGeom>
              <a:ln w="5724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 txBox="1"/>
              <p:nvPr/>
            </p:nvSpPr>
            <p:spPr>
              <a:xfrm>
                <a:off x="1695600" y="3081240"/>
                <a:ext cx="360" cy="350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80" name="AutoShape 12"/>
            <p:cNvSpPr/>
            <p:nvPr/>
          </p:nvSpPr>
          <p:spPr>
            <a:xfrm>
              <a:off x="4896000" y="4071960"/>
              <a:ext cx="761760" cy="304920"/>
            </a:xfrm>
            <a:prstGeom prst="flowChartTerminator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1" name="AutoShape 13"/>
            <p:cNvSpPr/>
            <p:nvPr/>
          </p:nvSpPr>
          <p:spPr>
            <a:xfrm>
              <a:off x="5200560" y="4681440"/>
              <a:ext cx="762120" cy="304920"/>
            </a:xfrm>
            <a:prstGeom prst="flowChartTerminator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2" name="Text Box 14"/>
            <p:cNvSpPr/>
            <p:nvPr/>
          </p:nvSpPr>
          <p:spPr>
            <a:xfrm>
              <a:off x="1119240" y="2852640"/>
              <a:ext cx="1033560" cy="2210040"/>
            </a:xfrm>
            <a:prstGeom prst="rect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0836"/>
                  </a:solidFill>
                  <a:latin typeface="Tahoma"/>
                </a:rPr>
                <a:t>起跳线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3" name="Text Box 15"/>
            <p:cNvSpPr/>
            <p:nvPr/>
          </p:nvSpPr>
          <p:spPr>
            <a:xfrm>
              <a:off x="6039000" y="4681440"/>
              <a:ext cx="1676160" cy="581400"/>
            </a:xfrm>
            <a:prstGeom prst="rect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66"/>
                  </a:solidFill>
                  <a:latin typeface="Tahoma"/>
                </a:rPr>
                <a:t>落脚点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84" name="Text Box 16"/>
          <p:cNvSpPr/>
          <p:nvPr/>
        </p:nvSpPr>
        <p:spPr>
          <a:xfrm>
            <a:off x="384480" y="-71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imes New Roman"/>
                <a:ea typeface="文鼎CS舒同体"/>
              </a:rPr>
              <a:t>小常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AutoShape 2"/>
          <p:cNvSpPr/>
          <p:nvPr/>
        </p:nvSpPr>
        <p:spPr>
          <a:xfrm>
            <a:off x="750960" y="2479680"/>
            <a:ext cx="2590560" cy="2209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6" name="Text Box 3"/>
          <p:cNvSpPr/>
          <p:nvPr/>
        </p:nvSpPr>
        <p:spPr>
          <a:xfrm>
            <a:off x="533520" y="4724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26668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2440440" y="25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383040" y="269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0" name="Text Box 7"/>
          <p:cNvSpPr/>
          <p:nvPr/>
        </p:nvSpPr>
        <p:spPr>
          <a:xfrm>
            <a:off x="32785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1" name="Text Box 8"/>
          <p:cNvSpPr/>
          <p:nvPr/>
        </p:nvSpPr>
        <p:spPr>
          <a:xfrm>
            <a:off x="32767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Text Box 9"/>
          <p:cNvSpPr/>
          <p:nvPr/>
        </p:nvSpPr>
        <p:spPr>
          <a:xfrm>
            <a:off x="916200" y="213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3" name="Text Box 10"/>
          <p:cNvSpPr/>
          <p:nvPr/>
        </p:nvSpPr>
        <p:spPr>
          <a:xfrm>
            <a:off x="230040" y="3809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4" name="Text Box 11"/>
          <p:cNvSpPr/>
          <p:nvPr/>
        </p:nvSpPr>
        <p:spPr>
          <a:xfrm>
            <a:off x="590040" y="3733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5" name="Text Box 12"/>
          <p:cNvSpPr/>
          <p:nvPr/>
        </p:nvSpPr>
        <p:spPr>
          <a:xfrm>
            <a:off x="609480" y="4343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6" name="Text Box 13"/>
          <p:cNvSpPr/>
          <p:nvPr/>
        </p:nvSpPr>
        <p:spPr>
          <a:xfrm>
            <a:off x="3809880" y="838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长方体的顶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有一只蚂蚁想爬到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请你帮它画出爬行的最佳路线。并说明理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750960" y="3055680"/>
            <a:ext cx="2016000" cy="1657080"/>
            <a:chOff x="750960" y="3055680"/>
            <a:chExt cx="2016000" cy="1657080"/>
          </a:xfrm>
        </p:grpSpPr>
        <p:sp>
          <p:nvSpPr>
            <p:cNvPr id="1398" name="Line 14"/>
            <p:cNvSpPr/>
            <p:nvPr/>
          </p:nvSpPr>
          <p:spPr>
            <a:xfrm flipV="1">
              <a:off x="750960" y="3055680"/>
              <a:ext cx="2016000" cy="165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9" name=""/>
            <p:cNvSpPr txBox="1"/>
            <p:nvPr/>
          </p:nvSpPr>
          <p:spPr>
            <a:xfrm rot="10800000">
              <a:off x="750960" y="3055680"/>
              <a:ext cx="2016000" cy="16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0" name="Text Box 15"/>
          <p:cNvSpPr/>
          <p:nvPr/>
        </p:nvSpPr>
        <p:spPr>
          <a:xfrm>
            <a:off x="3494160" y="2852640"/>
            <a:ext cx="53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的蚂蚁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你认为它的最佳路线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1" name="Text Box 16"/>
          <p:cNvSpPr/>
          <p:nvPr/>
        </p:nvSpPr>
        <p:spPr>
          <a:xfrm>
            <a:off x="4041720" y="4343400"/>
            <a:ext cx="51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蚂蚁在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请你设计一条最佳路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762120" y="4114800"/>
            <a:ext cx="2057400" cy="360"/>
            <a:chOff x="762120" y="4114800"/>
            <a:chExt cx="2057400" cy="360"/>
          </a:xfrm>
        </p:grpSpPr>
        <p:sp>
          <p:nvSpPr>
            <p:cNvPr id="1403" name="Line 17"/>
            <p:cNvSpPr/>
            <p:nvPr/>
          </p:nvSpPr>
          <p:spPr>
            <a:xfrm>
              <a:off x="762120" y="4114800"/>
              <a:ext cx="2057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762120" y="41148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5" name="Text Box 18"/>
          <p:cNvSpPr/>
          <p:nvPr/>
        </p:nvSpPr>
        <p:spPr>
          <a:xfrm>
            <a:off x="2450160" y="37339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6" name="Text Box 19"/>
          <p:cNvSpPr/>
          <p:nvPr/>
        </p:nvSpPr>
        <p:spPr>
          <a:xfrm>
            <a:off x="2364480" y="406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7" name="WordArt 20"/>
          <p:cNvSpPr txBox="1"/>
          <p:nvPr/>
        </p:nvSpPr>
        <p:spPr>
          <a:xfrm>
            <a:off x="533520" y="457200"/>
            <a:ext cx="2438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你会设计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736560" y="4699080"/>
            <a:ext cx="2057400" cy="360"/>
            <a:chOff x="736560" y="4699080"/>
            <a:chExt cx="2057400" cy="360"/>
          </a:xfrm>
        </p:grpSpPr>
        <p:sp>
          <p:nvSpPr>
            <p:cNvPr id="1409" name="Line 21"/>
            <p:cNvSpPr/>
            <p:nvPr/>
          </p:nvSpPr>
          <p:spPr>
            <a:xfrm>
              <a:off x="736560" y="4699080"/>
              <a:ext cx="2057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0" name=""/>
            <p:cNvSpPr txBox="1"/>
            <p:nvPr/>
          </p:nvSpPr>
          <p:spPr>
            <a:xfrm>
              <a:off x="736560" y="46990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11" name="Text Box 22"/>
          <p:cNvSpPr/>
          <p:nvPr/>
        </p:nvSpPr>
        <p:spPr>
          <a:xfrm>
            <a:off x="19591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533520" y="1676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在直角三角形的三条边中哪一条最长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3" name="AutoShape 3"/>
          <p:cNvSpPr/>
          <p:nvPr/>
        </p:nvSpPr>
        <p:spPr>
          <a:xfrm>
            <a:off x="838080" y="3200400"/>
            <a:ext cx="2667240" cy="114300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4" name="AutoShape 4"/>
          <p:cNvSpPr/>
          <p:nvPr/>
        </p:nvSpPr>
        <p:spPr>
          <a:xfrm rot="7460400">
            <a:off x="5708160" y="3434760"/>
            <a:ext cx="2286000" cy="166356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5" name="AutoShape 5"/>
          <p:cNvSpPr/>
          <p:nvPr/>
        </p:nvSpPr>
        <p:spPr>
          <a:xfrm rot="8430000">
            <a:off x="3202920" y="4292280"/>
            <a:ext cx="1765080" cy="146196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136680" y="1219320"/>
            <a:ext cx="18190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417" name="Group 7"/>
          <p:cNvGrpSpPr/>
          <p:nvPr/>
        </p:nvGrpSpPr>
        <p:grpSpPr>
          <a:xfrm>
            <a:off x="4182840" y="3985200"/>
            <a:ext cx="209880" cy="130320"/>
            <a:chOff x="4182840" y="3985200"/>
            <a:chExt cx="209880" cy="130320"/>
          </a:xfrm>
        </p:grpSpPr>
        <p:grpSp>
          <p:nvGrpSpPr>
            <p:cNvPr id="1418" name=""/>
            <p:cNvGrpSpPr/>
            <p:nvPr/>
          </p:nvGrpSpPr>
          <p:grpSpPr>
            <a:xfrm>
              <a:off x="4182840" y="3985200"/>
              <a:ext cx="81360" cy="129960"/>
              <a:chOff x="4182840" y="3985200"/>
              <a:chExt cx="81360" cy="129960"/>
            </a:xfrm>
          </p:grpSpPr>
          <p:sp>
            <p:nvSpPr>
              <p:cNvPr id="1419" name="Line 8"/>
              <p:cNvSpPr/>
              <p:nvPr/>
            </p:nvSpPr>
            <p:spPr>
              <a:xfrm>
                <a:off x="4182840" y="3985560"/>
                <a:ext cx="80640" cy="129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 txBox="1"/>
              <p:nvPr/>
            </p:nvSpPr>
            <p:spPr>
              <a:xfrm rot="19680000">
                <a:off x="4223160" y="39736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4263480" y="4034160"/>
              <a:ext cx="129240" cy="81360"/>
              <a:chOff x="4263480" y="4034160"/>
              <a:chExt cx="129240" cy="81360"/>
            </a:xfrm>
          </p:grpSpPr>
          <p:sp>
            <p:nvSpPr>
              <p:cNvPr id="1422" name="Line 9"/>
              <p:cNvSpPr/>
              <p:nvPr/>
            </p:nvSpPr>
            <p:spPr>
              <a:xfrm flipV="1">
                <a:off x="4263480" y="4034160"/>
                <a:ext cx="129240" cy="8100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 rot="19680000">
                <a:off x="4251960" y="40744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24" name="Group 10"/>
          <p:cNvGrpSpPr/>
          <p:nvPr/>
        </p:nvGrpSpPr>
        <p:grpSpPr>
          <a:xfrm>
            <a:off x="840960" y="4187880"/>
            <a:ext cx="152640" cy="158040"/>
            <a:chOff x="840960" y="4187880"/>
            <a:chExt cx="152640" cy="158040"/>
          </a:xfrm>
        </p:grpSpPr>
        <p:grpSp>
          <p:nvGrpSpPr>
            <p:cNvPr id="1425" name=""/>
            <p:cNvGrpSpPr/>
            <p:nvPr/>
          </p:nvGrpSpPr>
          <p:grpSpPr>
            <a:xfrm>
              <a:off x="987480" y="4193640"/>
              <a:ext cx="6120" cy="152280"/>
              <a:chOff x="987480" y="4193640"/>
              <a:chExt cx="6120" cy="152280"/>
            </a:xfrm>
          </p:grpSpPr>
          <p:sp>
            <p:nvSpPr>
              <p:cNvPr id="1426" name="Line 11"/>
              <p:cNvSpPr/>
              <p:nvPr/>
            </p:nvSpPr>
            <p:spPr>
              <a:xfrm flipV="1">
                <a:off x="987840" y="4193640"/>
                <a:ext cx="576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 rot="10924200">
                <a:off x="990000" y="4193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840960" y="4187880"/>
              <a:ext cx="152640" cy="5760"/>
              <a:chOff x="840960" y="4187880"/>
              <a:chExt cx="152640" cy="5760"/>
            </a:xfrm>
          </p:grpSpPr>
          <p:sp>
            <p:nvSpPr>
              <p:cNvPr id="1429" name="Line 12"/>
              <p:cNvSpPr/>
              <p:nvPr/>
            </p:nvSpPr>
            <p:spPr>
              <a:xfrm flipH="1" flipV="1">
                <a:off x="840960" y="4187880"/>
                <a:ext cx="152640" cy="57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 txBox="1"/>
              <p:nvPr/>
            </p:nvSpPr>
            <p:spPr>
              <a:xfrm rot="10924200">
                <a:off x="840960" y="41904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31" name="Group 13"/>
          <p:cNvGrpSpPr/>
          <p:nvPr/>
        </p:nvGrpSpPr>
        <p:grpSpPr>
          <a:xfrm>
            <a:off x="6731280" y="2929680"/>
            <a:ext cx="206280" cy="135360"/>
            <a:chOff x="6731280" y="2929680"/>
            <a:chExt cx="206280" cy="135360"/>
          </a:xfrm>
        </p:grpSpPr>
        <p:grpSp>
          <p:nvGrpSpPr>
            <p:cNvPr id="1432" name=""/>
            <p:cNvGrpSpPr/>
            <p:nvPr/>
          </p:nvGrpSpPr>
          <p:grpSpPr>
            <a:xfrm>
              <a:off x="6731280" y="2993760"/>
              <a:ext cx="135360" cy="71280"/>
              <a:chOff x="6731280" y="2993760"/>
              <a:chExt cx="135360" cy="71280"/>
            </a:xfrm>
          </p:grpSpPr>
          <p:sp>
            <p:nvSpPr>
              <p:cNvPr id="1433" name="Line 14"/>
              <p:cNvSpPr/>
              <p:nvPr/>
            </p:nvSpPr>
            <p:spPr>
              <a:xfrm>
                <a:off x="6731280" y="2994120"/>
                <a:ext cx="135360" cy="70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 rot="17859000">
                <a:off x="6798600" y="29527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6866640" y="2929680"/>
              <a:ext cx="70920" cy="135000"/>
              <a:chOff x="6866640" y="2929680"/>
              <a:chExt cx="70920" cy="135000"/>
            </a:xfrm>
          </p:grpSpPr>
          <p:sp>
            <p:nvSpPr>
              <p:cNvPr id="1436" name="Line 15"/>
              <p:cNvSpPr/>
              <p:nvPr/>
            </p:nvSpPr>
            <p:spPr>
              <a:xfrm flipV="1">
                <a:off x="6866640" y="2930040"/>
                <a:ext cx="70560" cy="134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 rot="17859000">
                <a:off x="6825960" y="2997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38" name="Text Box 16"/>
          <p:cNvSpPr/>
          <p:nvPr/>
        </p:nvSpPr>
        <p:spPr>
          <a:xfrm>
            <a:off x="1873440" y="5635800"/>
            <a:ext cx="36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答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直角所对的边即斜边最长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Text Box 2"/>
          <p:cNvSpPr/>
          <p:nvPr/>
        </p:nvSpPr>
        <p:spPr>
          <a:xfrm>
            <a:off x="395280" y="50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选择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0" name="Text Box 3"/>
          <p:cNvSpPr/>
          <p:nvPr/>
        </p:nvSpPr>
        <p:spPr>
          <a:xfrm>
            <a:off x="396720" y="2276640"/>
            <a:ext cx="835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 AC⊥BC, ∠C=9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中最短的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)   AC     (B)   BC     (C)  CD    (D)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不能确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41" name="Group 4"/>
          <p:cNvGrpSpPr/>
          <p:nvPr/>
        </p:nvGrpSpPr>
        <p:grpSpPr>
          <a:xfrm>
            <a:off x="3240000" y="4292640"/>
            <a:ext cx="2736720" cy="1225440"/>
            <a:chOff x="3240000" y="4292640"/>
            <a:chExt cx="2736720" cy="1225440"/>
          </a:xfrm>
        </p:grpSpPr>
        <p:sp>
          <p:nvSpPr>
            <p:cNvPr id="1442" name="AutoShape 5"/>
            <p:cNvSpPr/>
            <p:nvPr/>
          </p:nvSpPr>
          <p:spPr>
            <a:xfrm>
              <a:off x="3240000" y="4292640"/>
              <a:ext cx="2736720" cy="12254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4608360" y="4292640"/>
              <a:ext cx="360" cy="1225440"/>
              <a:chOff x="4608360" y="4292640"/>
              <a:chExt cx="360" cy="1225440"/>
            </a:xfrm>
          </p:grpSpPr>
          <p:sp>
            <p:nvSpPr>
              <p:cNvPr id="1444" name="Line 6"/>
              <p:cNvSpPr/>
              <p:nvPr/>
            </p:nvSpPr>
            <p:spPr>
              <a:xfrm>
                <a:off x="4608360" y="4292640"/>
                <a:ext cx="0" cy="12254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>
                <a:off x="4608360" y="4292640"/>
                <a:ext cx="360" cy="122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7"/>
            <p:cNvGrpSpPr/>
            <p:nvPr/>
          </p:nvGrpSpPr>
          <p:grpSpPr>
            <a:xfrm>
              <a:off x="4608360" y="5445000"/>
              <a:ext cx="73440" cy="73080"/>
              <a:chOff x="4608360" y="5445000"/>
              <a:chExt cx="73440" cy="73080"/>
            </a:xfrm>
          </p:grpSpPr>
          <p:grpSp>
            <p:nvGrpSpPr>
              <p:cNvPr id="1447" name=""/>
              <p:cNvGrpSpPr/>
              <p:nvPr/>
            </p:nvGrpSpPr>
            <p:grpSpPr>
              <a:xfrm>
                <a:off x="4608360" y="5445000"/>
                <a:ext cx="73080" cy="360"/>
                <a:chOff x="4608360" y="5445000"/>
                <a:chExt cx="73080" cy="360"/>
              </a:xfrm>
            </p:grpSpPr>
            <p:sp>
              <p:nvSpPr>
                <p:cNvPr id="1448" name="Line 8"/>
                <p:cNvSpPr/>
                <p:nvPr/>
              </p:nvSpPr>
              <p:spPr>
                <a:xfrm>
                  <a:off x="4608360" y="5445000"/>
                  <a:ext cx="73080" cy="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 txBox="1"/>
                <p:nvPr/>
              </p:nvSpPr>
              <p:spPr>
                <a:xfrm>
                  <a:off x="4608360" y="5445000"/>
                  <a:ext cx="73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4681440" y="5445000"/>
                <a:ext cx="360" cy="73080"/>
                <a:chOff x="4681440" y="5445000"/>
                <a:chExt cx="360" cy="73080"/>
              </a:xfrm>
            </p:grpSpPr>
            <p:sp>
              <p:nvSpPr>
                <p:cNvPr id="1451" name="Line 9"/>
                <p:cNvSpPr/>
                <p:nvPr/>
              </p:nvSpPr>
              <p:spPr>
                <a:xfrm>
                  <a:off x="4681440" y="5445000"/>
                  <a:ext cx="0" cy="7308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 txBox="1"/>
                <p:nvPr/>
              </p:nvSpPr>
              <p:spPr>
                <a:xfrm>
                  <a:off x="4681440" y="544500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4537080" y="4365360"/>
              <a:ext cx="71280" cy="71640"/>
              <a:chOff x="4537080" y="4365360"/>
              <a:chExt cx="71280" cy="71640"/>
            </a:xfrm>
          </p:grpSpPr>
          <p:sp>
            <p:nvSpPr>
              <p:cNvPr id="1454" name="Line 10"/>
              <p:cNvSpPr/>
              <p:nvPr/>
            </p:nvSpPr>
            <p:spPr>
              <a:xfrm>
                <a:off x="4537080" y="4365360"/>
                <a:ext cx="71280" cy="716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 txBox="1"/>
              <p:nvPr/>
            </p:nvSpPr>
            <p:spPr>
              <a:xfrm>
                <a:off x="4537080" y="4365360"/>
                <a:ext cx="7128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4608000" y="4365000"/>
              <a:ext cx="73440" cy="71640"/>
              <a:chOff x="4608000" y="4365000"/>
              <a:chExt cx="73440" cy="71640"/>
            </a:xfrm>
          </p:grpSpPr>
          <p:sp>
            <p:nvSpPr>
              <p:cNvPr id="1457" name="Line 11"/>
              <p:cNvSpPr/>
              <p:nvPr/>
            </p:nvSpPr>
            <p:spPr>
              <a:xfrm flipV="1">
                <a:off x="4608360" y="4365000"/>
                <a:ext cx="73080" cy="716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 txBox="1"/>
              <p:nvPr/>
            </p:nvSpPr>
            <p:spPr>
              <a:xfrm rot="10800000">
                <a:off x="4608000" y="4365000"/>
                <a:ext cx="7308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Rectangle 12"/>
          <p:cNvSpPr/>
          <p:nvPr/>
        </p:nvSpPr>
        <p:spPr>
          <a:xfrm>
            <a:off x="4465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0" name="Rectangle 13"/>
          <p:cNvSpPr/>
          <p:nvPr/>
        </p:nvSpPr>
        <p:spPr>
          <a:xfrm>
            <a:off x="2738160" y="5370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1" name="Rectangle 14"/>
          <p:cNvSpPr/>
          <p:nvPr/>
        </p:nvSpPr>
        <p:spPr>
          <a:xfrm>
            <a:off x="5978520" y="5370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2" name="Rectangle 15"/>
          <p:cNvSpPr/>
          <p:nvPr/>
        </p:nvSpPr>
        <p:spPr>
          <a:xfrm>
            <a:off x="467172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3" name="Rectangle 16"/>
          <p:cNvSpPr/>
          <p:nvPr/>
        </p:nvSpPr>
        <p:spPr>
          <a:xfrm>
            <a:off x="2843280" y="2781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Text Box 2"/>
          <p:cNvSpPr/>
          <p:nvPr/>
        </p:nvSpPr>
        <p:spPr>
          <a:xfrm>
            <a:off x="449280" y="476280"/>
            <a:ext cx="30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4912920" y="2924280"/>
            <a:ext cx="1800720" cy="2520720"/>
            <a:chOff x="4912920" y="2924280"/>
            <a:chExt cx="1800720" cy="2520720"/>
          </a:xfrm>
        </p:grpSpPr>
        <p:sp>
          <p:nvSpPr>
            <p:cNvPr id="1466" name="Line 3"/>
            <p:cNvSpPr/>
            <p:nvPr/>
          </p:nvSpPr>
          <p:spPr>
            <a:xfrm flipH="1">
              <a:off x="4912920" y="2924280"/>
              <a:ext cx="180036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4913280" y="2924280"/>
              <a:ext cx="180036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4913280" y="5445000"/>
            <a:ext cx="2881440" cy="360"/>
            <a:chOff x="4913280" y="5445000"/>
            <a:chExt cx="2881440" cy="360"/>
          </a:xfrm>
        </p:grpSpPr>
        <p:sp>
          <p:nvSpPr>
            <p:cNvPr id="1469" name="Line 4"/>
            <p:cNvSpPr/>
            <p:nvPr/>
          </p:nvSpPr>
          <p:spPr>
            <a:xfrm>
              <a:off x="4913280" y="5445000"/>
              <a:ext cx="2881440" cy="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4913280" y="544500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713640" y="2924280"/>
            <a:ext cx="1081080" cy="2520720"/>
            <a:chOff x="6713640" y="2924280"/>
            <a:chExt cx="1081080" cy="2520720"/>
          </a:xfrm>
        </p:grpSpPr>
        <p:sp>
          <p:nvSpPr>
            <p:cNvPr id="1472" name="Line 5"/>
            <p:cNvSpPr/>
            <p:nvPr/>
          </p:nvSpPr>
          <p:spPr>
            <a:xfrm>
              <a:off x="6713640" y="2924280"/>
              <a:ext cx="108108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6713640" y="2924280"/>
              <a:ext cx="108108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732720" y="2997360"/>
            <a:ext cx="215640" cy="2447640"/>
            <a:chOff x="6732720" y="2997360"/>
            <a:chExt cx="215640" cy="2447640"/>
          </a:xfrm>
        </p:grpSpPr>
        <p:sp>
          <p:nvSpPr>
            <p:cNvPr id="1475" name="Line 6"/>
            <p:cNvSpPr/>
            <p:nvPr/>
          </p:nvSpPr>
          <p:spPr>
            <a:xfrm>
              <a:off x="6732720" y="2997360"/>
              <a:ext cx="215640" cy="244764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6" name=""/>
            <p:cNvSpPr txBox="1"/>
            <p:nvPr/>
          </p:nvSpPr>
          <p:spPr>
            <a:xfrm>
              <a:off x="6732720" y="2997360"/>
              <a:ext cx="21564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713640" y="2924280"/>
            <a:ext cx="576000" cy="2520720"/>
            <a:chOff x="6713640" y="2924280"/>
            <a:chExt cx="576000" cy="2520720"/>
          </a:xfrm>
        </p:grpSpPr>
        <p:sp>
          <p:nvSpPr>
            <p:cNvPr id="1478" name="Line 7"/>
            <p:cNvSpPr/>
            <p:nvPr/>
          </p:nvSpPr>
          <p:spPr>
            <a:xfrm>
              <a:off x="6713640" y="2924280"/>
              <a:ext cx="57600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9" name=""/>
            <p:cNvSpPr txBox="1"/>
            <p:nvPr/>
          </p:nvSpPr>
          <p:spPr>
            <a:xfrm>
              <a:off x="6713640" y="2924280"/>
              <a:ext cx="57600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80" name="Text Box 8"/>
          <p:cNvSpPr/>
          <p:nvPr/>
        </p:nvSpPr>
        <p:spPr>
          <a:xfrm>
            <a:off x="6281640" y="54039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1" name="Text Box 9"/>
          <p:cNvSpPr/>
          <p:nvPr/>
        </p:nvSpPr>
        <p:spPr>
          <a:xfrm>
            <a:off x="4410000" y="5373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2" name="Text Box 10"/>
          <p:cNvSpPr/>
          <p:nvPr/>
        </p:nvSpPr>
        <p:spPr>
          <a:xfrm>
            <a:off x="7650000" y="53308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3" name="Text Box 11"/>
          <p:cNvSpPr/>
          <p:nvPr/>
        </p:nvSpPr>
        <p:spPr>
          <a:xfrm>
            <a:off x="606600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4" name="Text Box 12"/>
          <p:cNvSpPr/>
          <p:nvPr/>
        </p:nvSpPr>
        <p:spPr>
          <a:xfrm>
            <a:off x="7074000" y="540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5" name="Text Box 13"/>
          <p:cNvSpPr/>
          <p:nvPr/>
        </p:nvSpPr>
        <p:spPr>
          <a:xfrm>
            <a:off x="324000" y="1125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已知：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如图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D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E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C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B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能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D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长是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C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距离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6" name="Text Box 14"/>
          <p:cNvSpPr/>
          <p:nvPr/>
        </p:nvSpPr>
        <p:spPr>
          <a:xfrm>
            <a:off x="685800" y="44323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a10e8"/>
                </a:solidFill>
                <a:latin typeface="Times New Roman"/>
              </a:rPr>
              <a:t>答：不能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7" name="文本框 8200"/>
          <p:cNvSpPr/>
          <p:nvPr/>
        </p:nvSpPr>
        <p:spPr>
          <a:xfrm>
            <a:off x="2424240" y="689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Picture 2" descr="http://berl.tjjy.net/Resource/CZ/CZSX/JAJC/CYJH/D2/0020_MATH0016_4.gif"/>
          <p:cNvPicPr/>
          <p:nvPr/>
        </p:nvPicPr>
        <p:blipFill>
          <a:blip r:embed="rId1"/>
          <a:stretch/>
        </p:blipFill>
        <p:spPr>
          <a:xfrm>
            <a:off x="5486400" y="2514600"/>
            <a:ext cx="3200400" cy="256860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3"/>
          <p:cNvSpPr/>
          <p:nvPr/>
        </p:nvSpPr>
        <p:spPr>
          <a:xfrm>
            <a:off x="38088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  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如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-2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C⊥B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D⊥A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⊥B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试比较四条线段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大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0" name="Text Box 4"/>
          <p:cNvSpPr/>
          <p:nvPr/>
        </p:nvSpPr>
        <p:spPr>
          <a:xfrm>
            <a:off x="228600" y="2743200"/>
            <a:ext cx="535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⊥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⊥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⊥C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91" name="Group 5"/>
          <p:cNvGrpSpPr/>
          <p:nvPr/>
        </p:nvGrpSpPr>
        <p:grpSpPr>
          <a:xfrm>
            <a:off x="6581520" y="4066560"/>
            <a:ext cx="152280" cy="152640"/>
            <a:chOff x="6581520" y="4066560"/>
            <a:chExt cx="152280" cy="152640"/>
          </a:xfrm>
        </p:grpSpPr>
        <p:grpSp>
          <p:nvGrpSpPr>
            <p:cNvPr id="1492" name=""/>
            <p:cNvGrpSpPr/>
            <p:nvPr/>
          </p:nvGrpSpPr>
          <p:grpSpPr>
            <a:xfrm>
              <a:off x="6733080" y="4066920"/>
              <a:ext cx="720" cy="152280"/>
              <a:chOff x="6733080" y="4066920"/>
              <a:chExt cx="720" cy="152280"/>
            </a:xfrm>
          </p:grpSpPr>
          <p:sp>
            <p:nvSpPr>
              <p:cNvPr id="1493" name="Line 6"/>
              <p:cNvSpPr/>
              <p:nvPr/>
            </p:nvSpPr>
            <p:spPr>
              <a:xfrm flipV="1">
                <a:off x="6733800" y="4066920"/>
                <a:ext cx="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 txBox="1"/>
              <p:nvPr/>
            </p:nvSpPr>
            <p:spPr>
              <a:xfrm rot="10795200">
                <a:off x="6733080" y="4066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6581520" y="4066560"/>
              <a:ext cx="152280" cy="720"/>
              <a:chOff x="6581520" y="4066560"/>
              <a:chExt cx="152280" cy="720"/>
            </a:xfrm>
          </p:grpSpPr>
          <p:sp>
            <p:nvSpPr>
              <p:cNvPr id="1496" name="Line 7"/>
              <p:cNvSpPr/>
              <p:nvPr/>
            </p:nvSpPr>
            <p:spPr>
              <a:xfrm flipH="1">
                <a:off x="6581520" y="406692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 txBox="1"/>
              <p:nvPr/>
            </p:nvSpPr>
            <p:spPr>
              <a:xfrm rot="10795200">
                <a:off x="6581160" y="40665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98" name="Group 8"/>
          <p:cNvGrpSpPr/>
          <p:nvPr/>
        </p:nvGrpSpPr>
        <p:grpSpPr>
          <a:xfrm>
            <a:off x="7032600" y="3354840"/>
            <a:ext cx="213120" cy="123480"/>
            <a:chOff x="7032600" y="3354840"/>
            <a:chExt cx="213120" cy="123480"/>
          </a:xfrm>
        </p:grpSpPr>
        <p:grpSp>
          <p:nvGrpSpPr>
            <p:cNvPr id="1499" name=""/>
            <p:cNvGrpSpPr/>
            <p:nvPr/>
          </p:nvGrpSpPr>
          <p:grpSpPr>
            <a:xfrm>
              <a:off x="7032600" y="3387960"/>
              <a:ext cx="123480" cy="90000"/>
              <a:chOff x="7032600" y="3387960"/>
              <a:chExt cx="123480" cy="90000"/>
            </a:xfrm>
          </p:grpSpPr>
          <p:sp>
            <p:nvSpPr>
              <p:cNvPr id="1500" name="Line 9"/>
              <p:cNvSpPr/>
              <p:nvPr/>
            </p:nvSpPr>
            <p:spPr>
              <a:xfrm>
                <a:off x="7032600" y="3388320"/>
                <a:ext cx="123120" cy="8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 rot="18363600">
                <a:off x="7093800" y="3356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7155720" y="3354840"/>
              <a:ext cx="90000" cy="123480"/>
              <a:chOff x="7155720" y="3354840"/>
              <a:chExt cx="90000" cy="123480"/>
            </a:xfrm>
          </p:grpSpPr>
          <p:sp>
            <p:nvSpPr>
              <p:cNvPr id="1503" name="Line 10"/>
              <p:cNvSpPr/>
              <p:nvPr/>
            </p:nvSpPr>
            <p:spPr>
              <a:xfrm flipV="1">
                <a:off x="7155720" y="3354840"/>
                <a:ext cx="89640" cy="123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 rot="18363600">
                <a:off x="7124400" y="3416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505" name="Group 11"/>
          <p:cNvGrpSpPr/>
          <p:nvPr/>
        </p:nvGrpSpPr>
        <p:grpSpPr>
          <a:xfrm>
            <a:off x="6521760" y="3042720"/>
            <a:ext cx="215640" cy="113040"/>
            <a:chOff x="6521760" y="3042720"/>
            <a:chExt cx="215640" cy="113040"/>
          </a:xfrm>
        </p:grpSpPr>
        <p:grpSp>
          <p:nvGrpSpPr>
            <p:cNvPr id="1506" name=""/>
            <p:cNvGrpSpPr/>
            <p:nvPr/>
          </p:nvGrpSpPr>
          <p:grpSpPr>
            <a:xfrm>
              <a:off x="6521760" y="3052080"/>
              <a:ext cx="113040" cy="103320"/>
              <a:chOff x="6521760" y="3052080"/>
              <a:chExt cx="113040" cy="103320"/>
            </a:xfrm>
          </p:grpSpPr>
          <p:sp>
            <p:nvSpPr>
              <p:cNvPr id="1507" name="Line 12"/>
              <p:cNvSpPr/>
              <p:nvPr/>
            </p:nvSpPr>
            <p:spPr>
              <a:xfrm>
                <a:off x="6521760" y="3052440"/>
                <a:ext cx="112680" cy="1029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 rot="18743400">
                <a:off x="6577920" y="302724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634440" y="3042720"/>
              <a:ext cx="102960" cy="113040"/>
              <a:chOff x="6634440" y="3042720"/>
              <a:chExt cx="102960" cy="113040"/>
            </a:xfrm>
          </p:grpSpPr>
          <p:sp>
            <p:nvSpPr>
              <p:cNvPr id="1510" name="Line 13"/>
              <p:cNvSpPr/>
              <p:nvPr/>
            </p:nvSpPr>
            <p:spPr>
              <a:xfrm flipV="1">
                <a:off x="6634440" y="3042720"/>
                <a:ext cx="102960" cy="112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8743400">
                <a:off x="6609600" y="30988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5866920" y="2895480"/>
            <a:ext cx="762480" cy="1295640"/>
            <a:chOff x="5866920" y="2895480"/>
            <a:chExt cx="762480" cy="1295640"/>
          </a:xfrm>
        </p:grpSpPr>
        <p:sp>
          <p:nvSpPr>
            <p:cNvPr id="1513" name="Line 14"/>
            <p:cNvSpPr/>
            <p:nvPr/>
          </p:nvSpPr>
          <p:spPr>
            <a:xfrm flipH="1">
              <a:off x="5866920" y="2895480"/>
              <a:ext cx="762120" cy="1295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5867280" y="2895480"/>
              <a:ext cx="76212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6600960" y="2909880"/>
            <a:ext cx="360" cy="1295280"/>
            <a:chOff x="6600960" y="2909880"/>
            <a:chExt cx="360" cy="1295280"/>
          </a:xfrm>
        </p:grpSpPr>
        <p:sp>
          <p:nvSpPr>
            <p:cNvPr id="1516" name="Line 15"/>
            <p:cNvSpPr/>
            <p:nvPr/>
          </p:nvSpPr>
          <p:spPr>
            <a:xfrm>
              <a:off x="6600960" y="2909880"/>
              <a:ext cx="0" cy="129528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7" name=""/>
            <p:cNvSpPr txBox="1"/>
            <p:nvPr/>
          </p:nvSpPr>
          <p:spPr>
            <a:xfrm>
              <a:off x="6600960" y="290988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6629400" y="3276720"/>
            <a:ext cx="457200" cy="990360"/>
            <a:chOff x="6629400" y="3276720"/>
            <a:chExt cx="457200" cy="990360"/>
          </a:xfrm>
        </p:grpSpPr>
        <p:sp>
          <p:nvSpPr>
            <p:cNvPr id="1519" name="Line 16"/>
            <p:cNvSpPr/>
            <p:nvPr/>
          </p:nvSpPr>
          <p:spPr>
            <a:xfrm flipH="1">
              <a:off x="6629400" y="3276720"/>
              <a:ext cx="457200" cy="99036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>
              <a:off x="6629400" y="3276720"/>
              <a:ext cx="4572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5867280" y="4205160"/>
            <a:ext cx="2590920" cy="360"/>
            <a:chOff x="5867280" y="4205160"/>
            <a:chExt cx="2590920" cy="360"/>
          </a:xfrm>
        </p:grpSpPr>
        <p:sp>
          <p:nvSpPr>
            <p:cNvPr id="1522" name="Line 17"/>
            <p:cNvSpPr/>
            <p:nvPr/>
          </p:nvSpPr>
          <p:spPr>
            <a:xfrm>
              <a:off x="5867280" y="4205160"/>
              <a:ext cx="2590920" cy="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3" name=""/>
            <p:cNvSpPr txBox="1"/>
            <p:nvPr/>
          </p:nvSpPr>
          <p:spPr>
            <a:xfrm>
              <a:off x="5867280" y="420516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3C73-B0A1-4D31-9150-52DCC55A489E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solidFill>
            <a:srgbClr val="e8ab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回忆两条直线相交这部分知识，并问：你们能够把它们画成一个知识结构图吗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9" name="Rectangle 3"/>
          <p:cNvSpPr/>
          <p:nvPr/>
        </p:nvSpPr>
        <p:spPr>
          <a:xfrm>
            <a:off x="26193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0" name="Picture 4" descr="http://berl.tjjy.net/Resource/CZ/CZSX/JAJC/CYJH/D2/0020_MATH0016_6.gif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31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8ab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小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1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620640"/>
            <a:ext cx="94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华文中宋"/>
              </a:rPr>
              <a:t>线段、射线的垂线应怎么画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4495680"/>
            <a:ext cx="360" cy="360"/>
            <a:chOff x="1752480" y="4495680"/>
            <a:chExt cx="360" cy="360"/>
          </a:xfrm>
        </p:grpSpPr>
        <p:sp>
          <p:nvSpPr>
            <p:cNvPr id="134" name="Line 3"/>
            <p:cNvSpPr/>
            <p:nvPr/>
          </p:nvSpPr>
          <p:spPr>
            <a:xfrm>
              <a:off x="1752480" y="4495680"/>
              <a:ext cx="0" cy="0"/>
            </a:xfrm>
            <a:prstGeom prst="line">
              <a:avLst/>
            </a:prstGeom>
            <a:ln w="9360">
              <a:solidFill>
                <a:srgbClr val="0075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752480" y="449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Oval 4"/>
          <p:cNvSpPr/>
          <p:nvPr/>
        </p:nvSpPr>
        <p:spPr>
          <a:xfrm>
            <a:off x="6172200" y="4419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75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533520" y="2895480"/>
            <a:ext cx="8229600" cy="2197080"/>
            <a:chOff x="533520" y="2895480"/>
            <a:chExt cx="8229600" cy="2197080"/>
          </a:xfrm>
        </p:grpSpPr>
        <p:grpSp>
          <p:nvGrpSpPr>
            <p:cNvPr id="138" name="Group 6"/>
            <p:cNvGrpSpPr/>
            <p:nvPr/>
          </p:nvGrpSpPr>
          <p:grpSpPr>
            <a:xfrm>
              <a:off x="1676520" y="4419720"/>
              <a:ext cx="2514600" cy="596520"/>
              <a:chOff x="1676520" y="4419720"/>
              <a:chExt cx="2514600" cy="59652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1905120" y="4419720"/>
                <a:ext cx="1981080" cy="76320"/>
                <a:chOff x="1905120" y="4419720"/>
                <a:chExt cx="1981080" cy="7632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905120" y="4495680"/>
                  <a:ext cx="1981080" cy="360"/>
                  <a:chOff x="1905120" y="4495680"/>
                  <a:chExt cx="1981080" cy="360"/>
                </a:xfrm>
              </p:grpSpPr>
              <p:sp>
                <p:nvSpPr>
                  <p:cNvPr id="141" name="Line 8"/>
                  <p:cNvSpPr/>
                  <p:nvPr/>
                </p:nvSpPr>
                <p:spPr>
                  <a:xfrm>
                    <a:off x="1905120" y="4495680"/>
                    <a:ext cx="19810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 txBox="1"/>
                  <p:nvPr/>
                </p:nvSpPr>
                <p:spPr>
                  <a:xfrm>
                    <a:off x="1905120" y="4495680"/>
                    <a:ext cx="1981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905120" y="4419720"/>
                  <a:ext cx="360" cy="75960"/>
                  <a:chOff x="1905120" y="4419720"/>
                  <a:chExt cx="360" cy="75960"/>
                </a:xfrm>
              </p:grpSpPr>
              <p:sp>
                <p:nvSpPr>
                  <p:cNvPr id="144" name="Line 9"/>
                  <p:cNvSpPr/>
                  <p:nvPr/>
                </p:nvSpPr>
                <p:spPr>
                  <a:xfrm>
                    <a:off x="1905120" y="4419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 txBox="1"/>
                  <p:nvPr/>
                </p:nvSpPr>
                <p:spPr>
                  <a:xfrm>
                    <a:off x="1905120" y="44197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ctr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3873240" y="4419720"/>
                  <a:ext cx="360" cy="75960"/>
                  <a:chOff x="3873240" y="4419720"/>
                  <a:chExt cx="360" cy="75960"/>
                </a:xfrm>
              </p:grpSpPr>
              <p:sp>
                <p:nvSpPr>
                  <p:cNvPr id="147" name="Line 10"/>
                  <p:cNvSpPr/>
                  <p:nvPr/>
                </p:nvSpPr>
                <p:spPr>
                  <a:xfrm>
                    <a:off x="3873240" y="4419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 txBox="1"/>
                  <p:nvPr/>
                </p:nvSpPr>
                <p:spPr>
                  <a:xfrm>
                    <a:off x="3873240" y="44197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ctr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" name="Text Box 11"/>
              <p:cNvSpPr/>
              <p:nvPr/>
            </p:nvSpPr>
            <p:spPr>
              <a:xfrm>
                <a:off x="1676520" y="4495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A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" name="Text Box 12"/>
              <p:cNvSpPr/>
              <p:nvPr/>
            </p:nvSpPr>
            <p:spPr>
              <a:xfrm>
                <a:off x="3657600" y="4495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B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3"/>
            <p:cNvGrpSpPr/>
            <p:nvPr/>
          </p:nvGrpSpPr>
          <p:grpSpPr>
            <a:xfrm>
              <a:off x="533520" y="2895480"/>
              <a:ext cx="685800" cy="596880"/>
              <a:chOff x="533520" y="2895480"/>
              <a:chExt cx="685800" cy="596880"/>
            </a:xfrm>
          </p:grpSpPr>
          <p:sp>
            <p:nvSpPr>
              <p:cNvPr id="152" name="Oval 14"/>
              <p:cNvSpPr/>
              <p:nvPr/>
            </p:nvSpPr>
            <p:spPr>
              <a:xfrm>
                <a:off x="533520" y="2895480"/>
                <a:ext cx="76320" cy="7632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" name="Text Box 15"/>
              <p:cNvSpPr/>
              <p:nvPr/>
            </p:nvSpPr>
            <p:spPr>
              <a:xfrm>
                <a:off x="609840" y="2971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48520" y="4475160"/>
              <a:ext cx="2514600" cy="360"/>
              <a:chOff x="6248520" y="4475160"/>
              <a:chExt cx="2514600" cy="36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6248520" y="4475160"/>
                <a:ext cx="2514600" cy="0"/>
              </a:xfrm>
              <a:prstGeom prst="line">
                <a:avLst/>
              </a:prstGeom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6248520" y="447516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7"/>
            <p:cNvGrpSpPr/>
            <p:nvPr/>
          </p:nvGrpSpPr>
          <p:grpSpPr>
            <a:xfrm>
              <a:off x="5257800" y="2971800"/>
              <a:ext cx="685800" cy="596880"/>
              <a:chOff x="5257800" y="2971800"/>
              <a:chExt cx="685800" cy="596880"/>
            </a:xfrm>
          </p:grpSpPr>
          <p:sp>
            <p:nvSpPr>
              <p:cNvPr id="158" name="Oval 18"/>
              <p:cNvSpPr/>
              <p:nvPr/>
            </p:nvSpPr>
            <p:spPr>
              <a:xfrm>
                <a:off x="5257800" y="2971800"/>
                <a:ext cx="76320" cy="7632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334120" y="30481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Q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60" name="Text Box 20"/>
            <p:cNvSpPr/>
            <p:nvPr/>
          </p:nvSpPr>
          <p:spPr>
            <a:xfrm>
              <a:off x="6019920" y="4572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Text Box 21"/>
            <p:cNvSpPr/>
            <p:nvPr/>
          </p:nvSpPr>
          <p:spPr>
            <a:xfrm>
              <a:off x="8153280" y="4495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27080" y="4460760"/>
            <a:ext cx="1600560" cy="360"/>
            <a:chOff x="4627080" y="4460760"/>
            <a:chExt cx="1600560" cy="360"/>
          </a:xfrm>
        </p:grpSpPr>
        <p:sp>
          <p:nvSpPr>
            <p:cNvPr id="163" name="Line 22"/>
            <p:cNvSpPr/>
            <p:nvPr/>
          </p:nvSpPr>
          <p:spPr>
            <a:xfrm flipH="1">
              <a:off x="4627080" y="4460760"/>
              <a:ext cx="160020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627440" y="44607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590400" y="2133720"/>
            <a:ext cx="1009800" cy="2361600"/>
            <a:chOff x="590400" y="2133720"/>
            <a:chExt cx="1009800" cy="2361600"/>
          </a:xfrm>
        </p:grpSpPr>
        <p:sp>
          <p:nvSpPr>
            <p:cNvPr id="166" name="AutoShape 24"/>
            <p:cNvSpPr/>
            <p:nvPr/>
          </p:nvSpPr>
          <p:spPr>
            <a:xfrm>
              <a:off x="590400" y="2133720"/>
              <a:ext cx="1009800" cy="236160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4760" y="2885040"/>
              <a:ext cx="576720" cy="134640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5319720" y="2286000"/>
            <a:ext cx="928800" cy="2171520"/>
            <a:chOff x="5319720" y="2286000"/>
            <a:chExt cx="928800" cy="2171520"/>
          </a:xfrm>
        </p:grpSpPr>
        <p:sp>
          <p:nvSpPr>
            <p:cNvPr id="169" name="AutoShape 27"/>
            <p:cNvSpPr/>
            <p:nvPr/>
          </p:nvSpPr>
          <p:spPr>
            <a:xfrm>
              <a:off x="5319720" y="2286000"/>
              <a:ext cx="928800" cy="217152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AutoShape 28"/>
            <p:cNvSpPr/>
            <p:nvPr/>
          </p:nvSpPr>
          <p:spPr>
            <a:xfrm>
              <a:off x="5452560" y="2976840"/>
              <a:ext cx="530280" cy="123804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1680" y="1828800"/>
            <a:ext cx="360" cy="3030480"/>
            <a:chOff x="571680" y="1828800"/>
            <a:chExt cx="360" cy="3030480"/>
          </a:xfrm>
        </p:grpSpPr>
        <p:sp>
          <p:nvSpPr>
            <p:cNvPr id="172" name="Line 29"/>
            <p:cNvSpPr/>
            <p:nvPr/>
          </p:nvSpPr>
          <p:spPr>
            <a:xfrm>
              <a:off x="571680" y="1828800"/>
              <a:ext cx="0" cy="30304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71680" y="1828800"/>
              <a:ext cx="360" cy="30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299200" y="1771560"/>
            <a:ext cx="360" cy="3105360"/>
            <a:chOff x="5299200" y="1771560"/>
            <a:chExt cx="360" cy="3105360"/>
          </a:xfrm>
        </p:grpSpPr>
        <p:sp>
          <p:nvSpPr>
            <p:cNvPr id="175" name="Line 30"/>
            <p:cNvSpPr/>
            <p:nvPr/>
          </p:nvSpPr>
          <p:spPr>
            <a:xfrm>
              <a:off x="5299200" y="1771560"/>
              <a:ext cx="0" cy="3105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299200" y="1771560"/>
              <a:ext cx="360" cy="310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3640" y="4508640"/>
            <a:ext cx="1600560" cy="360"/>
            <a:chOff x="323640" y="4508640"/>
            <a:chExt cx="1600560" cy="360"/>
          </a:xfrm>
        </p:grpSpPr>
        <p:sp>
          <p:nvSpPr>
            <p:cNvPr id="178" name="Line 31"/>
            <p:cNvSpPr/>
            <p:nvPr/>
          </p:nvSpPr>
          <p:spPr>
            <a:xfrm flipH="1">
              <a:off x="323640" y="4508640"/>
              <a:ext cx="160020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24000" y="45086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0" name="Text Box 32"/>
          <p:cNvSpPr/>
          <p:nvPr/>
        </p:nvSpPr>
        <p:spPr>
          <a:xfrm>
            <a:off x="2484360" y="5229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:P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42920" y="533520"/>
            <a:ext cx="6913800" cy="5775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7221600" y="3587760"/>
            <a:ext cx="144360" cy="14436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 rot="19592400">
            <a:off x="2395080" y="3393720"/>
            <a:ext cx="135000" cy="13824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661080" y="3745080"/>
            <a:ext cx="1150920" cy="360"/>
            <a:chOff x="6661080" y="3745080"/>
            <a:chExt cx="1150920" cy="360"/>
          </a:xfrm>
        </p:grpSpPr>
        <p:sp>
          <p:nvSpPr>
            <p:cNvPr id="185" name="Line 5"/>
            <p:cNvSpPr/>
            <p:nvPr/>
          </p:nvSpPr>
          <p:spPr>
            <a:xfrm>
              <a:off x="6661080" y="3745080"/>
              <a:ext cx="1150920" cy="0"/>
            </a:xfrm>
            <a:prstGeom prst="line">
              <a:avLst/>
            </a:prstGeom>
            <a:ln w="38160">
              <a:solidFill>
                <a:srgbClr val="cc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661080" y="374508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221600" y="2708280"/>
            <a:ext cx="360" cy="1441440"/>
            <a:chOff x="7221600" y="2708280"/>
            <a:chExt cx="360" cy="1441440"/>
          </a:xfrm>
        </p:grpSpPr>
        <p:sp>
          <p:nvSpPr>
            <p:cNvPr id="188" name="Line 6"/>
            <p:cNvSpPr/>
            <p:nvPr/>
          </p:nvSpPr>
          <p:spPr>
            <a:xfrm>
              <a:off x="7221600" y="2708280"/>
              <a:ext cx="0" cy="144144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1600" y="270828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0" name="Rectangle 7"/>
          <p:cNvSpPr/>
          <p:nvPr/>
        </p:nvSpPr>
        <p:spPr>
          <a:xfrm>
            <a:off x="4103640" y="5300640"/>
            <a:ext cx="108000" cy="13176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95720" y="4365720"/>
            <a:ext cx="360" cy="1152360"/>
            <a:chOff x="4095720" y="4365720"/>
            <a:chExt cx="360" cy="1152360"/>
          </a:xfrm>
        </p:grpSpPr>
        <p:sp>
          <p:nvSpPr>
            <p:cNvPr id="192" name="Line 8"/>
            <p:cNvSpPr/>
            <p:nvPr/>
          </p:nvSpPr>
          <p:spPr>
            <a:xfrm>
              <a:off x="4095720" y="4365720"/>
              <a:ext cx="0" cy="115236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4095720" y="436572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35280" y="2637000"/>
            <a:ext cx="936360" cy="1368360"/>
            <a:chOff x="1835280" y="2637000"/>
            <a:chExt cx="936360" cy="1368360"/>
          </a:xfrm>
        </p:grpSpPr>
        <p:sp>
          <p:nvSpPr>
            <p:cNvPr id="195" name="Line 9"/>
            <p:cNvSpPr/>
            <p:nvPr/>
          </p:nvSpPr>
          <p:spPr>
            <a:xfrm>
              <a:off x="1835280" y="2637000"/>
              <a:ext cx="936360" cy="136836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835280" y="2637000"/>
              <a:ext cx="936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7" name="Text Box 10"/>
          <p:cNvSpPr/>
          <p:nvPr/>
        </p:nvSpPr>
        <p:spPr>
          <a:xfrm>
            <a:off x="2197440" y="363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723780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64824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4859280" y="4365720"/>
            <a:ext cx="3816360" cy="13737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注意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画线段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或射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的垂线时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有时要将线段延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或将射线反向延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后再画垂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1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1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1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468360" y="333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课堂练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395280" y="1341360"/>
            <a:ext cx="8915400" cy="520560"/>
            <a:chOff x="395280" y="1341360"/>
            <a:chExt cx="8915400" cy="520560"/>
          </a:xfrm>
        </p:grpSpPr>
        <p:sp>
          <p:nvSpPr>
            <p:cNvPr id="203" name="Rectangle 4"/>
            <p:cNvSpPr/>
            <p:nvPr/>
          </p:nvSpPr>
          <p:spPr>
            <a:xfrm>
              <a:off x="395280" y="1341360"/>
              <a:ext cx="89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过点      向线段    所在直线引垂线，正确的是（     ）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4" name="Object 5" descr=""/>
            <p:cNvPicPr/>
            <p:nvPr/>
          </p:nvPicPr>
          <p:blipFill>
            <a:blip r:embed="rId1"/>
            <a:stretch/>
          </p:blipFill>
          <p:spPr>
            <a:xfrm>
              <a:off x="1900080" y="1454040"/>
              <a:ext cx="3589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6" descr=""/>
            <p:cNvPicPr/>
            <p:nvPr/>
          </p:nvPicPr>
          <p:blipFill>
            <a:blip r:embed="rId2"/>
            <a:stretch/>
          </p:blipFill>
          <p:spPr>
            <a:xfrm>
              <a:off x="3195720" y="1415880"/>
              <a:ext cx="60948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Rectangle 7"/>
          <p:cNvSpPr/>
          <p:nvPr/>
        </p:nvSpPr>
        <p:spPr>
          <a:xfrm>
            <a:off x="0" y="24652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2712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331920" y="2163600"/>
            <a:ext cx="8091000" cy="2217600"/>
            <a:chOff x="331920" y="2163600"/>
            <a:chExt cx="8091000" cy="2217600"/>
          </a:xfrm>
        </p:grpSpPr>
        <p:sp>
          <p:nvSpPr>
            <p:cNvPr id="209" name="Rectangle 10"/>
            <p:cNvSpPr/>
            <p:nvPr/>
          </p:nvSpPr>
          <p:spPr>
            <a:xfrm>
              <a:off x="498240" y="216360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A                 B                       C                       D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0" name="Picture 11" descr="1"/>
            <p:cNvPicPr/>
            <p:nvPr/>
          </p:nvPicPr>
          <p:blipFill>
            <a:blip r:embed="rId3"/>
            <a:stretch/>
          </p:blipFill>
          <p:spPr>
            <a:xfrm>
              <a:off x="331920" y="2998800"/>
              <a:ext cx="19191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2"/>
            <p:cNvPicPr/>
            <p:nvPr/>
          </p:nvPicPr>
          <p:blipFill>
            <a:blip r:embed="rId4"/>
            <a:stretch/>
          </p:blipFill>
          <p:spPr>
            <a:xfrm>
              <a:off x="2403360" y="2697120"/>
              <a:ext cx="1477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3"/>
            <p:cNvPicPr/>
            <p:nvPr/>
          </p:nvPicPr>
          <p:blipFill>
            <a:blip r:embed="rId5"/>
            <a:stretch/>
          </p:blipFill>
          <p:spPr>
            <a:xfrm>
              <a:off x="4157640" y="2755800"/>
              <a:ext cx="220788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5"/>
            <p:cNvPicPr/>
            <p:nvPr/>
          </p:nvPicPr>
          <p:blipFill>
            <a:blip r:embed="rId6"/>
            <a:stretch/>
          </p:blipFill>
          <p:spPr>
            <a:xfrm>
              <a:off x="6518160" y="2697120"/>
              <a:ext cx="190476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5"/>
          <p:cNvSpPr/>
          <p:nvPr/>
        </p:nvSpPr>
        <p:spPr>
          <a:xfrm>
            <a:off x="41148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8172360" y="134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 rot="19592400">
            <a:off x="6832080" y="1744200"/>
            <a:ext cx="135000" cy="13824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885080" y="2025720"/>
            <a:ext cx="144360" cy="1792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 rot="18682200">
            <a:off x="6579720" y="2619360"/>
            <a:ext cx="169920" cy="15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 rot="20315400">
            <a:off x="7085160" y="3813120"/>
            <a:ext cx="185760" cy="16200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 rot="18232800">
            <a:off x="6815160" y="5002200"/>
            <a:ext cx="131760" cy="12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4360" y="89532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如图，分别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B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垂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5457600" y="851040"/>
            <a:ext cx="3032280" cy="1864080"/>
            <a:chOff x="5457600" y="851040"/>
            <a:chExt cx="3032280" cy="1864080"/>
          </a:xfrm>
        </p:grpSpPr>
        <p:grpSp>
          <p:nvGrpSpPr>
            <p:cNvPr id="223" name=""/>
            <p:cNvGrpSpPr/>
            <p:nvPr/>
          </p:nvGrpSpPr>
          <p:grpSpPr>
            <a:xfrm>
              <a:off x="5867280" y="2205000"/>
              <a:ext cx="1297080" cy="360"/>
              <a:chOff x="5867280" y="2205000"/>
              <a:chExt cx="1297080" cy="360"/>
            </a:xfrm>
          </p:grpSpPr>
          <p:sp>
            <p:nvSpPr>
              <p:cNvPr id="224" name="Line 9"/>
              <p:cNvSpPr/>
              <p:nvPr/>
            </p:nvSpPr>
            <p:spPr>
              <a:xfrm>
                <a:off x="5867280" y="2205000"/>
                <a:ext cx="129708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5867280" y="220500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164000" y="1197000"/>
              <a:ext cx="864000" cy="1008000"/>
              <a:chOff x="7164000" y="1197000"/>
              <a:chExt cx="864000" cy="1008000"/>
            </a:xfrm>
          </p:grpSpPr>
          <p:sp>
            <p:nvSpPr>
              <p:cNvPr id="227" name="Line 10"/>
              <p:cNvSpPr/>
              <p:nvPr/>
            </p:nvSpPr>
            <p:spPr>
              <a:xfrm flipV="1">
                <a:off x="7164360" y="1197000"/>
                <a:ext cx="863640" cy="1008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7164000" y="1197000"/>
                <a:ext cx="86364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867280" y="1197000"/>
              <a:ext cx="2160720" cy="1008000"/>
              <a:chOff x="5867280" y="1197000"/>
              <a:chExt cx="2160720" cy="1008000"/>
            </a:xfrm>
          </p:grpSpPr>
          <p:sp>
            <p:nvSpPr>
              <p:cNvPr id="230" name="Line 11"/>
              <p:cNvSpPr/>
              <p:nvPr/>
            </p:nvSpPr>
            <p:spPr>
              <a:xfrm flipH="1">
                <a:off x="5867280" y="1197000"/>
                <a:ext cx="2160720" cy="1008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867280" y="1197000"/>
                <a:ext cx="216072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2" name="Text Box 12"/>
            <p:cNvSpPr/>
            <p:nvPr/>
          </p:nvSpPr>
          <p:spPr>
            <a:xfrm>
              <a:off x="545760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8015040" y="851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065720" y="2133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5" name="Text Box 15"/>
          <p:cNvSpPr/>
          <p:nvPr/>
        </p:nvSpPr>
        <p:spPr>
          <a:xfrm>
            <a:off x="539640" y="335772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如图，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直线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M⊥O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，垂足为点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线段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N⊥O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N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5220720" y="3357720"/>
            <a:ext cx="2862720" cy="2453040"/>
            <a:chOff x="5220720" y="3357720"/>
            <a:chExt cx="2862720" cy="2453040"/>
          </a:xfrm>
        </p:grpSpPr>
        <p:grpSp>
          <p:nvGrpSpPr>
            <p:cNvPr id="237" name=""/>
            <p:cNvGrpSpPr/>
            <p:nvPr/>
          </p:nvGrpSpPr>
          <p:grpSpPr>
            <a:xfrm>
              <a:off x="5651640" y="3645000"/>
              <a:ext cx="1944720" cy="792000"/>
              <a:chOff x="5651640" y="3645000"/>
              <a:chExt cx="1944720" cy="792000"/>
            </a:xfrm>
          </p:grpSpPr>
          <p:sp>
            <p:nvSpPr>
              <p:cNvPr id="238" name="Line 17"/>
              <p:cNvSpPr/>
              <p:nvPr/>
            </p:nvSpPr>
            <p:spPr>
              <a:xfrm flipV="1">
                <a:off x="5651640" y="3645000"/>
                <a:ext cx="1944720" cy="792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 rot="10800000">
                <a:off x="5651640" y="3645000"/>
                <a:ext cx="194472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651640" y="4437000"/>
              <a:ext cx="1873080" cy="1079640"/>
              <a:chOff x="5651640" y="4437000"/>
              <a:chExt cx="1873080" cy="1079640"/>
            </a:xfrm>
          </p:grpSpPr>
          <p:sp>
            <p:nvSpPr>
              <p:cNvPr id="241" name="Line 18"/>
              <p:cNvSpPr/>
              <p:nvPr/>
            </p:nvSpPr>
            <p:spPr>
              <a:xfrm>
                <a:off x="5651640" y="4437000"/>
                <a:ext cx="1873080" cy="107964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5651640" y="4437000"/>
                <a:ext cx="18730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43" name="Oval 19"/>
            <p:cNvSpPr/>
            <p:nvPr/>
          </p:nvSpPr>
          <p:spPr>
            <a:xfrm>
              <a:off x="7380360" y="429264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Text Box 20"/>
            <p:cNvSpPr/>
            <p:nvPr/>
          </p:nvSpPr>
          <p:spPr>
            <a:xfrm>
              <a:off x="5220720" y="41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O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7608600" y="3357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752616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760896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P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86040" y="2190600"/>
            <a:ext cx="792720" cy="1008360"/>
            <a:chOff x="6386040" y="2190600"/>
            <a:chExt cx="792720" cy="1008360"/>
          </a:xfrm>
        </p:grpSpPr>
        <p:sp>
          <p:nvSpPr>
            <p:cNvPr id="249" name="Line 24"/>
            <p:cNvSpPr/>
            <p:nvPr/>
          </p:nvSpPr>
          <p:spPr>
            <a:xfrm flipH="1">
              <a:off x="6386040" y="2190600"/>
              <a:ext cx="792360" cy="10083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386400" y="2190600"/>
              <a:ext cx="792360" cy="10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580000" y="1989000"/>
            <a:ext cx="1513080" cy="1152720"/>
            <a:chOff x="5580000" y="1989000"/>
            <a:chExt cx="1513080" cy="1152720"/>
          </a:xfrm>
        </p:grpSpPr>
        <p:sp>
          <p:nvSpPr>
            <p:cNvPr id="252" name="Line 25"/>
            <p:cNvSpPr/>
            <p:nvPr/>
          </p:nvSpPr>
          <p:spPr>
            <a:xfrm>
              <a:off x="5580000" y="1989000"/>
              <a:ext cx="1513080" cy="11527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80000" y="1989000"/>
              <a:ext cx="151308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64360" y="2205000"/>
            <a:ext cx="1224000" cy="360"/>
            <a:chOff x="7164360" y="2205000"/>
            <a:chExt cx="1224000" cy="360"/>
          </a:xfrm>
        </p:grpSpPr>
        <p:sp>
          <p:nvSpPr>
            <p:cNvPr id="255" name="Line 26"/>
            <p:cNvSpPr/>
            <p:nvPr/>
          </p:nvSpPr>
          <p:spPr>
            <a:xfrm>
              <a:off x="7164360" y="2205000"/>
              <a:ext cx="12240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7164360" y="22050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028000" y="981000"/>
            <a:ext cx="360" cy="1511280"/>
            <a:chOff x="8028000" y="981000"/>
            <a:chExt cx="360" cy="1511280"/>
          </a:xfrm>
        </p:grpSpPr>
        <p:sp>
          <p:nvSpPr>
            <p:cNvPr id="258" name="Line 27"/>
            <p:cNvSpPr/>
            <p:nvPr/>
          </p:nvSpPr>
          <p:spPr>
            <a:xfrm>
              <a:off x="8028000" y="981000"/>
              <a:ext cx="0" cy="15112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8028000" y="981000"/>
              <a:ext cx="3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761160" y="1341360"/>
            <a:ext cx="647640" cy="1366920"/>
            <a:chOff x="6761160" y="1341360"/>
            <a:chExt cx="647640" cy="1366920"/>
          </a:xfrm>
        </p:grpSpPr>
        <p:sp>
          <p:nvSpPr>
            <p:cNvPr id="261" name="Line 28"/>
            <p:cNvSpPr/>
            <p:nvPr/>
          </p:nvSpPr>
          <p:spPr>
            <a:xfrm>
              <a:off x="6761160" y="1341360"/>
              <a:ext cx="647640" cy="1366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761160" y="1341360"/>
              <a:ext cx="64764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95800" y="4365720"/>
            <a:ext cx="555840" cy="792000"/>
            <a:chOff x="6895800" y="4365720"/>
            <a:chExt cx="555840" cy="792000"/>
          </a:xfrm>
        </p:grpSpPr>
        <p:sp>
          <p:nvSpPr>
            <p:cNvPr id="264" name="Line 29"/>
            <p:cNvSpPr/>
            <p:nvPr/>
          </p:nvSpPr>
          <p:spPr>
            <a:xfrm flipH="1">
              <a:off x="6895800" y="4365720"/>
              <a:ext cx="555480" cy="7920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896160" y="4365720"/>
              <a:ext cx="55548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078680" y="3357720"/>
            <a:ext cx="574560" cy="1511280"/>
            <a:chOff x="7078680" y="3357720"/>
            <a:chExt cx="574560" cy="1511280"/>
          </a:xfrm>
        </p:grpSpPr>
        <p:sp>
          <p:nvSpPr>
            <p:cNvPr id="267" name="Line 30"/>
            <p:cNvSpPr/>
            <p:nvPr/>
          </p:nvSpPr>
          <p:spPr>
            <a:xfrm>
              <a:off x="7078680" y="3357720"/>
              <a:ext cx="574560" cy="15112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078680" y="3357720"/>
              <a:ext cx="5745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9" name="Text Box 31"/>
          <p:cNvSpPr/>
          <p:nvPr/>
        </p:nvSpPr>
        <p:spPr>
          <a:xfrm>
            <a:off x="65055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7958160" y="21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6819480" y="1168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F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643440" y="33544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711840" y="5214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395280" y="19033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解：如图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AD⊥BC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BE⊥AC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E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CF⊥AB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F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611280" y="53150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解：如图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PM⊥OA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线段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PN⊥OB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1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1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1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1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80960" y="476280"/>
            <a:ext cx="81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图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∠ABC=9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,∠1=6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O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若∠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= ∠2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求∠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BO, ∠BO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95280" y="378612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O 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⊥AC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5435640" y="2276640"/>
            <a:ext cx="3787200" cy="2900520"/>
            <a:chOff x="5435640" y="2276640"/>
            <a:chExt cx="3787200" cy="2900520"/>
          </a:xfrm>
        </p:grpSpPr>
        <p:sp>
          <p:nvSpPr>
            <p:cNvPr id="279" name="AutoShape 5"/>
            <p:cNvSpPr/>
            <p:nvPr/>
          </p:nvSpPr>
          <p:spPr>
            <a:xfrm>
              <a:off x="5946480" y="2740320"/>
              <a:ext cx="2895120" cy="1752480"/>
            </a:xfrm>
            <a:prstGeom prst="rtTriangle">
              <a:avLst/>
            </a:prstGeom>
            <a:solidFill>
              <a:srgbClr val="ffffff"/>
            </a:solidFill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46480" y="3254040"/>
              <a:ext cx="761760" cy="1219320"/>
              <a:chOff x="5946480" y="3254040"/>
              <a:chExt cx="761760" cy="1219320"/>
            </a:xfrm>
          </p:grpSpPr>
          <p:sp>
            <p:nvSpPr>
              <p:cNvPr id="281" name="Line 6"/>
              <p:cNvSpPr/>
              <p:nvPr/>
            </p:nvSpPr>
            <p:spPr>
              <a:xfrm flipV="1">
                <a:off x="5946480" y="3254040"/>
                <a:ext cx="761760" cy="12193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 rot="10800000">
                <a:off x="5946480" y="3254040"/>
                <a:ext cx="7617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08600" y="3254400"/>
              <a:ext cx="360" cy="1219320"/>
              <a:chOff x="6708600" y="3254400"/>
              <a:chExt cx="360" cy="1219320"/>
            </a:xfrm>
          </p:grpSpPr>
          <p:sp>
            <p:nvSpPr>
              <p:cNvPr id="284" name="Line 7"/>
              <p:cNvSpPr/>
              <p:nvPr/>
            </p:nvSpPr>
            <p:spPr>
              <a:xfrm>
                <a:off x="6708600" y="3254400"/>
                <a:ext cx="0" cy="12193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708600" y="32544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8"/>
            <p:cNvGrpSpPr/>
            <p:nvPr/>
          </p:nvGrpSpPr>
          <p:grpSpPr>
            <a:xfrm>
              <a:off x="6700320" y="4160520"/>
              <a:ext cx="303840" cy="304560"/>
              <a:chOff x="6700320" y="4160520"/>
              <a:chExt cx="303840" cy="30456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6700320" y="4178520"/>
                <a:ext cx="303840" cy="19800"/>
                <a:chOff x="6700320" y="4178520"/>
                <a:chExt cx="303840" cy="19800"/>
              </a:xfrm>
            </p:grpSpPr>
            <p:sp>
              <p:nvSpPr>
                <p:cNvPr id="288" name="Line 9"/>
                <p:cNvSpPr/>
                <p:nvPr/>
              </p:nvSpPr>
              <p:spPr>
                <a:xfrm flipV="1">
                  <a:off x="6700320" y="4178520"/>
                  <a:ext cx="303840" cy="1944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 rot="21381600">
                  <a:off x="6699960" y="4188240"/>
                  <a:ext cx="304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983640" y="4160520"/>
                <a:ext cx="19800" cy="304560"/>
                <a:chOff x="6983640" y="4160520"/>
                <a:chExt cx="19800" cy="304560"/>
              </a:xfrm>
            </p:grpSpPr>
            <p:sp>
              <p:nvSpPr>
                <p:cNvPr id="291" name="Line 10"/>
                <p:cNvSpPr/>
                <p:nvPr/>
              </p:nvSpPr>
              <p:spPr>
                <a:xfrm>
                  <a:off x="6983640" y="4160520"/>
                  <a:ext cx="19440" cy="30456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 rot="21381600">
                  <a:off x="6993000" y="416016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Text Box 11"/>
            <p:cNvSpPr/>
            <p:nvPr/>
          </p:nvSpPr>
          <p:spPr>
            <a:xfrm>
              <a:off x="6175080" y="386424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Text Box 12"/>
            <p:cNvSpPr/>
            <p:nvPr/>
          </p:nvSpPr>
          <p:spPr>
            <a:xfrm>
              <a:off x="6756120" y="335628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5435640" y="227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Text Box 14"/>
            <p:cNvSpPr/>
            <p:nvPr/>
          </p:nvSpPr>
          <p:spPr>
            <a:xfrm>
              <a:off x="5641560" y="447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86133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65559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555960" y="2629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00" name="Group 18"/>
            <p:cNvGrpSpPr/>
            <p:nvPr/>
          </p:nvGrpSpPr>
          <p:grpSpPr>
            <a:xfrm>
              <a:off x="6361560" y="3059640"/>
              <a:ext cx="275760" cy="380160"/>
              <a:chOff x="6361560" y="3059640"/>
              <a:chExt cx="275760" cy="3801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6361560" y="3310200"/>
                <a:ext cx="275760" cy="129600"/>
                <a:chOff x="6361560" y="3310200"/>
                <a:chExt cx="275760" cy="129600"/>
              </a:xfrm>
            </p:grpSpPr>
            <p:sp>
              <p:nvSpPr>
                <p:cNvPr id="302" name="Line 19"/>
                <p:cNvSpPr/>
                <p:nvPr/>
              </p:nvSpPr>
              <p:spPr>
                <a:xfrm flipH="1" flipV="1">
                  <a:off x="6361560" y="3310200"/>
                  <a:ext cx="275760" cy="12960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 rot="12309000">
                  <a:off x="6347160" y="337464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370200" y="3059640"/>
                <a:ext cx="129960" cy="276120"/>
                <a:chOff x="6370200" y="3059640"/>
                <a:chExt cx="129960" cy="276120"/>
              </a:xfrm>
            </p:grpSpPr>
            <p:sp>
              <p:nvSpPr>
                <p:cNvPr id="305" name="Line 20"/>
                <p:cNvSpPr/>
                <p:nvPr/>
              </p:nvSpPr>
              <p:spPr>
                <a:xfrm flipV="1">
                  <a:off x="6370560" y="3059640"/>
                  <a:ext cx="129600" cy="27612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12309000">
                  <a:off x="6435000" y="30448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Text Box 21"/>
            <p:cNvSpPr/>
            <p:nvPr/>
          </p:nvSpPr>
          <p:spPr>
            <a:xfrm>
              <a:off x="6112800" y="4034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 rot="4156800">
              <a:off x="6667200" y="3306240"/>
              <a:ext cx="4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)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9" name="Text Box 23"/>
          <p:cNvSpPr/>
          <p:nvPr/>
        </p:nvSpPr>
        <p:spPr>
          <a:xfrm>
            <a:off x="3348000" y="48718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1042920" y="2349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∵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C=90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°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755640" y="2924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=60°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     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067280" y="234936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已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24000" y="335772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O=3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53892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708360" y="3786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468360" y="42940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C=9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95280" y="5873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D=3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132000" y="32716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059280" y="585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2340000" y="292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276720" y="4292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垂直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95280" y="4799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又∵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∠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650880" y="5373720"/>
            <a:ext cx="19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6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2771640" y="53704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等量代换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文本框 8200"/>
          <p:cNvSpPr/>
          <p:nvPr/>
        </p:nvSpPr>
        <p:spPr>
          <a:xfrm>
            <a:off x="1936800" y="14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28600" y="129528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下面四种判断两条直线垂直的方法正确的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个                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[       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所成的四个角中有一个角是直角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有一组邻补角相等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所成的四个角相等，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有一组对顶角互补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          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             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             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704880" y="109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选择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11200" y="533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巩固练习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397600" y="20811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28600" y="21337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条直线相交所成的四个角中，下列条    件中能判定两条直线垂直的是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[        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两个角相等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两对角相等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三个角相等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四对邻补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个角的平分线相互垂直的有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[       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互补；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互为对顶角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都是直角；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为邻补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911200" y="533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巩固练习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704880" y="109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选择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945040" y="2590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7011720" y="4495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3:2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4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