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2.wmf" ContentType="image/x-wmf"/>
  <Override PartName="/ppt/media/image21.wmf" ContentType="image/x-wmf"/>
  <Override PartName="/ppt/media/image18.png" ContentType="image/png"/>
  <Override PartName="/ppt/media/image6.jpeg" ContentType="image/jpeg"/>
  <Override PartName="/ppt/media/type.wav" ContentType="audio/x-wav"/>
  <Override PartName="/ppt/media/image20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4.png" ContentType="image/png"/>
  <Override PartName="/ppt/media/image13.wmf" ContentType="image/x-wmf"/>
  <Override PartName="/ppt/media/image27.gif" ContentType="image/gif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34.png" ContentType="image/png"/>
  <Override PartName="/ppt/media/chimes.wav" ContentType="audio/x-wav"/>
  <Override PartName="/ppt/media/image37.png" ContentType="image/png"/>
  <Override PartName="/ppt/media/image44.gif" ContentType="image/gif"/>
  <Override PartName="/ppt/media/image38.gif" ContentType="image/gif"/>
  <Override PartName="/ppt/media/image41.png" ContentType="image/png"/>
  <Override PartName="/ppt/media/camera.wav" ContentType="audio/x-wav"/>
  <Override PartName="/ppt/media/image33.jpeg" ContentType="image/jpeg"/>
  <Override PartName="/ppt/media/image42.wmf" ContentType="image/x-wmf"/>
  <Override PartName="/ppt/media/image46.gif" ContentType="image/gif"/>
  <Override PartName="/ppt/media/image36.png" ContentType="image/png"/>
  <Override PartName="/ppt/media/image43.gif" ContentType="image/gif"/>
  <Override PartName="/ppt/media/image11.png" ContentType="image/png"/>
  <Override PartName="/ppt/media/image45.jpeg" ContentType="image/jpeg"/>
  <Override PartName="/ppt/media/image9.gif" ContentType="image/gif"/>
  <Override PartName="/ppt/media/image39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12.gif" ContentType="image/gif"/>
  <Override PartName="/ppt/media/image15.png" ContentType="image/png"/>
  <Override PartName="/ppt/media/image24.jpeg" ContentType="image/jpeg"/>
  <Override PartName="/ppt/media/image7.gif" ContentType="image/gif"/>
  <Override PartName="/ppt/media/image29.jpeg" ContentType="image/jpeg"/>
  <Override PartName="/ppt/media/image8.png" ContentType="image/png"/>
  <Override PartName="/ppt/media/image28.gif" ContentType="image/gif"/>
  <Override PartName="/ppt/media/image5.gif" ContentType="image/gif"/>
  <Override PartName="/ppt/media/image35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F4E-0D68-4795-9E60-EF95C22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233-BCEB-41BE-9806-D7E5C4C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B26-AA97-4A95-807D-27179DB1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9CE-718C-43A4-9401-285B859F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7CD4-9CB6-40F2-A58A-38EA0C3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594-3ACF-491F-AC2C-47D9AC0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B21F-68CB-462F-8290-FD2DD63C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6E7-B775-489C-A96B-3FDABD25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D8A-E68E-4899-9E3F-7D72793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28C-A64B-456A-B6C3-77F02D05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7C83-0887-4C51-BED0-AE2A8E9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798-BC6D-4968-9343-84DEF1F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2E73-D3EF-4510-A96E-4B3546D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3FDE-6D70-4A9E-8412-43F1D08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05A0-02B1-46B4-9070-7DC2743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7A1D-1A3B-43D0-88F3-7591D347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73F-9FE5-4AEF-97B7-9A08F12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2B7-D14E-45D1-A2C4-1DAB4BE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A40-DFF4-47CE-8193-B7A1842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40E-1BA4-4796-B5F4-942CEE2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27F-5CDE-4597-93C8-17214C18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373-525F-43AE-8054-D51174B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829-3D5D-48BD-AE5F-05F31E2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20B-D7F7-42A8-9E55-3A03C34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990-B591-4132-9755-72A4574B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0A8-251A-4CF4-A033-3903A536D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12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文本框 1" descr=""/>
          <p:cNvPicPr/>
          <p:nvPr/>
        </p:nvPicPr>
        <p:blipFill>
          <a:blip r:embed="rId2"/>
          <a:stretch/>
        </p:blipFill>
        <p:spPr>
          <a:xfrm>
            <a:off x="1797120" y="592200"/>
            <a:ext cx="5597280" cy="7002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285920" y="638280"/>
            <a:ext cx="9907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sq"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?</a:t>
            </a:r>
            <a:endParaRPr b="1" i="1" lang="en-US" sz="6000" spc="1" strike="noStrike">
              <a:ln cap="sq"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127240" y="933480"/>
            <a:ext cx="67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图中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是邻补角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30"/>
          <p:cNvGrpSpPr/>
          <p:nvPr/>
        </p:nvGrpSpPr>
        <p:grpSpPr>
          <a:xfrm>
            <a:off x="108000" y="2204640"/>
            <a:ext cx="2663640" cy="1871640"/>
            <a:chOff x="108000" y="2204640"/>
            <a:chExt cx="2663640" cy="1871640"/>
          </a:xfrm>
        </p:grpSpPr>
        <p:grpSp>
          <p:nvGrpSpPr>
            <p:cNvPr id="243" name=""/>
            <p:cNvGrpSpPr/>
            <p:nvPr/>
          </p:nvGrpSpPr>
          <p:grpSpPr>
            <a:xfrm>
              <a:off x="108000" y="3276720"/>
              <a:ext cx="2663640" cy="7920"/>
              <a:chOff x="108000" y="3276720"/>
              <a:chExt cx="2663640" cy="7920"/>
            </a:xfrm>
          </p:grpSpPr>
          <p:sp>
            <p:nvSpPr>
              <p:cNvPr id="244" name="Line 3"/>
              <p:cNvSpPr/>
              <p:nvPr/>
            </p:nvSpPr>
            <p:spPr>
              <a:xfrm>
                <a:off x="108000" y="3276720"/>
                <a:ext cx="2663640" cy="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108000" y="3276720"/>
                <a:ext cx="266364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47480" y="2204640"/>
              <a:ext cx="1943280" cy="1871640"/>
              <a:chOff x="447480" y="2204640"/>
              <a:chExt cx="1943280" cy="1871640"/>
            </a:xfrm>
          </p:grpSpPr>
          <p:sp>
            <p:nvSpPr>
              <p:cNvPr id="247" name="Line 4"/>
              <p:cNvSpPr/>
              <p:nvPr/>
            </p:nvSpPr>
            <p:spPr>
              <a:xfrm flipV="1">
                <a:off x="447840" y="2204640"/>
                <a:ext cx="1942920" cy="1871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 rot="10800000">
                <a:off x="447480" y="2204640"/>
                <a:ext cx="1942920" cy="18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Text Box 5"/>
            <p:cNvSpPr/>
            <p:nvPr/>
          </p:nvSpPr>
          <p:spPr>
            <a:xfrm>
              <a:off x="936720" y="2500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677960" y="2708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rc 14"/>
            <p:cNvSpPr/>
            <p:nvPr/>
          </p:nvSpPr>
          <p:spPr>
            <a:xfrm flipH="1">
              <a:off x="1101600" y="2924280"/>
              <a:ext cx="50328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rc 15"/>
            <p:cNvSpPr/>
            <p:nvPr/>
          </p:nvSpPr>
          <p:spPr>
            <a:xfrm>
              <a:off x="1533600" y="306864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32"/>
          <p:cNvGrpSpPr/>
          <p:nvPr/>
        </p:nvGrpSpPr>
        <p:grpSpPr>
          <a:xfrm>
            <a:off x="5638680" y="1988640"/>
            <a:ext cx="3505320" cy="1225800"/>
            <a:chOff x="5638680" y="1988640"/>
            <a:chExt cx="3505320" cy="1225800"/>
          </a:xfrm>
        </p:grpSpPr>
        <p:grpSp>
          <p:nvGrpSpPr>
            <p:cNvPr id="254" name=""/>
            <p:cNvGrpSpPr/>
            <p:nvPr/>
          </p:nvGrpSpPr>
          <p:grpSpPr>
            <a:xfrm>
              <a:off x="5638680" y="3200400"/>
              <a:ext cx="990720" cy="1440"/>
              <a:chOff x="5638680" y="3200400"/>
              <a:chExt cx="990720" cy="1440"/>
            </a:xfrm>
          </p:grpSpPr>
          <p:sp>
            <p:nvSpPr>
              <p:cNvPr id="255" name="Line 7"/>
              <p:cNvSpPr/>
              <p:nvPr/>
            </p:nvSpPr>
            <p:spPr>
              <a:xfrm>
                <a:off x="5638680" y="3200400"/>
                <a:ext cx="9907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638680" y="3200400"/>
                <a:ext cx="990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91520" y="3200400"/>
              <a:ext cx="1752480" cy="1440"/>
              <a:chOff x="7391520" y="3200400"/>
              <a:chExt cx="1752480" cy="1440"/>
            </a:xfrm>
          </p:grpSpPr>
          <p:sp>
            <p:nvSpPr>
              <p:cNvPr id="258" name="Line 8"/>
              <p:cNvSpPr/>
              <p:nvPr/>
            </p:nvSpPr>
            <p:spPr>
              <a:xfrm>
                <a:off x="7391520" y="3200400"/>
                <a:ext cx="175248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7391520" y="3200400"/>
                <a:ext cx="1752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629040" y="2060640"/>
              <a:ext cx="1111680" cy="1139760"/>
              <a:chOff x="6629040" y="2060640"/>
              <a:chExt cx="1111680" cy="1139760"/>
            </a:xfrm>
          </p:grpSpPr>
          <p:sp>
            <p:nvSpPr>
              <p:cNvPr id="261" name="Line 9"/>
              <p:cNvSpPr/>
              <p:nvPr/>
            </p:nvSpPr>
            <p:spPr>
              <a:xfrm flipV="1">
                <a:off x="6629400" y="2060640"/>
                <a:ext cx="1111320" cy="1139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 rot="10800000">
                <a:off x="6629040" y="2060640"/>
                <a:ext cx="1111320" cy="1139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91160" y="1988640"/>
              <a:ext cx="1068480" cy="1211400"/>
              <a:chOff x="7391160" y="1988640"/>
              <a:chExt cx="1068480" cy="1211400"/>
            </a:xfrm>
          </p:grpSpPr>
          <p:sp>
            <p:nvSpPr>
              <p:cNvPr id="264" name="Line 10"/>
              <p:cNvSpPr/>
              <p:nvPr/>
            </p:nvSpPr>
            <p:spPr>
              <a:xfrm flipV="1">
                <a:off x="7391520" y="1988640"/>
                <a:ext cx="1068120" cy="1211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 rot="10800000">
                <a:off x="7391160" y="1988640"/>
                <a:ext cx="1068120" cy="121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11"/>
            <p:cNvSpPr/>
            <p:nvPr/>
          </p:nvSpPr>
          <p:spPr>
            <a:xfrm>
              <a:off x="6227640" y="25210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7812000" y="2693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rc 20"/>
            <p:cNvSpPr/>
            <p:nvPr/>
          </p:nvSpPr>
          <p:spPr>
            <a:xfrm flipH="1">
              <a:off x="6445080" y="2924280"/>
              <a:ext cx="43200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rc 21"/>
            <p:cNvSpPr/>
            <p:nvPr/>
          </p:nvSpPr>
          <p:spPr>
            <a:xfrm>
              <a:off x="7596360" y="2924280"/>
              <a:ext cx="14436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31"/>
          <p:cNvGrpSpPr/>
          <p:nvPr/>
        </p:nvGrpSpPr>
        <p:grpSpPr>
          <a:xfrm>
            <a:off x="2916360" y="2349360"/>
            <a:ext cx="2590560" cy="1266480"/>
            <a:chOff x="2916360" y="2349360"/>
            <a:chExt cx="2590560" cy="1266480"/>
          </a:xfrm>
        </p:grpSpPr>
        <p:grpSp>
          <p:nvGrpSpPr>
            <p:cNvPr id="271" name=""/>
            <p:cNvGrpSpPr/>
            <p:nvPr/>
          </p:nvGrpSpPr>
          <p:grpSpPr>
            <a:xfrm>
              <a:off x="2916360" y="3504600"/>
              <a:ext cx="2590560" cy="360"/>
              <a:chOff x="2916360" y="3504600"/>
              <a:chExt cx="2590560" cy="360"/>
            </a:xfrm>
          </p:grpSpPr>
          <p:sp>
            <p:nvSpPr>
              <p:cNvPr id="272" name="Line 16"/>
              <p:cNvSpPr/>
              <p:nvPr/>
            </p:nvSpPr>
            <p:spPr>
              <a:xfrm>
                <a:off x="2916360" y="3504600"/>
                <a:ext cx="25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2916360" y="35046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140000" y="2349360"/>
              <a:ext cx="14400" cy="1157040"/>
              <a:chOff x="4140000" y="2349360"/>
              <a:chExt cx="14400" cy="1157040"/>
            </a:xfrm>
          </p:grpSpPr>
          <p:sp>
            <p:nvSpPr>
              <p:cNvPr id="275" name="Line 17"/>
              <p:cNvSpPr/>
              <p:nvPr/>
            </p:nvSpPr>
            <p:spPr>
              <a:xfrm flipV="1">
                <a:off x="4140360" y="2349360"/>
                <a:ext cx="14040" cy="1157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 rot="10800000">
                <a:off x="4140000" y="2349360"/>
                <a:ext cx="14040" cy="11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Arc 18"/>
            <p:cNvSpPr/>
            <p:nvPr/>
          </p:nvSpPr>
          <p:spPr>
            <a:xfrm flipH="1">
              <a:off x="3850560" y="3287880"/>
              <a:ext cx="289080" cy="216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rc 19"/>
            <p:cNvSpPr/>
            <p:nvPr/>
          </p:nvSpPr>
          <p:spPr>
            <a:xfrm flipH="1" rot="6446400">
              <a:off x="4073040" y="3290400"/>
              <a:ext cx="290160" cy="287640"/>
            </a:xfrm>
            <a:custGeom>
              <a:avLst/>
              <a:gdLst/>
              <a:ahLst/>
              <a:rect l="l" t="t" r="r" b="b"/>
              <a:pathLst>
                <a:path fill="none" w="21600" h="18670">
                  <a:moveTo>
                    <a:pt x="10862" y="-1"/>
                  </a:moveTo>
                  <a:cubicBezTo>
                    <a:pt x="17510" y="3867"/>
                    <a:pt x="21600" y="10978"/>
                    <a:pt x="21600" y="18670"/>
                  </a:cubicBezTo>
                </a:path>
                <a:path stroke="0" w="21600" h="18670">
                  <a:moveTo>
                    <a:pt x="10862" y="-1"/>
                  </a:moveTo>
                  <a:cubicBezTo>
                    <a:pt x="17510" y="3867"/>
                    <a:pt x="21600" y="10978"/>
                    <a:pt x="21600" y="18670"/>
                  </a:cubicBezTo>
                  <a:lnTo>
                    <a:pt x="0" y="1867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22"/>
            <p:cNvSpPr/>
            <p:nvPr/>
          </p:nvSpPr>
          <p:spPr>
            <a:xfrm>
              <a:off x="3421080" y="2782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23"/>
            <p:cNvSpPr/>
            <p:nvPr/>
          </p:nvSpPr>
          <p:spPr>
            <a:xfrm>
              <a:off x="4429080" y="2782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Picture 27" descr="08101_16"/>
          <p:cNvPicPr/>
          <p:nvPr/>
        </p:nvPicPr>
        <p:blipFill>
          <a:blip r:embed="rId1"/>
          <a:stretch/>
        </p:blipFill>
        <p:spPr>
          <a:xfrm>
            <a:off x="6834240" y="40766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8" descr="08101_1"/>
          <p:cNvPicPr/>
          <p:nvPr/>
        </p:nvPicPr>
        <p:blipFill>
          <a:blip r:embed="rId2"/>
          <a:stretch/>
        </p:blipFill>
        <p:spPr>
          <a:xfrm>
            <a:off x="635040" y="40766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9" descr="08101_1"/>
          <p:cNvPicPr/>
          <p:nvPr/>
        </p:nvPicPr>
        <p:blipFill>
          <a:blip r:embed="rId3"/>
          <a:stretch/>
        </p:blipFill>
        <p:spPr>
          <a:xfrm>
            <a:off x="3552840" y="407664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3"/>
          <p:cNvSpPr/>
          <p:nvPr/>
        </p:nvSpPr>
        <p:spPr>
          <a:xfrm>
            <a:off x="1476360" y="1003320"/>
            <a:ext cx="678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955800" y="5054760"/>
            <a:ext cx="6858000" cy="5205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>
                  <a:alpha val="43137"/>
                </a:srgbClr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直线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CD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相交得到的，它们有一个公共顶点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没有公共边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1855080" y="1978200"/>
            <a:ext cx="6045840" cy="2536560"/>
            <a:chOff x="1855080" y="1978200"/>
            <a:chExt cx="6045840" cy="2536560"/>
          </a:xfrm>
        </p:grpSpPr>
        <p:grpSp>
          <p:nvGrpSpPr>
            <p:cNvPr id="287" name=""/>
            <p:cNvGrpSpPr/>
            <p:nvPr/>
          </p:nvGrpSpPr>
          <p:grpSpPr>
            <a:xfrm>
              <a:off x="2303640" y="2577960"/>
              <a:ext cx="4647960" cy="1219320"/>
              <a:chOff x="2303640" y="2577960"/>
              <a:chExt cx="4647960" cy="1219320"/>
            </a:xfrm>
          </p:grpSpPr>
          <p:sp>
            <p:nvSpPr>
              <p:cNvPr id="288" name="Line 3"/>
              <p:cNvSpPr/>
              <p:nvPr/>
            </p:nvSpPr>
            <p:spPr>
              <a:xfrm>
                <a:off x="2303640" y="2577960"/>
                <a:ext cx="4647960" cy="121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2303640" y="2577960"/>
                <a:ext cx="46479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227320" y="2120400"/>
              <a:ext cx="4648320" cy="2057400"/>
              <a:chOff x="2227320" y="2120400"/>
              <a:chExt cx="4648320" cy="2057400"/>
            </a:xfrm>
          </p:grpSpPr>
          <p:sp>
            <p:nvSpPr>
              <p:cNvPr id="291" name="Line 4"/>
              <p:cNvSpPr/>
              <p:nvPr/>
            </p:nvSpPr>
            <p:spPr>
              <a:xfrm flipV="1">
                <a:off x="2227320" y="2120400"/>
                <a:ext cx="4648320" cy="20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 rot="10800000">
                <a:off x="2227320" y="2120040"/>
                <a:ext cx="464832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Text Box 5"/>
            <p:cNvSpPr/>
            <p:nvPr/>
          </p:nvSpPr>
          <p:spPr>
            <a:xfrm>
              <a:off x="4284720" y="223848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5027760" y="269568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3510000" y="290988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4384800" y="342900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1925640" y="21589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6894360" y="33829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1855080" y="39942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6823800" y="1978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4227480" y="27068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6"/>
            <p:cNvSpPr/>
            <p:nvPr/>
          </p:nvSpPr>
          <p:spPr>
            <a:xfrm>
              <a:off x="4513320" y="311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rc 17"/>
            <p:cNvSpPr/>
            <p:nvPr/>
          </p:nvSpPr>
          <p:spPr>
            <a:xfrm>
              <a:off x="4932360" y="2997360"/>
              <a:ext cx="71280" cy="287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Arc 18"/>
            <p:cNvSpPr/>
            <p:nvPr/>
          </p:nvSpPr>
          <p:spPr>
            <a:xfrm flipH="1">
              <a:off x="3994920" y="3068640"/>
              <a:ext cx="71640" cy="2890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Arc 19"/>
            <p:cNvSpPr/>
            <p:nvPr/>
          </p:nvSpPr>
          <p:spPr>
            <a:xfrm flipV="1" rot="1764000">
              <a:off x="4140360" y="3067560"/>
              <a:ext cx="793440" cy="576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rc 20"/>
            <p:cNvSpPr/>
            <p:nvPr/>
          </p:nvSpPr>
          <p:spPr>
            <a:xfrm flipH="1" rot="2333400">
              <a:off x="4211640" y="2707920"/>
              <a:ext cx="574560" cy="504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7"/>
          <p:cNvSpPr/>
          <p:nvPr/>
        </p:nvSpPr>
        <p:spPr>
          <a:xfrm>
            <a:off x="684360" y="2216160"/>
            <a:ext cx="825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果一个角的两边是另一个角的两边的反向延长线，那么这两个角互为对顶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252440" y="4491000"/>
            <a:ext cx="3049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右图中互为对顶角的为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；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3076560" y="692280"/>
            <a:ext cx="3838680" cy="782640"/>
            <a:chOff x="3076560" y="692280"/>
            <a:chExt cx="3838680" cy="782640"/>
          </a:xfrm>
        </p:grpSpPr>
        <p:pic>
          <p:nvPicPr>
            <p:cNvPr id="310" name="Picture 20" descr="666"/>
            <p:cNvPicPr/>
            <p:nvPr/>
          </p:nvPicPr>
          <p:blipFill>
            <a:blip r:embed="rId1"/>
            <a:stretch/>
          </p:blipFill>
          <p:spPr>
            <a:xfrm>
              <a:off x="5915160" y="69228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AutoShape 21"/>
            <p:cNvSpPr/>
            <p:nvPr/>
          </p:nvSpPr>
          <p:spPr>
            <a:xfrm>
              <a:off x="3076560" y="80532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22"/>
          <p:cNvSpPr/>
          <p:nvPr/>
        </p:nvSpPr>
        <p:spPr>
          <a:xfrm>
            <a:off x="3720240" y="157464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对顶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5180760" y="3753000"/>
            <a:ext cx="2792160" cy="2033280"/>
            <a:chOff x="5180760" y="3753000"/>
            <a:chExt cx="2792160" cy="2033280"/>
          </a:xfrm>
        </p:grpSpPr>
        <p:grpSp>
          <p:nvGrpSpPr>
            <p:cNvPr id="314" name=""/>
            <p:cNvGrpSpPr/>
            <p:nvPr/>
          </p:nvGrpSpPr>
          <p:grpSpPr>
            <a:xfrm>
              <a:off x="5589000" y="4016520"/>
              <a:ext cx="1944720" cy="1296720"/>
              <a:chOff x="5589000" y="4016520"/>
              <a:chExt cx="1944720" cy="1296720"/>
            </a:xfrm>
          </p:grpSpPr>
          <p:sp>
            <p:nvSpPr>
              <p:cNvPr id="315" name="Line 24"/>
              <p:cNvSpPr/>
              <p:nvPr/>
            </p:nvSpPr>
            <p:spPr>
              <a:xfrm flipV="1">
                <a:off x="5589360" y="4016520"/>
                <a:ext cx="1944360" cy="129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10800000">
                <a:off x="5589000" y="4016520"/>
                <a:ext cx="1944360" cy="12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660640" y="4016520"/>
              <a:ext cx="1873080" cy="1368360"/>
              <a:chOff x="5660640" y="4016520"/>
              <a:chExt cx="1873080" cy="1368360"/>
            </a:xfrm>
          </p:grpSpPr>
          <p:sp>
            <p:nvSpPr>
              <p:cNvPr id="318" name="Line 25"/>
              <p:cNvSpPr/>
              <p:nvPr/>
            </p:nvSpPr>
            <p:spPr>
              <a:xfrm>
                <a:off x="5660640" y="4016520"/>
                <a:ext cx="1873080" cy="13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5660640" y="4016520"/>
                <a:ext cx="187308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6"/>
            <p:cNvSpPr/>
            <p:nvPr/>
          </p:nvSpPr>
          <p:spPr>
            <a:xfrm>
              <a:off x="6346800" y="4253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7"/>
            <p:cNvSpPr/>
            <p:nvPr/>
          </p:nvSpPr>
          <p:spPr>
            <a:xfrm>
              <a:off x="5231160" y="5265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8"/>
            <p:cNvSpPr/>
            <p:nvPr/>
          </p:nvSpPr>
          <p:spPr>
            <a:xfrm>
              <a:off x="7536240" y="3753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9"/>
            <p:cNvSpPr/>
            <p:nvPr/>
          </p:nvSpPr>
          <p:spPr>
            <a:xfrm>
              <a:off x="5180760" y="378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0"/>
            <p:cNvSpPr/>
            <p:nvPr/>
          </p:nvSpPr>
          <p:spPr>
            <a:xfrm>
              <a:off x="7535520" y="519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1"/>
            <p:cNvSpPr/>
            <p:nvPr/>
          </p:nvSpPr>
          <p:spPr>
            <a:xfrm>
              <a:off x="5728680" y="4408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2"/>
            <p:cNvSpPr/>
            <p:nvPr/>
          </p:nvSpPr>
          <p:spPr>
            <a:xfrm>
              <a:off x="6916320" y="4430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3"/>
            <p:cNvSpPr/>
            <p:nvPr/>
          </p:nvSpPr>
          <p:spPr>
            <a:xfrm>
              <a:off x="6309720" y="50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4"/>
            <p:cNvSpPr/>
            <p:nvPr/>
          </p:nvSpPr>
          <p:spPr>
            <a:xfrm>
              <a:off x="6413400" y="3843360"/>
              <a:ext cx="4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rc 35"/>
            <p:cNvSpPr/>
            <p:nvPr/>
          </p:nvSpPr>
          <p:spPr>
            <a:xfrm flipH="1" rot="14062200">
              <a:off x="6238080" y="4447440"/>
              <a:ext cx="617400" cy="561600"/>
            </a:xfrm>
            <a:custGeom>
              <a:avLst/>
              <a:gdLst/>
              <a:ahLst/>
              <a:rect l="l" t="t" r="r" b="b"/>
              <a:pathLst>
                <a:path fill="none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</a:path>
                <a:path stroke="0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  <a:lnTo>
                    <a:pt x="0" y="1963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rc 36"/>
            <p:cNvSpPr/>
            <p:nvPr/>
          </p:nvSpPr>
          <p:spPr>
            <a:xfrm flipH="1" rot="3262200">
              <a:off x="6255000" y="4264200"/>
              <a:ext cx="635040" cy="583560"/>
            </a:xfrm>
            <a:custGeom>
              <a:avLst/>
              <a:gdLst/>
              <a:ahLst/>
              <a:rect l="l" t="t" r="r" b="b"/>
              <a:pathLst>
                <a:path fill="none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</a:path>
                <a:path stroke="0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  <a:lnTo>
                    <a:pt x="0" y="203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Arc 37"/>
            <p:cNvSpPr/>
            <p:nvPr/>
          </p:nvSpPr>
          <p:spPr>
            <a:xfrm flipH="1" rot="19292400">
              <a:off x="6028560" y="4429080"/>
              <a:ext cx="44748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Arc 38"/>
            <p:cNvSpPr/>
            <p:nvPr/>
          </p:nvSpPr>
          <p:spPr>
            <a:xfrm flipH="1" rot="8492400">
              <a:off x="6580440" y="4460040"/>
              <a:ext cx="44748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newsflash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"/>
                            </p:stCondLst>
                            <p:childTnLst>
                              <p:par>
                                <p:cTn id="33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11280" y="1916280"/>
            <a:ext cx="79279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判断两个角是不是对顶角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两个角是由两条直线相交而形成的（由两条直线相交保证了所形成的角有公共顶点）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两个角的两边无公共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3540240" y="744480"/>
            <a:ext cx="2770200" cy="947520"/>
            <a:chOff x="3540240" y="744480"/>
            <a:chExt cx="2770200" cy="947520"/>
          </a:xfrm>
        </p:grpSpPr>
        <p:sp>
          <p:nvSpPr>
            <p:cNvPr id="335" name="WordArt 4"/>
            <p:cNvSpPr txBox="1"/>
            <p:nvPr/>
          </p:nvSpPr>
          <p:spPr>
            <a:xfrm>
              <a:off x="3540240" y="9684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36" name="Picture 5" descr="54321 (7)"/>
            <p:cNvPicPr/>
            <p:nvPr/>
          </p:nvPicPr>
          <p:blipFill>
            <a:blip r:embed="rId1"/>
            <a:stretch/>
          </p:blipFill>
          <p:spPr>
            <a:xfrm>
              <a:off x="5403960" y="7444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Picture 6" descr="蝴蝶2"/>
          <p:cNvPicPr/>
          <p:nvPr/>
        </p:nvPicPr>
        <p:blipFill>
          <a:blip r:embed="rId2"/>
          <a:stretch/>
        </p:blipFill>
        <p:spPr>
          <a:xfrm>
            <a:off x="3540240" y="5524560"/>
            <a:ext cx="957240" cy="95544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"/>
                            </p:stCondLst>
                            <p:childTnLst>
                              <p:par>
                                <p:cTn id="38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2"/>
          <p:cNvSpPr/>
          <p:nvPr/>
        </p:nvSpPr>
        <p:spPr>
          <a:xfrm>
            <a:off x="2439000" y="104616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各图中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对顶角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31"/>
          <p:cNvGrpSpPr/>
          <p:nvPr/>
        </p:nvGrpSpPr>
        <p:grpSpPr>
          <a:xfrm>
            <a:off x="3205080" y="2277720"/>
            <a:ext cx="2590920" cy="2438640"/>
            <a:chOff x="3205080" y="2277720"/>
            <a:chExt cx="2590920" cy="2438640"/>
          </a:xfrm>
        </p:grpSpPr>
        <p:grpSp>
          <p:nvGrpSpPr>
            <p:cNvPr id="340" name=""/>
            <p:cNvGrpSpPr/>
            <p:nvPr/>
          </p:nvGrpSpPr>
          <p:grpSpPr>
            <a:xfrm>
              <a:off x="3205080" y="3530520"/>
              <a:ext cx="2590920" cy="360"/>
              <a:chOff x="3205080" y="3530520"/>
              <a:chExt cx="2590920" cy="360"/>
            </a:xfrm>
          </p:grpSpPr>
          <p:sp>
            <p:nvSpPr>
              <p:cNvPr id="341" name="Line 3"/>
              <p:cNvSpPr/>
              <p:nvPr/>
            </p:nvSpPr>
            <p:spPr>
              <a:xfrm>
                <a:off x="3205080" y="3530520"/>
                <a:ext cx="25909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3205080" y="353052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284720" y="2277720"/>
              <a:ext cx="914400" cy="1219320"/>
              <a:chOff x="4284720" y="2277720"/>
              <a:chExt cx="914400" cy="1219320"/>
            </a:xfrm>
          </p:grpSpPr>
          <p:sp>
            <p:nvSpPr>
              <p:cNvPr id="344" name="Line 5"/>
              <p:cNvSpPr/>
              <p:nvPr/>
            </p:nvSpPr>
            <p:spPr>
              <a:xfrm flipH="1" flipV="1">
                <a:off x="4284720" y="2277720"/>
                <a:ext cx="914400" cy="121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 rot="10800000">
                <a:off x="4284720" y="2277720"/>
                <a:ext cx="91440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4068720" y="3497400"/>
              <a:ext cx="914400" cy="1218960"/>
              <a:chOff x="4068720" y="3497400"/>
              <a:chExt cx="914400" cy="1218960"/>
            </a:xfrm>
          </p:grpSpPr>
          <p:sp>
            <p:nvSpPr>
              <p:cNvPr id="347" name="Line 6"/>
              <p:cNvSpPr/>
              <p:nvPr/>
            </p:nvSpPr>
            <p:spPr>
              <a:xfrm flipH="1" flipV="1">
                <a:off x="4068720" y="3497400"/>
                <a:ext cx="914400" cy="12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 rot="10800000">
                <a:off x="4068720" y="3497400"/>
                <a:ext cx="91440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10"/>
            <p:cNvSpPr/>
            <p:nvPr/>
          </p:nvSpPr>
          <p:spPr>
            <a:xfrm>
              <a:off x="4429080" y="349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4429080" y="2921040"/>
              <a:ext cx="380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rc 13"/>
            <p:cNvSpPr/>
            <p:nvPr/>
          </p:nvSpPr>
          <p:spPr>
            <a:xfrm flipH="1">
              <a:off x="4860360" y="328140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rc 14"/>
            <p:cNvSpPr/>
            <p:nvPr/>
          </p:nvSpPr>
          <p:spPr>
            <a:xfrm flipH="1" rot="10800000">
              <a:off x="4283640" y="34974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6100920" y="2311560"/>
            <a:ext cx="2590560" cy="1899720"/>
            <a:chOff x="6100920" y="2311560"/>
            <a:chExt cx="2590560" cy="1899720"/>
          </a:xfrm>
        </p:grpSpPr>
        <p:grpSp>
          <p:nvGrpSpPr>
            <p:cNvPr id="354" name=""/>
            <p:cNvGrpSpPr/>
            <p:nvPr/>
          </p:nvGrpSpPr>
          <p:grpSpPr>
            <a:xfrm>
              <a:off x="6100920" y="3530520"/>
              <a:ext cx="2590560" cy="360"/>
              <a:chOff x="6100920" y="3530520"/>
              <a:chExt cx="2590560" cy="360"/>
            </a:xfrm>
          </p:grpSpPr>
          <p:sp>
            <p:nvSpPr>
              <p:cNvPr id="355" name="Line 2"/>
              <p:cNvSpPr/>
              <p:nvPr/>
            </p:nvSpPr>
            <p:spPr>
              <a:xfrm>
                <a:off x="6100920" y="3530520"/>
                <a:ext cx="25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6100920" y="353052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948360" y="2991960"/>
              <a:ext cx="914400" cy="1219320"/>
              <a:chOff x="6948360" y="2991960"/>
              <a:chExt cx="914400" cy="1219320"/>
            </a:xfrm>
          </p:grpSpPr>
          <p:sp>
            <p:nvSpPr>
              <p:cNvPr id="358" name="Line 4"/>
              <p:cNvSpPr/>
              <p:nvPr/>
            </p:nvSpPr>
            <p:spPr>
              <a:xfrm flipH="1" flipV="1">
                <a:off x="6948360" y="2991960"/>
                <a:ext cx="914400" cy="121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6948360" y="2991960"/>
                <a:ext cx="91440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7319880" y="2311560"/>
              <a:ext cx="1067040" cy="1218960"/>
              <a:chOff x="7319880" y="2311560"/>
              <a:chExt cx="1067040" cy="121896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7319880" y="2311560"/>
                <a:ext cx="1067040" cy="12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7319880" y="2311560"/>
                <a:ext cx="106704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8"/>
            <p:cNvSpPr/>
            <p:nvPr/>
          </p:nvSpPr>
          <p:spPr>
            <a:xfrm>
              <a:off x="6661080" y="29210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9"/>
            <p:cNvSpPr/>
            <p:nvPr/>
          </p:nvSpPr>
          <p:spPr>
            <a:xfrm>
              <a:off x="7701120" y="2921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rc 15"/>
            <p:cNvSpPr/>
            <p:nvPr/>
          </p:nvSpPr>
          <p:spPr>
            <a:xfrm>
              <a:off x="7524720" y="3281400"/>
              <a:ext cx="7164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rc 16"/>
            <p:cNvSpPr/>
            <p:nvPr/>
          </p:nvSpPr>
          <p:spPr>
            <a:xfrm flipH="1">
              <a:off x="7093080" y="3281400"/>
              <a:ext cx="7128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33"/>
          <p:cNvGrpSpPr/>
          <p:nvPr/>
        </p:nvGrpSpPr>
        <p:grpSpPr>
          <a:xfrm>
            <a:off x="309600" y="2311560"/>
            <a:ext cx="2590920" cy="2636640"/>
            <a:chOff x="309600" y="2311560"/>
            <a:chExt cx="2590920" cy="2636640"/>
          </a:xfrm>
        </p:grpSpPr>
        <p:sp>
          <p:nvSpPr>
            <p:cNvPr id="368" name="Text Box 17"/>
            <p:cNvSpPr/>
            <p:nvPr/>
          </p:nvSpPr>
          <p:spPr>
            <a:xfrm>
              <a:off x="995400" y="2844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09600" y="3530520"/>
              <a:ext cx="2590920" cy="360"/>
              <a:chOff x="309600" y="3530520"/>
              <a:chExt cx="2590920" cy="360"/>
            </a:xfrm>
          </p:grpSpPr>
          <p:sp>
            <p:nvSpPr>
              <p:cNvPr id="370" name="Line 18"/>
              <p:cNvSpPr/>
              <p:nvPr/>
            </p:nvSpPr>
            <p:spPr>
              <a:xfrm>
                <a:off x="309600" y="3530520"/>
                <a:ext cx="25909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309600" y="353052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66800" y="2311560"/>
              <a:ext cx="914400" cy="1218960"/>
              <a:chOff x="766800" y="2311560"/>
              <a:chExt cx="914400" cy="1218960"/>
            </a:xfrm>
          </p:grpSpPr>
          <p:sp>
            <p:nvSpPr>
              <p:cNvPr id="373" name="Line 19"/>
              <p:cNvSpPr/>
              <p:nvPr/>
            </p:nvSpPr>
            <p:spPr>
              <a:xfrm flipH="1" flipV="1">
                <a:off x="766800" y="2311560"/>
                <a:ext cx="914400" cy="12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 rot="10800000">
                <a:off x="766800" y="2311560"/>
                <a:ext cx="91440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81200" y="3500280"/>
              <a:ext cx="304920" cy="1447920"/>
              <a:chOff x="1681200" y="3500280"/>
              <a:chExt cx="304920" cy="1447920"/>
            </a:xfrm>
          </p:grpSpPr>
          <p:sp>
            <p:nvSpPr>
              <p:cNvPr id="376" name="Line 20"/>
              <p:cNvSpPr/>
              <p:nvPr/>
            </p:nvSpPr>
            <p:spPr>
              <a:xfrm>
                <a:off x="1681200" y="3500280"/>
                <a:ext cx="304920" cy="144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1681200" y="3500280"/>
                <a:ext cx="30492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Text Box 21"/>
            <p:cNvSpPr/>
            <p:nvPr/>
          </p:nvSpPr>
          <p:spPr>
            <a:xfrm>
              <a:off x="1908000" y="3568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rc 22"/>
            <p:cNvSpPr/>
            <p:nvPr/>
          </p:nvSpPr>
          <p:spPr>
            <a:xfrm flipH="1">
              <a:off x="1331280" y="328140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rc 23"/>
            <p:cNvSpPr/>
            <p:nvPr/>
          </p:nvSpPr>
          <p:spPr>
            <a:xfrm flipH="1" rot="10800000">
              <a:off x="1762560" y="34974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Picture 27" descr="08101_16"/>
          <p:cNvPicPr/>
          <p:nvPr/>
        </p:nvPicPr>
        <p:blipFill>
          <a:blip r:embed="rId1"/>
          <a:stretch/>
        </p:blipFill>
        <p:spPr>
          <a:xfrm>
            <a:off x="7277040" y="4834080"/>
            <a:ext cx="1017720" cy="1017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08101_16"/>
          <p:cNvPicPr/>
          <p:nvPr/>
        </p:nvPicPr>
        <p:blipFill>
          <a:blip r:embed="rId2"/>
          <a:stretch/>
        </p:blipFill>
        <p:spPr>
          <a:xfrm>
            <a:off x="4316400" y="4862520"/>
            <a:ext cx="1017720" cy="1017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9" descr="08101_16"/>
          <p:cNvPicPr/>
          <p:nvPr/>
        </p:nvPicPr>
        <p:blipFill>
          <a:blip r:embed="rId3"/>
          <a:stretch/>
        </p:blipFill>
        <p:spPr>
          <a:xfrm>
            <a:off x="995400" y="4819680"/>
            <a:ext cx="101772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539640" y="4248000"/>
            <a:ext cx="8028000" cy="100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>
                  <a:alpha val="43137"/>
                </a:srgbClr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对顶角是成对出现的．上图中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它们是相互的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对顶角， 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对顶角，而单独的一个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或一个单独的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不能叫对顶角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2"/>
          <p:cNvGrpSpPr/>
          <p:nvPr/>
        </p:nvGrpSpPr>
        <p:grpSpPr>
          <a:xfrm>
            <a:off x="1057680" y="1170000"/>
            <a:ext cx="2792520" cy="2033280"/>
            <a:chOff x="1057680" y="1170000"/>
            <a:chExt cx="2792520" cy="2033280"/>
          </a:xfrm>
        </p:grpSpPr>
        <p:grpSp>
          <p:nvGrpSpPr>
            <p:cNvPr id="386" name=""/>
            <p:cNvGrpSpPr/>
            <p:nvPr/>
          </p:nvGrpSpPr>
          <p:grpSpPr>
            <a:xfrm>
              <a:off x="1466640" y="1433520"/>
              <a:ext cx="1944720" cy="1296720"/>
              <a:chOff x="1466640" y="1433520"/>
              <a:chExt cx="1944720" cy="1296720"/>
            </a:xfrm>
          </p:grpSpPr>
          <p:sp>
            <p:nvSpPr>
              <p:cNvPr id="387" name="Line 33"/>
              <p:cNvSpPr/>
              <p:nvPr/>
            </p:nvSpPr>
            <p:spPr>
              <a:xfrm flipV="1">
                <a:off x="1466640" y="1433520"/>
                <a:ext cx="1944720" cy="129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1466640" y="1433160"/>
                <a:ext cx="1944720" cy="12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537920" y="1433520"/>
              <a:ext cx="1873440" cy="1368360"/>
              <a:chOff x="1537920" y="1433520"/>
              <a:chExt cx="1873440" cy="1368360"/>
            </a:xfrm>
          </p:grpSpPr>
          <p:sp>
            <p:nvSpPr>
              <p:cNvPr id="390" name="Line 34"/>
              <p:cNvSpPr/>
              <p:nvPr/>
            </p:nvSpPr>
            <p:spPr>
              <a:xfrm>
                <a:off x="1537920" y="1433520"/>
                <a:ext cx="1873440" cy="13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1537920" y="1433520"/>
                <a:ext cx="187344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Text Box 35"/>
            <p:cNvSpPr/>
            <p:nvPr/>
          </p:nvSpPr>
          <p:spPr>
            <a:xfrm>
              <a:off x="2224080" y="1670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36"/>
            <p:cNvSpPr/>
            <p:nvPr/>
          </p:nvSpPr>
          <p:spPr>
            <a:xfrm>
              <a:off x="1108440" y="2682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37"/>
            <p:cNvSpPr/>
            <p:nvPr/>
          </p:nvSpPr>
          <p:spPr>
            <a:xfrm>
              <a:off x="3413520" y="1170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38"/>
            <p:cNvSpPr/>
            <p:nvPr/>
          </p:nvSpPr>
          <p:spPr>
            <a:xfrm>
              <a:off x="1057680" y="1199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39"/>
            <p:cNvSpPr/>
            <p:nvPr/>
          </p:nvSpPr>
          <p:spPr>
            <a:xfrm>
              <a:off x="3413160" y="2611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40"/>
            <p:cNvSpPr/>
            <p:nvPr/>
          </p:nvSpPr>
          <p:spPr>
            <a:xfrm>
              <a:off x="1606320" y="1825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2793600" y="184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42"/>
            <p:cNvSpPr/>
            <p:nvPr/>
          </p:nvSpPr>
          <p:spPr>
            <a:xfrm>
              <a:off x="2187360" y="2466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43"/>
            <p:cNvSpPr/>
            <p:nvPr/>
          </p:nvSpPr>
          <p:spPr>
            <a:xfrm>
              <a:off x="2290680" y="1260360"/>
              <a:ext cx="4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Arc 44"/>
            <p:cNvSpPr/>
            <p:nvPr/>
          </p:nvSpPr>
          <p:spPr>
            <a:xfrm flipH="1" rot="14062200">
              <a:off x="2116080" y="1864080"/>
              <a:ext cx="617400" cy="561960"/>
            </a:xfrm>
            <a:custGeom>
              <a:avLst/>
              <a:gdLst/>
              <a:ahLst/>
              <a:rect l="l" t="t" r="r" b="b"/>
              <a:pathLst>
                <a:path fill="none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</a:path>
                <a:path stroke="0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  <a:lnTo>
                    <a:pt x="0" y="1963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rc 45"/>
            <p:cNvSpPr/>
            <p:nvPr/>
          </p:nvSpPr>
          <p:spPr>
            <a:xfrm flipH="1" rot="3262200">
              <a:off x="2133360" y="1680840"/>
              <a:ext cx="635040" cy="583920"/>
            </a:xfrm>
            <a:custGeom>
              <a:avLst/>
              <a:gdLst/>
              <a:ahLst/>
              <a:rect l="l" t="t" r="r" b="b"/>
              <a:pathLst>
                <a:path fill="none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</a:path>
                <a:path stroke="0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  <a:lnTo>
                    <a:pt x="0" y="203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Arc 46"/>
            <p:cNvSpPr/>
            <p:nvPr/>
          </p:nvSpPr>
          <p:spPr>
            <a:xfrm flipH="1" rot="19292400">
              <a:off x="1905840" y="184572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rc 47"/>
            <p:cNvSpPr/>
            <p:nvPr/>
          </p:nvSpPr>
          <p:spPr>
            <a:xfrm flipH="1" rot="8492400">
              <a:off x="2458080" y="187740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53"/>
          <p:cNvGrpSpPr/>
          <p:nvPr/>
        </p:nvGrpSpPr>
        <p:grpSpPr>
          <a:xfrm>
            <a:off x="3967560" y="1515960"/>
            <a:ext cx="2572200" cy="1473480"/>
            <a:chOff x="3967560" y="1515960"/>
            <a:chExt cx="2572200" cy="1473480"/>
          </a:xfrm>
        </p:grpSpPr>
        <p:grpSp>
          <p:nvGrpSpPr>
            <p:cNvPr id="406" name=""/>
            <p:cNvGrpSpPr/>
            <p:nvPr/>
          </p:nvGrpSpPr>
          <p:grpSpPr>
            <a:xfrm>
              <a:off x="5148360" y="1825200"/>
              <a:ext cx="1009440" cy="649080"/>
              <a:chOff x="5148360" y="1825200"/>
              <a:chExt cx="1009440" cy="649080"/>
            </a:xfrm>
          </p:grpSpPr>
          <p:sp>
            <p:nvSpPr>
              <p:cNvPr id="407" name="Line 19"/>
              <p:cNvSpPr/>
              <p:nvPr/>
            </p:nvSpPr>
            <p:spPr>
              <a:xfrm flipV="1">
                <a:off x="5148360" y="1825200"/>
                <a:ext cx="1009440" cy="64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 rot="10800000">
                <a:off x="5148360" y="1825200"/>
                <a:ext cx="100944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284720" y="1825560"/>
              <a:ext cx="863640" cy="649080"/>
              <a:chOff x="4284720" y="1825560"/>
              <a:chExt cx="863640" cy="649080"/>
            </a:xfrm>
          </p:grpSpPr>
          <p:sp>
            <p:nvSpPr>
              <p:cNvPr id="410" name="Line 20"/>
              <p:cNvSpPr/>
              <p:nvPr/>
            </p:nvSpPr>
            <p:spPr>
              <a:xfrm>
                <a:off x="4284720" y="1825560"/>
                <a:ext cx="863640" cy="64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4284720" y="1825560"/>
                <a:ext cx="86364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Text Box 21"/>
            <p:cNvSpPr/>
            <p:nvPr/>
          </p:nvSpPr>
          <p:spPr>
            <a:xfrm>
              <a:off x="4889880" y="24429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3"/>
            <p:cNvSpPr/>
            <p:nvPr/>
          </p:nvSpPr>
          <p:spPr>
            <a:xfrm>
              <a:off x="3967560" y="1515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24"/>
            <p:cNvSpPr/>
            <p:nvPr/>
          </p:nvSpPr>
          <p:spPr>
            <a:xfrm>
              <a:off x="5038560" y="1724040"/>
              <a:ext cx="468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Arc 49"/>
            <p:cNvSpPr/>
            <p:nvPr/>
          </p:nvSpPr>
          <p:spPr>
            <a:xfrm flipH="1" rot="3479400">
              <a:off x="4770360" y="2059920"/>
              <a:ext cx="708120" cy="822240"/>
            </a:xfrm>
            <a:custGeom>
              <a:avLst/>
              <a:gdLst/>
              <a:ahLst/>
              <a:rect l="l" t="t" r="r" b="b"/>
              <a:pathLst>
                <a:path fill="none" w="20370" h="18671">
                  <a:moveTo>
                    <a:pt x="10860" y="0"/>
                  </a:moveTo>
                  <a:cubicBezTo>
                    <a:pt x="15293" y="2578"/>
                    <a:pt x="18663" y="6649"/>
                    <a:pt x="20369" y="11485"/>
                  </a:cubicBezTo>
                </a:path>
                <a:path stroke="0" w="20370" h="18671">
                  <a:moveTo>
                    <a:pt x="10860" y="0"/>
                  </a:moveTo>
                  <a:cubicBezTo>
                    <a:pt x="15293" y="2578"/>
                    <a:pt x="18663" y="6649"/>
                    <a:pt x="20369" y="11485"/>
                  </a:cubicBezTo>
                  <a:lnTo>
                    <a:pt x="0" y="1867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610308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52"/>
          <p:cNvGrpSpPr/>
          <p:nvPr/>
        </p:nvGrpSpPr>
        <p:grpSpPr>
          <a:xfrm>
            <a:off x="6157800" y="1353600"/>
            <a:ext cx="2723760" cy="1705680"/>
            <a:chOff x="6157800" y="1353600"/>
            <a:chExt cx="2723760" cy="1705680"/>
          </a:xfrm>
        </p:grpSpPr>
        <p:grpSp>
          <p:nvGrpSpPr>
            <p:cNvPr id="418" name=""/>
            <p:cNvGrpSpPr/>
            <p:nvPr/>
          </p:nvGrpSpPr>
          <p:grpSpPr>
            <a:xfrm>
              <a:off x="6444720" y="1914120"/>
              <a:ext cx="1081440" cy="647640"/>
              <a:chOff x="6444720" y="1914120"/>
              <a:chExt cx="1081440" cy="647640"/>
            </a:xfrm>
          </p:grpSpPr>
          <p:sp>
            <p:nvSpPr>
              <p:cNvPr id="419" name="Line 25"/>
              <p:cNvSpPr/>
              <p:nvPr/>
            </p:nvSpPr>
            <p:spPr>
              <a:xfrm flipV="1">
                <a:off x="6445080" y="1914120"/>
                <a:ext cx="1081080" cy="64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 rot="10800000">
                <a:off x="6444720" y="1914120"/>
                <a:ext cx="108108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453080" y="1916280"/>
              <a:ext cx="1009800" cy="718920"/>
              <a:chOff x="7453080" y="1916280"/>
              <a:chExt cx="1009800" cy="718920"/>
            </a:xfrm>
          </p:grpSpPr>
          <p:sp>
            <p:nvSpPr>
              <p:cNvPr id="422" name="Line 26"/>
              <p:cNvSpPr/>
              <p:nvPr/>
            </p:nvSpPr>
            <p:spPr>
              <a:xfrm>
                <a:off x="7453080" y="1916280"/>
                <a:ext cx="1009800" cy="718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7453080" y="1916280"/>
                <a:ext cx="1009800" cy="71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Text Box 27"/>
            <p:cNvSpPr/>
            <p:nvPr/>
          </p:nvSpPr>
          <p:spPr>
            <a:xfrm>
              <a:off x="7238880" y="1413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28"/>
            <p:cNvSpPr/>
            <p:nvPr/>
          </p:nvSpPr>
          <p:spPr>
            <a:xfrm>
              <a:off x="6157800" y="2417760"/>
              <a:ext cx="52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29"/>
            <p:cNvSpPr/>
            <p:nvPr/>
          </p:nvSpPr>
          <p:spPr>
            <a:xfrm>
              <a:off x="8464680" y="2443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0"/>
            <p:cNvSpPr/>
            <p:nvPr/>
          </p:nvSpPr>
          <p:spPr>
            <a:xfrm>
              <a:off x="7308360" y="2125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rc 50"/>
            <p:cNvSpPr/>
            <p:nvPr/>
          </p:nvSpPr>
          <p:spPr>
            <a:xfrm flipH="1" rot="14279400">
              <a:off x="7157160" y="1460520"/>
              <a:ext cx="708120" cy="822240"/>
            </a:xfrm>
            <a:custGeom>
              <a:avLst/>
              <a:gdLst/>
              <a:ahLst/>
              <a:rect l="l" t="t" r="r" b="b"/>
              <a:pathLst>
                <a:path fill="none" w="20370" h="18671">
                  <a:moveTo>
                    <a:pt x="10860" y="0"/>
                  </a:moveTo>
                  <a:cubicBezTo>
                    <a:pt x="15293" y="2578"/>
                    <a:pt x="18663" y="6649"/>
                    <a:pt x="20369" y="11485"/>
                  </a:cubicBezTo>
                </a:path>
                <a:path stroke="0" w="20370" h="18671">
                  <a:moveTo>
                    <a:pt x="10860" y="0"/>
                  </a:moveTo>
                  <a:cubicBezTo>
                    <a:pt x="15293" y="2578"/>
                    <a:pt x="18663" y="6649"/>
                    <a:pt x="20369" y="11485"/>
                  </a:cubicBezTo>
                  <a:lnTo>
                    <a:pt x="0" y="1867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24000">
    <p:strips dir="l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1463760" y="8380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直线相交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对顶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378240" y="1843200"/>
            <a:ext cx="1946160" cy="1238040"/>
            <a:chOff x="3378240" y="1843200"/>
            <a:chExt cx="1946160" cy="1238040"/>
          </a:xfrm>
        </p:grpSpPr>
        <p:sp>
          <p:nvSpPr>
            <p:cNvPr id="431" name="Line 5"/>
            <p:cNvSpPr/>
            <p:nvPr/>
          </p:nvSpPr>
          <p:spPr>
            <a:xfrm>
              <a:off x="3378240" y="1843200"/>
              <a:ext cx="1946160" cy="12380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378240" y="1843200"/>
              <a:ext cx="1946160" cy="12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378240" y="1606680"/>
            <a:ext cx="1946160" cy="1474560"/>
            <a:chOff x="3378240" y="1606680"/>
            <a:chExt cx="1946160" cy="1474560"/>
          </a:xfrm>
        </p:grpSpPr>
        <p:sp>
          <p:nvSpPr>
            <p:cNvPr id="434" name="Line 6"/>
            <p:cNvSpPr/>
            <p:nvPr/>
          </p:nvSpPr>
          <p:spPr>
            <a:xfrm flipH="1">
              <a:off x="3378240" y="1606680"/>
              <a:ext cx="1946160" cy="1474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378240" y="1606680"/>
              <a:ext cx="1946160" cy="14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7"/>
          <p:cNvSpPr/>
          <p:nvPr/>
        </p:nvSpPr>
        <p:spPr>
          <a:xfrm>
            <a:off x="3252600" y="378288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条直线相交于一点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对顶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4536720" y="824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195720" y="4799160"/>
            <a:ext cx="1946160" cy="1238040"/>
            <a:chOff x="3195720" y="4799160"/>
            <a:chExt cx="1946160" cy="1238040"/>
          </a:xfrm>
        </p:grpSpPr>
        <p:sp>
          <p:nvSpPr>
            <p:cNvPr id="439" name="Line 9"/>
            <p:cNvSpPr/>
            <p:nvPr/>
          </p:nvSpPr>
          <p:spPr>
            <a:xfrm>
              <a:off x="3195720" y="4799160"/>
              <a:ext cx="1946160" cy="12380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3195720" y="4799160"/>
              <a:ext cx="1946160" cy="12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195720" y="4562640"/>
            <a:ext cx="1946160" cy="1474560"/>
            <a:chOff x="3195720" y="4562640"/>
            <a:chExt cx="1946160" cy="1474560"/>
          </a:xfrm>
        </p:grpSpPr>
        <p:sp>
          <p:nvSpPr>
            <p:cNvPr id="442" name="Line 10"/>
            <p:cNvSpPr/>
            <p:nvPr/>
          </p:nvSpPr>
          <p:spPr>
            <a:xfrm flipH="1">
              <a:off x="3195720" y="4562640"/>
              <a:ext cx="1946160" cy="1474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3195720" y="4562640"/>
              <a:ext cx="1946160" cy="14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960640" y="5354640"/>
            <a:ext cx="2571840" cy="14400"/>
            <a:chOff x="2960640" y="5354640"/>
            <a:chExt cx="2571840" cy="14400"/>
          </a:xfrm>
        </p:grpSpPr>
        <p:sp>
          <p:nvSpPr>
            <p:cNvPr id="445" name="Line 11"/>
            <p:cNvSpPr/>
            <p:nvPr/>
          </p:nvSpPr>
          <p:spPr>
            <a:xfrm>
              <a:off x="2960640" y="5354640"/>
              <a:ext cx="2571840" cy="144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2960640" y="5354640"/>
              <a:ext cx="257184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Text Box 12"/>
          <p:cNvSpPr/>
          <p:nvPr/>
        </p:nvSpPr>
        <p:spPr>
          <a:xfrm>
            <a:off x="5358960" y="37828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8200"/>
          <p:cNvSpPr/>
          <p:nvPr/>
        </p:nvSpPr>
        <p:spPr>
          <a:xfrm>
            <a:off x="1273320" y="503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5"/>
          <p:cNvSpPr/>
          <p:nvPr/>
        </p:nvSpPr>
        <p:spPr>
          <a:xfrm>
            <a:off x="3249360" y="140184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条直线相交于一点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对顶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908440" y="494028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ｎ条直线相交于一点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对顶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5296680" y="14018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4884120" y="49258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195720" y="2705040"/>
            <a:ext cx="1946160" cy="1238400"/>
            <a:chOff x="3195720" y="2705040"/>
            <a:chExt cx="1946160" cy="1238400"/>
          </a:xfrm>
        </p:grpSpPr>
        <p:sp>
          <p:nvSpPr>
            <p:cNvPr id="454" name="Line 26"/>
            <p:cNvSpPr/>
            <p:nvPr/>
          </p:nvSpPr>
          <p:spPr>
            <a:xfrm>
              <a:off x="3195720" y="2705040"/>
              <a:ext cx="1946160" cy="12384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3195720" y="2705040"/>
              <a:ext cx="1946160" cy="123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195720" y="2468520"/>
            <a:ext cx="1946160" cy="1474920"/>
            <a:chOff x="3195720" y="2468520"/>
            <a:chExt cx="1946160" cy="1474920"/>
          </a:xfrm>
        </p:grpSpPr>
        <p:sp>
          <p:nvSpPr>
            <p:cNvPr id="457" name="Line 27"/>
            <p:cNvSpPr/>
            <p:nvPr/>
          </p:nvSpPr>
          <p:spPr>
            <a:xfrm flipH="1">
              <a:off x="3195720" y="2468520"/>
              <a:ext cx="1946160" cy="147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3195720" y="2468520"/>
              <a:ext cx="19461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60640" y="3260880"/>
            <a:ext cx="2571840" cy="14040"/>
            <a:chOff x="2960640" y="3260880"/>
            <a:chExt cx="2571840" cy="14040"/>
          </a:xfrm>
        </p:grpSpPr>
        <p:sp>
          <p:nvSpPr>
            <p:cNvPr id="460" name="Line 28"/>
            <p:cNvSpPr/>
            <p:nvPr/>
          </p:nvSpPr>
          <p:spPr>
            <a:xfrm>
              <a:off x="2960640" y="3260880"/>
              <a:ext cx="2571840" cy="140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2960640" y="3260880"/>
              <a:ext cx="257184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966840" y="2124000"/>
            <a:ext cx="221040" cy="2492280"/>
            <a:chOff x="3966840" y="2124000"/>
            <a:chExt cx="221040" cy="2492280"/>
          </a:xfrm>
        </p:grpSpPr>
        <p:sp>
          <p:nvSpPr>
            <p:cNvPr id="463" name="Line 29"/>
            <p:cNvSpPr/>
            <p:nvPr/>
          </p:nvSpPr>
          <p:spPr>
            <a:xfrm flipH="1">
              <a:off x="3966840" y="2124000"/>
              <a:ext cx="220680" cy="2492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3967200" y="2124000"/>
              <a:ext cx="220680" cy="24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7"/>
          <p:cNvSpPr/>
          <p:nvPr/>
        </p:nvSpPr>
        <p:spPr>
          <a:xfrm>
            <a:off x="1357200" y="2540160"/>
            <a:ext cx="4926240" cy="48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互补，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互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2170080" y="3884760"/>
            <a:ext cx="1528920" cy="48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19"/>
          <p:cNvSpPr/>
          <p:nvPr/>
        </p:nvSpPr>
        <p:spPr>
          <a:xfrm>
            <a:off x="3513240" y="3095640"/>
            <a:ext cx="431640" cy="628560"/>
          </a:xfrm>
          <a:prstGeom prst="downArrow">
            <a:avLst>
              <a:gd name="adj1" fmla="val 50000"/>
              <a:gd name="adj2" fmla="val 36385"/>
            </a:avLst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4458960" y="4224240"/>
            <a:ext cx="19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同角的补角相等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2138400" y="4468680"/>
            <a:ext cx="1606680" cy="48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22"/>
          <p:cNvSpPr/>
          <p:nvPr/>
        </p:nvSpPr>
        <p:spPr>
          <a:xfrm>
            <a:off x="3724200" y="5281560"/>
            <a:ext cx="432000" cy="606600"/>
          </a:xfrm>
          <a:prstGeom prst="downArrow">
            <a:avLst>
              <a:gd name="adj1" fmla="val 50000"/>
              <a:gd name="adj2" fmla="val 35084"/>
            </a:avLst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2674800" y="5888160"/>
            <a:ext cx="2540160" cy="550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对顶角相等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24"/>
          <p:cNvGrpSpPr/>
          <p:nvPr/>
        </p:nvGrpSpPr>
        <p:grpSpPr>
          <a:xfrm>
            <a:off x="2454840" y="237960"/>
            <a:ext cx="2792520" cy="2033280"/>
            <a:chOff x="2454840" y="237960"/>
            <a:chExt cx="2792520" cy="2033280"/>
          </a:xfrm>
        </p:grpSpPr>
        <p:grpSp>
          <p:nvGrpSpPr>
            <p:cNvPr id="473" name=""/>
            <p:cNvGrpSpPr/>
            <p:nvPr/>
          </p:nvGrpSpPr>
          <p:grpSpPr>
            <a:xfrm>
              <a:off x="2863800" y="501480"/>
              <a:ext cx="1944720" cy="1296720"/>
              <a:chOff x="2863800" y="501480"/>
              <a:chExt cx="1944720" cy="1296720"/>
            </a:xfrm>
          </p:grpSpPr>
          <p:sp>
            <p:nvSpPr>
              <p:cNvPr id="474" name="Line 25"/>
              <p:cNvSpPr/>
              <p:nvPr/>
            </p:nvSpPr>
            <p:spPr>
              <a:xfrm flipV="1">
                <a:off x="2863800" y="501480"/>
                <a:ext cx="1944720" cy="1296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10800000">
                <a:off x="2863800" y="501120"/>
                <a:ext cx="1944720" cy="12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935080" y="501480"/>
              <a:ext cx="1873440" cy="1368360"/>
              <a:chOff x="2935080" y="501480"/>
              <a:chExt cx="1873440" cy="1368360"/>
            </a:xfrm>
          </p:grpSpPr>
          <p:sp>
            <p:nvSpPr>
              <p:cNvPr id="477" name="Line 26"/>
              <p:cNvSpPr/>
              <p:nvPr/>
            </p:nvSpPr>
            <p:spPr>
              <a:xfrm>
                <a:off x="2935080" y="501480"/>
                <a:ext cx="1873440" cy="136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2935080" y="501480"/>
                <a:ext cx="187344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Text Box 27"/>
            <p:cNvSpPr/>
            <p:nvPr/>
          </p:nvSpPr>
          <p:spPr>
            <a:xfrm>
              <a:off x="3621240" y="738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2505600" y="175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4810680" y="237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2454840" y="267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4810320" y="1679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3003480" y="89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3"/>
            <p:cNvSpPr/>
            <p:nvPr/>
          </p:nvSpPr>
          <p:spPr>
            <a:xfrm>
              <a:off x="4190760" y="91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34"/>
            <p:cNvSpPr/>
            <p:nvPr/>
          </p:nvSpPr>
          <p:spPr>
            <a:xfrm>
              <a:off x="3584520" y="1534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5"/>
            <p:cNvSpPr/>
            <p:nvPr/>
          </p:nvSpPr>
          <p:spPr>
            <a:xfrm>
              <a:off x="3687840" y="328320"/>
              <a:ext cx="4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Arc 36"/>
            <p:cNvSpPr/>
            <p:nvPr/>
          </p:nvSpPr>
          <p:spPr>
            <a:xfrm flipH="1" rot="14062200">
              <a:off x="3513240" y="932040"/>
              <a:ext cx="617400" cy="561960"/>
            </a:xfrm>
            <a:custGeom>
              <a:avLst/>
              <a:gdLst/>
              <a:ahLst/>
              <a:rect l="l" t="t" r="r" b="b"/>
              <a:pathLst>
                <a:path fill="none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</a:path>
                <a:path stroke="0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  <a:lnTo>
                    <a:pt x="0" y="1963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Arc 37"/>
            <p:cNvSpPr/>
            <p:nvPr/>
          </p:nvSpPr>
          <p:spPr>
            <a:xfrm flipH="1" rot="3262200">
              <a:off x="3530520" y="748800"/>
              <a:ext cx="635040" cy="583920"/>
            </a:xfrm>
            <a:custGeom>
              <a:avLst/>
              <a:gdLst/>
              <a:ahLst/>
              <a:rect l="l" t="t" r="r" b="b"/>
              <a:pathLst>
                <a:path fill="none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</a:path>
                <a:path stroke="0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  <a:lnTo>
                    <a:pt x="0" y="203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rc 38"/>
            <p:cNvSpPr/>
            <p:nvPr/>
          </p:nvSpPr>
          <p:spPr>
            <a:xfrm flipH="1" rot="19292400">
              <a:off x="3303000" y="91368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Arc 39"/>
            <p:cNvSpPr/>
            <p:nvPr/>
          </p:nvSpPr>
          <p:spPr>
            <a:xfrm flipH="1" rot="8492400">
              <a:off x="3855240" y="94536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AutoShape 40"/>
          <p:cNvSpPr/>
          <p:nvPr/>
        </p:nvSpPr>
        <p:spPr>
          <a:xfrm>
            <a:off x="3855960" y="3884760"/>
            <a:ext cx="223920" cy="1082520"/>
          </a:xfrm>
          <a:custGeom>
            <a:avLst/>
            <a:gdLst>
              <a:gd name="textAreaLeft" fmla="*/ 0 w 223920"/>
              <a:gd name="textAreaRight" fmla="*/ 80640 w 223920"/>
              <a:gd name="textAreaTop" fmla="*/ 28080 h 1082520"/>
              <a:gd name="textAreaBottom" fmla="*/ 1054440 h 10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41" descr="s图片1"/>
          <p:cNvPicPr/>
          <p:nvPr/>
        </p:nvPicPr>
        <p:blipFill>
          <a:blip r:embed="rId1"/>
          <a:stretch/>
        </p:blipFill>
        <p:spPr>
          <a:xfrm>
            <a:off x="6805440" y="1413000"/>
            <a:ext cx="14986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2" descr="无标题36"/>
          <p:cNvPicPr/>
          <p:nvPr/>
        </p:nvPicPr>
        <p:blipFill>
          <a:blip r:embed="rId1"/>
          <a:stretch/>
        </p:blipFill>
        <p:spPr>
          <a:xfrm>
            <a:off x="1327320" y="2205000"/>
            <a:ext cx="5443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4"/>
          <p:cNvGrpSpPr/>
          <p:nvPr/>
        </p:nvGrpSpPr>
        <p:grpSpPr>
          <a:xfrm>
            <a:off x="2809800" y="1044720"/>
            <a:ext cx="3838680" cy="782640"/>
            <a:chOff x="2809800" y="1044720"/>
            <a:chExt cx="3838680" cy="782640"/>
          </a:xfrm>
        </p:grpSpPr>
        <p:pic>
          <p:nvPicPr>
            <p:cNvPr id="496" name="Picture 5" descr="666"/>
            <p:cNvPicPr/>
            <p:nvPr/>
          </p:nvPicPr>
          <p:blipFill>
            <a:blip r:embed="rId2"/>
            <a:stretch/>
          </p:blipFill>
          <p:spPr>
            <a:xfrm>
              <a:off x="5648400" y="10447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AutoShape 6"/>
            <p:cNvSpPr/>
            <p:nvPr/>
          </p:nvSpPr>
          <p:spPr>
            <a:xfrm>
              <a:off x="2809800" y="115776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8"/>
          <p:cNvSpPr/>
          <p:nvPr/>
        </p:nvSpPr>
        <p:spPr>
          <a:xfrm>
            <a:off x="3268800" y="3139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对顶角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2986200" y="4270320"/>
            <a:ext cx="24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对顶角相等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3"/>
          <p:cNvPicPr/>
          <p:nvPr/>
        </p:nvPicPr>
        <p:blipFill>
          <a:blip r:embed="rId1"/>
          <a:stretch/>
        </p:blipFill>
        <p:spPr>
          <a:xfrm>
            <a:off x="2052720" y="1752480"/>
            <a:ext cx="3879720" cy="46101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3017520" y="-163440"/>
            <a:ext cx="2849400" cy="1709640"/>
            <a:chOff x="3017520" y="-163440"/>
            <a:chExt cx="2849400" cy="1709640"/>
          </a:xfrm>
        </p:grpSpPr>
        <p:sp>
          <p:nvSpPr>
            <p:cNvPr id="86" name="filecab3"/>
            <p:cNvSpPr/>
            <p:nvPr/>
          </p:nvSpPr>
          <p:spPr>
            <a:xfrm rot="10800000">
              <a:off x="3017520" y="7077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8" descr="F2008220203955"/>
            <p:cNvPicPr/>
            <p:nvPr/>
          </p:nvPicPr>
          <p:blipFill>
            <a:blip r:embed="rId2"/>
            <a:stretch/>
          </p:blipFill>
          <p:spPr>
            <a:xfrm>
              <a:off x="3635280" y="-1634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9"/>
          <p:cNvSpPr/>
          <p:nvPr/>
        </p:nvSpPr>
        <p:spPr>
          <a:xfrm>
            <a:off x="6056280" y="215280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的相交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263600" y="712800"/>
            <a:ext cx="66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：如图所示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17"/>
          <p:cNvGrpSpPr/>
          <p:nvPr/>
        </p:nvGrpSpPr>
        <p:grpSpPr>
          <a:xfrm>
            <a:off x="5183280" y="2205000"/>
            <a:ext cx="3909600" cy="3235320"/>
            <a:chOff x="5183280" y="2205000"/>
            <a:chExt cx="3909600" cy="3235320"/>
          </a:xfrm>
        </p:grpSpPr>
        <p:grpSp>
          <p:nvGrpSpPr>
            <p:cNvPr id="502" name="Group 3"/>
            <p:cNvGrpSpPr/>
            <p:nvPr/>
          </p:nvGrpSpPr>
          <p:grpSpPr>
            <a:xfrm>
              <a:off x="5183280" y="2205000"/>
              <a:ext cx="3527280" cy="2735280"/>
              <a:chOff x="5183280" y="2205000"/>
              <a:chExt cx="3527280" cy="273528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5183280" y="3644640"/>
                <a:ext cx="3527280" cy="360"/>
                <a:chOff x="5183280" y="3644640"/>
                <a:chExt cx="3527280" cy="360"/>
              </a:xfrm>
            </p:grpSpPr>
            <p:sp>
              <p:nvSpPr>
                <p:cNvPr id="504" name="Line 4"/>
                <p:cNvSpPr/>
                <p:nvPr/>
              </p:nvSpPr>
              <p:spPr>
                <a:xfrm>
                  <a:off x="5183280" y="3644640"/>
                  <a:ext cx="3527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5183280" y="3644640"/>
                  <a:ext cx="352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5902560" y="2205000"/>
                <a:ext cx="1728720" cy="2735280"/>
                <a:chOff x="5902560" y="2205000"/>
                <a:chExt cx="1728720" cy="2735280"/>
              </a:xfrm>
            </p:grpSpPr>
            <p:sp>
              <p:nvSpPr>
                <p:cNvPr id="507" name="Line 5"/>
                <p:cNvSpPr/>
                <p:nvPr/>
              </p:nvSpPr>
              <p:spPr>
                <a:xfrm>
                  <a:off x="5902560" y="2205000"/>
                  <a:ext cx="1728720" cy="2735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 txBox="1"/>
                <p:nvPr/>
              </p:nvSpPr>
              <p:spPr>
                <a:xfrm>
                  <a:off x="5902560" y="2205000"/>
                  <a:ext cx="1728720" cy="27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" name="Text Box 6"/>
            <p:cNvSpPr/>
            <p:nvPr/>
          </p:nvSpPr>
          <p:spPr>
            <a:xfrm>
              <a:off x="7417440" y="4919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8714160" y="333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5976720" y="3119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6984720" y="2832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7273800" y="3695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6337080" y="398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Arc 12"/>
            <p:cNvSpPr/>
            <p:nvPr/>
          </p:nvSpPr>
          <p:spPr>
            <a:xfrm rot="21061200">
              <a:off x="6697440" y="3357360"/>
              <a:ext cx="366480" cy="272880"/>
            </a:xfrm>
            <a:custGeom>
              <a:avLst/>
              <a:gdLst/>
              <a:ahLst/>
              <a:rect l="l" t="t" r="r" b="b"/>
              <a:pathLst>
                <a:path fill="none" w="21600" h="2268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62"/>
                    <a:pt x="21590" y="22324"/>
                    <a:pt x="21572" y="22685"/>
                  </a:cubicBezTo>
                </a:path>
                <a:path stroke="0" w="21600" h="2268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62"/>
                    <a:pt x="21590" y="22324"/>
                    <a:pt x="21572" y="22685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Arc 13"/>
            <p:cNvSpPr/>
            <p:nvPr/>
          </p:nvSpPr>
          <p:spPr>
            <a:xfrm rot="10800000">
              <a:off x="6551640" y="3645000"/>
              <a:ext cx="503280" cy="288720"/>
            </a:xfrm>
            <a:custGeom>
              <a:avLst/>
              <a:gdLst/>
              <a:ahLst/>
              <a:rect l="l" t="t" r="r" b="b"/>
              <a:pathLst>
                <a:path fill="none" w="32708" h="21600">
                  <a:moveTo>
                    <a:pt x="-1" y="3078"/>
                  </a:moveTo>
                  <a:cubicBezTo>
                    <a:pt x="3357" y="1064"/>
                    <a:pt x="7198" y="-1"/>
                    <a:pt x="11114" y="0"/>
                  </a:cubicBezTo>
                  <a:cubicBezTo>
                    <a:pt x="22845" y="0"/>
                    <a:pt x="32431" y="9363"/>
                    <a:pt x="32708" y="21090"/>
                  </a:cubicBezTo>
                </a:path>
                <a:path stroke="0" w="32708" h="21600">
                  <a:moveTo>
                    <a:pt x="-1" y="3078"/>
                  </a:moveTo>
                  <a:cubicBezTo>
                    <a:pt x="3357" y="1064"/>
                    <a:pt x="7198" y="-1"/>
                    <a:pt x="11114" y="0"/>
                  </a:cubicBezTo>
                  <a:cubicBezTo>
                    <a:pt x="22845" y="0"/>
                    <a:pt x="32431" y="9363"/>
                    <a:pt x="32708" y="21090"/>
                  </a:cubicBezTo>
                  <a:lnTo>
                    <a:pt x="11114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Arc 14"/>
            <p:cNvSpPr/>
            <p:nvPr/>
          </p:nvSpPr>
          <p:spPr>
            <a:xfrm>
              <a:off x="6335640" y="3213000"/>
              <a:ext cx="355680" cy="432000"/>
            </a:xfrm>
            <a:custGeom>
              <a:avLst/>
              <a:gdLst/>
              <a:ahLst/>
              <a:rect l="l" t="t" r="r" b="b"/>
              <a:pathLst>
                <a:path fill="none" w="21600" h="22601">
                  <a:moveTo>
                    <a:pt x="451" y="22600"/>
                  </a:moveTo>
                  <a:cubicBezTo>
                    <a:pt x="151" y="21156"/>
                    <a:pt x="0" y="19685"/>
                    <a:pt x="0" y="18210"/>
                  </a:cubicBezTo>
                  <a:cubicBezTo>
                    <a:pt x="-1" y="10833"/>
                    <a:pt x="3763" y="3967"/>
                    <a:pt x="9982" y="0"/>
                  </a:cubicBezTo>
                </a:path>
                <a:path stroke="0" w="21600" h="22601">
                  <a:moveTo>
                    <a:pt x="451" y="22600"/>
                  </a:moveTo>
                  <a:cubicBezTo>
                    <a:pt x="151" y="21156"/>
                    <a:pt x="0" y="19685"/>
                    <a:pt x="0" y="18210"/>
                  </a:cubicBezTo>
                  <a:cubicBezTo>
                    <a:pt x="-1" y="10833"/>
                    <a:pt x="3763" y="3967"/>
                    <a:pt x="9982" y="0"/>
                  </a:cubicBezTo>
                  <a:lnTo>
                    <a:pt x="21600" y="1821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Arc 15"/>
            <p:cNvSpPr/>
            <p:nvPr/>
          </p:nvSpPr>
          <p:spPr>
            <a:xfrm>
              <a:off x="6912000" y="3622680"/>
              <a:ext cx="360360" cy="382680"/>
            </a:xfrm>
            <a:custGeom>
              <a:avLst/>
              <a:gdLst/>
              <a:ahLst/>
              <a:rect l="l" t="t" r="r" b="b"/>
              <a:pathLst>
                <a:path fill="none" w="21587" h="18960">
                  <a:moveTo>
                    <a:pt x="21586" y="752"/>
                  </a:moveTo>
                  <a:cubicBezTo>
                    <a:pt x="21320" y="8381"/>
                    <a:pt x="17048" y="15303"/>
                    <a:pt x="10347" y="18959"/>
                  </a:cubicBezTo>
                </a:path>
                <a:path stroke="0" w="21587" h="18960">
                  <a:moveTo>
                    <a:pt x="21586" y="752"/>
                  </a:moveTo>
                  <a:cubicBezTo>
                    <a:pt x="21320" y="8381"/>
                    <a:pt x="17048" y="15303"/>
                    <a:pt x="10347" y="1895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Text Box 16"/>
          <p:cNvSpPr/>
          <p:nvPr/>
        </p:nvSpPr>
        <p:spPr>
          <a:xfrm>
            <a:off x="1254240" y="2467080"/>
            <a:ext cx="449712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解：由邻补角的定义，可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80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80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由对顶相等，可得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60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255600" y="1063800"/>
          <a:ext cx="8534520" cy="5051160"/>
        </p:xfrm>
        <a:graphic>
          <a:graphicData uri="http://schemas.openxmlformats.org/drawingml/2006/table">
            <a:tbl>
              <a:tblPr/>
              <a:tblGrid>
                <a:gridCol w="1147680"/>
                <a:gridCol w="2448000"/>
                <a:gridCol w="865080"/>
                <a:gridCol w="2087640"/>
                <a:gridCol w="1986120"/>
              </a:tblGrid>
              <a:tr h="1034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角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特    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性 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相 同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不 同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4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楷体_GB2312"/>
                          <a:ea typeface="楷体_GB2312"/>
                        </a:rPr>
                        <a:t>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1" name="Rectangle 26"/>
          <p:cNvSpPr/>
          <p:nvPr/>
        </p:nvSpPr>
        <p:spPr>
          <a:xfrm>
            <a:off x="3780000" y="2379600"/>
            <a:ext cx="99036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角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3801960" y="4527720"/>
            <a:ext cx="91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邻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角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补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8"/>
          <p:cNvSpPr/>
          <p:nvPr/>
        </p:nvSpPr>
        <p:spPr>
          <a:xfrm>
            <a:off x="1403280" y="30132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②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公共顶点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1711800" y="3541680"/>
            <a:ext cx="15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③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没有公共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0"/>
          <p:cNvSpPr/>
          <p:nvPr/>
        </p:nvSpPr>
        <p:spPr>
          <a:xfrm>
            <a:off x="1403280" y="2163600"/>
            <a:ext cx="2374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条直线相交形成的角；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1"/>
          <p:cNvSpPr/>
          <p:nvPr/>
        </p:nvSpPr>
        <p:spPr>
          <a:xfrm>
            <a:off x="1403280" y="409716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条直线相交而成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1403280" y="488484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②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公共顶点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1389240" y="5321160"/>
            <a:ext cx="246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③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一条公共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4"/>
          <p:cNvSpPr/>
          <p:nvPr/>
        </p:nvSpPr>
        <p:spPr>
          <a:xfrm>
            <a:off x="4716360" y="2303640"/>
            <a:ext cx="208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两条直线相交而成的角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35"/>
          <p:cNvSpPr/>
          <p:nvPr/>
        </p:nvSpPr>
        <p:spPr>
          <a:xfrm>
            <a:off x="4788000" y="503388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③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成对出现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6"/>
          <p:cNvSpPr/>
          <p:nvPr/>
        </p:nvSpPr>
        <p:spPr>
          <a:xfrm>
            <a:off x="4716360" y="3881520"/>
            <a:ext cx="201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②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有一个公共顶点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37"/>
          <p:cNvSpPr/>
          <p:nvPr/>
        </p:nvSpPr>
        <p:spPr>
          <a:xfrm>
            <a:off x="6804000" y="3446640"/>
            <a:ext cx="19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②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直线相交时，对顶角只有两对邻补角有四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8"/>
          <p:cNvSpPr/>
          <p:nvPr/>
        </p:nvSpPr>
        <p:spPr>
          <a:xfrm>
            <a:off x="6769080" y="2297160"/>
            <a:ext cx="21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无公共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40"/>
          <p:cNvGrpSpPr/>
          <p:nvPr/>
        </p:nvGrpSpPr>
        <p:grpSpPr>
          <a:xfrm>
            <a:off x="3290400" y="0"/>
            <a:ext cx="2849400" cy="1709640"/>
            <a:chOff x="3290400" y="0"/>
            <a:chExt cx="2849400" cy="1709640"/>
          </a:xfrm>
        </p:grpSpPr>
        <p:sp>
          <p:nvSpPr>
            <p:cNvPr id="535" name="filecab3"/>
            <p:cNvSpPr/>
            <p:nvPr/>
          </p:nvSpPr>
          <p:spPr>
            <a:xfrm rot="10800000">
              <a:off x="329040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Picture 42" descr="F2008220203955"/>
            <p:cNvPicPr/>
            <p:nvPr/>
          </p:nvPicPr>
          <p:blipFill>
            <a:blip r:embed="rId1"/>
            <a:stretch/>
          </p:blipFill>
          <p:spPr>
            <a:xfrm>
              <a:off x="390816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54040" y="3076560"/>
            <a:ext cx="819792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有公共顶点且相等的两个角是对顶角．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两条直线相交，有两组对顶角．（      ）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446120" y="21178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判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919520" y="3551400"/>
            <a:ext cx="42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672680" y="4300560"/>
            <a:ext cx="416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3395160" y="0"/>
            <a:ext cx="2849400" cy="1709640"/>
            <a:chOff x="3395160" y="0"/>
            <a:chExt cx="2849400" cy="1709640"/>
          </a:xfrm>
        </p:grpSpPr>
        <p:sp>
          <p:nvSpPr>
            <p:cNvPr id="542" name="filecab3"/>
            <p:cNvSpPr/>
            <p:nvPr/>
          </p:nvSpPr>
          <p:spPr>
            <a:xfrm rot="10800000">
              <a:off x="33951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Picture 10" descr="F2008220203955"/>
            <p:cNvPicPr/>
            <p:nvPr/>
          </p:nvPicPr>
          <p:blipFill>
            <a:blip r:embed="rId1"/>
            <a:stretch/>
          </p:blipFill>
          <p:spPr>
            <a:xfrm>
              <a:off x="40129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4" name="Picture 11" descr="？2"/>
          <p:cNvPicPr/>
          <p:nvPr/>
        </p:nvPicPr>
        <p:blipFill>
          <a:blip r:embed="rId2"/>
          <a:stretch/>
        </p:blipFill>
        <p:spPr>
          <a:xfrm>
            <a:off x="4013280" y="5116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087560" y="781200"/>
            <a:ext cx="74023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右图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射线，那么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对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对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对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对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13"/>
          <p:cNvGrpSpPr/>
          <p:nvPr/>
        </p:nvGrpSpPr>
        <p:grpSpPr>
          <a:xfrm>
            <a:off x="3202560" y="3989520"/>
            <a:ext cx="2935440" cy="2312640"/>
            <a:chOff x="3202560" y="3989520"/>
            <a:chExt cx="2935440" cy="2312640"/>
          </a:xfrm>
        </p:grpSpPr>
        <p:grpSp>
          <p:nvGrpSpPr>
            <p:cNvPr id="547" name=""/>
            <p:cNvGrpSpPr/>
            <p:nvPr/>
          </p:nvGrpSpPr>
          <p:grpSpPr>
            <a:xfrm>
              <a:off x="3505320" y="4410000"/>
              <a:ext cx="2362320" cy="1371600"/>
              <a:chOff x="3505320" y="4410000"/>
              <a:chExt cx="2362320" cy="1371600"/>
            </a:xfrm>
          </p:grpSpPr>
          <p:sp>
            <p:nvSpPr>
              <p:cNvPr id="548" name="Line 3"/>
              <p:cNvSpPr/>
              <p:nvPr/>
            </p:nvSpPr>
            <p:spPr>
              <a:xfrm>
                <a:off x="3505320" y="4410000"/>
                <a:ext cx="2362320" cy="1371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3505320" y="4410000"/>
                <a:ext cx="236232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429000" y="4105440"/>
              <a:ext cx="2438640" cy="1600200"/>
              <a:chOff x="3429000" y="4105440"/>
              <a:chExt cx="2438640" cy="1600200"/>
            </a:xfrm>
          </p:grpSpPr>
          <p:sp>
            <p:nvSpPr>
              <p:cNvPr id="551" name="Line 4"/>
              <p:cNvSpPr/>
              <p:nvPr/>
            </p:nvSpPr>
            <p:spPr>
              <a:xfrm flipH="1">
                <a:off x="3429000" y="4105440"/>
                <a:ext cx="2438640" cy="1600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3429000" y="4105440"/>
                <a:ext cx="243864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496040" y="5019840"/>
              <a:ext cx="75960" cy="990360"/>
              <a:chOff x="4496040" y="5019840"/>
              <a:chExt cx="75960" cy="990360"/>
            </a:xfrm>
          </p:grpSpPr>
          <p:sp>
            <p:nvSpPr>
              <p:cNvPr id="554" name="Line 5"/>
              <p:cNvSpPr/>
              <p:nvPr/>
            </p:nvSpPr>
            <p:spPr>
              <a:xfrm>
                <a:off x="4496040" y="5019840"/>
                <a:ext cx="75960" cy="99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4496040" y="5019840"/>
                <a:ext cx="759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6"/>
            <p:cNvSpPr/>
            <p:nvPr/>
          </p:nvSpPr>
          <p:spPr>
            <a:xfrm>
              <a:off x="3398040" y="3989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7"/>
            <p:cNvSpPr/>
            <p:nvPr/>
          </p:nvSpPr>
          <p:spPr>
            <a:xfrm>
              <a:off x="5701320" y="5227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8"/>
            <p:cNvSpPr/>
            <p:nvPr/>
          </p:nvSpPr>
          <p:spPr>
            <a:xfrm>
              <a:off x="3202560" y="519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9"/>
            <p:cNvSpPr/>
            <p:nvPr/>
          </p:nvSpPr>
          <p:spPr>
            <a:xfrm>
              <a:off x="5700960" y="4089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4269240" y="45118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1"/>
            <p:cNvSpPr/>
            <p:nvPr/>
          </p:nvSpPr>
          <p:spPr>
            <a:xfrm>
              <a:off x="4573800" y="5781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Text Box 12"/>
          <p:cNvSpPr/>
          <p:nvPr/>
        </p:nvSpPr>
        <p:spPr>
          <a:xfrm>
            <a:off x="3416760" y="12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14" descr="图片1地"/>
          <p:cNvPicPr/>
          <p:nvPr/>
        </p:nvPicPr>
        <p:blipFill>
          <a:blip r:embed="rId1"/>
          <a:stretch/>
        </p:blipFill>
        <p:spPr>
          <a:xfrm>
            <a:off x="7113600" y="284652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4"/>
          <p:cNvSpPr/>
          <p:nvPr/>
        </p:nvSpPr>
        <p:spPr>
          <a:xfrm>
            <a:off x="1146240" y="760320"/>
            <a:ext cx="74343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图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（　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4"/>
          <p:cNvGrpSpPr/>
          <p:nvPr/>
        </p:nvGrpSpPr>
        <p:grpSpPr>
          <a:xfrm>
            <a:off x="3713040" y="2631960"/>
            <a:ext cx="4751280" cy="4041360"/>
            <a:chOff x="3713040" y="2631960"/>
            <a:chExt cx="4751280" cy="4041360"/>
          </a:xfrm>
        </p:grpSpPr>
        <p:grpSp>
          <p:nvGrpSpPr>
            <p:cNvPr id="566" name=""/>
            <p:cNvGrpSpPr/>
            <p:nvPr/>
          </p:nvGrpSpPr>
          <p:grpSpPr>
            <a:xfrm>
              <a:off x="3713040" y="3652560"/>
              <a:ext cx="4483080" cy="1873440"/>
              <a:chOff x="3713040" y="3652560"/>
              <a:chExt cx="4483080" cy="1873440"/>
            </a:xfrm>
          </p:grpSpPr>
          <p:sp>
            <p:nvSpPr>
              <p:cNvPr id="567" name="Line 5"/>
              <p:cNvSpPr/>
              <p:nvPr/>
            </p:nvSpPr>
            <p:spPr>
              <a:xfrm>
                <a:off x="3713040" y="3652560"/>
                <a:ext cx="4483080" cy="1873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3713040" y="3652560"/>
                <a:ext cx="4483080" cy="187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171760" y="2631960"/>
              <a:ext cx="1430280" cy="3587760"/>
              <a:chOff x="5171760" y="2631960"/>
              <a:chExt cx="1430280" cy="3587760"/>
            </a:xfrm>
          </p:grpSpPr>
          <p:sp>
            <p:nvSpPr>
              <p:cNvPr id="570" name="Line 6"/>
              <p:cNvSpPr/>
              <p:nvPr/>
            </p:nvSpPr>
            <p:spPr>
              <a:xfrm>
                <a:off x="5171760" y="2631960"/>
                <a:ext cx="1430280" cy="3587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5171760" y="2631960"/>
                <a:ext cx="1430280" cy="358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Arc 7"/>
            <p:cNvSpPr/>
            <p:nvPr/>
          </p:nvSpPr>
          <p:spPr>
            <a:xfrm>
              <a:off x="5790960" y="4141440"/>
              <a:ext cx="528480" cy="649440"/>
            </a:xfrm>
            <a:custGeom>
              <a:avLst/>
              <a:gdLst/>
              <a:ahLst/>
              <a:rect l="l" t="t" r="r" b="b"/>
              <a:pathLst>
                <a:path fill="none" w="21465" h="21600">
                  <a:moveTo>
                    <a:pt x="-1" y="0"/>
                  </a:moveTo>
                  <a:cubicBezTo>
                    <a:pt x="10995" y="0"/>
                    <a:pt x="20235" y="8259"/>
                    <a:pt x="21464" y="19186"/>
                  </a:cubicBezTo>
                </a:path>
                <a:path stroke="0" w="21465" h="21600">
                  <a:moveTo>
                    <a:pt x="-1" y="0"/>
                  </a:moveTo>
                  <a:cubicBezTo>
                    <a:pt x="10995" y="0"/>
                    <a:pt x="20235" y="8259"/>
                    <a:pt x="21464" y="1918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rc 8"/>
            <p:cNvSpPr/>
            <p:nvPr/>
          </p:nvSpPr>
          <p:spPr>
            <a:xfrm flipH="1">
              <a:off x="5353560" y="3958920"/>
              <a:ext cx="436680" cy="432000"/>
            </a:xfrm>
            <a:custGeom>
              <a:avLst/>
              <a:gdLst/>
              <a:ahLst/>
              <a:rect l="l" t="t" r="r" b="b"/>
              <a:pathLst>
                <a:path fill="none" w="21298" h="21053">
                  <a:moveTo>
                    <a:pt x="4829" y="-1"/>
                  </a:moveTo>
                  <a:cubicBezTo>
                    <a:pt x="13342" y="1952"/>
                    <a:pt x="19842" y="8840"/>
                    <a:pt x="21297" y="17453"/>
                  </a:cubicBezTo>
                </a:path>
                <a:path stroke="0" w="21298" h="21053">
                  <a:moveTo>
                    <a:pt x="4829" y="-1"/>
                  </a:moveTo>
                  <a:cubicBezTo>
                    <a:pt x="13342" y="1952"/>
                    <a:pt x="19842" y="8840"/>
                    <a:pt x="21297" y="17453"/>
                  </a:cubicBezTo>
                  <a:lnTo>
                    <a:pt x="0" y="21053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9"/>
            <p:cNvSpPr/>
            <p:nvPr/>
          </p:nvSpPr>
          <p:spPr>
            <a:xfrm>
              <a:off x="5079600" y="3568320"/>
              <a:ext cx="362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0"/>
            <p:cNvSpPr/>
            <p:nvPr/>
          </p:nvSpPr>
          <p:spPr>
            <a:xfrm>
              <a:off x="6231960" y="3568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1"/>
            <p:cNvSpPr/>
            <p:nvPr/>
          </p:nvSpPr>
          <p:spPr>
            <a:xfrm>
              <a:off x="5300640" y="4398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2"/>
            <p:cNvSpPr/>
            <p:nvPr/>
          </p:nvSpPr>
          <p:spPr>
            <a:xfrm>
              <a:off x="8105400" y="5135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6703920" y="615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Text Box 15"/>
          <p:cNvSpPr/>
          <p:nvPr/>
        </p:nvSpPr>
        <p:spPr>
          <a:xfrm>
            <a:off x="4205880" y="123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6" descr="蝴蝶2"/>
          <p:cNvPicPr/>
          <p:nvPr/>
        </p:nvPicPr>
        <p:blipFill>
          <a:blip r:embed="rId1"/>
          <a:stretch/>
        </p:blipFill>
        <p:spPr>
          <a:xfrm>
            <a:off x="2297160" y="4305240"/>
            <a:ext cx="1224000" cy="122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17"/>
          <p:cNvGrpSpPr/>
          <p:nvPr/>
        </p:nvGrpSpPr>
        <p:grpSpPr>
          <a:xfrm>
            <a:off x="5785200" y="1860480"/>
            <a:ext cx="2570760" cy="2373120"/>
            <a:chOff x="5785200" y="1860480"/>
            <a:chExt cx="2570760" cy="2373120"/>
          </a:xfrm>
        </p:grpSpPr>
        <p:grpSp>
          <p:nvGrpSpPr>
            <p:cNvPr id="582" name=""/>
            <p:cNvGrpSpPr/>
            <p:nvPr/>
          </p:nvGrpSpPr>
          <p:grpSpPr>
            <a:xfrm>
              <a:off x="6164280" y="2707920"/>
              <a:ext cx="2133720" cy="1066680"/>
              <a:chOff x="6164280" y="2707920"/>
              <a:chExt cx="2133720" cy="1066680"/>
            </a:xfrm>
          </p:grpSpPr>
          <p:sp>
            <p:nvSpPr>
              <p:cNvPr id="583" name="Line 3"/>
              <p:cNvSpPr/>
              <p:nvPr/>
            </p:nvSpPr>
            <p:spPr>
              <a:xfrm>
                <a:off x="6164280" y="2707920"/>
                <a:ext cx="2133720" cy="1066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6164280" y="2707920"/>
                <a:ext cx="213372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163920" y="2707920"/>
              <a:ext cx="2057760" cy="990360"/>
              <a:chOff x="6163920" y="2707920"/>
              <a:chExt cx="2057760" cy="990360"/>
            </a:xfrm>
          </p:grpSpPr>
          <p:sp>
            <p:nvSpPr>
              <p:cNvPr id="586" name="Line 4"/>
              <p:cNvSpPr/>
              <p:nvPr/>
            </p:nvSpPr>
            <p:spPr>
              <a:xfrm flipH="1">
                <a:off x="6163920" y="2707920"/>
                <a:ext cx="2057400" cy="990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6164280" y="2707920"/>
                <a:ext cx="20574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169040" y="2279160"/>
              <a:ext cx="360" cy="914040"/>
              <a:chOff x="7169040" y="2279160"/>
              <a:chExt cx="360" cy="914040"/>
            </a:xfrm>
          </p:grpSpPr>
          <p:sp>
            <p:nvSpPr>
              <p:cNvPr id="589" name="Line 5"/>
              <p:cNvSpPr/>
              <p:nvPr/>
            </p:nvSpPr>
            <p:spPr>
              <a:xfrm flipV="1">
                <a:off x="7169400" y="2279160"/>
                <a:ext cx="0" cy="91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 rot="10800000">
                <a:off x="7169040" y="2279160"/>
                <a:ext cx="360" cy="9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Text Box 6"/>
            <p:cNvSpPr/>
            <p:nvPr/>
          </p:nvSpPr>
          <p:spPr>
            <a:xfrm>
              <a:off x="5785200" y="2447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7"/>
            <p:cNvSpPr/>
            <p:nvPr/>
          </p:nvSpPr>
          <p:spPr>
            <a:xfrm>
              <a:off x="7919280" y="3713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8"/>
            <p:cNvSpPr/>
            <p:nvPr/>
          </p:nvSpPr>
          <p:spPr>
            <a:xfrm>
              <a:off x="5856840" y="3438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7918920" y="2250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6836400" y="3308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1"/>
            <p:cNvSpPr/>
            <p:nvPr/>
          </p:nvSpPr>
          <p:spPr>
            <a:xfrm>
              <a:off x="6912360" y="1860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2"/>
          <p:cNvSpPr/>
          <p:nvPr/>
        </p:nvSpPr>
        <p:spPr>
          <a:xfrm>
            <a:off x="719280" y="1015920"/>
            <a:ext cx="784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平分线，已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=54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16"/>
          <p:cNvGrpSpPr/>
          <p:nvPr/>
        </p:nvGrpSpPr>
        <p:grpSpPr>
          <a:xfrm>
            <a:off x="809640" y="2379600"/>
            <a:ext cx="8350200" cy="3942000"/>
            <a:chOff x="809640" y="2379600"/>
            <a:chExt cx="8350200" cy="3942000"/>
          </a:xfrm>
        </p:grpSpPr>
        <p:sp>
          <p:nvSpPr>
            <p:cNvPr id="599" name="Text Box 2"/>
            <p:cNvSpPr/>
            <p:nvPr/>
          </p:nvSpPr>
          <p:spPr>
            <a:xfrm>
              <a:off x="809640" y="2379600"/>
              <a:ext cx="835020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解： 由邻补角的定义可得：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         ∠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BOC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80°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－∠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O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　　　　　 ＝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80°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54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                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6°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；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         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因为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OP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平分∠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BOC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         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所以∠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BOP=    ∠AO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                             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=    ×126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                            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63°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Object 14" descr=""/>
            <p:cNvPicPr/>
            <p:nvPr/>
          </p:nvPicPr>
          <p:blipFill>
            <a:blip r:embed="rId1"/>
            <a:stretch/>
          </p:blipFill>
          <p:spPr>
            <a:xfrm>
              <a:off x="3597480" y="4490640"/>
              <a:ext cx="34128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Object 15" descr=""/>
            <p:cNvPicPr/>
            <p:nvPr/>
          </p:nvPicPr>
          <p:blipFill>
            <a:blip r:embed="rId2"/>
            <a:stretch/>
          </p:blipFill>
          <p:spPr>
            <a:xfrm>
              <a:off x="3611520" y="5111640"/>
              <a:ext cx="29880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图片1"/>
          <p:cNvPicPr/>
          <p:nvPr/>
        </p:nvPicPr>
        <p:blipFill>
          <a:blip r:embed="rId1"/>
          <a:stretch/>
        </p:blipFill>
        <p:spPr>
          <a:xfrm>
            <a:off x="1171440" y="841320"/>
            <a:ext cx="7221600" cy="49118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2927520" y="5824440"/>
            <a:ext cx="29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的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20090305224540454"/>
          <p:cNvPicPr/>
          <p:nvPr/>
        </p:nvPicPr>
        <p:blipFill>
          <a:blip r:embed="rId1"/>
          <a:stretch/>
        </p:blipFill>
        <p:spPr>
          <a:xfrm>
            <a:off x="1297080" y="592200"/>
            <a:ext cx="5546520" cy="55879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7192440" y="2063880"/>
            <a:ext cx="60696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的垂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611280" y="1706400"/>
            <a:ext cx="3976560" cy="31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4589280" y="800280"/>
            <a:ext cx="4530240" cy="4687920"/>
            <a:chOff x="4589280" y="800280"/>
            <a:chExt cx="4530240" cy="4687920"/>
          </a:xfrm>
        </p:grpSpPr>
        <p:grpSp>
          <p:nvGrpSpPr>
            <p:cNvPr id="608" name="Group 4"/>
            <p:cNvGrpSpPr/>
            <p:nvPr/>
          </p:nvGrpSpPr>
          <p:grpSpPr>
            <a:xfrm>
              <a:off x="4589280" y="2743200"/>
              <a:ext cx="4530240" cy="584280"/>
              <a:chOff x="4589280" y="2743200"/>
              <a:chExt cx="4530240" cy="584280"/>
            </a:xfrm>
          </p:grpSpPr>
          <p:sp>
            <p:nvSpPr>
              <p:cNvPr id="609" name="Rectangle 5"/>
              <p:cNvSpPr/>
              <p:nvPr/>
            </p:nvSpPr>
            <p:spPr>
              <a:xfrm>
                <a:off x="5065560" y="2960280"/>
                <a:ext cx="360000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8667360" y="274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Text Box 7"/>
              <p:cNvSpPr/>
              <p:nvPr/>
            </p:nvSpPr>
            <p:spPr>
              <a:xfrm>
                <a:off x="4589280" y="2746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8"/>
            <p:cNvSpPr/>
            <p:nvPr/>
          </p:nvSpPr>
          <p:spPr>
            <a:xfrm rot="16210200">
              <a:off x="5204520" y="2990880"/>
              <a:ext cx="3600360" cy="144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9"/>
            <p:cNvSpPr/>
            <p:nvPr/>
          </p:nvSpPr>
          <p:spPr>
            <a:xfrm rot="3610200">
              <a:off x="6926040" y="2960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0"/>
            <p:cNvSpPr/>
            <p:nvPr/>
          </p:nvSpPr>
          <p:spPr>
            <a:xfrm>
              <a:off x="7083000" y="3176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1"/>
            <p:cNvSpPr/>
            <p:nvPr/>
          </p:nvSpPr>
          <p:spPr>
            <a:xfrm>
              <a:off x="6723000" y="4906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2"/>
            <p:cNvSpPr/>
            <p:nvPr/>
          </p:nvSpPr>
          <p:spPr>
            <a:xfrm>
              <a:off x="6723000" y="8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Text Box 13"/>
          <p:cNvSpPr/>
          <p:nvPr/>
        </p:nvSpPr>
        <p:spPr>
          <a:xfrm>
            <a:off x="611280" y="55148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时我们说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互相垂直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2840760" y="258588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5"/>
          <p:cNvSpPr/>
          <p:nvPr/>
        </p:nvSpPr>
        <p:spPr>
          <a:xfrm>
            <a:off x="2840760" y="340992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2823480" y="426420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17" descr="图片1wf"/>
          <p:cNvPicPr/>
          <p:nvPr/>
        </p:nvPicPr>
        <p:blipFill>
          <a:blip r:embed="rId3"/>
          <a:stretch/>
        </p:blipFill>
        <p:spPr>
          <a:xfrm>
            <a:off x="1390680" y="800280"/>
            <a:ext cx="4772160" cy="48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087200" y="1839960"/>
            <a:ext cx="439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α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α≠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时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（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（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α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（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4589280" y="1055520"/>
            <a:ext cx="4530240" cy="3966120"/>
            <a:chOff x="4589280" y="1055520"/>
            <a:chExt cx="4530240" cy="3966120"/>
          </a:xfrm>
        </p:grpSpPr>
        <p:grpSp>
          <p:nvGrpSpPr>
            <p:cNvPr id="624" name="Group 4"/>
            <p:cNvGrpSpPr/>
            <p:nvPr/>
          </p:nvGrpSpPr>
          <p:grpSpPr>
            <a:xfrm>
              <a:off x="4589280" y="2743200"/>
              <a:ext cx="4530240" cy="584280"/>
              <a:chOff x="4589280" y="2743200"/>
              <a:chExt cx="4530240" cy="58428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5065560" y="2960280"/>
                <a:ext cx="360000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8667360" y="274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7"/>
              <p:cNvSpPr/>
              <p:nvPr/>
            </p:nvSpPr>
            <p:spPr>
              <a:xfrm>
                <a:off x="4589280" y="2746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8"/>
            <p:cNvGrpSpPr/>
            <p:nvPr/>
          </p:nvGrpSpPr>
          <p:grpSpPr>
            <a:xfrm>
              <a:off x="5770080" y="1562760"/>
              <a:ext cx="2209320" cy="3011040"/>
              <a:chOff x="5770080" y="1562760"/>
              <a:chExt cx="2209320" cy="3011040"/>
            </a:xfrm>
          </p:grpSpPr>
          <p:sp>
            <p:nvSpPr>
              <p:cNvPr id="629" name="Rectangle 9"/>
              <p:cNvSpPr/>
              <p:nvPr/>
            </p:nvSpPr>
            <p:spPr>
              <a:xfrm rot="18334200">
                <a:off x="5074560" y="2997360"/>
                <a:ext cx="3600360" cy="14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10"/>
              <p:cNvSpPr/>
              <p:nvPr/>
            </p:nvSpPr>
            <p:spPr>
              <a:xfrm rot="3610200">
                <a:off x="6805440" y="2981160"/>
                <a:ext cx="152280" cy="149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Text Box 11"/>
            <p:cNvSpPr/>
            <p:nvPr/>
          </p:nvSpPr>
          <p:spPr>
            <a:xfrm>
              <a:off x="7083000" y="3179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2"/>
            <p:cNvSpPr/>
            <p:nvPr/>
          </p:nvSpPr>
          <p:spPr>
            <a:xfrm>
              <a:off x="5653080" y="4440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3"/>
            <p:cNvSpPr/>
            <p:nvPr/>
          </p:nvSpPr>
          <p:spPr>
            <a:xfrm>
              <a:off x="8029440" y="1055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Text Box 14"/>
          <p:cNvSpPr/>
          <p:nvPr/>
        </p:nvSpPr>
        <p:spPr>
          <a:xfrm>
            <a:off x="250920" y="5157720"/>
            <a:ext cx="792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α ≠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垂直，此时我们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斜交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5" descr="图片1wf"/>
          <p:cNvPicPr/>
          <p:nvPr/>
        </p:nvPicPr>
        <p:blipFill>
          <a:blip r:embed="rId3"/>
          <a:stretch/>
        </p:blipFill>
        <p:spPr>
          <a:xfrm>
            <a:off x="1652760" y="811080"/>
            <a:ext cx="4476600" cy="4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6"/>
          <p:cNvPicPr/>
          <p:nvPr/>
        </p:nvPicPr>
        <p:blipFill>
          <a:blip r:embed="rId1"/>
          <a:stretch/>
        </p:blipFill>
        <p:spPr>
          <a:xfrm>
            <a:off x="1335240" y="808200"/>
            <a:ext cx="5198760" cy="5198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6941880" y="166536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的相交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2247480" y="593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两条直线相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1332000" y="242100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857960" y="2089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斜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763640" y="4292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垂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交的特殊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6"/>
          <p:cNvGrpSpPr/>
          <p:nvPr/>
        </p:nvGrpSpPr>
        <p:grpSpPr>
          <a:xfrm>
            <a:off x="3635280" y="1700280"/>
            <a:ext cx="1584360" cy="1873080"/>
            <a:chOff x="3635280" y="1700280"/>
            <a:chExt cx="1584360" cy="1873080"/>
          </a:xfrm>
        </p:grpSpPr>
        <p:grpSp>
          <p:nvGrpSpPr>
            <p:cNvPr id="641" name=""/>
            <p:cNvGrpSpPr/>
            <p:nvPr/>
          </p:nvGrpSpPr>
          <p:grpSpPr>
            <a:xfrm>
              <a:off x="3635280" y="1989000"/>
              <a:ext cx="1584360" cy="1295640"/>
              <a:chOff x="3635280" y="1989000"/>
              <a:chExt cx="1584360" cy="1295640"/>
            </a:xfrm>
          </p:grpSpPr>
          <p:sp>
            <p:nvSpPr>
              <p:cNvPr id="642" name="Line 7"/>
              <p:cNvSpPr/>
              <p:nvPr/>
            </p:nvSpPr>
            <p:spPr>
              <a:xfrm>
                <a:off x="3635280" y="1989000"/>
                <a:ext cx="158436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3635280" y="1989000"/>
                <a:ext cx="1584360" cy="12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67280" y="1700280"/>
              <a:ext cx="504720" cy="1873080"/>
              <a:chOff x="4067280" y="1700280"/>
              <a:chExt cx="504720" cy="1873080"/>
            </a:xfrm>
          </p:grpSpPr>
          <p:sp>
            <p:nvSpPr>
              <p:cNvPr id="645" name="Line 8"/>
              <p:cNvSpPr/>
              <p:nvPr/>
            </p:nvSpPr>
            <p:spPr>
              <a:xfrm flipH="1">
                <a:off x="4067280" y="1700280"/>
                <a:ext cx="504720" cy="18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4067280" y="1700280"/>
                <a:ext cx="504720" cy="18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" name="Group 9"/>
          <p:cNvGrpSpPr/>
          <p:nvPr/>
        </p:nvGrpSpPr>
        <p:grpSpPr>
          <a:xfrm>
            <a:off x="6588000" y="4076640"/>
            <a:ext cx="1513080" cy="1440000"/>
            <a:chOff x="6588000" y="4076640"/>
            <a:chExt cx="1513080" cy="1440000"/>
          </a:xfrm>
        </p:grpSpPr>
        <p:grpSp>
          <p:nvGrpSpPr>
            <p:cNvPr id="648" name=""/>
            <p:cNvGrpSpPr/>
            <p:nvPr/>
          </p:nvGrpSpPr>
          <p:grpSpPr>
            <a:xfrm>
              <a:off x="6588000" y="4869000"/>
              <a:ext cx="1513080" cy="1440"/>
              <a:chOff x="6588000" y="4869000"/>
              <a:chExt cx="1513080" cy="1440"/>
            </a:xfrm>
          </p:grpSpPr>
          <p:sp>
            <p:nvSpPr>
              <p:cNvPr id="649" name="Line 10"/>
              <p:cNvSpPr/>
              <p:nvPr/>
            </p:nvSpPr>
            <p:spPr>
              <a:xfrm>
                <a:off x="6588000" y="4869000"/>
                <a:ext cx="15130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6588000" y="4869000"/>
                <a:ext cx="151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7451640" y="4076640"/>
              <a:ext cx="1800" cy="1440000"/>
              <a:chOff x="7451640" y="4076640"/>
              <a:chExt cx="1800" cy="1440000"/>
            </a:xfrm>
          </p:grpSpPr>
          <p:sp>
            <p:nvSpPr>
              <p:cNvPr id="652" name="Line 11"/>
              <p:cNvSpPr/>
              <p:nvPr/>
            </p:nvSpPr>
            <p:spPr>
              <a:xfrm>
                <a:off x="7451640" y="4076640"/>
                <a:ext cx="180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7451640" y="4076640"/>
                <a:ext cx="1800" cy="144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Text Box 12"/>
            <p:cNvSpPr/>
            <p:nvPr/>
          </p:nvSpPr>
          <p:spPr>
            <a:xfrm>
              <a:off x="7432200" y="4422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5" name="Picture 13" descr="图片3333"/>
          <p:cNvPicPr/>
          <p:nvPr/>
        </p:nvPicPr>
        <p:blipFill>
          <a:blip r:embed="rId1"/>
          <a:stretch/>
        </p:blipFill>
        <p:spPr>
          <a:xfrm>
            <a:off x="7134120" y="1235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5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684360" y="22114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两条直线相交所成的四个角中，有一个角是直角时，这两条直线互相垂直，其中一条直线叫另一条直线的垂线，它们的交点叫垂足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2946240" y="15699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垂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33320" y="4497480"/>
            <a:ext cx="4426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图中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互相垂直， 其中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的垂线，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的垂线，垂足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3110040" y="641520"/>
            <a:ext cx="3837960" cy="782640"/>
            <a:chOff x="3110040" y="641520"/>
            <a:chExt cx="3837960" cy="782640"/>
          </a:xfrm>
        </p:grpSpPr>
        <p:pic>
          <p:nvPicPr>
            <p:cNvPr id="660" name="Picture 6" descr="666"/>
            <p:cNvPicPr/>
            <p:nvPr/>
          </p:nvPicPr>
          <p:blipFill>
            <a:blip r:embed="rId1"/>
            <a:stretch/>
          </p:blipFill>
          <p:spPr>
            <a:xfrm>
              <a:off x="5948280" y="64152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AutoShape 7"/>
            <p:cNvSpPr/>
            <p:nvPr/>
          </p:nvSpPr>
          <p:spPr>
            <a:xfrm>
              <a:off x="3110040" y="754560"/>
              <a:ext cx="26622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8"/>
          <p:cNvGrpSpPr/>
          <p:nvPr/>
        </p:nvGrpSpPr>
        <p:grpSpPr>
          <a:xfrm>
            <a:off x="5940360" y="3728880"/>
            <a:ext cx="2541240" cy="2117880"/>
            <a:chOff x="5940360" y="3728880"/>
            <a:chExt cx="2541240" cy="2117880"/>
          </a:xfrm>
        </p:grpSpPr>
        <p:grpSp>
          <p:nvGrpSpPr>
            <p:cNvPr id="663" name=""/>
            <p:cNvGrpSpPr/>
            <p:nvPr/>
          </p:nvGrpSpPr>
          <p:grpSpPr>
            <a:xfrm>
              <a:off x="5940360" y="4910040"/>
              <a:ext cx="2089080" cy="360"/>
              <a:chOff x="5940360" y="4910040"/>
              <a:chExt cx="2089080" cy="360"/>
            </a:xfrm>
          </p:grpSpPr>
          <p:sp>
            <p:nvSpPr>
              <p:cNvPr id="664" name="Line 9"/>
              <p:cNvSpPr/>
              <p:nvPr/>
            </p:nvSpPr>
            <p:spPr>
              <a:xfrm>
                <a:off x="5940360" y="4910040"/>
                <a:ext cx="20890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5940360" y="4910040"/>
                <a:ext cx="20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948360" y="3902040"/>
              <a:ext cx="360" cy="1944720"/>
              <a:chOff x="6948360" y="3902040"/>
              <a:chExt cx="360" cy="1944720"/>
            </a:xfrm>
          </p:grpSpPr>
          <p:sp>
            <p:nvSpPr>
              <p:cNvPr id="667" name="Line 10"/>
              <p:cNvSpPr/>
              <p:nvPr/>
            </p:nvSpPr>
            <p:spPr>
              <a:xfrm>
                <a:off x="6948360" y="3902040"/>
                <a:ext cx="0" cy="194472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948360" y="390204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Text Box 11"/>
            <p:cNvSpPr/>
            <p:nvPr/>
          </p:nvSpPr>
          <p:spPr>
            <a:xfrm>
              <a:off x="8102880" y="4665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12"/>
            <p:cNvSpPr/>
            <p:nvPr/>
          </p:nvSpPr>
          <p:spPr>
            <a:xfrm>
              <a:off x="6922080" y="372888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13"/>
            <p:cNvSpPr/>
            <p:nvPr/>
          </p:nvSpPr>
          <p:spPr>
            <a:xfrm>
              <a:off x="7094880" y="50688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14"/>
            <p:cNvSpPr/>
            <p:nvPr/>
          </p:nvSpPr>
          <p:spPr>
            <a:xfrm>
              <a:off x="6922800" y="4452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文本框 8200"/>
          <p:cNvSpPr/>
          <p:nvPr/>
        </p:nvSpPr>
        <p:spPr>
          <a:xfrm>
            <a:off x="138240" y="1981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623880" y="211140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用</a:t>
            </a:r>
            <a:r>
              <a:rPr b="0" lang="zh-CN" sz="30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⊥</a:t>
            </a:r>
            <a:r>
              <a:rPr b="0" lang="zh-CN" sz="30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和直线字母表示垂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868400" y="981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垂直的表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611280" y="364500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例如，如图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互相垂直， 垂足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则记为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876400" y="4041720"/>
            <a:ext cx="29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⊥n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⊥m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11280" y="5286240"/>
            <a:ext cx="777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若要强调垂足，则记为：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⊥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 垂足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7"/>
          <p:cNvGrpSpPr/>
          <p:nvPr/>
        </p:nvGrpSpPr>
        <p:grpSpPr>
          <a:xfrm>
            <a:off x="6012000" y="2103480"/>
            <a:ext cx="2201400" cy="1830240"/>
            <a:chOff x="6012000" y="2103480"/>
            <a:chExt cx="2201400" cy="1830240"/>
          </a:xfrm>
        </p:grpSpPr>
        <p:grpSp>
          <p:nvGrpSpPr>
            <p:cNvPr id="680" name=""/>
            <p:cNvGrpSpPr/>
            <p:nvPr/>
          </p:nvGrpSpPr>
          <p:grpSpPr>
            <a:xfrm>
              <a:off x="6012000" y="3284640"/>
              <a:ext cx="2089080" cy="360"/>
              <a:chOff x="6012000" y="3284640"/>
              <a:chExt cx="2089080" cy="36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6012000" y="3284640"/>
                <a:ext cx="20890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 txBox="1"/>
              <p:nvPr/>
            </p:nvSpPr>
            <p:spPr>
              <a:xfrm>
                <a:off x="6012000" y="3284640"/>
                <a:ext cx="20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7020000" y="2276640"/>
              <a:ext cx="360" cy="1657080"/>
              <a:chOff x="7020000" y="2276640"/>
              <a:chExt cx="360" cy="1657080"/>
            </a:xfrm>
          </p:grpSpPr>
          <p:sp>
            <p:nvSpPr>
              <p:cNvPr id="684" name="Line 9"/>
              <p:cNvSpPr/>
              <p:nvPr/>
            </p:nvSpPr>
            <p:spPr>
              <a:xfrm>
                <a:off x="7020000" y="2276640"/>
                <a:ext cx="0" cy="1657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7020000" y="2276640"/>
                <a:ext cx="360" cy="165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Text Box 10"/>
            <p:cNvSpPr/>
            <p:nvPr/>
          </p:nvSpPr>
          <p:spPr>
            <a:xfrm>
              <a:off x="7834680" y="2808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11"/>
            <p:cNvSpPr/>
            <p:nvPr/>
          </p:nvSpPr>
          <p:spPr>
            <a:xfrm>
              <a:off x="6993720" y="210348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12"/>
            <p:cNvSpPr/>
            <p:nvPr/>
          </p:nvSpPr>
          <p:spPr>
            <a:xfrm>
              <a:off x="6988320" y="3311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3"/>
            <p:cNvSpPr/>
            <p:nvPr/>
          </p:nvSpPr>
          <p:spPr>
            <a:xfrm>
              <a:off x="7005240" y="2822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u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9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59960" y="2281320"/>
            <a:ext cx="169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书写形式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68360" y="1268280"/>
            <a:ext cx="647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，当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D=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垂足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1041480" y="2830680"/>
            <a:ext cx="52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OD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759960" y="4660920"/>
            <a:ext cx="169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书写形式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387360" y="3716280"/>
            <a:ext cx="7215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新魏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反之，若直线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垂直，垂足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那么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OD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041480" y="4176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垂直的书写形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2535120" y="4653000"/>
            <a:ext cx="63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OD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"/>
          <p:cNvSpPr/>
          <p:nvPr/>
        </p:nvSpPr>
        <p:spPr>
          <a:xfrm>
            <a:off x="947880" y="578952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应用垂直的定义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3592440" y="5775480"/>
            <a:ext cx="532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OC=∠BOC=∠BOD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11"/>
          <p:cNvGrpSpPr/>
          <p:nvPr/>
        </p:nvGrpSpPr>
        <p:grpSpPr>
          <a:xfrm>
            <a:off x="6509160" y="533520"/>
            <a:ext cx="2452680" cy="2481120"/>
            <a:chOff x="6509160" y="533520"/>
            <a:chExt cx="2452680" cy="2481120"/>
          </a:xfrm>
        </p:grpSpPr>
        <p:grpSp>
          <p:nvGrpSpPr>
            <p:cNvPr id="700" name=""/>
            <p:cNvGrpSpPr/>
            <p:nvPr/>
          </p:nvGrpSpPr>
          <p:grpSpPr>
            <a:xfrm>
              <a:off x="6722640" y="933120"/>
              <a:ext cx="1873440" cy="1584360"/>
              <a:chOff x="6722640" y="933120"/>
              <a:chExt cx="1873440" cy="1584360"/>
            </a:xfrm>
          </p:grpSpPr>
          <p:sp>
            <p:nvSpPr>
              <p:cNvPr id="701" name="Line 12"/>
              <p:cNvSpPr/>
              <p:nvPr/>
            </p:nvSpPr>
            <p:spPr>
              <a:xfrm flipV="1">
                <a:off x="6722640" y="933120"/>
                <a:ext cx="1873440" cy="158436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 rot="10800000">
                <a:off x="6722640" y="933120"/>
                <a:ext cx="18734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938640" y="860400"/>
              <a:ext cx="1584360" cy="1873440"/>
              <a:chOff x="6938640" y="860400"/>
              <a:chExt cx="1584360" cy="1873440"/>
            </a:xfrm>
          </p:grpSpPr>
          <p:sp>
            <p:nvSpPr>
              <p:cNvPr id="704" name="Line 13"/>
              <p:cNvSpPr/>
              <p:nvPr/>
            </p:nvSpPr>
            <p:spPr>
              <a:xfrm>
                <a:off x="6938640" y="860400"/>
                <a:ext cx="1584360" cy="187344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 rot="16200000">
                <a:off x="6793920" y="1004760"/>
                <a:ext cx="18734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Text Box 14"/>
            <p:cNvSpPr/>
            <p:nvPr/>
          </p:nvSpPr>
          <p:spPr>
            <a:xfrm>
              <a:off x="6509160" y="606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15"/>
            <p:cNvSpPr/>
            <p:nvPr/>
          </p:nvSpPr>
          <p:spPr>
            <a:xfrm>
              <a:off x="8453520" y="24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16"/>
            <p:cNvSpPr/>
            <p:nvPr/>
          </p:nvSpPr>
          <p:spPr>
            <a:xfrm>
              <a:off x="6509160" y="2478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17"/>
            <p:cNvSpPr/>
            <p:nvPr/>
          </p:nvSpPr>
          <p:spPr>
            <a:xfrm>
              <a:off x="8525160" y="533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18"/>
            <p:cNvSpPr/>
            <p:nvPr/>
          </p:nvSpPr>
          <p:spPr>
            <a:xfrm>
              <a:off x="7445160" y="1755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19"/>
            <p:cNvSpPr/>
            <p:nvPr/>
          </p:nvSpPr>
          <p:spPr>
            <a:xfrm rot="19189800">
              <a:off x="7432560" y="1193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u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2752200" y="24890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判断两条直线互相垂直的关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795240" y="3495600"/>
            <a:ext cx="640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只要找到两条直线相交时四个交角中一个角是直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3557520" y="860400"/>
            <a:ext cx="2770200" cy="947520"/>
            <a:chOff x="3557520" y="860400"/>
            <a:chExt cx="2770200" cy="947520"/>
          </a:xfrm>
        </p:grpSpPr>
        <p:sp>
          <p:nvSpPr>
            <p:cNvPr id="715" name="WordArt 5"/>
            <p:cNvSpPr txBox="1"/>
            <p:nvPr/>
          </p:nvSpPr>
          <p:spPr>
            <a:xfrm>
              <a:off x="3557520" y="1084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716" name="Picture 6" descr="54321 (7)"/>
            <p:cNvPicPr/>
            <p:nvPr/>
          </p:nvPicPr>
          <p:blipFill>
            <a:blip r:embed="rId1"/>
            <a:stretch/>
          </p:blipFill>
          <p:spPr>
            <a:xfrm>
              <a:off x="5421240" y="8604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7" descr="图片-1"/>
          <p:cNvPicPr/>
          <p:nvPr/>
        </p:nvPicPr>
        <p:blipFill>
          <a:blip r:embed="rId2"/>
          <a:stretch/>
        </p:blipFill>
        <p:spPr>
          <a:xfrm>
            <a:off x="5565600" y="4897440"/>
            <a:ext cx="1524240" cy="123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8"/>
          <p:cNvPicPr/>
          <p:nvPr/>
        </p:nvPicPr>
        <p:blipFill>
          <a:blip r:embed="rId1"/>
          <a:stretch/>
        </p:blipFill>
        <p:spPr>
          <a:xfrm>
            <a:off x="900000" y="10890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44"/>
          <p:cNvPicPr/>
          <p:nvPr/>
        </p:nvPicPr>
        <p:blipFill>
          <a:blip r:embed="rId2"/>
          <a:stretch/>
        </p:blipFill>
        <p:spPr>
          <a:xfrm>
            <a:off x="1135080" y="128736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67"/>
          <p:cNvPicPr/>
          <p:nvPr/>
        </p:nvPicPr>
        <p:blipFill>
          <a:blip r:embed="rId3"/>
          <a:stretch/>
        </p:blipFill>
        <p:spPr>
          <a:xfrm>
            <a:off x="2550960" y="1663560"/>
            <a:ext cx="5403960" cy="43992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77"/>
          <p:cNvPicPr/>
          <p:nvPr/>
        </p:nvPicPr>
        <p:blipFill>
          <a:blip r:embed="rId4"/>
          <a:stretch/>
        </p:blipFill>
        <p:spPr>
          <a:xfrm>
            <a:off x="2927520" y="1187280"/>
            <a:ext cx="3736800" cy="56167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" descr="3"/>
          <p:cNvPicPr/>
          <p:nvPr/>
        </p:nvPicPr>
        <p:blipFill>
          <a:blip r:embed="rId5"/>
          <a:stretch/>
        </p:blipFill>
        <p:spPr>
          <a:xfrm>
            <a:off x="2187720" y="1287360"/>
            <a:ext cx="5048280" cy="504828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1258920" y="419040"/>
            <a:ext cx="70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常见的互相垂直的例子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9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144440" y="450720"/>
            <a:ext cx="772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E=5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426240" y="1743120"/>
            <a:ext cx="598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116000" y="1824120"/>
            <a:ext cx="775008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OB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垂直的定义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E= 5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B=40°(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互余的定义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OC= ∠DOB=4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对顶角相等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又因为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平分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BOF= ∠DOB=4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（角平分线定义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OF= ∠EOB+ ∠BOF=9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4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=13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F=∠COD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F=18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=100° (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邻补角定义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5"/>
          <p:cNvGrpSpPr/>
          <p:nvPr/>
        </p:nvGrpSpPr>
        <p:grpSpPr>
          <a:xfrm>
            <a:off x="5915520" y="1487520"/>
            <a:ext cx="2864520" cy="2441520"/>
            <a:chOff x="5915520" y="1487520"/>
            <a:chExt cx="2864520" cy="2441520"/>
          </a:xfrm>
        </p:grpSpPr>
        <p:sp>
          <p:nvSpPr>
            <p:cNvPr id="728" name="Rectangle 6"/>
            <p:cNvSpPr/>
            <p:nvPr/>
          </p:nvSpPr>
          <p:spPr>
            <a:xfrm>
              <a:off x="7135920" y="2754360"/>
              <a:ext cx="14436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6056280" y="2905200"/>
              <a:ext cx="2592360" cy="360"/>
              <a:chOff x="6056280" y="2905200"/>
              <a:chExt cx="2592360" cy="360"/>
            </a:xfrm>
          </p:grpSpPr>
          <p:sp>
            <p:nvSpPr>
              <p:cNvPr id="730" name="Line 7"/>
              <p:cNvSpPr/>
              <p:nvPr/>
            </p:nvSpPr>
            <p:spPr>
              <a:xfrm>
                <a:off x="6056280" y="2905200"/>
                <a:ext cx="259236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6056280" y="2905200"/>
                <a:ext cx="259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281360" y="1681200"/>
              <a:ext cx="360" cy="1224000"/>
              <a:chOff x="7281360" y="1681200"/>
              <a:chExt cx="360" cy="1224000"/>
            </a:xfrm>
          </p:grpSpPr>
          <p:sp>
            <p:nvSpPr>
              <p:cNvPr id="733" name="Line 8"/>
              <p:cNvSpPr/>
              <p:nvPr/>
            </p:nvSpPr>
            <p:spPr>
              <a:xfrm flipV="1">
                <a:off x="7281720" y="1681200"/>
                <a:ext cx="0" cy="1224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 rot="10800000">
                <a:off x="7281360" y="16812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6300360" y="2297160"/>
              <a:ext cx="2016720" cy="1150920"/>
              <a:chOff x="6300360" y="2297160"/>
              <a:chExt cx="2016720" cy="1150920"/>
            </a:xfrm>
          </p:grpSpPr>
          <p:sp>
            <p:nvSpPr>
              <p:cNvPr id="736" name="Line 9"/>
              <p:cNvSpPr/>
              <p:nvPr/>
            </p:nvSpPr>
            <p:spPr>
              <a:xfrm flipH="1">
                <a:off x="6300360" y="2297160"/>
                <a:ext cx="2016360" cy="115092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 txBox="1"/>
              <p:nvPr/>
            </p:nvSpPr>
            <p:spPr>
              <a:xfrm>
                <a:off x="6300720" y="2297160"/>
                <a:ext cx="201636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Text Box 10"/>
            <p:cNvSpPr/>
            <p:nvPr/>
          </p:nvSpPr>
          <p:spPr>
            <a:xfrm>
              <a:off x="5915520" y="2855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11"/>
            <p:cNvSpPr/>
            <p:nvPr/>
          </p:nvSpPr>
          <p:spPr>
            <a:xfrm>
              <a:off x="6302880" y="3379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2"/>
            <p:cNvSpPr/>
            <p:nvPr/>
          </p:nvSpPr>
          <p:spPr>
            <a:xfrm>
              <a:off x="7283520" y="1487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3"/>
            <p:cNvSpPr/>
            <p:nvPr/>
          </p:nvSpPr>
          <p:spPr>
            <a:xfrm>
              <a:off x="8363160" y="285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Text Box 14"/>
            <p:cNvSpPr/>
            <p:nvPr/>
          </p:nvSpPr>
          <p:spPr>
            <a:xfrm>
              <a:off x="8031600" y="188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"/>
            <p:cNvSpPr/>
            <p:nvPr/>
          </p:nvSpPr>
          <p:spPr>
            <a:xfrm>
              <a:off x="7088040" y="29941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7265880" y="2928960"/>
              <a:ext cx="1008000" cy="503280"/>
              <a:chOff x="7265880" y="2928960"/>
              <a:chExt cx="1008000" cy="503280"/>
            </a:xfrm>
          </p:grpSpPr>
          <p:sp>
            <p:nvSpPr>
              <p:cNvPr id="745" name="Line 16"/>
              <p:cNvSpPr/>
              <p:nvPr/>
            </p:nvSpPr>
            <p:spPr>
              <a:xfrm>
                <a:off x="7265880" y="2928960"/>
                <a:ext cx="1008000" cy="50328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7265880" y="2928960"/>
                <a:ext cx="100800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Text Box 17"/>
            <p:cNvSpPr/>
            <p:nvPr/>
          </p:nvSpPr>
          <p:spPr>
            <a:xfrm>
              <a:off x="8003160" y="3408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539640" y="1916280"/>
            <a:ext cx="813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=12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3"/>
          <p:cNvGrpSpPr/>
          <p:nvPr/>
        </p:nvGrpSpPr>
        <p:grpSpPr>
          <a:xfrm>
            <a:off x="1365120" y="422280"/>
            <a:ext cx="2621160" cy="852480"/>
            <a:chOff x="1365120" y="422280"/>
            <a:chExt cx="2621160" cy="852480"/>
          </a:xfrm>
        </p:grpSpPr>
        <p:sp>
          <p:nvSpPr>
            <p:cNvPr id="750" name="AutoShape 4"/>
            <p:cNvSpPr/>
            <p:nvPr/>
          </p:nvSpPr>
          <p:spPr>
            <a:xfrm>
              <a:off x="1833480" y="48096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Picture 5" descr="ni_png_0444"/>
            <p:cNvPicPr/>
            <p:nvPr/>
          </p:nvPicPr>
          <p:blipFill>
            <a:blip r:embed="rId1"/>
            <a:stretch/>
          </p:blipFill>
          <p:spPr>
            <a:xfrm>
              <a:off x="1365120" y="42228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2" name="Group 6"/>
          <p:cNvGrpSpPr/>
          <p:nvPr/>
        </p:nvGrpSpPr>
        <p:grpSpPr>
          <a:xfrm>
            <a:off x="5366160" y="2495520"/>
            <a:ext cx="2864520" cy="2755800"/>
            <a:chOff x="5366160" y="2495520"/>
            <a:chExt cx="2864520" cy="2755800"/>
          </a:xfrm>
        </p:grpSpPr>
        <p:sp>
          <p:nvSpPr>
            <p:cNvPr id="753" name="Rectangle 7"/>
            <p:cNvSpPr/>
            <p:nvPr/>
          </p:nvSpPr>
          <p:spPr>
            <a:xfrm>
              <a:off x="6745320" y="3762360"/>
              <a:ext cx="14436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506920" y="3913200"/>
              <a:ext cx="2592360" cy="360"/>
              <a:chOff x="5506920" y="3913200"/>
              <a:chExt cx="2592360" cy="360"/>
            </a:xfrm>
          </p:grpSpPr>
          <p:sp>
            <p:nvSpPr>
              <p:cNvPr id="755" name="Line 8"/>
              <p:cNvSpPr/>
              <p:nvPr/>
            </p:nvSpPr>
            <p:spPr>
              <a:xfrm>
                <a:off x="5506920" y="3913200"/>
                <a:ext cx="259236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 txBox="1"/>
              <p:nvPr/>
            </p:nvSpPr>
            <p:spPr>
              <a:xfrm>
                <a:off x="5506920" y="3913200"/>
                <a:ext cx="259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6732360" y="2689200"/>
              <a:ext cx="360" cy="1224000"/>
              <a:chOff x="6732360" y="2689200"/>
              <a:chExt cx="360" cy="1224000"/>
            </a:xfrm>
          </p:grpSpPr>
          <p:sp>
            <p:nvSpPr>
              <p:cNvPr id="758" name="Line 9"/>
              <p:cNvSpPr/>
              <p:nvPr/>
            </p:nvSpPr>
            <p:spPr>
              <a:xfrm flipV="1">
                <a:off x="6732720" y="2689200"/>
                <a:ext cx="0" cy="1224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 txBox="1"/>
              <p:nvPr/>
            </p:nvSpPr>
            <p:spPr>
              <a:xfrm rot="10800000">
                <a:off x="6732360" y="26892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227640" y="2760840"/>
              <a:ext cx="1008360" cy="2304720"/>
              <a:chOff x="6227640" y="2760840"/>
              <a:chExt cx="1008360" cy="2304720"/>
            </a:xfrm>
          </p:grpSpPr>
          <p:sp>
            <p:nvSpPr>
              <p:cNvPr id="761" name="Line 10"/>
              <p:cNvSpPr/>
              <p:nvPr/>
            </p:nvSpPr>
            <p:spPr>
              <a:xfrm>
                <a:off x="6227640" y="2760840"/>
                <a:ext cx="1008360" cy="230472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 txBox="1"/>
              <p:nvPr/>
            </p:nvSpPr>
            <p:spPr>
              <a:xfrm>
                <a:off x="6227640" y="2760840"/>
                <a:ext cx="1008360" cy="23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Text Box 11"/>
            <p:cNvSpPr/>
            <p:nvPr/>
          </p:nvSpPr>
          <p:spPr>
            <a:xfrm>
              <a:off x="5366160" y="3863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12"/>
            <p:cNvSpPr/>
            <p:nvPr/>
          </p:nvSpPr>
          <p:spPr>
            <a:xfrm>
              <a:off x="5882400" y="2527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13"/>
            <p:cNvSpPr/>
            <p:nvPr/>
          </p:nvSpPr>
          <p:spPr>
            <a:xfrm>
              <a:off x="6734520" y="2495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4"/>
            <p:cNvSpPr/>
            <p:nvPr/>
          </p:nvSpPr>
          <p:spPr>
            <a:xfrm>
              <a:off x="7813800" y="3862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15"/>
            <p:cNvSpPr/>
            <p:nvPr/>
          </p:nvSpPr>
          <p:spPr>
            <a:xfrm>
              <a:off x="6806160" y="4730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16"/>
            <p:cNvSpPr/>
            <p:nvPr/>
          </p:nvSpPr>
          <p:spPr>
            <a:xfrm>
              <a:off x="7191720" y="41781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17"/>
            <p:cNvSpPr/>
            <p:nvPr/>
          </p:nvSpPr>
          <p:spPr>
            <a:xfrm>
              <a:off x="6330960" y="4027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Arc 18"/>
            <p:cNvSpPr/>
            <p:nvPr/>
          </p:nvSpPr>
          <p:spPr>
            <a:xfrm rot="10800000">
              <a:off x="6449760" y="3585960"/>
              <a:ext cx="384120" cy="641160"/>
            </a:xfrm>
            <a:custGeom>
              <a:avLst/>
              <a:gdLst/>
              <a:ahLst/>
              <a:rect l="l" t="t" r="r" b="b"/>
              <a:pathLst>
                <a:path fill="none" w="18448" h="21600">
                  <a:moveTo>
                    <a:pt x="-1" y="0"/>
                  </a:moveTo>
                  <a:cubicBezTo>
                    <a:pt x="7536" y="0"/>
                    <a:pt x="14527" y="3927"/>
                    <a:pt x="18447" y="10364"/>
                  </a:cubicBezTo>
                </a:path>
                <a:path stroke="0" w="18448" h="21600">
                  <a:moveTo>
                    <a:pt x="-1" y="0"/>
                  </a:moveTo>
                  <a:cubicBezTo>
                    <a:pt x="7536" y="0"/>
                    <a:pt x="14527" y="3927"/>
                    <a:pt x="18447" y="1036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AutoShape 19"/>
          <p:cNvSpPr/>
          <p:nvPr/>
        </p:nvSpPr>
        <p:spPr>
          <a:xfrm>
            <a:off x="1365120" y="3922560"/>
            <a:ext cx="3184560" cy="16146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3349800" y="76032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垂线的定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533520" y="1622520"/>
          <a:ext cx="8229600" cy="4549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526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定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图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文字语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几何语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两层含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4" name="Text Box 23"/>
          <p:cNvSpPr/>
          <p:nvPr/>
        </p:nvSpPr>
        <p:spPr>
          <a:xfrm>
            <a:off x="609480" y="2666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两条直线所成的四个角中有一个角是直角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们就说这两条直线互相垂直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4"/>
          <p:cNvSpPr/>
          <p:nvPr/>
        </p:nvSpPr>
        <p:spPr>
          <a:xfrm>
            <a:off x="3962520" y="335448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垂直于直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垂足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5"/>
          <p:cNvSpPr/>
          <p:nvPr/>
        </p:nvSpPr>
        <p:spPr>
          <a:xfrm>
            <a:off x="5562720" y="2852640"/>
            <a:ext cx="1523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B⊥C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垂足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6"/>
          <p:cNvSpPr/>
          <p:nvPr/>
        </p:nvSpPr>
        <p:spPr>
          <a:xfrm>
            <a:off x="7164360" y="2927520"/>
            <a:ext cx="180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含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∵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B⊥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=9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27"/>
          <p:cNvSpPr/>
          <p:nvPr/>
        </p:nvSpPr>
        <p:spPr>
          <a:xfrm>
            <a:off x="7164360" y="4343400"/>
            <a:ext cx="180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含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∵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=9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B⊥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580000" y="4176720"/>
            <a:ext cx="151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直用符号 “⊥”来表示，读作“垂直于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Group 29"/>
          <p:cNvGrpSpPr/>
          <p:nvPr/>
        </p:nvGrpSpPr>
        <p:grpSpPr>
          <a:xfrm>
            <a:off x="3692520" y="-73080"/>
            <a:ext cx="2770200" cy="947520"/>
            <a:chOff x="3692520" y="-73080"/>
            <a:chExt cx="2770200" cy="947520"/>
          </a:xfrm>
        </p:grpSpPr>
        <p:sp>
          <p:nvSpPr>
            <p:cNvPr id="781" name="WordArt 30"/>
            <p:cNvSpPr txBox="1"/>
            <p:nvPr/>
          </p:nvSpPr>
          <p:spPr>
            <a:xfrm>
              <a:off x="3692520" y="15084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782" name="Picture 31" descr="54321 (7)"/>
            <p:cNvPicPr/>
            <p:nvPr/>
          </p:nvPicPr>
          <p:blipFill>
            <a:blip r:embed="rId1"/>
            <a:stretch/>
          </p:blipFill>
          <p:spPr>
            <a:xfrm>
              <a:off x="5556240" y="-730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Group 32"/>
          <p:cNvGrpSpPr/>
          <p:nvPr/>
        </p:nvGrpSpPr>
        <p:grpSpPr>
          <a:xfrm>
            <a:off x="2133720" y="2819520"/>
            <a:ext cx="1600200" cy="2592720"/>
            <a:chOff x="2133720" y="2819520"/>
            <a:chExt cx="1600200" cy="2592720"/>
          </a:xfrm>
        </p:grpSpPr>
        <p:sp>
          <p:nvSpPr>
            <p:cNvPr id="784" name="Text Box 33"/>
            <p:cNvSpPr/>
            <p:nvPr/>
          </p:nvSpPr>
          <p:spPr>
            <a:xfrm>
              <a:off x="3105000" y="38242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Group 34"/>
            <p:cNvGrpSpPr/>
            <p:nvPr/>
          </p:nvGrpSpPr>
          <p:grpSpPr>
            <a:xfrm>
              <a:off x="2133720" y="2819520"/>
              <a:ext cx="1600200" cy="2592720"/>
              <a:chOff x="2133720" y="2819520"/>
              <a:chExt cx="1600200" cy="2592720"/>
            </a:xfrm>
          </p:grpSpPr>
          <p:grpSp>
            <p:nvGrpSpPr>
              <p:cNvPr id="786" name="Group 35"/>
              <p:cNvGrpSpPr/>
              <p:nvPr/>
            </p:nvGrpSpPr>
            <p:grpSpPr>
              <a:xfrm>
                <a:off x="2133720" y="2819520"/>
                <a:ext cx="1600200" cy="2592720"/>
                <a:chOff x="2133720" y="2819520"/>
                <a:chExt cx="1600200" cy="2592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2279160" y="4241160"/>
                  <a:ext cx="1357920" cy="360"/>
                  <a:chOff x="2279160" y="4241160"/>
                  <a:chExt cx="1357920" cy="360"/>
                </a:xfrm>
              </p:grpSpPr>
              <p:sp>
                <p:nvSpPr>
                  <p:cNvPr id="788" name="Line 36"/>
                  <p:cNvSpPr/>
                  <p:nvPr/>
                </p:nvSpPr>
                <p:spPr>
                  <a:xfrm>
                    <a:off x="2279160" y="4241160"/>
                    <a:ext cx="1357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 txBox="1"/>
                  <p:nvPr/>
                </p:nvSpPr>
                <p:spPr>
                  <a:xfrm>
                    <a:off x="2279160" y="4241160"/>
                    <a:ext cx="135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860920" y="3174480"/>
                  <a:ext cx="360" cy="2221920"/>
                  <a:chOff x="2860920" y="3174480"/>
                  <a:chExt cx="360" cy="2221920"/>
                </a:xfrm>
              </p:grpSpPr>
              <p:sp>
                <p:nvSpPr>
                  <p:cNvPr id="791" name="Line 37"/>
                  <p:cNvSpPr/>
                  <p:nvPr/>
                </p:nvSpPr>
                <p:spPr>
                  <a:xfrm>
                    <a:off x="2860920" y="3174480"/>
                    <a:ext cx="0" cy="2221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 txBox="1"/>
                  <p:nvPr/>
                </p:nvSpPr>
                <p:spPr>
                  <a:xfrm>
                    <a:off x="2860920" y="3174480"/>
                    <a:ext cx="360" cy="222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" name="Text Box 38"/>
                <p:cNvSpPr/>
                <p:nvPr/>
              </p:nvSpPr>
              <p:spPr>
                <a:xfrm>
                  <a:off x="2862000" y="4152600"/>
                  <a:ext cx="338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Text Box 39"/>
                <p:cNvSpPr/>
                <p:nvPr/>
              </p:nvSpPr>
              <p:spPr>
                <a:xfrm>
                  <a:off x="2862000" y="2819520"/>
                  <a:ext cx="24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40"/>
                <p:cNvSpPr/>
                <p:nvPr/>
              </p:nvSpPr>
              <p:spPr>
                <a:xfrm>
                  <a:off x="2862000" y="4952520"/>
                  <a:ext cx="24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Text Box 41"/>
                <p:cNvSpPr/>
                <p:nvPr/>
              </p:nvSpPr>
              <p:spPr>
                <a:xfrm>
                  <a:off x="2133720" y="4152600"/>
                  <a:ext cx="24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Text Box 42"/>
                <p:cNvSpPr/>
                <p:nvPr/>
              </p:nvSpPr>
              <p:spPr>
                <a:xfrm>
                  <a:off x="3491640" y="4152600"/>
                  <a:ext cx="24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Text Box 43"/>
              <p:cNvSpPr/>
              <p:nvPr/>
            </p:nvSpPr>
            <p:spPr>
              <a:xfrm>
                <a:off x="2839680" y="3787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sh dir="r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658800" y="20350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CD ⊥EF, ∠1= ∠2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⊥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请说明理由（补全解答过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2708280" y="38862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471400" y="491976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4185360" y="494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线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418536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线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586320" y="4416480"/>
            <a:ext cx="8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Group 8"/>
          <p:cNvGrpSpPr/>
          <p:nvPr/>
        </p:nvGrpSpPr>
        <p:grpSpPr>
          <a:xfrm>
            <a:off x="1689120" y="627120"/>
            <a:ext cx="2620440" cy="852480"/>
            <a:chOff x="1689120" y="627120"/>
            <a:chExt cx="2620440" cy="852480"/>
          </a:xfrm>
        </p:grpSpPr>
        <p:sp>
          <p:nvSpPr>
            <p:cNvPr id="806" name="AutoShape 9"/>
            <p:cNvSpPr/>
            <p:nvPr/>
          </p:nvSpPr>
          <p:spPr>
            <a:xfrm>
              <a:off x="2157120" y="685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7" name="Picture 10" descr="ni_png_0444"/>
            <p:cNvPicPr/>
            <p:nvPr/>
          </p:nvPicPr>
          <p:blipFill>
            <a:blip r:embed="rId1"/>
            <a:stretch/>
          </p:blipFill>
          <p:spPr>
            <a:xfrm>
              <a:off x="1689120" y="627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1"/>
          <p:cNvSpPr/>
          <p:nvPr/>
        </p:nvSpPr>
        <p:spPr>
          <a:xfrm>
            <a:off x="639720" y="3281400"/>
            <a:ext cx="6021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 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D ⊥EF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∴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= ____  (   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∵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= ∠2=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∴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___EF  (   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12"/>
          <p:cNvGrpSpPr/>
          <p:nvPr/>
        </p:nvGrpSpPr>
        <p:grpSpPr>
          <a:xfrm>
            <a:off x="5869080" y="2666880"/>
            <a:ext cx="2931480" cy="3111480"/>
            <a:chOff x="5869080" y="2666880"/>
            <a:chExt cx="2931480" cy="3111480"/>
          </a:xfrm>
        </p:grpSpPr>
        <p:sp>
          <p:nvSpPr>
            <p:cNvPr id="810" name="Text Box 13"/>
            <p:cNvSpPr/>
            <p:nvPr/>
          </p:nvSpPr>
          <p:spPr>
            <a:xfrm>
              <a:off x="6420600" y="5257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6188040" y="4200480"/>
              <a:ext cx="1752480" cy="914400"/>
              <a:chOff x="6188040" y="4200480"/>
              <a:chExt cx="1752480" cy="914400"/>
            </a:xfrm>
          </p:grpSpPr>
          <p:sp>
            <p:nvSpPr>
              <p:cNvPr id="812" name="Line 14"/>
              <p:cNvSpPr/>
              <p:nvPr/>
            </p:nvSpPr>
            <p:spPr>
              <a:xfrm>
                <a:off x="6188040" y="4200480"/>
                <a:ext cx="175248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6188040" y="4200480"/>
                <a:ext cx="17524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6492960" y="3286080"/>
              <a:ext cx="1828800" cy="914400"/>
              <a:chOff x="6492960" y="3286080"/>
              <a:chExt cx="1828800" cy="914400"/>
            </a:xfrm>
          </p:grpSpPr>
          <p:sp>
            <p:nvSpPr>
              <p:cNvPr id="815" name="Line 15"/>
              <p:cNvSpPr/>
              <p:nvPr/>
            </p:nvSpPr>
            <p:spPr>
              <a:xfrm>
                <a:off x="6492960" y="3286080"/>
                <a:ext cx="182880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 txBox="1"/>
              <p:nvPr/>
            </p:nvSpPr>
            <p:spPr>
              <a:xfrm>
                <a:off x="6492960" y="3286080"/>
                <a:ext cx="18288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568560" y="2981160"/>
              <a:ext cx="1219680" cy="2438640"/>
              <a:chOff x="6568560" y="2981160"/>
              <a:chExt cx="1219680" cy="2438640"/>
            </a:xfrm>
          </p:grpSpPr>
          <p:sp>
            <p:nvSpPr>
              <p:cNvPr id="818" name="Line 16"/>
              <p:cNvSpPr/>
              <p:nvPr/>
            </p:nvSpPr>
            <p:spPr>
              <a:xfrm flipH="1">
                <a:off x="6568560" y="2981160"/>
                <a:ext cx="1219320" cy="243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6568920" y="2981160"/>
                <a:ext cx="1219320" cy="243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Text Box 17"/>
            <p:cNvSpPr/>
            <p:nvPr/>
          </p:nvSpPr>
          <p:spPr>
            <a:xfrm>
              <a:off x="6326640" y="2819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18"/>
            <p:cNvSpPr/>
            <p:nvPr/>
          </p:nvSpPr>
          <p:spPr>
            <a:xfrm>
              <a:off x="8383680" y="38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9"/>
            <p:cNvSpPr/>
            <p:nvPr/>
          </p:nvSpPr>
          <p:spPr>
            <a:xfrm>
              <a:off x="5869080" y="4038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20"/>
            <p:cNvSpPr/>
            <p:nvPr/>
          </p:nvSpPr>
          <p:spPr>
            <a:xfrm>
              <a:off x="7850880" y="5029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21"/>
            <p:cNvSpPr/>
            <p:nvPr/>
          </p:nvSpPr>
          <p:spPr>
            <a:xfrm>
              <a:off x="7850520" y="266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22"/>
            <p:cNvSpPr/>
            <p:nvPr/>
          </p:nvSpPr>
          <p:spPr>
            <a:xfrm>
              <a:off x="6345000" y="45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23"/>
            <p:cNvSpPr/>
            <p:nvPr/>
          </p:nvSpPr>
          <p:spPr>
            <a:xfrm>
              <a:off x="6802560" y="371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24"/>
            <p:cNvSpPr/>
            <p:nvPr/>
          </p:nvSpPr>
          <p:spPr>
            <a:xfrm rot="12527400">
              <a:off x="6542280" y="448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Arc 25"/>
            <p:cNvSpPr/>
            <p:nvPr/>
          </p:nvSpPr>
          <p:spPr>
            <a:xfrm rot="12362400">
              <a:off x="7142040" y="3443040"/>
              <a:ext cx="387360" cy="566640"/>
            </a:xfrm>
            <a:custGeom>
              <a:avLst/>
              <a:gdLst/>
              <a:ahLst/>
              <a:rect l="l" t="t" r="r" b="b"/>
              <a:pathLst>
                <a:path fill="none" w="19953" h="20259">
                  <a:moveTo>
                    <a:pt x="7492" y="0"/>
                  </a:moveTo>
                  <a:cubicBezTo>
                    <a:pt x="13133" y="2086"/>
                    <a:pt x="17649" y="6430"/>
                    <a:pt x="19952" y="11986"/>
                  </a:cubicBezTo>
                </a:path>
                <a:path stroke="0" w="19953" h="20259">
                  <a:moveTo>
                    <a:pt x="7492" y="0"/>
                  </a:moveTo>
                  <a:cubicBezTo>
                    <a:pt x="13133" y="2086"/>
                    <a:pt x="17649" y="6430"/>
                    <a:pt x="19952" y="11986"/>
                  </a:cubicBezTo>
                  <a:lnTo>
                    <a:pt x="0" y="202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Text Box 26"/>
            <p:cNvSpPr/>
            <p:nvPr/>
          </p:nvSpPr>
          <p:spPr>
            <a:xfrm>
              <a:off x="6420600" y="5257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27"/>
            <p:cNvSpPr/>
            <p:nvPr/>
          </p:nvSpPr>
          <p:spPr>
            <a:xfrm>
              <a:off x="5869080" y="4038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6345360" y="443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2" name="Picture 29" descr="动画地球仪2"/>
          <p:cNvPicPr/>
          <p:nvPr/>
        </p:nvPicPr>
        <p:blipFill>
          <a:blip r:embed="rId2"/>
          <a:stretch/>
        </p:blipFill>
        <p:spPr>
          <a:xfrm>
            <a:off x="7337520" y="6858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432240" y="2982960"/>
            <a:ext cx="1871640" cy="1727280"/>
            <a:chOff x="3432240" y="2982960"/>
            <a:chExt cx="1871640" cy="1727280"/>
          </a:xfrm>
        </p:grpSpPr>
        <p:sp>
          <p:nvSpPr>
            <p:cNvPr id="92" name="Line 2"/>
            <p:cNvSpPr/>
            <p:nvPr/>
          </p:nvSpPr>
          <p:spPr>
            <a:xfrm>
              <a:off x="3432240" y="2982960"/>
              <a:ext cx="1871640" cy="1727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432240" y="2982960"/>
              <a:ext cx="187164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28960" y="3414600"/>
            <a:ext cx="2663640" cy="576360"/>
            <a:chOff x="2928960" y="3414600"/>
            <a:chExt cx="2663640" cy="576360"/>
          </a:xfrm>
        </p:grpSpPr>
        <p:sp>
          <p:nvSpPr>
            <p:cNvPr id="95" name="Line 3"/>
            <p:cNvSpPr/>
            <p:nvPr/>
          </p:nvSpPr>
          <p:spPr>
            <a:xfrm>
              <a:off x="2928960" y="3414600"/>
              <a:ext cx="2663640" cy="576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2928960" y="3414600"/>
              <a:ext cx="2663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4"/>
          <p:cNvSpPr/>
          <p:nvPr/>
        </p:nvSpPr>
        <p:spPr>
          <a:xfrm>
            <a:off x="755640" y="5075280"/>
            <a:ext cx="73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有一个公共点的两条直线形成相交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610000" y="179532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相交线的定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034520" y="354960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042800" y="3333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rc 9"/>
          <p:cNvSpPr/>
          <p:nvPr/>
        </p:nvSpPr>
        <p:spPr>
          <a:xfrm rot="21299400">
            <a:off x="3876840" y="3333600"/>
            <a:ext cx="637920" cy="427320"/>
          </a:xfrm>
          <a:custGeom>
            <a:avLst/>
            <a:gdLst/>
            <a:ahLst/>
            <a:rect l="l" t="t" r="r" b="b"/>
            <a:pathLst>
              <a:path fill="none" w="25736" h="21600">
                <a:moveTo>
                  <a:pt x="-1" y="399"/>
                </a:moveTo>
                <a:cubicBezTo>
                  <a:pt x="1362" y="133"/>
                  <a:pt x="2747" y="-1"/>
                  <a:pt x="4136" y="0"/>
                </a:cubicBezTo>
                <a:cubicBezTo>
                  <a:pt x="16065" y="0"/>
                  <a:pt x="25736" y="9670"/>
                  <a:pt x="25736" y="21600"/>
                </a:cubicBezTo>
              </a:path>
              <a:path stroke="0" w="25736" h="21600">
                <a:moveTo>
                  <a:pt x="-1" y="399"/>
                </a:moveTo>
                <a:cubicBezTo>
                  <a:pt x="1362" y="133"/>
                  <a:pt x="2747" y="-1"/>
                  <a:pt x="4136" y="0"/>
                </a:cubicBezTo>
                <a:cubicBezTo>
                  <a:pt x="16065" y="0"/>
                  <a:pt x="25736" y="9670"/>
                  <a:pt x="25736" y="21600"/>
                </a:cubicBezTo>
                <a:lnTo>
                  <a:pt x="4136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10"/>
          <p:cNvSpPr/>
          <p:nvPr/>
        </p:nvSpPr>
        <p:spPr>
          <a:xfrm rot="10498800">
            <a:off x="3787200" y="3607920"/>
            <a:ext cx="634680" cy="360360"/>
          </a:xfrm>
          <a:custGeom>
            <a:avLst/>
            <a:gdLst/>
            <a:ahLst/>
            <a:rect l="l" t="t" r="r" b="b"/>
            <a:pathLst>
              <a:path fill="none" w="31781" h="21600">
                <a:moveTo>
                  <a:pt x="-1" y="2549"/>
                </a:moveTo>
                <a:cubicBezTo>
                  <a:pt x="3132" y="875"/>
                  <a:pt x="6629" y="-1"/>
                  <a:pt x="10181" y="0"/>
                </a:cubicBezTo>
                <a:cubicBezTo>
                  <a:pt x="22110" y="0"/>
                  <a:pt x="31781" y="9670"/>
                  <a:pt x="31781" y="21600"/>
                </a:cubicBezTo>
              </a:path>
              <a:path stroke="0" w="31781" h="21600">
                <a:moveTo>
                  <a:pt x="-1" y="2549"/>
                </a:moveTo>
                <a:cubicBezTo>
                  <a:pt x="3132" y="875"/>
                  <a:pt x="6629" y="-1"/>
                  <a:pt x="10181" y="0"/>
                </a:cubicBezTo>
                <a:cubicBezTo>
                  <a:pt x="22110" y="0"/>
                  <a:pt x="31781" y="9670"/>
                  <a:pt x="31781" y="21600"/>
                </a:cubicBezTo>
                <a:lnTo>
                  <a:pt x="10181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11"/>
          <p:cNvSpPr/>
          <p:nvPr/>
        </p:nvSpPr>
        <p:spPr>
          <a:xfrm rot="5081400">
            <a:off x="4479480" y="3809880"/>
            <a:ext cx="216000" cy="1429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12"/>
          <p:cNvSpPr/>
          <p:nvPr/>
        </p:nvSpPr>
        <p:spPr>
          <a:xfrm rot="15881400">
            <a:off x="3655800" y="3376440"/>
            <a:ext cx="216000" cy="1458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862080" y="39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384720" y="3040200"/>
            <a:ext cx="409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83000" y="3052800"/>
            <a:ext cx="4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657680" y="3774960"/>
            <a:ext cx="4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3147840" y="733320"/>
            <a:ext cx="3838680" cy="782640"/>
            <a:chOff x="3147840" y="733320"/>
            <a:chExt cx="3838680" cy="782640"/>
          </a:xfrm>
        </p:grpSpPr>
        <p:pic>
          <p:nvPicPr>
            <p:cNvPr id="110" name="Picture 18" descr="666"/>
            <p:cNvPicPr/>
            <p:nvPr/>
          </p:nvPicPr>
          <p:blipFill>
            <a:blip r:embed="rId1"/>
            <a:stretch/>
          </p:blipFill>
          <p:spPr>
            <a:xfrm>
              <a:off x="5986440" y="7333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AutoShape 19"/>
            <p:cNvSpPr/>
            <p:nvPr/>
          </p:nvSpPr>
          <p:spPr>
            <a:xfrm>
              <a:off x="3147840" y="84636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0"/>
          <p:cNvSpPr/>
          <p:nvPr/>
        </p:nvSpPr>
        <p:spPr>
          <a:xfrm>
            <a:off x="6156360" y="2849400"/>
            <a:ext cx="2181240" cy="561600"/>
          </a:xfrm>
          <a:prstGeom prst="wedgeRoundRectCallout">
            <a:avLst>
              <a:gd name="adj1" fmla="val -77356"/>
              <a:gd name="adj2" fmla="val 125268"/>
              <a:gd name="adj3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beac7">
                  <a:alpha val="43137"/>
                </a:srgbClr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二线四角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1389240" y="884160"/>
            <a:ext cx="74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例：如图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已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D=4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399960" y="2681280"/>
            <a:ext cx="6334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因为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E⊥A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所以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E=90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垂线的定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    又因为∠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C=∠BOD=45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对顶角的性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所以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E= ∠ AOC+ ∠ A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 45 °+90 °=135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4"/>
          <p:cNvGrpSpPr/>
          <p:nvPr/>
        </p:nvGrpSpPr>
        <p:grpSpPr>
          <a:xfrm>
            <a:off x="6173640" y="1889280"/>
            <a:ext cx="2849400" cy="2740320"/>
            <a:chOff x="6173640" y="1889280"/>
            <a:chExt cx="2849400" cy="2740320"/>
          </a:xfrm>
        </p:grpSpPr>
        <p:grpSp>
          <p:nvGrpSpPr>
            <p:cNvPr id="836" name="Group 5"/>
            <p:cNvGrpSpPr/>
            <p:nvPr/>
          </p:nvGrpSpPr>
          <p:grpSpPr>
            <a:xfrm>
              <a:off x="6173640" y="1889280"/>
              <a:ext cx="2849400" cy="2740320"/>
              <a:chOff x="6173640" y="1889280"/>
              <a:chExt cx="2849400" cy="2740320"/>
            </a:xfrm>
          </p:grpSpPr>
          <p:sp>
            <p:nvSpPr>
              <p:cNvPr id="837" name="Text Box 6"/>
              <p:cNvSpPr/>
              <p:nvPr/>
            </p:nvSpPr>
            <p:spPr>
              <a:xfrm>
                <a:off x="6173640" y="2918880"/>
                <a:ext cx="29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8" name="Group 7"/>
              <p:cNvGrpSpPr/>
              <p:nvPr/>
            </p:nvGrpSpPr>
            <p:grpSpPr>
              <a:xfrm>
                <a:off x="6289560" y="1889280"/>
                <a:ext cx="2733480" cy="2740320"/>
                <a:chOff x="6289560" y="1889280"/>
                <a:chExt cx="2733480" cy="2740320"/>
              </a:xfrm>
            </p:grpSpPr>
            <p:sp>
              <p:nvSpPr>
                <p:cNvPr id="839" name="Text Box 8"/>
                <p:cNvSpPr/>
                <p:nvPr/>
              </p:nvSpPr>
              <p:spPr>
                <a:xfrm>
                  <a:off x="7506000" y="3252960"/>
                  <a:ext cx="36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0" name=""/>
                <p:cNvGrpSpPr/>
                <p:nvPr/>
              </p:nvGrpSpPr>
              <p:grpSpPr>
                <a:xfrm>
                  <a:off x="6289560" y="3277080"/>
                  <a:ext cx="2733480" cy="360"/>
                  <a:chOff x="6289560" y="3277080"/>
                  <a:chExt cx="2733480" cy="360"/>
                </a:xfrm>
              </p:grpSpPr>
              <p:sp>
                <p:nvSpPr>
                  <p:cNvPr id="841" name="Line 9"/>
                  <p:cNvSpPr/>
                  <p:nvPr/>
                </p:nvSpPr>
                <p:spPr>
                  <a:xfrm>
                    <a:off x="6289560" y="3277080"/>
                    <a:ext cx="273348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 txBox="1"/>
                  <p:nvPr/>
                </p:nvSpPr>
                <p:spPr>
                  <a:xfrm>
                    <a:off x="6289560" y="3277080"/>
                    <a:ext cx="2733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6463800" y="2251080"/>
                  <a:ext cx="2326320" cy="1990800"/>
                  <a:chOff x="6463800" y="2251080"/>
                  <a:chExt cx="2326320" cy="1990800"/>
                </a:xfrm>
              </p:grpSpPr>
              <p:sp>
                <p:nvSpPr>
                  <p:cNvPr id="844" name="Line 10"/>
                  <p:cNvSpPr/>
                  <p:nvPr/>
                </p:nvSpPr>
                <p:spPr>
                  <a:xfrm flipV="1">
                    <a:off x="6463800" y="2251080"/>
                    <a:ext cx="2326320" cy="19908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 txBox="1"/>
                  <p:nvPr/>
                </p:nvSpPr>
                <p:spPr>
                  <a:xfrm rot="10800000">
                    <a:off x="6463800" y="2251080"/>
                    <a:ext cx="2326320" cy="19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7568640" y="2009880"/>
                  <a:ext cx="360" cy="1266840"/>
                  <a:chOff x="7568640" y="2009880"/>
                  <a:chExt cx="360" cy="1266840"/>
                </a:xfrm>
              </p:grpSpPr>
              <p:sp>
                <p:nvSpPr>
                  <p:cNvPr id="847" name="Line 11"/>
                  <p:cNvSpPr/>
                  <p:nvPr/>
                </p:nvSpPr>
                <p:spPr>
                  <a:xfrm>
                    <a:off x="7568640" y="2009880"/>
                    <a:ext cx="0" cy="1266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 txBox="1"/>
                  <p:nvPr/>
                </p:nvSpPr>
                <p:spPr>
                  <a:xfrm>
                    <a:off x="7568640" y="2009880"/>
                    <a:ext cx="360" cy="12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9" name="Text Box 12"/>
                <p:cNvSpPr/>
                <p:nvPr/>
              </p:nvSpPr>
              <p:spPr>
                <a:xfrm>
                  <a:off x="8732160" y="2948400"/>
                  <a:ext cx="2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Text Box 13"/>
                <p:cNvSpPr/>
                <p:nvPr/>
              </p:nvSpPr>
              <p:spPr>
                <a:xfrm>
                  <a:off x="6347520" y="4169880"/>
                  <a:ext cx="295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Text Box 14"/>
                <p:cNvSpPr/>
                <p:nvPr/>
              </p:nvSpPr>
              <p:spPr>
                <a:xfrm>
                  <a:off x="8613360" y="1917360"/>
                  <a:ext cx="35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Text Box 15"/>
                <p:cNvSpPr/>
                <p:nvPr/>
              </p:nvSpPr>
              <p:spPr>
                <a:xfrm>
                  <a:off x="7568640" y="1889280"/>
                  <a:ext cx="348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3" name="Text Box 16"/>
            <p:cNvSpPr/>
            <p:nvPr/>
          </p:nvSpPr>
          <p:spPr>
            <a:xfrm rot="16200000">
              <a:off x="7180560" y="2894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量角器"/>
          <p:cNvPicPr/>
          <p:nvPr/>
        </p:nvPicPr>
        <p:blipFill>
          <a:blip r:embed="rId1"/>
          <a:stretch/>
        </p:blipFill>
        <p:spPr>
          <a:xfrm>
            <a:off x="6016680" y="2852640"/>
            <a:ext cx="1809720" cy="31417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3" descr="60"/>
          <p:cNvPicPr/>
          <p:nvPr/>
        </p:nvPicPr>
        <p:blipFill>
          <a:blip r:embed="rId2"/>
          <a:stretch/>
        </p:blipFill>
        <p:spPr>
          <a:xfrm rot="14386200">
            <a:off x="1360440" y="2449440"/>
            <a:ext cx="25164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856" name=""/>
          <p:cNvGrpSpPr/>
          <p:nvPr/>
        </p:nvGrpSpPr>
        <p:grpSpPr>
          <a:xfrm>
            <a:off x="2259000" y="2019240"/>
            <a:ext cx="360" cy="3276720"/>
            <a:chOff x="2259000" y="2019240"/>
            <a:chExt cx="360" cy="3276720"/>
          </a:xfrm>
        </p:grpSpPr>
        <p:sp>
          <p:nvSpPr>
            <p:cNvPr id="857" name="Line 4"/>
            <p:cNvSpPr/>
            <p:nvPr/>
          </p:nvSpPr>
          <p:spPr>
            <a:xfrm>
              <a:off x="2259000" y="2019240"/>
              <a:ext cx="0" cy="327672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2259000" y="201924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744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用三角尺和量角器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垂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762120" y="4402080"/>
            <a:ext cx="2895480" cy="360"/>
            <a:chOff x="762120" y="4402080"/>
            <a:chExt cx="2895480" cy="360"/>
          </a:xfrm>
        </p:grpSpPr>
        <p:sp>
          <p:nvSpPr>
            <p:cNvPr id="861" name="Line 6"/>
            <p:cNvSpPr/>
            <p:nvPr/>
          </p:nvSpPr>
          <p:spPr>
            <a:xfrm>
              <a:off x="762120" y="44020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762120" y="44020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Oval 7"/>
          <p:cNvSpPr/>
          <p:nvPr/>
        </p:nvSpPr>
        <p:spPr>
          <a:xfrm>
            <a:off x="2209680" y="2801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284720" y="4419720"/>
            <a:ext cx="4478400" cy="360"/>
            <a:chOff x="4284720" y="4419720"/>
            <a:chExt cx="4478400" cy="360"/>
          </a:xfrm>
        </p:grpSpPr>
        <p:sp>
          <p:nvSpPr>
            <p:cNvPr id="865" name="Line 8"/>
            <p:cNvSpPr/>
            <p:nvPr/>
          </p:nvSpPr>
          <p:spPr>
            <a:xfrm>
              <a:off x="4284720" y="4419720"/>
              <a:ext cx="4478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4284720" y="4419720"/>
              <a:ext cx="447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Oval 9"/>
          <p:cNvSpPr/>
          <p:nvPr/>
        </p:nvSpPr>
        <p:spPr>
          <a:xfrm>
            <a:off x="6040440" y="51786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1752480" y="25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5583240" y="506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2"/>
          <p:cNvSpPr/>
          <p:nvPr/>
        </p:nvSpPr>
        <p:spPr>
          <a:xfrm>
            <a:off x="395280" y="4365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4110120" y="44910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084720" y="2492280"/>
            <a:ext cx="360" cy="4038840"/>
            <a:chOff x="6084720" y="2492280"/>
            <a:chExt cx="360" cy="4038840"/>
          </a:xfrm>
        </p:grpSpPr>
        <p:sp>
          <p:nvSpPr>
            <p:cNvPr id="873" name="Line 14"/>
            <p:cNvSpPr/>
            <p:nvPr/>
          </p:nvSpPr>
          <p:spPr>
            <a:xfrm>
              <a:off x="6084720" y="2492280"/>
              <a:ext cx="0" cy="403884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6084720" y="2492280"/>
              <a:ext cx="360" cy="403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Text Box 15"/>
          <p:cNvSpPr/>
          <p:nvPr/>
        </p:nvSpPr>
        <p:spPr>
          <a:xfrm>
            <a:off x="16765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5673600" y="3990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7"/>
          <p:cNvSpPr/>
          <p:nvPr/>
        </p:nvSpPr>
        <p:spPr>
          <a:xfrm>
            <a:off x="947880" y="5411880"/>
            <a:ext cx="2622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18"/>
          <p:cNvSpPr/>
          <p:nvPr/>
        </p:nvSpPr>
        <p:spPr>
          <a:xfrm>
            <a:off x="3924360" y="5853240"/>
            <a:ext cx="1981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9"/>
          <p:cNvSpPr/>
          <p:nvPr/>
        </p:nvSpPr>
        <p:spPr>
          <a:xfrm>
            <a:off x="4424760" y="2620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画一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20" descr="b_ED638BDFA71AF4BE996921E1CFA3F82A"/>
          <p:cNvPicPr/>
          <p:nvPr/>
        </p:nvPicPr>
        <p:blipFill>
          <a:blip r:embed="rId3"/>
          <a:stretch/>
        </p:blipFill>
        <p:spPr>
          <a:xfrm>
            <a:off x="6016680" y="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60"/>
          <p:cNvPicPr/>
          <p:nvPr/>
        </p:nvPicPr>
        <p:blipFill>
          <a:blip r:embed="rId1"/>
          <a:stretch/>
        </p:blipFill>
        <p:spPr>
          <a:xfrm rot="14386200">
            <a:off x="2603160" y="2880720"/>
            <a:ext cx="2516040" cy="261144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600" y="1076040"/>
            <a:ext cx="514656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直线上呢？请作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505320" y="1889280"/>
            <a:ext cx="360" cy="3276360"/>
            <a:chOff x="3505320" y="1889280"/>
            <a:chExt cx="360" cy="3276360"/>
          </a:xfrm>
        </p:grpSpPr>
        <p:sp>
          <p:nvSpPr>
            <p:cNvPr id="884" name="Line 4"/>
            <p:cNvSpPr/>
            <p:nvPr/>
          </p:nvSpPr>
          <p:spPr>
            <a:xfrm>
              <a:off x="3505320" y="1889280"/>
              <a:ext cx="0" cy="327636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3505320" y="1889280"/>
              <a:ext cx="360" cy="32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676520" y="4840200"/>
            <a:ext cx="5790960" cy="360"/>
            <a:chOff x="1676520" y="4840200"/>
            <a:chExt cx="5790960" cy="360"/>
          </a:xfrm>
        </p:grpSpPr>
        <p:sp>
          <p:nvSpPr>
            <p:cNvPr id="887" name="Line 5"/>
            <p:cNvSpPr/>
            <p:nvPr/>
          </p:nvSpPr>
          <p:spPr>
            <a:xfrm>
              <a:off x="1676520" y="4840200"/>
              <a:ext cx="5790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1676520" y="4840200"/>
              <a:ext cx="5790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Oval 6"/>
          <p:cNvSpPr/>
          <p:nvPr/>
        </p:nvSpPr>
        <p:spPr>
          <a:xfrm>
            <a:off x="3462480" y="48117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1143000" y="46562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8"/>
          <p:cNvSpPr/>
          <p:nvPr/>
        </p:nvSpPr>
        <p:spPr>
          <a:xfrm>
            <a:off x="7467480" y="4811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9"/>
          <p:cNvSpPr/>
          <p:nvPr/>
        </p:nvSpPr>
        <p:spPr>
          <a:xfrm>
            <a:off x="2666880" y="4383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28954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2556000" y="5445000"/>
            <a:ext cx="1981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60"/>
          <p:cNvPicPr/>
          <p:nvPr/>
        </p:nvPicPr>
        <p:blipFill>
          <a:blip r:embed="rId1"/>
          <a:stretch/>
        </p:blipFill>
        <p:spPr>
          <a:xfrm rot="14386200">
            <a:off x="2484360" y="3870360"/>
            <a:ext cx="25164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896" name=""/>
          <p:cNvGrpSpPr/>
          <p:nvPr/>
        </p:nvGrpSpPr>
        <p:grpSpPr>
          <a:xfrm>
            <a:off x="3390840" y="4324320"/>
            <a:ext cx="360" cy="1905120"/>
            <a:chOff x="3390840" y="4324320"/>
            <a:chExt cx="360" cy="1905120"/>
          </a:xfrm>
        </p:grpSpPr>
        <p:sp>
          <p:nvSpPr>
            <p:cNvPr id="897" name="Line 3"/>
            <p:cNvSpPr/>
            <p:nvPr/>
          </p:nvSpPr>
          <p:spPr>
            <a:xfrm>
              <a:off x="3390840" y="432432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3390840" y="432432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Text Box 4"/>
          <p:cNvSpPr/>
          <p:nvPr/>
        </p:nvSpPr>
        <p:spPr>
          <a:xfrm>
            <a:off x="1547640" y="6206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垂线的的画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990720" y="33526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530280" y="1650960"/>
            <a:ext cx="785160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落：把三角尺的一条直角边落在已知直线上；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．二过：让三角尺的另一条直角边经过已知的点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三画：沿着直角边经过已知点画直线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Group 7"/>
          <p:cNvGrpSpPr/>
          <p:nvPr/>
        </p:nvGrpSpPr>
        <p:grpSpPr>
          <a:xfrm>
            <a:off x="2133720" y="5794200"/>
            <a:ext cx="3504960" cy="614160"/>
            <a:chOff x="2133720" y="5794200"/>
            <a:chExt cx="3504960" cy="614160"/>
          </a:xfrm>
        </p:grpSpPr>
        <p:grpSp>
          <p:nvGrpSpPr>
            <p:cNvPr id="903" name="Group 8"/>
            <p:cNvGrpSpPr/>
            <p:nvPr/>
          </p:nvGrpSpPr>
          <p:grpSpPr>
            <a:xfrm>
              <a:off x="2418840" y="5794200"/>
              <a:ext cx="3097440" cy="92520"/>
              <a:chOff x="2418840" y="5794200"/>
              <a:chExt cx="3097440" cy="9252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2418840" y="5840640"/>
                <a:ext cx="3097440" cy="360"/>
                <a:chOff x="2418840" y="5840640"/>
                <a:chExt cx="3097440" cy="360"/>
              </a:xfrm>
            </p:grpSpPr>
            <p:sp>
              <p:nvSpPr>
                <p:cNvPr id="905" name="Line 9"/>
                <p:cNvSpPr/>
                <p:nvPr/>
              </p:nvSpPr>
              <p:spPr>
                <a:xfrm>
                  <a:off x="2418840" y="5840640"/>
                  <a:ext cx="309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 txBox="1"/>
                <p:nvPr/>
              </p:nvSpPr>
              <p:spPr>
                <a:xfrm>
                  <a:off x="2418840" y="5840640"/>
                  <a:ext cx="309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7" name="Oval 10"/>
              <p:cNvSpPr/>
              <p:nvPr/>
            </p:nvSpPr>
            <p:spPr>
              <a:xfrm>
                <a:off x="3355920" y="5794200"/>
                <a:ext cx="81360" cy="925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Text Box 11"/>
            <p:cNvSpPr/>
            <p:nvPr/>
          </p:nvSpPr>
          <p:spPr>
            <a:xfrm>
              <a:off x="2133720" y="5887800"/>
              <a:ext cx="40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12"/>
            <p:cNvSpPr/>
            <p:nvPr/>
          </p:nvSpPr>
          <p:spPr>
            <a:xfrm>
              <a:off x="5394240" y="5841360"/>
              <a:ext cx="2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Text Box 13"/>
          <p:cNvSpPr/>
          <p:nvPr/>
        </p:nvSpPr>
        <p:spPr>
          <a:xfrm>
            <a:off x="3071880" y="5369040"/>
            <a:ext cx="2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6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6340320" y="2438280"/>
            <a:ext cx="360" cy="3600720"/>
            <a:chOff x="6340320" y="2438280"/>
            <a:chExt cx="360" cy="3600720"/>
          </a:xfrm>
        </p:grpSpPr>
        <p:sp>
          <p:nvSpPr>
            <p:cNvPr id="912" name="Line 2"/>
            <p:cNvSpPr/>
            <p:nvPr/>
          </p:nvSpPr>
          <p:spPr>
            <a:xfrm>
              <a:off x="6340320" y="2438280"/>
              <a:ext cx="0" cy="360072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340320" y="2438280"/>
              <a:ext cx="360" cy="36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4" name="Picture 3" descr="60"/>
          <p:cNvPicPr/>
          <p:nvPr/>
        </p:nvPicPr>
        <p:blipFill>
          <a:blip r:embed="rId1"/>
          <a:stretch/>
        </p:blipFill>
        <p:spPr>
          <a:xfrm rot="14386200">
            <a:off x="1076040" y="2617200"/>
            <a:ext cx="2516040" cy="26110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60"/>
          <p:cNvPicPr/>
          <p:nvPr/>
        </p:nvPicPr>
        <p:blipFill>
          <a:blip r:embed="rId2"/>
          <a:stretch/>
        </p:blipFill>
        <p:spPr>
          <a:xfrm rot="14386200">
            <a:off x="5427360" y="2660040"/>
            <a:ext cx="2516040" cy="2611440"/>
          </a:xfrm>
          <a:prstGeom prst="rect">
            <a:avLst/>
          </a:prstGeom>
          <a:ln w="0">
            <a:noFill/>
          </a:ln>
        </p:spPr>
      </p:pic>
      <p:grpSp>
        <p:nvGrpSpPr>
          <p:cNvPr id="916" name=""/>
          <p:cNvGrpSpPr/>
          <p:nvPr/>
        </p:nvGrpSpPr>
        <p:grpSpPr>
          <a:xfrm>
            <a:off x="1979640" y="2133720"/>
            <a:ext cx="360" cy="3600360"/>
            <a:chOff x="1979640" y="2133720"/>
            <a:chExt cx="360" cy="3600360"/>
          </a:xfrm>
        </p:grpSpPr>
        <p:sp>
          <p:nvSpPr>
            <p:cNvPr id="917" name="Line 5"/>
            <p:cNvSpPr/>
            <p:nvPr/>
          </p:nvSpPr>
          <p:spPr>
            <a:xfrm>
              <a:off x="1979640" y="2133720"/>
              <a:ext cx="0" cy="360036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>
              <a:off x="1979640" y="2133720"/>
              <a:ext cx="36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1925640" y="4672080"/>
            <a:ext cx="360" cy="360"/>
            <a:chOff x="1925640" y="4672080"/>
            <a:chExt cx="360" cy="360"/>
          </a:xfrm>
        </p:grpSpPr>
        <p:sp>
          <p:nvSpPr>
            <p:cNvPr id="920" name="Line 6"/>
            <p:cNvSpPr/>
            <p:nvPr/>
          </p:nvSpPr>
          <p:spPr>
            <a:xfrm>
              <a:off x="1925640" y="4672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 rot="21448800">
              <a:off x="1925640" y="4671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7"/>
          <p:cNvGrpSpPr/>
          <p:nvPr/>
        </p:nvGrpSpPr>
        <p:grpSpPr>
          <a:xfrm>
            <a:off x="1692360" y="4437000"/>
            <a:ext cx="1947600" cy="144360"/>
            <a:chOff x="1692360" y="4437000"/>
            <a:chExt cx="1947600" cy="144360"/>
          </a:xfrm>
        </p:grpSpPr>
        <p:grpSp>
          <p:nvGrpSpPr>
            <p:cNvPr id="923" name=""/>
            <p:cNvGrpSpPr/>
            <p:nvPr/>
          </p:nvGrpSpPr>
          <p:grpSpPr>
            <a:xfrm>
              <a:off x="1692360" y="4581000"/>
              <a:ext cx="1947600" cy="360"/>
              <a:chOff x="1692360" y="4581000"/>
              <a:chExt cx="1947600" cy="360"/>
            </a:xfrm>
          </p:grpSpPr>
          <p:sp>
            <p:nvSpPr>
              <p:cNvPr id="924" name="Line 8"/>
              <p:cNvSpPr/>
              <p:nvPr/>
            </p:nvSpPr>
            <p:spPr>
              <a:xfrm>
                <a:off x="1692360" y="4581000"/>
                <a:ext cx="194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1692360" y="4581000"/>
                <a:ext cx="1947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1692360" y="4437000"/>
              <a:ext cx="360" cy="144000"/>
              <a:chOff x="1692360" y="4437000"/>
              <a:chExt cx="360" cy="144000"/>
            </a:xfrm>
          </p:grpSpPr>
          <p:sp>
            <p:nvSpPr>
              <p:cNvPr id="927" name="Line 9"/>
              <p:cNvSpPr/>
              <p:nvPr/>
            </p:nvSpPr>
            <p:spPr>
              <a:xfrm>
                <a:off x="1692360" y="4437000"/>
                <a:ext cx="0" cy="14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1692360" y="4437000"/>
                <a:ext cx="36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3627000" y="4437000"/>
              <a:ext cx="360" cy="144000"/>
              <a:chOff x="3627000" y="4437000"/>
              <a:chExt cx="360" cy="144000"/>
            </a:xfrm>
          </p:grpSpPr>
          <p:sp>
            <p:nvSpPr>
              <p:cNvPr id="930" name="Line 10"/>
              <p:cNvSpPr/>
              <p:nvPr/>
            </p:nvSpPr>
            <p:spPr>
              <a:xfrm>
                <a:off x="3627000" y="4437000"/>
                <a:ext cx="0" cy="14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3627000" y="4437000"/>
                <a:ext cx="36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2" name="Oval 11"/>
          <p:cNvSpPr/>
          <p:nvPr/>
        </p:nvSpPr>
        <p:spPr>
          <a:xfrm rot="21448800">
            <a:off x="1942920" y="2922120"/>
            <a:ext cx="71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2"/>
          <p:cNvSpPr/>
          <p:nvPr/>
        </p:nvSpPr>
        <p:spPr>
          <a:xfrm rot="21448800">
            <a:off x="1316160" y="2665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13"/>
          <p:cNvSpPr/>
          <p:nvPr/>
        </p:nvSpPr>
        <p:spPr>
          <a:xfrm>
            <a:off x="5661000" y="4581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737320" y="4624560"/>
            <a:ext cx="2514600" cy="360"/>
            <a:chOff x="5737320" y="4624560"/>
            <a:chExt cx="2514600" cy="360"/>
          </a:xfrm>
        </p:grpSpPr>
        <p:sp>
          <p:nvSpPr>
            <p:cNvPr id="936" name="Line 14"/>
            <p:cNvSpPr/>
            <p:nvPr/>
          </p:nvSpPr>
          <p:spPr>
            <a:xfrm>
              <a:off x="5737320" y="462456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5737320" y="46245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Text Box 15"/>
          <p:cNvSpPr/>
          <p:nvPr/>
        </p:nvSpPr>
        <p:spPr>
          <a:xfrm>
            <a:off x="5232240" y="46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6"/>
          <p:cNvSpPr/>
          <p:nvPr/>
        </p:nvSpPr>
        <p:spPr>
          <a:xfrm>
            <a:off x="8020080" y="4713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7"/>
          <p:cNvSpPr/>
          <p:nvPr/>
        </p:nvSpPr>
        <p:spPr>
          <a:xfrm>
            <a:off x="1332000" y="1413000"/>
            <a:ext cx="58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短线和线段的垂线应怎么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8"/>
          <p:cNvSpPr/>
          <p:nvPr/>
        </p:nvSpPr>
        <p:spPr>
          <a:xfrm>
            <a:off x="3465720" y="45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9"/>
          <p:cNvSpPr/>
          <p:nvPr/>
        </p:nvSpPr>
        <p:spPr>
          <a:xfrm>
            <a:off x="1334160" y="4540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20"/>
          <p:cNvSpPr/>
          <p:nvPr/>
        </p:nvSpPr>
        <p:spPr>
          <a:xfrm rot="21448800">
            <a:off x="6300360" y="2967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1"/>
          <p:cNvSpPr/>
          <p:nvPr/>
        </p:nvSpPr>
        <p:spPr>
          <a:xfrm rot="21448800">
            <a:off x="5767200" y="2635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2"/>
          <p:cNvSpPr/>
          <p:nvPr/>
        </p:nvSpPr>
        <p:spPr>
          <a:xfrm>
            <a:off x="6341400" y="4754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3"/>
          <p:cNvSpPr/>
          <p:nvPr/>
        </p:nvSpPr>
        <p:spPr>
          <a:xfrm>
            <a:off x="2015640" y="4597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24"/>
          <p:cNvGrpSpPr/>
          <p:nvPr/>
        </p:nvGrpSpPr>
        <p:grpSpPr>
          <a:xfrm>
            <a:off x="2719440" y="0"/>
            <a:ext cx="3519360" cy="1185840"/>
            <a:chOff x="2719440" y="0"/>
            <a:chExt cx="3519360" cy="1185840"/>
          </a:xfrm>
        </p:grpSpPr>
        <p:pic>
          <p:nvPicPr>
            <p:cNvPr id="948" name="Picture 25" descr="图片1，"/>
            <p:cNvPicPr/>
            <p:nvPr/>
          </p:nvPicPr>
          <p:blipFill>
            <a:blip r:embed="rId3"/>
            <a:stretch/>
          </p:blipFill>
          <p:spPr>
            <a:xfrm>
              <a:off x="5286240" y="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Cloud"/>
            <p:cNvSpPr/>
            <p:nvPr/>
          </p:nvSpPr>
          <p:spPr>
            <a:xfrm>
              <a:off x="2719440" y="0"/>
              <a:ext cx="2566800" cy="118584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WordArt 27"/>
            <p:cNvSpPr txBox="1"/>
            <p:nvPr/>
          </p:nvSpPr>
          <p:spPr>
            <a:xfrm>
              <a:off x="3240000" y="15228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3366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951" name="文本框 8200"/>
          <p:cNvSpPr/>
          <p:nvPr/>
        </p:nvSpPr>
        <p:spPr>
          <a:xfrm>
            <a:off x="1736640" y="1185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1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0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3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6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2"/>
          <p:cNvSpPr/>
          <p:nvPr/>
        </p:nvSpPr>
        <p:spPr>
          <a:xfrm>
            <a:off x="863640" y="90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以上的作图．请你思考：在同一平面内．过一点可以作几条直线与已知直线垂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252520" y="2600280"/>
            <a:ext cx="360" cy="3276720"/>
            <a:chOff x="2252520" y="2600280"/>
            <a:chExt cx="360" cy="3276720"/>
          </a:xfrm>
        </p:grpSpPr>
        <p:sp>
          <p:nvSpPr>
            <p:cNvPr id="954" name="Line 3"/>
            <p:cNvSpPr/>
            <p:nvPr/>
          </p:nvSpPr>
          <p:spPr>
            <a:xfrm>
              <a:off x="2252520" y="2600280"/>
              <a:ext cx="0" cy="327672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2252520" y="26002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62120" y="5427720"/>
            <a:ext cx="2895480" cy="360"/>
            <a:chOff x="762120" y="5427720"/>
            <a:chExt cx="2895480" cy="360"/>
          </a:xfrm>
        </p:grpSpPr>
        <p:sp>
          <p:nvSpPr>
            <p:cNvPr id="957" name="Line 4"/>
            <p:cNvSpPr/>
            <p:nvPr/>
          </p:nvSpPr>
          <p:spPr>
            <a:xfrm>
              <a:off x="762120" y="542772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762120" y="542772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Text Box 5"/>
          <p:cNvSpPr/>
          <p:nvPr/>
        </p:nvSpPr>
        <p:spPr>
          <a:xfrm>
            <a:off x="266760" y="5356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6"/>
          <p:cNvSpPr/>
          <p:nvPr/>
        </p:nvSpPr>
        <p:spPr>
          <a:xfrm>
            <a:off x="2209680" y="3827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1763640" y="3573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645160" y="2522520"/>
            <a:ext cx="360" cy="3276720"/>
            <a:chOff x="5645160" y="2522520"/>
            <a:chExt cx="360" cy="3276720"/>
          </a:xfrm>
        </p:grpSpPr>
        <p:sp>
          <p:nvSpPr>
            <p:cNvPr id="963" name="Line 8"/>
            <p:cNvSpPr/>
            <p:nvPr/>
          </p:nvSpPr>
          <p:spPr>
            <a:xfrm>
              <a:off x="5645160" y="2522520"/>
              <a:ext cx="0" cy="3276720"/>
            </a:xfrm>
            <a:prstGeom prst="line">
              <a:avLst/>
            </a:prstGeom>
            <a:ln w="38160">
              <a:solidFill>
                <a:srgbClr val="b72d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5645160" y="252252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716360" y="5443560"/>
            <a:ext cx="2951280" cy="360"/>
            <a:chOff x="4716360" y="5443560"/>
            <a:chExt cx="2951280" cy="360"/>
          </a:xfrm>
        </p:grpSpPr>
        <p:sp>
          <p:nvSpPr>
            <p:cNvPr id="966" name="Line 9"/>
            <p:cNvSpPr/>
            <p:nvPr/>
          </p:nvSpPr>
          <p:spPr>
            <a:xfrm>
              <a:off x="4716360" y="544356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716360" y="5443560"/>
              <a:ext cx="295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Oval 10"/>
          <p:cNvSpPr/>
          <p:nvPr/>
        </p:nvSpPr>
        <p:spPr>
          <a:xfrm>
            <a:off x="5595840" y="5413320"/>
            <a:ext cx="77760" cy="84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11"/>
          <p:cNvSpPr/>
          <p:nvPr/>
        </p:nvSpPr>
        <p:spPr>
          <a:xfrm>
            <a:off x="4170240" y="5157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2"/>
          <p:cNvSpPr/>
          <p:nvPr/>
        </p:nvSpPr>
        <p:spPr>
          <a:xfrm>
            <a:off x="7667640" y="515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5243400" y="497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1054080" y="2820960"/>
            <a:ext cx="68072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垂线的性质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同一平面内．过一点有且只有一条直线垂直于已知直线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3"/>
          <p:cNvGrpSpPr/>
          <p:nvPr/>
        </p:nvGrpSpPr>
        <p:grpSpPr>
          <a:xfrm>
            <a:off x="2720880" y="1111320"/>
            <a:ext cx="3838680" cy="782640"/>
            <a:chOff x="2720880" y="1111320"/>
            <a:chExt cx="3838680" cy="782640"/>
          </a:xfrm>
        </p:grpSpPr>
        <p:pic>
          <p:nvPicPr>
            <p:cNvPr id="974" name="Picture 4" descr="666"/>
            <p:cNvPicPr/>
            <p:nvPr/>
          </p:nvPicPr>
          <p:blipFill>
            <a:blip r:embed="rId1"/>
            <a:stretch/>
          </p:blipFill>
          <p:spPr>
            <a:xfrm>
              <a:off x="5559480" y="11113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AutoShape 5"/>
            <p:cNvSpPr/>
            <p:nvPr/>
          </p:nvSpPr>
          <p:spPr>
            <a:xfrm>
              <a:off x="2720880" y="122436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Picture 6" descr="81"/>
          <p:cNvPicPr/>
          <p:nvPr/>
        </p:nvPicPr>
        <p:blipFill>
          <a:blip r:embed="rId2"/>
          <a:stretch/>
        </p:blipFill>
        <p:spPr>
          <a:xfrm>
            <a:off x="838080" y="510228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2057400" y="5176800"/>
            <a:ext cx="5943600" cy="1800"/>
            <a:chOff x="2057400" y="5176800"/>
            <a:chExt cx="5943600" cy="1800"/>
          </a:xfrm>
        </p:grpSpPr>
        <p:sp>
          <p:nvSpPr>
            <p:cNvPr id="978" name="Line 2"/>
            <p:cNvSpPr/>
            <p:nvPr/>
          </p:nvSpPr>
          <p:spPr>
            <a:xfrm>
              <a:off x="2057400" y="5176800"/>
              <a:ext cx="5943600" cy="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2057400" y="5176800"/>
              <a:ext cx="5943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3124080" y="2733840"/>
            <a:ext cx="1843200" cy="2428560"/>
            <a:chOff x="3124080" y="2733840"/>
            <a:chExt cx="1843200" cy="2428560"/>
          </a:xfrm>
        </p:grpSpPr>
        <p:sp>
          <p:nvSpPr>
            <p:cNvPr id="981" name="Line 3"/>
            <p:cNvSpPr/>
            <p:nvPr/>
          </p:nvSpPr>
          <p:spPr>
            <a:xfrm flipH="1">
              <a:off x="3124080" y="2733840"/>
              <a:ext cx="1843200" cy="24285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3124080" y="2733840"/>
              <a:ext cx="1843200" cy="24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4084560" y="2733840"/>
            <a:ext cx="882720" cy="2442960"/>
            <a:chOff x="4084560" y="2733840"/>
            <a:chExt cx="882720" cy="2442960"/>
          </a:xfrm>
        </p:grpSpPr>
        <p:sp>
          <p:nvSpPr>
            <p:cNvPr id="984" name="Line 4"/>
            <p:cNvSpPr/>
            <p:nvPr/>
          </p:nvSpPr>
          <p:spPr>
            <a:xfrm flipH="1">
              <a:off x="4084560" y="2733840"/>
              <a:ext cx="882720" cy="2442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4084560" y="2733840"/>
              <a:ext cx="882720" cy="24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967280" y="2733840"/>
            <a:ext cx="1709640" cy="2444760"/>
            <a:chOff x="4967280" y="2733840"/>
            <a:chExt cx="1709640" cy="2444760"/>
          </a:xfrm>
        </p:grpSpPr>
        <p:sp>
          <p:nvSpPr>
            <p:cNvPr id="987" name="Line 5"/>
            <p:cNvSpPr/>
            <p:nvPr/>
          </p:nvSpPr>
          <p:spPr>
            <a:xfrm>
              <a:off x="4967280" y="2733840"/>
              <a:ext cx="1709640" cy="2444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4967280" y="2733840"/>
              <a:ext cx="1709640" cy="244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967280" y="2733840"/>
            <a:ext cx="976320" cy="2444760"/>
            <a:chOff x="4967280" y="2733840"/>
            <a:chExt cx="976320" cy="2444760"/>
          </a:xfrm>
        </p:grpSpPr>
        <p:sp>
          <p:nvSpPr>
            <p:cNvPr id="990" name="Line 6"/>
            <p:cNvSpPr/>
            <p:nvPr/>
          </p:nvSpPr>
          <p:spPr>
            <a:xfrm>
              <a:off x="4967280" y="2733840"/>
              <a:ext cx="976320" cy="2444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4967280" y="2733840"/>
              <a:ext cx="976320" cy="244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4967280" y="2781360"/>
            <a:ext cx="360" cy="2395440"/>
            <a:chOff x="4967280" y="2781360"/>
            <a:chExt cx="360" cy="2395440"/>
          </a:xfrm>
        </p:grpSpPr>
        <p:sp>
          <p:nvSpPr>
            <p:cNvPr id="993" name="Line 7"/>
            <p:cNvSpPr/>
            <p:nvPr/>
          </p:nvSpPr>
          <p:spPr>
            <a:xfrm>
              <a:off x="4967280" y="2781360"/>
              <a:ext cx="0" cy="2395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>
              <a:off x="4967280" y="2781360"/>
              <a:ext cx="360" cy="239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Text Box 8"/>
          <p:cNvSpPr/>
          <p:nvPr/>
        </p:nvSpPr>
        <p:spPr>
          <a:xfrm>
            <a:off x="4799160" y="2276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4816440" y="5129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0"/>
          <p:cNvSpPr/>
          <p:nvPr/>
        </p:nvSpPr>
        <p:spPr>
          <a:xfrm>
            <a:off x="3743280" y="5110200"/>
            <a:ext cx="9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782800" y="511020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2"/>
          <p:cNvSpPr/>
          <p:nvPr/>
        </p:nvSpPr>
        <p:spPr>
          <a:xfrm>
            <a:off x="5757840" y="5143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3"/>
          <p:cNvSpPr/>
          <p:nvPr/>
        </p:nvSpPr>
        <p:spPr>
          <a:xfrm>
            <a:off x="6486480" y="5176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Group 14"/>
          <p:cNvGrpSpPr/>
          <p:nvPr/>
        </p:nvGrpSpPr>
        <p:grpSpPr>
          <a:xfrm>
            <a:off x="4994280" y="4978080"/>
            <a:ext cx="185760" cy="183960"/>
            <a:chOff x="4994280" y="4978080"/>
            <a:chExt cx="185760" cy="183960"/>
          </a:xfrm>
        </p:grpSpPr>
        <p:grpSp>
          <p:nvGrpSpPr>
            <p:cNvPr id="1002" name=""/>
            <p:cNvGrpSpPr/>
            <p:nvPr/>
          </p:nvGrpSpPr>
          <p:grpSpPr>
            <a:xfrm>
              <a:off x="4994280" y="4978440"/>
              <a:ext cx="185760" cy="360"/>
              <a:chOff x="4994280" y="4978440"/>
              <a:chExt cx="185760" cy="360"/>
            </a:xfrm>
          </p:grpSpPr>
          <p:sp>
            <p:nvSpPr>
              <p:cNvPr id="1003" name="Line 15"/>
              <p:cNvSpPr/>
              <p:nvPr/>
            </p:nvSpPr>
            <p:spPr>
              <a:xfrm>
                <a:off x="4994280" y="4978440"/>
                <a:ext cx="18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4994280" y="4978440"/>
                <a:ext cx="18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179680" y="4978080"/>
              <a:ext cx="360" cy="183960"/>
              <a:chOff x="5179680" y="4978080"/>
              <a:chExt cx="360" cy="183960"/>
            </a:xfrm>
          </p:grpSpPr>
          <p:sp>
            <p:nvSpPr>
              <p:cNvPr id="1006" name="Line 16"/>
              <p:cNvSpPr/>
              <p:nvPr/>
            </p:nvSpPr>
            <p:spPr>
              <a:xfrm flipV="1">
                <a:off x="5180040" y="4978080"/>
                <a:ext cx="0" cy="1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 rot="10800000">
                <a:off x="5179680" y="497808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2350800" y="2752560"/>
            <a:ext cx="2616480" cy="2426040"/>
            <a:chOff x="2350800" y="2752560"/>
            <a:chExt cx="2616480" cy="2426040"/>
          </a:xfrm>
        </p:grpSpPr>
        <p:sp>
          <p:nvSpPr>
            <p:cNvPr id="1009" name="Line 17"/>
            <p:cNvSpPr/>
            <p:nvPr/>
          </p:nvSpPr>
          <p:spPr>
            <a:xfrm flipH="1">
              <a:off x="2350800" y="2752560"/>
              <a:ext cx="2616120" cy="24260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 txBox="1"/>
            <p:nvPr/>
          </p:nvSpPr>
          <p:spPr>
            <a:xfrm>
              <a:off x="2351160" y="2752560"/>
              <a:ext cx="2616120" cy="242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Text Box 18"/>
          <p:cNvSpPr/>
          <p:nvPr/>
        </p:nvSpPr>
        <p:spPr>
          <a:xfrm>
            <a:off x="2194200" y="523224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967280" y="2733840"/>
            <a:ext cx="2492280" cy="2428560"/>
            <a:chOff x="4967280" y="2733840"/>
            <a:chExt cx="2492280" cy="2428560"/>
          </a:xfrm>
        </p:grpSpPr>
        <p:sp>
          <p:nvSpPr>
            <p:cNvPr id="1013" name="Line 19"/>
            <p:cNvSpPr/>
            <p:nvPr/>
          </p:nvSpPr>
          <p:spPr>
            <a:xfrm>
              <a:off x="4967280" y="2733840"/>
              <a:ext cx="2492280" cy="24285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 txBox="1"/>
            <p:nvPr/>
          </p:nvSpPr>
          <p:spPr>
            <a:xfrm>
              <a:off x="4967280" y="2733840"/>
              <a:ext cx="2492280" cy="24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Text Box 20"/>
          <p:cNvSpPr/>
          <p:nvPr/>
        </p:nvSpPr>
        <p:spPr>
          <a:xfrm>
            <a:off x="7312680" y="5160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1366920" y="50472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较过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的所有线段中，哪一条最短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8020440" y="485316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3"/>
          <p:cNvSpPr/>
          <p:nvPr/>
        </p:nvSpPr>
        <p:spPr>
          <a:xfrm>
            <a:off x="2379600" y="312840"/>
            <a:ext cx="5108760" cy="48657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533760" y="5899320"/>
            <a:ext cx="25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最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29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2"/>
          <p:cNvSpPr/>
          <p:nvPr/>
        </p:nvSpPr>
        <p:spPr>
          <a:xfrm>
            <a:off x="1044720" y="2629080"/>
            <a:ext cx="698472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垂线的性质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线外一点与直线上各点连结的所有线段中．垂线段最短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即：垂线段最短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3"/>
          <p:cNvGrpSpPr/>
          <p:nvPr/>
        </p:nvGrpSpPr>
        <p:grpSpPr>
          <a:xfrm>
            <a:off x="2930400" y="1266840"/>
            <a:ext cx="3838680" cy="782640"/>
            <a:chOff x="2930400" y="1266840"/>
            <a:chExt cx="3838680" cy="782640"/>
          </a:xfrm>
        </p:grpSpPr>
        <p:pic>
          <p:nvPicPr>
            <p:cNvPr id="1022" name="Picture 4" descr="666"/>
            <p:cNvPicPr/>
            <p:nvPr/>
          </p:nvPicPr>
          <p:blipFill>
            <a:blip r:embed="rId1"/>
            <a:stretch/>
          </p:blipFill>
          <p:spPr>
            <a:xfrm>
              <a:off x="5769000" y="126684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AutoShape 5"/>
            <p:cNvSpPr/>
            <p:nvPr/>
          </p:nvSpPr>
          <p:spPr>
            <a:xfrm>
              <a:off x="2930400" y="137988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4" name="Picture 6" descr="81"/>
          <p:cNvPicPr/>
          <p:nvPr/>
        </p:nvPicPr>
        <p:blipFill>
          <a:blip r:embed="rId2"/>
          <a:stretch/>
        </p:blipFill>
        <p:spPr>
          <a:xfrm>
            <a:off x="838080" y="5073480"/>
            <a:ext cx="6828120" cy="1416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2"/>
          <p:cNvSpPr/>
          <p:nvPr/>
        </p:nvSpPr>
        <p:spPr>
          <a:xfrm>
            <a:off x="1671480" y="1625760"/>
            <a:ext cx="52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点到直线的距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609480" y="2266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线外一点到已知直线的垂线段的长度就叫做点到直线的距离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"/>
          <p:cNvSpPr/>
          <p:nvPr/>
        </p:nvSpPr>
        <p:spPr>
          <a:xfrm>
            <a:off x="3614760" y="4138560"/>
            <a:ext cx="43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ef2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图中，线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长度，就是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直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长度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5"/>
          <p:cNvGrpSpPr/>
          <p:nvPr/>
        </p:nvGrpSpPr>
        <p:grpSpPr>
          <a:xfrm>
            <a:off x="1149120" y="3581280"/>
            <a:ext cx="2425680" cy="2837160"/>
            <a:chOff x="1149120" y="3581280"/>
            <a:chExt cx="2425680" cy="2837160"/>
          </a:xfrm>
        </p:grpSpPr>
        <p:grpSp>
          <p:nvGrpSpPr>
            <p:cNvPr id="1029" name=""/>
            <p:cNvGrpSpPr/>
            <p:nvPr/>
          </p:nvGrpSpPr>
          <p:grpSpPr>
            <a:xfrm>
              <a:off x="2103120" y="4081320"/>
              <a:ext cx="360" cy="1752840"/>
              <a:chOff x="2103120" y="4081320"/>
              <a:chExt cx="360" cy="1752840"/>
            </a:xfrm>
          </p:grpSpPr>
          <p:sp>
            <p:nvSpPr>
              <p:cNvPr id="1030" name="Line 6"/>
              <p:cNvSpPr/>
              <p:nvPr/>
            </p:nvSpPr>
            <p:spPr>
              <a:xfrm>
                <a:off x="2103480" y="4081320"/>
                <a:ext cx="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 rot="5400000">
                <a:off x="1226520" y="4957560"/>
                <a:ext cx="175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Oval 7"/>
            <p:cNvSpPr/>
            <p:nvPr/>
          </p:nvSpPr>
          <p:spPr>
            <a:xfrm rot="5400000">
              <a:off x="2064600" y="4062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149120" y="5815080"/>
              <a:ext cx="1904760" cy="360"/>
              <a:chOff x="1149120" y="5815080"/>
              <a:chExt cx="1904760" cy="360"/>
            </a:xfrm>
          </p:grpSpPr>
          <p:sp>
            <p:nvSpPr>
              <p:cNvPr id="1034" name="Line 8"/>
              <p:cNvSpPr/>
              <p:nvPr/>
            </p:nvSpPr>
            <p:spPr>
              <a:xfrm flipH="1">
                <a:off x="1149120" y="581508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 txBox="1"/>
              <p:nvPr/>
            </p:nvSpPr>
            <p:spPr>
              <a:xfrm rot="5400000">
                <a:off x="2101320" y="4862880"/>
                <a:ext cx="360" cy="19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Text Box 9"/>
            <p:cNvSpPr/>
            <p:nvPr/>
          </p:nvSpPr>
          <p:spPr>
            <a:xfrm>
              <a:off x="2012760" y="5307120"/>
              <a:ext cx="46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0"/>
            <p:cNvSpPr/>
            <p:nvPr/>
          </p:nvSpPr>
          <p:spPr>
            <a:xfrm>
              <a:off x="3055680" y="55278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1"/>
            <p:cNvSpPr/>
            <p:nvPr/>
          </p:nvSpPr>
          <p:spPr>
            <a:xfrm>
              <a:off x="1922040" y="3581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1815120" y="5837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Group 13"/>
          <p:cNvGrpSpPr/>
          <p:nvPr/>
        </p:nvGrpSpPr>
        <p:grpSpPr>
          <a:xfrm>
            <a:off x="2836800" y="527040"/>
            <a:ext cx="3838680" cy="782640"/>
            <a:chOff x="2836800" y="527040"/>
            <a:chExt cx="3838680" cy="782640"/>
          </a:xfrm>
        </p:grpSpPr>
        <p:pic>
          <p:nvPicPr>
            <p:cNvPr id="1041" name="Picture 14" descr="666"/>
            <p:cNvPicPr/>
            <p:nvPr/>
          </p:nvPicPr>
          <p:blipFill>
            <a:blip r:embed="rId1"/>
            <a:stretch/>
          </p:blipFill>
          <p:spPr>
            <a:xfrm>
              <a:off x="5675400" y="52704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AutoShape 15"/>
            <p:cNvSpPr/>
            <p:nvPr/>
          </p:nvSpPr>
          <p:spPr>
            <a:xfrm>
              <a:off x="2836800" y="64008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16000" y="122544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你画出任意两条相交直线，看看这四个角有什么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23960" y="5388120"/>
            <a:ext cx="75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相交直线形成的小于平角的角有几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16000" y="3139920"/>
            <a:ext cx="1800360" cy="1152720"/>
            <a:chOff x="1116000" y="3139920"/>
            <a:chExt cx="1800360" cy="1152720"/>
          </a:xfrm>
        </p:grpSpPr>
        <p:sp>
          <p:nvSpPr>
            <p:cNvPr id="116" name="Line 4"/>
            <p:cNvSpPr/>
            <p:nvPr/>
          </p:nvSpPr>
          <p:spPr>
            <a:xfrm>
              <a:off x="1116000" y="3139920"/>
              <a:ext cx="1800360" cy="1152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116000" y="3139920"/>
              <a:ext cx="18003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86920" y="2923920"/>
            <a:ext cx="1800720" cy="1584360"/>
            <a:chOff x="1186920" y="2923920"/>
            <a:chExt cx="1800720" cy="1584360"/>
          </a:xfrm>
        </p:grpSpPr>
        <p:sp>
          <p:nvSpPr>
            <p:cNvPr id="119" name="Line 5"/>
            <p:cNvSpPr/>
            <p:nvPr/>
          </p:nvSpPr>
          <p:spPr>
            <a:xfrm flipV="1">
              <a:off x="1187280" y="2923920"/>
              <a:ext cx="1800360" cy="1584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10800000">
              <a:off x="1186920" y="2923920"/>
              <a:ext cx="1800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06920" y="2924280"/>
            <a:ext cx="2160360" cy="1800000"/>
            <a:chOff x="3706920" y="2924280"/>
            <a:chExt cx="2160360" cy="1800000"/>
          </a:xfrm>
        </p:grpSpPr>
        <p:sp>
          <p:nvSpPr>
            <p:cNvPr id="122" name="Line 6"/>
            <p:cNvSpPr/>
            <p:nvPr/>
          </p:nvSpPr>
          <p:spPr>
            <a:xfrm>
              <a:off x="3706920" y="2924280"/>
              <a:ext cx="2160360" cy="180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706920" y="2924280"/>
              <a:ext cx="2160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45080" y="2708280"/>
            <a:ext cx="142920" cy="2016000"/>
            <a:chOff x="4645080" y="2708280"/>
            <a:chExt cx="142920" cy="2016000"/>
          </a:xfrm>
        </p:grpSpPr>
        <p:sp>
          <p:nvSpPr>
            <p:cNvPr id="125" name="Line 7"/>
            <p:cNvSpPr/>
            <p:nvPr/>
          </p:nvSpPr>
          <p:spPr>
            <a:xfrm>
              <a:off x="4645080" y="2708280"/>
              <a:ext cx="142920" cy="2016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645080" y="2708280"/>
              <a:ext cx="14292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61080" y="2492280"/>
            <a:ext cx="1224000" cy="1728720"/>
            <a:chOff x="6661080" y="2492280"/>
            <a:chExt cx="1224000" cy="1728720"/>
          </a:xfrm>
        </p:grpSpPr>
        <p:sp>
          <p:nvSpPr>
            <p:cNvPr id="128" name="Line 8"/>
            <p:cNvSpPr/>
            <p:nvPr/>
          </p:nvSpPr>
          <p:spPr>
            <a:xfrm flipH="1">
              <a:off x="6661080" y="2492280"/>
              <a:ext cx="1224000" cy="1728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6661080" y="2492280"/>
              <a:ext cx="122400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372360" y="2563920"/>
            <a:ext cx="1873080" cy="1296720"/>
            <a:chOff x="6372360" y="2563920"/>
            <a:chExt cx="1873080" cy="1296720"/>
          </a:xfrm>
        </p:grpSpPr>
        <p:sp>
          <p:nvSpPr>
            <p:cNvPr id="131" name="Line 9"/>
            <p:cNvSpPr/>
            <p:nvPr/>
          </p:nvSpPr>
          <p:spPr>
            <a:xfrm>
              <a:off x="6372360" y="2563920"/>
              <a:ext cx="1873080" cy="129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372360" y="2563920"/>
              <a:ext cx="1873080" cy="12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Picture 10" descr="探究"/>
          <p:cNvPicPr/>
          <p:nvPr/>
        </p:nvPicPr>
        <p:blipFill>
          <a:blip r:embed="rId1"/>
          <a:stretch/>
        </p:blipFill>
        <p:spPr>
          <a:xfrm>
            <a:off x="1417680" y="44280"/>
            <a:ext cx="176688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gif018"/>
          <p:cNvPicPr/>
          <p:nvPr/>
        </p:nvPicPr>
        <p:blipFill>
          <a:blip r:embed="rId2"/>
          <a:stretch/>
        </p:blipFill>
        <p:spPr>
          <a:xfrm>
            <a:off x="3564000" y="541440"/>
            <a:ext cx="1081080" cy="390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2"/>
          <p:cNvSpPr/>
          <p:nvPr/>
        </p:nvSpPr>
        <p:spPr>
          <a:xfrm>
            <a:off x="1146240" y="555480"/>
            <a:ext cx="72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体育课上，老师是怎样测量同学们的跳远成绩的？你能尝试说明其中的理由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2319480" y="1797120"/>
            <a:ext cx="4176720" cy="248904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4"/>
          <p:cNvSpPr/>
          <p:nvPr/>
        </p:nvSpPr>
        <p:spPr>
          <a:xfrm>
            <a:off x="468360" y="4510080"/>
            <a:ext cx="787860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将尺子拉直与踏板边所在直线垂直，取最近的脚印后跟与踏板边沿之间的距离就是跳远成绩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理由是：直线外一点与直线上各点连结的所有线段中，垂线段最短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2719440" y="3052800"/>
            <a:ext cx="2016000" cy="360"/>
            <a:chOff x="2719440" y="3052800"/>
            <a:chExt cx="2016000" cy="360"/>
          </a:xfrm>
        </p:grpSpPr>
        <p:sp>
          <p:nvSpPr>
            <p:cNvPr id="1047" name="Line 5"/>
            <p:cNvSpPr/>
            <p:nvPr/>
          </p:nvSpPr>
          <p:spPr>
            <a:xfrm flipH="1">
              <a:off x="2719440" y="3052800"/>
              <a:ext cx="201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2719440" y="305280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Text Box 6"/>
          <p:cNvSpPr/>
          <p:nvPr/>
        </p:nvSpPr>
        <p:spPr>
          <a:xfrm>
            <a:off x="2687760" y="2930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595440" y="149292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所示．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走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有多条道路，一般地，人们会走中间的直路，而不会走其它的曲折的路，这是为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Picture 3" descr="image025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616040" y="2316240"/>
            <a:ext cx="5640480" cy="2994120"/>
          </a:xfrm>
          <a:prstGeom prst="rect">
            <a:avLst/>
          </a:prstGeom>
          <a:ln w="0">
            <a:noFill/>
          </a:ln>
        </p:spPr>
      </p:pic>
      <p:sp>
        <p:nvSpPr>
          <p:cNvPr id="1052" name="Rectangle 4"/>
          <p:cNvSpPr/>
          <p:nvPr/>
        </p:nvSpPr>
        <p:spPr>
          <a:xfrm>
            <a:off x="3339720" y="5748480"/>
            <a:ext cx="1460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段最短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4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1827360" y="739800"/>
            <a:ext cx="5502240" cy="342576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3"/>
          <p:cNvSpPr/>
          <p:nvPr/>
        </p:nvSpPr>
        <p:spPr>
          <a:xfrm>
            <a:off x="868320" y="4452840"/>
            <a:ext cx="77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，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从图中找出与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的线段，并指出三角形的三条边中，哪条边最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2"/>
          <p:cNvSpPr/>
          <p:nvPr/>
        </p:nvSpPr>
        <p:spPr>
          <a:xfrm>
            <a:off x="1008000" y="898560"/>
            <a:ext cx="75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=5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"/>
          <p:cNvSpPr/>
          <p:nvPr/>
        </p:nvSpPr>
        <p:spPr>
          <a:xfrm>
            <a:off x="374760" y="2882880"/>
            <a:ext cx="7005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OB=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直的定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D= ∠1=5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对顶角相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OD= ∠ EOB+ ∠ B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9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5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4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Group 4"/>
          <p:cNvGrpSpPr/>
          <p:nvPr/>
        </p:nvGrpSpPr>
        <p:grpSpPr>
          <a:xfrm>
            <a:off x="5847480" y="1812960"/>
            <a:ext cx="2864160" cy="2755800"/>
            <a:chOff x="5847480" y="1812960"/>
            <a:chExt cx="2864160" cy="2755800"/>
          </a:xfrm>
        </p:grpSpPr>
        <p:sp>
          <p:nvSpPr>
            <p:cNvPr id="1058" name="Rectangle 5"/>
            <p:cNvSpPr/>
            <p:nvPr/>
          </p:nvSpPr>
          <p:spPr>
            <a:xfrm>
              <a:off x="7226280" y="3079800"/>
              <a:ext cx="14400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5987880" y="3230640"/>
              <a:ext cx="2592000" cy="360"/>
              <a:chOff x="5987880" y="3230640"/>
              <a:chExt cx="2592000" cy="360"/>
            </a:xfrm>
          </p:grpSpPr>
          <p:sp>
            <p:nvSpPr>
              <p:cNvPr id="1060" name="Line 6"/>
              <p:cNvSpPr/>
              <p:nvPr/>
            </p:nvSpPr>
            <p:spPr>
              <a:xfrm>
                <a:off x="5987880" y="3230640"/>
                <a:ext cx="259200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 txBox="1"/>
              <p:nvPr/>
            </p:nvSpPr>
            <p:spPr>
              <a:xfrm>
                <a:off x="5987880" y="3230640"/>
                <a:ext cx="25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7213320" y="2006640"/>
              <a:ext cx="360" cy="1224000"/>
              <a:chOff x="7213320" y="2006640"/>
              <a:chExt cx="360" cy="1224000"/>
            </a:xfrm>
          </p:grpSpPr>
          <p:sp>
            <p:nvSpPr>
              <p:cNvPr id="1063" name="Line 7"/>
              <p:cNvSpPr/>
              <p:nvPr/>
            </p:nvSpPr>
            <p:spPr>
              <a:xfrm flipV="1">
                <a:off x="7213680" y="2006640"/>
                <a:ext cx="0" cy="1224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 rot="10800000">
                <a:off x="7213320" y="2006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6708600" y="2077920"/>
              <a:ext cx="1007640" cy="2305080"/>
              <a:chOff x="6708600" y="2077920"/>
              <a:chExt cx="1007640" cy="2305080"/>
            </a:xfrm>
          </p:grpSpPr>
          <p:sp>
            <p:nvSpPr>
              <p:cNvPr id="1066" name="Line 8"/>
              <p:cNvSpPr/>
              <p:nvPr/>
            </p:nvSpPr>
            <p:spPr>
              <a:xfrm>
                <a:off x="6708600" y="2077920"/>
                <a:ext cx="1007640" cy="230508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6708600" y="2077920"/>
                <a:ext cx="1007640" cy="230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Text Box 9"/>
            <p:cNvSpPr/>
            <p:nvPr/>
          </p:nvSpPr>
          <p:spPr>
            <a:xfrm>
              <a:off x="5847480" y="318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10"/>
            <p:cNvSpPr/>
            <p:nvPr/>
          </p:nvSpPr>
          <p:spPr>
            <a:xfrm>
              <a:off x="6363000" y="184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Text Box 11"/>
            <p:cNvSpPr/>
            <p:nvPr/>
          </p:nvSpPr>
          <p:spPr>
            <a:xfrm>
              <a:off x="7215120" y="1812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12"/>
            <p:cNvSpPr/>
            <p:nvPr/>
          </p:nvSpPr>
          <p:spPr>
            <a:xfrm>
              <a:off x="8294760" y="317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13"/>
            <p:cNvSpPr/>
            <p:nvPr/>
          </p:nvSpPr>
          <p:spPr>
            <a:xfrm>
              <a:off x="7287120" y="4048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14"/>
            <p:cNvSpPr/>
            <p:nvPr/>
          </p:nvSpPr>
          <p:spPr>
            <a:xfrm>
              <a:off x="6926400" y="31654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15"/>
            <p:cNvSpPr/>
            <p:nvPr/>
          </p:nvSpPr>
          <p:spPr>
            <a:xfrm>
              <a:off x="6638400" y="274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Arc 16"/>
            <p:cNvSpPr/>
            <p:nvPr/>
          </p:nvSpPr>
          <p:spPr>
            <a:xfrm flipH="1">
              <a:off x="6928560" y="2901960"/>
              <a:ext cx="439560" cy="768240"/>
            </a:xfrm>
            <a:custGeom>
              <a:avLst/>
              <a:gdLst/>
              <a:ahLst/>
              <a:rect l="l" t="t" r="r" b="b"/>
              <a:pathLst>
                <a:path fill="none" w="19417" h="16634">
                  <a:moveTo>
                    <a:pt x="13779" y="0"/>
                  </a:moveTo>
                  <a:cubicBezTo>
                    <a:pt x="16148" y="1962"/>
                    <a:pt x="18070" y="4407"/>
                    <a:pt x="19417" y="7171"/>
                  </a:cubicBezTo>
                </a:path>
                <a:path stroke="0" w="19417" h="16634">
                  <a:moveTo>
                    <a:pt x="13779" y="0"/>
                  </a:moveTo>
                  <a:cubicBezTo>
                    <a:pt x="16148" y="1962"/>
                    <a:pt x="18070" y="4407"/>
                    <a:pt x="19417" y="7171"/>
                  </a:cubicBezTo>
                  <a:lnTo>
                    <a:pt x="0" y="1663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6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1123920" y="260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直线相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3099960" y="1924200"/>
            <a:ext cx="60732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斜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4"/>
          <p:cNvSpPr/>
          <p:nvPr/>
        </p:nvSpPr>
        <p:spPr>
          <a:xfrm>
            <a:off x="2736720" y="2246400"/>
            <a:ext cx="247680" cy="17143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4295160" y="2160720"/>
            <a:ext cx="60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6"/>
          <p:cNvSpPr/>
          <p:nvPr/>
        </p:nvSpPr>
        <p:spPr>
          <a:xfrm>
            <a:off x="3767040" y="2600280"/>
            <a:ext cx="412920" cy="2517840"/>
          </a:xfrm>
          <a:custGeom>
            <a:avLst/>
            <a:gdLst>
              <a:gd name="textAreaLeft" fmla="*/ 263880 w 412920"/>
              <a:gd name="textAreaRight" fmla="*/ 413280 w 412920"/>
              <a:gd name="textAreaTop" fmla="*/ 65520 h 2517840"/>
              <a:gd name="textAreaBottom" fmla="*/ 2452320 h 25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5081760" y="2824200"/>
            <a:ext cx="35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一点有且只有一条直线与已知直线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垂线段最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8"/>
          <p:cNvSpPr/>
          <p:nvPr/>
        </p:nvSpPr>
        <p:spPr>
          <a:xfrm>
            <a:off x="4906800" y="3119400"/>
            <a:ext cx="231840" cy="1238400"/>
          </a:xfrm>
          <a:custGeom>
            <a:avLst/>
            <a:gdLst>
              <a:gd name="textAreaLeft" fmla="*/ 148320 w 231840"/>
              <a:gd name="textAreaRight" fmla="*/ 232200 w 231840"/>
              <a:gd name="textAreaTop" fmla="*/ 32040 h 1238400"/>
              <a:gd name="textAreaBottom" fmla="*/ 1206360 h 123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9"/>
          <p:cNvSpPr/>
          <p:nvPr/>
        </p:nvSpPr>
        <p:spPr>
          <a:xfrm>
            <a:off x="1509840" y="3289320"/>
            <a:ext cx="361800" cy="1044720"/>
          </a:xfrm>
          <a:prstGeom prst="downArrow">
            <a:avLst>
              <a:gd name="adj1" fmla="val 50000"/>
              <a:gd name="adj2" fmla="val 7214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1077120" y="4357800"/>
            <a:ext cx="1674360" cy="22269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线段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射线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线段与射线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线段与直线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射线与直线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304920" y="3724200"/>
            <a:ext cx="3135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4179960" y="477684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点到直线的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13"/>
          <p:cNvGrpSpPr/>
          <p:nvPr/>
        </p:nvGrpSpPr>
        <p:grpSpPr>
          <a:xfrm>
            <a:off x="2984040" y="0"/>
            <a:ext cx="2849400" cy="1709640"/>
            <a:chOff x="2984040" y="0"/>
            <a:chExt cx="2849400" cy="1709640"/>
          </a:xfrm>
        </p:grpSpPr>
        <p:sp>
          <p:nvSpPr>
            <p:cNvPr id="1088" name="filecab3"/>
            <p:cNvSpPr/>
            <p:nvPr/>
          </p:nvSpPr>
          <p:spPr>
            <a:xfrm rot="10800000">
              <a:off x="29840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9" name="Picture 15" descr="F2008220203955"/>
            <p:cNvPicPr/>
            <p:nvPr/>
          </p:nvPicPr>
          <p:blipFill>
            <a:blip r:embed="rId1"/>
            <a:stretch/>
          </p:blipFill>
          <p:spPr>
            <a:xfrm>
              <a:off x="360180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0" name="Picture 16" descr="是中"/>
          <p:cNvPicPr/>
          <p:nvPr/>
        </p:nvPicPr>
        <p:blipFill>
          <a:blip r:embed="rId2"/>
          <a:stretch/>
        </p:blipFill>
        <p:spPr>
          <a:xfrm>
            <a:off x="7537320" y="1100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2"/>
          <p:cNvSpPr/>
          <p:nvPr/>
        </p:nvSpPr>
        <p:spPr>
          <a:xfrm>
            <a:off x="558720" y="2021040"/>
            <a:ext cx="830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已知：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垂足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条直线．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关系一定成立的是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相等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互余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互补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互为对顶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3"/>
          <p:cNvGrpSpPr/>
          <p:nvPr/>
        </p:nvGrpSpPr>
        <p:grpSpPr>
          <a:xfrm>
            <a:off x="4713120" y="3095640"/>
            <a:ext cx="3931920" cy="3425760"/>
            <a:chOff x="4713120" y="3095640"/>
            <a:chExt cx="3931920" cy="3425760"/>
          </a:xfrm>
        </p:grpSpPr>
        <p:grpSp>
          <p:nvGrpSpPr>
            <p:cNvPr id="1093" name=""/>
            <p:cNvGrpSpPr/>
            <p:nvPr/>
          </p:nvGrpSpPr>
          <p:grpSpPr>
            <a:xfrm>
              <a:off x="4713120" y="4646880"/>
              <a:ext cx="3931920" cy="360"/>
              <a:chOff x="4713120" y="4646880"/>
              <a:chExt cx="3931920" cy="360"/>
            </a:xfrm>
          </p:grpSpPr>
          <p:sp>
            <p:nvSpPr>
              <p:cNvPr id="1094" name="Line 4"/>
              <p:cNvSpPr/>
              <p:nvPr/>
            </p:nvSpPr>
            <p:spPr>
              <a:xfrm>
                <a:off x="4713120" y="4646880"/>
                <a:ext cx="39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4713120" y="4646880"/>
                <a:ext cx="393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6527520" y="3095640"/>
              <a:ext cx="14400" cy="3425760"/>
              <a:chOff x="6527520" y="3095640"/>
              <a:chExt cx="14400" cy="3425760"/>
            </a:xfrm>
          </p:grpSpPr>
          <p:sp>
            <p:nvSpPr>
              <p:cNvPr id="1097" name="Line 5"/>
              <p:cNvSpPr/>
              <p:nvPr/>
            </p:nvSpPr>
            <p:spPr>
              <a:xfrm>
                <a:off x="6527520" y="3095640"/>
                <a:ext cx="14400" cy="342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>
                <a:off x="6527520" y="3095640"/>
                <a:ext cx="14400" cy="342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140080" y="3457800"/>
              <a:ext cx="2590560" cy="2576520"/>
              <a:chOff x="5140080" y="3457800"/>
              <a:chExt cx="2590560" cy="2576520"/>
            </a:xfrm>
          </p:grpSpPr>
          <p:sp>
            <p:nvSpPr>
              <p:cNvPr id="1100" name="Line 6"/>
              <p:cNvSpPr/>
              <p:nvPr/>
            </p:nvSpPr>
            <p:spPr>
              <a:xfrm flipH="1">
                <a:off x="5140080" y="3457800"/>
                <a:ext cx="2590560" cy="257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>
                <a:off x="5140080" y="3457800"/>
                <a:ext cx="2590560" cy="25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Text Box 7"/>
            <p:cNvSpPr/>
            <p:nvPr/>
          </p:nvSpPr>
          <p:spPr>
            <a:xfrm rot="16200000">
              <a:off x="6152400" y="4202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Arc 8"/>
            <p:cNvSpPr/>
            <p:nvPr/>
          </p:nvSpPr>
          <p:spPr>
            <a:xfrm>
              <a:off x="6767280" y="4389480"/>
              <a:ext cx="168120" cy="539640"/>
            </a:xfrm>
            <a:custGeom>
              <a:avLst/>
              <a:gdLst/>
              <a:ahLst/>
              <a:rect l="l" t="t" r="r" b="b"/>
              <a:pathLst>
                <a:path fill="none" w="18467" h="21600">
                  <a:moveTo>
                    <a:pt x="-1" y="0"/>
                  </a:moveTo>
                  <a:cubicBezTo>
                    <a:pt x="7549" y="0"/>
                    <a:pt x="14551" y="3941"/>
                    <a:pt x="18467" y="10395"/>
                  </a:cubicBezTo>
                </a:path>
                <a:path stroke="0" w="18467" h="21600">
                  <a:moveTo>
                    <a:pt x="-1" y="0"/>
                  </a:moveTo>
                  <a:cubicBezTo>
                    <a:pt x="7549" y="0"/>
                    <a:pt x="14551" y="3941"/>
                    <a:pt x="18467" y="10395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Arc 9"/>
            <p:cNvSpPr/>
            <p:nvPr/>
          </p:nvSpPr>
          <p:spPr>
            <a:xfrm rot="10800000">
              <a:off x="6233400" y="4424400"/>
              <a:ext cx="366840" cy="627120"/>
            </a:xfrm>
            <a:custGeom>
              <a:avLst/>
              <a:gdLst/>
              <a:ahLst/>
              <a:rect l="l" t="t" r="r" b="b"/>
              <a:pathLst>
                <a:path fill="none" w="13059" h="21429">
                  <a:moveTo>
                    <a:pt x="2710" y="-1"/>
                  </a:moveTo>
                  <a:cubicBezTo>
                    <a:pt x="6470" y="475"/>
                    <a:pt x="10039" y="1932"/>
                    <a:pt x="13059" y="4223"/>
                  </a:cubicBezTo>
                </a:path>
                <a:path stroke="0" w="13059" h="21429">
                  <a:moveTo>
                    <a:pt x="2710" y="-1"/>
                  </a:moveTo>
                  <a:cubicBezTo>
                    <a:pt x="6470" y="475"/>
                    <a:pt x="10039" y="1932"/>
                    <a:pt x="13059" y="4223"/>
                  </a:cubicBezTo>
                  <a:lnTo>
                    <a:pt x="0" y="2142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Text Box 10"/>
            <p:cNvSpPr/>
            <p:nvPr/>
          </p:nvSpPr>
          <p:spPr>
            <a:xfrm>
              <a:off x="6921000" y="4129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11"/>
            <p:cNvSpPr/>
            <p:nvPr/>
          </p:nvSpPr>
          <p:spPr>
            <a:xfrm>
              <a:off x="6143040" y="4927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Text Box 12"/>
          <p:cNvSpPr/>
          <p:nvPr/>
        </p:nvSpPr>
        <p:spPr>
          <a:xfrm>
            <a:off x="1234800" y="2938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3287520" y="0"/>
            <a:ext cx="2849400" cy="1709640"/>
            <a:chOff x="3287520" y="0"/>
            <a:chExt cx="2849400" cy="1709640"/>
          </a:xfrm>
        </p:grpSpPr>
        <p:sp>
          <p:nvSpPr>
            <p:cNvPr id="1109" name="filecab3"/>
            <p:cNvSpPr/>
            <p:nvPr/>
          </p:nvSpPr>
          <p:spPr>
            <a:xfrm rot="10800000">
              <a:off x="328752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Picture 15" descr="F2008220203955"/>
            <p:cNvPicPr/>
            <p:nvPr/>
          </p:nvPicPr>
          <p:blipFill>
            <a:blip r:embed="rId1"/>
            <a:stretch/>
          </p:blipFill>
          <p:spPr>
            <a:xfrm>
              <a:off x="390528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1" name="Picture 16" descr="拭5"/>
          <p:cNvPicPr/>
          <p:nvPr/>
        </p:nvPicPr>
        <p:blipFill>
          <a:blip r:embed="rId2"/>
          <a:stretch/>
        </p:blipFill>
        <p:spPr>
          <a:xfrm>
            <a:off x="939960" y="460692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755640" y="1219320"/>
            <a:ext cx="777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下面四种判定两条直线的垂直的方法．正确的个数为（ 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直线相交所成的四个角中有一个角是直角．则这两条直线互相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直线相交．只要有一组邻补角相等．则这两条直线互相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直线相交．所成的四个角相等．这两条直线互相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条直线相交．有一组对顶角互补．则这两条直线互相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        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   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            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4038480" y="15969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文本框 8200"/>
          <p:cNvSpPr/>
          <p:nvPr/>
        </p:nvSpPr>
        <p:spPr>
          <a:xfrm>
            <a:off x="1316160" y="884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611280" y="1149480"/>
            <a:ext cx="7993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78b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辆汽车在一段笔直的公路上从Ａ村开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Ｐ村不在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有一人想在Ａ、Ｂ两村之间下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在哪里下车走的路程最短？请画出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说明原因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1547640" y="6037200"/>
            <a:ext cx="5400720" cy="360"/>
            <a:chOff x="1547640" y="6037200"/>
            <a:chExt cx="5400720" cy="360"/>
          </a:xfrm>
        </p:grpSpPr>
        <p:sp>
          <p:nvSpPr>
            <p:cNvPr id="1117" name="Line 3"/>
            <p:cNvSpPr/>
            <p:nvPr/>
          </p:nvSpPr>
          <p:spPr>
            <a:xfrm>
              <a:off x="1547640" y="6037200"/>
              <a:ext cx="5400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1547640" y="603720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AutoShape 4"/>
          <p:cNvSpPr/>
          <p:nvPr/>
        </p:nvSpPr>
        <p:spPr>
          <a:xfrm>
            <a:off x="4211640" y="4379760"/>
            <a:ext cx="7308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1116000" y="5821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6"/>
          <p:cNvSpPr/>
          <p:nvPr/>
        </p:nvSpPr>
        <p:spPr>
          <a:xfrm>
            <a:off x="6948360" y="5821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7"/>
          <p:cNvSpPr/>
          <p:nvPr/>
        </p:nvSpPr>
        <p:spPr>
          <a:xfrm>
            <a:off x="4356000" y="4164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4243320" y="4452840"/>
            <a:ext cx="360" cy="1584360"/>
            <a:chOff x="4243320" y="4452840"/>
            <a:chExt cx="360" cy="1584360"/>
          </a:xfrm>
        </p:grpSpPr>
        <p:sp>
          <p:nvSpPr>
            <p:cNvPr id="1124" name="Line 8"/>
            <p:cNvSpPr/>
            <p:nvPr/>
          </p:nvSpPr>
          <p:spPr>
            <a:xfrm>
              <a:off x="4243320" y="4452840"/>
              <a:ext cx="0" cy="1584360"/>
            </a:xfrm>
            <a:prstGeom prst="line">
              <a:avLst/>
            </a:prstGeom>
            <a:ln w="28440">
              <a:solidFill>
                <a:srgbClr val="df055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4243320" y="445284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Text Box 9"/>
          <p:cNvSpPr/>
          <p:nvPr/>
        </p:nvSpPr>
        <p:spPr>
          <a:xfrm>
            <a:off x="3990960" y="6049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15b4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979640" y="4452480"/>
            <a:ext cx="2232000" cy="1584360"/>
            <a:chOff x="1979640" y="4452480"/>
            <a:chExt cx="2232000" cy="1584360"/>
          </a:xfrm>
        </p:grpSpPr>
        <p:sp>
          <p:nvSpPr>
            <p:cNvPr id="1128" name="Line 10"/>
            <p:cNvSpPr/>
            <p:nvPr/>
          </p:nvSpPr>
          <p:spPr>
            <a:xfrm flipV="1">
              <a:off x="1979640" y="4452480"/>
              <a:ext cx="223200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 rot="10800000">
              <a:off x="1979640" y="4452480"/>
              <a:ext cx="22320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2916360" y="4452480"/>
            <a:ext cx="1295280" cy="1584360"/>
            <a:chOff x="2916360" y="4452480"/>
            <a:chExt cx="1295280" cy="1584360"/>
          </a:xfrm>
        </p:grpSpPr>
        <p:sp>
          <p:nvSpPr>
            <p:cNvPr id="1131" name="Line 11"/>
            <p:cNvSpPr/>
            <p:nvPr/>
          </p:nvSpPr>
          <p:spPr>
            <a:xfrm flipV="1">
              <a:off x="2916360" y="4452480"/>
              <a:ext cx="129528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 rot="10800000">
              <a:off x="2916360" y="4452480"/>
              <a:ext cx="129528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708360" y="4452480"/>
            <a:ext cx="503280" cy="1584360"/>
            <a:chOff x="3708360" y="4452480"/>
            <a:chExt cx="503280" cy="1584360"/>
          </a:xfrm>
        </p:grpSpPr>
        <p:sp>
          <p:nvSpPr>
            <p:cNvPr id="1134" name="Line 12"/>
            <p:cNvSpPr/>
            <p:nvPr/>
          </p:nvSpPr>
          <p:spPr>
            <a:xfrm flipV="1">
              <a:off x="3708360" y="4452480"/>
              <a:ext cx="50328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0800000">
              <a:off x="3708360" y="4452480"/>
              <a:ext cx="50328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284720" y="4452840"/>
            <a:ext cx="428400" cy="1582920"/>
            <a:chOff x="4284720" y="4452840"/>
            <a:chExt cx="428400" cy="1582920"/>
          </a:xfrm>
        </p:grpSpPr>
        <p:sp>
          <p:nvSpPr>
            <p:cNvPr id="1137" name="Line 13"/>
            <p:cNvSpPr/>
            <p:nvPr/>
          </p:nvSpPr>
          <p:spPr>
            <a:xfrm>
              <a:off x="4284720" y="4452840"/>
              <a:ext cx="428400" cy="158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>
              <a:off x="4284720" y="4452840"/>
              <a:ext cx="428400" cy="158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284720" y="4452840"/>
            <a:ext cx="1224000" cy="1584360"/>
            <a:chOff x="4284720" y="4452840"/>
            <a:chExt cx="1224000" cy="1584360"/>
          </a:xfrm>
        </p:grpSpPr>
        <p:sp>
          <p:nvSpPr>
            <p:cNvPr id="1140" name="Line 14"/>
            <p:cNvSpPr/>
            <p:nvPr/>
          </p:nvSpPr>
          <p:spPr>
            <a:xfrm>
              <a:off x="4284720" y="4452840"/>
              <a:ext cx="122400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4284720" y="4452840"/>
              <a:ext cx="12240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284720" y="4452840"/>
            <a:ext cx="2087640" cy="1584360"/>
            <a:chOff x="4284720" y="4452840"/>
            <a:chExt cx="2087640" cy="1584360"/>
          </a:xfrm>
        </p:grpSpPr>
        <p:sp>
          <p:nvSpPr>
            <p:cNvPr id="1143" name="Line 15"/>
            <p:cNvSpPr/>
            <p:nvPr/>
          </p:nvSpPr>
          <p:spPr>
            <a:xfrm>
              <a:off x="4284720" y="4452840"/>
              <a:ext cx="208764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4284720" y="4452840"/>
              <a:ext cx="2087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Text Box 16"/>
          <p:cNvSpPr/>
          <p:nvPr/>
        </p:nvSpPr>
        <p:spPr>
          <a:xfrm>
            <a:off x="633240" y="3233880"/>
            <a:ext cx="8215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78b"/>
                </a:solidFill>
                <a:latin typeface="Verdana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汽车在哪一段路上行驶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的距离越来越近？汽车在哪一段路上行驶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的距离越来越远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7"/>
          <p:cNvSpPr/>
          <p:nvPr/>
        </p:nvSpPr>
        <p:spPr>
          <a:xfrm>
            <a:off x="4143240" y="5546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9133-9D02-496A-A755-FF0EC1A4D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2"/>
          <p:cNvSpPr/>
          <p:nvPr/>
        </p:nvSpPr>
        <p:spPr>
          <a:xfrm>
            <a:off x="1095480" y="1557360"/>
            <a:ext cx="744372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案：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下车走的路程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因：垂线段最短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路段上行驶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村的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越来越近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路段上行驶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村的距离越来越远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Picture 3" descr="b_3AEADFA7F8B479FF0FAA46A7BA828E3A"/>
          <p:cNvPicPr/>
          <p:nvPr/>
        </p:nvPicPr>
        <p:blipFill>
          <a:blip r:embed="rId1"/>
          <a:stretch/>
        </p:blipFill>
        <p:spPr>
          <a:xfrm>
            <a:off x="2104920" y="4973760"/>
            <a:ext cx="4195800" cy="1145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005" dur="indefinite" restart="never" nodeType="tmRoot">
          <p:childTnLst>
            <p:seq>
              <p:cTn id="2006" dur="indefinite" nodeType="mainSeq">
                <p:childTnLst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3"/>
          <p:cNvSpPr/>
          <p:nvPr/>
        </p:nvSpPr>
        <p:spPr>
          <a:xfrm>
            <a:off x="1542960" y="765000"/>
            <a:ext cx="678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001880" y="4869000"/>
            <a:ext cx="7467480" cy="5205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>
                  <a:alpha val="43137"/>
                </a:srgbClr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一条公共边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OA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它们的另一边互为反向延长线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820160" y="1800360"/>
            <a:ext cx="6045840" cy="2536560"/>
            <a:chOff x="1820160" y="1800360"/>
            <a:chExt cx="6045840" cy="2536560"/>
          </a:xfrm>
        </p:grpSpPr>
        <p:grpSp>
          <p:nvGrpSpPr>
            <p:cNvPr id="138" name=""/>
            <p:cNvGrpSpPr/>
            <p:nvPr/>
          </p:nvGrpSpPr>
          <p:grpSpPr>
            <a:xfrm>
              <a:off x="2268720" y="2400120"/>
              <a:ext cx="4647960" cy="1219320"/>
              <a:chOff x="2268720" y="2400120"/>
              <a:chExt cx="4647960" cy="1219320"/>
            </a:xfrm>
          </p:grpSpPr>
          <p:sp>
            <p:nvSpPr>
              <p:cNvPr id="139" name="Line 3"/>
              <p:cNvSpPr/>
              <p:nvPr/>
            </p:nvSpPr>
            <p:spPr>
              <a:xfrm>
                <a:off x="2268720" y="2400120"/>
                <a:ext cx="4647960" cy="12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268720" y="2400120"/>
                <a:ext cx="46479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192400" y="1942560"/>
              <a:ext cx="4648320" cy="2057400"/>
              <a:chOff x="2192400" y="1942560"/>
              <a:chExt cx="4648320" cy="2057400"/>
            </a:xfrm>
          </p:grpSpPr>
          <p:sp>
            <p:nvSpPr>
              <p:cNvPr id="142" name="Line 4"/>
              <p:cNvSpPr/>
              <p:nvPr/>
            </p:nvSpPr>
            <p:spPr>
              <a:xfrm flipV="1">
                <a:off x="2192400" y="1942560"/>
                <a:ext cx="4648320" cy="20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 rot="10800000">
                <a:off x="2192400" y="1942200"/>
                <a:ext cx="464832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Text Box 5"/>
            <p:cNvSpPr/>
            <p:nvPr/>
          </p:nvSpPr>
          <p:spPr>
            <a:xfrm>
              <a:off x="4249800" y="195588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5392800" y="2476440"/>
              <a:ext cx="485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7"/>
            <p:cNvSpPr/>
            <p:nvPr/>
          </p:nvSpPr>
          <p:spPr>
            <a:xfrm>
              <a:off x="3259080" y="2628720"/>
              <a:ext cx="48600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4321080" y="3251160"/>
              <a:ext cx="486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1890720" y="1981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6859440" y="320508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1820160" y="381636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6788880" y="1800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4287960" y="29462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4478400" y="2933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rc 17"/>
            <p:cNvSpPr/>
            <p:nvPr/>
          </p:nvSpPr>
          <p:spPr>
            <a:xfrm>
              <a:off x="4897440" y="2819520"/>
              <a:ext cx="71280" cy="287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rc 18"/>
            <p:cNvSpPr/>
            <p:nvPr/>
          </p:nvSpPr>
          <p:spPr>
            <a:xfrm flipH="1">
              <a:off x="3960000" y="2890800"/>
              <a:ext cx="71640" cy="2890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rc 19"/>
            <p:cNvSpPr/>
            <p:nvPr/>
          </p:nvSpPr>
          <p:spPr>
            <a:xfrm flipV="1" rot="1764000">
              <a:off x="4105440" y="2889720"/>
              <a:ext cx="793440" cy="576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rc 20"/>
            <p:cNvSpPr/>
            <p:nvPr/>
          </p:nvSpPr>
          <p:spPr>
            <a:xfrm flipH="1" rot="2333400">
              <a:off x="4176720" y="2530080"/>
              <a:ext cx="574560" cy="504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7"/>
          <p:cNvSpPr/>
          <p:nvPr/>
        </p:nvSpPr>
        <p:spPr>
          <a:xfrm>
            <a:off x="835200" y="214488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果两个角有一条公共边，它们的另一边互为反向延长线，那么这两个角互为邻补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90600" y="541332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图中互为邻补角的有：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                                       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， 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3259080" y="563400"/>
            <a:ext cx="3838680" cy="782640"/>
            <a:chOff x="3259080" y="563400"/>
            <a:chExt cx="3838680" cy="782640"/>
          </a:xfrm>
        </p:grpSpPr>
        <p:pic>
          <p:nvPicPr>
            <p:cNvPr id="161" name="Picture 20" descr="666"/>
            <p:cNvPicPr/>
            <p:nvPr/>
          </p:nvPicPr>
          <p:blipFill>
            <a:blip r:embed="rId1"/>
            <a:stretch/>
          </p:blipFill>
          <p:spPr>
            <a:xfrm>
              <a:off x="6097680" y="5634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1"/>
            <p:cNvSpPr/>
            <p:nvPr/>
          </p:nvSpPr>
          <p:spPr>
            <a:xfrm>
              <a:off x="3259080" y="6764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22"/>
          <p:cNvSpPr/>
          <p:nvPr/>
        </p:nvSpPr>
        <p:spPr>
          <a:xfrm>
            <a:off x="3463920" y="134604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邻补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3081960" y="3381480"/>
            <a:ext cx="2792520" cy="2033280"/>
            <a:chOff x="3081960" y="3381480"/>
            <a:chExt cx="2792520" cy="2033280"/>
          </a:xfrm>
        </p:grpSpPr>
        <p:grpSp>
          <p:nvGrpSpPr>
            <p:cNvPr id="165" name=""/>
            <p:cNvGrpSpPr/>
            <p:nvPr/>
          </p:nvGrpSpPr>
          <p:grpSpPr>
            <a:xfrm>
              <a:off x="3490920" y="3645000"/>
              <a:ext cx="1944720" cy="1296720"/>
              <a:chOff x="3490920" y="3645000"/>
              <a:chExt cx="1944720" cy="1296720"/>
            </a:xfrm>
          </p:grpSpPr>
          <p:sp>
            <p:nvSpPr>
              <p:cNvPr id="166" name="Line 2"/>
              <p:cNvSpPr/>
              <p:nvPr/>
            </p:nvSpPr>
            <p:spPr>
              <a:xfrm flipV="1">
                <a:off x="3490920" y="3645000"/>
                <a:ext cx="1944720" cy="129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3490920" y="3645000"/>
                <a:ext cx="1944720" cy="12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62200" y="3645000"/>
              <a:ext cx="1873440" cy="1368360"/>
              <a:chOff x="3562200" y="3645000"/>
              <a:chExt cx="1873440" cy="1368360"/>
            </a:xfrm>
          </p:grpSpPr>
          <p:sp>
            <p:nvSpPr>
              <p:cNvPr id="169" name="Line 3"/>
              <p:cNvSpPr/>
              <p:nvPr/>
            </p:nvSpPr>
            <p:spPr>
              <a:xfrm>
                <a:off x="3562200" y="3645000"/>
                <a:ext cx="1873440" cy="13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3562200" y="3645000"/>
                <a:ext cx="187344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4"/>
            <p:cNvSpPr/>
            <p:nvPr/>
          </p:nvSpPr>
          <p:spPr>
            <a:xfrm>
              <a:off x="4248360" y="38815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132720" y="4894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5437800" y="3381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3081960" y="341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437440" y="4822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3630600" y="4037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4817880" y="405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4211640" y="467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4314960" y="3471840"/>
              <a:ext cx="4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rc 28"/>
            <p:cNvSpPr/>
            <p:nvPr/>
          </p:nvSpPr>
          <p:spPr>
            <a:xfrm flipH="1" rot="14062200">
              <a:off x="4140360" y="4075560"/>
              <a:ext cx="617400" cy="561960"/>
            </a:xfrm>
            <a:custGeom>
              <a:avLst/>
              <a:gdLst/>
              <a:ahLst/>
              <a:rect l="l" t="t" r="r" b="b"/>
              <a:pathLst>
                <a:path fill="none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</a:path>
                <a:path stroke="0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  <a:lnTo>
                    <a:pt x="0" y="1963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rc 29"/>
            <p:cNvSpPr/>
            <p:nvPr/>
          </p:nvSpPr>
          <p:spPr>
            <a:xfrm flipH="1" rot="3262200">
              <a:off x="4157640" y="3892320"/>
              <a:ext cx="635040" cy="583920"/>
            </a:xfrm>
            <a:custGeom>
              <a:avLst/>
              <a:gdLst/>
              <a:ahLst/>
              <a:rect l="l" t="t" r="r" b="b"/>
              <a:pathLst>
                <a:path fill="none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</a:path>
                <a:path stroke="0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  <a:lnTo>
                    <a:pt x="0" y="203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rc 31"/>
            <p:cNvSpPr/>
            <p:nvPr/>
          </p:nvSpPr>
          <p:spPr>
            <a:xfrm flipH="1" rot="19292400">
              <a:off x="3930120" y="405720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rc 32"/>
            <p:cNvSpPr/>
            <p:nvPr/>
          </p:nvSpPr>
          <p:spPr>
            <a:xfrm flipH="1" rot="8492400">
              <a:off x="4482360" y="408888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mb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"/>
                            </p:stCondLst>
                            <p:childTnLst>
                              <p:par>
                                <p:cTn id="18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367000" y="2898720"/>
            <a:ext cx="599760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判断两个角是不是邻补角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有一个公共顶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有一条公共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3429000" y="995400"/>
            <a:ext cx="2770200" cy="947520"/>
            <a:chOff x="3429000" y="995400"/>
            <a:chExt cx="2770200" cy="947520"/>
          </a:xfrm>
        </p:grpSpPr>
        <p:sp>
          <p:nvSpPr>
            <p:cNvPr id="186" name="WordArt 4"/>
            <p:cNvSpPr txBox="1"/>
            <p:nvPr/>
          </p:nvSpPr>
          <p:spPr>
            <a:xfrm>
              <a:off x="3429000" y="1219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187" name="Picture 5" descr="54321 (7)"/>
            <p:cNvPicPr/>
            <p:nvPr/>
          </p:nvPicPr>
          <p:blipFill>
            <a:blip r:embed="rId1"/>
            <a:stretch/>
          </p:blipFill>
          <p:spPr>
            <a:xfrm>
              <a:off x="5292720" y="9954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6" descr="ikh"/>
          <p:cNvPicPr/>
          <p:nvPr/>
        </p:nvPicPr>
        <p:blipFill>
          <a:blip r:embed="rId2"/>
          <a:stretch/>
        </p:blipFill>
        <p:spPr>
          <a:xfrm>
            <a:off x="585720" y="2617920"/>
            <a:ext cx="1781280" cy="2921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28600" y="1270080"/>
            <a:ext cx="69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对邻补角一定互补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对互补的角一定是邻补角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611280" y="4630680"/>
            <a:ext cx="8130960" cy="9471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>
                  <a:alpha val="43137"/>
                </a:srgbClr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图中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是邻补角，它们是相互的、成对出现的，如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邻补角，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邻补角，单独的一个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或单独的一个∠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不能叫邻补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34"/>
          <p:cNvGrpSpPr/>
          <p:nvPr/>
        </p:nvGrpSpPr>
        <p:grpSpPr>
          <a:xfrm>
            <a:off x="2120760" y="0"/>
            <a:ext cx="3519360" cy="1185840"/>
            <a:chOff x="2120760" y="0"/>
            <a:chExt cx="3519360" cy="1185840"/>
          </a:xfrm>
        </p:grpSpPr>
        <p:pic>
          <p:nvPicPr>
            <p:cNvPr id="192" name="Picture 35" descr="图片1，"/>
            <p:cNvPicPr/>
            <p:nvPr/>
          </p:nvPicPr>
          <p:blipFill>
            <a:blip r:embed="rId1"/>
            <a:stretch/>
          </p:blipFill>
          <p:spPr>
            <a:xfrm>
              <a:off x="4687560" y="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Cloud"/>
            <p:cNvSpPr/>
            <p:nvPr/>
          </p:nvSpPr>
          <p:spPr>
            <a:xfrm>
              <a:off x="2120760" y="0"/>
              <a:ext cx="2566800" cy="118584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37"/>
            <p:cNvSpPr txBox="1"/>
            <p:nvPr/>
          </p:nvSpPr>
          <p:spPr>
            <a:xfrm>
              <a:off x="2641320" y="15228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3366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95" name="Group 38"/>
          <p:cNvGrpSpPr/>
          <p:nvPr/>
        </p:nvGrpSpPr>
        <p:grpSpPr>
          <a:xfrm>
            <a:off x="613440" y="2398680"/>
            <a:ext cx="2792520" cy="2033280"/>
            <a:chOff x="613440" y="2398680"/>
            <a:chExt cx="2792520" cy="2033280"/>
          </a:xfrm>
        </p:grpSpPr>
        <p:grpSp>
          <p:nvGrpSpPr>
            <p:cNvPr id="196" name=""/>
            <p:cNvGrpSpPr/>
            <p:nvPr/>
          </p:nvGrpSpPr>
          <p:grpSpPr>
            <a:xfrm>
              <a:off x="1022400" y="2662200"/>
              <a:ext cx="1944720" cy="1296720"/>
              <a:chOff x="1022400" y="2662200"/>
              <a:chExt cx="1944720" cy="1296720"/>
            </a:xfrm>
          </p:grpSpPr>
          <p:sp>
            <p:nvSpPr>
              <p:cNvPr id="197" name="Line 39"/>
              <p:cNvSpPr/>
              <p:nvPr/>
            </p:nvSpPr>
            <p:spPr>
              <a:xfrm flipV="1">
                <a:off x="1022400" y="2662200"/>
                <a:ext cx="1944720" cy="129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00000">
                <a:off x="1022400" y="2662200"/>
                <a:ext cx="1944720" cy="12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93680" y="2662200"/>
              <a:ext cx="1873440" cy="1368360"/>
              <a:chOff x="1093680" y="2662200"/>
              <a:chExt cx="1873440" cy="1368360"/>
            </a:xfrm>
          </p:grpSpPr>
          <p:sp>
            <p:nvSpPr>
              <p:cNvPr id="200" name="Line 40"/>
              <p:cNvSpPr/>
              <p:nvPr/>
            </p:nvSpPr>
            <p:spPr>
              <a:xfrm>
                <a:off x="1093680" y="2662200"/>
                <a:ext cx="1873440" cy="136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093680" y="2662200"/>
                <a:ext cx="187344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41"/>
            <p:cNvSpPr/>
            <p:nvPr/>
          </p:nvSpPr>
          <p:spPr>
            <a:xfrm>
              <a:off x="1779840" y="2898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2"/>
            <p:cNvSpPr/>
            <p:nvPr/>
          </p:nvSpPr>
          <p:spPr>
            <a:xfrm>
              <a:off x="664200" y="3911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3"/>
            <p:cNvSpPr/>
            <p:nvPr/>
          </p:nvSpPr>
          <p:spPr>
            <a:xfrm>
              <a:off x="2969280" y="239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44"/>
            <p:cNvSpPr/>
            <p:nvPr/>
          </p:nvSpPr>
          <p:spPr>
            <a:xfrm>
              <a:off x="613440" y="2428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45"/>
            <p:cNvSpPr/>
            <p:nvPr/>
          </p:nvSpPr>
          <p:spPr>
            <a:xfrm>
              <a:off x="2968920" y="38401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46"/>
            <p:cNvSpPr/>
            <p:nvPr/>
          </p:nvSpPr>
          <p:spPr>
            <a:xfrm>
              <a:off x="1162080" y="305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47"/>
            <p:cNvSpPr/>
            <p:nvPr/>
          </p:nvSpPr>
          <p:spPr>
            <a:xfrm>
              <a:off x="2349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48"/>
            <p:cNvSpPr/>
            <p:nvPr/>
          </p:nvSpPr>
          <p:spPr>
            <a:xfrm>
              <a:off x="1743120" y="3695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49"/>
            <p:cNvSpPr/>
            <p:nvPr/>
          </p:nvSpPr>
          <p:spPr>
            <a:xfrm>
              <a:off x="1846440" y="2489040"/>
              <a:ext cx="4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rc 50"/>
            <p:cNvSpPr/>
            <p:nvPr/>
          </p:nvSpPr>
          <p:spPr>
            <a:xfrm flipH="1" rot="14062200">
              <a:off x="1671840" y="3092760"/>
              <a:ext cx="617400" cy="561960"/>
            </a:xfrm>
            <a:custGeom>
              <a:avLst/>
              <a:gdLst/>
              <a:ahLst/>
              <a:rect l="l" t="t" r="r" b="b"/>
              <a:pathLst>
                <a:path fill="none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</a:path>
                <a:path stroke="0" w="20875" h="19632">
                  <a:moveTo>
                    <a:pt x="9007" y="-1"/>
                  </a:moveTo>
                  <a:cubicBezTo>
                    <a:pt x="14866" y="2687"/>
                    <a:pt x="19219" y="7853"/>
                    <a:pt x="20875" y="14083"/>
                  </a:cubicBezTo>
                  <a:lnTo>
                    <a:pt x="0" y="1963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rc 51"/>
            <p:cNvSpPr/>
            <p:nvPr/>
          </p:nvSpPr>
          <p:spPr>
            <a:xfrm flipH="1" rot="3262200">
              <a:off x="1689120" y="2909520"/>
              <a:ext cx="635040" cy="583920"/>
            </a:xfrm>
            <a:custGeom>
              <a:avLst/>
              <a:gdLst/>
              <a:ahLst/>
              <a:rect l="l" t="t" r="r" b="b"/>
              <a:pathLst>
                <a:path fill="none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</a:path>
                <a:path stroke="0" w="21443" h="20386">
                  <a:moveTo>
                    <a:pt x="7139" y="-1"/>
                  </a:moveTo>
                  <a:cubicBezTo>
                    <a:pt x="14905" y="2719"/>
                    <a:pt x="20451" y="9615"/>
                    <a:pt x="21442" y="17784"/>
                  </a:cubicBezTo>
                  <a:lnTo>
                    <a:pt x="0" y="203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rc 52"/>
            <p:cNvSpPr/>
            <p:nvPr/>
          </p:nvSpPr>
          <p:spPr>
            <a:xfrm flipH="1" rot="19292400">
              <a:off x="1461600" y="307440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rc 53"/>
            <p:cNvSpPr/>
            <p:nvPr/>
          </p:nvSpPr>
          <p:spPr>
            <a:xfrm flipH="1" rot="8492400">
              <a:off x="2013840" y="3106080"/>
              <a:ext cx="447840" cy="412920"/>
            </a:xfrm>
            <a:custGeom>
              <a:avLst/>
              <a:gdLst/>
              <a:ahLst/>
              <a:rect l="l" t="t" r="r" b="b"/>
              <a:pathLst>
                <a:path fill="none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</a:path>
                <a:path stroke="0" w="21467" h="20087">
                  <a:moveTo>
                    <a:pt x="7941" y="-1"/>
                  </a:moveTo>
                  <a:cubicBezTo>
                    <a:pt x="15378" y="2940"/>
                    <a:pt x="20582" y="9749"/>
                    <a:pt x="21467" y="17697"/>
                  </a:cubicBezTo>
                  <a:lnTo>
                    <a:pt x="0" y="200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73"/>
          <p:cNvGrpSpPr/>
          <p:nvPr/>
        </p:nvGrpSpPr>
        <p:grpSpPr>
          <a:xfrm>
            <a:off x="3980520" y="2338560"/>
            <a:ext cx="1805400" cy="2003040"/>
            <a:chOff x="3980520" y="2338560"/>
            <a:chExt cx="1805400" cy="2003040"/>
          </a:xfrm>
        </p:grpSpPr>
        <p:grpSp>
          <p:nvGrpSpPr>
            <p:cNvPr id="216" name=""/>
            <p:cNvGrpSpPr/>
            <p:nvPr/>
          </p:nvGrpSpPr>
          <p:grpSpPr>
            <a:xfrm>
              <a:off x="4338720" y="3220920"/>
              <a:ext cx="1009440" cy="648000"/>
              <a:chOff x="4338720" y="3220920"/>
              <a:chExt cx="1009440" cy="648000"/>
            </a:xfrm>
          </p:grpSpPr>
          <p:sp>
            <p:nvSpPr>
              <p:cNvPr id="217" name="Line 20"/>
              <p:cNvSpPr/>
              <p:nvPr/>
            </p:nvSpPr>
            <p:spPr>
              <a:xfrm flipV="1">
                <a:off x="4338720" y="3220920"/>
                <a:ext cx="1009440" cy="64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0800000">
                <a:off x="4338720" y="3220920"/>
                <a:ext cx="1009440" cy="64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410000" y="2571840"/>
              <a:ext cx="938160" cy="649080"/>
              <a:chOff x="4410000" y="2571840"/>
              <a:chExt cx="938160" cy="649080"/>
            </a:xfrm>
          </p:grpSpPr>
          <p:sp>
            <p:nvSpPr>
              <p:cNvPr id="220" name="Line 21"/>
              <p:cNvSpPr/>
              <p:nvPr/>
            </p:nvSpPr>
            <p:spPr>
              <a:xfrm>
                <a:off x="4410000" y="2571840"/>
                <a:ext cx="938160" cy="64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410000" y="2571840"/>
                <a:ext cx="9381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Text Box 22"/>
            <p:cNvSpPr/>
            <p:nvPr/>
          </p:nvSpPr>
          <p:spPr>
            <a:xfrm>
              <a:off x="3980520" y="3821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3980520" y="2338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4682880" y="292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329440" y="2973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rc 70"/>
            <p:cNvSpPr/>
            <p:nvPr/>
          </p:nvSpPr>
          <p:spPr>
            <a:xfrm flipH="1" rot="19396200">
              <a:off x="5042880" y="2986200"/>
              <a:ext cx="339480" cy="500040"/>
            </a:xfrm>
            <a:custGeom>
              <a:avLst/>
              <a:gdLst/>
              <a:ahLst/>
              <a:rect l="l" t="t" r="r" b="b"/>
              <a:pathLst>
                <a:path fill="none" w="19732" h="19944">
                  <a:moveTo>
                    <a:pt x="8294" y="-1"/>
                  </a:moveTo>
                  <a:cubicBezTo>
                    <a:pt x="13392" y="2120"/>
                    <a:pt x="17485" y="6112"/>
                    <a:pt x="19731" y="11157"/>
                  </a:cubicBezTo>
                </a:path>
                <a:path stroke="0" w="19732" h="19944">
                  <a:moveTo>
                    <a:pt x="8294" y="-1"/>
                  </a:moveTo>
                  <a:cubicBezTo>
                    <a:pt x="13392" y="2120"/>
                    <a:pt x="17485" y="6112"/>
                    <a:pt x="19731" y="11157"/>
                  </a:cubicBezTo>
                  <a:lnTo>
                    <a:pt x="0" y="19944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72"/>
          <p:cNvGrpSpPr/>
          <p:nvPr/>
        </p:nvGrpSpPr>
        <p:grpSpPr>
          <a:xfrm>
            <a:off x="6018840" y="2489040"/>
            <a:ext cx="2721240" cy="1558440"/>
            <a:chOff x="6018840" y="2489040"/>
            <a:chExt cx="2721240" cy="1558440"/>
          </a:xfrm>
        </p:grpSpPr>
        <p:grpSp>
          <p:nvGrpSpPr>
            <p:cNvPr id="228" name=""/>
            <p:cNvGrpSpPr/>
            <p:nvPr/>
          </p:nvGrpSpPr>
          <p:grpSpPr>
            <a:xfrm>
              <a:off x="6376320" y="2926800"/>
              <a:ext cx="990720" cy="647640"/>
              <a:chOff x="6376320" y="2926800"/>
              <a:chExt cx="990720" cy="647640"/>
            </a:xfrm>
          </p:grpSpPr>
          <p:sp>
            <p:nvSpPr>
              <p:cNvPr id="229" name="Line 26"/>
              <p:cNvSpPr/>
              <p:nvPr/>
            </p:nvSpPr>
            <p:spPr>
              <a:xfrm flipV="1">
                <a:off x="6376680" y="2926800"/>
                <a:ext cx="990360" cy="64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 rot="10800000">
                <a:off x="6376320" y="2926800"/>
                <a:ext cx="990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296120" y="2927160"/>
              <a:ext cx="1024920" cy="718920"/>
              <a:chOff x="7296120" y="2927160"/>
              <a:chExt cx="1024920" cy="718920"/>
            </a:xfrm>
          </p:grpSpPr>
          <p:sp>
            <p:nvSpPr>
              <p:cNvPr id="232" name="Line 27"/>
              <p:cNvSpPr/>
              <p:nvPr/>
            </p:nvSpPr>
            <p:spPr>
              <a:xfrm>
                <a:off x="7296120" y="2927160"/>
                <a:ext cx="1024920" cy="718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296120" y="2927160"/>
                <a:ext cx="1024920" cy="71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28"/>
            <p:cNvSpPr/>
            <p:nvPr/>
          </p:nvSpPr>
          <p:spPr>
            <a:xfrm>
              <a:off x="7081920" y="24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6018840" y="3526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8323200" y="3455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1"/>
            <p:cNvSpPr/>
            <p:nvPr/>
          </p:nvSpPr>
          <p:spPr>
            <a:xfrm>
              <a:off x="7139880" y="313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rc 71"/>
            <p:cNvSpPr/>
            <p:nvPr/>
          </p:nvSpPr>
          <p:spPr>
            <a:xfrm rot="7747800">
              <a:off x="7084080" y="2649240"/>
              <a:ext cx="432000" cy="612360"/>
            </a:xfrm>
            <a:custGeom>
              <a:avLst/>
              <a:gdLst/>
              <a:ahLst/>
              <a:rect l="l" t="t" r="r" b="b"/>
              <a:pathLst>
                <a:path fill="none" w="20232" h="20042">
                  <a:moveTo>
                    <a:pt x="8055" y="0"/>
                  </a:moveTo>
                  <a:cubicBezTo>
                    <a:pt x="13687" y="2264"/>
                    <a:pt x="18106" y="6792"/>
                    <a:pt x="20232" y="12477"/>
                  </a:cubicBezTo>
                </a:path>
                <a:path stroke="0" w="20232" h="20042">
                  <a:moveTo>
                    <a:pt x="8055" y="0"/>
                  </a:moveTo>
                  <a:cubicBezTo>
                    <a:pt x="13687" y="2264"/>
                    <a:pt x="18106" y="6792"/>
                    <a:pt x="20232" y="12477"/>
                  </a:cubicBezTo>
                  <a:lnTo>
                    <a:pt x="0" y="2004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74" descr="s图片2"/>
          <p:cNvPicPr/>
          <p:nvPr/>
        </p:nvPicPr>
        <p:blipFill>
          <a:blip r:embed="rId2"/>
          <a:stretch/>
        </p:blipFill>
        <p:spPr>
          <a:xfrm>
            <a:off x="7094520" y="585720"/>
            <a:ext cx="1227240" cy="120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59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