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camera.wav" ContentType="audio/x-wav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2D9-762B-4000-9FF7-C073B734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033-58E6-47BC-AE1B-B63E3D0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AFA-8790-4804-A005-CA546034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847-2FC5-454B-928A-585EC08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8D6-F38B-4037-98C4-D505698C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E89-E3FF-44E3-8CD8-C23AA4F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74B-6DD5-4B6D-805E-AD03DAF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758-5116-4A35-AADF-D724F06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87A-F1A1-4833-B835-57DE490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E46-C5E7-4F9F-9D57-74C075BA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07C-6B63-426D-ACFC-7C8E3482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352-706B-43CD-B31D-D67ACFC3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7B9-66DF-4C95-BEDC-69DC09A4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217-7B42-427E-9CFD-25DABC3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C05-5BF9-48D7-AC1B-80CBE10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D7FD-B01B-4D64-8AB6-AE51F57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457-A40C-4C7B-9973-DB684AD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B6D7-B094-4F32-AB25-C1BF708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02A7-B1C9-47FA-9B3E-CE8DF8B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70A3-F5CF-45BA-9F54-8B93993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A77-0DD3-4099-BFAB-532D612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807-3252-4204-A34B-1DCCFDC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E08-7CC7-4739-888D-0C647F09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CC9-2F71-4BA9-8FD8-F9FBE7CE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韵动中黑简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grpSp>
        <p:nvGrpSpPr>
          <p:cNvPr id="36" name="Group 38"/>
          <p:cNvGrpSpPr/>
          <p:nvPr/>
        </p:nvGrpSpPr>
        <p:grpSpPr>
          <a:xfrm>
            <a:off x="0" y="449280"/>
            <a:ext cx="1219320" cy="846000"/>
            <a:chOff x="0" y="449280"/>
            <a:chExt cx="1219320" cy="846000"/>
          </a:xfrm>
        </p:grpSpPr>
        <p:pic>
          <p:nvPicPr>
            <p:cNvPr id="37" name="Picture 211" descr="pan01"/>
            <p:cNvPicPr/>
            <p:nvPr/>
          </p:nvPicPr>
          <p:blipFill>
            <a:blip r:embed="rId2"/>
            <a:stretch/>
          </p:blipFill>
          <p:spPr>
            <a:xfrm>
              <a:off x="3600" y="449280"/>
              <a:ext cx="1215720" cy="84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" name="Group 40"/>
            <p:cNvGrpSpPr/>
            <p:nvPr/>
          </p:nvGrpSpPr>
          <p:grpSpPr>
            <a:xfrm>
              <a:off x="0" y="475560"/>
              <a:ext cx="1158480" cy="762120"/>
              <a:chOff x="0" y="475560"/>
              <a:chExt cx="1158480" cy="762120"/>
            </a:xfrm>
          </p:grpSpPr>
          <p:pic>
            <p:nvPicPr>
              <p:cNvPr id="39" name="Freeform 212" descr="海报3副本"/>
              <p:cNvPicPr/>
              <p:nvPr/>
            </p:nvPicPr>
            <p:blipFill>
              <a:blip r:embed="rId3"/>
              <a:stretch/>
            </p:blipFill>
            <p:spPr>
              <a:xfrm>
                <a:off x="0" y="475560"/>
                <a:ext cx="11566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Text Box 42"/>
              <p:cNvSpPr/>
              <p:nvPr/>
            </p:nvSpPr>
            <p:spPr>
              <a:xfrm>
                <a:off x="0" y="477720"/>
                <a:ext cx="115848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1" name="Group 43"/>
          <p:cNvGrpSpPr/>
          <p:nvPr/>
        </p:nvGrpSpPr>
        <p:grpSpPr>
          <a:xfrm>
            <a:off x="0" y="297000"/>
            <a:ext cx="1093680" cy="844560"/>
            <a:chOff x="0" y="297000"/>
            <a:chExt cx="1093680" cy="844560"/>
          </a:xfrm>
        </p:grpSpPr>
        <p:pic>
          <p:nvPicPr>
            <p:cNvPr id="42" name="Picture 214" descr="pan01"/>
            <p:cNvPicPr/>
            <p:nvPr/>
          </p:nvPicPr>
          <p:blipFill>
            <a:blip r:embed="rId4"/>
            <a:stretch/>
          </p:blipFill>
          <p:spPr>
            <a:xfrm>
              <a:off x="0" y="297000"/>
              <a:ext cx="10936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Freeform 215"/>
            <p:cNvSpPr/>
            <p:nvPr/>
          </p:nvSpPr>
          <p:spPr>
            <a:xfrm>
              <a:off x="0" y="325440"/>
              <a:ext cx="1035000" cy="75816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" name="Group 46"/>
          <p:cNvGrpSpPr/>
          <p:nvPr/>
        </p:nvGrpSpPr>
        <p:grpSpPr>
          <a:xfrm>
            <a:off x="0" y="0"/>
            <a:ext cx="982440" cy="925560"/>
            <a:chOff x="0" y="0"/>
            <a:chExt cx="982440" cy="925560"/>
          </a:xfrm>
        </p:grpSpPr>
        <p:pic>
          <p:nvPicPr>
            <p:cNvPr id="45" name="Picture 217" descr="pan01"/>
            <p:cNvPicPr/>
            <p:nvPr/>
          </p:nvPicPr>
          <p:blipFill>
            <a:blip r:embed="rId6"/>
            <a:stretch/>
          </p:blipFill>
          <p:spPr>
            <a:xfrm>
              <a:off x="2520" y="0"/>
              <a:ext cx="9799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Freeform 218"/>
            <p:cNvSpPr/>
            <p:nvPr/>
          </p:nvSpPr>
          <p:spPr>
            <a:xfrm>
              <a:off x="0" y="30960"/>
              <a:ext cx="917640" cy="8316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57200" y="6400800"/>
            <a:ext cx="8305920" cy="360"/>
            <a:chOff x="457200" y="6400800"/>
            <a:chExt cx="8305920" cy="360"/>
          </a:xfrm>
        </p:grpSpPr>
        <p:sp>
          <p:nvSpPr>
            <p:cNvPr id="48" name="Line 221"/>
            <p:cNvSpPr/>
            <p:nvPr/>
          </p:nvSpPr>
          <p:spPr>
            <a:xfrm>
              <a:off x="457200" y="6400800"/>
              <a:ext cx="8305920" cy="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57200" y="6400800"/>
              <a:ext cx="830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grpSp>
          <p:nvGrpSpPr>
            <p:cNvPr id="87" name=""/>
            <p:cNvGrpSpPr/>
            <p:nvPr/>
          </p:nvGrpSpPr>
          <p:grpSpPr>
            <a:xfrm>
              <a:off x="5522760" y="4680"/>
              <a:ext cx="33480" cy="6852960"/>
              <a:chOff x="5522760" y="4680"/>
              <a:chExt cx="33480" cy="6852960"/>
            </a:xfrm>
          </p:grpSpPr>
          <p:sp>
            <p:nvSpPr>
              <p:cNvPr id="88" name="Line 126"/>
              <p:cNvSpPr/>
              <p:nvPr/>
            </p:nvSpPr>
            <p:spPr>
              <a:xfrm>
                <a:off x="552276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552276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237360" y="4680"/>
              <a:ext cx="33120" cy="6852960"/>
              <a:chOff x="6237360" y="4680"/>
              <a:chExt cx="33120" cy="6852960"/>
            </a:xfrm>
          </p:grpSpPr>
          <p:sp>
            <p:nvSpPr>
              <p:cNvPr id="91" name="Line 137"/>
              <p:cNvSpPr/>
              <p:nvPr/>
            </p:nvSpPr>
            <p:spPr>
              <a:xfrm>
                <a:off x="623736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623736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976800" y="4680"/>
              <a:ext cx="33480" cy="6852960"/>
              <a:chOff x="6976800" y="4680"/>
              <a:chExt cx="33480" cy="6852960"/>
            </a:xfrm>
          </p:grpSpPr>
          <p:sp>
            <p:nvSpPr>
              <p:cNvPr id="94" name="Line 139"/>
              <p:cNvSpPr/>
              <p:nvPr/>
            </p:nvSpPr>
            <p:spPr>
              <a:xfrm>
                <a:off x="69768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69768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691400" y="4680"/>
              <a:ext cx="33120" cy="6852960"/>
              <a:chOff x="7691400" y="4680"/>
              <a:chExt cx="33120" cy="6852960"/>
            </a:xfrm>
          </p:grpSpPr>
          <p:sp>
            <p:nvSpPr>
              <p:cNvPr id="97" name="Line 140"/>
              <p:cNvSpPr/>
              <p:nvPr/>
            </p:nvSpPr>
            <p:spPr>
              <a:xfrm>
                <a:off x="769140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69140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8416800" y="4680"/>
              <a:ext cx="33480" cy="6852960"/>
              <a:chOff x="8416800" y="4680"/>
              <a:chExt cx="33480" cy="6852960"/>
            </a:xfrm>
          </p:grpSpPr>
          <p:sp>
            <p:nvSpPr>
              <p:cNvPr id="100" name="Line 143"/>
              <p:cNvSpPr/>
              <p:nvPr/>
            </p:nvSpPr>
            <p:spPr>
              <a:xfrm>
                <a:off x="84168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84168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620800" y="4680"/>
              <a:ext cx="33480" cy="6852960"/>
              <a:chOff x="2620800" y="4680"/>
              <a:chExt cx="33480" cy="6852960"/>
            </a:xfrm>
          </p:grpSpPr>
          <p:sp>
            <p:nvSpPr>
              <p:cNvPr id="103" name="Line 147"/>
              <p:cNvSpPr/>
              <p:nvPr/>
            </p:nvSpPr>
            <p:spPr>
              <a:xfrm>
                <a:off x="26208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26208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335400" y="4680"/>
              <a:ext cx="33120" cy="6852960"/>
              <a:chOff x="3335400" y="4680"/>
              <a:chExt cx="33120" cy="6852960"/>
            </a:xfrm>
          </p:grpSpPr>
          <p:sp>
            <p:nvSpPr>
              <p:cNvPr id="106" name="Line 149"/>
              <p:cNvSpPr/>
              <p:nvPr/>
            </p:nvSpPr>
            <p:spPr>
              <a:xfrm>
                <a:off x="333540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333540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074840" y="4680"/>
              <a:ext cx="33480" cy="6852960"/>
              <a:chOff x="4074840" y="4680"/>
              <a:chExt cx="33480" cy="6852960"/>
            </a:xfrm>
          </p:grpSpPr>
          <p:sp>
            <p:nvSpPr>
              <p:cNvPr id="109" name="Line 151"/>
              <p:cNvSpPr/>
              <p:nvPr/>
            </p:nvSpPr>
            <p:spPr>
              <a:xfrm>
                <a:off x="407484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407484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789440" y="4680"/>
              <a:ext cx="33120" cy="6852960"/>
              <a:chOff x="4789440" y="4680"/>
              <a:chExt cx="33120" cy="6852960"/>
            </a:xfrm>
          </p:grpSpPr>
          <p:sp>
            <p:nvSpPr>
              <p:cNvPr id="112" name="Line 152"/>
              <p:cNvSpPr/>
              <p:nvPr/>
            </p:nvSpPr>
            <p:spPr>
              <a:xfrm>
                <a:off x="478944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478944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34880" y="4680"/>
              <a:ext cx="33480" cy="6852960"/>
              <a:chOff x="434880" y="4680"/>
              <a:chExt cx="33480" cy="6852960"/>
            </a:xfrm>
          </p:grpSpPr>
          <p:sp>
            <p:nvSpPr>
              <p:cNvPr id="115" name="Line 158"/>
              <p:cNvSpPr/>
              <p:nvPr/>
            </p:nvSpPr>
            <p:spPr>
              <a:xfrm>
                <a:off x="43488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3488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174680" y="4680"/>
              <a:ext cx="33480" cy="6852960"/>
              <a:chOff x="1174680" y="4680"/>
              <a:chExt cx="33480" cy="6852960"/>
            </a:xfrm>
          </p:grpSpPr>
          <p:sp>
            <p:nvSpPr>
              <p:cNvPr id="118" name="Line 160"/>
              <p:cNvSpPr/>
              <p:nvPr/>
            </p:nvSpPr>
            <p:spPr>
              <a:xfrm>
                <a:off x="117468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117468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888920" y="4680"/>
              <a:ext cx="33480" cy="6852960"/>
              <a:chOff x="1888920" y="4680"/>
              <a:chExt cx="33480" cy="6852960"/>
            </a:xfrm>
          </p:grpSpPr>
          <p:sp>
            <p:nvSpPr>
              <p:cNvPr id="121" name="Line 161"/>
              <p:cNvSpPr/>
              <p:nvPr/>
            </p:nvSpPr>
            <p:spPr>
              <a:xfrm>
                <a:off x="188892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188892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23" name="Rectangle 87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16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d3a91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16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16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6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170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171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172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173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174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d3a91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175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176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177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178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185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186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187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188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33"/>
          <p:cNvGrpSpPr/>
          <p:nvPr/>
        </p:nvGrpSpPr>
        <p:grpSpPr>
          <a:xfrm>
            <a:off x="0" y="533520"/>
            <a:ext cx="9144000" cy="5689800"/>
            <a:chOff x="0" y="533520"/>
            <a:chExt cx="9144000" cy="5689800"/>
          </a:xfrm>
        </p:grpSpPr>
        <p:grpSp>
          <p:nvGrpSpPr>
            <p:cNvPr id="142" name=""/>
            <p:cNvGrpSpPr/>
            <p:nvPr/>
          </p:nvGrpSpPr>
          <p:grpSpPr>
            <a:xfrm>
              <a:off x="0" y="533520"/>
              <a:ext cx="9144000" cy="360"/>
              <a:chOff x="0" y="533520"/>
              <a:chExt cx="9144000" cy="360"/>
            </a:xfrm>
          </p:grpSpPr>
          <p:sp>
            <p:nvSpPr>
              <p:cNvPr id="143" name="Line 192"/>
              <p:cNvSpPr/>
              <p:nvPr/>
            </p:nvSpPr>
            <p:spPr>
              <a:xfrm flipH="1">
                <a:off x="0" y="5335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0" y="5335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1163880"/>
              <a:ext cx="9144000" cy="360"/>
              <a:chOff x="0" y="1163880"/>
              <a:chExt cx="9144000" cy="360"/>
            </a:xfrm>
          </p:grpSpPr>
          <p:sp>
            <p:nvSpPr>
              <p:cNvPr id="146" name="Line 193"/>
              <p:cNvSpPr/>
              <p:nvPr/>
            </p:nvSpPr>
            <p:spPr>
              <a:xfrm flipH="1">
                <a:off x="0" y="116388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0" y="11638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1782720"/>
              <a:ext cx="9144000" cy="360"/>
              <a:chOff x="0" y="1782720"/>
              <a:chExt cx="9144000" cy="360"/>
            </a:xfrm>
          </p:grpSpPr>
          <p:sp>
            <p:nvSpPr>
              <p:cNvPr id="149" name="Line 194"/>
              <p:cNvSpPr/>
              <p:nvPr/>
            </p:nvSpPr>
            <p:spPr>
              <a:xfrm flipH="1">
                <a:off x="0" y="17827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0" y="17827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297320"/>
              <a:ext cx="9144000" cy="360"/>
              <a:chOff x="0" y="4297320"/>
              <a:chExt cx="9144000" cy="360"/>
            </a:xfrm>
          </p:grpSpPr>
          <p:sp>
            <p:nvSpPr>
              <p:cNvPr id="152" name="Line 195"/>
              <p:cNvSpPr/>
              <p:nvPr/>
            </p:nvSpPr>
            <p:spPr>
              <a:xfrm flipH="1">
                <a:off x="0" y="42973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0" y="42973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938840"/>
              <a:ext cx="9144000" cy="360"/>
              <a:chOff x="0" y="4938840"/>
              <a:chExt cx="9144000" cy="360"/>
            </a:xfrm>
          </p:grpSpPr>
          <p:sp>
            <p:nvSpPr>
              <p:cNvPr id="155" name="Line 196"/>
              <p:cNvSpPr/>
              <p:nvPr/>
            </p:nvSpPr>
            <p:spPr>
              <a:xfrm flipH="1">
                <a:off x="0" y="493884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0" y="49388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5581800"/>
              <a:ext cx="9144000" cy="360"/>
              <a:chOff x="0" y="5581800"/>
              <a:chExt cx="9144000" cy="360"/>
            </a:xfrm>
          </p:grpSpPr>
          <p:sp>
            <p:nvSpPr>
              <p:cNvPr id="158" name="Line 197"/>
              <p:cNvSpPr/>
              <p:nvPr/>
            </p:nvSpPr>
            <p:spPr>
              <a:xfrm flipH="1">
                <a:off x="0" y="558180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0" y="55818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6222960"/>
              <a:ext cx="9144000" cy="360"/>
              <a:chOff x="0" y="6222960"/>
              <a:chExt cx="9144000" cy="360"/>
            </a:xfrm>
          </p:grpSpPr>
          <p:sp>
            <p:nvSpPr>
              <p:cNvPr id="161" name="Line 198"/>
              <p:cNvSpPr/>
              <p:nvPr/>
            </p:nvSpPr>
            <p:spPr>
              <a:xfrm flipH="1">
                <a:off x="0" y="622296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0" y="62229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63" name="Rectangle 138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141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14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38a3b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Rectangle 153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Rectangle 15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Rectangle 162"/>
          <p:cNvSpPr/>
          <p:nvPr/>
        </p:nvSpPr>
        <p:spPr>
          <a:xfrm>
            <a:off x="457200" y="1147680"/>
            <a:ext cx="725400" cy="633600"/>
          </a:xfrm>
          <a:prstGeom prst="rect">
            <a:avLst/>
          </a:prstGeom>
          <a:solidFill>
            <a:srgbClr val="38a3b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Rectangle 164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179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Rectangle 180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181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182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183"/>
          <p:cNvSpPr/>
          <p:nvPr/>
        </p:nvSpPr>
        <p:spPr>
          <a:xfrm>
            <a:off x="1900080" y="1165320"/>
            <a:ext cx="72576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Rectangle 189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190"/>
          <p:cNvSpPr/>
          <p:nvPr/>
        </p:nvSpPr>
        <p:spPr>
          <a:xfrm>
            <a:off x="117648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200"/>
          <p:cNvSpPr/>
          <p:nvPr/>
        </p:nvSpPr>
        <p:spPr>
          <a:xfrm>
            <a:off x="26114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8" name="Group 56"/>
          <p:cNvGrpSpPr/>
          <p:nvPr/>
        </p:nvGrpSpPr>
        <p:grpSpPr>
          <a:xfrm>
            <a:off x="0" y="685800"/>
            <a:ext cx="4419360" cy="4038480"/>
            <a:chOff x="0" y="685800"/>
            <a:chExt cx="4419360" cy="4038480"/>
          </a:xfrm>
        </p:grpSpPr>
        <p:pic>
          <p:nvPicPr>
            <p:cNvPr id="179" name="Picture 213" descr="pan01"/>
            <p:cNvPicPr/>
            <p:nvPr/>
          </p:nvPicPr>
          <p:blipFill>
            <a:blip r:embed="rId2"/>
            <a:stretch/>
          </p:blipFill>
          <p:spPr>
            <a:xfrm>
              <a:off x="13320" y="685800"/>
              <a:ext cx="4406040" cy="403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58"/>
            <p:cNvGrpSpPr/>
            <p:nvPr/>
          </p:nvGrpSpPr>
          <p:grpSpPr>
            <a:xfrm>
              <a:off x="0" y="819360"/>
              <a:ext cx="4206240" cy="3627360"/>
              <a:chOff x="0" y="819360"/>
              <a:chExt cx="4206240" cy="3627360"/>
            </a:xfrm>
          </p:grpSpPr>
          <p:pic>
            <p:nvPicPr>
              <p:cNvPr id="181" name="Freeform 209" descr="海报3副本"/>
              <p:cNvPicPr/>
              <p:nvPr/>
            </p:nvPicPr>
            <p:blipFill>
              <a:blip r:embed="rId3"/>
              <a:stretch/>
            </p:blipFill>
            <p:spPr>
              <a:xfrm>
                <a:off x="0" y="819360"/>
                <a:ext cx="4206240" cy="36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Text Box 60"/>
              <p:cNvSpPr/>
              <p:nvPr/>
            </p:nvSpPr>
            <p:spPr>
              <a:xfrm>
                <a:off x="0" y="821520"/>
                <a:ext cx="4206240" cy="362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3" name="Group 61"/>
          <p:cNvGrpSpPr/>
          <p:nvPr/>
        </p:nvGrpSpPr>
        <p:grpSpPr>
          <a:xfrm>
            <a:off x="-90360" y="262080"/>
            <a:ext cx="3963960" cy="4037040"/>
            <a:chOff x="-90360" y="262080"/>
            <a:chExt cx="3963960" cy="4037040"/>
          </a:xfrm>
        </p:grpSpPr>
        <p:pic>
          <p:nvPicPr>
            <p:cNvPr id="184" name="Picture 220" descr="pan01"/>
            <p:cNvPicPr/>
            <p:nvPr/>
          </p:nvPicPr>
          <p:blipFill>
            <a:blip r:embed="rId4"/>
            <a:stretch/>
          </p:blipFill>
          <p:spPr>
            <a:xfrm>
              <a:off x="-90360" y="262080"/>
              <a:ext cx="396396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Freeform 221"/>
            <p:cNvSpPr/>
            <p:nvPr/>
          </p:nvSpPr>
          <p:spPr>
            <a:xfrm>
              <a:off x="-90360" y="398520"/>
              <a:ext cx="3750840" cy="362304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6" name="Group 64"/>
          <p:cNvGrpSpPr/>
          <p:nvPr/>
        </p:nvGrpSpPr>
        <p:grpSpPr>
          <a:xfrm>
            <a:off x="-36360" y="-603360"/>
            <a:ext cx="3562200" cy="4453200"/>
            <a:chOff x="-36360" y="-603360"/>
            <a:chExt cx="3562200" cy="4453200"/>
          </a:xfrm>
        </p:grpSpPr>
        <p:pic>
          <p:nvPicPr>
            <p:cNvPr id="187" name="Picture 223" descr="pan01"/>
            <p:cNvPicPr/>
            <p:nvPr/>
          </p:nvPicPr>
          <p:blipFill>
            <a:blip r:embed="rId6"/>
            <a:stretch/>
          </p:blipFill>
          <p:spPr>
            <a:xfrm>
              <a:off x="-25920" y="-603360"/>
              <a:ext cx="3551760" cy="445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224"/>
            <p:cNvSpPr/>
            <p:nvPr/>
          </p:nvSpPr>
          <p:spPr>
            <a:xfrm>
              <a:off x="-36360" y="-452880"/>
              <a:ext cx="3325320" cy="400068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434880" y="14983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韵动中黑简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2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3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84E-9BED-4966-BB54-4F42D9401B05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D7B0-8858-4B19-BFA6-DACB24EE61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file:///tmp/home/.config/libreoffice/4/user/gallery/&#31532;&#19968;&#27493;.wav" TargetMode="External"/><Relationship Id="rId3" Type="http://schemas.openxmlformats.org/officeDocument/2006/relationships/hyperlink" Target="file:///tmp/home/.config/libreoffice/4/user/gallery/&#31532;&#20108;&#27493;.wav" TargetMode="External"/><Relationship Id="rId4" Type="http://schemas.openxmlformats.org/officeDocument/2006/relationships/hyperlink" Target="file:///tmp/home/.config/libreoffice/4/user/gallery/&#31532;&#19977;&#27493;.wav" TargetMode="Externa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476360" y="62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教新课标 三年级品德与社会下册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WordArt 3"/>
          <p:cNvSpPr txBox="1"/>
          <p:nvPr/>
        </p:nvSpPr>
        <p:spPr>
          <a:xfrm>
            <a:off x="722160" y="4765680"/>
            <a:ext cx="539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看平面图</a:t>
            </a:r>
            <a:r>
              <a:rPr b="1" lang="en-US" sz="40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03"/>
          <p:cNvPicPr/>
          <p:nvPr/>
        </p:nvPicPr>
        <p:blipFill>
          <a:blip r:embed="rId1"/>
          <a:stretch/>
        </p:blipFill>
        <p:spPr>
          <a:xfrm>
            <a:off x="684360" y="90792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"/>
          <p:cNvSpPr/>
          <p:nvPr/>
        </p:nvSpPr>
        <p:spPr>
          <a:xfrm>
            <a:off x="2787480" y="1557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学习认识平面图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221200" y="2362320"/>
            <a:ext cx="4669920" cy="2958840"/>
            <a:chOff x="2221200" y="2362320"/>
            <a:chExt cx="4669920" cy="2958840"/>
          </a:xfrm>
        </p:grpSpPr>
        <p:grpSp>
          <p:nvGrpSpPr>
            <p:cNvPr id="309" name="Group 5"/>
            <p:cNvGrpSpPr/>
            <p:nvPr/>
          </p:nvGrpSpPr>
          <p:grpSpPr>
            <a:xfrm>
              <a:off x="3686040" y="2895480"/>
              <a:ext cx="1723680" cy="2005200"/>
              <a:chOff x="3686040" y="2895480"/>
              <a:chExt cx="1723680" cy="2005200"/>
            </a:xfrm>
          </p:grpSpPr>
          <p:grpSp>
            <p:nvGrpSpPr>
              <p:cNvPr id="310" name="Group 6"/>
              <p:cNvGrpSpPr/>
              <p:nvPr/>
            </p:nvGrpSpPr>
            <p:grpSpPr>
              <a:xfrm>
                <a:off x="4611600" y="2895480"/>
                <a:ext cx="720" cy="2005200"/>
                <a:chOff x="4611600" y="2895480"/>
                <a:chExt cx="720" cy="20052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4611960" y="3204000"/>
                  <a:ext cx="360" cy="1696680"/>
                  <a:chOff x="4611960" y="3204000"/>
                  <a:chExt cx="360" cy="1696680"/>
                </a:xfrm>
              </p:grpSpPr>
              <p:sp>
                <p:nvSpPr>
                  <p:cNvPr id="312" name="Line 7"/>
                  <p:cNvSpPr/>
                  <p:nvPr/>
                </p:nvSpPr>
                <p:spPr>
                  <a:xfrm>
                    <a:off x="4611960" y="3204000"/>
                    <a:ext cx="0" cy="1696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4611960" y="3204000"/>
                    <a:ext cx="360" cy="169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4611600" y="2895480"/>
                  <a:ext cx="360" cy="617040"/>
                  <a:chOff x="4611600" y="2895480"/>
                  <a:chExt cx="360" cy="617040"/>
                </a:xfrm>
              </p:grpSpPr>
              <p:sp>
                <p:nvSpPr>
                  <p:cNvPr id="315" name="Line 8"/>
                  <p:cNvSpPr/>
                  <p:nvPr/>
                </p:nvSpPr>
                <p:spPr>
                  <a:xfrm flipV="1">
                    <a:off x="4611960" y="2895480"/>
                    <a:ext cx="0" cy="6170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6" name=""/>
                  <p:cNvSpPr txBox="1"/>
                  <p:nvPr/>
                </p:nvSpPr>
                <p:spPr>
                  <a:xfrm rot="10800000">
                    <a:off x="4611600" y="2895480"/>
                    <a:ext cx="360" cy="61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grpSp>
            <p:nvGrpSpPr>
              <p:cNvPr id="317" name="Group 9"/>
              <p:cNvGrpSpPr/>
              <p:nvPr/>
            </p:nvGrpSpPr>
            <p:grpSpPr>
              <a:xfrm>
                <a:off x="3686040" y="3835800"/>
                <a:ext cx="1723680" cy="360"/>
                <a:chOff x="3686040" y="3835800"/>
                <a:chExt cx="1723680" cy="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260600" y="3835800"/>
                  <a:ext cx="1149120" cy="360"/>
                  <a:chOff x="4260600" y="3835800"/>
                  <a:chExt cx="1149120" cy="360"/>
                </a:xfrm>
              </p:grpSpPr>
              <p:sp>
                <p:nvSpPr>
                  <p:cNvPr id="319" name="Line 10"/>
                  <p:cNvSpPr/>
                  <p:nvPr/>
                </p:nvSpPr>
                <p:spPr>
                  <a:xfrm>
                    <a:off x="4260600" y="3835800"/>
                    <a:ext cx="11491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4260600" y="3835800"/>
                    <a:ext cx="1149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3686040" y="3835800"/>
                  <a:ext cx="574560" cy="360"/>
                  <a:chOff x="3686040" y="3835800"/>
                  <a:chExt cx="574560" cy="360"/>
                </a:xfrm>
              </p:grpSpPr>
              <p:sp>
                <p:nvSpPr>
                  <p:cNvPr id="322" name="Line 11"/>
                  <p:cNvSpPr/>
                  <p:nvPr/>
                </p:nvSpPr>
                <p:spPr>
                  <a:xfrm flipH="1">
                    <a:off x="3686040" y="3835800"/>
                    <a:ext cx="57456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3686040" y="3835800"/>
                    <a:ext cx="57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sp>
          <p:nvSpPr>
            <p:cNvPr id="324" name="Text Box 12"/>
            <p:cNvSpPr/>
            <p:nvPr/>
          </p:nvSpPr>
          <p:spPr>
            <a:xfrm>
              <a:off x="4408920" y="236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3a911"/>
                  </a:solidFill>
                  <a:latin typeface="楷体_GB2312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2221200" y="36100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5216760" y="35812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3845160" y="48006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8" name="Text Box 16"/>
          <p:cNvSpPr/>
          <p:nvPr/>
        </p:nvSpPr>
        <p:spPr>
          <a:xfrm>
            <a:off x="2864160" y="3595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a911"/>
                </a:solidFill>
                <a:latin typeface="楷体_GB2312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864760" y="361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a911"/>
                </a:solidFill>
                <a:latin typeface="楷体_GB2312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4485240" y="4881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a911"/>
                </a:solidFill>
                <a:latin typeface="楷体_GB2312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2133720" y="5410080"/>
            <a:ext cx="4952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上北下南，左西右东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03"/>
          <p:cNvPicPr/>
          <p:nvPr/>
        </p:nvPicPr>
        <p:blipFill>
          <a:blip r:embed="rId1"/>
          <a:stretch/>
        </p:blipFill>
        <p:spPr>
          <a:xfrm>
            <a:off x="684360" y="7650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2716200" y="1268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二、学习认识平面图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3014280" y="2708280"/>
            <a:ext cx="4252320" cy="2833920"/>
            <a:chOff x="3014280" y="2708280"/>
            <a:chExt cx="4252320" cy="2833920"/>
          </a:xfrm>
        </p:grpSpPr>
        <p:grpSp>
          <p:nvGrpSpPr>
            <p:cNvPr id="335" name="Group 5"/>
            <p:cNvGrpSpPr/>
            <p:nvPr/>
          </p:nvGrpSpPr>
          <p:grpSpPr>
            <a:xfrm>
              <a:off x="4290840" y="3214080"/>
              <a:ext cx="1483200" cy="1903680"/>
              <a:chOff x="4290840" y="3214080"/>
              <a:chExt cx="1483200" cy="1903680"/>
            </a:xfrm>
          </p:grpSpPr>
          <p:grpSp>
            <p:nvGrpSpPr>
              <p:cNvPr id="336" name="Group 6"/>
              <p:cNvGrpSpPr/>
              <p:nvPr/>
            </p:nvGrpSpPr>
            <p:grpSpPr>
              <a:xfrm>
                <a:off x="5087160" y="3214080"/>
                <a:ext cx="720" cy="1903680"/>
                <a:chOff x="5087160" y="3214080"/>
                <a:chExt cx="720" cy="19036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5087520" y="3507120"/>
                  <a:ext cx="360" cy="1610640"/>
                  <a:chOff x="5087520" y="3507120"/>
                  <a:chExt cx="360" cy="1610640"/>
                </a:xfrm>
              </p:grpSpPr>
              <p:sp>
                <p:nvSpPr>
                  <p:cNvPr id="338" name="Line 7"/>
                  <p:cNvSpPr/>
                  <p:nvPr/>
                </p:nvSpPr>
                <p:spPr>
                  <a:xfrm>
                    <a:off x="5087520" y="3507120"/>
                    <a:ext cx="0" cy="16106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9" name=""/>
                  <p:cNvSpPr txBox="1"/>
                  <p:nvPr/>
                </p:nvSpPr>
                <p:spPr>
                  <a:xfrm>
                    <a:off x="5087520" y="3507120"/>
                    <a:ext cx="360" cy="161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087160" y="3214080"/>
                  <a:ext cx="360" cy="585720"/>
                  <a:chOff x="5087160" y="3214080"/>
                  <a:chExt cx="360" cy="585720"/>
                </a:xfrm>
              </p:grpSpPr>
              <p:sp>
                <p:nvSpPr>
                  <p:cNvPr id="341" name="Line 8"/>
                  <p:cNvSpPr/>
                  <p:nvPr/>
                </p:nvSpPr>
                <p:spPr>
                  <a:xfrm flipV="1">
                    <a:off x="5087520" y="3214080"/>
                    <a:ext cx="0" cy="585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2" name=""/>
                  <p:cNvSpPr txBox="1"/>
                  <p:nvPr/>
                </p:nvSpPr>
                <p:spPr>
                  <a:xfrm rot="10800000">
                    <a:off x="5087160" y="3214080"/>
                    <a:ext cx="360" cy="58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grpSp>
            <p:nvGrpSpPr>
              <p:cNvPr id="343" name="Group 9"/>
              <p:cNvGrpSpPr/>
              <p:nvPr/>
            </p:nvGrpSpPr>
            <p:grpSpPr>
              <a:xfrm>
                <a:off x="4290840" y="4107240"/>
                <a:ext cx="1483200" cy="360"/>
                <a:chOff x="4290840" y="4107240"/>
                <a:chExt cx="1483200" cy="36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4785480" y="4107240"/>
                  <a:ext cx="988560" cy="360"/>
                  <a:chOff x="4785480" y="4107240"/>
                  <a:chExt cx="988560" cy="360"/>
                </a:xfrm>
              </p:grpSpPr>
              <p:sp>
                <p:nvSpPr>
                  <p:cNvPr id="345" name="Line 10"/>
                  <p:cNvSpPr/>
                  <p:nvPr/>
                </p:nvSpPr>
                <p:spPr>
                  <a:xfrm>
                    <a:off x="4785480" y="4107240"/>
                    <a:ext cx="98856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6" name=""/>
                  <p:cNvSpPr txBox="1"/>
                  <p:nvPr/>
                </p:nvSpPr>
                <p:spPr>
                  <a:xfrm>
                    <a:off x="4785480" y="4107240"/>
                    <a:ext cx="988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290840" y="4107240"/>
                  <a:ext cx="494640" cy="360"/>
                  <a:chOff x="4290840" y="4107240"/>
                  <a:chExt cx="494640" cy="360"/>
                </a:xfrm>
              </p:grpSpPr>
              <p:sp>
                <p:nvSpPr>
                  <p:cNvPr id="348" name="Line 11"/>
                  <p:cNvSpPr/>
                  <p:nvPr/>
                </p:nvSpPr>
                <p:spPr>
                  <a:xfrm flipH="1">
                    <a:off x="4290840" y="4107240"/>
                    <a:ext cx="494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9" name=""/>
                  <p:cNvSpPr txBox="1"/>
                  <p:nvPr/>
                </p:nvSpPr>
                <p:spPr>
                  <a:xfrm>
                    <a:off x="4291200" y="4107240"/>
                    <a:ext cx="494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sp>
          <p:nvSpPr>
            <p:cNvPr id="350" name="Text Box 12"/>
            <p:cNvSpPr/>
            <p:nvPr/>
          </p:nvSpPr>
          <p:spPr>
            <a:xfrm>
              <a:off x="4923000" y="2708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楷体_GB2312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014280" y="38926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5592240" y="3865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4411440" y="5021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(     )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54" name="Text Box 16"/>
          <p:cNvSpPr/>
          <p:nvPr/>
        </p:nvSpPr>
        <p:spPr>
          <a:xfrm>
            <a:off x="35658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6227640" y="3933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4932360" y="5084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411280" y="5805360"/>
            <a:ext cx="4953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</a:rPr>
              <a:t>上北下南，左西右东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1116000" y="177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思考：？号处是什么方向？（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同桌交流讨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3059280" y="278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（？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421080" y="50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（？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6157800" y="50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（？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6084720" y="27813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（？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5940360" y="2781360"/>
            <a:ext cx="115272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东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6012000" y="5084640"/>
            <a:ext cx="11523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东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3276720" y="5084640"/>
            <a:ext cx="10792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西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3203640" y="2781360"/>
            <a:ext cx="10080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</a:rPr>
              <a:t>西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02"/>
          <p:cNvPicPr/>
          <p:nvPr/>
        </p:nvPicPr>
        <p:blipFill>
          <a:blip r:embed="rId1"/>
          <a:stretch/>
        </p:blipFill>
        <p:spPr>
          <a:xfrm>
            <a:off x="684360" y="8366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2563920" y="15573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设计游玩路线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9" name="Picture 5" descr="p52-2"/>
          <p:cNvPicPr/>
          <p:nvPr/>
        </p:nvPicPr>
        <p:blipFill>
          <a:blip r:embed="rId2"/>
          <a:stretch/>
        </p:blipFill>
        <p:spPr>
          <a:xfrm>
            <a:off x="755640" y="2708280"/>
            <a:ext cx="4876920" cy="309708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7"/>
          <p:cNvSpPr/>
          <p:nvPr/>
        </p:nvSpPr>
        <p:spPr>
          <a:xfrm>
            <a:off x="4038480" y="1447920"/>
            <a:ext cx="5105520" cy="2590560"/>
          </a:xfrm>
          <a:prstGeom prst="cloudCallout">
            <a:avLst>
              <a:gd name="adj1" fmla="val 6777"/>
              <a:gd name="adj2" fmla="val 87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这两个同学想看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</a:rPr>
              <a:t>熊猫、猴子、狮子和老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我们帮助他们设计一条游览路线，告诉他们应该怎样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1" name="Picture 8" descr="d00"/>
          <p:cNvPicPr/>
          <p:nvPr/>
        </p:nvPicPr>
        <p:blipFill>
          <a:blip r:embed="rId3"/>
          <a:stretch/>
        </p:blipFill>
        <p:spPr>
          <a:xfrm>
            <a:off x="6248520" y="4518000"/>
            <a:ext cx="1981080" cy="19591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1"/>
          <p:cNvSpPr/>
          <p:nvPr/>
        </p:nvSpPr>
        <p:spPr>
          <a:xfrm>
            <a:off x="1692360" y="59500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a911"/>
                </a:solidFill>
                <a:latin typeface="楷体_GB2312"/>
              </a:rPr>
              <a:t>我们从南门进去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02"/>
          <p:cNvPicPr/>
          <p:nvPr/>
        </p:nvPicPr>
        <p:blipFill>
          <a:blip r:embed="rId1"/>
          <a:stretch/>
        </p:blipFill>
        <p:spPr>
          <a:xfrm>
            <a:off x="1042920" y="907920"/>
            <a:ext cx="2435400" cy="6066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2563920" y="1484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设计游玩路线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5" name="Picture 6" descr="p52-1"/>
          <p:cNvPicPr/>
          <p:nvPr/>
        </p:nvPicPr>
        <p:blipFill>
          <a:blip r:embed="rId2"/>
          <a:stretch/>
        </p:blipFill>
        <p:spPr>
          <a:xfrm>
            <a:off x="1187280" y="2133720"/>
            <a:ext cx="6913800" cy="4248000"/>
          </a:xfrm>
          <a:prstGeom prst="rect">
            <a:avLst/>
          </a:prstGeom>
          <a:ln w="0">
            <a:noFill/>
          </a:ln>
        </p:spPr>
      </p:pic>
      <p:sp>
        <p:nvSpPr>
          <p:cNvPr id="3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b9b6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7b9b63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1683720" y="1763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画学校的平面图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4067640" y="2681280"/>
            <a:ext cx="10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说说平面图上的方向是怎样表示的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295280" y="3657600"/>
            <a:ext cx="695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如果要把一些建筑物、花园等在平面图　  上表示出来可以采取什么方法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1"/>
          <p:cNvGrpSpPr/>
          <p:nvPr/>
        </p:nvGrpSpPr>
        <p:grpSpPr>
          <a:xfrm>
            <a:off x="3089160" y="1741320"/>
            <a:ext cx="5333760" cy="4114800"/>
            <a:chOff x="3089160" y="1741320"/>
            <a:chExt cx="5333760" cy="4114800"/>
          </a:xfrm>
        </p:grpSpPr>
        <p:sp>
          <p:nvSpPr>
            <p:cNvPr id="383" name="AutoShape 13"/>
            <p:cNvSpPr/>
            <p:nvPr/>
          </p:nvSpPr>
          <p:spPr>
            <a:xfrm>
              <a:off x="3089160" y="1741320"/>
              <a:ext cx="5333760" cy="411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4254120" y="189396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画平面图的基本的方法和步骤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85" name="Text Box 15">
            <a:hlinkClick r:id="rId2"/>
          </p:cNvPr>
          <p:cNvSpPr/>
          <p:nvPr/>
        </p:nvSpPr>
        <p:spPr>
          <a:xfrm>
            <a:off x="4661640" y="2514600"/>
            <a:ext cx="24973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a911"/>
                </a:solidFill>
                <a:latin typeface="楷体_GB2312"/>
              </a:rPr>
              <a:t>第一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：辨认校园实际的东西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北方向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Text Box 16">
            <a:hlinkClick r:id="rId3"/>
          </p:cNvPr>
          <p:cNvSpPr/>
          <p:nvPr/>
        </p:nvSpPr>
        <p:spPr>
          <a:xfrm>
            <a:off x="4702320" y="3486240"/>
            <a:ext cx="27410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a911"/>
                </a:solidFill>
                <a:latin typeface="楷体_GB2312"/>
              </a:rPr>
              <a:t>第二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：确定校园内主要景物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相对位置，并做好记录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7" name="Text Box 17">
            <a:hlinkClick r:id="rId4"/>
          </p:cNvPr>
          <p:cNvSpPr/>
          <p:nvPr/>
        </p:nvSpPr>
        <p:spPr>
          <a:xfrm>
            <a:off x="4138920" y="4476600"/>
            <a:ext cx="3545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a911"/>
                </a:solidFill>
                <a:latin typeface="楷体_GB2312"/>
              </a:rPr>
              <a:t>第三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：把用符号代表的实际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物画在平面图的相应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置上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8" name="Picture 20" descr="小博士"/>
          <p:cNvPicPr/>
          <p:nvPr/>
        </p:nvPicPr>
        <p:blipFill>
          <a:blip r:embed="rId5"/>
          <a:stretch/>
        </p:blipFill>
        <p:spPr>
          <a:xfrm>
            <a:off x="914400" y="3951360"/>
            <a:ext cx="15778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BCF8-A3F9-49ED-90E1-F9EE7178D1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韵动中黑简体"/>
              </a:rPr>
              <a:t>画画学校的平面图</a:t>
            </a:r>
            <a:endParaRPr b="0" lang="en-US" sz="2800" spc="-1" strike="noStrike">
              <a:solidFill>
                <a:srgbClr val="ffffff"/>
              </a:solidFill>
              <a:latin typeface="方正韵动中黑简体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老师画的学校平面图（老师读小学的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画出自己学校的平面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>
            <a:hlinkClick r:id="" action="ppaction://hlinkshowjump?jump=nextslide"/>
          </p:cNvPr>
          <p:cNvSpPr/>
          <p:nvPr/>
        </p:nvSpPr>
        <p:spPr>
          <a:xfrm>
            <a:off x="3817800" y="2286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你在哪些地方看过平面图？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6" name="Picture 4" descr="r05"/>
          <p:cNvPicPr/>
          <p:nvPr/>
        </p:nvPicPr>
        <p:blipFill>
          <a:blip r:embed="rId2"/>
          <a:stretch/>
        </p:blipFill>
        <p:spPr>
          <a:xfrm>
            <a:off x="1828800" y="2895480"/>
            <a:ext cx="1641600" cy="27432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3492360" y="357336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商店 医院 公园 学校 居民小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694160" y="17161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0" name="Picture 4" descr="佛山市中医院平面图"/>
          <p:cNvPicPr/>
          <p:nvPr/>
        </p:nvPicPr>
        <p:blipFill>
          <a:blip r:embed="rId2"/>
          <a:stretch/>
        </p:blipFill>
        <p:spPr>
          <a:xfrm>
            <a:off x="2050920" y="2266920"/>
            <a:ext cx="4572000" cy="42703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934320" y="2438280"/>
            <a:ext cx="61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佛山市中医院平面图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693800" y="17161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4" name="Picture 4" descr="武汉图书馆第一层平面布置图"/>
          <p:cNvPicPr/>
          <p:nvPr/>
        </p:nvPicPr>
        <p:blipFill>
          <a:blip r:embed="rId2"/>
          <a:stretch/>
        </p:blipFill>
        <p:spPr>
          <a:xfrm>
            <a:off x="1600200" y="2286000"/>
            <a:ext cx="56386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>
            <a:off x="2689200" y="30686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1693800" y="17161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8" name="Picture 7" descr="6106379_143415377307_2"/>
          <p:cNvPicPr/>
          <p:nvPr/>
        </p:nvPicPr>
        <p:blipFill>
          <a:blip r:embed="rId2"/>
          <a:stretch/>
        </p:blipFill>
        <p:spPr>
          <a:xfrm>
            <a:off x="1187280" y="2492280"/>
            <a:ext cx="737712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03"/>
          <p:cNvPicPr/>
          <p:nvPr/>
        </p:nvPicPr>
        <p:blipFill>
          <a:blip r:embed="rId1"/>
          <a:stretch/>
        </p:blipFill>
        <p:spPr>
          <a:xfrm>
            <a:off x="611280" y="476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1639800" y="134136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1" name="Picture 4" descr="北京工人体育场"/>
          <p:cNvPicPr/>
          <p:nvPr/>
        </p:nvPicPr>
        <p:blipFill>
          <a:blip r:embed="rId2"/>
          <a:stretch/>
        </p:blipFill>
        <p:spPr>
          <a:xfrm>
            <a:off x="1619280" y="2286000"/>
            <a:ext cx="6192720" cy="3807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9143561_175059245385_2"/>
          <p:cNvPicPr/>
          <p:nvPr/>
        </p:nvPicPr>
        <p:blipFill>
          <a:blip r:embed="rId3"/>
          <a:stretch/>
        </p:blipFill>
        <p:spPr>
          <a:xfrm>
            <a:off x="1042920" y="1989000"/>
            <a:ext cx="7416720" cy="439272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8199"/>
          <p:cNvSpPr/>
          <p:nvPr/>
        </p:nvSpPr>
        <p:spPr>
          <a:xfrm>
            <a:off x="1619280" y="1116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b9b63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7b9b63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03"/>
          <p:cNvPicPr/>
          <p:nvPr/>
        </p:nvPicPr>
        <p:blipFill>
          <a:blip r:embed="rId1"/>
          <a:stretch/>
        </p:blipFill>
        <p:spPr>
          <a:xfrm>
            <a:off x="611280" y="7650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1568160" y="141300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6" name="Picture 4" descr="四川专用足球场"/>
          <p:cNvPicPr/>
          <p:nvPr/>
        </p:nvPicPr>
        <p:blipFill>
          <a:blip r:embed="rId2"/>
          <a:stretch/>
        </p:blipFill>
        <p:spPr>
          <a:xfrm>
            <a:off x="1476360" y="1989000"/>
            <a:ext cx="6767640" cy="46404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3635280" y="6165720"/>
            <a:ext cx="2521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64000" y="587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山东省体育中心体育场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1693800" y="17161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1" name="Picture 8" descr="110711103830238"/>
          <p:cNvPicPr/>
          <p:nvPr/>
        </p:nvPicPr>
        <p:blipFill>
          <a:blip r:embed="rId2"/>
          <a:stretch/>
        </p:blipFill>
        <p:spPr>
          <a:xfrm>
            <a:off x="1476360" y="2349360"/>
            <a:ext cx="68580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1693800" y="17161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生活中的平面图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8101440" y="414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家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5" name="Picture 15" descr="家"/>
          <p:cNvPicPr/>
          <p:nvPr/>
        </p:nvPicPr>
        <p:blipFill>
          <a:blip r:embed="rId2"/>
          <a:stretch/>
        </p:blipFill>
        <p:spPr>
          <a:xfrm>
            <a:off x="1476360" y="2384280"/>
            <a:ext cx="590400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8:25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8:16Z</dcterms:modified>
  <cp:revision>69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