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A94-AC62-4E50-BF8A-4B43E3E1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FDB-D442-478E-AA5C-C66E3F7C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340-2479-46BB-AB9C-88FFEDC9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55E-7904-46FF-9459-0C6BBEC3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FD21-D099-4187-B88C-C9A3638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2EC-E4F5-4B5C-A1D8-2CA8FC7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0C1-EDBE-4ABF-8006-19BDFB4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7A25-A91E-42D1-8350-49711E69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8173-FA64-4890-B18B-6BC3E281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AA2A-03A5-4F03-8598-5B81C0B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3DB5-93D3-4F1D-9B94-2839833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963-5609-46A3-8D4F-647D513F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EBD1-38EB-4295-AD51-A539F5E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D28B-3B2E-4A7C-B36B-1FED51C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2070-BA8F-4701-B484-C5BDB95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5D27-71BB-467C-B012-12554EB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D4E-A41A-49F5-9FE8-DD643B42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9FEE-4AA9-4138-B0FF-4B6C439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6E3A-0E3C-472D-9312-439EE94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1D79-F5A2-4F44-AF1A-E086BEC5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C7D5-8B42-4E5A-A8E5-C2D80DA0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4021-7FF9-4C67-B540-F26B2C8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9CF-B597-44AC-B9D2-342EC5D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CD3D-118D-4023-BD85-0FCC493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0D65-F68B-414B-B10C-B4B1208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6D7D-07C4-4D00-B1AC-B334F54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9BBB-8A8D-4A26-910D-179E3B0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DAC8-BA47-4678-9976-4DFAAD4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7740-FE9C-4F00-92BA-857B44CA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84A2-0298-4234-B66F-4FCBACBF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4A8F-2439-4988-8A0F-8EB2613D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C1B8-D9BE-4870-9AA7-7143EA3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17FF-C989-43FE-A9C3-3AE33C68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E40-5475-4DC3-872A-45F2B3D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FBED-F265-45F8-9BA6-FD61972C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0BD52-1328-4EB8-A2E2-E39156A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B294-B438-4AF8-817D-865B97C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A226-0465-4286-9C22-5212060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43D9-B3AB-405F-BC18-2B4638E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34EB-42E6-41E9-ABB4-2BCF6E2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D224-5FF2-405D-BF60-01FF524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7F47-B4DB-404A-BB85-035908AB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E376-5947-4E63-9DBA-EED4A692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76AD-5B78-46FD-BD2B-B16C5183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ADA-D32C-452C-8BAB-529D6D4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9815-79FF-40A3-9DB8-E3DB34C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7F0B8-3A24-4DF9-930F-5B1B5B4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648E-0435-462E-BEDD-B864A31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F890-FAD5-45A7-A355-537F14C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422A-A4BE-4893-AECB-44F106E9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A8A0-5DDF-44C3-9931-E13B133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F2E1-BF0E-498C-9A9C-6609788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C2CC-BAD4-452C-8801-580798C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D442-1915-405F-A308-CA55B01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676D2-60A9-4905-9BA6-F1BB910A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31A-4146-4D83-B2C1-4BA8A7B8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21E3-7FA6-439B-98BD-6877644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F5F5-21D7-46CA-9DCF-81FAE1F1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C03AF-5496-4623-8745-8B49895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15E7-A7BE-44A6-A635-89D5C63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84BD-82E4-4B91-8DE5-F9D69D2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91D8-E85B-4CB5-8A28-9D382543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C439-390A-4437-9B17-2D2EFD04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8602-B35F-4260-B520-51CA317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9A6A-F1CA-4251-BFCF-CA6EB1C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F45D-9C52-435E-A0A0-32CC68A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C73-7E5B-41E4-AC14-F6A1309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7C9B-745F-47A5-9DE3-3153A757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8795-0B9D-458B-8316-4F90D893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4694-FD62-42E0-AF8D-D6277813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8411-1240-4740-831F-E8A4F240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154D3-1333-4A9E-9F32-D28F1A15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96AD-8E99-42A1-BFE9-007A719D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B40D-E9F4-4314-AA61-2550638A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6E06-44BB-4F54-BFE1-706B106F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F1A4-567A-4E03-BABD-8B5CF238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628B3-A908-4205-BD71-F681F3A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E32-2666-48B5-AED1-1BDD33F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5C07-D033-4F86-A52D-E498A9A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D47B9-CC2A-4982-AF1E-AE5123E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5298-D79A-4920-A6A2-BC3AA3B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9FB5-C016-468D-9DA5-C2A7792A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A7D91-678C-4E02-AE41-5DFA0C58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B88-10DB-4451-A100-C9254A6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296-7F03-4DC8-8947-3B3A7F884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EA84-A513-4D50-843C-B6BD72E2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34ED-3BA7-4FD0-9B43-8B610781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FAAA-5E69-4C2F-BFBA-CD4202ACB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0C9-32D5-49F5-B3DC-304463F8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B9A3-241A-4E43-80D4-99F73DF0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F185-B5C6-4C9C-9A15-E72D5FBC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900000" y="7650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隶书"/>
                <a:ea typeface="华文隶书"/>
              </a:rPr>
              <a:t>第一单元   沉和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684360" y="213372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橡皮泥在水中的沉浮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-214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四、测量比较橡皮泥排开的水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        </a:t>
            </a: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262673"/>
                </a:solidFill>
                <a:latin typeface="Arial"/>
              </a:rPr>
              <a:t>、对同一块被研究的橡皮泥来说，它的重量是不会改变的，改变的因素可能是它浸入水中的体积。那么怎样测量橡皮泥浸入水中的体积呢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        </a:t>
            </a: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262673"/>
                </a:solidFill>
                <a:latin typeface="Arial"/>
              </a:rPr>
              <a:t>、书第</a:t>
            </a: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8</a:t>
            </a:r>
            <a:r>
              <a:rPr b="1" lang="zh-CN" sz="3400" spc="-1" strike="noStrike">
                <a:solidFill>
                  <a:srgbClr val="262673"/>
                </a:solidFill>
                <a:latin typeface="Arial"/>
              </a:rPr>
              <a:t>页给我们提出了测量橡皮泥浸入水中排开水量的方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        </a:t>
            </a:r>
            <a:r>
              <a:rPr b="1" lang="en-US" sz="34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262673"/>
                </a:solidFill>
                <a:latin typeface="Arial"/>
              </a:rPr>
              <a:t>、</a:t>
            </a:r>
            <a:r>
              <a:rPr b="1" lang="zh-CN" sz="3400" spc="-1" strike="noStrike">
                <a:solidFill>
                  <a:srgbClr val="cc6600"/>
                </a:solidFill>
                <a:latin typeface="Arial"/>
              </a:rPr>
              <a:t>具体操作方法：</a:t>
            </a:r>
            <a:r>
              <a:rPr b="1" lang="zh-CN" sz="3400" spc="-1" strike="noStrike">
                <a:solidFill>
                  <a:srgbClr val="262673"/>
                </a:solidFill>
                <a:latin typeface="Arial"/>
              </a:rPr>
              <a:t>仍然使用有刻度的水杯，先观察水杯中原先的水位，再观察放入形状改变后的橡皮泥使水面上升的新水位。用新的水位减去原先的水位，得到的数值就是橡皮泥排开水的体积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已录下的2020.WAV" descr=""/>
          <p:cNvPicPr/>
          <p:nvPr/>
        </p:nvPicPr>
        <p:blipFill>
          <a:blip r:embed="rId1"/>
          <a:stretch/>
        </p:blipFill>
        <p:spPr>
          <a:xfrm>
            <a:off x="1143000" y="392904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35129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1" descr=""/>
          <p:cNvPicPr/>
          <p:nvPr/>
        </p:nvPicPr>
        <p:blipFill>
          <a:blip r:embed="rId1"/>
          <a:stretch/>
        </p:blipFill>
        <p:spPr>
          <a:xfrm>
            <a:off x="-244440" y="1350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1767240" y="2858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我们把物体在水中排开水的体积叫做排开的水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-357480" y="213840"/>
            <a:ext cx="92869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排开的水量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跟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物体本身的体积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是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同等的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。所以我们只要测量出物体排开的水量就知道该物体的体积是多大。平常我们所说的排水量则指的是物体排开水的重量，跟排开的水量是不同的两个概念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300" spc="-1" strike="noStrike">
                <a:solidFill>
                  <a:srgbClr val="cc6600"/>
                </a:solidFill>
                <a:latin typeface="Arial"/>
              </a:rPr>
              <a:t>学生操作：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把橡皮泥做成不同形状，有实心的，也有空心的，分别放入刻度杯中，观察水面指示的刻度，并把它们排开的水量记录在书第</a:t>
            </a: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8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页表格中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</a:rPr>
              <a:t>特别提示</a:t>
            </a:r>
            <a:r>
              <a:rPr b="1" lang="zh-CN" sz="3300" spc="-1" strike="noStrike">
                <a:solidFill>
                  <a:srgbClr val="008080"/>
                </a:solidFill>
                <a:latin typeface="Arial"/>
              </a:rPr>
              <a:t>：在测空心橡皮泥排开的水量时，要轻轻把它往水下按，当按到水即将进入空心橡皮泥时，才能记录它的水面指示刻度</a:t>
            </a:r>
            <a:r>
              <a:rPr b="1" lang="en-US" sz="33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已录下的2035.WAV" descr=""/>
          <p:cNvPicPr/>
          <p:nvPr/>
        </p:nvPicPr>
        <p:blipFill>
          <a:blip r:embed="rId1"/>
          <a:stretch/>
        </p:blipFill>
        <p:spPr>
          <a:xfrm>
            <a:off x="-123840" y="2332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317" name="已录下的2051.WAV" descr=""/>
          <p:cNvPicPr/>
          <p:nvPr/>
        </p:nvPicPr>
        <p:blipFill>
          <a:blip r:embed="rId2"/>
          <a:stretch/>
        </p:blipFill>
        <p:spPr>
          <a:xfrm>
            <a:off x="0" y="292896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32640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0960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-360" y="21420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橡皮泥排开的水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5840" y="1000080"/>
          <a:ext cx="8643960" cy="5759280"/>
        </p:xfrm>
        <a:graphic>
          <a:graphicData uri="http://schemas.openxmlformats.org/drawingml/2006/table">
            <a:tbl>
              <a:tblPr/>
              <a:tblGrid>
                <a:gridCol w="1728720"/>
                <a:gridCol w="2113200"/>
                <a:gridCol w="1698480"/>
                <a:gridCol w="2143080"/>
                <a:gridCol w="96048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橡皮泥的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量杯里的水量（毫升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放入后水面刻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排开的总水量（毫升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沉浮状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实心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沉的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能浮的形状 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7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能浮的形状 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能浮的形状 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33"/>
                          </a:solidFill>
                          <a:latin typeface="微软雅黑"/>
                          <a:ea typeface="微软雅黑"/>
                        </a:rPr>
                        <a:t>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-214200" y="213840"/>
            <a:ext cx="8929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、整理我们的数据，分析讨论，你发现了什么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我们发现：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实心团和沉的形状这两种橡皮泥排开的水量是相同的；其他三种形状的空心橡皮泥排开的水量也相同。通过比较我们发现：沉的形状排开的水量小，即浸入水中的体积小；浮的形状排开的水量大，即浸入水中的体积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橡皮泥能够浮起来的真正原因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重量不变的情况下，排开的水量增大了。即浸入水中的体积增大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1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-428760" y="1214280"/>
            <a:ext cx="95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14200" y="6429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  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557360" y="185724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沉的形状：排开的水量小，（浸入水的体积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557360" y="300024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浮的形状：排开的水量大，（浸入水的体积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8199"/>
          <p:cNvSpPr/>
          <p:nvPr/>
        </p:nvSpPr>
        <p:spPr>
          <a:xfrm>
            <a:off x="1839960" y="830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>
            <a:off x="-468360" y="2128680"/>
            <a:ext cx="5440320" cy="5081760"/>
          </a:xfrm>
          <a:prstGeom prst="rect">
            <a:avLst/>
          </a:prstGeom>
          <a:ln w="0">
            <a:noFill/>
          </a:ln>
        </p:spPr>
      </p:pic>
      <p:sp>
        <p:nvSpPr>
          <p:cNvPr id="327" name="矩形 3"/>
          <p:cNvSpPr/>
          <p:nvPr/>
        </p:nvSpPr>
        <p:spPr>
          <a:xfrm>
            <a:off x="-357120" y="214200"/>
            <a:ext cx="3857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请你们解释钢铁制造的轮船，为什么能够浮在水面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"/>
          <p:cNvSpPr/>
          <p:nvPr/>
        </p:nvSpPr>
        <p:spPr>
          <a:xfrm>
            <a:off x="3929040" y="4357800"/>
            <a:ext cx="5214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钢铁制造的轮船，其形状会使轮船排开的水量变得很大，大大增加轮船排开的水的体积。因此就能浮在水中。所以，船排开的水量越大，就越容易浮在水面上，装载的货物也就越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1" descr=""/>
          <p:cNvPicPr/>
          <p:nvPr/>
        </p:nvPicPr>
        <p:blipFill>
          <a:blip r:embed="rId2"/>
          <a:stretch/>
        </p:blipFill>
        <p:spPr>
          <a:xfrm>
            <a:off x="3900600" y="6480"/>
            <a:ext cx="522108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E664-2D8F-4C83-B11F-448C03E8D4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-214560" y="214200"/>
            <a:ext cx="89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识要点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、沉浮变化的基本原因：改变物体排开的水量，物体在水中的沉浮就可能发现改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、钢铁制造的船能够浮在水面上，原因在于它排开的水       量很大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-360" y="14292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、复习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、我们在上节课已经研究了物体沉浮的规律：在体积不变的情况下，改变物体的重量就能够改变物体在水中的沉浮状态；在重量不变的情况下，改变物体的体积大小就能够改变物体在水中的沉 浮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、这节课我们以橡皮泥作为研究对象，想办法要让橡皮泥在水中浮起来，以此探索其中的原因，以便帮助我们理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用钢铁制造的轮船为什么能够浮在水面上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内容占位符 3" descr="1301D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4"/>
          <p:cNvSpPr/>
          <p:nvPr/>
        </p:nvSpPr>
        <p:spPr>
          <a:xfrm>
            <a:off x="-214200" y="214200"/>
            <a:ext cx="90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二、观察实心橡皮泥的沉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、同学们提前都准备了一块橡皮泥，请把它放入水中，观察它的沉浮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、现在把它做成各种不同的实心形状，再放入水中，观察它的沉浮状态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内容占位符 3" descr="1302D.JPG"/>
          <p:cNvPicPr/>
          <p:nvPr/>
        </p:nvPicPr>
        <p:blipFill>
          <a:blip r:embed="rId1"/>
          <a:stretch/>
        </p:blipFill>
        <p:spPr>
          <a:xfrm>
            <a:off x="-714240" y="3143160"/>
            <a:ext cx="5643360" cy="4143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暴风截屏20100228151456"/>
          <p:cNvPicPr/>
          <p:nvPr/>
        </p:nvPicPr>
        <p:blipFill>
          <a:blip r:embed="rId2"/>
          <a:stretch/>
        </p:blipFill>
        <p:spPr>
          <a:xfrm>
            <a:off x="4429080" y="3143160"/>
            <a:ext cx="4714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1" descr=""/>
          <p:cNvPicPr/>
          <p:nvPr/>
        </p:nvPicPr>
        <p:blipFill>
          <a:blip r:embed="rId1"/>
          <a:stretch/>
        </p:blipFill>
        <p:spPr>
          <a:xfrm>
            <a:off x="-324000" y="11592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1"/>
          <p:cNvSpPr/>
          <p:nvPr/>
        </p:nvSpPr>
        <p:spPr>
          <a:xfrm>
            <a:off x="0" y="428760"/>
            <a:ext cx="878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  考：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你们手中的这块橡皮泥，当改变它的形状，变成不同形状的实心橡皮泥时，它的重量改变了吗？你认为改变形状能不能影响橡皮泥的重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继续思考：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你们手中的这块橡皮泥，当变成不同形状的实心橡皮泥时，它的体积改变了吗？我们如何比较不同形状的实心橡皮泥体积的大小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-429120" y="213840"/>
            <a:ext cx="95727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检测方法：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把不同形状的实心橡皮泥放入装有水的刻度杯中，就能测出不同形状的橡皮泥体积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具体操作：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先观察水杯中原先的水位，再观察放入形状改变后的橡皮泥使水面上升的新水位。比较前后水位的差别数值，当每次改变形状后，这个差别数值是否发生改变。</a:t>
            </a:r>
            <a:r>
              <a:rPr b="1" lang="zh-CN" sz="3200" spc="-1" strike="noStrike" u="sng">
                <a:solidFill>
                  <a:srgbClr val="008080"/>
                </a:solidFill>
                <a:uFillTx/>
                <a:latin typeface="Arial"/>
              </a:rPr>
              <a:t>特别提示：观察刻度时视线要与水面持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学生操作：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比较不同形状的实心橡皮泥在水杯中水位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实验结果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我们改变实心橡皮泥的形状，它的重量没变，体积大小也没有变，它的沉浮状况也不会发生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199"/>
          <p:cNvSpPr/>
          <p:nvPr/>
        </p:nvSpPr>
        <p:spPr>
          <a:xfrm>
            <a:off x="2178000" y="1319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"/>
                            </p:stCondLst>
                            <p:childTnLst>
                              <p:par>
                                <p:cTn id="1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" descr=""/>
          <p:cNvPicPr/>
          <p:nvPr/>
        </p:nvPicPr>
        <p:blipFill>
          <a:blip r:embed="rId1"/>
          <a:stretch/>
        </p:blipFill>
        <p:spPr>
          <a:xfrm>
            <a:off x="-252360" y="1471680"/>
            <a:ext cx="3027240" cy="39416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851840" y="2142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否有办法改变橡皮泥的形状，使它浮在水面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" descr=""/>
          <p:cNvPicPr/>
          <p:nvPr/>
        </p:nvPicPr>
        <p:blipFill>
          <a:blip r:embed="rId2"/>
          <a:stretch/>
        </p:blipFill>
        <p:spPr>
          <a:xfrm>
            <a:off x="2916360" y="274680"/>
            <a:ext cx="2914560" cy="36720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3" descr=""/>
          <p:cNvPicPr/>
          <p:nvPr/>
        </p:nvPicPr>
        <p:blipFill>
          <a:blip r:embed="rId3"/>
          <a:stretch/>
        </p:blipFill>
        <p:spPr>
          <a:xfrm>
            <a:off x="2384280" y="3998880"/>
            <a:ext cx="3581640" cy="31622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4"/>
          <a:stretch/>
        </p:blipFill>
        <p:spPr>
          <a:xfrm>
            <a:off x="5965920" y="1557360"/>
            <a:ext cx="31496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-285840" y="642600"/>
            <a:ext cx="94298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ts val="47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三、让橡皮泥浮在水面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47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、 你发现让橡皮泥浮在水面上共同特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47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做成空心的或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47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、不能浮的橡皮泥形状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47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、同一块橡皮泥，改变形状后，为什么有的能够浮在水面上？是什么原因使橡皮泥浮起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6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