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D78-6658-4DDC-B15D-451E3ACB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D4D-2F39-4221-BC88-01A0107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7B0-9CC2-43C3-9075-34EABC43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2B5-7E1F-4073-A600-D646B343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B603-6A43-44E0-BA54-8F249506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B5F9-F3B1-44A1-A5F5-F59D0308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A489-348C-475D-BB39-72E361D8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773D-60C1-4DFD-88EB-FEA16EF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4CCF-0D0C-4513-86A1-D3AF6559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6FFB-A799-48CC-A6A1-C29C2EE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DCE7-8429-41B5-A0CF-B603C84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5DF-7EA7-410B-AF05-76DE8F8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3F9C-5E4D-4AEF-A0C9-A6DA1FC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3718-2727-472A-9BF0-C1E4724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94EB-FDB8-4800-AECB-56B254A1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BFD6-C9EF-43E9-8F2F-7F48453D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3CCA-7D89-416D-AEF5-C5890CFD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664-D5D1-407A-9943-3B9573B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FD0-BA64-468B-BD45-8EC1A0A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5EA-13E4-4D42-937C-5417B37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C5A-E5FA-49ED-91C0-B7716F1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DE0-7588-41CB-B370-57646AA0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06B-CAAE-4006-BCCD-7476AFD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D32-D385-49A6-AFF9-C5F4BF9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23E-10FA-4E75-BF0F-80D1EBB6D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D668-8C3E-401D-BF38-EBEBD91BF4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水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511280" y="14508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小石潭记语文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38560" y="35496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柳 宗 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倒影"/>
          <p:cNvPicPr/>
          <p:nvPr/>
        </p:nvPicPr>
        <p:blipFill>
          <a:blip r:embed="rId1"/>
          <a:stretch/>
        </p:blipFill>
        <p:spPr>
          <a:xfrm>
            <a:off x="2819520" y="533520"/>
            <a:ext cx="5257800" cy="5943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"/>
          <p:cNvSpPr/>
          <p:nvPr/>
        </p:nvSpPr>
        <p:spPr>
          <a:xfrm>
            <a:off x="533520" y="3049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110440" y="0"/>
            <a:ext cx="10335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文章前面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心乐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后面又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悄怆幽邃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一乐一忧似难相容，该如何理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39480" y="0"/>
            <a:ext cx="6069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乐是忧的另一种形式。柳宗元参与改革，失败被贬，心中愤懑难平，因而凄苦是他感情的主调，而寄情山水正是为了摆脱这种抑郁的心情；但这种欢乐毕竟是暂时的，一经凄清环境的触发，忧伤悲凉的心情又会流露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7517-0E25-4934-B355-70CF396526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80880" y="1066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作者善于用细致入微的描绘、比喻、拟人等手法融情于景，使全文充满诗情画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419112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生动写出了小石环境景物的幽美和静穆，抒发了作者贬官失意后的孤凄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31080" y="3352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隶书"/>
              </a:rPr>
              <a:t>主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33320" y="380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写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9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水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4"/>
          <p:cNvSpPr txBox="1"/>
          <p:nvPr/>
        </p:nvSpPr>
        <p:spPr>
          <a:xfrm>
            <a:off x="398520" y="1125360"/>
            <a:ext cx="2971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检查预习：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434880" y="21337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初步感受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4880" y="33735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听录音，想象画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76560" y="4267080"/>
            <a:ext cx="52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假设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TV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该用什么音乐，拍什么画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2120" y="1066680"/>
            <a:ext cx="30477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全石以为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潭中鱼可百许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凄神寒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419720" y="990720"/>
            <a:ext cx="4343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（潭）以整块石头为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潭中的鱼大约有百多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感到心神凄凉，寒气透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石潭.MPG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433440" y="49320"/>
            <a:ext cx="45720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60520" y="476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回答，先用文言，再用白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2819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找出描写小石潭全貌的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" y="3962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作者是怎样写潭水的？水中的鱼又怎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51814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小石潭上的景物是怎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5800" y="1752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作者是怎样发现小石潭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049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找出描写小石潭全貌的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55640" y="1773360"/>
            <a:ext cx="81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尤清洌。全石以为底，近岸，卷石以出，为坻，为屿，为堪，为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34290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95280" y="2924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作者是怎样写潭水的？水中的鱼又怎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55640" y="33577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见小潭，水尤清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中鱼可百许头，皆若空游无所依。日光下澈，影布石上，诒然不动；  尔远逝，往来翕忽。似与游者相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4941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小石潭上的景物是怎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04920" y="6400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55640" y="544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树翠蔓，蒙络摇缀，参差披拂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面竹树环合，寂寥无人，凄神寒骨，悄怆幽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4360" y="47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隔篁竹，闻水声，如鸣佩环，心乐之，伐竹取道，下见小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9528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作者是怎样发现小石潭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8194"/>
          <p:cNvSpPr/>
          <p:nvPr/>
        </p:nvSpPr>
        <p:spPr>
          <a:xfrm>
            <a:off x="1476360" y="256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517680" y="70632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四个字归纳所游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45640" y="1925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小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45640" y="276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中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69320" y="3830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潭源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69320" y="489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中气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WordArt 7"/>
          <p:cNvSpPr txBox="1"/>
          <p:nvPr/>
        </p:nvSpPr>
        <p:spPr>
          <a:xfrm rot="5400000">
            <a:off x="5028840" y="3200400"/>
            <a:ext cx="59436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按游览顺序写景，条理清楚。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380880" y="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习写景抒情方法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5656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小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56560" y="175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中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80240" y="2819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潭源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8024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中气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52480" y="60948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隔    闻    伐     取     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81436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僻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312280" y="13161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篁竹    水声    潭水    树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994000" y="129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幽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7266960" y="83808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步换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8582760" y="78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80880" y="45720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归纳学习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了什么景？写出了什么特征？用什么写法？渗透了什么感情？特别的写法吗？背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自学讨论第二至四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380880" y="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讨论学习后三段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4552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发现小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4552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潭中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5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潭源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45520" y="495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潭中气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523880" y="60948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隔    闻    伐     取     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122440" y="60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荒僻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994760" y="13716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篁竹    水声    潭水    树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381280" y="137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幽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498720" y="99072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移步换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581320" y="78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847880" y="220968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游鱼      然不动       尔远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水    游鱼     阳光    影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30496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清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574680" y="2209680"/>
            <a:ext cx="912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静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面写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8013600" y="1755720"/>
            <a:ext cx="54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特写镜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8655120" y="2286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584360" y="337356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溪身：斗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岩势：犬牙差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122440" y="33526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曲折蜿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参差不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6651000" y="3352680"/>
            <a:ext cx="912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静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形象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1906200" y="489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竹树环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5182560" y="482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幽深冷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727320" y="480060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寓情于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240840" y="579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记同游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8061480" y="482112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凄神寒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8194"/>
          <p:cNvSpPr/>
          <p:nvPr/>
        </p:nvSpPr>
        <p:spPr>
          <a:xfrm>
            <a:off x="828720" y="306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5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5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