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27.jpeg" ContentType="image/jpeg"/>
  <Override PartName="/ppt/media/image17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C09-974F-49E3-A817-16EE87D9B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B44-F3E6-4D51-8510-FF3A9F8D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ACF-E434-468D-9514-00B2E8C5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36D-C90C-4E3D-8291-2520AD36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3A66-B738-4F0B-AB81-355020BB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F988-DD87-4810-9270-ED7C198F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8F493-BD3B-4D2F-9A1C-9B3FC4B5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1D92-4923-4AF9-91B5-CB94172A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7228-ED5D-4352-922D-77DCCD7B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4081-1C38-4316-98C3-8DACAF4F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5AE5-DC62-4EC3-B93A-ABC49A73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884-968D-469A-969C-957F0FE9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7DB4-5A35-423B-B8AD-1272BC8D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BEE3-C958-4F6B-9778-91FBAD08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D2E6C-3942-44C1-A57B-2FF8629F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36B9-F6BE-4A66-A26E-1A151090E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2DCA0-2AB9-4EEB-935A-1937571E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10D-A2E3-457D-9823-FE0F2B4F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FBB-3B10-4ABA-BC4E-B05ECBA7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0AFF-A335-4A29-AABA-C17AAD3A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DD2-CCC1-4DEA-881B-1B8355ED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9D8-A0DA-4672-86E2-A9427AA5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412A-0190-4CA9-9494-5BCF46F7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8BC-7B03-4AB2-9BE6-54147D63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3552-5464-4301-8D77-B17A8A3629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60D9-6960-4BB8-BD38-5EC7747720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图片1"/>
          <p:cNvPicPr/>
          <p:nvPr/>
        </p:nvPicPr>
        <p:blipFill>
          <a:blip r:embed="rId2"/>
          <a:stretch/>
        </p:blipFill>
        <p:spPr>
          <a:xfrm>
            <a:off x="0" y="5467320"/>
            <a:ext cx="9475920" cy="1390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1101600" y="170028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夏天我们注意什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15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教新课标一年级品德与生活下册第三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81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042920" y="191628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747800" y="2057400"/>
            <a:ext cx="432072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夏季应该怎样防暑降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324000" y="404640"/>
            <a:ext cx="223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18590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怎样凉快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p60-1"/>
          <p:cNvPicPr/>
          <p:nvPr/>
        </p:nvPicPr>
        <p:blipFill>
          <a:blip r:embed="rId1"/>
          <a:stretch/>
        </p:blipFill>
        <p:spPr>
          <a:xfrm>
            <a:off x="2057400" y="2841480"/>
            <a:ext cx="5105520" cy="36356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4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295280" y="18590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怎样凉快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喝自来水"/>
          <p:cNvPicPr/>
          <p:nvPr/>
        </p:nvPicPr>
        <p:blipFill>
          <a:blip r:embed="rId1"/>
          <a:stretch/>
        </p:blipFill>
        <p:spPr>
          <a:xfrm>
            <a:off x="3352680" y="3048120"/>
            <a:ext cx="2714760" cy="342900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60-2"/>
          <p:cNvPicPr/>
          <p:nvPr/>
        </p:nvPicPr>
        <p:blipFill>
          <a:blip r:embed="rId1"/>
          <a:stretch/>
        </p:blipFill>
        <p:spPr>
          <a:xfrm>
            <a:off x="2133720" y="2868480"/>
            <a:ext cx="4800600" cy="37609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295280" y="18590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怎样凉快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60-3"/>
          <p:cNvPicPr/>
          <p:nvPr/>
        </p:nvPicPr>
        <p:blipFill>
          <a:blip r:embed="rId1"/>
          <a:stretch/>
        </p:blipFill>
        <p:spPr>
          <a:xfrm>
            <a:off x="2895480" y="3027240"/>
            <a:ext cx="3505320" cy="33735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1295280" y="18590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怎样凉快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4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喝自来水"/>
          <p:cNvPicPr/>
          <p:nvPr/>
        </p:nvPicPr>
        <p:blipFill>
          <a:blip r:embed="rId1"/>
          <a:stretch/>
        </p:blipFill>
        <p:spPr>
          <a:xfrm>
            <a:off x="5219640" y="260280"/>
            <a:ext cx="1860480" cy="234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p60-2"/>
          <p:cNvPicPr/>
          <p:nvPr/>
        </p:nvPicPr>
        <p:blipFill>
          <a:blip r:embed="rId2"/>
          <a:stretch/>
        </p:blipFill>
        <p:spPr>
          <a:xfrm>
            <a:off x="684360" y="3357720"/>
            <a:ext cx="2566800" cy="2011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p60-3"/>
          <p:cNvPicPr/>
          <p:nvPr/>
        </p:nvPicPr>
        <p:blipFill>
          <a:blip r:embed="rId3"/>
          <a:stretch/>
        </p:blipFill>
        <p:spPr>
          <a:xfrm>
            <a:off x="5076720" y="3068640"/>
            <a:ext cx="2424240" cy="2333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p60-1"/>
          <p:cNvPicPr/>
          <p:nvPr/>
        </p:nvPicPr>
        <p:blipFill>
          <a:blip r:embed="rId4"/>
          <a:stretch/>
        </p:blipFill>
        <p:spPr>
          <a:xfrm>
            <a:off x="539640" y="981000"/>
            <a:ext cx="2871720" cy="20448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971640" y="566100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面小朋友的做法好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843280" y="1989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547640" y="189000"/>
            <a:ext cx="61930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9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944720" y="279864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什么夏天用温水洗澡比冷水后凉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02"/>
          <p:cNvPicPr/>
          <p:nvPr/>
        </p:nvPicPr>
        <p:blipFill>
          <a:blip r:embed="rId1"/>
          <a:stretch/>
        </p:blipFill>
        <p:spPr>
          <a:xfrm>
            <a:off x="0" y="333360"/>
            <a:ext cx="3635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174760" y="285264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夏季如何防暑降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02"/>
          <p:cNvPicPr/>
          <p:nvPr/>
        </p:nvPicPr>
        <p:blipFill>
          <a:blip r:embed="rId1"/>
          <a:stretch/>
        </p:blipFill>
        <p:spPr>
          <a:xfrm>
            <a:off x="0" y="333360"/>
            <a:ext cx="3635280" cy="95400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042920" y="191628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1612080" y="1989000"/>
            <a:ext cx="54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夏天为什么容易腹泻（拉肚子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61-1"/>
          <p:cNvPicPr/>
          <p:nvPr/>
        </p:nvPicPr>
        <p:blipFill>
          <a:blip r:embed="rId1"/>
          <a:stretch/>
        </p:blipFill>
        <p:spPr>
          <a:xfrm>
            <a:off x="2895480" y="2421000"/>
            <a:ext cx="3525840" cy="3860640"/>
          </a:xfrm>
          <a:prstGeom prst="rect">
            <a:avLst/>
          </a:prstGeom>
          <a:ln w="0">
            <a:noFill/>
          </a:ln>
        </p:spPr>
      </p:pic>
      <p:sp>
        <p:nvSpPr>
          <p:cNvPr id="144" name="WordArt 3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708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探提示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140360" y="1557360"/>
            <a:ext cx="453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认真阅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短文，解决下面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问题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4606920" y="342900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夏天，我们注意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p61-2"/>
          <p:cNvPicPr/>
          <p:nvPr/>
        </p:nvPicPr>
        <p:blipFill>
          <a:blip r:embed="rId1"/>
          <a:stretch/>
        </p:blipFill>
        <p:spPr>
          <a:xfrm>
            <a:off x="2514600" y="2563920"/>
            <a:ext cx="4648320" cy="38275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3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p61-3"/>
          <p:cNvPicPr/>
          <p:nvPr/>
        </p:nvPicPr>
        <p:blipFill>
          <a:blip r:embed="rId1"/>
          <a:stretch/>
        </p:blipFill>
        <p:spPr>
          <a:xfrm>
            <a:off x="1835280" y="1844640"/>
            <a:ext cx="5790960" cy="3645000"/>
          </a:xfrm>
          <a:prstGeom prst="rect">
            <a:avLst/>
          </a:prstGeom>
          <a:ln w="0">
            <a:noFill/>
          </a:ln>
        </p:spPr>
      </p:pic>
      <p:sp>
        <p:nvSpPr>
          <p:cNvPr id="148" name="WordArt 3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p61-4"/>
          <p:cNvPicPr/>
          <p:nvPr/>
        </p:nvPicPr>
        <p:blipFill>
          <a:blip r:embed="rId1"/>
          <a:stretch/>
        </p:blipFill>
        <p:spPr>
          <a:xfrm>
            <a:off x="2340000" y="2276640"/>
            <a:ext cx="4191120" cy="38750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3"/>
          <p:cNvSpPr/>
          <p:nvPr/>
        </p:nvSpPr>
        <p:spPr>
          <a:xfrm>
            <a:off x="1908000" y="1413000"/>
            <a:ext cx="4876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一说，他为什么会肚子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0" y="191628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同学们结合一下自己的生活经验进行回忆、体会，谈一谈自己因为不注意卫生，或者受凉而导致腹泻时，自己和家人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3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p61-5"/>
          <p:cNvPicPr/>
          <p:nvPr/>
        </p:nvPicPr>
        <p:blipFill>
          <a:blip r:embed="rId1"/>
          <a:stretch/>
        </p:blipFill>
        <p:spPr>
          <a:xfrm>
            <a:off x="2692440" y="1733400"/>
            <a:ext cx="2946240" cy="46674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3"/>
          <p:cNvSpPr/>
          <p:nvPr/>
        </p:nvSpPr>
        <p:spPr>
          <a:xfrm>
            <a:off x="5029200" y="1066680"/>
            <a:ext cx="3657600" cy="2210040"/>
          </a:xfrm>
          <a:prstGeom prst="cloudCallout">
            <a:avLst>
              <a:gd name="adj1" fmla="val -57291"/>
              <a:gd name="adj2" fmla="val 5014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生病赶快到医院治疗，打针不要怕疼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图片1"/>
          <p:cNvPicPr/>
          <p:nvPr/>
        </p:nvPicPr>
        <p:blipFill>
          <a:blip r:embed="rId2"/>
          <a:stretch/>
        </p:blipFill>
        <p:spPr>
          <a:xfrm>
            <a:off x="-146160" y="5638680"/>
            <a:ext cx="9469440" cy="1390680"/>
          </a:xfrm>
          <a:prstGeom prst="rect">
            <a:avLst/>
          </a:prstGeom>
          <a:ln w="0">
            <a:noFill/>
          </a:ln>
        </p:spPr>
      </p:pic>
      <p:sp>
        <p:nvSpPr>
          <p:cNvPr id="158" name="WordArt 3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拓展运用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042920" y="21337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请你来当小老师，口头出一道题，考考大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195640" y="765000"/>
            <a:ext cx="5256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夏天美，天气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贪凉洗冷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蚊蝇多，传疾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吃瓜果要洗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防疾病，保健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病从口入要知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勤洗手，讲卫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朋友们要牢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7C7C-C940-4ABD-84B4-ADBD0AFEDD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755640" y="43657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亲爱的同学们，老师祝你们能够过一个愉快健康的夏天，学会照顾自己，学会照顾家人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探提示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-181080" y="1197000"/>
            <a:ext cx="8456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夏天如何预防蚊虫叮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想一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夏季应该怎样防暑降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夏天为什么容易腹泻（拉肚子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84360" y="3933720"/>
            <a:ext cx="6769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小提示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阅读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9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1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页短文或日常经验说一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如果有解决不了的问题可以小组讨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324000" y="189000"/>
            <a:ext cx="223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解疑合探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971640" y="191628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187280" y="234936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夏天如何预防蚊虫叮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1763640" y="3068640"/>
            <a:ext cx="576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蚊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8435e5dde71190efc4b27fb0ce1b9d16fdfa6010"/>
          <p:cNvPicPr/>
          <p:nvPr/>
        </p:nvPicPr>
        <p:blipFill>
          <a:blip r:embed="rId2"/>
          <a:stretch/>
        </p:blipFill>
        <p:spPr>
          <a:xfrm>
            <a:off x="2771640" y="2349360"/>
            <a:ext cx="4248360" cy="379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755640" y="2997360"/>
            <a:ext cx="7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蚊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蚊帐"/>
          <p:cNvPicPr/>
          <p:nvPr/>
        </p:nvPicPr>
        <p:blipFill>
          <a:blip r:embed="rId2"/>
          <a:stretch/>
        </p:blipFill>
        <p:spPr>
          <a:xfrm>
            <a:off x="1619280" y="1916280"/>
            <a:ext cx="4226040" cy="4759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6084720" y="213372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蚊帐或纱窗把蚊子隔绝在外。蚊帐既能避蚊又能防风，还可吸附飘落的灰尘，过滤空气，尤其适合孕妇及儿童。纱窗则可让新鲜空气进入室内，同时让有害的烟雾流到室外去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b3fb43166d224f4a41c29e7c09f790529822d102"/>
          <p:cNvPicPr/>
          <p:nvPr/>
        </p:nvPicPr>
        <p:blipFill>
          <a:blip r:embed="rId2"/>
          <a:stretch/>
        </p:blipFill>
        <p:spPr>
          <a:xfrm>
            <a:off x="1258920" y="1844640"/>
            <a:ext cx="4535280" cy="4286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6012000" y="2276640"/>
            <a:ext cx="237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室内摆放一两盆盛开的夜来香、茉莉花、米兰、薄荷或玫瑰等，蚊子因不堪忍受它们的气味而躲避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8199"/>
          <p:cNvSpPr/>
          <p:nvPr/>
        </p:nvSpPr>
        <p:spPr>
          <a:xfrm>
            <a:off x="942840" y="536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5219640" y="2133720"/>
            <a:ext cx="331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室内安装橘红色灯泡，或用透光的橘红色玻璃纸套在灯泡上，开灯后蚊子会因惧怕橘红色光线而逃离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" descr="6f061d950a7b0208319ed28e62d9f2d3572cc80e"/>
          <p:cNvPicPr/>
          <p:nvPr/>
        </p:nvPicPr>
        <p:blipFill>
          <a:blip r:embed="rId2"/>
          <a:stretch/>
        </p:blipFill>
        <p:spPr>
          <a:xfrm>
            <a:off x="1547640" y="1700280"/>
            <a:ext cx="327672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4c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02"/>
          <p:cNvPicPr/>
          <p:nvPr/>
        </p:nvPicPr>
        <p:blipFill>
          <a:blip r:embed="rId1"/>
          <a:stretch/>
        </p:blipFill>
        <p:spPr>
          <a:xfrm>
            <a:off x="644400" y="110160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3124080" y="5791320"/>
            <a:ext cx="3581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油精和花露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风油精和花露水"/>
          <p:cNvPicPr/>
          <p:nvPr/>
        </p:nvPicPr>
        <p:blipFill>
          <a:blip r:embed="rId2"/>
          <a:stretch/>
        </p:blipFill>
        <p:spPr>
          <a:xfrm>
            <a:off x="2124000" y="1989000"/>
            <a:ext cx="427680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20:42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7:43Z</dcterms:modified>
  <cp:revision>4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