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5170-D413-4571-8A26-68C2D626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BDE-483E-4279-B4C1-24BB4C0C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D987-D711-4AC2-9848-DC4D2F42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21AB-5CD8-4049-A041-8884A4AD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6B9E-335E-4CFE-BEEF-74E39DB4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7B22-1F84-4B06-A21C-0519A180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4005-2381-48F0-AAAD-B363C584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F0C1-0957-43B1-8F48-97E223AB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DAFD-E690-4E27-8D4B-8FD3742B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964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F1F2-CEA1-418F-841A-287CB567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2A90-4568-4CA2-B64E-3D443169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4271-80AB-496C-AFCC-A5A6ECF8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ECA3-37E1-439F-B876-9851F90F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9526-9116-49DC-8B3A-21411562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446E-B290-4CCC-AD63-CEA34BAF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7A25-21A1-4BD3-91B6-1E24FAC0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3625-7D47-4414-A4BB-0FB56566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87BF4-AB0C-47E9-ACE6-2E8C6504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A820E-9A0F-40FE-A2BC-6894AD64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5E0AE-1C9F-48D0-85EA-873B30A4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A4311-BEB2-41E4-A424-496D48A7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1C098-D776-4C1E-BEC7-F189C7F2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34C-8E50-49BE-A475-4ECBC1C2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3964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AEFC8-7A17-4F47-8911-DC894460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4734D-E370-49DD-ADF8-45B32F85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89463-9F22-42EE-957B-EACE053F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8B031-BCF9-49F4-9601-650CA403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7100B-9280-40A5-85FB-27C956C0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96E2D-F399-4D3A-B462-71027829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4219200"/>
            <a:ext cx="264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E283F-7765-4F39-89AB-72673298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4D19-931F-4AF8-A9B0-8349F178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300-BF4C-491C-B396-543E55C1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640" y="764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ADF-15B5-419B-9113-6E6ACF8F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F284-814D-49B4-8EA5-3CCF9E6F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920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73EE-7E83-4755-917E-1901DB40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9200"/>
            <a:ext cx="822960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0E2-5CB6-4BEF-92A5-8AB6E36C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9354-5E2F-44AF-895B-2765F8F8E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5365-98B5-45DC-83CC-5B6B42A395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4284720" y="0"/>
            <a:ext cx="21589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B217-AB15-4D18-9744-7316763E7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9"/>
          <p:cNvSpPr/>
          <p:nvPr/>
        </p:nvSpPr>
        <p:spPr>
          <a:xfrm>
            <a:off x="961920" y="1413000"/>
            <a:ext cx="68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显微镜观察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7" descr="20080324204722c9292"/>
          <p:cNvPicPr/>
          <p:nvPr/>
        </p:nvPicPr>
        <p:blipFill>
          <a:blip r:embed="rId1"/>
          <a:stretch/>
        </p:blipFill>
        <p:spPr>
          <a:xfrm>
            <a:off x="5651640" y="2997360"/>
            <a:ext cx="3468600" cy="34668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显微镜的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4"/>
          <p:cNvPicPr/>
          <p:nvPr/>
        </p:nvPicPr>
        <p:blipFill>
          <a:blip r:embed="rId1"/>
          <a:stretch/>
        </p:blipFill>
        <p:spPr>
          <a:xfrm>
            <a:off x="449280" y="765000"/>
            <a:ext cx="3800520" cy="58057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0" y="692280"/>
            <a:ext cx="539640" cy="616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确使用显微镜的方法和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安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上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调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观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50920" y="155736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别用肉眼、放大镜、显微镜仔细观察洋葱表皮，把看到的画在记录单中。比较三次观察到的图像，说说有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26792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在显微镜下看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描述我们看到的洋葱表皮结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5"/>
          <p:cNvPicPr/>
          <p:nvPr/>
        </p:nvPicPr>
        <p:blipFill>
          <a:blip r:embed="rId1"/>
          <a:stretch/>
        </p:blipFill>
        <p:spPr>
          <a:xfrm>
            <a:off x="5724360" y="2746440"/>
            <a:ext cx="25639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95280" y="69228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观察到的洋葱表皮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洋葱表皮由一个个比较规则的多边形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1187280" y="2060640"/>
            <a:ext cx="6409080" cy="4392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44B6-BAA7-41C9-AE5E-B9ABBE785C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68360" y="764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观察到的洋葱表皮上的一个个小房间似的结构，是洋葱的细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交流、展示大家画的洋葱表皮的细胞，我们还能发现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6"/>
          <p:cNvPicPr/>
          <p:nvPr/>
        </p:nvPicPr>
        <p:blipFill>
          <a:blip r:embed="rId1"/>
          <a:stretch/>
        </p:blipFill>
        <p:spPr>
          <a:xfrm>
            <a:off x="1654200" y="2997360"/>
            <a:ext cx="52563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95280" y="155736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显微镜的发明使人们能够观察到非常小的物体以及物体的精细结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听说过细胞吗，关于细胞我们知道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们也用显微镜来观察生命体，看看能否观察到细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68360" y="76464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6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英国科学家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罗伯特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胡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一个非常了不起的发现，他用自制的复合显微镜观察一块软木薄片的结构，发现它们看上去像一间间长方形的小房间，就把它命名为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细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"/>
          <p:cNvPicPr/>
          <p:nvPr/>
        </p:nvPicPr>
        <p:blipFill>
          <a:blip r:embed="rId1"/>
          <a:stretch/>
        </p:blipFill>
        <p:spPr>
          <a:xfrm>
            <a:off x="3419640" y="3357720"/>
            <a:ext cx="5041800" cy="3141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罗伯特胡克"/>
          <p:cNvPicPr/>
          <p:nvPr/>
        </p:nvPicPr>
        <p:blipFill>
          <a:blip r:embed="rId2"/>
          <a:stretch/>
        </p:blipFill>
        <p:spPr>
          <a:xfrm>
            <a:off x="611280" y="3284640"/>
            <a:ext cx="239868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观察洋葱表皮细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观察前的准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显微镜下观察物体有一定的要求。物体必须制成玻片标本，才能在显微镜下观察到它的精细结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4000" y="105264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材料和工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2"/>
          <p:cNvPicPr/>
          <p:nvPr/>
        </p:nvPicPr>
        <p:blipFill>
          <a:blip r:embed="rId1"/>
          <a:stretch/>
        </p:blipFill>
        <p:spPr>
          <a:xfrm>
            <a:off x="179280" y="1916280"/>
            <a:ext cx="874872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制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3"/>
          <p:cNvPicPr/>
          <p:nvPr/>
        </p:nvPicPr>
        <p:blipFill>
          <a:blip r:embed="rId1"/>
          <a:stretch/>
        </p:blipFill>
        <p:spPr>
          <a:xfrm>
            <a:off x="1835280" y="1643040"/>
            <a:ext cx="5184720" cy="48308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1835280" y="1557360"/>
            <a:ext cx="7207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1692360" y="836640"/>
            <a:ext cx="510372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3"/>
          <p:cNvPicPr/>
          <p:nvPr/>
        </p:nvPicPr>
        <p:blipFill>
          <a:blip r:embed="rId1"/>
          <a:stretch/>
        </p:blipFill>
        <p:spPr>
          <a:xfrm>
            <a:off x="1403280" y="765000"/>
            <a:ext cx="5281560" cy="539604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3"/>
          <p:cNvPicPr/>
          <p:nvPr/>
        </p:nvPicPr>
        <p:blipFill>
          <a:blip r:embed="rId1"/>
          <a:stretch/>
        </p:blipFill>
        <p:spPr>
          <a:xfrm>
            <a:off x="1476360" y="765000"/>
            <a:ext cx="54324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06:36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23Z</dcterms:modified>
  <cp:revision>17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