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690-C9BC-45F3-8994-6515B50D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838-C721-468A-B240-4F0CD70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676-1975-4D92-9423-51C5FE2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A32-E9E8-44B2-A3D0-27CE5C4C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2EA0-9087-40F9-9452-21129AC5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2780-E30F-4EEF-A6C6-69683F7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A277-C280-4B6B-BE96-7000300E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ABC1-574A-4E5E-9948-2AAA0A4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E4B-7B82-4DC2-A23B-728072F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BD59-E041-4BBA-931E-3C0121B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2CE-425F-4B4C-BEF3-47695D3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933-CFF9-4F9C-BA1A-DD3BBB7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9124-A884-45F2-90C8-D4387A4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9077-FD3B-4FB4-AA90-77A2343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69D3-02FE-4B2C-9573-06C493B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FE2-CA4A-49EA-BFDE-287AC12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8A5F-6CE9-40B8-8484-642C53FD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EE83-88AB-49BB-B8CE-FEA8FF77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B90B-6000-48D2-ADCE-3C73A58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CB55-98D8-44DB-B1E8-77C5F84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4A97-638D-4F94-8F95-8F40243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58A9-3262-4380-8C60-F04C5C3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8A-73E6-4418-94AD-EADA67DB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87DD-291D-41C9-AEFD-773E640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2CF3-C632-41E5-BFD0-8D11B89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5D92-622F-4C91-AD29-6CA6525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B681-C6DD-408C-A9A5-900B3AB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91FE-B293-40B2-8F8A-2BEC7C16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C72F-E084-4F97-BDEB-394AB1EA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AB76-96A9-47BD-A96D-0093A896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36A5-44EF-4FEE-89AE-4D8505FE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55E5-50EF-4E61-B42F-FD770D9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F39B-051C-4E76-A61A-BF8BFAE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D25-20D9-4889-B8A8-5BB48F3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4551-0318-4614-B701-FB75798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BDF5-29AA-4E37-9F85-116954E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8902-9BD6-41F8-B889-B8F99A55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23DB-EDC2-4C94-8BCD-7093F43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8040-DBC4-4D01-84F2-6B054C9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62C8-7503-492E-BB8C-B86B3111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BAF2-9F85-4BDF-ABB8-07B7019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497C-E49D-4719-8988-90AD5F83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9BAB-FB77-4173-BE47-6ECBD45A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C19-BF62-4AF3-BEA9-509DAF48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342-7140-410D-A6BE-D7B3E48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189-B1D5-45F4-B5F5-E470C11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CBC-0589-4868-87BE-7F9B6A5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882-CEC1-4120-A165-3B515CC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153B-D15B-424D-8D0E-42EC685EEE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2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2DB2-AEEC-44B7-BAFB-45F1F099F3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309-15F1-4F6E-BFDD-98F0FE6340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159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61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2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4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5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6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7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9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1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3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4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6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8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0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3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4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5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6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7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8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9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0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1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194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C08-C191-4DA9-BE73-7A58FE6A43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3"/>
          <p:cNvSpPr txBox="1"/>
          <p:nvPr/>
        </p:nvSpPr>
        <p:spPr>
          <a:xfrm>
            <a:off x="1432080" y="1989000"/>
            <a:ext cx="402588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校外探路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三年级品德与社会下册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2"/>
          <p:cNvSpPr/>
          <p:nvPr/>
        </p:nvSpPr>
        <p:spPr>
          <a:xfrm>
            <a:off x="900000" y="765000"/>
            <a:ext cx="2592360" cy="6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看图填空：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19280" y="3141720"/>
            <a:ext cx="360" cy="1008000"/>
            <a:chOff x="1619280" y="3141720"/>
            <a:chExt cx="360" cy="1008000"/>
          </a:xfrm>
        </p:grpSpPr>
        <p:sp>
          <p:nvSpPr>
            <p:cNvPr id="264" name="Line 3"/>
            <p:cNvSpPr/>
            <p:nvPr/>
          </p:nvSpPr>
          <p:spPr>
            <a:xfrm>
              <a:off x="1619280" y="3141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619280" y="3141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19280" y="4149720"/>
            <a:ext cx="1081080" cy="360"/>
            <a:chOff x="1619280" y="4149720"/>
            <a:chExt cx="1081080" cy="360"/>
          </a:xfrm>
        </p:grpSpPr>
        <p:sp>
          <p:nvSpPr>
            <p:cNvPr id="267" name="Line 4"/>
            <p:cNvSpPr/>
            <p:nvPr/>
          </p:nvSpPr>
          <p:spPr>
            <a:xfrm>
              <a:off x="1619280" y="4149720"/>
              <a:ext cx="10810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619280" y="4149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700000" y="3141720"/>
            <a:ext cx="360" cy="1008000"/>
            <a:chOff x="2700000" y="3141720"/>
            <a:chExt cx="360" cy="1008000"/>
          </a:xfrm>
        </p:grpSpPr>
        <p:sp>
          <p:nvSpPr>
            <p:cNvPr id="270" name="Line 5"/>
            <p:cNvSpPr/>
            <p:nvPr/>
          </p:nvSpPr>
          <p:spPr>
            <a:xfrm flipV="1">
              <a:off x="2700360" y="3141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 rot="10800000">
              <a:off x="2700000" y="3141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619280" y="3141720"/>
            <a:ext cx="1081080" cy="360"/>
            <a:chOff x="1619280" y="3141720"/>
            <a:chExt cx="1081080" cy="360"/>
          </a:xfrm>
        </p:grpSpPr>
        <p:sp>
          <p:nvSpPr>
            <p:cNvPr id="273" name="Line 6"/>
            <p:cNvSpPr/>
            <p:nvPr/>
          </p:nvSpPr>
          <p:spPr>
            <a:xfrm>
              <a:off x="1619280" y="3141720"/>
              <a:ext cx="10810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619280" y="3141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700000" y="2133720"/>
            <a:ext cx="360" cy="1008000"/>
            <a:chOff x="2700000" y="2133720"/>
            <a:chExt cx="360" cy="1008000"/>
          </a:xfrm>
        </p:grpSpPr>
        <p:sp>
          <p:nvSpPr>
            <p:cNvPr id="276" name="Line 7"/>
            <p:cNvSpPr/>
            <p:nvPr/>
          </p:nvSpPr>
          <p:spPr>
            <a:xfrm flipV="1">
              <a:off x="2700360" y="2133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 rot="10800000">
              <a:off x="2700000" y="2133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00360" y="2133720"/>
            <a:ext cx="1871640" cy="360"/>
            <a:chOff x="2700360" y="2133720"/>
            <a:chExt cx="1871640" cy="360"/>
          </a:xfrm>
        </p:grpSpPr>
        <p:sp>
          <p:nvSpPr>
            <p:cNvPr id="279" name="Line 8"/>
            <p:cNvSpPr/>
            <p:nvPr/>
          </p:nvSpPr>
          <p:spPr>
            <a:xfrm>
              <a:off x="2700360" y="2133720"/>
              <a:ext cx="187164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700360" y="2133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81" name="AutoShape 9"/>
          <p:cNvSpPr/>
          <p:nvPr/>
        </p:nvSpPr>
        <p:spPr>
          <a:xfrm>
            <a:off x="1476360" y="4076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2556000" y="4076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2556000" y="3068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AutoShape 12"/>
          <p:cNvSpPr/>
          <p:nvPr/>
        </p:nvSpPr>
        <p:spPr>
          <a:xfrm>
            <a:off x="2556000" y="2060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4427640" y="2060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AutoShape 14"/>
          <p:cNvSpPr/>
          <p:nvPr/>
        </p:nvSpPr>
        <p:spPr>
          <a:xfrm>
            <a:off x="1476360" y="3068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58600" y="40370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科技馆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07440" y="4005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新华书店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039840" y="299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物园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910080" y="2924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学校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1815840" y="1916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博物馆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491148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电影院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468360" y="4654440"/>
            <a:ext cx="828180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动物园在新华书店的北边，科技馆在新华书店的            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学校在科技馆的        边，在               的西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博物馆在              的西边，在                                      的北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拉西要从学校到电影院，该怎么走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524720" y="5157720"/>
            <a:ext cx="719280" cy="360"/>
            <a:chOff x="7524720" y="5157720"/>
            <a:chExt cx="719280" cy="360"/>
          </a:xfrm>
        </p:grpSpPr>
        <p:sp>
          <p:nvSpPr>
            <p:cNvPr id="295" name="Line 22"/>
            <p:cNvSpPr/>
            <p:nvPr/>
          </p:nvSpPr>
          <p:spPr>
            <a:xfrm>
              <a:off x="7524720" y="5157720"/>
              <a:ext cx="7192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524720" y="515772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7" name="Text Box 23"/>
          <p:cNvSpPr/>
          <p:nvPr/>
        </p:nvSpPr>
        <p:spPr>
          <a:xfrm>
            <a:off x="766044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西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32000" y="5445000"/>
            <a:ext cx="719280" cy="360"/>
            <a:chOff x="3132000" y="5445000"/>
            <a:chExt cx="719280" cy="360"/>
          </a:xfrm>
        </p:grpSpPr>
        <p:sp>
          <p:nvSpPr>
            <p:cNvPr id="299" name="Line 24"/>
            <p:cNvSpPr/>
            <p:nvPr/>
          </p:nvSpPr>
          <p:spPr>
            <a:xfrm>
              <a:off x="3132000" y="5445000"/>
              <a:ext cx="7192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132000" y="544500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61080" y="5445000"/>
            <a:ext cx="1008000" cy="360"/>
            <a:chOff x="4861080" y="5445000"/>
            <a:chExt cx="1008000" cy="360"/>
          </a:xfrm>
        </p:grpSpPr>
        <p:sp>
          <p:nvSpPr>
            <p:cNvPr id="302" name="Line 25"/>
            <p:cNvSpPr/>
            <p:nvPr/>
          </p:nvSpPr>
          <p:spPr>
            <a:xfrm>
              <a:off x="4861080" y="5445000"/>
              <a:ext cx="100800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861080" y="544500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340000" y="5877000"/>
            <a:ext cx="866880" cy="360"/>
            <a:chOff x="2340000" y="5877000"/>
            <a:chExt cx="866880" cy="360"/>
          </a:xfrm>
        </p:grpSpPr>
        <p:sp>
          <p:nvSpPr>
            <p:cNvPr id="305" name="Line 26"/>
            <p:cNvSpPr/>
            <p:nvPr/>
          </p:nvSpPr>
          <p:spPr>
            <a:xfrm>
              <a:off x="2340000" y="5877000"/>
              <a:ext cx="8668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340000" y="5877000"/>
              <a:ext cx="8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716360" y="5877000"/>
            <a:ext cx="2808360" cy="360"/>
            <a:chOff x="4716360" y="5877000"/>
            <a:chExt cx="2808360" cy="360"/>
          </a:xfrm>
        </p:grpSpPr>
        <p:sp>
          <p:nvSpPr>
            <p:cNvPr id="308" name="Line 27"/>
            <p:cNvSpPr/>
            <p:nvPr/>
          </p:nvSpPr>
          <p:spPr>
            <a:xfrm>
              <a:off x="4716360" y="5877000"/>
              <a:ext cx="280836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4716360" y="587700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10" name="Text Box 28"/>
          <p:cNvSpPr/>
          <p:nvPr/>
        </p:nvSpPr>
        <p:spPr>
          <a:xfrm>
            <a:off x="3266280" y="501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北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4901040" y="508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动物园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2381760" y="54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电影院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5350320" y="544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动物园和新华书店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14" name="Picture 4" descr="12402415C2F30-434K2"/>
          <p:cNvPicPr/>
          <p:nvPr/>
        </p:nvPicPr>
        <p:blipFill>
          <a:blip r:embed="rId1"/>
          <a:stretch/>
        </p:blipFill>
        <p:spPr>
          <a:xfrm>
            <a:off x="6445080" y="765000"/>
            <a:ext cx="12034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2296440" y="198108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总结怎样画路线图，并将自己的体会写出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1119600" y="3070080"/>
            <a:ext cx="4099320" cy="2233080"/>
            <a:chOff x="1119600" y="3070080"/>
            <a:chExt cx="4099320" cy="2233080"/>
          </a:xfrm>
        </p:grpSpPr>
        <p:sp>
          <p:nvSpPr>
            <p:cNvPr id="318" name="Text Box 9"/>
            <p:cNvSpPr/>
            <p:nvPr/>
          </p:nvSpPr>
          <p:spPr>
            <a:xfrm>
              <a:off x="1138320" y="307008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1138320" y="391176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1119600" y="478260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21" name="Text Box 12"/>
          <p:cNvSpPr/>
          <p:nvPr/>
        </p:nvSpPr>
        <p:spPr>
          <a:xfrm>
            <a:off x="2052720" y="2997360"/>
            <a:ext cx="41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辨认方向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1692360" y="4726080"/>
            <a:ext cx="41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留心观察、作好记录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2052720" y="3860640"/>
            <a:ext cx="41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设计图例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24" name="Picture 3" descr="BigPic_201046151156982"/>
          <p:cNvPicPr/>
          <p:nvPr/>
        </p:nvPicPr>
        <p:blipFill>
          <a:blip r:embed="rId2"/>
          <a:stretch/>
        </p:blipFill>
        <p:spPr>
          <a:xfrm>
            <a:off x="5364000" y="3070080"/>
            <a:ext cx="3225960" cy="31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4392-0721-4DFE-837E-6C277F0318DE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1763640" y="4221000"/>
            <a:ext cx="5473800" cy="1152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画一画你从学校回家的路线图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30" name="Picture 2" descr="BigPic_201046151217589"/>
          <p:cNvPicPr/>
          <p:nvPr/>
        </p:nvPicPr>
        <p:blipFill>
          <a:blip r:embed="rId1"/>
          <a:stretch/>
        </p:blipFill>
        <p:spPr>
          <a:xfrm>
            <a:off x="2340000" y="909720"/>
            <a:ext cx="4114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22"/>
          <p:cNvPicPr/>
          <p:nvPr/>
        </p:nvPicPr>
        <p:blipFill>
          <a:blip r:embed="rId1"/>
          <a:stretch/>
        </p:blipFill>
        <p:spPr>
          <a:xfrm>
            <a:off x="684360" y="622440"/>
            <a:ext cx="784836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222"/>
          <p:cNvPicPr/>
          <p:nvPr/>
        </p:nvPicPr>
        <p:blipFill>
          <a:blip r:embed="rId1"/>
          <a:stretch/>
        </p:blipFill>
        <p:spPr>
          <a:xfrm>
            <a:off x="612720" y="62244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W020101024590484648712"/>
          <p:cNvPicPr/>
          <p:nvPr/>
        </p:nvPicPr>
        <p:blipFill>
          <a:blip r:embed="rId1"/>
          <a:stretch/>
        </p:blipFill>
        <p:spPr>
          <a:xfrm>
            <a:off x="684360" y="620640"/>
            <a:ext cx="7823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298764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7" name="Picture 2" descr="pic_220777"/>
          <p:cNvPicPr/>
          <p:nvPr/>
        </p:nvPicPr>
        <p:blipFill>
          <a:blip r:embed="rId1"/>
          <a:stretch/>
        </p:blipFill>
        <p:spPr>
          <a:xfrm>
            <a:off x="360360" y="2205000"/>
            <a:ext cx="8423280" cy="4464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55640" y="40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老师，我家的地址是从学校的南大门出发，然后朝东走，经过一座桥，沿着中山路向北走，经过农贸市场，电影院和少年宫，就到了中山路和人民路的交叉口，然后向东拐弯走向人民路，找到新华书店，书店对面的一幢五层大搂，我家就在二楼西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室。欢迎老师假期到我家做客。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文本框 8199"/>
          <p:cNvSpPr/>
          <p:nvPr/>
        </p:nvSpPr>
        <p:spPr>
          <a:xfrm>
            <a:off x="1816200" y="2143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14520" y="477720"/>
            <a:ext cx="7921440" cy="590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包"/>
          <p:cNvPicPr/>
          <p:nvPr/>
        </p:nvPicPr>
        <p:blipFill>
          <a:blip r:embed="rId2"/>
          <a:stretch/>
        </p:blipFill>
        <p:spPr>
          <a:xfrm>
            <a:off x="2124000" y="220680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是"/>
          <p:cNvPicPr/>
          <p:nvPr/>
        </p:nvPicPr>
        <p:blipFill>
          <a:blip r:embed="rId3"/>
          <a:stretch/>
        </p:blipFill>
        <p:spPr>
          <a:xfrm>
            <a:off x="3349800" y="6224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少"/>
          <p:cNvPicPr/>
          <p:nvPr/>
        </p:nvPicPr>
        <p:blipFill>
          <a:blip r:embed="rId4"/>
          <a:stretch/>
        </p:blipFill>
        <p:spPr>
          <a:xfrm>
            <a:off x="7381800" y="37908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西松"/>
          <p:cNvPicPr/>
          <p:nvPr/>
        </p:nvPicPr>
        <p:blipFill>
          <a:blip r:embed="rId5"/>
          <a:stretch/>
        </p:blipFill>
        <p:spPr>
          <a:xfrm>
            <a:off x="4788000" y="3502080"/>
            <a:ext cx="107928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有"/>
          <p:cNvPicPr/>
          <p:nvPr/>
        </p:nvPicPr>
        <p:blipFill>
          <a:blip r:embed="rId6"/>
          <a:stretch/>
        </p:blipFill>
        <p:spPr>
          <a:xfrm>
            <a:off x="1403280" y="4221000"/>
            <a:ext cx="209556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pic_2207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1600200" y="2209680"/>
            <a:ext cx="4648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读读下面的路线图，看看读懂了什么，还有哪些不懂，大家一起来做一做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0" name="Picture 4" descr="D:\小学数学\模版\a10.png"/>
          <p:cNvPicPr/>
          <p:nvPr/>
        </p:nvPicPr>
        <p:blipFill>
          <a:blip r:embed="rId2"/>
          <a:stretch/>
        </p:blipFill>
        <p:spPr>
          <a:xfrm>
            <a:off x="6708600" y="2895480"/>
            <a:ext cx="1368720" cy="335304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8199"/>
          <p:cNvSpPr/>
          <p:nvPr/>
        </p:nvSpPr>
        <p:spPr>
          <a:xfrm>
            <a:off x="977760" y="175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51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2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