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EBD-0733-499F-9846-52B812BA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CF4F-1FF5-4784-BC0B-35B86B94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A3B5-819C-49C6-A2ED-0BC6AEFD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EE95-3E6A-47A7-9415-33B673B9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FEA9-B769-4680-93F6-C6A26B60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736F-6D8B-4547-AC42-691ECEF8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D809-3981-4222-816C-6437347C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5EAC-4695-403A-9A4F-5A212588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494A-DA2F-41DF-8764-290E7B87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358F-F08A-4352-8873-31EAE2F1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5D83-E02F-4A5C-8ADA-556903B0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61A-328E-4FC6-A097-619FC5DC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B637-7197-41FF-80A8-36ADE109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33C4-6CC2-400F-A4A8-A0EB20D8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86D5-168B-48A6-8340-07FF1178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F3F2-D69B-42B2-928F-3F45804E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2257-B023-4811-BFB2-81D7FE37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A69-0B3B-4198-BE97-BB60A053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DA62-D9D3-4825-8C78-48A97C30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8995-1FF8-4DD1-8B6C-890C80AC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C879-BF06-4FC3-BF2D-5CC71DC0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5DDB-99AD-4E41-B35C-7F25743D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FBD8-501F-49BD-94EA-63160D31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E32-0693-4B17-9621-5577037C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0CCE-EF8D-4160-A30D-C7CDE7038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D050-D13C-448C-895D-4A947828917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moobol.com/ms/235/live23594.shtml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1846440" y="1465200"/>
            <a:ext cx="528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肖像</a:t>
            </a:r>
            <a:r>
              <a:rPr b="0" lang="zh-CN" sz="4000" spc="-1" strike="noStrike">
                <a:solidFill>
                  <a:srgbClr val="333399"/>
                </a:solidFill>
                <a:latin typeface="宋体"/>
                <a:ea typeface="宋体"/>
              </a:rPr>
              <a:t>和</a:t>
            </a:r>
            <a:r>
              <a:rPr b="0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姓名</a:t>
            </a:r>
            <a:r>
              <a:rPr b="0" lang="zh-CN" sz="4000" spc="-1" strike="noStrike">
                <a:solidFill>
                  <a:srgbClr val="333399"/>
                </a:solidFill>
                <a:latin typeface="宋体"/>
                <a:ea typeface="宋体"/>
              </a:rPr>
              <a:t>中的权利课件</a:t>
            </a:r>
            <a:r>
              <a:rPr b="0" lang="en-US" sz="4000" spc="-1" strike="noStrike">
                <a:solidFill>
                  <a:srgbClr val="333399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333399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810"/>
          <p:cNvPicPr/>
          <p:nvPr/>
        </p:nvPicPr>
        <p:blipFill>
          <a:blip r:embed="rId2"/>
          <a:stretch/>
        </p:blipFill>
        <p:spPr>
          <a:xfrm>
            <a:off x="5181480" y="4191120"/>
            <a:ext cx="1330560" cy="145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mxps007"/>
          <p:cNvPicPr/>
          <p:nvPr/>
        </p:nvPicPr>
        <p:blipFill>
          <a:blip r:embed="rId3"/>
          <a:stretch/>
        </p:blipFill>
        <p:spPr>
          <a:xfrm>
            <a:off x="7012080" y="4006800"/>
            <a:ext cx="1055520" cy="18288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984240" y="560520"/>
            <a:ext cx="514656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四课　维护我们的人格尊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187200" y="564984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FR2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447920" y="1905120"/>
            <a:ext cx="67053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法通则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规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民享有姓名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权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决定，使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依照规定改变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的姓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禁止他人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干涉，盗用，假冒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FR2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1219320" y="21337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一天，秦哲凯在一张报纸上看到了自己的照片，手里还拿着一盒营养液，俨然该产品的形象代言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429000" y="1219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代言人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676520" y="4038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该公司的做法对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FR2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1066680" y="8380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我有肖像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990720" y="169056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肖像权的含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及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143000" y="25588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民依法享有对自己肖像的支配权，包括肖像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制作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使用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获酬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2286000" y="4114800"/>
            <a:ext cx="434340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未成年人在使用自己的肖像权和获酬权方面须由监护人代理或同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FR2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0"/>
          <p:cNvSpPr/>
          <p:nvPr/>
        </p:nvSpPr>
        <p:spPr>
          <a:xfrm>
            <a:off x="990720" y="9907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侵犯肖像权的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990720" y="2514600"/>
            <a:ext cx="8993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未经本人同意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营利为目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用公民的肖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恶意毁损、玷污、丑化公民的肖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用公民肖像进行人身攻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4"/>
          <p:cNvSpPr/>
          <p:nvPr/>
        </p:nvSpPr>
        <p:spPr>
          <a:xfrm>
            <a:off x="838080" y="2666880"/>
            <a:ext cx="152640" cy="152424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R2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1"/>
          <p:cNvSpPr/>
          <p:nvPr/>
        </p:nvSpPr>
        <p:spPr>
          <a:xfrm>
            <a:off x="1447920" y="160020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秦哲凯立即打电话到该公司进行交涉，保健公司说一时疏忽，没有跟他商量，并答应支付给他一定的广告费。秦哲凯认为这样可以给自己贫困的家庭减轻一些负担，于是就同意了，但他要求自己的照片只能在该报纸上使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1219320" y="8380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(3)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依法维护肖像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1905120" y="48769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秦哲凯行使了什么权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FR2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1042920" y="1143000"/>
            <a:ext cx="7058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华人民共和国民法通则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规定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民享有肖像权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未经本人同意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不得以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营利为目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公民的肖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04920" y="1752480"/>
            <a:ext cx="866448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新闻报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要使用具有新闻价值的人物的肖像 如政治家、外交官、知名学者、艺术家、运动员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04920" y="838080"/>
            <a:ext cx="96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不属侵犯肖像权的行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00105cadb81a084efc4c02"/>
          <p:cNvPicPr/>
          <p:nvPr/>
        </p:nvPicPr>
        <p:blipFill>
          <a:blip r:embed="rId1"/>
          <a:stretch/>
        </p:blipFill>
        <p:spPr>
          <a:xfrm>
            <a:off x="533520" y="2819520"/>
            <a:ext cx="3446280" cy="3657600"/>
          </a:xfrm>
          <a:prstGeom prst="rect">
            <a:avLst/>
          </a:prstGeom>
          <a:ln w="0">
            <a:noFill/>
          </a:ln>
        </p:spPr>
      </p:pic>
      <p:sp>
        <p:nvSpPr>
          <p:cNvPr id="165" name="WordArt 9"/>
          <p:cNvSpPr txBox="1"/>
          <p:nvPr/>
        </p:nvSpPr>
        <p:spPr>
          <a:xfrm>
            <a:off x="228600" y="152280"/>
            <a:ext cx="1943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知识拓展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66" name="Picture 11" descr="2006104221822164"/>
          <p:cNvPicPr/>
          <p:nvPr/>
        </p:nvPicPr>
        <p:blipFill>
          <a:blip r:embed="rId2"/>
          <a:stretch/>
        </p:blipFill>
        <p:spPr>
          <a:xfrm>
            <a:off x="4343400" y="2819520"/>
            <a:ext cx="4267080" cy="358128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8199"/>
          <p:cNvSpPr/>
          <p:nvPr/>
        </p:nvSpPr>
        <p:spPr>
          <a:xfrm>
            <a:off x="2924280" y="291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FR2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6"/>
          <p:cNvSpPr/>
          <p:nvPr/>
        </p:nvSpPr>
        <p:spPr>
          <a:xfrm>
            <a:off x="0" y="685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不属侵犯肖像权的行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533520" y="1539720"/>
            <a:ext cx="78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国家机关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执行公务而强制使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民的肖像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通缉令上嫌疑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肖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Img249520192"/>
          <p:cNvPicPr/>
          <p:nvPr/>
        </p:nvPicPr>
        <p:blipFill>
          <a:blip r:embed="rId2"/>
          <a:stretch/>
        </p:blipFill>
        <p:spPr>
          <a:xfrm>
            <a:off x="2367000" y="2666880"/>
            <a:ext cx="44100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FR2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152280" y="600120"/>
            <a:ext cx="96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不属侵犯肖像权的行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685800" y="1295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使用在特定场合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席特定活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人物的肖像如参加集会、游行庆典等活动的人的肖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2007512952052"/>
          <p:cNvPicPr/>
          <p:nvPr/>
        </p:nvPicPr>
        <p:blipFill>
          <a:blip r:embed="rId2"/>
          <a:stretch/>
        </p:blipFill>
        <p:spPr>
          <a:xfrm>
            <a:off x="304920" y="2666880"/>
            <a:ext cx="3962160" cy="327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2_gV7eUbehwm5i"/>
          <p:cNvPicPr/>
          <p:nvPr/>
        </p:nvPicPr>
        <p:blipFill>
          <a:blip r:embed="rId3"/>
          <a:stretch/>
        </p:blipFill>
        <p:spPr>
          <a:xfrm>
            <a:off x="4572000" y="2743200"/>
            <a:ext cx="42292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FR2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4"/>
          <p:cNvSpPr/>
          <p:nvPr/>
        </p:nvSpPr>
        <p:spPr>
          <a:xfrm>
            <a:off x="914400" y="159084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为了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本人利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社会公共利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使用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寻人启示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照片；行使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正当舆论监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使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93680" y="762120"/>
            <a:ext cx="96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不属侵犯肖像权的行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1"/>
          <p:cNvGrpSpPr/>
          <p:nvPr/>
        </p:nvGrpSpPr>
        <p:grpSpPr>
          <a:xfrm>
            <a:off x="457200" y="2955960"/>
            <a:ext cx="3809880" cy="3352680"/>
            <a:chOff x="457200" y="2955960"/>
            <a:chExt cx="3809880" cy="3352680"/>
          </a:xfrm>
        </p:grpSpPr>
        <p:pic>
          <p:nvPicPr>
            <p:cNvPr id="181" name="Picture 7" descr="xrqs"/>
            <p:cNvPicPr/>
            <p:nvPr/>
          </p:nvPicPr>
          <p:blipFill>
            <a:blip r:embed="rId2"/>
            <a:stretch/>
          </p:blipFill>
          <p:spPr>
            <a:xfrm>
              <a:off x="457200" y="2955960"/>
              <a:ext cx="380988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8" descr="xrqs"/>
            <p:cNvPicPr/>
            <p:nvPr/>
          </p:nvPicPr>
          <p:blipFill>
            <a:blip r:embed="rId3"/>
            <a:stretch/>
          </p:blipFill>
          <p:spPr>
            <a:xfrm>
              <a:off x="3070080" y="3244680"/>
              <a:ext cx="1167120" cy="1447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3" name="Picture 10" descr="gq-16-26-02-1"/>
          <p:cNvPicPr/>
          <p:nvPr/>
        </p:nvPicPr>
        <p:blipFill>
          <a:blip r:embed="rId4"/>
          <a:stretch/>
        </p:blipFill>
        <p:spPr>
          <a:xfrm>
            <a:off x="4403880" y="2536920"/>
            <a:ext cx="4495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FR2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0"/>
          <p:cNvSpPr/>
          <p:nvPr/>
        </p:nvSpPr>
        <p:spPr>
          <a:xfrm>
            <a:off x="1371600" y="9144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当这些名字出现时，在你的脑海中是否能浮现他们的音容笑貌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11"/>
          <p:cNvSpPr txBox="1"/>
          <p:nvPr/>
        </p:nvSpPr>
        <p:spPr>
          <a:xfrm>
            <a:off x="1447920" y="243828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隶书"/>
              </a:rPr>
              <a:t>姚明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90" name="Group 15"/>
          <p:cNvGrpSpPr/>
          <p:nvPr/>
        </p:nvGrpSpPr>
        <p:grpSpPr>
          <a:xfrm>
            <a:off x="1905120" y="3886200"/>
            <a:ext cx="2361960" cy="1191240"/>
            <a:chOff x="1905120" y="3886200"/>
            <a:chExt cx="2361960" cy="1191240"/>
          </a:xfrm>
        </p:grpSpPr>
        <p:sp>
          <p:nvSpPr>
            <p:cNvPr id="91" name="WordArt 13"/>
            <p:cNvSpPr txBox="1"/>
            <p:nvPr/>
          </p:nvSpPr>
          <p:spPr>
            <a:xfrm>
              <a:off x="1905120" y="4082400"/>
              <a:ext cx="2361960" cy="65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8000"/>
                    </a:solidFill>
                    <a:round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隶书"/>
                </a:rPr>
                <a:t>比尔 盖茨</a:t>
              </a:r>
              <a:endParaRPr b="0" lang="en-US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2895120" y="3886200"/>
              <a:ext cx="37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6600"/>
                  </a:solidFill>
                  <a:latin typeface="Arial"/>
                  <a:ea typeface="隶书"/>
                </a:rPr>
                <a:t>·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WordArt 18"/>
          <p:cNvSpPr txBox="1"/>
          <p:nvPr/>
        </p:nvSpPr>
        <p:spPr>
          <a:xfrm>
            <a:off x="5715000" y="4038480"/>
            <a:ext cx="1828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隶书"/>
              </a:rPr>
              <a:t>鲁迅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1981080" y="5257800"/>
            <a:ext cx="6172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姓名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每个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人格的基本标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20"/>
          <p:cNvSpPr txBox="1"/>
          <p:nvPr/>
        </p:nvSpPr>
        <p:spPr>
          <a:xfrm>
            <a:off x="4724280" y="2438280"/>
            <a:ext cx="1981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成龙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FR2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"/>
          <p:cNvSpPr/>
          <p:nvPr/>
        </p:nvSpPr>
        <p:spPr>
          <a:xfrm>
            <a:off x="838080" y="2666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违反道德和法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行为的照片、录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685800" y="121932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为了科学研究和文化教育目的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在一定范围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用他人肖像如出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临床医学教学研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专业报刊上展示病人照片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228600" y="576360"/>
            <a:ext cx="96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不属侵犯肖像权的行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" descr="live_200704292325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3276720"/>
            <a:ext cx="4381560" cy="2971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buwengming"/>
          <p:cNvPicPr/>
          <p:nvPr/>
        </p:nvPicPr>
        <p:blipFill>
          <a:blip r:embed="rId4"/>
          <a:stretch/>
        </p:blipFill>
        <p:spPr>
          <a:xfrm>
            <a:off x="380880" y="3276720"/>
            <a:ext cx="3924360" cy="300168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16"/>
          <p:cNvGrpSpPr/>
          <p:nvPr/>
        </p:nvGrpSpPr>
        <p:grpSpPr>
          <a:xfrm>
            <a:off x="6858000" y="5791320"/>
            <a:ext cx="1828800" cy="838080"/>
            <a:chOff x="6858000" y="5791320"/>
            <a:chExt cx="1828800" cy="838080"/>
          </a:xfrm>
        </p:grpSpPr>
        <p:sp>
          <p:nvSpPr>
            <p:cNvPr id="191" name="AutoShape 14"/>
            <p:cNvSpPr/>
            <p:nvPr/>
          </p:nvSpPr>
          <p:spPr>
            <a:xfrm>
              <a:off x="6858000" y="5791320"/>
              <a:ext cx="1676520" cy="838080"/>
            </a:xfrm>
            <a:prstGeom prst="wedgeRoundRectCallout">
              <a:avLst>
                <a:gd name="adj1" fmla="val -91476"/>
                <a:gd name="adj2" fmla="val -89583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3"/>
            <p:cNvSpPr/>
            <p:nvPr/>
          </p:nvSpPr>
          <p:spPr>
            <a:xfrm>
              <a:off x="7010280" y="58672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爱护花草，请勿入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FR2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7"/>
          <p:cNvSpPr/>
          <p:nvPr/>
        </p:nvSpPr>
        <p:spPr>
          <a:xfrm>
            <a:off x="2035080" y="762120"/>
            <a:ext cx="7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维护姓名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066680" y="1523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姓名权的含义、行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1066680" y="2057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侵害公民姓名权的行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干涉、盗用、冒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1066680" y="2590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依法维护姓名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838080" y="32446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我有肖像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990720" y="4052880"/>
            <a:ext cx="5638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肖像权的含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及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990720" y="4602240"/>
            <a:ext cx="6553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侵犯肖像权的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990720" y="5105520"/>
            <a:ext cx="4876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法维护肖像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304920" y="152280"/>
            <a:ext cx="23619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课堂总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026" descr="FR2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027"/>
          <p:cNvSpPr/>
          <p:nvPr/>
        </p:nvSpPr>
        <p:spPr>
          <a:xfrm>
            <a:off x="1066680" y="990720"/>
            <a:ext cx="701064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9966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、下列行为中不属于侵犯公民肖像权的行为的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某广告商未征求陈某的意见，就把他的肖像印在广告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马某为了表示对王某的不满意，当着王某的面把王某的相册撕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某影楼虽与周某打过招呼，但没有得到周某的答复，就把他的肖像摆在橱窗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交警队把拍摄到的闯红灯的人及其行为在电视台上曝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28"/>
          <p:cNvSpPr/>
          <p:nvPr/>
        </p:nvSpPr>
        <p:spPr>
          <a:xfrm>
            <a:off x="4384800" y="1143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黑体"/>
                <a:ea typeface="黑体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FR2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990720" y="1066680"/>
            <a:ext cx="7467480" cy="35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、中学生陈某在网上聊天时，假冒本班同学赵某的姓名，捏造本班同学孙某有小偷小摸行为。陈某的行为侵犯了赵某的</a:t>
            </a:r>
            <a:r>
              <a:rPr b="1" lang="zh-CN" sz="3200" spc="-1" strike="noStrike" u="sng">
                <a:solidFill>
                  <a:srgbClr val="9966ff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和孙某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9966ff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荣誉权  姓名权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9966ff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姓名权  名誉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9966ff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姓名权  隐私权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9966ff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名誉权  荣誉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146920" y="2286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黑体"/>
                <a:ea typeface="黑体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FR2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7"/>
          <p:cNvSpPr/>
          <p:nvPr/>
        </p:nvSpPr>
        <p:spPr>
          <a:xfrm>
            <a:off x="838080" y="1066680"/>
            <a:ext cx="7086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、八年级学生小光想竞选校学生会主席，但他的“威望”不及小超，，为了竞选成功，他道听途说，添油加醋，捏造事实背后中伤、诋毁小超。小光的行为侵犯了小超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肖像权    </a:t>
            </a: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荣誉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名誉权    </a:t>
            </a: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隐私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5334120" y="2895480"/>
            <a:ext cx="167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66"/>
                </a:solidFill>
                <a:latin typeface="Arial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8199"/>
          <p:cNvSpPr/>
          <p:nvPr/>
        </p:nvSpPr>
        <p:spPr>
          <a:xfrm>
            <a:off x="1606680" y="731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FR2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1600200" y="990720"/>
            <a:ext cx="7010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、学生宿舍丢了东西，老师怀疑是本校学生所为，在查无结果的情况下，他让学生投票“选小偷”，这种做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能找出小偷，因为大家的眼睛是雪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能有效保护学生的合法财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是同违法行为作斗争的有效手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严重侵害了学生的人格尊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7924680" y="1905120"/>
            <a:ext cx="83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66"/>
                </a:solidFill>
                <a:latin typeface="Arial"/>
              </a:rPr>
              <a:t>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FR2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7"/>
          <p:cNvSpPr/>
          <p:nvPr/>
        </p:nvSpPr>
        <p:spPr>
          <a:xfrm>
            <a:off x="304920" y="1432080"/>
            <a:ext cx="8839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肖像是公民人格的基本标志，下列行为中不属于侵犯公民肖像权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擅自将他人的肖像陈列在橱窗中招揽顾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未经许可，用阳光女孩的照片做杂志的封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行人街头因乱扔垃圾被拍照在报纸上曝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他人的照片上乱涂乱画，丑化他人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9" descr="j0283209"/>
          <p:cNvPicPr/>
          <p:nvPr/>
        </p:nvPicPr>
        <p:blipFill>
          <a:blip r:embed="rId2"/>
          <a:stretch/>
        </p:blipFill>
        <p:spPr>
          <a:xfrm>
            <a:off x="7467480" y="0"/>
            <a:ext cx="1324080" cy="1295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0"/>
          <p:cNvSpPr/>
          <p:nvPr/>
        </p:nvSpPr>
        <p:spPr>
          <a:xfrm>
            <a:off x="5562720" y="19051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66"/>
                </a:solidFill>
                <a:latin typeface="Arial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0446-4D5C-4CE1-8FEB-73A88812BAC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FR2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1295280" y="1066680"/>
            <a:ext cx="609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533520" y="1036800"/>
            <a:ext cx="8153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下列属于侵犯公民姓名权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业公司公布小区未交物业费者的姓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有困难同事的姓名往同事家里寄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区公布为贫困学生献爱心的捐款人名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冒用他人身份证开户登记手机并恶意使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6751800" y="93024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28" descr="FR2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29"/>
          <p:cNvSpPr/>
          <p:nvPr/>
        </p:nvSpPr>
        <p:spPr>
          <a:xfrm>
            <a:off x="974880" y="1981080"/>
            <a:ext cx="71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一对农村夫妇，生了个白胖儿子，却为儿子的名字发了愁，思来想去，朴实的夫妇终于给自己的儿子取名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寿生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祝他一生平安，长命百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31"/>
          <p:cNvSpPr/>
          <p:nvPr/>
        </p:nvSpPr>
        <p:spPr>
          <a:xfrm>
            <a:off x="3474000" y="9907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起个好名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32"/>
          <p:cNvSpPr/>
          <p:nvPr/>
        </p:nvSpPr>
        <p:spPr>
          <a:xfrm>
            <a:off x="1523880" y="4495680"/>
            <a:ext cx="6934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能告诉大家你的名字有什么特别的寓意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你知道的姓名趣事说给大家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FR2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2035080" y="762120"/>
            <a:ext cx="7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维护姓名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1143000" y="1523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姓名权的含义、行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1371600" y="2286000"/>
            <a:ext cx="647712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姓名权是公民依法享有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决定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使用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变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姓名，并且排除他人侵害的权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2286000" y="4267080"/>
            <a:ext cx="76320" cy="1600200"/>
          </a:xfrm>
          <a:custGeom>
            <a:avLst/>
            <a:gdLst>
              <a:gd name="textAreaLeft" fmla="*/ 48960 w 76320"/>
              <a:gd name="textAreaRight" fmla="*/ 76320 w 763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2438280" y="411480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年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未成年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精神病患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581280" y="4419720"/>
            <a:ext cx="2057400" cy="360"/>
            <a:chOff x="3581280" y="4419720"/>
            <a:chExt cx="2057400" cy="360"/>
          </a:xfrm>
        </p:grpSpPr>
        <p:sp>
          <p:nvSpPr>
            <p:cNvPr id="107" name="Line 15"/>
            <p:cNvSpPr/>
            <p:nvPr/>
          </p:nvSpPr>
          <p:spPr>
            <a:xfrm>
              <a:off x="3581280" y="4419720"/>
              <a:ext cx="205740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3581280" y="441972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038480" y="5105520"/>
            <a:ext cx="1600200" cy="228600"/>
            <a:chOff x="4038480" y="5105520"/>
            <a:chExt cx="1600200" cy="228600"/>
          </a:xfrm>
        </p:grpSpPr>
        <p:sp>
          <p:nvSpPr>
            <p:cNvPr id="110" name="Line 16"/>
            <p:cNvSpPr/>
            <p:nvPr/>
          </p:nvSpPr>
          <p:spPr>
            <a:xfrm>
              <a:off x="4038480" y="5105520"/>
              <a:ext cx="1600200" cy="22860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4038480" y="5105520"/>
              <a:ext cx="16002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267080" y="5334120"/>
            <a:ext cx="1371600" cy="380880"/>
            <a:chOff x="4267080" y="5334120"/>
            <a:chExt cx="1371600" cy="380880"/>
          </a:xfrm>
        </p:grpSpPr>
        <p:sp>
          <p:nvSpPr>
            <p:cNvPr id="113" name="Line 17"/>
            <p:cNvSpPr/>
            <p:nvPr/>
          </p:nvSpPr>
          <p:spPr>
            <a:xfrm flipV="1">
              <a:off x="4267080" y="5334120"/>
              <a:ext cx="1371600" cy="38088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 rot="10800000">
              <a:off x="4267080" y="533412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18"/>
          <p:cNvSpPr/>
          <p:nvPr/>
        </p:nvSpPr>
        <p:spPr>
          <a:xfrm>
            <a:off x="5638680" y="411480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主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5638680" y="50436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监护人代为行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FR2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990720" y="2786040"/>
            <a:ext cx="739116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  很多家长为给孩子取名可谓煞费苦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位家长为自己的双胞胎儿子分别取名为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钟共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钟央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位周先生将自己女儿取名叫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周蒽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赵先生，是电脑程序员，给孩子取名叫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赵．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M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990720" y="1003320"/>
            <a:ext cx="6933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予子千金不如授子一技，授子一技不如赠子一名，不怕命不好，只怕名不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                         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俗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FR2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026"/>
          <p:cNvSpPr/>
          <p:nvPr/>
        </p:nvSpPr>
        <p:spPr>
          <a:xfrm>
            <a:off x="1143000" y="1371600"/>
            <a:ext cx="70866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你还听过哪些另类的名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这样的姓名合法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你知道起名字有什么要求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FR2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1066680" y="160020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寿生渐渐长大，去年考上县城一所重点高中，他非常勤奋，成绩优异，父母都为他感到开心。可最近他却不想上学了。并向父亲提出改名的要求。因为他父亲姓“秦”，同学嘲笑他，叫他“禽兽生”，但是遭到父亲的拒绝，说他忘恩负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83688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寿生的烦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1828800" y="472428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你认为寿生可以更改自己的名字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他爸爸有权阻止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1447920" y="4724280"/>
            <a:ext cx="67053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们不得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干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他人行使姓名权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即：不得干涉他人决定、使用、更改姓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FR2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9"/>
          <p:cNvSpPr/>
          <p:nvPr/>
        </p:nvSpPr>
        <p:spPr>
          <a:xfrm>
            <a:off x="1065240" y="1417680"/>
            <a:ext cx="71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寿生的强烈要求下，终于改名为秦哲凯，他在校成绩依然很优秀，学校打算保送他上大学，中国科技大学打算录取他，给他寄了邀请信，邀请他提前体验大学生活，可是这封邀请信却被同学马雷抢先窃取，同时以秦哲凯的名义拒绝邀请，并推荐了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581280" y="838080"/>
            <a:ext cx="3124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窃取邀请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1828800" y="51055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马雷的行为是否构成侵权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1828800" y="5181480"/>
            <a:ext cx="61722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们不得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盗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冒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他人的姓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9"/>
          <p:cNvSpPr/>
          <p:nvPr/>
        </p:nvSpPr>
        <p:spPr>
          <a:xfrm>
            <a:off x="592200" y="24685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FR2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1066680" y="1143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侵害公民姓名权的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905120" y="22096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干涉他人决定，使用、更改姓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981080" y="43578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冒用他人姓名（含义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981080" y="3276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盗用他人姓名（含义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52480" y="236232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1752480" y="52578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依法维护姓名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8199"/>
          <p:cNvSpPr/>
          <p:nvPr/>
        </p:nvSpPr>
        <p:spPr>
          <a:xfrm>
            <a:off x="1066680" y="1598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30T06:01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02Z</dcterms:modified>
  <cp:revision>7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