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5.gif" ContentType="image/gif"/>
  <Override PartName="/ppt/media/image1.png" ContentType="image/png"/>
  <Override PartName="/ppt/media/image2.wmf" ContentType="image/x-wmf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13.jpeg" ContentType="image/jpeg"/>
  <Override PartName="/ppt/media/image6.gif" ContentType="image/gif"/>
  <Override PartName="/ppt/media/image10.jpeg" ContentType="image/jpeg"/>
  <Override PartName="/ppt/media/image5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4EB-7057-412B-B3AA-AC927958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D89-74ED-4737-934B-5732093B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750-DD01-42E6-BF76-6639872C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578-7E9B-430A-AC1A-8609A717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3E2F-3AC8-4D6F-BFC3-8DDE6FFA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E2B9-FC5E-4BBA-962A-798D8D1D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14F0-E33E-43D5-81FE-556CFCB4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02E7-F123-4EE7-81C5-B8CFE6DE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F47A-5568-4CA8-ADCB-0D588F2C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865C-64B5-45B1-AAD6-152084F7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E4B7-2BE2-4CFB-82AC-4A375BF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AFF-2C14-484F-8CA4-52C12651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462F-FE4D-4FD9-BF6E-89B511ED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1869-7CCE-4C7C-BE45-500B2343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67E6-C73F-4209-9A63-EA5A186D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7FD0-2A92-404B-A3DC-A320D036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C87B-CA9A-4235-836C-064F618F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D4AF-7D78-42D9-8522-7B36257E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AE3C3-1A38-40D1-99D3-B128128B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BDB4-E814-4E30-B7DE-B905E318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F0580-FEF2-44AA-B685-3421D1CD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0A3EE-A43C-483A-9A08-0ADB9D7C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530-38C7-4071-BF9F-3F631444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130F-519D-46F0-B4F7-5E8AED39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F057-F164-4B9B-ADF9-3E90066A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8F4E-1598-431C-BC06-7129A91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C65E-D305-4143-AA16-9CFAAA8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9118-41FA-409B-B6B2-BAAD2445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4DAA-65D4-4896-B00F-A85B5E02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EA928-5095-4FBD-A9AA-A74016E3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4DE-5472-499B-9991-D7F8B98A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41B-DD03-4698-B18C-C9851132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B64-F533-4333-BE57-0D5B992C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AB4-419A-4480-8FD7-C703DEB7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FDB-21C0-46F7-81CF-85B0A04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E37-261D-4CFA-ADFE-ABC94239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宋体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600" y="843120"/>
                  <a:ext cx="1062720" cy="1141200"/>
                  <a:chOff x="7833600" y="843120"/>
                  <a:chExt cx="106272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080" y="1134360"/>
                    <a:ext cx="8884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9240" y="1605960"/>
                    <a:ext cx="46728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800280"/>
                    <a:ext cx="425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520"/>
                  <a:chOff x="7845840" y="419760"/>
                  <a:chExt cx="984240" cy="32652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180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6920" y="456480"/>
                    <a:ext cx="33696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7200"/>
                  <a:ext cx="1062360" cy="1141560"/>
                  <a:chOff x="6539040" y="907200"/>
                  <a:chExt cx="106236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720" y="1196640"/>
                    <a:ext cx="88020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9200" y="1664640"/>
                    <a:ext cx="471600" cy="25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7080" y="48384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宋体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28600" y="9828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宋体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3320" y="38160"/>
                  <a:ext cx="785160" cy="747720"/>
                  <a:chOff x="7663320" y="38160"/>
                  <a:chExt cx="785160" cy="74772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920" y="455400"/>
                    <a:ext cx="59112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2160" y="119160"/>
                    <a:ext cx="31716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8640"/>
                    <a:ext cx="2617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30960"/>
                  <a:ext cx="916200" cy="1248120"/>
                  <a:chOff x="6711120" y="930960"/>
                  <a:chExt cx="91620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2600" y="1261800"/>
                    <a:ext cx="8964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560"/>
                  <a:ext cx="618120" cy="1248120"/>
                  <a:chOff x="7015320" y="979560"/>
                  <a:chExt cx="61812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6160" y="1313280"/>
                    <a:ext cx="829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200" y="1005120"/>
                  <a:ext cx="511560" cy="1242360"/>
                  <a:chOff x="7756200" y="1005120"/>
                  <a:chExt cx="5115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3720" y="1353960"/>
                    <a:ext cx="826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1480" y="1906200"/>
                    <a:ext cx="44280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160" cy="1156320"/>
                  <a:chOff x="7733880" y="1058400"/>
                  <a:chExt cx="29016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176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7360" y="1406520"/>
                    <a:ext cx="7473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5480" y="1926720"/>
                    <a:ext cx="4003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A84D-66D8-402D-A613-6FF7435A37E6}" type="datetime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E18A-2D28-4E4D-AB2E-0AED3A103A5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CE47-D600-4323-AC0B-994DFDE632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600" y="246240"/>
            <a:ext cx="6896520" cy="5450760"/>
            <a:chOff x="2010600" y="246240"/>
            <a:chExt cx="6896520" cy="545076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1120"/>
              <a:ext cx="945720" cy="709560"/>
              <a:chOff x="3484080" y="95112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112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288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600" y="246240"/>
              <a:ext cx="6896520" cy="5450760"/>
              <a:chOff x="2010600" y="246240"/>
              <a:chExt cx="6896520" cy="545076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600" y="246240"/>
                <a:ext cx="6891840" cy="5450760"/>
                <a:chOff x="2010600" y="246240"/>
                <a:chExt cx="6891840" cy="545076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480"/>
                  <a:ext cx="3603240" cy="2646360"/>
                  <a:chOff x="3735720" y="1266480"/>
                  <a:chExt cx="3603240" cy="264636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480"/>
                    <a:ext cx="3603240" cy="264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200" y="2233440"/>
                    <a:ext cx="71352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600" y="246240"/>
                  <a:ext cx="6891840" cy="5450760"/>
                  <a:chOff x="2010600" y="246240"/>
                  <a:chExt cx="6891840" cy="545076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1080" y="2319840"/>
                    <a:ext cx="2558160" cy="2741040"/>
                    <a:chOff x="5761080" y="2319840"/>
                    <a:chExt cx="2558160" cy="27410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3600" y="3017880"/>
                      <a:ext cx="21290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5560" y="4142880"/>
                      <a:ext cx="113724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8440" y="2149560"/>
                    <a:ext cx="3040200" cy="2526840"/>
                    <a:chOff x="5788440" y="2149560"/>
                    <a:chExt cx="3040200" cy="252684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080" y="2753280"/>
                      <a:ext cx="223632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2360" y="3718800"/>
                      <a:ext cx="120132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5480" y="2063520"/>
                    <a:ext cx="3097440" cy="1992240"/>
                    <a:chOff x="5775480" y="2063520"/>
                    <a:chExt cx="3097440" cy="199224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400" y="2518920"/>
                      <a:ext cx="2138400" cy="37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880" y="3242520"/>
                      <a:ext cx="1148760" cy="58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7920" y="1968120"/>
                    <a:ext cx="3134520" cy="1608480"/>
                    <a:chOff x="5767920" y="1968120"/>
                    <a:chExt cx="3134520" cy="160848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0880" y="2277360"/>
                      <a:ext cx="2067480" cy="41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0200"/>
                      <a:ext cx="1110600" cy="65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5720" y="1877400"/>
                    <a:ext cx="2937240" cy="1001880"/>
                    <a:chOff x="5805720" y="1877400"/>
                    <a:chExt cx="293724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2640" y="2003400"/>
                      <a:ext cx="190404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000" y="2210040"/>
                      <a:ext cx="102096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2600"/>
                    <a:ext cx="2658600" cy="442440"/>
                    <a:chOff x="5851440" y="1812600"/>
                    <a:chExt cx="2658600" cy="4424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4968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120" y="1824120"/>
                      <a:ext cx="9295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4640"/>
                    <a:ext cx="2363760" cy="783720"/>
                    <a:chOff x="5788440" y="1304640"/>
                    <a:chExt cx="2363760" cy="7837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09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8640" y="1393560"/>
                      <a:ext cx="816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5280" y="2471400"/>
                    <a:ext cx="2558160" cy="2743200"/>
                    <a:chOff x="2645280" y="2471400"/>
                    <a:chExt cx="2558160" cy="274320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2960" y="3168720"/>
                      <a:ext cx="21268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0280" y="4293720"/>
                      <a:ext cx="11433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8720" y="2365200"/>
                    <a:ext cx="3037680" cy="2534040"/>
                    <a:chOff x="2088720" y="2365200"/>
                    <a:chExt cx="3037680" cy="253404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68200"/>
                      <a:ext cx="2235960" cy="43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72600" y="3940920"/>
                      <a:ext cx="120312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2400"/>
                    <a:ext cx="3092400" cy="1988640"/>
                    <a:chOff x="2040840" y="2282400"/>
                    <a:chExt cx="3092400" cy="198864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4000" y="2737440"/>
                      <a:ext cx="213660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0320"/>
                      <a:ext cx="1149840" cy="58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600" y="2190600"/>
                    <a:ext cx="3130920" cy="1607760"/>
                    <a:chOff x="2010600" y="2190600"/>
                    <a:chExt cx="313092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2520" y="2499480"/>
                      <a:ext cx="2064960" cy="41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4040" y="2990160"/>
                      <a:ext cx="1111320" cy="65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70800" y="2095560"/>
                    <a:ext cx="2936520" cy="998280"/>
                    <a:chOff x="2170800" y="2095560"/>
                    <a:chExt cx="2936520" cy="99828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5280" y="2221560"/>
                      <a:ext cx="19044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6440" y="2427120"/>
                      <a:ext cx="1020960" cy="60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27520"/>
                    <a:ext cx="2655000" cy="450000"/>
                    <a:chOff x="2403720" y="2027520"/>
                    <a:chExt cx="2655000" cy="45000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120" y="2067120"/>
                      <a:ext cx="17283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38680"/>
                      <a:ext cx="92952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1200" y="1519920"/>
                    <a:ext cx="2364120" cy="786960"/>
                    <a:chOff x="2761200" y="1519920"/>
                    <a:chExt cx="2364120" cy="78696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6400" y="1869480"/>
                      <a:ext cx="1518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8280" y="1608480"/>
                      <a:ext cx="81540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920" y="1237320"/>
                    <a:ext cx="2324520" cy="1080720"/>
                    <a:chOff x="2887920" y="1237320"/>
                    <a:chExt cx="2324520" cy="10807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040" y="17856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720" y="1371240"/>
                      <a:ext cx="816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1160" y="831960"/>
                    <a:ext cx="2169720" cy="1504080"/>
                    <a:chOff x="3161160" y="831960"/>
                    <a:chExt cx="2169720" cy="150408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7120" y="1671120"/>
                      <a:ext cx="1518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6520" y="1023480"/>
                      <a:ext cx="81540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3080"/>
                    <a:ext cx="1987200" cy="1831680"/>
                    <a:chOff x="3437640" y="433080"/>
                    <a:chExt cx="1987200" cy="183168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4979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348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2280"/>
                    <a:ext cx="1459800" cy="1890000"/>
                    <a:chOff x="4026960" y="332280"/>
                    <a:chExt cx="1459800" cy="189000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2600" y="1443960"/>
                      <a:ext cx="13608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000" y="543240"/>
                      <a:ext cx="72900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51760" y="246240"/>
                    <a:ext cx="1117080" cy="1946160"/>
                    <a:chOff x="4451760" y="246240"/>
                    <a:chExt cx="1117080" cy="194616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3280" y="1401480"/>
                      <a:ext cx="13111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9360" y="441720"/>
                      <a:ext cx="70200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5320" y="949320"/>
                    <a:ext cx="2317680" cy="1112040"/>
                    <a:chOff x="5665320" y="949320"/>
                    <a:chExt cx="231768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9200" y="1520280"/>
                      <a:ext cx="1518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6840" y="1087560"/>
                      <a:ext cx="81684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3520"/>
                    <a:ext cx="2198880" cy="1450800"/>
                    <a:chOff x="5529600" y="623520"/>
                    <a:chExt cx="2198880" cy="145080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4240" y="1427040"/>
                      <a:ext cx="1518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4120" y="807840"/>
                      <a:ext cx="8157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3760"/>
                    <a:ext cx="126576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88360" y="5338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46720" y="268200"/>
                    <a:ext cx="1205280" cy="1902960"/>
                    <a:chOff x="5346720" y="268200"/>
                    <a:chExt cx="1205280" cy="19029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77800" y="1416240"/>
                      <a:ext cx="131220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6720" y="482760"/>
                      <a:ext cx="702360" cy="35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55720" y="384120"/>
                    <a:ext cx="1888920" cy="1794240"/>
                    <a:chOff x="5355720" y="384120"/>
                    <a:chExt cx="1888920" cy="179424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54920" y="1383480"/>
                      <a:ext cx="1425240" cy="33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5840" y="580680"/>
                      <a:ext cx="768240" cy="52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89080"/>
                    <a:ext cx="423720" cy="1796760"/>
                    <a:chOff x="5458320" y="289080"/>
                    <a:chExt cx="423720" cy="179676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960" y="1442520"/>
                      <a:ext cx="117576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37440" y="528480"/>
                      <a:ext cx="630720" cy="16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4320" y="2527560"/>
                    <a:ext cx="2195640" cy="3000960"/>
                    <a:chOff x="3064320" y="2527560"/>
                    <a:chExt cx="2195640" cy="300096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1080" y="3311280"/>
                      <a:ext cx="212616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70800" y="4588560"/>
                      <a:ext cx="11390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2960" y="2644200"/>
                    <a:ext cx="1484640" cy="3004200"/>
                    <a:chOff x="3792960" y="2644200"/>
                    <a:chExt cx="1484640" cy="300420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40760" y="3432600"/>
                      <a:ext cx="1965600" cy="38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4000" y="4744800"/>
                      <a:ext cx="105516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0000" y="2697120"/>
                    <a:ext cx="864360" cy="2925360"/>
                    <a:chOff x="4500000" y="2697120"/>
                    <a:chExt cx="864360" cy="292536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73400" y="3486240"/>
                      <a:ext cx="1885680" cy="33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53840" y="4806360"/>
                      <a:ext cx="101268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3600" y="2481120"/>
                    <a:ext cx="2280600" cy="2950560"/>
                    <a:chOff x="5673600" y="2481120"/>
                    <a:chExt cx="2280600" cy="295056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1880" y="3249000"/>
                      <a:ext cx="2129400" cy="38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799680" y="4496040"/>
                      <a:ext cx="113760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5160" y="2594160"/>
                    <a:ext cx="1748160" cy="3031920"/>
                    <a:chOff x="5645160" y="2594160"/>
                    <a:chExt cx="1748160" cy="303192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4280" y="3394800"/>
                      <a:ext cx="2031840" cy="37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38160" y="4717800"/>
                      <a:ext cx="1090440" cy="58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4960" y="2709720"/>
                    <a:ext cx="1226160" cy="2987280"/>
                    <a:chOff x="5574960" y="2709720"/>
                    <a:chExt cx="1226160" cy="298728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5760" y="3541320"/>
                      <a:ext cx="197244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8080" y="4881960"/>
                      <a:ext cx="105876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34640"/>
                    <a:ext cx="696960" cy="2783520"/>
                    <a:chOff x="5521320" y="2834640"/>
                    <a:chExt cx="696960" cy="278352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7080" y="3601080"/>
                      <a:ext cx="1812960" cy="30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4480" y="4862880"/>
                      <a:ext cx="973800" cy="47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1160" y="2885760"/>
                    <a:ext cx="663120" cy="2719080"/>
                    <a:chOff x="4961160" y="2885760"/>
                    <a:chExt cx="663120" cy="271908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0960" y="3663360"/>
                      <a:ext cx="177300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280"/>
                      <a:ext cx="9511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1520" y="679320"/>
                <a:ext cx="6735600" cy="4524120"/>
                <a:chOff x="2171520" y="679320"/>
                <a:chExt cx="6735600" cy="452412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1520" y="679320"/>
                  <a:ext cx="6735600" cy="4524120"/>
                  <a:chOff x="2171520" y="679320"/>
                  <a:chExt cx="6735600" cy="452412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0560" y="855360"/>
                    <a:ext cx="3166560" cy="2525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58880" y="2268720"/>
                    <a:ext cx="248688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8320" y="1749240"/>
                    <a:ext cx="175824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1160" y="1295280"/>
                    <a:ext cx="3135960" cy="2935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6040" y="679320"/>
                    <a:ext cx="2282400" cy="2842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440" y="1873800"/>
                    <a:ext cx="943200" cy="284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2000" y="8334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宋体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7560" y="2179080"/>
                  <a:ext cx="546120" cy="103140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3160"/>
              <a:ext cx="6413400" cy="4709160"/>
              <a:chOff x="2343960" y="713160"/>
              <a:chExt cx="6413400" cy="470916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1200" y="32353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720" y="2580480"/>
                <a:ext cx="26154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440" y="2122560"/>
                <a:ext cx="153684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39160"/>
                <a:ext cx="293148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90440" y="215136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2480" y="2137680"/>
                <a:ext cx="123948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7800" y="35474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6120" y="294804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7400" y="3384720"/>
                <a:ext cx="133740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120" y="1398960"/>
                <a:ext cx="8571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5000" y="3108600"/>
                <a:ext cx="1242360" cy="1973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440" y="2110320"/>
                <a:ext cx="18741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9000" y="71316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5000" y="215496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B577-F0B4-44FA-B5CA-4483678802F6}" type="datetime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ED88-5B1A-40A0-A57B-3847D1DB276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&#21451;&#35850;&#22320;&#20037;&#22825;&#38271;..mp3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0043-E763-4F4A-84E1-DBA4B536E78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2" name="WordArt 8"/>
          <p:cNvSpPr txBox="1"/>
          <p:nvPr/>
        </p:nvSpPr>
        <p:spPr>
          <a:xfrm>
            <a:off x="907920" y="2228760"/>
            <a:ext cx="763272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556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新学校新同学课件</a:t>
            </a:r>
            <a:r>
              <a:rPr b="1" lang="en-US" sz="4000" spc="1" strike="noStrike">
                <a:ln w="2556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2556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2556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3" name="Text Box 21">
            <a:hlinkClick r:id="" action="ppaction://hlinkshowjump?jump=nextslide"/>
          </p:cNvPr>
          <p:cNvSpPr/>
          <p:nvPr/>
        </p:nvSpPr>
        <p:spPr>
          <a:xfrm rot="18651000">
            <a:off x="2624760" y="4290120"/>
            <a:ext cx="143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c1c1c"/>
                </a:solidFill>
                <a:latin typeface="Arial Blac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176720" y="393372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66ff"/>
                </a:solidFill>
                <a:latin typeface="Arial Blac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5" name="Text Box 23"/>
          <p:cNvSpPr/>
          <p:nvPr/>
        </p:nvSpPr>
        <p:spPr>
          <a:xfrm rot="2695200">
            <a:off x="5292000" y="4220640"/>
            <a:ext cx="7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Arial Blac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友谊的重要作用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8360" y="1844280"/>
            <a:ext cx="831528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华文隶书"/>
              </a:rPr>
              <a:t>友情可以丰富生活，使我们的生活更精彩，避免孤独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142920" y="3284640"/>
            <a:ext cx="7991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华文隶书"/>
              </a:rPr>
              <a:t>友谊是可贵的，是人生中的一种安慰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461" name="Picture 6" descr="l2"/>
          <p:cNvPicPr/>
          <p:nvPr/>
        </p:nvPicPr>
        <p:blipFill>
          <a:blip r:embed="rId1"/>
          <a:stretch/>
        </p:blipFill>
        <p:spPr>
          <a:xfrm>
            <a:off x="2556000" y="5877000"/>
            <a:ext cx="6264000" cy="628560"/>
          </a:xfrm>
          <a:prstGeom prst="rect">
            <a:avLst/>
          </a:prstGeom>
          <a:ln w="0">
            <a:noFill/>
          </a:ln>
        </p:spPr>
      </p:pic>
      <p:pic>
        <p:nvPicPr>
          <p:cNvPr id="462" name="Rectangle 5" descr=""/>
          <p:cNvPicPr/>
          <p:nvPr/>
        </p:nvPicPr>
        <p:blipFill>
          <a:blip r:embed="rId2"/>
          <a:stretch/>
        </p:blipFill>
        <p:spPr>
          <a:xfrm>
            <a:off x="898560" y="4219560"/>
            <a:ext cx="7921440" cy="15130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468360" y="4292640"/>
            <a:ext cx="86756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华文隶书"/>
              </a:rPr>
              <a:t>友情能消除痛苦，能使生命充满阳光、欢乐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1487-E1C2-4AF2-9D5D-660D0501675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8920" y="765000"/>
            <a:ext cx="4786200" cy="782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1c1c"/>
                </a:solidFill>
                <a:latin typeface="Arial Black"/>
                <a:ea typeface="幼圆"/>
              </a:rPr>
              <a:t>和新朋友共同成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6" name="Picture 5" descr="20035621251838450"/>
          <p:cNvPicPr/>
          <p:nvPr/>
        </p:nvPicPr>
        <p:blipFill>
          <a:blip r:embed="rId1"/>
          <a:stretch/>
        </p:blipFill>
        <p:spPr>
          <a:xfrm>
            <a:off x="647640" y="2421000"/>
            <a:ext cx="7777080" cy="4030560"/>
          </a:xfrm>
          <a:prstGeom prst="rect">
            <a:avLst/>
          </a:prstGeom>
          <a:ln w="0">
            <a:noFill/>
          </a:ln>
        </p:spPr>
      </p:pic>
      <p:sp>
        <p:nvSpPr>
          <p:cNvPr id="467" name="文本框 8199"/>
          <p:cNvSpPr/>
          <p:nvPr/>
        </p:nvSpPr>
        <p:spPr>
          <a:xfrm>
            <a:off x="719280" y="1547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0" y="476280"/>
            <a:ext cx="521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心理适应能力测试</a:t>
            </a:r>
            <a:endParaRPr b="0" lang="en-US" sz="45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431640" y="101592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1.    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</a:rPr>
              <a:t>我最怕转学或换班级，每到一个新环境，我总要经过很长一段时间才能适应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</a:rPr>
              <a:t>每到一个新的地方，我就特别想家想父母想老朋友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</a:rPr>
              <a:t>在陌生人面前，我常无话可说，常感到尴尬。</a:t>
            </a:r>
            <a:r>
              <a:rPr b="1" lang="zh-CN" sz="2800" spc="-1" strike="noStrike">
                <a:solidFill>
                  <a:srgbClr val="04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</a:rPr>
              <a:t>．上中学了，我的自制力仍很差，必须要有老师、家长的监督，才能做好每件事情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</a:rPr>
              <a:t>每到一个新地方</a:t>
            </a:r>
            <a:r>
              <a:rPr b="1" lang="en-US" sz="2800" spc="-1" strike="noStrike">
                <a:solidFill>
                  <a:srgbClr val="040000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</a:rPr>
              <a:t>我第一天总是</a:t>
            </a:r>
            <a:r>
              <a:rPr b="1" lang="zh-CN" sz="2800" spc="-1" strike="noStrike">
                <a:solidFill>
                  <a:srgbClr val="040000"/>
                </a:solidFill>
                <a:latin typeface="Times New Roman"/>
              </a:rPr>
              <a:t>睡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</a:rPr>
              <a:t>不好</a:t>
            </a:r>
            <a:r>
              <a:rPr b="1" lang="en-US" sz="2800" spc="-1" strike="noStrike">
                <a:solidFill>
                  <a:srgbClr val="040000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</a:rPr>
              <a:t>就是在家里，哪怕换一张床，有时也会失眠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</a:rPr>
              <a:t>．我给自己确立的目标常常半途而废</a:t>
            </a:r>
            <a:r>
              <a:rPr b="1" lang="en-US" sz="2800" spc="-1" strike="noStrike">
                <a:solidFill>
                  <a:srgbClr val="040000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</a:rPr>
              <a:t>不能持之以恒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6D9F-E29B-4690-AA6A-F5B40C24457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0" y="-171360"/>
            <a:ext cx="9144000" cy="64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d00"/>
                </a:solidFill>
                <a:latin typeface="Times New Roman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7. 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  <a:ea typeface="华文中宋"/>
              </a:rPr>
              <a:t>上课答题时，同学们都看着我紧张地说不出话来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8. 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  <a:ea typeface="华文中宋"/>
              </a:rPr>
              <a:t>我与朋友常因一些小事与朋友发生争吵。　　　　　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9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  <a:ea typeface="华文中宋"/>
              </a:rPr>
              <a:t>．功课突然增多，成绩不理想，为此我感到很苦恼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10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  <a:ea typeface="华文中宋"/>
              </a:rPr>
              <a:t>．我很想和他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  <a:ea typeface="华文中宋"/>
              </a:rPr>
              <a:t>她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)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  <a:ea typeface="华文中宋"/>
              </a:rPr>
              <a:t>交朋友，却害怕遭到拒绝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11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  <a:ea typeface="华文中宋"/>
              </a:rPr>
              <a:t>．在新班级里我很担心别的同学瞧不起我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隶书"/>
              </a:rPr>
              <a:t>12</a:t>
            </a:r>
            <a:r>
              <a:rPr b="1" lang="zh-CN" sz="2800" spc="-1" strike="noStrike">
                <a:solidFill>
                  <a:srgbClr val="040000"/>
                </a:solidFill>
                <a:latin typeface="隶书"/>
                <a:ea typeface="华文中宋"/>
              </a:rPr>
              <a:t>．有时心情很忧郁，做什么事也提不起兴趣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1393-24FD-411D-A94A-5861524243C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008000" y="2673360"/>
            <a:ext cx="57960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答出</a:t>
            </a:r>
            <a:r>
              <a:rPr b="1" lang="en-US" sz="2800" spc="-1" strike="noStrike">
                <a:solidFill>
                  <a:srgbClr val="040000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个以上</a:t>
            </a:r>
            <a:r>
              <a:rPr b="1" lang="zh-CN" sz="2800" spc="-1" strike="noStrike">
                <a:solidFill>
                  <a:srgbClr val="04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不是</a:t>
            </a:r>
            <a:r>
              <a:rPr b="1" lang="zh-CN" sz="2800" spc="-1" strike="noStrike">
                <a:solidFill>
                  <a:srgbClr val="04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说明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你适应能力很强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答出</a:t>
            </a:r>
            <a:r>
              <a:rPr b="1" lang="en-US" sz="2800" spc="-1" strike="noStrike">
                <a:solidFill>
                  <a:srgbClr val="040000"/>
                </a:solidFill>
                <a:latin typeface="Arial Black"/>
              </a:rPr>
              <a:t>4---7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个</a:t>
            </a:r>
            <a:r>
              <a:rPr b="1" lang="zh-CN" sz="2800" spc="-1" strike="noStrike">
                <a:solidFill>
                  <a:srgbClr val="04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不是</a:t>
            </a:r>
            <a:r>
              <a:rPr b="1" lang="zh-CN" sz="2800" spc="-1" strike="noStrike">
                <a:solidFill>
                  <a:srgbClr val="04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说明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     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你适应力一般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答出</a:t>
            </a:r>
            <a:r>
              <a:rPr b="1" lang="en-US" sz="2800" spc="-1" strike="noStrike">
                <a:solidFill>
                  <a:srgbClr val="040000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个或</a:t>
            </a:r>
            <a:r>
              <a:rPr b="1" lang="en-US" sz="2800" spc="-1" strike="noStrike">
                <a:solidFill>
                  <a:srgbClr val="040000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个以上</a:t>
            </a:r>
            <a:r>
              <a:rPr b="1" lang="zh-CN" sz="2800" spc="-1" strike="noStrike">
                <a:solidFill>
                  <a:srgbClr val="04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是</a:t>
            </a:r>
            <a:r>
              <a:rPr b="1" lang="zh-CN" sz="2800" spc="-1" strike="noStrike">
                <a:solidFill>
                  <a:srgbClr val="04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说明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   </a:t>
            </a:r>
            <a:r>
              <a:rPr b="1" lang="zh-CN" sz="2800" spc="-1" strike="noStrike">
                <a:solidFill>
                  <a:srgbClr val="040000"/>
                </a:solidFill>
                <a:latin typeface="Arial Black"/>
              </a:rPr>
              <a:t>你适应较差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1403280" y="1125360"/>
            <a:ext cx="38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Black"/>
                <a:ea typeface="华文行楷"/>
              </a:rPr>
              <a:t>自测适应力</a:t>
            </a:r>
            <a:endParaRPr b="0" lang="en-US" sz="4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zh-CN" sz="3600" spc="-1" strike="noStrike">
                <a:solidFill>
                  <a:srgbClr val="e400e4"/>
                </a:solidFill>
                <a:latin typeface="Arial Black"/>
              </a:rPr>
              <a:t>初中生活新体验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zh-CN" sz="3600" spc="-1" strike="noStrike">
                <a:solidFill>
                  <a:srgbClr val="e400e4"/>
                </a:solidFill>
                <a:latin typeface="Arial Black"/>
              </a:rPr>
              <a:t>珍视新友谊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zh-CN" sz="3600" spc="-1" strike="noStrike">
                <a:solidFill>
                  <a:srgbClr val="e400e4"/>
                </a:solidFill>
                <a:latin typeface="Arial Black"/>
              </a:rPr>
              <a:t>与新朋友结伴成长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-599040" y="2384280"/>
            <a:ext cx="13993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新学校，新同学</a:t>
            </a:r>
            <a:endParaRPr b="0" lang="en-US" sz="4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863640" y="2924280"/>
            <a:ext cx="431640" cy="2665440"/>
          </a:xfrm>
          <a:custGeom>
            <a:avLst/>
            <a:gdLst>
              <a:gd name="textAreaLeft" fmla="*/ 275760 w 431640"/>
              <a:gd name="textAreaRight" fmla="*/ 432000 w 431640"/>
              <a:gd name="textAreaTop" fmla="*/ 78840 h 2665440"/>
              <a:gd name="textAreaBottom" fmla="*/ 258660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1"/>
                  <a:pt x="10800" y="2042"/>
                </a:cubicBezTo>
                <a:lnTo>
                  <a:pt x="10800" y="8758"/>
                </a:lnTo>
                <a:cubicBezTo>
                  <a:pt x="10800" y="9779"/>
                  <a:pt x="5400" y="10800"/>
                  <a:pt x="0" y="10800"/>
                </a:cubicBezTo>
                <a:cubicBezTo>
                  <a:pt x="5400" y="10800"/>
                  <a:pt x="10800" y="11821"/>
                  <a:pt x="10800" y="12842"/>
                </a:cubicBezTo>
                <a:lnTo>
                  <a:pt x="10800" y="19558"/>
                </a:lnTo>
                <a:cubicBezTo>
                  <a:pt x="10800" y="20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571640" y="2960280"/>
            <a:ext cx="648000" cy="360"/>
            <a:chOff x="4571640" y="2960280"/>
            <a:chExt cx="648000" cy="360"/>
          </a:xfrm>
        </p:grpSpPr>
        <p:sp>
          <p:nvSpPr>
            <p:cNvPr id="479" name="Line 5"/>
            <p:cNvSpPr/>
            <p:nvPr/>
          </p:nvSpPr>
          <p:spPr>
            <a:xfrm>
              <a:off x="4572000" y="2960640"/>
              <a:ext cx="6476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 rot="10800000">
              <a:off x="4571640" y="296028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sp>
        <p:nvSpPr>
          <p:cNvPr id="481" name="Text Box 6"/>
          <p:cNvSpPr/>
          <p:nvPr/>
        </p:nvSpPr>
        <p:spPr>
          <a:xfrm>
            <a:off x="5364000" y="263700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宋体"/>
              </a:rPr>
              <a:t>热爱新的学习环境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5400720" y="4041720"/>
            <a:ext cx="288720" cy="1655640"/>
          </a:xfrm>
          <a:custGeom>
            <a:avLst/>
            <a:gdLst>
              <a:gd name="textAreaLeft" fmla="*/ 0 w 288720"/>
              <a:gd name="textAreaRight" fmla="*/ 104040 w 2887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6048360" y="443700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c000"/>
                </a:solidFill>
                <a:latin typeface="宋体"/>
              </a:rPr>
              <a:t>珍视新的个人人际环境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4" name="WordArt 9"/>
          <p:cNvSpPr txBox="1"/>
          <p:nvPr/>
        </p:nvSpPr>
        <p:spPr>
          <a:xfrm>
            <a:off x="900000" y="476280"/>
            <a:ext cx="284328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ff0066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总结</a:t>
            </a:r>
            <a:endParaRPr b="1" lang="en-US" sz="4400" spc="1" strike="noStrike">
              <a:ln w="12600">
                <a:solidFill>
                  <a:srgbClr val="ff0066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图片1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l2"/>
          <p:cNvPicPr/>
          <p:nvPr/>
        </p:nvPicPr>
        <p:blipFill>
          <a:blip r:embed="rId2"/>
          <a:stretch/>
        </p:blipFill>
        <p:spPr>
          <a:xfrm>
            <a:off x="2209680" y="838080"/>
            <a:ext cx="4525920" cy="628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l2"/>
          <p:cNvPicPr/>
          <p:nvPr/>
        </p:nvPicPr>
        <p:blipFill>
          <a:blip r:embed="rId3"/>
          <a:stretch/>
        </p:blipFill>
        <p:spPr>
          <a:xfrm>
            <a:off x="2438280" y="5562720"/>
            <a:ext cx="4525920" cy="6285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5"/>
          <p:cNvSpPr/>
          <p:nvPr/>
        </p:nvSpPr>
        <p:spPr>
          <a:xfrm>
            <a:off x="229320" y="1665360"/>
            <a:ext cx="10947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f4d00"/>
                </a:solidFill>
                <a:latin typeface="Times New Roman"/>
                <a:ea typeface="华文隶书"/>
              </a:rPr>
              <a:t>练一练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1476360" y="1773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为一名七年级的新生，摆在我们面前的第一任务是（     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287280" y="3176640"/>
            <a:ext cx="691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抓紧学习新知识             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看看哪个老师好欺负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看看学校哪个地方好玩                               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适应新的环境 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664000" y="5157720"/>
            <a:ext cx="2124000" cy="360"/>
            <a:chOff x="2664000" y="5157720"/>
            <a:chExt cx="2124000" cy="360"/>
          </a:xfrm>
        </p:grpSpPr>
        <p:sp>
          <p:nvSpPr>
            <p:cNvPr id="492" name="Line 27"/>
            <p:cNvSpPr/>
            <p:nvPr/>
          </p:nvSpPr>
          <p:spPr>
            <a:xfrm>
              <a:off x="2664000" y="5157720"/>
              <a:ext cx="2124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2664000" y="5157720"/>
              <a:ext cx="21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" descr="l2"/>
          <p:cNvPicPr/>
          <p:nvPr/>
        </p:nvPicPr>
        <p:blipFill>
          <a:blip r:embed="rId2"/>
          <a:stretch/>
        </p:blipFill>
        <p:spPr>
          <a:xfrm>
            <a:off x="2209680" y="838080"/>
            <a:ext cx="4525920" cy="628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l2"/>
          <p:cNvPicPr/>
          <p:nvPr/>
        </p:nvPicPr>
        <p:blipFill>
          <a:blip r:embed="rId3"/>
          <a:stretch/>
        </p:blipFill>
        <p:spPr>
          <a:xfrm>
            <a:off x="2438280" y="5562720"/>
            <a:ext cx="4525920" cy="62856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8"/>
          <p:cNvSpPr/>
          <p:nvPr/>
        </p:nvSpPr>
        <p:spPr>
          <a:xfrm>
            <a:off x="324000" y="155736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进入一个新的班级，面对那么多的新面孔，我渴望了解更多的新伙伴。为此我的做法应该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-1584360" y="3392640"/>
            <a:ext cx="1015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不理睬新同学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不向新同学介绍自己，不让新同学了解自己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主动和新同学交谈，尽量了解新同学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不与新同学交谈，把自己封闭起来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410920" y="4976640"/>
            <a:ext cx="5256720" cy="36720"/>
            <a:chOff x="2410920" y="4976640"/>
            <a:chExt cx="5256720" cy="36720"/>
          </a:xfrm>
        </p:grpSpPr>
        <p:sp>
          <p:nvSpPr>
            <p:cNvPr id="502" name="Line 27"/>
            <p:cNvSpPr/>
            <p:nvPr/>
          </p:nvSpPr>
          <p:spPr>
            <a:xfrm flipV="1">
              <a:off x="2411280" y="4976640"/>
              <a:ext cx="5256360" cy="367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 rot="10800000">
              <a:off x="2410920" y="4976640"/>
              <a:ext cx="5256360" cy="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sp>
        <p:nvSpPr>
          <p:cNvPr id="504" name="文本框 8199"/>
          <p:cNvSpPr/>
          <p:nvPr/>
        </p:nvSpPr>
        <p:spPr>
          <a:xfrm>
            <a:off x="1104840" y="251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16161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7" name="Picture 4" descr="图片1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l2"/>
          <p:cNvPicPr/>
          <p:nvPr/>
        </p:nvPicPr>
        <p:blipFill>
          <a:blip r:embed="rId2"/>
          <a:stretch/>
        </p:blipFill>
        <p:spPr>
          <a:xfrm>
            <a:off x="2209680" y="838080"/>
            <a:ext cx="4525920" cy="6289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6" descr="l2"/>
          <p:cNvPicPr/>
          <p:nvPr/>
        </p:nvPicPr>
        <p:blipFill>
          <a:blip r:embed="rId3"/>
          <a:stretch/>
        </p:blipFill>
        <p:spPr>
          <a:xfrm>
            <a:off x="2438280" y="5562720"/>
            <a:ext cx="4525920" cy="62856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8"/>
          <p:cNvSpPr/>
          <p:nvPr/>
        </p:nvSpPr>
        <p:spPr>
          <a:xfrm>
            <a:off x="0" y="1592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小红同学刚来到东莞某校，她的一口外地音引得同学哈哈大笑，她顿时满脸通红。从此  只要在课堂上发言，她就心里发慌，面红耳赤一句话也说不出来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-468360" y="3753000"/>
            <a:ext cx="8567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小红个性太强，不合群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小红的性格过于内向，不利其学习和生活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040000"/>
                </a:solidFill>
                <a:latin typeface="Times New Roman"/>
              </a:rPr>
              <a:t>恶劣的班风给小红造成了恐惧心理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红有严重的生理问题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087640" y="4797360"/>
            <a:ext cx="5905440" cy="36720"/>
            <a:chOff x="2087640" y="4797360"/>
            <a:chExt cx="5905440" cy="36720"/>
          </a:xfrm>
        </p:grpSpPr>
        <p:sp>
          <p:nvSpPr>
            <p:cNvPr id="513" name="Line 27"/>
            <p:cNvSpPr/>
            <p:nvPr/>
          </p:nvSpPr>
          <p:spPr>
            <a:xfrm flipV="1">
              <a:off x="2087640" y="4797360"/>
              <a:ext cx="5905440" cy="367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 rot="10800000">
              <a:off x="2087640" y="4797000"/>
              <a:ext cx="5905440" cy="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702144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3"/>
          <p:cNvSpPr/>
          <p:nvPr/>
        </p:nvSpPr>
        <p:spPr>
          <a:xfrm>
            <a:off x="2484360" y="476280"/>
            <a:ext cx="7201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宋体"/>
                <a:ea typeface="华文彩云"/>
              </a:rPr>
              <a:t>         </a:t>
            </a:r>
            <a:r>
              <a:rPr b="1" lang="zh-CN" sz="6000" spc="-1" strike="noStrike">
                <a:solidFill>
                  <a:srgbClr val="800000"/>
                </a:solidFill>
                <a:latin typeface="华文新魏"/>
                <a:ea typeface="华文新魏"/>
              </a:rPr>
              <a:t>朋      友</a:t>
            </a:r>
            <a:br>
              <a:rPr sz="6000"/>
            </a:br>
            <a:r>
              <a:rPr b="0" lang="zh-CN" sz="4000" spc="-1" strike="noStrike">
                <a:solidFill>
                  <a:srgbClr val="ffc000"/>
                </a:solidFill>
                <a:latin typeface="宋体"/>
                <a:ea typeface="华文彩云"/>
              </a:rPr>
              <a:t>          </a:t>
            </a:r>
            <a:r>
              <a:rPr b="1" lang="zh-CN" sz="2400" spc="-1" strike="noStrike">
                <a:solidFill>
                  <a:srgbClr val="ffc000"/>
                </a:solidFill>
                <a:latin typeface="宋体"/>
                <a:ea typeface="华文彩云"/>
              </a:rPr>
              <a:t>演唱</a:t>
            </a:r>
            <a:r>
              <a:rPr b="1" lang="en-US" sz="2400" spc="-1" strike="noStrike">
                <a:solidFill>
                  <a:srgbClr val="ffc000"/>
                </a:solidFill>
                <a:latin typeface="宋体"/>
                <a:ea typeface="华文彩云"/>
              </a:rPr>
              <a:t>:</a:t>
            </a:r>
            <a:r>
              <a:rPr b="1" lang="zh-CN" sz="2400" spc="-1" strike="noStrike">
                <a:solidFill>
                  <a:srgbClr val="ffc000"/>
                </a:solidFill>
                <a:latin typeface="宋体"/>
                <a:ea typeface="华文彩云"/>
              </a:rPr>
              <a:t>周华健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0" y="2500200"/>
            <a:ext cx="4103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华文新魏"/>
                <a:ea typeface="华文新魏"/>
              </a:rPr>
              <a:t>这些年一个人  风也过雨也走 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华文新魏"/>
                <a:ea typeface="华文新魏"/>
              </a:rPr>
              <a:t>有过泪有过错  还记得坚持甚麽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b050"/>
                </a:solidFill>
                <a:latin typeface="华文新魏"/>
                <a:ea typeface="华文新魏"/>
              </a:rPr>
              <a:t>真爱过才会懂 会寂寞会回首 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华文新魏"/>
                <a:ea typeface="华文新魏"/>
              </a:rPr>
              <a:t>终有梦终有你在心中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b050"/>
                </a:solidFill>
                <a:latin typeface="华文新魏"/>
                <a:ea typeface="华文新魏"/>
              </a:rPr>
              <a:t>朋友一生一起走  那些日子不再有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华文新魏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00b050"/>
                </a:solidFill>
                <a:latin typeface="华文新魏"/>
                <a:ea typeface="华文新魏"/>
              </a:rPr>
              <a:t>一句话一辈子  一生情一杯酒 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华文新魏"/>
                <a:ea typeface="华文新魏"/>
              </a:rPr>
              <a:t>朋友不曾孤单过  一声朋友你会懂 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华文新魏"/>
                <a:ea typeface="华文新魏"/>
              </a:rPr>
              <a:t>还有伤还有痛  还要走还有我 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518" name="朋友 周华健.mp3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539640" cy="620640"/>
          </a:xfrm>
          <a:prstGeom prst="rect">
            <a:avLst/>
          </a:prstGeom>
          <a:ln w="0">
            <a:noFill/>
          </a:ln>
        </p:spPr>
      </p:pic>
      <p:pic>
        <p:nvPicPr>
          <p:cNvPr id="519" name="朋友.mp3" descr=""/>
          <p:cNvPicPr/>
          <p:nvPr/>
        </p:nvPicPr>
        <p:blipFill>
          <a:blip r:embed="rId3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313844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311120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32CD-1710-46EA-9238-CAF563AE65B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398" name="Picture 6" descr="j0336075"/>
          <p:cNvPicPr/>
          <p:nvPr/>
        </p:nvPicPr>
        <p:blipFill>
          <a:blip r:embed="rId1"/>
          <a:stretch/>
        </p:blipFill>
        <p:spPr>
          <a:xfrm>
            <a:off x="0" y="3956040"/>
            <a:ext cx="1143000" cy="29019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8"/>
          <p:cNvSpPr/>
          <p:nvPr/>
        </p:nvSpPr>
        <p:spPr>
          <a:xfrm>
            <a:off x="3348000" y="2421000"/>
            <a:ext cx="50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1511280" y="3033720"/>
            <a:ext cx="6324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我对学校的第一印象是：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我最喜欢学校的一个地方是：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入校以来给我印象最深的事是：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7920000" y="6021360"/>
            <a:ext cx="1017720" cy="692280"/>
          </a:xfrm>
          <a:custGeom>
            <a:avLst/>
            <a:gdLst>
              <a:gd name="textAreaLeft" fmla="*/ 44640 w 1017720"/>
              <a:gd name="textAreaRight" fmla="*/ 973080 w 1017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1749" h="21600">
                <a:moveTo>
                  <a:pt x="0" y="0"/>
                </a:moveTo>
                <a:lnTo>
                  <a:pt x="31749" y="0"/>
                </a:lnTo>
                <a:lnTo>
                  <a:pt x="31749" y="21600"/>
                </a:lnTo>
                <a:lnTo>
                  <a:pt x="0" y="21600"/>
                </a:lnTo>
                <a:close/>
              </a:path>
              <a:path fill="lightenLess" w="31749" h="21600">
                <a:moveTo>
                  <a:pt x="0" y="0"/>
                </a:moveTo>
                <a:lnTo>
                  <a:pt x="31749" y="0"/>
                </a:lnTo>
                <a:lnTo>
                  <a:pt x="30349" y="1400"/>
                </a:lnTo>
                <a:lnTo>
                  <a:pt x="1400" y="1400"/>
                </a:lnTo>
                <a:close/>
              </a:path>
              <a:path fill="darken" w="31749" h="21600">
                <a:moveTo>
                  <a:pt x="31749" y="0"/>
                </a:moveTo>
                <a:lnTo>
                  <a:pt x="31749" y="21600"/>
                </a:lnTo>
                <a:lnTo>
                  <a:pt x="30349" y="20200"/>
                </a:lnTo>
                <a:lnTo>
                  <a:pt x="30349" y="1400"/>
                </a:lnTo>
                <a:close/>
              </a:path>
              <a:path fill="darkenLess" w="31749" h="21600">
                <a:moveTo>
                  <a:pt x="31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49" y="20200"/>
                </a:lnTo>
                <a:close/>
              </a:path>
              <a:path fill="lighten" w="31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49" h="21600">
                <a:moveTo>
                  <a:pt x="8868" y="10800"/>
                </a:moveTo>
                <a:lnTo>
                  <a:pt x="22881" y="3794"/>
                </a:lnTo>
                <a:lnTo>
                  <a:pt x="22881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2" name="矩形 7"/>
          <p:cNvSpPr/>
          <p:nvPr/>
        </p:nvSpPr>
        <p:spPr>
          <a:xfrm>
            <a:off x="0" y="1665360"/>
            <a:ext cx="58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040000"/>
                </a:solidFill>
                <a:latin typeface="宋体"/>
                <a:ea typeface="宋体"/>
              </a:rPr>
              <a:t>一）说说我的新学校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3" name="矩形 7"/>
          <p:cNvSpPr/>
          <p:nvPr/>
        </p:nvSpPr>
        <p:spPr>
          <a:xfrm>
            <a:off x="358920" y="333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0000"/>
                </a:solidFill>
                <a:latin typeface="宋体"/>
                <a:ea typeface="宋体"/>
              </a:rPr>
              <a:t>一、初中生活新体验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EA6F-ECDD-4CBE-96F4-9E171115F3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sonic_09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0237"/>
          <p:cNvPicPr/>
          <p:nvPr/>
        </p:nvPicPr>
        <p:blipFill>
          <a:blip r:embed="rId2"/>
          <a:stretch/>
        </p:blipFill>
        <p:spPr>
          <a:xfrm>
            <a:off x="6824520" y="3284640"/>
            <a:ext cx="1830600" cy="3206520"/>
          </a:xfrm>
          <a:prstGeom prst="rect">
            <a:avLst/>
          </a:prstGeom>
          <a:ln w="0">
            <a:noFill/>
          </a:ln>
        </p:spPr>
      </p:pic>
      <p:sp>
        <p:nvSpPr>
          <p:cNvPr id="526" name="WordArt 4"/>
          <p:cNvSpPr txBox="1"/>
          <p:nvPr/>
        </p:nvSpPr>
        <p:spPr>
          <a:xfrm>
            <a:off x="4572000" y="260280"/>
            <a:ext cx="2449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再见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1E41-3032-443C-A5C7-0638ADF48EF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405" name="Picture 31" descr="10508717430207"/>
          <p:cNvPicPr/>
          <p:nvPr/>
        </p:nvPicPr>
        <p:blipFill>
          <a:blip r:embed="rId1"/>
          <a:stretch/>
        </p:blipFill>
        <p:spPr>
          <a:xfrm>
            <a:off x="1511280" y="4221000"/>
            <a:ext cx="5437080" cy="2340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宋体"/>
              </a:rPr>
              <a:t>（二）你的忧虑是什么？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0" y="1015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宋体"/>
              </a:rPr>
              <a:t>（三）你的期望是什么？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8" name="Rectangle 33"/>
          <p:cNvSpPr/>
          <p:nvPr/>
        </p:nvSpPr>
        <p:spPr>
          <a:xfrm>
            <a:off x="0" y="2023920"/>
            <a:ext cx="7524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宋体"/>
              </a:rPr>
              <a:t>（四）生活调色板</a:t>
            </a:r>
            <a:r>
              <a:rPr b="1" lang="en-US" sz="3600" spc="-1" strike="noStrike">
                <a:solidFill>
                  <a:srgbClr val="04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40000"/>
                </a:solidFill>
                <a:latin typeface="宋体"/>
              </a:rPr>
              <a:t>请用你最喜欢       的颜色描述你心目中的初中生活</a:t>
            </a:r>
            <a:r>
              <a:rPr b="1" lang="en-US" sz="3600" spc="-1" strike="noStrike">
                <a:solidFill>
                  <a:srgbClr val="040000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728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对新学校的体会：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2560" y="198108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、学习的科目增多了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、学习的难度加大了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、新同学大多数是陌生的，使人有孤单的感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1" name="Picture 4" descr="l2"/>
          <p:cNvPicPr/>
          <p:nvPr/>
        </p:nvPicPr>
        <p:blipFill>
          <a:blip r:embed="rId1"/>
          <a:stretch/>
        </p:blipFill>
        <p:spPr>
          <a:xfrm>
            <a:off x="3708360" y="5445000"/>
            <a:ext cx="4525920" cy="6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3" descr="图片1大"/>
          <p:cNvPicPr/>
          <p:nvPr/>
        </p:nvPicPr>
        <p:blipFill>
          <a:blip r:embed="rId1"/>
          <a:stretch/>
        </p:blipFill>
        <p:spPr>
          <a:xfrm>
            <a:off x="6742080" y="0"/>
            <a:ext cx="2401920" cy="249228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4"/>
          <p:cNvSpPr/>
          <p:nvPr/>
        </p:nvSpPr>
        <p:spPr>
          <a:xfrm>
            <a:off x="395280" y="2457360"/>
            <a:ext cx="835344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3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40000"/>
                </a:solidFill>
                <a:latin typeface="宋体"/>
                <a:ea typeface="宋体"/>
              </a:rPr>
              <a:t>新学期开始，我是一个中学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宋体"/>
                <a:ea typeface="宋体"/>
              </a:rPr>
              <a:t>生了。我感到很高兴，但又感到孤单。高兴的是我走进了中学这个新的环境、新的集体里读书、学习，孤单的是进入这个新的环境、新的集体中，我认识的人很少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黑体"/>
                <a:ea typeface="黑体"/>
              </a:rPr>
              <a:t>这样的烦恼你有吗？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黑体"/>
                <a:ea typeface="黑体"/>
              </a:rPr>
              <a:t>遇到这种情况该怎么办呢？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287280" y="9079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小情境：“我的烦恼”</a:t>
            </a:r>
            <a:endParaRPr b="0" lang="en-US" sz="4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C4BE-B11F-42DA-8342-DD8823C2392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457200" y="160020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17" name="Text Box 1029">
            <a:hlinkClick r:id="rId1"/>
          </p:cNvPr>
          <p:cNvSpPr/>
          <p:nvPr/>
        </p:nvSpPr>
        <p:spPr>
          <a:xfrm>
            <a:off x="152280" y="1600200"/>
            <a:ext cx="88394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挚友如异体同心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里士多德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正的友情，是一株成长缓慢的植物。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华盛顿人生有一知己已足矣，斯世当以同怀视之。           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鲁迅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358920" y="476280"/>
            <a:ext cx="442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0000"/>
                </a:solidFill>
                <a:latin typeface="Arial Black"/>
                <a:ea typeface="宋体"/>
              </a:rPr>
              <a:t>二、珍惜新友谊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72B9-9947-4340-A89A-D6D07F971CA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7848720" y="587700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10800"/>
                </a:moveTo>
                <a:lnTo>
                  <a:pt x="21046" y="3794"/>
                </a:lnTo>
                <a:lnTo>
                  <a:pt x="21046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1" name="WordArt 3"/>
          <p:cNvSpPr txBox="1"/>
          <p:nvPr/>
        </p:nvSpPr>
        <p:spPr>
          <a:xfrm rot="5400000">
            <a:off x="-1042920" y="3716280"/>
            <a:ext cx="401616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6200000"/>
                </a:gradFill>
                <a:latin typeface="宋体"/>
              </a:rPr>
              <a:t>结识新朋友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6200000"/>
              </a:gradFill>
              <a:latin typeface="宋体"/>
              <a:ea typeface="宋体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934920" y="692280"/>
            <a:ext cx="529272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步骤一：制作个性化名片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423" name="Group 5"/>
          <p:cNvGrpSpPr/>
          <p:nvPr/>
        </p:nvGrpSpPr>
        <p:grpSpPr>
          <a:xfrm>
            <a:off x="1835280" y="1521000"/>
            <a:ext cx="5486040" cy="5104800"/>
            <a:chOff x="1835280" y="1521000"/>
            <a:chExt cx="5486040" cy="5104800"/>
          </a:xfrm>
        </p:grpSpPr>
        <p:sp>
          <p:nvSpPr>
            <p:cNvPr id="424" name="Oval 6"/>
            <p:cNvSpPr/>
            <p:nvPr/>
          </p:nvSpPr>
          <p:spPr>
            <a:xfrm>
              <a:off x="3823920" y="3377160"/>
              <a:ext cx="1508400" cy="139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的姓名：</a:t>
              </a:r>
              <a:endParaRPr b="0" lang="en-US" sz="24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425" name="Oval 7"/>
            <p:cNvSpPr/>
            <p:nvPr/>
          </p:nvSpPr>
          <p:spPr>
            <a:xfrm>
              <a:off x="1835280" y="4239360"/>
              <a:ext cx="1508760" cy="139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经常说的</a:t>
              </a:r>
              <a:endParaRPr b="0" lang="en-US" sz="2400" spc="-1" strike="noStrike">
                <a:solidFill>
                  <a:srgbClr val="ffffff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一句话：</a:t>
              </a:r>
              <a:endParaRPr b="0" lang="en-US" sz="24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426" name="Oval 8"/>
            <p:cNvSpPr/>
            <p:nvPr/>
          </p:nvSpPr>
          <p:spPr>
            <a:xfrm>
              <a:off x="5744160" y="4371840"/>
              <a:ext cx="1508760" cy="139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最喜欢做</a:t>
              </a:r>
              <a:endParaRPr b="0" lang="en-US" sz="2400" spc="-1" strike="noStrike">
                <a:solidFill>
                  <a:srgbClr val="ffffff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的一个动作：</a:t>
              </a:r>
              <a:endParaRPr b="0" lang="en-US" sz="24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3823920" y="5233680"/>
              <a:ext cx="1508400" cy="139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其他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……</a:t>
              </a:r>
              <a:endParaRPr b="0" lang="en-US" sz="24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428" name="Oval 10"/>
            <p:cNvSpPr/>
            <p:nvPr/>
          </p:nvSpPr>
          <p:spPr>
            <a:xfrm>
              <a:off x="5812560" y="2449080"/>
              <a:ext cx="1508760" cy="139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的个性：</a:t>
              </a:r>
              <a:endParaRPr b="0" lang="en-US" sz="24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429" name="Oval 11"/>
            <p:cNvSpPr/>
            <p:nvPr/>
          </p:nvSpPr>
          <p:spPr>
            <a:xfrm>
              <a:off x="1903680" y="2250360"/>
              <a:ext cx="1508760" cy="139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的爱好：</a:t>
              </a:r>
              <a:endParaRPr b="0" lang="en-US" sz="24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430" name="Oval 12"/>
            <p:cNvSpPr/>
            <p:nvPr/>
          </p:nvSpPr>
          <p:spPr>
            <a:xfrm>
              <a:off x="3892320" y="1521000"/>
              <a:ext cx="1508760" cy="139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的生日：</a:t>
              </a:r>
              <a:endParaRPr b="0" lang="en-US" sz="24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206880" y="4305240"/>
              <a:ext cx="685440" cy="264960"/>
              <a:chOff x="3206880" y="4305240"/>
              <a:chExt cx="685440" cy="264960"/>
            </a:xfrm>
          </p:grpSpPr>
          <p:sp>
            <p:nvSpPr>
              <p:cNvPr id="432" name="Line 13"/>
              <p:cNvSpPr/>
              <p:nvPr/>
            </p:nvSpPr>
            <p:spPr>
              <a:xfrm flipV="1">
                <a:off x="3206880" y="4305240"/>
                <a:ext cx="685440" cy="264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 rot="10800000">
                <a:off x="3206880" y="4305240"/>
                <a:ext cx="685440" cy="26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4646880" y="4769640"/>
              <a:ext cx="360" cy="464040"/>
              <a:chOff x="4646880" y="4769640"/>
              <a:chExt cx="360" cy="464040"/>
            </a:xfrm>
          </p:grpSpPr>
          <p:sp>
            <p:nvSpPr>
              <p:cNvPr id="435" name="Line 14"/>
              <p:cNvSpPr/>
              <p:nvPr/>
            </p:nvSpPr>
            <p:spPr>
              <a:xfrm>
                <a:off x="4646880" y="4769640"/>
                <a:ext cx="0" cy="464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4646880" y="4769640"/>
                <a:ext cx="360" cy="46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4646880" y="2913120"/>
              <a:ext cx="360" cy="464040"/>
              <a:chOff x="4646880" y="2913120"/>
              <a:chExt cx="360" cy="464040"/>
            </a:xfrm>
          </p:grpSpPr>
          <p:sp>
            <p:nvSpPr>
              <p:cNvPr id="438" name="Line 15"/>
              <p:cNvSpPr/>
              <p:nvPr/>
            </p:nvSpPr>
            <p:spPr>
              <a:xfrm>
                <a:off x="4646880" y="2913120"/>
                <a:ext cx="0" cy="464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4646880" y="2913120"/>
                <a:ext cx="360" cy="46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3344040" y="3178440"/>
              <a:ext cx="685800" cy="397440"/>
              <a:chOff x="3344040" y="3178440"/>
              <a:chExt cx="685800" cy="397440"/>
            </a:xfrm>
          </p:grpSpPr>
          <p:sp>
            <p:nvSpPr>
              <p:cNvPr id="441" name="Line 16"/>
              <p:cNvSpPr/>
              <p:nvPr/>
            </p:nvSpPr>
            <p:spPr>
              <a:xfrm>
                <a:off x="3344040" y="3178440"/>
                <a:ext cx="685800" cy="397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3344040" y="3178440"/>
                <a:ext cx="685800" cy="39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264280" y="3443760"/>
              <a:ext cx="617040" cy="331200"/>
              <a:chOff x="5264280" y="3443760"/>
              <a:chExt cx="617040" cy="331200"/>
            </a:xfrm>
          </p:grpSpPr>
          <p:sp>
            <p:nvSpPr>
              <p:cNvPr id="444" name="Line 17"/>
              <p:cNvSpPr/>
              <p:nvPr/>
            </p:nvSpPr>
            <p:spPr>
              <a:xfrm flipV="1">
                <a:off x="5264280" y="3443760"/>
                <a:ext cx="617040" cy="331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 rot="10800000">
                <a:off x="5264280" y="3443760"/>
                <a:ext cx="617040" cy="33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264280" y="4371840"/>
              <a:ext cx="548280" cy="397440"/>
              <a:chOff x="5264280" y="4371840"/>
              <a:chExt cx="548280" cy="397440"/>
            </a:xfrm>
          </p:grpSpPr>
          <p:sp>
            <p:nvSpPr>
              <p:cNvPr id="447" name="Line 18"/>
              <p:cNvSpPr/>
              <p:nvPr/>
            </p:nvSpPr>
            <p:spPr>
              <a:xfrm>
                <a:off x="5264280" y="4371840"/>
                <a:ext cx="548280" cy="397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>
                <a:off x="5264280" y="4371840"/>
                <a:ext cx="548280" cy="39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BC9D-4B12-4549-AF48-3E88D2D2DE3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0" name="Text Box 27"/>
          <p:cNvSpPr/>
          <p:nvPr/>
        </p:nvSpPr>
        <p:spPr>
          <a:xfrm>
            <a:off x="1116000" y="1773360"/>
            <a:ext cx="7380360" cy="4350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步骤二：找呀找呀找朋友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黑体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1" name="Text Box 28"/>
          <p:cNvSpPr/>
          <p:nvPr/>
        </p:nvSpPr>
        <p:spPr>
          <a:xfrm>
            <a:off x="1042920" y="3500280"/>
            <a:ext cx="62294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_____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等是同一所学校的         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_____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等是同一个月出生的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_____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等有着同样的兴趣爱好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2" name="WordArt 7"/>
          <p:cNvSpPr txBox="1"/>
          <p:nvPr/>
        </p:nvSpPr>
        <p:spPr>
          <a:xfrm rot="5400000">
            <a:off x="-1865880" y="2773440"/>
            <a:ext cx="49532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6200000"/>
                </a:gradFill>
                <a:latin typeface="宋体"/>
              </a:rPr>
              <a:t>结识新朋友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62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3640" y="1844640"/>
            <a:ext cx="828036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与同学友好相处的金钥匙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216000" y="657360"/>
            <a:ext cx="611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0000"/>
                </a:solidFill>
                <a:latin typeface="Arial Black"/>
                <a:ea typeface="宋体"/>
              </a:rPr>
              <a:t>三、与新朋友结伴同行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0" y="3465360"/>
            <a:ext cx="7056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86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真诚、热情、态度友好  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18666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-6480" y="4292640"/>
            <a:ext cx="691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86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宽容、豁达、不斤斤计较           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18666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800360" y="5013360"/>
            <a:ext cx="57960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86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               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互相帮助、互相信任、互相尊重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18666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2:48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41Z</dcterms:modified>
  <cp:revision>7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LCID">
    <vt:r8>2052</vt:r8>
  </property>
  <property fmtid="{D5CDD505-2E9C-101B-9397-08002B2CF9AE}" pid="4" name="Version">
    <vt:r8>1</vt:r8>
  </property>
</Properties>
</file>