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1F1B-E39C-416A-96D7-DBD7D3F6C4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81A2-79E8-4481-83F1-8299E47B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69AF1C-96E2-4F44-86C6-E98E496B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F53E6D-7A84-44DC-A4C6-C50D0EC7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31C9DE-697C-436F-B4BD-87455B7F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17B8FB-FB4B-4C9E-9331-1BFA8BF2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7F3D9-4252-440E-8F87-666B1D0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11ADA2-7D50-4B4A-8F4F-9F6741A0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301F41-F2C3-4461-8B3C-B9B9422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A3FE22-DF72-4E13-802A-3809904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3B3E19-F49A-4B06-B792-E85D0C1E57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7D212-F4FD-42E7-8158-41B76EBE3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BFA7-DD8D-4F9C-9613-DBD4869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35012-2347-48B9-AAA1-40DC6DE7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6C00C-9394-4631-A019-954013E0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BD466-B20B-4011-A322-97367F05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16C43-BB98-48B3-9436-B3EE1B2E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5E72-A61D-463D-A43E-53C70B23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1A3E5-8469-49E7-AAE2-79D859A7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DF26-B459-4B46-B96A-6865CAA6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304F7-AAD6-4EDF-97C1-B9CA72BF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26367-C36B-48B8-A709-3E56CCB9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D7721-8D03-4039-8906-AB7699D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34A3-0B75-4D8C-A65B-3F538BFB8A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7E828-66E0-4C99-87AB-896900EE4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83250D-D847-491F-9CF7-4137FE38E7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3D26FA-AEA3-40F3-B620-47913207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EBEE11-EFDA-4655-82CD-C4FE766A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99161B-85AA-4E24-B72E-D9DE9ED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E6F78A-BB73-43AA-9C88-E00F466A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0D0691-226E-43AE-B4FE-20F1B9E6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262C9E-8AF3-45D0-8392-F93213F4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8F049-970F-4E4F-BE9A-91F7A0FE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370B8-2634-40BF-93E7-C3A4F19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2F7EC-C1FA-497B-9445-C3BE2F93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3743C8-DDB6-4B2B-8C87-59B811B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AAE03-F488-4940-9484-F8810F8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7644D-FE28-4DA2-82B8-ACF03B572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0D6AC-659E-4AE9-9472-4EF508EE2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91CB4-6A7D-4536-B587-93CAF928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F129A-03A6-4685-A6B0-CAF25807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7812B-25FA-49DC-AB0B-520E4FE6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2BC9A-1F80-409A-9108-88F5ACD6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2227D-EA57-4734-A0E5-0787A7BE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AAC14-9B7C-4412-A94F-BC45E55E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3F414-8DB9-4973-AB4A-26B05862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9AA97-77C7-4473-B959-23B48D3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791CE-EA0C-4B05-8443-5E44C786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92F62-0D95-464F-AA44-0E55DC24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634E1-8AC2-4988-A586-7F3B2A3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45F7B-6EE5-49CB-81C4-87E250F284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2BB1E-F952-4FA1-8176-335CB7839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E0FB3-0668-4CFF-834B-E8E8356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F7E2F-866C-44D0-9AC8-D84439E3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F704C-5C9C-421E-88A8-2F4B37E1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CB27B-7AE8-4601-8F18-EB949979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15289-3792-46E6-9194-BB09527F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7F94C-6A5C-4DFB-AB18-BFEF579B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475CD-58F4-4C47-B7AE-A2865C8F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D0396-B508-48D4-926E-ACE0A37C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48229-EF9E-4913-B1AB-3A173C5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B4192-7D0F-40C9-9A80-A45A1D8D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39685-5E8A-4451-B7D9-1E17E62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B900B-80A8-41CA-ADA7-5EA820EB8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84AA9-63E3-4FAC-B19A-56282E2A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8EE4C-5857-4E37-9E56-49F83D3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B4D3D-D871-423E-B577-8D9417F3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4CE34-3FF6-436C-8E02-2EF62B37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3A19-4177-4B75-8C86-CA786564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7BC74-FD7C-484A-840D-FE3C4BEF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B82A-B4B5-4F11-B3B6-457DA43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6ECDE-8803-4891-B30C-5F2A9B4B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806B4-36D9-49C4-816B-C1A63709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88058-04D9-4614-A8C1-D81F86EE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F4A4D-CFCC-4247-A38E-080220A24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F2CC8-24F2-46FD-9236-9682B993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F268B1-0C69-42DC-8AF1-F4A43699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2D9A4-CBC9-4F0A-A7C0-A47E413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9C73C-C786-4B66-AB80-B2EBC64E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440E-9C42-495E-AB24-FF3F36A8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B0BC0-C39F-45CA-9FB6-29EB303B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84A82-2A39-4607-9283-48FDCD08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5AF9B-7F50-44A0-85BE-7DBCA9BF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F3E4B-539B-4B10-8334-830F948C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AFC51-305B-4920-AB7F-9D5EF7FB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04CAB-BADB-4190-B663-AD8D0A03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F4A8E-4C03-4707-B03C-2DE89E428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681A-B3A2-4A5F-AFFE-5958B7B49F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C170-4943-4139-BB7E-E087BB68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E319-B2E6-4BAA-AFA2-6AC19BEA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FD60-17FA-4766-90A3-E16B30CC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026FC-5C0E-46EF-BCAA-6ABD388F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C6F1-CDD5-46BD-A980-5B52882F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6C81-C7C2-4BF5-93BC-72BF3541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0119-0D01-4099-AD9A-23482785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F122C-D066-40D8-A875-898854B8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07F1-8172-4271-9D19-39EBB7B7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832D6-812A-4260-9B8F-B04210BD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199D-218D-4C81-89E7-ED63918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A94A-B6FA-4E45-849F-99C17A95A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887A6-91A9-4F04-85A0-CB4C492A1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86F1-606C-412C-A2F1-4FA97F96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974B9-A3CA-4CCC-8B3E-AE39299D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F45F8-77F9-4C3F-83F5-37CE5E6C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1D426-5926-4200-AB05-7D6672A0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C21DD-4769-4157-BA9C-31EEBF92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6CD67-C42A-4062-8319-11D0024A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C5A82-5740-4962-A4F1-2478EC2A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3B136-1CB4-4431-BA7C-8EA3CC1D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00375-8672-435B-BD88-8A8966D2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84CA2-EFAA-433F-B9A4-65AF7202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09DB2-5725-4DB4-B535-58A32C5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8BB8-CB74-4237-800A-4C53B9B5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3B6E6-4614-4B01-A532-C0490F85B8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08C5EA-3673-48ED-BEAE-2EABBF2F21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0FAD54-5B9B-47D7-B7D5-F58A763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32E9E4-2EA4-462C-9C64-F7774223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D320B4-4735-4FE3-B058-6278A06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B8FF7C-1A4E-4906-B336-10C208E8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36C97C-6AE2-4A74-A6B1-E913F701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D49C15-1A4E-4B7C-AC7D-11E5EA5A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D3987-CEF3-499B-A33A-94DC44FD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A39B8-E857-4424-9E4F-80D0BA1E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68C2-9294-4C84-AF5D-CF76FA84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274BC2-5504-4E5D-9ED4-608531A2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5CB2B0-26E3-4579-A3C3-C151196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7D2882-5B06-447C-B902-8B5991536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02CE7-74D6-421B-AA4F-80F9BD629B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BB4E-2C87-49E2-B273-B832A717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51CA-5545-49EF-BC19-B1FAF2F0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CEA6-1901-48D0-BF28-8E41CDEF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4218D-5A04-4DA2-B80F-6010D88B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64FA-A649-4629-BBCB-F17A7DD1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69ED-B9F4-4FD7-9060-23A119E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9C0A-D4FE-4E8F-B88D-81A8334E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91DC7-C2D5-4D34-A0A4-7C15E67C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9012-3BA0-4326-AF6B-F7BE014A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10D1-3B06-4EB4-8FA0-0899B337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6C92-15EB-4396-9169-BD2E7EDC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265A8-F5D8-4F47-9C14-E1F6CD2C1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AC238-B15D-4D42-9121-908BC154D4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105CA-37EB-4926-820F-CFB3D684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D4B7B-6541-4747-9F13-99CDB799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B65F3-EF28-4E0E-8623-E5B9BE2E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6FF9D-59E6-4141-A211-DA3FD73C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DD7A-A25A-4D4F-807A-E3248A9D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8A152-51CE-4E6A-9FA5-DFD6036D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FD6813-28F4-42F1-9308-44EB9689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74FB6-51D2-4024-B39A-E83FC46A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52995-0D28-4848-94DA-CB6DA0EE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B13E9-F52E-4555-AD96-B3899088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63AE7-CEB3-47F8-8C1C-48D38C3B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F56A3-6A17-418A-AC41-336D7C272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FBC29-B308-43C6-AE05-927BA759B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8CB819-6897-4196-BAAB-C78E6786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939EBD-5C45-43CD-BE96-3FA461B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62AF-6D4D-4DF4-BD74-8EF9FBAE2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C474-121D-4885-AB0A-7D1E9E67E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1A80-F0DC-4BAC-B968-919014720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487E-70FB-4162-9691-529022A3A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0E96-3EA2-4B58-AF0E-DEC6D6142E7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6274-3407-448E-94DA-BA31B7D8A9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CA5E-FDA5-4EE6-8E09-B03D01707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A954-3200-48FF-A799-9EBB7CF43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FDD3-44AE-4FBD-BB54-84118FB08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3AEE-42E2-46CD-80A3-F4705DB64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E2D6-7090-41CF-AF86-FD6139A8F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2363-0D87-4E3B-A1B5-EC2300CC5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5F70-DE5B-468F-BC98-56654D63E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1"/>
          <p:cNvSpPr/>
          <p:nvPr/>
        </p:nvSpPr>
        <p:spPr>
          <a:xfrm>
            <a:off x="2411280" y="7761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15" descr=""/>
          <p:cNvPicPr/>
          <p:nvPr/>
        </p:nvPicPr>
        <p:blipFill>
          <a:blip r:embed="rId1"/>
          <a:stretch/>
        </p:blipFill>
        <p:spPr>
          <a:xfrm>
            <a:off x="0" y="-1143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6" descr="zmfg011"/>
          <p:cNvPicPr/>
          <p:nvPr/>
        </p:nvPicPr>
        <p:blipFill>
          <a:blip r:embed="rId2"/>
          <a:srcRect l="0" t="0" r="0" b="143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7"/>
          <p:cNvSpPr txBox="1"/>
          <p:nvPr/>
        </p:nvSpPr>
        <p:spPr>
          <a:xfrm>
            <a:off x="1546200" y="1125360"/>
            <a:ext cx="66168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雪语文课件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0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66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302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我爱你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塞北的雪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4360" y="1052280"/>
            <a:ext cx="80071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我爱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塞北的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飘飘洒洒漫天遍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你的舞姿是那样的轻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你的心地是那样的纯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你是春雨的亲姐妹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你是春天派出的使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春天的使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我爱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塞北的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飘飘洒洒漫天遍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你用白玉般的身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装扮银光闪闪的世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你把生命溶进土地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滋润着道边的麦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迎春的花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!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我爱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塞北的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塞北的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字词读写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50560" y="907920"/>
            <a:ext cx="85215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磬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口（       ）脂粉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奁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（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朔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方（       ）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博识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消释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凛冽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灼灼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升腾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闪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                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981080" y="9079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qì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294880" y="907920"/>
            <a:ext cx="8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li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979640" y="1557360"/>
            <a:ext cx="10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shu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2797200" y="2205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学识丰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2485080" y="2852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消融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溶化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870920" y="364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ǐn liè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5186160" y="3645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刺骨地寒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1766520" y="4292640"/>
            <a:ext cx="19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huó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2"/>
          <p:cNvSpPr/>
          <p:nvPr/>
        </p:nvSpPr>
        <p:spPr>
          <a:xfrm>
            <a:off x="4597200" y="4292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形容明亮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4521600" y="4869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火焰、气体等）向上升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1979640" y="5516640"/>
            <a:ext cx="26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ǎn  shu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整体感知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50920" y="1268280"/>
            <a:ext cx="8594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有感情地朗读，揣摩作者的思想感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再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分别划出描绘江南的雪和朔方的雪的词句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再概括它们的特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你认为最能体现文章主旨的句子是哪一句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你是怎样理解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:“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孤独的雪”、“死掉的雨”、“雨的精魂”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研读赏析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23640" y="1125360"/>
            <a:ext cx="85215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怎样描写江南的雪？哪一短语最能概括江南的雪的特点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怎样描写朔方的雪？朔方的雪有什么特点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更喜欢哪里的雪？从哪些词语能看出来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对江南的雪及北方的雪的描绘，引起了你怎样的联想？你觉得全文表达了作者怎样的思想感情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文本框 8197"/>
          <p:cNvSpPr/>
          <p:nvPr/>
        </p:nvSpPr>
        <p:spPr>
          <a:xfrm>
            <a:off x="2916360" y="3068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0" y="-360"/>
            <a:ext cx="914400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36756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江南的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367560" y="17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滋润美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6"/>
          <p:cNvSpPr/>
          <p:nvPr/>
        </p:nvSpPr>
        <p:spPr>
          <a:xfrm>
            <a:off x="1763640" y="620640"/>
            <a:ext cx="432000" cy="259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70920 h 2592360"/>
              <a:gd name="textAreaBottom" fmla="*/ 25214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6"/>
                  <a:pt x="10800" y="1891"/>
                </a:cubicBezTo>
                <a:lnTo>
                  <a:pt x="10800" y="7910"/>
                </a:lnTo>
                <a:cubicBezTo>
                  <a:pt x="10800" y="8856"/>
                  <a:pt x="5400" y="9801"/>
                  <a:pt x="0" y="9801"/>
                </a:cubicBezTo>
                <a:cubicBezTo>
                  <a:pt x="5400" y="9801"/>
                  <a:pt x="10800" y="10747"/>
                  <a:pt x="10800" y="11692"/>
                </a:cubicBezTo>
                <a:lnTo>
                  <a:pt x="10800" y="19709"/>
                </a:lnTo>
                <a:cubicBezTo>
                  <a:pt x="10800" y="206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43828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青春的消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2509920" y="90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处子的皮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2601360" y="1484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冬花杂草蜜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2529720" y="21337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晴天消释雪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汉的肌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367560" y="44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北国的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2804040" y="328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如粉如沙，决不粘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2692800" y="3789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随旋风蓬勃奋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2875680" y="4365720"/>
            <a:ext cx="26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在日光中，如包藏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焰的大雪旋转升腾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漫太空，使太空放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而且升腾闪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15"/>
          <p:cNvSpPr/>
          <p:nvPr/>
        </p:nvSpPr>
        <p:spPr>
          <a:xfrm>
            <a:off x="1908000" y="3500280"/>
            <a:ext cx="142920" cy="3024360"/>
          </a:xfrm>
          <a:custGeom>
            <a:avLst/>
            <a:gdLst>
              <a:gd name="textAreaLeft" fmla="*/ 91440 w 142920"/>
              <a:gd name="textAreaRight" fmla="*/ 143280 w 142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5400" y="10806"/>
                  <a:pt x="0" y="10806"/>
                </a:cubicBezTo>
                <a:cubicBezTo>
                  <a:pt x="54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17"/>
          <p:cNvSpPr/>
          <p:nvPr/>
        </p:nvSpPr>
        <p:spPr>
          <a:xfrm>
            <a:off x="6227640" y="476280"/>
            <a:ext cx="368280" cy="2592360"/>
          </a:xfrm>
          <a:custGeom>
            <a:avLst/>
            <a:gdLst>
              <a:gd name="textAreaLeft" fmla="*/ 0 w 368280"/>
              <a:gd name="textAreaRight" fmla="*/ 132840 w 3682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7"/>
                </a:lnTo>
                <a:cubicBezTo>
                  <a:pt x="10800" y="9907"/>
                  <a:pt x="16200" y="10807"/>
                  <a:pt x="21600" y="10807"/>
                </a:cubicBezTo>
                <a:cubicBezTo>
                  <a:pt x="16200" y="10807"/>
                  <a:pt x="10800" y="11707"/>
                  <a:pt x="10800" y="1260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8"/>
          <p:cNvSpPr/>
          <p:nvPr/>
        </p:nvSpPr>
        <p:spPr>
          <a:xfrm>
            <a:off x="6719760" y="83664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美丽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充满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AutoShape 19"/>
          <p:cNvSpPr/>
          <p:nvPr/>
        </p:nvSpPr>
        <p:spPr>
          <a:xfrm>
            <a:off x="6156360" y="3500280"/>
            <a:ext cx="368280" cy="2881440"/>
          </a:xfrm>
          <a:custGeom>
            <a:avLst/>
            <a:gdLst>
              <a:gd name="textAreaLeft" fmla="*/ 0 w 368280"/>
              <a:gd name="textAreaRight" fmla="*/ 132840 w 36828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0"/>
          <p:cNvSpPr/>
          <p:nvPr/>
        </p:nvSpPr>
        <p:spPr>
          <a:xfrm>
            <a:off x="6648120" y="400536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悲壮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雄浑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21"/>
          <p:cNvSpPr/>
          <p:nvPr/>
        </p:nvSpPr>
        <p:spPr>
          <a:xfrm>
            <a:off x="7885080" y="981000"/>
            <a:ext cx="152280" cy="1490760"/>
          </a:xfrm>
          <a:custGeom>
            <a:avLst/>
            <a:gdLst>
              <a:gd name="textAreaLeft" fmla="*/ 0 w 152280"/>
              <a:gd name="textAreaRight" fmla="*/ 55080 w 15228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22"/>
          <p:cNvSpPr/>
          <p:nvPr/>
        </p:nvSpPr>
        <p:spPr>
          <a:xfrm>
            <a:off x="7812000" y="4221000"/>
            <a:ext cx="297000" cy="1440000"/>
          </a:xfrm>
          <a:custGeom>
            <a:avLst/>
            <a:gdLst>
              <a:gd name="textAreaLeft" fmla="*/ 0 w 297000"/>
              <a:gd name="textAreaRight" fmla="*/ 107280 w 297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2"/>
                </a:lnTo>
                <a:cubicBezTo>
                  <a:pt x="10800" y="9912"/>
                  <a:pt x="16200" y="10812"/>
                  <a:pt x="21600" y="10812"/>
                </a:cubicBezTo>
                <a:cubicBezTo>
                  <a:pt x="16200" y="10812"/>
                  <a:pt x="10800" y="11712"/>
                  <a:pt x="10800" y="126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810540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追求美好理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24"/>
          <p:cNvSpPr/>
          <p:nvPr/>
        </p:nvSpPr>
        <p:spPr>
          <a:xfrm>
            <a:off x="8105400" y="3000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充满斗争精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367560" y="49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寒冷孤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5BF6-B14B-46C3-83A5-E7632BB2A221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0" y="15552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作者的思想感情是通过对北方的雪的赞颂表现出来的。“朔方的雪”以孤独不妥协的姿态向世界宣告它的存在，孤独寂寞之中谱写了一曲最为动人的乐章：“凛冽的天宇下”，北方的雪俨然是一个斗士，它“蓬勃地奋飞”，弥漫于太空中，“使太空旋转而且升腾地闪烁”，像是一个奔放的挑战者。像江南的雪那种平和恬静的美固然能让人欢喜，相比而言，最值得称赞的还是在孤独是境遇下独自抗争的北方的雪。北方的雪最为形象地体现了鲁迅看重的独立与张扬的个性精神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奋飞之际，北方的雪似乎也有点振臂一呼却应者寥寥的寂寞，但正是这种寂寞，更凸现出坚守自身的可贵，这也是鲁迅不同于一般作家的地方：甘于不被理解，义无反顾，决意向死而生，“从无所希望中得救”。所以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仅是一支不同凡响的雪之绝唱，更是一曲响彻云霄的人的精神的赞歌。美景、美情相得益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5:46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09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