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91C-3041-44D5-96A5-22182DD1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83CE-C53F-4EC9-863E-CB090023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5F74-D281-4014-9191-E0231DC8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56A-FA98-4A61-924A-71B3C7BC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EC42-1CE0-466E-BFA8-844D587C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1736-3BFE-43CE-BB44-A08DFA4E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4472-FBD3-48D1-B24F-922E9496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E56D-251C-4ED2-B2ED-5A8C42E5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E64E-6168-4962-9804-5AEDFA91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D5C1-99FB-4CD5-A46F-F8AEB6D7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1598-614F-4251-9D34-E0C8B3FF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9B8-0DE1-4552-B472-C3BA4AF5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D07A-4755-42A1-9661-5CEF6EB6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E327-2177-460D-965C-A05B95CB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3517-773C-476B-89B1-62BB5E11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9A0E-0A7F-403E-A365-E291DD0F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73C1-357A-41EA-A360-C8F3C049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540D3-9061-4B88-9D78-7AE6B4BB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4E065-32CA-4D5C-A51A-6FDC2B69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0823B-DAF5-4C33-B5DE-84BDC3DC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CA2EF-F04A-499E-918A-55BB3894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396D4-DD87-4776-9072-F96A2547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E1F-552F-47FD-A54A-AB125348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61509-3944-4564-BAFC-92593379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CAB92-591C-4028-9FC0-01A2065A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BB998-BA64-4B75-B33B-1C83A62D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4F4B3-290C-4E21-BB90-1F4A515E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75423-82D6-4F31-9EDB-1AFA562B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340FE-F7A6-4EE0-8F9B-B48CEADB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C89CE-64BB-4001-92DC-B9CC0B57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F2D4-C332-4B03-AF85-0867CDCE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318-B128-421D-BED1-9D464FED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5C46-3496-4B44-9FFF-A3230B95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FC8-DB9C-404D-9E54-A2F1AE6B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4FC-BD4E-4F39-916A-9B795723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F2B-D869-4069-92D0-A09FC85E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3120"/>
            <a:ext cx="7614720" cy="1107720"/>
            <a:chOff x="1071720" y="303120"/>
            <a:chExt cx="7614720" cy="110772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3120"/>
              <a:ext cx="1104840" cy="11062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3120"/>
              <a:ext cx="1103400" cy="11062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4560"/>
              <a:ext cx="1103040" cy="11062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3120"/>
              <a:ext cx="1103400" cy="11062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3120"/>
              <a:ext cx="1103400" cy="11062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02D1-0524-4B32-8E7B-BF1F7117E5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9306-727D-400B-8AF3-87DDF4290F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658520" y="1600200"/>
            <a:ext cx="6838560" cy="3200400"/>
            <a:chOff x="1658520" y="1600200"/>
            <a:chExt cx="6838560" cy="3200400"/>
          </a:xfrm>
        </p:grpSpPr>
        <p:sp>
          <p:nvSpPr>
            <p:cNvPr id="89" name="Oval 3"/>
            <p:cNvSpPr/>
            <p:nvPr/>
          </p:nvSpPr>
          <p:spPr>
            <a:xfrm flipH="1">
              <a:off x="697284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"/>
            <p:cNvSpPr/>
            <p:nvPr/>
          </p:nvSpPr>
          <p:spPr>
            <a:xfrm flipH="1">
              <a:off x="518220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"/>
            <p:cNvSpPr/>
            <p:nvPr/>
          </p:nvSpPr>
          <p:spPr>
            <a:xfrm flipH="1">
              <a:off x="339120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6"/>
            <p:cNvSpPr/>
            <p:nvPr/>
          </p:nvSpPr>
          <p:spPr>
            <a:xfrm flipH="1">
              <a:off x="339120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 flipH="1">
              <a:off x="697284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3B0E-614F-442D-9424-5BB7B2F08D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&#23041;&#32961;&#20581;&#24247;&#30340;&#30142;&#30149;.ppt" TargetMode="External"/><Relationship Id="rId2" Type="http://schemas.openxmlformats.org/officeDocument/2006/relationships/hyperlink" Target="&#23041;&#32961;&#20581;&#24247;&#30340;&#30142;&#30149;.ppt" TargetMode="External"/><Relationship Id="rId3" Type="http://schemas.openxmlformats.org/officeDocument/2006/relationships/hyperlink" Target="&#23041;&#32961;&#20581;&#24247;&#30340;&#30142;&#30149;.ppt" TargetMode="External"/><Relationship Id="rId4" Type="http://schemas.openxmlformats.org/officeDocument/2006/relationships/hyperlink" Target="&#23041;&#32961;&#20581;&#24247;&#30340;&#30142;&#30149;.ppt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657360" y="1330200"/>
            <a:ext cx="7829280" cy="2743200"/>
          </a:xfrm>
          <a:prstGeom prst="horizontalScroll">
            <a:avLst>
              <a:gd name="adj" fmla="val 6800"/>
            </a:avLst>
          </a:prstGeom>
          <a:solidFill>
            <a:srgbClr val="ffffff"/>
          </a:solidFill>
          <a:ln w="34920">
            <a:solidFill>
              <a:srgbClr val="000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57360" y="2014560"/>
            <a:ext cx="797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二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选择健康的生活方式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2005920" y="18036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水蚤在不同浓度的</a:t>
            </a:r>
            <a:r>
              <a:rPr b="1" lang="zh-CN" sz="3600" spc="-1" strike="noStrike">
                <a:solidFill>
                  <a:srgbClr val="cc00ff"/>
                </a:solidFill>
                <a:latin typeface="宋体"/>
              </a:rPr>
              <a:t>烟草浸出液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的心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76360" y="1190520"/>
          <a:ext cx="7416720" cy="3160800"/>
        </p:xfrm>
        <a:graphic>
          <a:graphicData uri="http://schemas.openxmlformats.org/drawingml/2006/table">
            <a:tbl>
              <a:tblPr/>
              <a:tblGrid>
                <a:gridCol w="1484280"/>
                <a:gridCol w="1482840"/>
                <a:gridCol w="1482480"/>
                <a:gridCol w="1482840"/>
                <a:gridCol w="1484280"/>
              </a:tblGrid>
              <a:tr h="547560">
                <a:tc>
                  <a:txBody>
                    <a:bodyPr lIns="86040" rIns="86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清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 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 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 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平均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43"/>
          <p:cNvSpPr/>
          <p:nvPr/>
        </p:nvSpPr>
        <p:spPr>
          <a:xfrm>
            <a:off x="507960" y="4583160"/>
            <a:ext cx="72979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结论：烟草浸出液对水蚤心率有促进作用，浓度越高，心跳越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0"/>
            <a:ext cx="17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讨论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49400" y="0"/>
            <a:ext cx="7246800" cy="691200"/>
          </a:xfrm>
          <a:prstGeom prst="rect">
            <a:avLst/>
          </a:prstGeom>
          <a:solidFill>
            <a:srgbClr val="ccccff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１、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酒精或烟草浸出液对水蚤心率有什么影响？怎么解释这种现象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69920" y="4295880"/>
            <a:ext cx="84661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２、酗酒和吸烟对人体的健康可能有哪些危害？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02"/>
          <p:cNvPicPr/>
          <p:nvPr/>
        </p:nvPicPr>
        <p:blipFill>
          <a:blip r:embed="rId1"/>
          <a:stretch/>
        </p:blipFill>
        <p:spPr>
          <a:xfrm>
            <a:off x="6400800" y="1768320"/>
            <a:ext cx="2554200" cy="28148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237960" y="1406520"/>
            <a:ext cx="63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水蚤心率很容易受到酒精的影响。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蚤心率会随着酒精浓度的增加而逐渐减少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当酒精的体积分数达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%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时，水蚤会因为酒精浓度过大而导致死亡。分析其原因，就很容易得出，酒精具有麻醉作用，所以会减缓心脏的跳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烟草浸出液对水蚤心率有促进作用，浓度越高，促进作用越强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04920" y="4944960"/>
            <a:ext cx="8064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酗酒会损害人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神经系统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，使人神经衰弱，智力减退，长期酗酒会使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酒精中毒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，甚至导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死亡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吸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人体的神经系统会造成损害，使人的记忆力和注意力降低，同时还能诱发多种呼吸系统疾病，如慢性支气管炎等，还有可能会诱发肺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烟酒的危害"/>
          <p:cNvPicPr/>
          <p:nvPr/>
        </p:nvPicPr>
        <p:blipFill>
          <a:blip r:embed="rId2"/>
          <a:stretch/>
        </p:blipFill>
        <p:spPr>
          <a:xfrm>
            <a:off x="169920" y="-541440"/>
            <a:ext cx="8669160" cy="823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507960" y="974880"/>
            <a:ext cx="7854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香烟燃烧时可以产生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4000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多种化合物，其中绝大部分是有害的。在香烟燃烧后所产生的烟雾中，致病作用最为明显的有害物质是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尼古丁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焦油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一氧化碳，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一支香烟中提炼出来的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尼古丁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可以毒死一只小白鼠，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支香烟中的尼古丁可以毒死一头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69800" y="272880"/>
            <a:ext cx="572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烟草对健康的危害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04920" y="3718080"/>
            <a:ext cx="8232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焦油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中含有多种致癌性的多环芳烃，对人体有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非常强的致癌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作用。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一氧化碳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是一种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毒性气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体，可以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造成人体缺氧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，吸烟是一种慢性致病的过程，随着吸烟量和吸烟时间的增加，它对身体造成的危害也更为明显。长期吸烟有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可能由于烟草导致的疾病而过早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烟草烟雾含有的化学物质"/>
          <p:cNvPicPr/>
          <p:nvPr/>
        </p:nvPicPr>
        <p:blipFill>
          <a:blip r:embed="rId1"/>
          <a:stretch/>
        </p:blipFill>
        <p:spPr>
          <a:xfrm>
            <a:off x="1467000" y="1206360"/>
            <a:ext cx="6210000" cy="4443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吸烟导致肺癌"/>
          <p:cNvPicPr/>
          <p:nvPr/>
        </p:nvPicPr>
        <p:blipFill>
          <a:blip r:embed="rId2"/>
          <a:stretch/>
        </p:blipFill>
        <p:spPr>
          <a:xfrm>
            <a:off x="372960" y="685800"/>
            <a:ext cx="5792760" cy="5256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吸烟有害健康"/>
          <p:cNvPicPr/>
          <p:nvPr/>
        </p:nvPicPr>
        <p:blipFill>
          <a:blip r:embed="rId3"/>
          <a:stretch/>
        </p:blipFill>
        <p:spPr>
          <a:xfrm>
            <a:off x="5181480" y="974880"/>
            <a:ext cx="39625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237960" y="685800"/>
            <a:ext cx="82328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吸烟直接引起鼻、咽、喉、口腔、气管、支气管和肺组织的急性或慢性炎症，甚至发生癌变，吸烟可以使心率加快，血压升高，血液黏稠度增加，血管堵塞，促使高血压和心脏病的发生，吸烟可以促使肺癌、口腔癌、唇癌、食道癌、肝癌、膀胱癌和胃癌等多种癌症的发生，吸烟使胃黏膜血管收缩，容易发生胃和十二指肠溃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092760" y="272880"/>
            <a:ext cx="6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（一）、烟草对健康的危害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0" y="3646440"/>
            <a:ext cx="823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4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吸烟的妇女患宫颈癌的危险性增加。此外，吸烟还可以使人的皮肤干燥、松弛，脸上皱纹增多，面色灰暗，衰老加快。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04920" y="5265720"/>
            <a:ext cx="8126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吸烟诱发多种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呼吸系统疾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如慢性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支气管炎，肺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31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世界无烟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禁烟宣传"/>
          <p:cNvPicPr/>
          <p:nvPr/>
        </p:nvPicPr>
        <p:blipFill>
          <a:blip r:embed="rId1"/>
          <a:stretch/>
        </p:blipFill>
        <p:spPr>
          <a:xfrm>
            <a:off x="0" y="396720"/>
            <a:ext cx="3927600" cy="628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禁止吸烟"/>
          <p:cNvPicPr/>
          <p:nvPr/>
        </p:nvPicPr>
        <p:blipFill>
          <a:blip r:embed="rId2"/>
          <a:stretch/>
        </p:blipFill>
        <p:spPr>
          <a:xfrm>
            <a:off x="3995640" y="0"/>
            <a:ext cx="5148360" cy="305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吸烟的危害2"/>
          <p:cNvPicPr/>
          <p:nvPr/>
        </p:nvPicPr>
        <p:blipFill>
          <a:blip r:embed="rId3"/>
          <a:stretch/>
        </p:blipFill>
        <p:spPr>
          <a:xfrm>
            <a:off x="3894120" y="2995560"/>
            <a:ext cx="474012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237960" y="119052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人一辈子吸烟，照样活八九十岁。说明吸烟对人没有危害。”你能对此做出有力的反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69920" y="2635200"/>
            <a:ext cx="89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吸烟有害健康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个结论是经过对大量的调查数据进行统计分析得出的结论。也就是说，与不吸烟人群相比，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吸烟人群中患呼吸系统疾病及相关疾病的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要明显增多。如肺癌的发生，吸烟是不吸烟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2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倍。 “一辈子吸烟，照样活八九十岁”的人是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极少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并不能说明吸烟的危害不严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304920" y="1335240"/>
            <a:ext cx="82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量饮酒会引起许多健康问题，可以导致胃炎、胃出血、胰腺炎、胃肠功能紊乱等。酒精是通过肝脏代谢的，过量饮酒对肝脏的损害尤其严重，会引起肝炎、肝硬化和肝癌。酒精对心血管的损害表现为血压升高、动脉硬化和心肌损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99320" y="469800"/>
            <a:ext cx="6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（二）、酒精对健康的危害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07960" y="4367160"/>
            <a:ext cx="826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酗酒：酒精会损害人的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心脏和血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长期酗酒，会造成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酒精中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甚至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中枢神经系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受到抑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32508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66"/>
                </a:solidFill>
                <a:latin typeface="Arial"/>
              </a:rPr>
              <a:t>（三）</a:t>
            </a:r>
            <a:r>
              <a:rPr b="1" lang="en-US" sz="34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zh-CN" sz="3400" spc="-1" strike="noStrike">
                <a:solidFill>
                  <a:srgbClr val="ff0066"/>
                </a:solidFill>
                <a:latin typeface="Arial"/>
              </a:rPr>
              <a:t>吸食毒品的危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263240"/>
            <a:ext cx="82296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毒品如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鸦片、海洛因、吗啡、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K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粉、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大麻、可卡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对人体危害更大。吸毒会损害人的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神经系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降低人体的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免疫功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并使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心肺受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呼吸麻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严重的会导致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青少年正处于生长发育时期，吸毒的危害更大。为了自己和他人的身心健康，一定要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禁止吸烟，拒绝毒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894120" y="46562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世界禁毒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Arial"/>
              </a:rPr>
              <a:t>不健康的生活方式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250920" y="1125360"/>
            <a:ext cx="849636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界卫生组织业精神卫生提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不健康的生活方式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吸烟，尤其是每天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支以上者，患慢性病的危险迅速增长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饮食习惯不卫生，吸收过多的热量，饱和脂肪酸，胆固醇，导致肥胖、高血脂等症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量饮酒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缺乏运动，导致心肺耐力下降，肌肉强度减弱和肌肉平均脂肪量增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超负荷运转，工作过度劳累，长期开夜车而又缺乏休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慢性烦恼情绪，焦虑、忧郁，神经紧张，人际关系不和，造成慢性疲劳精力衰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767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1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324000" y="476280"/>
            <a:ext cx="8496000" cy="42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失眠或睡眠少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小时。据统计，大多数失眠者易出现心绞痛症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遵医嘱服药，例如高血压患者不按时服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膳食结构不合理，多盐、多糖或多吃加工类食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庭或婚姻生活不和谐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社会行业适应不良，例如易暴怒的冲动行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迷信行为，赌博行为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以上均属有害健康的行为和生活方式，将使人们尤其是中年人患上心脏病、脑血管病、高血压、胃病、肾病、糖尿病、肥胖病、高胆醇等慢性病以及出现精神障碍、自杀、凶杀等等。据统计，中国每年约有</a:t>
            </a:r>
            <a:r>
              <a:rPr b="0" lang="en-US" sz="28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1000</a:t>
            </a:r>
            <a:r>
              <a:rPr b="0" lang="zh-CN" sz="2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万人死于上述与生活方式有关的慢性疾病。</a:t>
            </a:r>
            <a:r>
              <a:rPr b="0" lang="zh-CN" sz="2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Arial"/>
              </a:rPr>
              <a:t>有害健康的生活习惯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吃早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空腹跑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用滚开水泡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睡前不刷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睡前不洗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嗜麻辣如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餐桌上铺塑料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醉酒后饮浓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鱼刺卡喉后喝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药片掰开后服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用油漆筷子吃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爱看电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915840" y="1263600"/>
            <a:ext cx="67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一、什么是生活方式 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39640" y="220500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活方式是指人们在日常生活中所遵循的各种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行为习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包括饮食习惯、起居习惯、日常生活安排、娱乐方式、和参与社会活动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251440" y="407988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人们的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生活方式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健康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着密切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图文框 12"/>
          <p:cNvSpPr/>
          <p:nvPr/>
        </p:nvSpPr>
        <p:spPr>
          <a:xfrm>
            <a:off x="982800" y="2706840"/>
            <a:ext cx="1965240" cy="687240"/>
          </a:xfrm>
          <a:custGeom>
            <a:avLst/>
            <a:gdLst/>
            <a:ahLst/>
            <a:rect l="l" t="t" r="r" b="b"/>
            <a:pathLst>
              <a:path w="1965325" h="687387">
                <a:moveTo>
                  <a:pt x="0" y="0"/>
                </a:moveTo>
                <a:lnTo>
                  <a:pt x="1965325" y="0"/>
                </a:lnTo>
                <a:lnTo>
                  <a:pt x="1965325" y="687387"/>
                </a:lnTo>
                <a:lnTo>
                  <a:pt x="0" y="687387"/>
                </a:lnTo>
                <a:close/>
                <a:moveTo>
                  <a:pt x="85923" y="85923"/>
                </a:moveTo>
                <a:lnTo>
                  <a:pt x="85923" y="601464"/>
                </a:lnTo>
                <a:lnTo>
                  <a:pt x="1879401" y="601464"/>
                </a:lnTo>
                <a:lnTo>
                  <a:pt x="1879401" y="85923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-237960" y="396720"/>
            <a:ext cx="80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三、健康的生活方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pic_103764"/>
          <p:cNvPicPr/>
          <p:nvPr/>
        </p:nvPicPr>
        <p:blipFill>
          <a:blip r:embed="rId1"/>
          <a:stretch/>
        </p:blipFill>
        <p:spPr>
          <a:xfrm>
            <a:off x="169920" y="2562120"/>
            <a:ext cx="4876920" cy="38736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237960" y="1550880"/>
            <a:ext cx="41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经典行楷简"/>
                <a:ea typeface="经典行楷简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经典行楷简"/>
                <a:ea typeface="经典行楷简"/>
              </a:rPr>
              <a:t>．营养配餐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181480" y="1335240"/>
            <a:ext cx="3741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们提倡：“早吃好、午吃饱、晚吃少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膳食的８条指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：食物多样，谷类为主。鲜菜果薯，三餐相辅。多吃豆奶，胜过药补。鱼禽蛋肉，常吃适度。运动进食，出入相符。清淡少油，低脂食物。限量饮酒，学会说不。饮食清洁，把好门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pic_103764"/>
          <p:cNvPicPr/>
          <p:nvPr/>
        </p:nvPicPr>
        <p:blipFill>
          <a:blip r:embed="rId1"/>
          <a:stretch/>
        </p:blipFill>
        <p:spPr>
          <a:xfrm>
            <a:off x="169920" y="1479600"/>
            <a:ext cx="4808520" cy="42591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507960" y="612720"/>
            <a:ext cx="36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经典行楷简"/>
                <a:ea typeface="经典行楷简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经典行楷简"/>
                <a:ea typeface="经典行楷简"/>
              </a:rPr>
              <a:t>．坚持体育锻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5011560" y="901800"/>
            <a:ext cx="413244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生命需要运动，过少和过量运动都不利于健康。个人可根据自己的年龄、身体状况和环境选择适当的运动种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运动形式并不重要，重要的是量力而行，循序渐进，持之以恒。最简单的运动是快步走，每天快步走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千米，或做其他运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钟以上。每周至少运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次。运动的强度以运动时的心率达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减去年龄这个数为宜。最好能够保持心率加快、身体发热这种状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钟以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pic_103764"/>
          <p:cNvPicPr/>
          <p:nvPr/>
        </p:nvPicPr>
        <p:blipFill>
          <a:blip r:embed="rId1"/>
          <a:stretch/>
        </p:blipFill>
        <p:spPr>
          <a:xfrm>
            <a:off x="1523880" y="2235240"/>
            <a:ext cx="4800600" cy="36320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1676520" y="12193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经典行楷简"/>
                <a:ea typeface="经典行楷简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经典行楷简"/>
                <a:ea typeface="经典行楷简"/>
              </a:rPr>
              <a:t>．按时作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507960" y="757080"/>
            <a:ext cx="52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经典行楷简"/>
                <a:ea typeface="经典行楷简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经典行楷简"/>
                <a:ea typeface="经典行楷简"/>
              </a:rPr>
              <a:t>．不吸烟、不喝酒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拒绝毒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pic_103764"/>
          <p:cNvPicPr/>
          <p:nvPr/>
        </p:nvPicPr>
        <p:blipFill>
          <a:blip r:embed="rId1"/>
          <a:stretch/>
        </p:blipFill>
        <p:spPr>
          <a:xfrm>
            <a:off x="609480" y="1600200"/>
            <a:ext cx="5334120" cy="39304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5943600" y="1523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烟草燃烧时，烟雾中的尼古丁、焦油等有害物质，进入人体，能诱发多种呼吸系统疾病，甚至是肺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019920" y="39337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吸毒会损害人的神经系统，降低人体的免疫功能，并使心肺受损，呼吸麻痹，甚至导致死亡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pic_103764"/>
          <p:cNvPicPr/>
          <p:nvPr/>
        </p:nvPicPr>
        <p:blipFill>
          <a:blip r:embed="rId1"/>
          <a:stretch/>
        </p:blipFill>
        <p:spPr>
          <a:xfrm>
            <a:off x="1676520" y="22860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1828800" y="13255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经典行楷简"/>
                <a:ea typeface="经典行楷简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经典行楷简"/>
                <a:ea typeface="经典行楷简"/>
              </a:rPr>
              <a:t>．积极参加集体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325440"/>
            <a:ext cx="69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健康生活方式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P1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39560" y="1913040"/>
            <a:ext cx="31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坚持体育锻炼 </a:t>
            </a:r>
            <a:br>
              <a:rPr sz="28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72960" y="2706840"/>
            <a:ext cx="27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按时作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439560" y="3573360"/>
            <a:ext cx="663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吸烟、不喝酒、拒绝毒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39560" y="4440240"/>
            <a:ext cx="71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合理安排上网、看电视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439560" y="5232240"/>
            <a:ext cx="35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积极参加集体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439560" y="1047600"/>
            <a:ext cx="4268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合理营养、平衡膳食 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0" y="1047600"/>
            <a:ext cx="89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经典行楷简"/>
                <a:ea typeface="经典行楷简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经典行楷简"/>
                <a:ea typeface="经典行楷简"/>
              </a:rPr>
              <a:t>选择健康的生活方式，应从</a:t>
            </a:r>
            <a:r>
              <a:rPr b="1" lang="zh-CN" sz="3200" spc="-1" strike="noStrike">
                <a:solidFill>
                  <a:srgbClr val="cc3300"/>
                </a:solidFill>
                <a:latin typeface="经典行楷简"/>
                <a:ea typeface="经典行楷简"/>
              </a:rPr>
              <a:t>儿童和青少年</a:t>
            </a:r>
            <a:r>
              <a:rPr b="1" lang="zh-CN" sz="3200" spc="-1" strike="noStrike">
                <a:solidFill>
                  <a:srgbClr val="0000ff"/>
                </a:solidFill>
                <a:latin typeface="经典行楷简"/>
                <a:ea typeface="经典行楷简"/>
              </a:rPr>
              <a:t>开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704880" y="2133720"/>
            <a:ext cx="74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现代文明病是当前影响人类健康的主要疾病，必须引起青少年的关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685800" y="312264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尽管大多数慢性病是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年期发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，但是，许多与之有关的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不良生活方式在儿童和青少年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期就已经形成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642960" y="4511520"/>
            <a:ext cx="72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现代文明病患者的年龄有逐渐减小的趋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07960" y="5089680"/>
            <a:ext cx="812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选择健康的生活方式不仅有利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各种疾病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，特别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些慢性、非传染性疾病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，而且有利于提高人们的健康水平，提高生活质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36C7-5EE6-4A8D-8AFC-C5FCC94BCF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3505320" y="68580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课堂小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295280" y="3200400"/>
            <a:ext cx="16765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选择健康的生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3505320" y="4800600"/>
            <a:ext cx="3352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健康的生活方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048120" y="2819520"/>
            <a:ext cx="304560" cy="2361960"/>
          </a:xfrm>
          <a:custGeom>
            <a:avLst/>
            <a:gdLst>
              <a:gd name="textAreaLeft" fmla="*/ 194760 w 304560"/>
              <a:gd name="textAreaRight" fmla="*/ 304920 w 304560"/>
              <a:gd name="textAreaTop" fmla="*/ 57600 h 2361960"/>
              <a:gd name="textAreaBottom" fmla="*/ 230436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4"/>
                  <a:pt x="10800" y="1687"/>
                </a:cubicBezTo>
                <a:lnTo>
                  <a:pt x="10800" y="9113"/>
                </a:lnTo>
                <a:cubicBezTo>
                  <a:pt x="10800" y="9957"/>
                  <a:pt x="5400" y="10800"/>
                  <a:pt x="0" y="10800"/>
                </a:cubicBezTo>
                <a:cubicBezTo>
                  <a:pt x="5400" y="10800"/>
                  <a:pt x="10800" y="11644"/>
                  <a:pt x="10800" y="12487"/>
                </a:cubicBezTo>
                <a:lnTo>
                  <a:pt x="10800" y="19913"/>
                </a:lnTo>
                <a:cubicBezTo>
                  <a:pt x="10800" y="207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505320" y="3443400"/>
            <a:ext cx="2971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生活方式的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png-0504"/>
          <p:cNvPicPr/>
          <p:nvPr/>
        </p:nvPicPr>
        <p:blipFill>
          <a:blip r:embed="rId1"/>
          <a:stretch/>
        </p:blipFill>
        <p:spPr>
          <a:xfrm>
            <a:off x="2590920" y="6858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8"/>
          <p:cNvSpPr/>
          <p:nvPr/>
        </p:nvSpPr>
        <p:spPr>
          <a:xfrm>
            <a:off x="3505320" y="2743200"/>
            <a:ext cx="4187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生活方式对健康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3505320" y="4191120"/>
            <a:ext cx="3276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健康的生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325440"/>
            <a:ext cx="27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（一）资料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69920" y="5084640"/>
            <a:ext cx="88041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讨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多年来，导致我国城市居民死亡的主要疾病种类发生了哪些变化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、为什么会发生这种变化？这些变化说明了什么问题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1197000"/>
          <a:ext cx="7135920" cy="4213080"/>
        </p:xfrm>
        <a:graphic>
          <a:graphicData uri="http://schemas.openxmlformats.org/drawingml/2006/table">
            <a:tbl>
              <a:tblPr/>
              <a:tblGrid>
                <a:gridCol w="722160"/>
                <a:gridCol w="981360"/>
                <a:gridCol w="833400"/>
                <a:gridCol w="1303200"/>
                <a:gridCol w="1065240"/>
                <a:gridCol w="944640"/>
                <a:gridCol w="1285920"/>
              </a:tblGrid>
              <a:tr h="317520">
                <a:tc rowSpan="2"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顺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 gridSpan="3"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死亡原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死亡专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占死亡总人数的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死亡原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死亡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占死亡总人数的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9440"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呼吸系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恶性肿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4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543240"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急性传染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脑血管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80880"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结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呼吸系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82680"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消化系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心脏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519120"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心脏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损伤及中毒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9440"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脑血管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消化系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766440"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恶性肿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分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营养和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代谢疾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</a:tbl>
          </a:graphicData>
        </a:graphic>
      </p:graphicFrame>
      <p:sp>
        <p:nvSpPr>
          <p:cNvPr id="146" name="Text Box 67"/>
          <p:cNvSpPr/>
          <p:nvPr/>
        </p:nvSpPr>
        <p:spPr>
          <a:xfrm>
            <a:off x="1042920" y="765000"/>
            <a:ext cx="655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5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中国城市主要疾病死亡专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9"/>
          <p:cNvSpPr/>
          <p:nvPr/>
        </p:nvSpPr>
        <p:spPr>
          <a:xfrm>
            <a:off x="1455840" y="325440"/>
            <a:ext cx="5960880" cy="539640"/>
          </a:xfrm>
          <a:prstGeom prst="rect">
            <a:avLst/>
          </a:prstGeom>
          <a:solidFill>
            <a:srgbClr val="d9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二、生活方式对健康的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169920" y="252360"/>
            <a:ext cx="8261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多年来，导致我国城市居民死亡的主要疾病种类发生了哪些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0" y="1841400"/>
            <a:ext cx="8906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5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导致我国城市居民死亡的主要疾病的前三位是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呼吸系统疾病、急性传染病和肺结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而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呼吸系统疾病从死因顺位的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降至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，急性传染病和肺结核排在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以后。相反，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5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排在死因顺位的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的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心脏病、脑血管病和恶性肿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分别上升至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3967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为什么会发生这种变化？这些变化说明了什么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24000" y="2060640"/>
            <a:ext cx="8496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于呼吸系统疾病、急性传染病和肺结核等疾病主要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良的生活环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营养条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造成的，而心、脑血管疾病和恶性肿瘤除了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遗传因素和环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影响外 ，还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健康的生活方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死亡原因的变化说明，随着人民的生活水平提高了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心理因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行为因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健康起着至关重要的作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024800" y="57387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生活方式不科学会影响健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"/>
          <p:cNvSpPr/>
          <p:nvPr/>
        </p:nvSpPr>
        <p:spPr>
          <a:xfrm>
            <a:off x="1611000" y="560520"/>
            <a:ext cx="46674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4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生活方式对健康的影响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950840" y="2133720"/>
            <a:ext cx="655956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目前，影响人类健康的主要疾病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不再是传染病，而是（      ） （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）（           ）等慢性、非传染性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病，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些疾病也常被称为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或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不健康的生活方式加速慢性、非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染性疾病的发生和发展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775040" y="2778120"/>
            <a:ext cx="16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恶性肿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540160" y="3430440"/>
            <a:ext cx="23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心脑血管疾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7010280" y="2852640"/>
            <a:ext cx="14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糖尿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5722920" y="4005360"/>
            <a:ext cx="20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方式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592280" y="4511520"/>
            <a:ext cx="20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代文明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8198"/>
          <p:cNvSpPr/>
          <p:nvPr/>
        </p:nvSpPr>
        <p:spPr>
          <a:xfrm>
            <a:off x="803160" y="14828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539640" y="404640"/>
            <a:ext cx="4845240" cy="642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探究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酒精对水蚤心率的影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72960" y="2706840"/>
            <a:ext cx="815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实验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把体积分数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酒精配成浓度分别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酒精溶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实验共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只同等大小的成年水蚤，分实验组和对照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实验时，先找到水蚤的心脏，在规定时间内（如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测水蚤在不同的酒精浓度中心跳的次数（测三次，取其平均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559800" y="140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提出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623160" y="2128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做出假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2461680" y="220176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酒精对水蚤心率有影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588760" y="1479600"/>
            <a:ext cx="26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酒精对水蚤心率有没有影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507960" y="-666360"/>
            <a:ext cx="7315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水蚤在清水和不同浓度</a:t>
            </a:r>
            <a:r>
              <a:rPr b="1" lang="zh-CN" sz="3200" spc="-1" strike="noStrike">
                <a:solidFill>
                  <a:srgbClr val="cc00ff"/>
                </a:solidFill>
                <a:latin typeface="宋体"/>
              </a:rPr>
              <a:t>酒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的心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37960" y="974880"/>
          <a:ext cx="8496360" cy="3539880"/>
        </p:xfrm>
        <a:graphic>
          <a:graphicData uri="http://schemas.openxmlformats.org/drawingml/2006/table">
            <a:tbl>
              <a:tblPr/>
              <a:tblGrid>
                <a:gridCol w="1414440"/>
                <a:gridCol w="1419120"/>
                <a:gridCol w="1416240"/>
                <a:gridCol w="1412640"/>
                <a:gridCol w="1419480"/>
                <a:gridCol w="1414440"/>
              </a:tblGrid>
              <a:tr h="845640"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清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平均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52"/>
          <p:cNvSpPr/>
          <p:nvPr/>
        </p:nvSpPr>
        <p:spPr>
          <a:xfrm>
            <a:off x="372960" y="4583160"/>
            <a:ext cx="8128080" cy="30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论：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酒精对水蚤的心率有抑制作用，当酒精浓度达到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20%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时，水蚤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因：酒精对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神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起麻醉作用。实验证明在清水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酒精溶液中，你会看到水蚤心脏每分钟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次左右，所以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酒精对水蚤心跳的影响比较明显，浓度越高，心跳越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539640" y="404640"/>
            <a:ext cx="5184720" cy="64800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草浸出液对水蚤心率的影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84360" y="1268280"/>
            <a:ext cx="784836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提出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做出假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实验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0 m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 m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 m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蒸馏水中分别放同种品牌的半支香烟的烟丝，浸泡相同的时间（例如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天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实验共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只同等大小的成年水蚤，分为对照组和实验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实验时，先在显微镜下找到水蚤的心脏，在规定时间内（如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测水蚤在不同的烟草浸出液中心跳次数的平均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3337560" y="12445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烟草浸出液对水蚤心率是否有影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113640" y="191304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烟草浸出液对水蚤心率有影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04:53:4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11Z</dcterms:modified>
  <cp:revision>1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